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8.gif" ContentType="image/gif"/>
  <Override PartName="/ppt/media/image26.jpeg" ContentType="image/jpeg"/>
  <Override PartName="/ppt/media/image24.gif" ContentType="image/gif"/>
  <Override PartName="/ppt/media/image23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52.png" ContentType="image/png"/>
  <Override PartName="/ppt/media/image16.gif" ContentType="image/gif"/>
  <Override PartName="/ppt/media/image15.gif" ContentType="image/gif"/>
  <Override PartName="/ppt/media/image14.gif" ContentType="image/gif"/>
  <Override PartName="/ppt/media/image25.gif" ContentType="image/gif"/>
  <Override PartName="/ppt/media/image6.jpeg" ContentType="image/jpeg"/>
  <Override PartName="/ppt/media/image5.png" ContentType="image/png"/>
  <Override PartName="/ppt/media/image42.gif" ContentType="image/gif"/>
  <Override PartName="/ppt/media/image3.gif" ContentType="image/gif"/>
  <Override PartName="/ppt/media/image27.gif" ContentType="image/gif"/>
  <Override PartName="/ppt/media/image51.jpeg" ContentType="image/jpeg"/>
  <Override PartName="/ppt/media/image1.jpeg" ContentType="image/jpeg"/>
  <Override PartName="/ppt/media/image54.gif" ContentType="image/gif"/>
  <Override PartName="/ppt/media/image32.gif" ContentType="image/gif"/>
  <Override PartName="/ppt/media/image35.gif" ContentType="image/gif"/>
  <Override PartName="/ppt/media/image40.jpeg" ContentType="image/jpeg"/>
  <Override PartName="/ppt/media/image31.gif" ContentType="image/gif"/>
  <Override PartName="/ppt/media/image43.png" ContentType="image/png"/>
  <Override PartName="/ppt/media/image50.gif" ContentType="image/gif"/>
  <Override PartName="/ppt/media/image48.gif" ContentType="image/gif"/>
  <Override PartName="/ppt/media/image13.gif" ContentType="image/gif"/>
  <Override PartName="/ppt/media/image45.png" ContentType="image/png"/>
  <Override PartName="/ppt/media/image33.jpeg" ContentType="image/jpeg"/>
  <Override PartName="/ppt/media/image34.gif" ContentType="image/gif"/>
  <Override PartName="/ppt/media/image46.gif" ContentType="image/gif"/>
  <Override PartName="/ppt/media/image36.gif" ContentType="image/gif"/>
  <Override PartName="/ppt/media/image41.gif" ContentType="image/gif"/>
  <Override PartName="/ppt/media/image9.gif" ContentType="image/gif"/>
  <Override PartName="/ppt/media/image39.gif" ContentType="image/gif"/>
  <Override PartName="/ppt/media/image53.gif" ContentType="image/gif"/>
  <Override PartName="/ppt/media/image30.gif" ContentType="image/gif"/>
  <Override PartName="/ppt/media/image49.gif" ContentType="image/gif"/>
  <Override PartName="/ppt/media/image12.gif" ContentType="image/gif"/>
  <Override PartName="/ppt/media/image11.png" ContentType="image/png"/>
  <Override PartName="/ppt/media/image47.gif" ContentType="image/gif"/>
  <Override PartName="/ppt/media/image10.gif" ContentType="image/gif"/>
  <Override PartName="/ppt/media/image38.gif" ContentType="image/gif"/>
  <Override PartName="/ppt/media/image8.gif" ContentType="image/gif"/>
  <Override PartName="/ppt/media/image4.jpeg" ContentType="image/jpeg"/>
  <Override PartName="/ppt/media/image2.png" ContentType="image/png"/>
  <Override PartName="/ppt/media/image22.gif" ContentType="image/gif"/>
  <Override PartName="/ppt/media/image7.png" ContentType="image/png"/>
  <Override PartName="/ppt/media/image37.png" ContentType="image/png"/>
  <Override PartName="/ppt/media/image44.gif" ContentType="image/gi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03BF-555B-4F06-8D2F-2501EB77B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0BB2-460F-4079-B13B-8CDE3EEA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F57D-5849-4581-83DD-EB5D11B74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A865-63AD-462D-B5DE-AB9B32FCE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8388-6806-4384-8986-DD68E2D1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E68F-E971-40BA-B1F7-915A7F22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9FF0-676E-4E51-B1A7-ED2B328F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B163-E07C-4482-9E20-A957DC7C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699D-7E9E-4616-BFF9-AC822254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927E-B5B6-4D38-8AA8-8F0E09B0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DB8C-9245-4A35-90D5-0C66E307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3939-648B-4014-B2B9-7A5BE294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E7B3-0DE7-4B1F-B687-C6A8205C2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2.gif"/><Relationship Id="rId3" Type="http://schemas.openxmlformats.org/officeDocument/2006/relationships/image" Target="../media/image32.gif"/><Relationship Id="rId4" Type="http://schemas.openxmlformats.org/officeDocument/2006/relationships/image" Target="../media/image32.gif"/><Relationship Id="rId5" Type="http://schemas.openxmlformats.org/officeDocument/2006/relationships/image" Target="../media/image32.gif"/><Relationship Id="rId6" Type="http://schemas.openxmlformats.org/officeDocument/2006/relationships/image" Target="../media/image32.gif"/><Relationship Id="rId7" Type="http://schemas.openxmlformats.org/officeDocument/2006/relationships/image" Target="../media/image32.gi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4.gi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image" Target="../media/image34.gif"/><Relationship Id="rId6" Type="http://schemas.openxmlformats.org/officeDocument/2006/relationships/image" Target="../media/image34.gi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5.gif"/><Relationship Id="rId3" Type="http://schemas.openxmlformats.org/officeDocument/2006/relationships/image" Target="../media/image35.gif"/><Relationship Id="rId4" Type="http://schemas.openxmlformats.org/officeDocument/2006/relationships/image" Target="../media/image35.gif"/><Relationship Id="rId5" Type="http://schemas.openxmlformats.org/officeDocument/2006/relationships/image" Target="../media/image35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6.gif"/><Relationship Id="rId3" Type="http://schemas.openxmlformats.org/officeDocument/2006/relationships/image" Target="../media/image36.gif"/><Relationship Id="rId4" Type="http://schemas.openxmlformats.org/officeDocument/2006/relationships/image" Target="../media/image36.gif"/><Relationship Id="rId5" Type="http://schemas.openxmlformats.org/officeDocument/2006/relationships/image" Target="../media/image36.gif"/><Relationship Id="rId6" Type="http://schemas.openxmlformats.org/officeDocument/2006/relationships/image" Target="../media/image36.gi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37.pn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39.gif"/><Relationship Id="rId3" Type="http://schemas.openxmlformats.org/officeDocument/2006/relationships/image" Target="../media/image39.gif"/><Relationship Id="rId4" Type="http://schemas.openxmlformats.org/officeDocument/2006/relationships/image" Target="../media/image39.gif"/><Relationship Id="rId5" Type="http://schemas.openxmlformats.org/officeDocument/2006/relationships/image" Target="../media/image39.gif"/><Relationship Id="rId6" Type="http://schemas.openxmlformats.org/officeDocument/2006/relationships/image" Target="../media/image39.gif"/><Relationship Id="rId7" Type="http://schemas.openxmlformats.org/officeDocument/2006/relationships/image" Target="../media/image39.gif"/><Relationship Id="rId8" Type="http://schemas.openxmlformats.org/officeDocument/2006/relationships/image" Target="../media/image39.gi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1.gif"/><Relationship Id="rId3" Type="http://schemas.openxmlformats.org/officeDocument/2006/relationships/image" Target="../media/image41.gif"/><Relationship Id="rId4" Type="http://schemas.openxmlformats.org/officeDocument/2006/relationships/image" Target="../media/image41.gif"/><Relationship Id="rId5" Type="http://schemas.openxmlformats.org/officeDocument/2006/relationships/image" Target="../media/image41.gi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image" Target="../media/image42.gif"/><Relationship Id="rId3" Type="http://schemas.openxmlformats.org/officeDocument/2006/relationships/image" Target="../media/image42.gif"/><Relationship Id="rId4" Type="http://schemas.openxmlformats.org/officeDocument/2006/relationships/image" Target="../media/image42.gif"/><Relationship Id="rId5" Type="http://schemas.openxmlformats.org/officeDocument/2006/relationships/image" Target="../media/image42.gif"/><Relationship Id="rId6" Type="http://schemas.openxmlformats.org/officeDocument/2006/relationships/image" Target="../media/image42.gi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image" Target="../media/image44.gif"/><Relationship Id="rId3" Type="http://schemas.openxmlformats.org/officeDocument/2006/relationships/image" Target="../media/image44.gif"/><Relationship Id="rId4" Type="http://schemas.openxmlformats.org/officeDocument/2006/relationships/image" Target="../media/image44.gif"/><Relationship Id="rId5" Type="http://schemas.openxmlformats.org/officeDocument/2006/relationships/image" Target="../media/image44.gi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image" Target="../media/image46.gif"/><Relationship Id="rId5" Type="http://schemas.openxmlformats.org/officeDocument/2006/relationships/image" Target="../media/image45.png"/><Relationship Id="rId6" Type="http://schemas.openxmlformats.org/officeDocument/2006/relationships/image" Target="../media/image45.png"/><Relationship Id="rId7" Type="http://schemas.openxmlformats.org/officeDocument/2006/relationships/image" Target="../media/image45.png"/><Relationship Id="rId8" Type="http://schemas.openxmlformats.org/officeDocument/2006/relationships/image" Target="../media/image47.gif"/><Relationship Id="rId9" Type="http://schemas.openxmlformats.org/officeDocument/2006/relationships/image" Target="../media/image45.png"/><Relationship Id="rId10" Type="http://schemas.openxmlformats.org/officeDocument/2006/relationships/image" Target="../media/image45.png"/><Relationship Id="rId11" Type="http://schemas.openxmlformats.org/officeDocument/2006/relationships/image" Target="../media/image48.gif"/><Relationship Id="rId12" Type="http://schemas.openxmlformats.org/officeDocument/2006/relationships/image" Target="../media/image45.png"/><Relationship Id="rId13" Type="http://schemas.openxmlformats.org/officeDocument/2006/relationships/image" Target="../media/image45.png"/><Relationship Id="rId14" Type="http://schemas.openxmlformats.org/officeDocument/2006/relationships/image" Target="../media/image47.gif"/><Relationship Id="rId15" Type="http://schemas.openxmlformats.org/officeDocument/2006/relationships/image" Target="../media/image45.png"/><Relationship Id="rId16" Type="http://schemas.openxmlformats.org/officeDocument/2006/relationships/image" Target="../media/image45.png"/><Relationship Id="rId17" Type="http://schemas.openxmlformats.org/officeDocument/2006/relationships/image" Target="../media/image49.gif"/><Relationship Id="rId1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image" Target="../media/image50.gif"/><Relationship Id="rId3" Type="http://schemas.openxmlformats.org/officeDocument/2006/relationships/image" Target="../media/image50.gif"/><Relationship Id="rId4" Type="http://schemas.openxmlformats.org/officeDocument/2006/relationships/image" Target="../media/image50.gi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51.jpe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7.gif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19.gif"/><Relationship Id="rId8" Type="http://schemas.openxmlformats.org/officeDocument/2006/relationships/image" Target="../media/image19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image" Target="../media/image25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خلفية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943600" y="380880"/>
            <a:ext cx="29052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"/>
              </a:rPr>
              <a:t>دولة الامارات العربية المتحدة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"/>
              <a:ea typeface="DecoType Naskh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"/>
              </a:rPr>
              <a:t>وزارة التربية والتعليم والشباب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"/>
              <a:ea typeface="DecoType Naskh"/>
            </a:endParaRPr>
          </a:p>
        </p:txBody>
      </p:sp>
      <p:pic>
        <p:nvPicPr>
          <p:cNvPr id="43" name="شعار22" descr=""/>
          <p:cNvPicPr/>
          <p:nvPr/>
        </p:nvPicPr>
        <p:blipFill>
          <a:blip r:embed="rId2"/>
          <a:stretch/>
        </p:blipFill>
        <p:spPr>
          <a:xfrm>
            <a:off x="3429000" y="380880"/>
            <a:ext cx="1444680" cy="1676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2286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80880" y="3124080"/>
            <a:ext cx="8153640" cy="13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PT Bold Heading"/>
              </a:rPr>
              <a:t>طرق وأساليب التدريس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PT Bold Heading"/>
              <a:ea typeface="PT Bold Heading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00400" y="2209680"/>
            <a:ext cx="2514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Koufi"/>
              </a:rPr>
              <a:t>ورشة عمل ف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  <p:pic>
        <p:nvPicPr>
          <p:cNvPr id="47" name="Entertainment-02" descr=""/>
          <p:cNvPicPr/>
          <p:nvPr/>
        </p:nvPicPr>
        <p:blipFill>
          <a:blip r:embed="rId3"/>
          <a:stretch/>
        </p:blipFill>
        <p:spPr>
          <a:xfrm>
            <a:off x="6324480" y="4648320"/>
            <a:ext cx="2133720" cy="1904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905120" y="4648320"/>
            <a:ext cx="4572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083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urier New"/>
              </a:rPr>
              <a:t>المدرب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urier New"/>
              <a:ea typeface="Courier New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urier New"/>
              </a:rPr>
              <a:t>حسن محمد الصرد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urier New"/>
              <a:ea typeface="Courier New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urier New"/>
              </a:rPr>
              <a:t>موجه الكيمياء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urier New"/>
              <a:ea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962520" y="533520"/>
            <a:ext cx="4786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cap="sq" w="19080">
                  <a:solidFill>
                    <a:srgbClr val="00cc99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Swashes"/>
              </a:rPr>
              <a:t>مميزات طريقة الاستقصاء</a:t>
            </a:r>
            <a:endParaRPr b="0" lang="en-US" sz="1600" spc="1" strike="noStrike">
              <a:ln cap="sq" w="19080">
                <a:solidFill>
                  <a:srgbClr val="00cc99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Swashes"/>
              <a:ea typeface="DecoType Naskh Swashes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0"/>
            <a:ext cx="0" cy="685800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0" y="990720"/>
            <a:ext cx="3733920" cy="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star3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143" name="star3" descr=""/>
          <p:cNvPicPr/>
          <p:nvPr/>
        </p:nvPicPr>
        <p:blipFill>
          <a:blip r:embed="rId2"/>
          <a:stretch/>
        </p:blipFill>
        <p:spPr>
          <a:xfrm>
            <a:off x="8458200" y="617220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144" name="star3" descr=""/>
          <p:cNvPicPr/>
          <p:nvPr/>
        </p:nvPicPr>
        <p:blipFill>
          <a:blip r:embed="rId3"/>
          <a:stretch/>
        </p:blipFill>
        <p:spPr>
          <a:xfrm>
            <a:off x="8458200" y="533412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145" name="star3" descr=""/>
          <p:cNvPicPr/>
          <p:nvPr/>
        </p:nvPicPr>
        <p:blipFill>
          <a:blip r:embed="rId4"/>
          <a:stretch/>
        </p:blipFill>
        <p:spPr>
          <a:xfrm>
            <a:off x="8458200" y="441972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146" name="star3" descr=""/>
          <p:cNvPicPr/>
          <p:nvPr/>
        </p:nvPicPr>
        <p:blipFill>
          <a:blip r:embed="rId5"/>
          <a:stretch/>
        </p:blipFill>
        <p:spPr>
          <a:xfrm>
            <a:off x="8458200" y="358128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147" name="star3" descr=""/>
          <p:cNvPicPr/>
          <p:nvPr/>
        </p:nvPicPr>
        <p:blipFill>
          <a:blip r:embed="rId6"/>
          <a:stretch/>
        </p:blipFill>
        <p:spPr>
          <a:xfrm>
            <a:off x="8458200" y="266688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148" name="star3" descr=""/>
          <p:cNvPicPr/>
          <p:nvPr/>
        </p:nvPicPr>
        <p:blipFill>
          <a:blip r:embed="rId7"/>
          <a:stretch/>
        </p:blipFill>
        <p:spPr>
          <a:xfrm>
            <a:off x="8458200" y="1905120"/>
            <a:ext cx="309600" cy="3096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133720" y="175248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طالب هو محور العملية التعليمي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59092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تنمي طريقة الاستقصاء عمليات العلم ومهارات الاكتشا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 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762120" y="3505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طريقة الاستقصاء تدرب الطالب وتنمي عنده التفكير العلمي ومهاراته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762120" y="43434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طريقة الاستقصاء تثير الدافعية والحفز الداخلي نحو التعلم الذاتي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-838080" y="5181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تزيد من مستوى التوقعات لدى الطلاب 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762120" y="6019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تدفع الطالب نحو التعلم النشط بشكل فاع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38080" y="0"/>
            <a:ext cx="0" cy="685800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962520" y="533520"/>
            <a:ext cx="4786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cap="sq" w="19080">
                  <a:solidFill>
                    <a:srgbClr val="00cc99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Swashes"/>
              </a:rPr>
              <a:t>شروط أساسية لتعلم الاستقصاء</a:t>
            </a:r>
            <a:endParaRPr b="0" lang="en-US" sz="1600" spc="1" strike="noStrike">
              <a:ln cap="sq" w="19080">
                <a:solidFill>
                  <a:srgbClr val="00cc99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Swashes"/>
              <a:ea typeface="DecoType Naskh Swashes"/>
            </a:endParaRPr>
          </a:p>
        </p:txBody>
      </p:sp>
      <p:pic>
        <p:nvPicPr>
          <p:cNvPr id="157" name="mzoon31" descr=""/>
          <p:cNvPicPr/>
          <p:nvPr/>
        </p:nvPicPr>
        <p:blipFill>
          <a:blip r:embed="rId1"/>
          <a:stretch/>
        </p:blipFill>
        <p:spPr>
          <a:xfrm>
            <a:off x="7924680" y="5181480"/>
            <a:ext cx="800280" cy="771480"/>
          </a:xfrm>
          <a:prstGeom prst="rect">
            <a:avLst/>
          </a:prstGeom>
          <a:ln w="0">
            <a:noFill/>
          </a:ln>
        </p:spPr>
      </p:pic>
      <p:pic>
        <p:nvPicPr>
          <p:cNvPr id="158" name="mzoon31" descr=""/>
          <p:cNvPicPr/>
          <p:nvPr/>
        </p:nvPicPr>
        <p:blipFill>
          <a:blip r:embed="rId2"/>
          <a:stretch/>
        </p:blipFill>
        <p:spPr>
          <a:xfrm>
            <a:off x="7924680" y="4038480"/>
            <a:ext cx="800280" cy="771480"/>
          </a:xfrm>
          <a:prstGeom prst="rect">
            <a:avLst/>
          </a:prstGeom>
          <a:ln w="0">
            <a:noFill/>
          </a:ln>
        </p:spPr>
      </p:pic>
      <p:pic>
        <p:nvPicPr>
          <p:cNvPr id="159" name="mzoon31" descr=""/>
          <p:cNvPicPr/>
          <p:nvPr/>
        </p:nvPicPr>
        <p:blipFill>
          <a:blip r:embed="rId3"/>
          <a:stretch/>
        </p:blipFill>
        <p:spPr>
          <a:xfrm>
            <a:off x="7924680" y="2819520"/>
            <a:ext cx="800280" cy="771480"/>
          </a:xfrm>
          <a:prstGeom prst="rect">
            <a:avLst/>
          </a:prstGeom>
          <a:ln w="0">
            <a:noFill/>
          </a:ln>
        </p:spPr>
      </p:pic>
      <p:pic>
        <p:nvPicPr>
          <p:cNvPr id="160" name="mzoon31" descr=""/>
          <p:cNvPicPr/>
          <p:nvPr/>
        </p:nvPicPr>
        <p:blipFill>
          <a:blip r:embed="rId4"/>
          <a:stretch/>
        </p:blipFill>
        <p:spPr>
          <a:xfrm>
            <a:off x="7924680" y="1752480"/>
            <a:ext cx="800280" cy="7714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57200" y="1676520"/>
            <a:ext cx="7467480" cy="94716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تقديم مشكلة علمية او طرح اسئلة تثير تفكير الطلاب وتتحداهم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895480"/>
            <a:ext cx="7924680" cy="180036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حرية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استقصاء بمعنى أن يعطى الطالب فرصة لكي يبحث ويستقصي حتى تتولد القناعة والشعور والحفز الداخلي الذي يدفعه للتقصي المستمر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4114800"/>
            <a:ext cx="7467480" cy="137376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توفر ثقافة او قاعدة علمية مناسبة لدى الطالب بحيث يمكن ان تكون انطلاقة كافية لان يبحث ويتقصى 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5257800"/>
            <a:ext cx="7543800" cy="137376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ن يمارس الطالب عقليا وعمليا التعلم بالتقصي حتى يكون قادرا على تقصي العلم 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0" y="990720"/>
            <a:ext cx="3733920" cy="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mzoon31" descr=""/>
          <p:cNvPicPr/>
          <p:nvPr/>
        </p:nvPicPr>
        <p:blipFill>
          <a:blip r:embed="rId5"/>
          <a:stretch/>
        </p:blipFill>
        <p:spPr>
          <a:xfrm>
            <a:off x="0" y="228600"/>
            <a:ext cx="80028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838080" y="0"/>
            <a:ext cx="0" cy="685800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267080" y="380880"/>
            <a:ext cx="4419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cap="sq" w="19080">
                  <a:solidFill>
                    <a:srgbClr val="00cc99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Swashes"/>
              </a:rPr>
              <a:t>دور المعلم في طريقة الاستقصاء</a:t>
            </a:r>
            <a:endParaRPr b="0" lang="en-US" sz="1600" spc="1" strike="noStrike">
              <a:ln cap="sq" w="19080">
                <a:solidFill>
                  <a:srgbClr val="00cc99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Swashes"/>
              <a:ea typeface="DecoType Naskh Swashes"/>
            </a:endParaRPr>
          </a:p>
        </p:txBody>
      </p:sp>
      <p:pic>
        <p:nvPicPr>
          <p:cNvPr id="169" name="redf" descr=""/>
          <p:cNvPicPr/>
          <p:nvPr/>
        </p:nvPicPr>
        <p:blipFill>
          <a:blip r:embed="rId1"/>
          <a:stretch/>
        </p:blipFill>
        <p:spPr>
          <a:xfrm>
            <a:off x="8229600" y="5867280"/>
            <a:ext cx="628560" cy="587520"/>
          </a:xfrm>
          <a:prstGeom prst="rect">
            <a:avLst/>
          </a:prstGeom>
          <a:ln w="0">
            <a:noFill/>
          </a:ln>
        </p:spPr>
      </p:pic>
      <p:pic>
        <p:nvPicPr>
          <p:cNvPr id="170" name="redf" descr=""/>
          <p:cNvPicPr/>
          <p:nvPr/>
        </p:nvPicPr>
        <p:blipFill>
          <a:blip r:embed="rId2"/>
          <a:stretch/>
        </p:blipFill>
        <p:spPr>
          <a:xfrm>
            <a:off x="8229600" y="4876920"/>
            <a:ext cx="628560" cy="587160"/>
          </a:xfrm>
          <a:prstGeom prst="rect">
            <a:avLst/>
          </a:prstGeom>
          <a:ln w="0">
            <a:noFill/>
          </a:ln>
        </p:spPr>
      </p:pic>
      <p:pic>
        <p:nvPicPr>
          <p:cNvPr id="171" name="redf" descr=""/>
          <p:cNvPicPr/>
          <p:nvPr/>
        </p:nvPicPr>
        <p:blipFill>
          <a:blip r:embed="rId3"/>
          <a:stretch/>
        </p:blipFill>
        <p:spPr>
          <a:xfrm>
            <a:off x="8229600" y="3962520"/>
            <a:ext cx="628560" cy="587160"/>
          </a:xfrm>
          <a:prstGeom prst="rect">
            <a:avLst/>
          </a:prstGeom>
          <a:ln w="0">
            <a:noFill/>
          </a:ln>
        </p:spPr>
      </p:pic>
      <p:pic>
        <p:nvPicPr>
          <p:cNvPr id="172" name="redf" descr=""/>
          <p:cNvPicPr/>
          <p:nvPr/>
        </p:nvPicPr>
        <p:blipFill>
          <a:blip r:embed="rId4"/>
          <a:stretch/>
        </p:blipFill>
        <p:spPr>
          <a:xfrm>
            <a:off x="8229600" y="3124080"/>
            <a:ext cx="628560" cy="587520"/>
          </a:xfrm>
          <a:prstGeom prst="rect">
            <a:avLst/>
          </a:prstGeom>
          <a:ln w="0">
            <a:noFill/>
          </a:ln>
        </p:spPr>
      </p:pic>
      <p:pic>
        <p:nvPicPr>
          <p:cNvPr id="173" name="redf" descr=""/>
          <p:cNvPicPr/>
          <p:nvPr/>
        </p:nvPicPr>
        <p:blipFill>
          <a:blip r:embed="rId5"/>
          <a:stretch/>
        </p:blipFill>
        <p:spPr>
          <a:xfrm>
            <a:off x="8229600" y="2286000"/>
            <a:ext cx="628560" cy="587520"/>
          </a:xfrm>
          <a:prstGeom prst="rect">
            <a:avLst/>
          </a:prstGeom>
          <a:ln w="0">
            <a:noFill/>
          </a:ln>
        </p:spPr>
      </p:pic>
      <p:pic>
        <p:nvPicPr>
          <p:cNvPr id="174" name="redf" descr=""/>
          <p:cNvPicPr/>
          <p:nvPr/>
        </p:nvPicPr>
        <p:blipFill>
          <a:blip r:embed="rId6"/>
          <a:stretch/>
        </p:blipFill>
        <p:spPr>
          <a:xfrm>
            <a:off x="8229600" y="1447920"/>
            <a:ext cx="628560" cy="587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28600" y="1523880"/>
            <a:ext cx="7772400" cy="8254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تهيئة الفرصة المناسبة وجذب انتباه الطلاب  للاستقصاء و اكتشاف الحلول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2438280"/>
            <a:ext cx="7543800" cy="8254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ن يختار بعض النشاطات التعليمية مفتوحة النهاية كمشكلات علمية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3200400"/>
            <a:ext cx="7620120" cy="8254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ان يحسن تنظيم وادارة الوقت والطاقات الطلابية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962520"/>
            <a:ext cx="7924680" cy="119124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طار الاستقصاء يتضمن الحوار والمناقشة والملاحظة والتجريب والتفسير وتوليد المشكلات للاستمرار في البحث والتقصي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5029200"/>
            <a:ext cx="8001000" cy="4597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ان يعطي الطلبة التلميحات العلمية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5943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نجاح الحقيقي في عملية الاستقصاء هو فن طرح السؤال ونوعه ومخرجه التعليمي  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-360" y="838080"/>
            <a:ext cx="3962520" cy="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redf" descr=""/>
          <p:cNvPicPr/>
          <p:nvPr/>
        </p:nvPicPr>
        <p:blipFill>
          <a:blip r:embed="rId7"/>
          <a:stretch/>
        </p:blipFill>
        <p:spPr>
          <a:xfrm>
            <a:off x="0" y="0"/>
            <a:ext cx="76212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7696080" y="0"/>
            <a:ext cx="0" cy="685800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143000" y="228600"/>
            <a:ext cx="3652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T Bold Mirror"/>
              </a:rPr>
              <a:t>التعلم التعاوني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T Bold Mirror"/>
              <a:ea typeface="PT Bold Mirror"/>
            </a:endParaRPr>
          </a:p>
        </p:txBody>
      </p:sp>
      <p:pic>
        <p:nvPicPr>
          <p:cNvPr id="185" name="slidbar" descr=""/>
          <p:cNvPicPr/>
          <p:nvPr/>
        </p:nvPicPr>
        <p:blipFill>
          <a:blip r:embed="rId1"/>
          <a:stretch/>
        </p:blipFill>
        <p:spPr>
          <a:xfrm>
            <a:off x="0" y="1185840"/>
            <a:ext cx="9144000" cy="109440"/>
          </a:xfrm>
          <a:prstGeom prst="rect">
            <a:avLst/>
          </a:prstGeom>
          <a:ln w="0">
            <a:noFill/>
          </a:ln>
        </p:spPr>
      </p:pic>
      <p:pic>
        <p:nvPicPr>
          <p:cNvPr id="186" name="التعلم%20تع" descr=""/>
          <p:cNvPicPr/>
          <p:nvPr/>
        </p:nvPicPr>
        <p:blipFill>
          <a:blip r:embed="rId2"/>
          <a:stretch/>
        </p:blipFill>
        <p:spPr>
          <a:xfrm>
            <a:off x="5181480" y="457200"/>
            <a:ext cx="3657600" cy="37339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04920" y="1676520"/>
            <a:ext cx="4952880" cy="88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99"/>
                </a:solidFill>
                <a:latin typeface="Times New Roman"/>
                <a:cs typeface="Akhbar MT"/>
              </a:rPr>
              <a:t>هـــــو موقف تعــــليمي صــفي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99"/>
                </a:solidFill>
                <a:latin typeface="Times New Roman"/>
                <a:cs typeface="Akhbar MT"/>
              </a:rPr>
              <a:t>يعـــمل فيه جـــميع الـــــطلب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99"/>
                </a:solidFill>
                <a:latin typeface="Times New Roman"/>
                <a:cs typeface="Akhbar MT"/>
              </a:rPr>
              <a:t>باخــــتلاف مستـــويات ادائهم في  مجــــموعات نحــو هـــدف عــــام مشترك لتحقيق الاعتماد المتبادل .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429000" y="533520"/>
            <a:ext cx="53625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Swashes"/>
              </a:rPr>
              <a:t>العناصر الأساسية للتعلم التعاوني</a:t>
            </a:r>
            <a:endParaRPr b="0" lang="en-US" sz="1800" spc="1" strike="noStrike">
              <a:ln cap="sq" w="19080">
                <a:solidFill>
                  <a:srgbClr val="3366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Swashes"/>
              <a:ea typeface="DecoType Naskh Swashes"/>
            </a:endParaRPr>
          </a:p>
        </p:txBody>
      </p:sp>
      <p:pic>
        <p:nvPicPr>
          <p:cNvPr id="190" name="0580" descr=""/>
          <p:cNvPicPr/>
          <p:nvPr/>
        </p:nvPicPr>
        <p:blipFill>
          <a:blip r:embed="rId1"/>
          <a:stretch/>
        </p:blipFill>
        <p:spPr>
          <a:xfrm>
            <a:off x="8229600" y="61722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91" name="0580" descr=""/>
          <p:cNvPicPr/>
          <p:nvPr/>
        </p:nvPicPr>
        <p:blipFill>
          <a:blip r:embed="rId2"/>
          <a:stretch/>
        </p:blipFill>
        <p:spPr>
          <a:xfrm>
            <a:off x="8229600" y="52578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92" name="0580" descr=""/>
          <p:cNvPicPr/>
          <p:nvPr/>
        </p:nvPicPr>
        <p:blipFill>
          <a:blip r:embed="rId3"/>
          <a:stretch/>
        </p:blipFill>
        <p:spPr>
          <a:xfrm>
            <a:off x="8229600" y="44197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93" name="0580" descr=""/>
          <p:cNvPicPr/>
          <p:nvPr/>
        </p:nvPicPr>
        <p:blipFill>
          <a:blip r:embed="rId4"/>
          <a:stretch/>
        </p:blipFill>
        <p:spPr>
          <a:xfrm>
            <a:off x="8229600" y="35812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94" name="0580" descr=""/>
          <p:cNvPicPr/>
          <p:nvPr/>
        </p:nvPicPr>
        <p:blipFill>
          <a:blip r:embed="rId5"/>
          <a:stretch/>
        </p:blipFill>
        <p:spPr>
          <a:xfrm>
            <a:off x="8229600" y="1905120"/>
            <a:ext cx="365040" cy="3650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1752480"/>
            <a:ext cx="8077320" cy="20437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لاعتماد المتبادل الايجابي 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أن يشعر كل تلميذ في المجموعة انه مرتبط مع زميله في المجموعة أي تحديد هدف مشترك وتحقيق الــــــــهدف  المشتر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8120" y="342900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لمسؤولية الفردية والجماعي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426708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لتفاعل وجها لوجه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57600" y="5181480"/>
            <a:ext cx="441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مهارات التعلم التعاوني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60199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معالجة عمل المجموعة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0" y="1143000"/>
            <a:ext cx="4191120" cy="0"/>
          </a:xfrm>
          <a:prstGeom prst="line">
            <a:avLst/>
          </a:prstGeom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0580" descr=""/>
          <p:cNvPicPr/>
          <p:nvPr/>
        </p:nvPicPr>
        <p:blipFill>
          <a:blip r:embed="rId6"/>
          <a:stretch/>
        </p:blipFill>
        <p:spPr>
          <a:xfrm>
            <a:off x="228600" y="228600"/>
            <a:ext cx="762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429000" y="533520"/>
            <a:ext cx="53625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Swashes"/>
              </a:rPr>
              <a:t>دور المعلم في التعلم التعاوني</a:t>
            </a:r>
            <a:endParaRPr b="0" lang="en-US" sz="1800" spc="1" strike="noStrike">
              <a:ln cap="sq" w="19080">
                <a:solidFill>
                  <a:srgbClr val="3366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Swashes"/>
              <a:ea typeface="DecoType Naskh Swashes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0" y="1143000"/>
            <a:ext cx="4191120" cy="0"/>
          </a:xfrm>
          <a:prstGeom prst="line">
            <a:avLst/>
          </a:prstGeom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time1" descr=""/>
          <p:cNvPicPr/>
          <p:nvPr/>
        </p:nvPicPr>
        <p:blipFill>
          <a:blip r:embed="rId1"/>
          <a:stretch/>
        </p:blipFill>
        <p:spPr>
          <a:xfrm>
            <a:off x="7848720" y="5562720"/>
            <a:ext cx="563400" cy="563400"/>
          </a:xfrm>
          <a:prstGeom prst="rect">
            <a:avLst/>
          </a:prstGeom>
          <a:ln w="0">
            <a:noFill/>
          </a:ln>
        </p:spPr>
      </p:pic>
      <p:pic>
        <p:nvPicPr>
          <p:cNvPr id="206" name="time1" descr=""/>
          <p:cNvPicPr/>
          <p:nvPr/>
        </p:nvPicPr>
        <p:blipFill>
          <a:blip r:embed="rId2"/>
          <a:stretch/>
        </p:blipFill>
        <p:spPr>
          <a:xfrm>
            <a:off x="7848720" y="4495680"/>
            <a:ext cx="563400" cy="563760"/>
          </a:xfrm>
          <a:prstGeom prst="rect">
            <a:avLst/>
          </a:prstGeom>
          <a:ln w="0">
            <a:noFill/>
          </a:ln>
        </p:spPr>
      </p:pic>
      <p:pic>
        <p:nvPicPr>
          <p:cNvPr id="207" name="time1" descr=""/>
          <p:cNvPicPr/>
          <p:nvPr/>
        </p:nvPicPr>
        <p:blipFill>
          <a:blip r:embed="rId3"/>
          <a:stretch/>
        </p:blipFill>
        <p:spPr>
          <a:xfrm>
            <a:off x="7848720" y="3429000"/>
            <a:ext cx="563400" cy="563400"/>
          </a:xfrm>
          <a:prstGeom prst="rect">
            <a:avLst/>
          </a:prstGeom>
          <a:ln w="0">
            <a:noFill/>
          </a:ln>
        </p:spPr>
      </p:pic>
      <p:pic>
        <p:nvPicPr>
          <p:cNvPr id="208" name="time1" descr=""/>
          <p:cNvPicPr/>
          <p:nvPr/>
        </p:nvPicPr>
        <p:blipFill>
          <a:blip r:embed="rId4"/>
          <a:stretch/>
        </p:blipFill>
        <p:spPr>
          <a:xfrm>
            <a:off x="7848720" y="2286000"/>
            <a:ext cx="563400" cy="563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209680" y="228600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أولا :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التخطيط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05120" y="335268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ثانيا :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شرح المهام والاعتماد الايجابي المتباد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95680" y="45720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ثالثا :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المتابعة والتدخ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52680" y="5638680"/>
            <a:ext cx="449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رابعا 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التقويم والمعالج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time1" descr=""/>
          <p:cNvPicPr/>
          <p:nvPr/>
        </p:nvPicPr>
        <p:blipFill>
          <a:blip r:embed="rId5"/>
          <a:stretch/>
        </p:blipFill>
        <p:spPr>
          <a:xfrm>
            <a:off x="228600" y="228600"/>
            <a:ext cx="71604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429000" y="533520"/>
            <a:ext cx="53625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Swashes"/>
              </a:rPr>
              <a:t>كيفية تنفيذ دروس التعلم التعاوني؟</a:t>
            </a:r>
            <a:endParaRPr b="0" lang="en-US" sz="1800" spc="1" strike="noStrike">
              <a:ln cap="sq" w="19080">
                <a:solidFill>
                  <a:srgbClr val="3366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Swashes"/>
              <a:ea typeface="DecoType Naskh Swashes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-360" y="1143000"/>
            <a:ext cx="3429000" cy="0"/>
          </a:xfrm>
          <a:prstGeom prst="line">
            <a:avLst/>
          </a:prstGeom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0553" descr=""/>
          <p:cNvPicPr/>
          <p:nvPr/>
        </p:nvPicPr>
        <p:blipFill>
          <a:blip r:embed="rId1"/>
          <a:stretch/>
        </p:blipFill>
        <p:spPr>
          <a:xfrm>
            <a:off x="8305920" y="5791320"/>
            <a:ext cx="487080" cy="487080"/>
          </a:xfrm>
          <a:prstGeom prst="rect">
            <a:avLst/>
          </a:prstGeom>
          <a:ln w="0">
            <a:noFill/>
          </a:ln>
        </p:spPr>
      </p:pic>
      <p:pic>
        <p:nvPicPr>
          <p:cNvPr id="218" name="0553" descr=""/>
          <p:cNvPicPr/>
          <p:nvPr/>
        </p:nvPicPr>
        <p:blipFill>
          <a:blip r:embed="rId2"/>
          <a:stretch/>
        </p:blipFill>
        <p:spPr>
          <a:xfrm>
            <a:off x="8305920" y="4800600"/>
            <a:ext cx="487080" cy="487440"/>
          </a:xfrm>
          <a:prstGeom prst="rect">
            <a:avLst/>
          </a:prstGeom>
          <a:ln w="0">
            <a:noFill/>
          </a:ln>
        </p:spPr>
      </p:pic>
      <p:pic>
        <p:nvPicPr>
          <p:cNvPr id="219" name="0553" descr=""/>
          <p:cNvPicPr/>
          <p:nvPr/>
        </p:nvPicPr>
        <p:blipFill>
          <a:blip r:embed="rId3"/>
          <a:stretch/>
        </p:blipFill>
        <p:spPr>
          <a:xfrm>
            <a:off x="8305920" y="3733920"/>
            <a:ext cx="487080" cy="487080"/>
          </a:xfrm>
          <a:prstGeom prst="rect">
            <a:avLst/>
          </a:prstGeom>
          <a:ln w="0">
            <a:noFill/>
          </a:ln>
        </p:spPr>
      </p:pic>
      <p:pic>
        <p:nvPicPr>
          <p:cNvPr id="220" name="0553" descr=""/>
          <p:cNvPicPr/>
          <p:nvPr/>
        </p:nvPicPr>
        <p:blipFill>
          <a:blip r:embed="rId4"/>
          <a:stretch/>
        </p:blipFill>
        <p:spPr>
          <a:xfrm>
            <a:off x="8305920" y="2743200"/>
            <a:ext cx="487080" cy="487440"/>
          </a:xfrm>
          <a:prstGeom prst="rect">
            <a:avLst/>
          </a:prstGeom>
          <a:ln w="0">
            <a:noFill/>
          </a:ln>
        </p:spPr>
      </p:pic>
      <p:pic>
        <p:nvPicPr>
          <p:cNvPr id="221" name="0553" descr=""/>
          <p:cNvPicPr/>
          <p:nvPr/>
        </p:nvPicPr>
        <p:blipFill>
          <a:blip r:embed="rId5"/>
          <a:stretch/>
        </p:blipFill>
        <p:spPr>
          <a:xfrm>
            <a:off x="8305920" y="1828800"/>
            <a:ext cx="487080" cy="4874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04920" y="18288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قسم المعلم المتعلمين في الصف الى عدة مجموعات بحيث تراعي المستويات المختلفة في كل مجموع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-838080" y="2666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عين المعلم او يرشح اعضاء المجموعة قائدا لها لكي يمثلها امام المعلم واما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khbar MT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مجموعات الاخر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6576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قدم المعلم للنشاط الذي سوف تقوم المجموعات بادائه والمهام المطلوب انجازها من المجموعة وكذلك مهام كل عضو في المجموع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838080" y="4800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تسجل كل مجموعة النتائج التي توصلت اليها ويقدمها قائد المجموعة للمعل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-838080" y="5791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قدم المعلم ملخصا للنتائج التي توصلت اليها مجموعات العم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0553" descr=""/>
          <p:cNvPicPr/>
          <p:nvPr/>
        </p:nvPicPr>
        <p:blipFill>
          <a:blip r:embed="rId6"/>
          <a:stretch/>
        </p:blipFill>
        <p:spPr>
          <a:xfrm>
            <a:off x="304920" y="304920"/>
            <a:ext cx="5634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562720" y="304920"/>
            <a:ext cx="3343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T Bold Mirror"/>
              </a:rPr>
              <a:t>حل المشكلات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T Bold Mirror"/>
              <a:ea typeface="PT Bold Mirror"/>
            </a:endParaRPr>
          </a:p>
        </p:txBody>
      </p:sp>
      <p:pic>
        <p:nvPicPr>
          <p:cNvPr id="229" name="slidbar" descr=""/>
          <p:cNvPicPr/>
          <p:nvPr/>
        </p:nvPicPr>
        <p:blipFill>
          <a:blip r:embed="rId1"/>
          <a:stretch/>
        </p:blipFill>
        <p:spPr>
          <a:xfrm>
            <a:off x="5019840" y="1295280"/>
            <a:ext cx="4124160" cy="131760"/>
          </a:xfrm>
          <a:prstGeom prst="rect">
            <a:avLst/>
          </a:prstGeom>
          <a:ln w="0">
            <a:noFill/>
          </a:ln>
        </p:spPr>
      </p:pic>
      <p:pic>
        <p:nvPicPr>
          <p:cNvPr id="230" name="حل%20المشكلات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3733560" cy="60958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809880" y="1752480"/>
            <a:ext cx="4953240" cy="94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0000"/>
                </a:solidFill>
                <a:latin typeface="Times New Roman"/>
                <a:cs typeface="Akhbar MT"/>
              </a:rPr>
              <a:t>هو استراتيجية لمساعدة الطلاب على ايجاد الحلول للمواقف المشكلة بانفسهم ولانفسهم عن طريق القراءة العلمية وتوجيه الاسئلة وعرض المشكلة والوصول إلى حلها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استفهام%20" descr=""/>
          <p:cNvPicPr/>
          <p:nvPr/>
        </p:nvPicPr>
        <p:blipFill>
          <a:blip r:embed="rId3"/>
          <a:stretch/>
        </p:blipFill>
        <p:spPr>
          <a:xfrm>
            <a:off x="2286000" y="228600"/>
            <a:ext cx="6858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water0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304920" y="838080"/>
            <a:ext cx="8534160" cy="571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In Chemistry Problem Solving is :</a:t>
            </a:r>
            <a:endParaRPr b="0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getting the answer  by using</a:t>
            </a:r>
            <a:endParaRPr b="0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 </a:t>
            </a:r>
            <a:r>
              <a:rPr b="0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what you  know  with  out </a:t>
            </a:r>
            <a:endParaRPr b="0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breaking any  ruls </a:t>
            </a:r>
            <a:endParaRPr b="0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6200" y="380880"/>
            <a:ext cx="49053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Swashes"/>
              </a:rPr>
              <a:t>خطوات حل المشكلة </a:t>
            </a:r>
            <a:endParaRPr b="0" lang="en-US" sz="1800" spc="1" strike="noStrike">
              <a:ln cap="sq" w="1908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Swashes"/>
              <a:ea typeface="DecoType Naskh Swashes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-360" y="990720"/>
            <a:ext cx="3809880" cy="0"/>
          </a:xfrm>
          <a:prstGeom prst="line">
            <a:avLst/>
          </a:prstGeom>
          <a:ln cap="sq"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cap="sq"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Lamps_and_Bulbs_v" descr=""/>
          <p:cNvPicPr/>
          <p:nvPr/>
        </p:nvPicPr>
        <p:blipFill>
          <a:blip r:embed="rId1"/>
          <a:stretch/>
        </p:blipFill>
        <p:spPr>
          <a:xfrm>
            <a:off x="8153280" y="5958000"/>
            <a:ext cx="666720" cy="900000"/>
          </a:xfrm>
          <a:prstGeom prst="rect">
            <a:avLst/>
          </a:prstGeom>
          <a:ln w="0">
            <a:noFill/>
          </a:ln>
        </p:spPr>
      </p:pic>
      <p:pic>
        <p:nvPicPr>
          <p:cNvPr id="239" name="Lamps_and_Bulbs_v" descr=""/>
          <p:cNvPicPr/>
          <p:nvPr/>
        </p:nvPicPr>
        <p:blipFill>
          <a:blip r:embed="rId2"/>
          <a:stretch/>
        </p:blipFill>
        <p:spPr>
          <a:xfrm>
            <a:off x="8153280" y="5105520"/>
            <a:ext cx="666720" cy="900000"/>
          </a:xfrm>
          <a:prstGeom prst="rect">
            <a:avLst/>
          </a:prstGeom>
          <a:ln w="0">
            <a:noFill/>
          </a:ln>
        </p:spPr>
      </p:pic>
      <p:pic>
        <p:nvPicPr>
          <p:cNvPr id="240" name="Lamps_and_Bulbs_v" descr=""/>
          <p:cNvPicPr/>
          <p:nvPr/>
        </p:nvPicPr>
        <p:blipFill>
          <a:blip r:embed="rId3"/>
          <a:stretch/>
        </p:blipFill>
        <p:spPr>
          <a:xfrm>
            <a:off x="8153280" y="4343400"/>
            <a:ext cx="666720" cy="900000"/>
          </a:xfrm>
          <a:prstGeom prst="rect">
            <a:avLst/>
          </a:prstGeom>
          <a:ln w="0">
            <a:noFill/>
          </a:ln>
        </p:spPr>
      </p:pic>
      <p:pic>
        <p:nvPicPr>
          <p:cNvPr id="241" name="Lamps_and_Bulbs_v" descr=""/>
          <p:cNvPicPr/>
          <p:nvPr/>
        </p:nvPicPr>
        <p:blipFill>
          <a:blip r:embed="rId4"/>
          <a:stretch/>
        </p:blipFill>
        <p:spPr>
          <a:xfrm>
            <a:off x="8153280" y="3581280"/>
            <a:ext cx="666720" cy="900360"/>
          </a:xfrm>
          <a:prstGeom prst="rect">
            <a:avLst/>
          </a:prstGeom>
          <a:ln w="0">
            <a:noFill/>
          </a:ln>
        </p:spPr>
      </p:pic>
      <p:pic>
        <p:nvPicPr>
          <p:cNvPr id="242" name="Lamps_and_Bulbs_v" descr=""/>
          <p:cNvPicPr/>
          <p:nvPr/>
        </p:nvPicPr>
        <p:blipFill>
          <a:blip r:embed="rId5"/>
          <a:stretch/>
        </p:blipFill>
        <p:spPr>
          <a:xfrm>
            <a:off x="8153280" y="2819520"/>
            <a:ext cx="666720" cy="900000"/>
          </a:xfrm>
          <a:prstGeom prst="rect">
            <a:avLst/>
          </a:prstGeom>
          <a:ln w="0">
            <a:noFill/>
          </a:ln>
        </p:spPr>
      </p:pic>
      <p:pic>
        <p:nvPicPr>
          <p:cNvPr id="243" name="Lamps_and_Bulbs_v" descr=""/>
          <p:cNvPicPr/>
          <p:nvPr/>
        </p:nvPicPr>
        <p:blipFill>
          <a:blip r:embed="rId6"/>
          <a:stretch/>
        </p:blipFill>
        <p:spPr>
          <a:xfrm>
            <a:off x="8153280" y="2057400"/>
            <a:ext cx="666720" cy="900000"/>
          </a:xfrm>
          <a:prstGeom prst="rect">
            <a:avLst/>
          </a:prstGeom>
          <a:ln w="0">
            <a:noFill/>
          </a:ln>
        </p:spPr>
      </p:pic>
      <p:pic>
        <p:nvPicPr>
          <p:cNvPr id="244" name="Lamps_and_Bulbs_v" descr=""/>
          <p:cNvPicPr/>
          <p:nvPr/>
        </p:nvPicPr>
        <p:blipFill>
          <a:blip r:embed="rId7"/>
          <a:stretch/>
        </p:blipFill>
        <p:spPr>
          <a:xfrm>
            <a:off x="8153280" y="1295280"/>
            <a:ext cx="666720" cy="9003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048120" y="1371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شعور أو الاحساس  بالمشك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880" y="22096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تحديد المشكلة وصياغتها في صورة اجرائية قابلة للحل اما في صيغة سؤال او في صورة تقريري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71600" y="29718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جمع البيانات والمعلومات ذات الصلة بالمشكل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3733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ضع احسن الفرضيات او التفسيرات لحل المشك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44956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ختبار الفرضية او الفرضيات المؤقتة باية وسيلة علم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-914400" y="5181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وصول الى حل المشك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62320" y="601992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ستخدام الفرضية كاساس للتعميم في مواقف اخرى مشابه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Lamps_and_Bulbs_v" descr=""/>
          <p:cNvPicPr/>
          <p:nvPr/>
        </p:nvPicPr>
        <p:blipFill>
          <a:blip r:embed="rId8"/>
          <a:stretch/>
        </p:blipFill>
        <p:spPr>
          <a:xfrm>
            <a:off x="228600" y="0"/>
            <a:ext cx="97164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asasia_bcg" descr=""/>
          <p:cNvPicPr/>
          <p:nvPr/>
        </p:nvPicPr>
        <p:blipFill>
          <a:blip r:embed="rId1"/>
          <a:stretch/>
        </p:blipFill>
        <p:spPr>
          <a:xfrm>
            <a:off x="0" y="0"/>
            <a:ext cx="84582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914400" y="4648320"/>
            <a:ext cx="74674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khbar MT"/>
              </a:rPr>
              <a:t>الكيمياء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khbar MT"/>
              <a:ea typeface="Akhbar MT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5867280"/>
            <a:ext cx="10666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5867280"/>
            <a:ext cx="914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0579" descr=""/>
          <p:cNvPicPr/>
          <p:nvPr/>
        </p:nvPicPr>
        <p:blipFill>
          <a:blip r:embed="rId2"/>
          <a:stretch/>
        </p:blipFill>
        <p:spPr>
          <a:xfrm>
            <a:off x="4952880" y="5943600"/>
            <a:ext cx="365400" cy="353880"/>
          </a:xfrm>
          <a:prstGeom prst="rect">
            <a:avLst/>
          </a:prstGeom>
          <a:ln w="0">
            <a:noFill/>
          </a:ln>
        </p:spPr>
      </p:pic>
      <p:pic>
        <p:nvPicPr>
          <p:cNvPr id="54" name="0579" descr=""/>
          <p:cNvPicPr/>
          <p:nvPr/>
        </p:nvPicPr>
        <p:blipFill>
          <a:blip r:embed="rId3"/>
          <a:stretch/>
        </p:blipFill>
        <p:spPr>
          <a:xfrm>
            <a:off x="5334120" y="5943600"/>
            <a:ext cx="365040" cy="353880"/>
          </a:xfrm>
          <a:prstGeom prst="rect">
            <a:avLst/>
          </a:prstGeom>
          <a:ln w="0">
            <a:noFill/>
          </a:ln>
        </p:spPr>
      </p:pic>
      <p:pic>
        <p:nvPicPr>
          <p:cNvPr id="55" name="0579" descr=""/>
          <p:cNvPicPr/>
          <p:nvPr/>
        </p:nvPicPr>
        <p:blipFill>
          <a:blip r:embed="rId4"/>
          <a:stretch/>
        </p:blipFill>
        <p:spPr>
          <a:xfrm>
            <a:off x="2666880" y="5943600"/>
            <a:ext cx="365400" cy="353880"/>
          </a:xfrm>
          <a:prstGeom prst="rect">
            <a:avLst/>
          </a:prstGeom>
          <a:ln w="0">
            <a:noFill/>
          </a:ln>
        </p:spPr>
      </p:pic>
      <p:pic>
        <p:nvPicPr>
          <p:cNvPr id="56" name="0579" descr=""/>
          <p:cNvPicPr/>
          <p:nvPr/>
        </p:nvPicPr>
        <p:blipFill>
          <a:blip r:embed="rId5"/>
          <a:stretch/>
        </p:blipFill>
        <p:spPr>
          <a:xfrm>
            <a:off x="3048120" y="5943600"/>
            <a:ext cx="365040" cy="353880"/>
          </a:xfrm>
          <a:prstGeom prst="rect">
            <a:avLst/>
          </a:prstGeom>
          <a:ln w="0">
            <a:noFill/>
          </a:ln>
        </p:spPr>
      </p:pic>
      <p:pic>
        <p:nvPicPr>
          <p:cNvPr id="57" name="book4.thw" descr=""/>
          <p:cNvPicPr/>
          <p:nvPr/>
        </p:nvPicPr>
        <p:blipFill>
          <a:blip r:embed="rId6"/>
          <a:stretch/>
        </p:blipFill>
        <p:spPr>
          <a:xfrm>
            <a:off x="4724280" y="304920"/>
            <a:ext cx="4419720" cy="3581280"/>
          </a:xfrm>
          <a:prstGeom prst="rect">
            <a:avLst/>
          </a:prstGeom>
          <a:ln w="0">
            <a:noFill/>
          </a:ln>
        </p:spPr>
      </p:pic>
      <p:pic>
        <p:nvPicPr>
          <p:cNvPr id="58" name="Spill" descr=""/>
          <p:cNvPicPr/>
          <p:nvPr/>
        </p:nvPicPr>
        <p:blipFill>
          <a:blip r:embed="rId7"/>
          <a:stretch/>
        </p:blipFill>
        <p:spPr>
          <a:xfrm>
            <a:off x="1752480" y="2590920"/>
            <a:ext cx="2210040" cy="2133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304920" y="228600"/>
            <a:ext cx="4952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khbar MT"/>
              </a:rPr>
              <a:t>كتاب الثاني الثانوي الأدب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khbar MT"/>
              <a:ea typeface="Akhbar MT"/>
            </a:endParaRPr>
          </a:p>
        </p:txBody>
      </p:sp>
      <p:pic>
        <p:nvPicPr>
          <p:cNvPr id="60" name="beakers" descr=""/>
          <p:cNvPicPr/>
          <p:nvPr/>
        </p:nvPicPr>
        <p:blipFill>
          <a:blip r:embed="rId8"/>
          <a:stretch/>
        </p:blipFill>
        <p:spPr>
          <a:xfrm>
            <a:off x="228600" y="1981080"/>
            <a:ext cx="1981080" cy="2362320"/>
          </a:xfrm>
          <a:prstGeom prst="rect">
            <a:avLst/>
          </a:prstGeom>
          <a:ln w="0">
            <a:noFill/>
          </a:ln>
        </p:spPr>
      </p:pic>
      <p:pic>
        <p:nvPicPr>
          <p:cNvPr id="61" name="mad" descr=""/>
          <p:cNvPicPr/>
          <p:nvPr/>
        </p:nvPicPr>
        <p:blipFill>
          <a:blip r:embed="rId9"/>
          <a:stretch/>
        </p:blipFill>
        <p:spPr>
          <a:xfrm>
            <a:off x="3733920" y="2286000"/>
            <a:ext cx="2057400" cy="2666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7162920" y="609480"/>
            <a:ext cx="1714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486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khbar MT"/>
              </a:rPr>
              <a:t>مهارات عملية 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khbar MT"/>
              <a:ea typeface="Akhbar M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khbar MT"/>
              </a:rPr>
              <a:t>وحسابية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khbar MT"/>
              <a:ea typeface="Akhbar M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410080" y="609480"/>
            <a:ext cx="1676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8889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khbar MT"/>
              </a:rPr>
              <a:t>التفاعلات الكيميائية 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khbar MT"/>
              <a:ea typeface="Akhbar M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315200" y="1981080"/>
            <a:ext cx="9907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69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khbar MT"/>
              </a:rPr>
              <a:t>حالات المادة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khbar MT"/>
              <a:ea typeface="Akhbar M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334120" y="1905120"/>
            <a:ext cx="14475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7083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khbar MT"/>
              </a:rPr>
              <a:t>كيمياء العناصر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khbar MT"/>
              <a:ea typeface="Akhbar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781680" y="0"/>
            <a:ext cx="0" cy="6858000"/>
          </a:xfrm>
          <a:prstGeom prst="line">
            <a:avLst/>
          </a:prstGeom>
          <a:ln cap="sq"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28600" y="228600"/>
            <a:ext cx="3429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T Bold Mirror"/>
              </a:rPr>
              <a:t>التعلم بالتجريب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T Bold Mirror"/>
              <a:ea typeface="PT Bold Mirror"/>
            </a:endParaRPr>
          </a:p>
        </p:txBody>
      </p:sp>
      <p:pic>
        <p:nvPicPr>
          <p:cNvPr id="255" name="slidbar" descr=""/>
          <p:cNvPicPr/>
          <p:nvPr/>
        </p:nvPicPr>
        <p:blipFill>
          <a:blip r:embed="rId1"/>
          <a:stretch/>
        </p:blipFill>
        <p:spPr>
          <a:xfrm>
            <a:off x="0" y="1219320"/>
            <a:ext cx="5181480" cy="152280"/>
          </a:xfrm>
          <a:prstGeom prst="rect">
            <a:avLst/>
          </a:prstGeom>
          <a:ln w="0">
            <a:noFill/>
          </a:ln>
        </p:spPr>
      </p:pic>
      <p:pic>
        <p:nvPicPr>
          <p:cNvPr id="256" name="Chem-mess" descr=""/>
          <p:cNvPicPr/>
          <p:nvPr/>
        </p:nvPicPr>
        <p:blipFill>
          <a:blip r:embed="rId2"/>
          <a:stretch/>
        </p:blipFill>
        <p:spPr>
          <a:xfrm>
            <a:off x="4648320" y="609480"/>
            <a:ext cx="4038480" cy="58676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228600" y="1600200"/>
            <a:ext cx="4343400" cy="88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800080"/>
                </a:solidFill>
                <a:latin typeface="Times New Roman"/>
                <a:cs typeface="Akhbar MT"/>
              </a:rPr>
              <a:t>هو الطريقة التي يتم من خلالها توظيف المختبر وادواته حيث يتم تفاعل نشط بين الافكار والتجارب والاداء المهاري بطريقة عملية تعاونية او فردية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86200" y="380880"/>
            <a:ext cx="49053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80008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Swashes"/>
              </a:rPr>
              <a:t>سلوك الطالب في التعلم بالتجريب</a:t>
            </a:r>
            <a:endParaRPr b="0" lang="en-US" sz="1800" spc="1" strike="noStrike">
              <a:ln cap="sq" w="19080">
                <a:solidFill>
                  <a:srgbClr val="80008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Swashes"/>
              <a:ea typeface="DecoType Naskh Swashes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-360" y="990720"/>
            <a:ext cx="3809880" cy="0"/>
          </a:xfrm>
          <a:prstGeom prst="line">
            <a:avLst/>
          </a:prstGeom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وردة%20متحركة%20" descr=""/>
          <p:cNvPicPr/>
          <p:nvPr/>
        </p:nvPicPr>
        <p:blipFill>
          <a:blip r:embed="rId1"/>
          <a:stretch/>
        </p:blipFill>
        <p:spPr>
          <a:xfrm>
            <a:off x="8001000" y="5486400"/>
            <a:ext cx="693720" cy="706320"/>
          </a:xfrm>
          <a:prstGeom prst="rect">
            <a:avLst/>
          </a:prstGeom>
          <a:ln w="0">
            <a:noFill/>
          </a:ln>
        </p:spPr>
      </p:pic>
      <p:pic>
        <p:nvPicPr>
          <p:cNvPr id="262" name="وردة%20متحركة%20" descr=""/>
          <p:cNvPicPr/>
          <p:nvPr/>
        </p:nvPicPr>
        <p:blipFill>
          <a:blip r:embed="rId2"/>
          <a:stretch/>
        </p:blipFill>
        <p:spPr>
          <a:xfrm>
            <a:off x="8001000" y="3962520"/>
            <a:ext cx="693720" cy="706320"/>
          </a:xfrm>
          <a:prstGeom prst="rect">
            <a:avLst/>
          </a:prstGeom>
          <a:ln w="0">
            <a:noFill/>
          </a:ln>
        </p:spPr>
      </p:pic>
      <p:pic>
        <p:nvPicPr>
          <p:cNvPr id="263" name="وردة%20متحركة%20" descr=""/>
          <p:cNvPicPr/>
          <p:nvPr/>
        </p:nvPicPr>
        <p:blipFill>
          <a:blip r:embed="rId3"/>
          <a:stretch/>
        </p:blipFill>
        <p:spPr>
          <a:xfrm>
            <a:off x="8001000" y="2666880"/>
            <a:ext cx="693720" cy="706680"/>
          </a:xfrm>
          <a:prstGeom prst="rect">
            <a:avLst/>
          </a:prstGeom>
          <a:ln w="0">
            <a:noFill/>
          </a:ln>
        </p:spPr>
      </p:pic>
      <p:pic>
        <p:nvPicPr>
          <p:cNvPr id="264" name="وردة%20متحركة%20" descr=""/>
          <p:cNvPicPr/>
          <p:nvPr/>
        </p:nvPicPr>
        <p:blipFill>
          <a:blip r:embed="rId4"/>
          <a:stretch/>
        </p:blipFill>
        <p:spPr>
          <a:xfrm>
            <a:off x="8001000" y="1447920"/>
            <a:ext cx="693720" cy="7063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0" y="1523880"/>
            <a:ext cx="8001000" cy="6426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تخطيط وتصميم خطوات التجربة 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2743200"/>
            <a:ext cx="8001000" cy="119124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اداء ويتضمن قيام الطالب بالتجربة والتعامل مع المواد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962520"/>
            <a:ext cx="8001000" cy="17398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تحليل والتفسير ويتمثلان في معالجة المعلومات وفحصها وتفسير العلاقات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548496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تطبيق ويتضمن تنبؤات باوضاع جديدة و وضع الفرضيات في ضوء نتائج التجربة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وردة%20متحركة%20" descr=""/>
          <p:cNvPicPr/>
          <p:nvPr/>
        </p:nvPicPr>
        <p:blipFill>
          <a:blip r:embed="rId5"/>
          <a:stretch/>
        </p:blipFill>
        <p:spPr>
          <a:xfrm>
            <a:off x="304920" y="304920"/>
            <a:ext cx="69372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886200" y="380880"/>
            <a:ext cx="49053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80008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Swashes"/>
              </a:rPr>
              <a:t>مهارات التعلم بالتجريب </a:t>
            </a:r>
            <a:endParaRPr b="0" lang="en-US" sz="1800" spc="1" strike="noStrike">
              <a:ln cap="sq" w="19080">
                <a:solidFill>
                  <a:srgbClr val="80008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Swashes"/>
              <a:ea typeface="DecoType Naskh Swashes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-360" y="990720"/>
            <a:ext cx="3809880" cy="0"/>
          </a:xfrm>
          <a:prstGeom prst="line">
            <a:avLst/>
          </a:prstGeom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قلم%20" descr=""/>
          <p:cNvPicPr/>
          <p:nvPr/>
        </p:nvPicPr>
        <p:blipFill>
          <a:blip r:embed="rId1"/>
          <a:stretch/>
        </p:blipFill>
        <p:spPr>
          <a:xfrm>
            <a:off x="8210520" y="592452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274" name="قلم%20" descr=""/>
          <p:cNvPicPr/>
          <p:nvPr/>
        </p:nvPicPr>
        <p:blipFill>
          <a:blip r:embed="rId2"/>
          <a:stretch/>
        </p:blipFill>
        <p:spPr>
          <a:xfrm>
            <a:off x="8210520" y="457200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275" name="قلم%20" descr=""/>
          <p:cNvPicPr/>
          <p:nvPr/>
        </p:nvPicPr>
        <p:blipFill>
          <a:blip r:embed="rId3"/>
          <a:stretch/>
        </p:blipFill>
        <p:spPr>
          <a:xfrm>
            <a:off x="8210520" y="342900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276" name="قلم%20" descr=""/>
          <p:cNvPicPr/>
          <p:nvPr/>
        </p:nvPicPr>
        <p:blipFill>
          <a:blip r:embed="rId4"/>
          <a:stretch/>
        </p:blipFill>
        <p:spPr>
          <a:xfrm>
            <a:off x="8210520" y="236232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277" name="قلم%20" descr=""/>
          <p:cNvPicPr/>
          <p:nvPr/>
        </p:nvPicPr>
        <p:blipFill>
          <a:blip r:embed="rId5"/>
          <a:stretch/>
        </p:blipFill>
        <p:spPr>
          <a:xfrm>
            <a:off x="8210520" y="1371600"/>
            <a:ext cx="933480" cy="9334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304920" y="1447920"/>
            <a:ext cx="8076960" cy="180036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0000"/>
                </a:solidFill>
                <a:latin typeface="Times New Roman"/>
                <a:cs typeface="Akhbar MT"/>
              </a:rPr>
              <a:t>مهارات مكتسبة وتتضمن مهارات 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السماع والملاحظة والبحث والمصادر والاستفسار والتحقق من المعلومات وجمع المعلومات والبحث العلمي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2666880"/>
            <a:ext cx="8381880" cy="137376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0000"/>
                </a:solidFill>
                <a:latin typeface="Times New Roman"/>
                <a:cs typeface="Akhbar MT"/>
              </a:rPr>
              <a:t>مهارات تنظيمية وتشمل مهارات 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التسجيل  والمقارنة والمغايرة والتصنيف والتنظيم والترتيب والاختصار والتقييم والتحليل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3886200"/>
            <a:ext cx="7772400" cy="94716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Akhbar MT"/>
              </a:rPr>
              <a:t>مهارات ابداعية تشمل مهارات 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التخطيط والتصميم والاختراع والتركيب 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920" y="4724280"/>
            <a:ext cx="8076960" cy="137376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Akhbar MT"/>
              </a:rPr>
              <a:t>مهارات التحكم وتشمل مهارات 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استخدام الاجهزة والاعتناء بها وصيانتها وتجميعها ومعايرتها وتجريبها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5943600"/>
            <a:ext cx="838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0000"/>
                </a:solidFill>
                <a:latin typeface="Times New Roman"/>
                <a:cs typeface="Akhbar MT"/>
              </a:rPr>
              <a:t>مهارات الاتصال وتشمل مهارات 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طرح الاسئلة واختيارها والمناقشة والتفسير والكتابة والتقارير والنقد وترجمة المعلومات بيانيا والتدريس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قلم%20" descr=""/>
          <p:cNvPicPr/>
          <p:nvPr/>
        </p:nvPicPr>
        <p:blipFill>
          <a:blip r:embed="rId6"/>
          <a:stretch/>
        </p:blipFill>
        <p:spPr>
          <a:xfrm>
            <a:off x="0" y="0"/>
            <a:ext cx="9334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5486400" y="304920"/>
            <a:ext cx="3214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T Bold Mirror"/>
              </a:rPr>
              <a:t>المشروع العلمي 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T Bold Mirror"/>
              <a:ea typeface="PT Bold Mirror"/>
            </a:endParaRPr>
          </a:p>
        </p:txBody>
      </p:sp>
      <p:pic>
        <p:nvPicPr>
          <p:cNvPr id="285" name="slidbar" descr=""/>
          <p:cNvPicPr/>
          <p:nvPr/>
        </p:nvPicPr>
        <p:blipFill>
          <a:blip r:embed="rId1"/>
          <a:stretch/>
        </p:blipFill>
        <p:spPr>
          <a:xfrm>
            <a:off x="4952880" y="1143000"/>
            <a:ext cx="4191120" cy="133200"/>
          </a:xfrm>
          <a:prstGeom prst="rect">
            <a:avLst/>
          </a:prstGeom>
          <a:ln w="0">
            <a:noFill/>
          </a:ln>
        </p:spPr>
      </p:pic>
      <p:pic>
        <p:nvPicPr>
          <p:cNvPr id="286" name="مشروع1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3733920" cy="61722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3733920" y="1676520"/>
            <a:ext cx="518148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0000"/>
                </a:solidFill>
                <a:latin typeface="Times New Roman"/>
                <a:cs typeface="Akhbar MT"/>
              </a:rPr>
              <a:t>هو محاولة لدراسة مشكلة علمية او للاجابة على سؤال مقترح او لتطوير منتج وهو مجموعة من الاعمال المترابطة التي يتم تنفيذها بطريقة منظمة وله نقطة بداية ونقطة نهاية محددتان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114800" y="304920"/>
            <a:ext cx="458136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Swashes"/>
              </a:rPr>
              <a:t>أهداف المشروع العلمي </a:t>
            </a:r>
            <a:endParaRPr b="0" lang="en-US" sz="18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Swashes"/>
              <a:ea typeface="DecoType Naskh Swashes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-360" y="990720"/>
            <a:ext cx="380988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كتاب%20يكتب" descr=""/>
          <p:cNvPicPr/>
          <p:nvPr/>
        </p:nvPicPr>
        <p:blipFill>
          <a:blip r:embed="rId1"/>
          <a:stretch/>
        </p:blipFill>
        <p:spPr>
          <a:xfrm>
            <a:off x="7696080" y="5486400"/>
            <a:ext cx="1200240" cy="914400"/>
          </a:xfrm>
          <a:prstGeom prst="rect">
            <a:avLst/>
          </a:prstGeom>
          <a:ln w="0">
            <a:noFill/>
          </a:ln>
        </p:spPr>
      </p:pic>
      <p:pic>
        <p:nvPicPr>
          <p:cNvPr id="292" name="كتاب%20يكتب" descr=""/>
          <p:cNvPicPr/>
          <p:nvPr/>
        </p:nvPicPr>
        <p:blipFill>
          <a:blip r:embed="rId2"/>
          <a:stretch/>
        </p:blipFill>
        <p:spPr>
          <a:xfrm>
            <a:off x="7696080" y="4191120"/>
            <a:ext cx="1200240" cy="914400"/>
          </a:xfrm>
          <a:prstGeom prst="rect">
            <a:avLst/>
          </a:prstGeom>
          <a:ln w="0">
            <a:noFill/>
          </a:ln>
        </p:spPr>
      </p:pic>
      <p:pic>
        <p:nvPicPr>
          <p:cNvPr id="293" name="كتاب%20يكتب" descr=""/>
          <p:cNvPicPr/>
          <p:nvPr/>
        </p:nvPicPr>
        <p:blipFill>
          <a:blip r:embed="rId3"/>
          <a:stretch/>
        </p:blipFill>
        <p:spPr>
          <a:xfrm>
            <a:off x="7696080" y="2895480"/>
            <a:ext cx="1200240" cy="914400"/>
          </a:xfrm>
          <a:prstGeom prst="rect">
            <a:avLst/>
          </a:prstGeom>
          <a:ln w="0">
            <a:noFill/>
          </a:ln>
        </p:spPr>
      </p:pic>
      <p:pic>
        <p:nvPicPr>
          <p:cNvPr id="294" name="كتاب%20يكتب" descr=""/>
          <p:cNvPicPr/>
          <p:nvPr/>
        </p:nvPicPr>
        <p:blipFill>
          <a:blip r:embed="rId4"/>
          <a:stretch/>
        </p:blipFill>
        <p:spPr>
          <a:xfrm>
            <a:off x="7696080" y="1600200"/>
            <a:ext cx="1200240" cy="9144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685800" y="1905120"/>
            <a:ext cx="6934320" cy="5814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تنمية قدرة المتعلم ومهاراته 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2120" y="3124080"/>
            <a:ext cx="6858000" cy="106884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تشجيع تفريد التعليم ومراعاة الفروق الفردية بين المتعلمين 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4419720"/>
            <a:ext cx="7620120" cy="106884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عداد المتعلم وتهيئته للحياة وتشجيعه على العمل والانتاج 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5486400"/>
            <a:ext cx="7010640" cy="15562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تنمية الثقة بالنفس لدى المتعلم وتشجيعه على الابداع والابتكار وتحمل المسؤولية 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كتاب%20يكتب" descr=""/>
          <p:cNvPicPr/>
          <p:nvPr/>
        </p:nvPicPr>
        <p:blipFill>
          <a:blip r:embed="rId5"/>
          <a:stretch/>
        </p:blipFill>
        <p:spPr>
          <a:xfrm>
            <a:off x="0" y="0"/>
            <a:ext cx="12002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0" y="304920"/>
            <a:ext cx="4124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Swashes"/>
              </a:rPr>
              <a:t>عناصر المشروع</a:t>
            </a:r>
            <a:endParaRPr b="0" lang="en-US" sz="18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Swashes"/>
              <a:ea typeface="DecoType Naskh Swashes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-360" y="990720"/>
            <a:ext cx="426708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400800" y="1523880"/>
            <a:ext cx="225756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2600">
                  <a:solidFill>
                    <a:srgbClr val="cc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khbar MT"/>
              </a:rPr>
              <a:t>الغرض</a:t>
            </a:r>
            <a:endParaRPr b="0" lang="en-US" sz="1800" spc="1" strike="noStrike">
              <a:ln cap="sq" w="12600">
                <a:solidFill>
                  <a:srgbClr val="cc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khbar MT"/>
              <a:ea typeface="Akhbar MT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505320" y="1523880"/>
            <a:ext cx="268596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urpos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05" name="P" descr=""/>
          <p:cNvPicPr/>
          <p:nvPr/>
        </p:nvPicPr>
        <p:blipFill>
          <a:blip r:embed="rId4"/>
          <a:stretch/>
        </p:blipFill>
        <p:spPr>
          <a:xfrm>
            <a:off x="2971800" y="1676520"/>
            <a:ext cx="757080" cy="8190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5791320" y="2590920"/>
            <a:ext cx="284796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khbar MT"/>
              </a:rPr>
              <a:t>التوقعات  </a:t>
            </a:r>
            <a:endParaRPr b="0" lang="en-US" sz="1800" spc="1" strike="noStrike">
              <a:ln w="12600">
                <a:solidFill>
                  <a:srgbClr val="cc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khbar MT"/>
              <a:ea typeface="Akhbar MT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581280" y="2590920"/>
            <a:ext cx="26384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730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xpecta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08" name="E" descr=""/>
          <p:cNvPicPr/>
          <p:nvPr/>
        </p:nvPicPr>
        <p:blipFill>
          <a:blip r:embed="rId8"/>
          <a:stretch/>
        </p:blipFill>
        <p:spPr>
          <a:xfrm>
            <a:off x="2971800" y="2666880"/>
            <a:ext cx="655560" cy="9144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6095880" y="5791320"/>
            <a:ext cx="255276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khbar MT"/>
              </a:rPr>
              <a:t>الاستنتاج </a:t>
            </a:r>
            <a:endParaRPr b="0" lang="en-US" sz="1800" spc="1" strike="noStrike">
              <a:ln w="12600">
                <a:solidFill>
                  <a:srgbClr val="cc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khbar MT"/>
              <a:ea typeface="Akhbar MT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324480" y="4724280"/>
            <a:ext cx="236232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khbar MT"/>
              </a:rPr>
              <a:t>التجريب</a:t>
            </a:r>
            <a:endParaRPr b="0" lang="en-US" sz="1800" spc="1" strike="noStrike">
              <a:ln w="12600">
                <a:solidFill>
                  <a:srgbClr val="cc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khbar MT"/>
              <a:ea typeface="Akhbar MT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943600" y="3733920"/>
            <a:ext cx="270504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khbar MT"/>
              </a:rPr>
              <a:t>البحث </a:t>
            </a:r>
            <a:endParaRPr b="0" lang="en-US" sz="1800" spc="1" strike="noStrike">
              <a:ln w="12600">
                <a:solidFill>
                  <a:srgbClr val="cc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khbar MT"/>
              <a:ea typeface="Akhbar MT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733920" y="3657600"/>
            <a:ext cx="2533680" cy="83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428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esearch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13" name="R" descr=""/>
          <p:cNvPicPr/>
          <p:nvPr/>
        </p:nvPicPr>
        <p:blipFill>
          <a:blip r:embed="rId11"/>
          <a:stretch/>
        </p:blipFill>
        <p:spPr>
          <a:xfrm>
            <a:off x="3048120" y="3809880"/>
            <a:ext cx="685800" cy="7239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3505320" y="4724280"/>
            <a:ext cx="275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0208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xperimentation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15" name="E" descr=""/>
          <p:cNvPicPr/>
          <p:nvPr/>
        </p:nvPicPr>
        <p:blipFill>
          <a:blip r:embed="rId14"/>
          <a:stretch/>
        </p:blipFill>
        <p:spPr>
          <a:xfrm>
            <a:off x="2819520" y="4724280"/>
            <a:ext cx="655560" cy="9144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3505320" y="5791320"/>
            <a:ext cx="2809800" cy="75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onclusion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17" name="C" descr=""/>
          <p:cNvPicPr/>
          <p:nvPr/>
        </p:nvPicPr>
        <p:blipFill>
          <a:blip r:embed="rId17"/>
          <a:stretch/>
        </p:blipFill>
        <p:spPr>
          <a:xfrm>
            <a:off x="2743200" y="5943600"/>
            <a:ext cx="731880" cy="6476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304920" y="1752480"/>
            <a:ext cx="2514600" cy="119124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هدف من المشرو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-304920" y="2819520"/>
            <a:ext cx="3276720" cy="15562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اعتقاد المبني على  المعرفة لحل المشك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3962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  <a:cs typeface="Akhbar MT"/>
              </a:rPr>
              <a:t>جمع وتنظيم المعلوم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-380880" y="48769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ختبار حقيقي للتوقعا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-380880" y="5791320"/>
            <a:ext cx="3276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و الحل للمشكلة أو الاجابة على السؤال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447920" y="0"/>
            <a:ext cx="0" cy="68580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-360" y="1143000"/>
            <a:ext cx="380988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114800" y="304920"/>
            <a:ext cx="458136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Swashes"/>
              </a:rPr>
              <a:t>كيف نبدأ المشروع العلمي  ؟</a:t>
            </a:r>
            <a:endParaRPr b="0" lang="en-US" sz="18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Swashes"/>
              <a:ea typeface="DecoType Naskh Swashes"/>
            </a:endParaRPr>
          </a:p>
        </p:txBody>
      </p:sp>
      <p:pic>
        <p:nvPicPr>
          <p:cNvPr id="326" name="كتابين%20صفر" descr=""/>
          <p:cNvPicPr/>
          <p:nvPr/>
        </p:nvPicPr>
        <p:blipFill>
          <a:blip r:embed="rId1"/>
          <a:stretch/>
        </p:blipFill>
        <p:spPr>
          <a:xfrm>
            <a:off x="7772400" y="5410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327" name="كتابين%20صفر" descr=""/>
          <p:cNvPicPr/>
          <p:nvPr/>
        </p:nvPicPr>
        <p:blipFill>
          <a:blip r:embed="rId2"/>
          <a:stretch/>
        </p:blipFill>
        <p:spPr>
          <a:xfrm>
            <a:off x="7772400" y="35812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328" name="كتابين%20صفر" descr=""/>
          <p:cNvPicPr/>
          <p:nvPr/>
        </p:nvPicPr>
        <p:blipFill>
          <a:blip r:embed="rId3"/>
          <a:stretch/>
        </p:blipFill>
        <p:spPr>
          <a:xfrm>
            <a:off x="7772400" y="1752480"/>
            <a:ext cx="1066680" cy="9907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2514600" y="20574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ختيار موضوع المشروع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66680" y="38862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تنظيم عملية البحث ( الخطة )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920" y="556272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راعاة المعوقات والقيود البحثية والتجريبي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كتابين%20صفر" descr=""/>
          <p:cNvPicPr/>
          <p:nvPr/>
        </p:nvPicPr>
        <p:blipFill>
          <a:blip r:embed="rId4"/>
          <a:stretch/>
        </p:blipFill>
        <p:spPr>
          <a:xfrm>
            <a:off x="228600" y="0"/>
            <a:ext cx="1066680" cy="9907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514600" y="2666880"/>
            <a:ext cx="52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و الخطوة الأكثر صعوبة والأكثر أهمي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5486400" y="304920"/>
            <a:ext cx="3214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T Bold Mirror"/>
              </a:rPr>
              <a:t>التعلم الذاتي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T Bold Mirror"/>
              <a:ea typeface="PT Bold Mirror"/>
            </a:endParaRPr>
          </a:p>
        </p:txBody>
      </p:sp>
      <p:pic>
        <p:nvPicPr>
          <p:cNvPr id="335" name="slidbar" descr=""/>
          <p:cNvPicPr/>
          <p:nvPr/>
        </p:nvPicPr>
        <p:blipFill>
          <a:blip r:embed="rId1"/>
          <a:stretch/>
        </p:blipFill>
        <p:spPr>
          <a:xfrm>
            <a:off x="4952880" y="1143000"/>
            <a:ext cx="4191120" cy="133200"/>
          </a:xfrm>
          <a:prstGeom prst="rect">
            <a:avLst/>
          </a:prstGeom>
          <a:ln w="0">
            <a:noFill/>
          </a:ln>
        </p:spPr>
      </p:pic>
      <p:pic>
        <p:nvPicPr>
          <p:cNvPr id="336" name="تعلم%20ذتي" descr=""/>
          <p:cNvPicPr/>
          <p:nvPr/>
        </p:nvPicPr>
        <p:blipFill>
          <a:blip r:embed="rId2"/>
          <a:stretch/>
        </p:blipFill>
        <p:spPr>
          <a:xfrm>
            <a:off x="228600" y="3429000"/>
            <a:ext cx="4076640" cy="3429000"/>
          </a:xfrm>
          <a:prstGeom prst="rect">
            <a:avLst/>
          </a:prstGeom>
          <a:ln w="0">
            <a:noFill/>
          </a:ln>
        </p:spPr>
      </p:pic>
      <p:pic>
        <p:nvPicPr>
          <p:cNvPr id="337" name="تعلم%20ذاتي1" descr=""/>
          <p:cNvPicPr/>
          <p:nvPr/>
        </p:nvPicPr>
        <p:blipFill>
          <a:blip r:embed="rId3"/>
          <a:stretch/>
        </p:blipFill>
        <p:spPr>
          <a:xfrm>
            <a:off x="1143000" y="304920"/>
            <a:ext cx="2209680" cy="34290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4191120" y="1523880"/>
            <a:ext cx="4572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ي الطريقة التي تسمح لكل طالب ان يتعلم ويتقدم حسب قدراته الذاتية ومهاراته الأدائية تحت اشراف المعلم وتوجيهه وارشاده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 flipH="1">
            <a:off x="-360" y="1143000"/>
            <a:ext cx="38098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447920" y="0"/>
            <a:ext cx="0" cy="68580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505320" y="457200"/>
            <a:ext cx="51102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Variants"/>
              </a:rPr>
              <a:t>استراتيجية تدريسها </a:t>
            </a:r>
            <a:endParaRPr b="0" lang="en-US" sz="1800" spc="1" strike="noStrike">
              <a:ln cap="sq"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Variants"/>
              <a:ea typeface="DecoType Naskh Variants"/>
            </a:endParaRPr>
          </a:p>
        </p:txBody>
      </p:sp>
      <p:sp>
        <p:nvSpPr>
          <p:cNvPr id="342" name=""/>
          <p:cNvSpPr/>
          <p:nvPr/>
        </p:nvSpPr>
        <p:spPr>
          <a:xfrm>
            <a:off x="1905120" y="1523880"/>
            <a:ext cx="6858000" cy="94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يتم تقسيم الموضوعات التعليمية الى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جزاء صغيرة وترتيبها منطقيا وتسلسليا حسب المفاهيم العلمية في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0000"/>
                </a:solidFill>
                <a:latin typeface="Times New Roman"/>
                <a:cs typeface="Akhbar MT"/>
              </a:rPr>
              <a:t>أوراق عمل تعليمية تدريبية تقويمية اثرائية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حسب المخرجات أو الأهداف التعليمية المراد تحقيقها في صورة اسئلة متنوعة المستويات تثير وتتحدى قدرات ومهارات الطلاب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candle3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525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_2003-05-08_12175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380880" y="533520"/>
            <a:ext cx="8305920" cy="601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DecoType Naskh"/>
              </a:rPr>
              <a:t>يقول توماس أديسون :</a:t>
            </a:r>
            <a:endParaRPr b="0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DecoType Naskh"/>
              <a:ea typeface="DecoType Naskh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DecoType Naskh"/>
              </a:rPr>
              <a:t>" </a:t>
            </a:r>
            <a:r>
              <a:rPr b="0" lang="hi-IN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DecoType Naskh"/>
              </a:rPr>
              <a:t>لست أشعر ببرود الهمة لأن كل محاولة خاطئة</a:t>
            </a:r>
            <a:r>
              <a:rPr b="0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DecoType Naskh"/>
              </a:rPr>
              <a:t> </a:t>
            </a:r>
            <a:endParaRPr b="0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DecoType Naskh"/>
              <a:ea typeface="DecoType Naskh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DecoType Naskh"/>
              </a:rPr>
              <a:t>أتخلى عنها هي خطوة أخرى تقودني نحو الأمام "</a:t>
            </a:r>
            <a:endParaRPr b="0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DecoType Naskh"/>
              <a:ea typeface="DecoType Nask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21" descr=""/>
          <p:cNvPicPr/>
          <p:nvPr/>
        </p:nvPicPr>
        <p:blipFill>
          <a:blip r:embed="rId1"/>
          <a:stretch/>
        </p:blipFill>
        <p:spPr>
          <a:xfrm>
            <a:off x="3276720" y="2438280"/>
            <a:ext cx="2590560" cy="2438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533520" y="990720"/>
            <a:ext cx="838188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PT Bold Heading"/>
              </a:rPr>
              <a:t> </a:t>
            </a:r>
            <a:r>
              <a:rPr b="0" lang="en-US" sz="1800" spc="1" strike="noStrike">
                <a:ln cap="sq"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PT Bold Heading"/>
              </a:rPr>
              <a:t>"</a:t>
            </a:r>
            <a:r>
              <a:rPr b="0" lang="hi-IN" sz="1800" spc="1" strike="noStrike">
                <a:ln cap="sq"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PT Bold Heading"/>
              </a:rPr>
              <a:t>نحن لم نهزم في الحرب  و لكن هزمنا في المعمل</a:t>
            </a:r>
            <a:r>
              <a:rPr b="0" lang="en-US" sz="1800" spc="1" strike="noStrike">
                <a:ln cap="sq"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PT Bold Heading"/>
              </a:rPr>
              <a:t>" </a:t>
            </a:r>
            <a:endParaRPr b="0" lang="en-US" sz="1800" spc="1" strike="noStrike">
              <a:ln cap="sq"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PT Bold Heading"/>
              <a:ea typeface="PT Bold Heading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PT Bold Heading"/>
              </a:rPr>
              <a:t>يقصد الجانب العملي التطبيقي  </a:t>
            </a:r>
            <a:endParaRPr b="0" lang="en-US" sz="1800" spc="1" strike="noStrike">
              <a:ln cap="sq"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PT Bold Heading"/>
              <a:ea typeface="PT Bold Heading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86200" y="22860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khbar MT"/>
              </a:rPr>
              <a:t>قال امبراطور اليابان هيروهيتو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khbar MT"/>
              <a:ea typeface="Akhbar M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952880" y="3200400"/>
            <a:ext cx="3924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khbar MT"/>
              </a:rPr>
              <a:t>استراتيجية التدريس 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khbar MT"/>
              <a:ea typeface="Akhbar M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28600" y="3962520"/>
            <a:ext cx="86868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khbar MT"/>
              </a:rPr>
              <a:t>هي عملية تواصل نشط بين المعلم والمتعلم </a:t>
            </a:r>
            <a:endParaRPr b="1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khbar MT"/>
              <a:ea typeface="Akhbar M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khbar MT"/>
              </a:rPr>
              <a:t>بهدف احداث تعلم نشط  وزيادة نمو المتعلم </a:t>
            </a:r>
            <a:endParaRPr b="1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khbar MT"/>
              <a:ea typeface="Akhbar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khbar MT"/>
              </a:rPr>
              <a:t> </a:t>
            </a:r>
            <a:r>
              <a:rPr b="0" lang="hi-IN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khbar MT"/>
              </a:rPr>
              <a:t>في جوانبه المختلفة</a:t>
            </a:r>
            <a:r>
              <a:rPr b="1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khbar MT"/>
              </a:rPr>
              <a:t> </a:t>
            </a:r>
            <a:endParaRPr b="1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khbar MT"/>
              <a:ea typeface="Akhbar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cphomert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800600" cy="6324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438280" y="457200"/>
            <a:ext cx="525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Times New Roman"/>
                <a:cs typeface="Akhbar MT"/>
              </a:rPr>
              <a:t>المبادئ الستة لتعليم العلوم عالمي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371600"/>
            <a:ext cx="73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جميع الطلاب يمكن أن يستقصوا أو يبحثوا ويتعلموا المـــــــفاهيم العلمية ويستطيعوا ان ينجحوا بخبراته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0565" descr=""/>
          <p:cNvPicPr/>
          <p:nvPr/>
        </p:nvPicPr>
        <p:blipFill>
          <a:blip r:embed="rId2"/>
          <a:stretch/>
        </p:blipFill>
        <p:spPr>
          <a:xfrm>
            <a:off x="8077320" y="152388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75" name="0565" descr=""/>
          <p:cNvPicPr/>
          <p:nvPr/>
        </p:nvPicPr>
        <p:blipFill>
          <a:blip r:embed="rId3"/>
          <a:stretch/>
        </p:blipFill>
        <p:spPr>
          <a:xfrm>
            <a:off x="8077320" y="350532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76" name="0565" descr=""/>
          <p:cNvPicPr/>
          <p:nvPr/>
        </p:nvPicPr>
        <p:blipFill>
          <a:blip r:embed="rId4"/>
          <a:stretch/>
        </p:blipFill>
        <p:spPr>
          <a:xfrm>
            <a:off x="8001000" y="518148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23880" y="3352680"/>
            <a:ext cx="6477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على الطلاب أن يطوروا المـــــعرفة والمقدرة </a:t>
            </a:r>
            <a:r>
              <a:rPr b="1" lang="hi-IN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على استخدا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أدوات وعمليات الاستقصاء العلمي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5105520"/>
            <a:ext cx="655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عند إشراك الطلاب في دراسة العلوم يكون لديهم القدرة على بناء النجاح في أجزاء مختلفة من المنهج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phomert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800600" cy="6324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43000" y="2895480"/>
            <a:ext cx="6781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كفايات الــــطلاب في المفاهيم والعلميات للعلوم يجب أن تقيم من خلال أدوات متنوعة ومختلفة وحقيقي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914400"/>
            <a:ext cx="693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محتوى العلمي يجب أن يقدم بشكل ممتع ومفهوم وفي أشكال ونماذج منظمة و واضح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0565" descr=""/>
          <p:cNvPicPr/>
          <p:nvPr/>
        </p:nvPicPr>
        <p:blipFill>
          <a:blip r:embed="rId2"/>
          <a:stretch/>
        </p:blipFill>
        <p:spPr>
          <a:xfrm>
            <a:off x="8077320" y="304812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83" name="0565" descr=""/>
          <p:cNvPicPr/>
          <p:nvPr/>
        </p:nvPicPr>
        <p:blipFill>
          <a:blip r:embed="rId3"/>
          <a:stretch/>
        </p:blipFill>
        <p:spPr>
          <a:xfrm>
            <a:off x="8077320" y="91440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84" name="0565" descr=""/>
          <p:cNvPicPr/>
          <p:nvPr/>
        </p:nvPicPr>
        <p:blipFill>
          <a:blip r:embed="rId4"/>
          <a:stretch/>
        </p:blipFill>
        <p:spPr>
          <a:xfrm>
            <a:off x="8077320" y="487692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3520" y="4572000"/>
            <a:ext cx="7467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خبرات الطلاب العلمية في العلوم تنجح عندما يطورون المعرفة والفهم لعلوم الحياة والأرض العلوم الفيزيائية ويدرسون تاريخ وطبيعة العلم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phomert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800600" cy="6324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4920" y="457200"/>
            <a:ext cx="843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عايير معلم الكيمياء الناجح حسب منظمة  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ASC ,200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khbar MT"/>
              </a:rPr>
              <a:t> )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رقم%20اثنان%20" descr=""/>
          <p:cNvPicPr/>
          <p:nvPr/>
        </p:nvPicPr>
        <p:blipFill>
          <a:blip r:embed="rId2"/>
          <a:stretch/>
        </p:blipFill>
        <p:spPr>
          <a:xfrm>
            <a:off x="8305920" y="2743200"/>
            <a:ext cx="533160" cy="685800"/>
          </a:xfrm>
          <a:prstGeom prst="rect">
            <a:avLst/>
          </a:prstGeom>
          <a:ln w="0">
            <a:noFill/>
          </a:ln>
        </p:spPr>
      </p:pic>
      <p:pic>
        <p:nvPicPr>
          <p:cNvPr id="89" name="رقم%20ستة" descr=""/>
          <p:cNvPicPr/>
          <p:nvPr/>
        </p:nvPicPr>
        <p:blipFill>
          <a:blip r:embed="rId3"/>
          <a:stretch/>
        </p:blipFill>
        <p:spPr>
          <a:xfrm>
            <a:off x="8305920" y="6172200"/>
            <a:ext cx="533160" cy="685800"/>
          </a:xfrm>
          <a:prstGeom prst="rect">
            <a:avLst/>
          </a:prstGeom>
          <a:ln w="0">
            <a:noFill/>
          </a:ln>
        </p:spPr>
      </p:pic>
      <p:pic>
        <p:nvPicPr>
          <p:cNvPr id="90" name="رقم%20خمسة%20" descr=""/>
          <p:cNvPicPr/>
          <p:nvPr/>
        </p:nvPicPr>
        <p:blipFill>
          <a:blip r:embed="rId4"/>
          <a:stretch/>
        </p:blipFill>
        <p:spPr>
          <a:xfrm>
            <a:off x="8305920" y="5334120"/>
            <a:ext cx="533160" cy="685800"/>
          </a:xfrm>
          <a:prstGeom prst="rect">
            <a:avLst/>
          </a:prstGeom>
          <a:ln w="0">
            <a:noFill/>
          </a:ln>
        </p:spPr>
      </p:pic>
      <p:pic>
        <p:nvPicPr>
          <p:cNvPr id="91" name="رقم%20اربعة%20" descr=""/>
          <p:cNvPicPr/>
          <p:nvPr/>
        </p:nvPicPr>
        <p:blipFill>
          <a:blip r:embed="rId5"/>
          <a:stretch/>
        </p:blipFill>
        <p:spPr>
          <a:xfrm>
            <a:off x="8305920" y="4495680"/>
            <a:ext cx="533160" cy="685800"/>
          </a:xfrm>
          <a:prstGeom prst="rect">
            <a:avLst/>
          </a:prstGeom>
          <a:ln w="0">
            <a:noFill/>
          </a:ln>
        </p:spPr>
      </p:pic>
      <p:pic>
        <p:nvPicPr>
          <p:cNvPr id="92" name="رقم%20ثلاثة%20" descr=""/>
          <p:cNvPicPr/>
          <p:nvPr/>
        </p:nvPicPr>
        <p:blipFill>
          <a:blip r:embed="rId6"/>
          <a:stretch/>
        </p:blipFill>
        <p:spPr>
          <a:xfrm>
            <a:off x="8305920" y="3657600"/>
            <a:ext cx="533160" cy="685800"/>
          </a:xfrm>
          <a:prstGeom prst="rect">
            <a:avLst/>
          </a:prstGeom>
          <a:ln w="0">
            <a:noFill/>
          </a:ln>
        </p:spPr>
      </p:pic>
      <p:pic>
        <p:nvPicPr>
          <p:cNvPr id="93" name="رقم%20واحد" descr=""/>
          <p:cNvPicPr/>
          <p:nvPr/>
        </p:nvPicPr>
        <p:blipFill>
          <a:blip r:embed="rId7"/>
          <a:stretch/>
        </p:blipFill>
        <p:spPr>
          <a:xfrm>
            <a:off x="8229600" y="1752480"/>
            <a:ext cx="609480" cy="685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542040" y="1828800"/>
            <a:ext cx="614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لكفاءة في القيادة والفعالي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3355200" y="2819520"/>
            <a:ext cx="1510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لتمكن من المادة وفهم مفاهيمها والقدرة على البحث والاستقصاء في مجالاتها 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2072880" y="3733920"/>
            <a:ext cx="1315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لتركيز على طرق التدريس التي تعزز الاستقصاء والفهم والتطبيق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9600" y="4572000"/>
            <a:ext cx="757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لقدرة على استخدام الاسئلة السابر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88280" y="5334120"/>
            <a:ext cx="93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لاستخدام الفعال لأساليب المراقبة والمتابع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6172200"/>
            <a:ext cx="4113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لاستخدام الامثل للتجارب المعملي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phomert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572000" cy="6324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-228600" y="3808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كدت لجنة المنهاج البريطاني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Curriculum Counci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9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ن ملامح وسمات الاستراتيجيات الذكية  تبنى على الاسس التالية :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smile" descr=""/>
          <p:cNvPicPr/>
          <p:nvPr/>
        </p:nvPicPr>
        <p:blipFill>
          <a:blip r:embed="rId2"/>
          <a:stretch/>
        </p:blipFill>
        <p:spPr>
          <a:xfrm>
            <a:off x="8305920" y="1447920"/>
            <a:ext cx="549000" cy="549000"/>
          </a:xfrm>
          <a:prstGeom prst="rect">
            <a:avLst/>
          </a:prstGeom>
          <a:ln w="0">
            <a:noFill/>
          </a:ln>
        </p:spPr>
      </p:pic>
      <p:pic>
        <p:nvPicPr>
          <p:cNvPr id="103" name="smile" descr=""/>
          <p:cNvPicPr/>
          <p:nvPr/>
        </p:nvPicPr>
        <p:blipFill>
          <a:blip r:embed="rId3"/>
          <a:stretch/>
        </p:blipFill>
        <p:spPr>
          <a:xfrm>
            <a:off x="8305920" y="2133720"/>
            <a:ext cx="549000" cy="549000"/>
          </a:xfrm>
          <a:prstGeom prst="rect">
            <a:avLst/>
          </a:prstGeom>
          <a:ln w="0">
            <a:noFill/>
          </a:ln>
        </p:spPr>
      </p:pic>
      <p:pic>
        <p:nvPicPr>
          <p:cNvPr id="104" name="smile" descr=""/>
          <p:cNvPicPr/>
          <p:nvPr/>
        </p:nvPicPr>
        <p:blipFill>
          <a:blip r:embed="rId4"/>
          <a:stretch/>
        </p:blipFill>
        <p:spPr>
          <a:xfrm>
            <a:off x="8305920" y="5334120"/>
            <a:ext cx="549000" cy="549000"/>
          </a:xfrm>
          <a:prstGeom prst="rect">
            <a:avLst/>
          </a:prstGeom>
          <a:ln w="0">
            <a:noFill/>
          </a:ln>
        </p:spPr>
      </p:pic>
      <p:pic>
        <p:nvPicPr>
          <p:cNvPr id="105" name="smile" descr=""/>
          <p:cNvPicPr/>
          <p:nvPr/>
        </p:nvPicPr>
        <p:blipFill>
          <a:blip r:embed="rId5"/>
          <a:stretch/>
        </p:blipFill>
        <p:spPr>
          <a:xfrm>
            <a:off x="8305920" y="6095880"/>
            <a:ext cx="549000" cy="549360"/>
          </a:xfrm>
          <a:prstGeom prst="rect">
            <a:avLst/>
          </a:prstGeom>
          <a:ln w="0">
            <a:noFill/>
          </a:ln>
        </p:spPr>
      </p:pic>
      <p:pic>
        <p:nvPicPr>
          <p:cNvPr id="106" name="smile" descr=""/>
          <p:cNvPicPr/>
          <p:nvPr/>
        </p:nvPicPr>
        <p:blipFill>
          <a:blip r:embed="rId6"/>
          <a:stretch/>
        </p:blipFill>
        <p:spPr>
          <a:xfrm>
            <a:off x="8305920" y="4572000"/>
            <a:ext cx="54900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smile" descr=""/>
          <p:cNvPicPr/>
          <p:nvPr/>
        </p:nvPicPr>
        <p:blipFill>
          <a:blip r:embed="rId7"/>
          <a:stretch/>
        </p:blipFill>
        <p:spPr>
          <a:xfrm>
            <a:off x="8305920" y="3809880"/>
            <a:ext cx="549000" cy="549360"/>
          </a:xfrm>
          <a:prstGeom prst="rect">
            <a:avLst/>
          </a:prstGeom>
          <a:ln w="0">
            <a:noFill/>
          </a:ln>
        </p:spPr>
      </p:pic>
      <p:pic>
        <p:nvPicPr>
          <p:cNvPr id="108" name="smile" descr=""/>
          <p:cNvPicPr/>
          <p:nvPr/>
        </p:nvPicPr>
        <p:blipFill>
          <a:blip r:embed="rId8"/>
          <a:stretch/>
        </p:blipFill>
        <p:spPr>
          <a:xfrm>
            <a:off x="8305920" y="3048120"/>
            <a:ext cx="549000" cy="549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733920" y="144792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ثارة حب الاستطلاع عند الطلاب.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205740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عطاء الطلاب الفرصة لبناء اتجاهات ايجابية نحو الانشطة العلمية والتكنولوجيا بما في ذلك التعلم الذاتي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31240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تاحة الفرصة للطلاب لتكوين الافكار العلمية الاساسية وتطويرها نحو الاحسن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Akhbar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228600" y="38098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لربط بين رغبات الطلاب وخبراتهم اليومية في ضوء مستوياتهم العقلي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5720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Akhbar MT"/>
              </a:rPr>
              <a:t>مراعاة الفروق الفردية الناتجة عن اختلاف الجنس او الخلفية الثقافية .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54100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Akhbar MT"/>
              </a:rPr>
              <a:t>مساعدة الطلاب على فهم العالم المحيط بهم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60958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Akhbar MT"/>
              </a:rPr>
              <a:t>منح الطلاب الفرصة للعمل الجماعي والتفاهم معهم باستخدام ادوات التفكير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cphomert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572000" cy="63244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-2657160" y="380880"/>
            <a:ext cx="1458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فاختيار طريقة التدريس ترجع إلى عدة معايير يجب أن تؤخذ بعين الاعتبار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أثناء تدريس مادة الكيمياء وهذه المعايير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رقم%201" descr=""/>
          <p:cNvPicPr/>
          <p:nvPr/>
        </p:nvPicPr>
        <p:blipFill>
          <a:blip r:embed="rId2"/>
          <a:stretch/>
        </p:blipFill>
        <p:spPr>
          <a:xfrm>
            <a:off x="8229600" y="1676520"/>
            <a:ext cx="571680" cy="533160"/>
          </a:xfrm>
          <a:prstGeom prst="rect">
            <a:avLst/>
          </a:prstGeom>
          <a:ln w="0">
            <a:noFill/>
          </a:ln>
        </p:spPr>
      </p:pic>
      <p:pic>
        <p:nvPicPr>
          <p:cNvPr id="119" name="رقم6" descr=""/>
          <p:cNvPicPr/>
          <p:nvPr/>
        </p:nvPicPr>
        <p:blipFill>
          <a:blip r:embed="rId3"/>
          <a:stretch/>
        </p:blipFill>
        <p:spPr>
          <a:xfrm>
            <a:off x="8229600" y="6019920"/>
            <a:ext cx="571680" cy="533160"/>
          </a:xfrm>
          <a:prstGeom prst="rect">
            <a:avLst/>
          </a:prstGeom>
          <a:ln w="0">
            <a:noFill/>
          </a:ln>
        </p:spPr>
      </p:pic>
      <p:pic>
        <p:nvPicPr>
          <p:cNvPr id="120" name="رقم2" descr=""/>
          <p:cNvPicPr/>
          <p:nvPr/>
        </p:nvPicPr>
        <p:blipFill>
          <a:blip r:embed="rId4"/>
          <a:stretch/>
        </p:blipFill>
        <p:spPr>
          <a:xfrm>
            <a:off x="8229600" y="2514600"/>
            <a:ext cx="571680" cy="533520"/>
          </a:xfrm>
          <a:prstGeom prst="rect">
            <a:avLst/>
          </a:prstGeom>
          <a:ln w="0">
            <a:noFill/>
          </a:ln>
        </p:spPr>
      </p:pic>
      <p:pic>
        <p:nvPicPr>
          <p:cNvPr id="121" name="رقم3" descr=""/>
          <p:cNvPicPr/>
          <p:nvPr/>
        </p:nvPicPr>
        <p:blipFill>
          <a:blip r:embed="rId5"/>
          <a:stretch/>
        </p:blipFill>
        <p:spPr>
          <a:xfrm>
            <a:off x="8229600" y="3352680"/>
            <a:ext cx="571680" cy="533520"/>
          </a:xfrm>
          <a:prstGeom prst="rect">
            <a:avLst/>
          </a:prstGeom>
          <a:ln w="0">
            <a:noFill/>
          </a:ln>
        </p:spPr>
      </p:pic>
      <p:pic>
        <p:nvPicPr>
          <p:cNvPr id="122" name="رقم4" descr=""/>
          <p:cNvPicPr/>
          <p:nvPr/>
        </p:nvPicPr>
        <p:blipFill>
          <a:blip r:embed="rId6"/>
          <a:stretch/>
        </p:blipFill>
        <p:spPr>
          <a:xfrm>
            <a:off x="8229600" y="4191120"/>
            <a:ext cx="571680" cy="533160"/>
          </a:xfrm>
          <a:prstGeom prst="rect">
            <a:avLst/>
          </a:prstGeom>
          <a:ln w="0">
            <a:noFill/>
          </a:ln>
        </p:spPr>
      </p:pic>
      <p:pic>
        <p:nvPicPr>
          <p:cNvPr id="123" name="رقم5" descr=""/>
          <p:cNvPicPr/>
          <p:nvPr/>
        </p:nvPicPr>
        <p:blipFill>
          <a:blip r:embed="rId7"/>
          <a:stretch/>
        </p:blipFill>
        <p:spPr>
          <a:xfrm>
            <a:off x="8229600" y="5105520"/>
            <a:ext cx="571680" cy="533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128400" y="1676520"/>
            <a:ext cx="63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نوعية المحتوى العلمي للكيمياء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0240" y="2514600"/>
            <a:ext cx="96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مخرجات التعليمية المراد تحقيقها من التدريس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72640" y="3352680"/>
            <a:ext cx="45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طبيعة البيئة التعليمي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91200" y="4191120"/>
            <a:ext cx="84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فلسفة المعلم  وخبراته للعملية التعليمي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71520" y="5105520"/>
            <a:ext cx="544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مرحلة التعليمية للطالب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74840" y="5943600"/>
            <a:ext cx="51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ستوى الطلبة ونوعيتهم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8600" y="228600"/>
            <a:ext cx="2971800" cy="4267080"/>
          </a:xfrm>
          <a:custGeom>
            <a:avLst/>
            <a:gdLst>
              <a:gd name="textAreaLeft" fmla="*/ 120600 w 2971800"/>
              <a:gd name="textAreaRight" fmla="*/ 2851200 w 2971800"/>
              <a:gd name="textAreaTop" fmla="*/ 120600 h 4267080"/>
              <a:gd name="textAreaBottom" fmla="*/ 4146480 h 4267080"/>
            </a:gdLst>
            <a:ahLst/>
            <a:rect l="textAreaLeft" t="textAreaTop" r="textAreaRight" b="textAreaBottom"/>
            <a:pathLst>
              <a:path w="21600" h="31013">
                <a:moveTo>
                  <a:pt x="0" y="0"/>
                </a:moveTo>
                <a:lnTo>
                  <a:pt x="0" y="31013"/>
                </a:lnTo>
                <a:lnTo>
                  <a:pt x="21600" y="31013"/>
                </a:lnTo>
                <a:lnTo>
                  <a:pt x="21600" y="0"/>
                </a:lnTo>
                <a:close/>
                <a:moveTo>
                  <a:pt x="878" y="878"/>
                </a:moveTo>
                <a:lnTo>
                  <a:pt x="878" y="30135"/>
                </a:lnTo>
                <a:lnTo>
                  <a:pt x="20722" y="30135"/>
                </a:lnTo>
                <a:lnTo>
                  <a:pt x="20722" y="878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schl063.thw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132" name="استفهام%20" descr=""/>
          <p:cNvPicPr/>
          <p:nvPr/>
        </p:nvPicPr>
        <p:blipFill>
          <a:blip r:embed="rId2"/>
          <a:stretch/>
        </p:blipFill>
        <p:spPr>
          <a:xfrm>
            <a:off x="1981080" y="533520"/>
            <a:ext cx="944640" cy="1295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3581280" y="228600"/>
            <a:ext cx="5334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T Bold Mirror"/>
              </a:rPr>
              <a:t>طريقة الاستقصاء " الاكتشاف"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T Bold Mirror"/>
              <a:ea typeface="PT Bold Mirror"/>
            </a:endParaRPr>
          </a:p>
        </p:txBody>
      </p:sp>
      <p:pic>
        <p:nvPicPr>
          <p:cNvPr id="134" name="slidbar" descr=""/>
          <p:cNvPicPr/>
          <p:nvPr/>
        </p:nvPicPr>
        <p:blipFill>
          <a:blip r:embed="rId3"/>
          <a:stretch/>
        </p:blipFill>
        <p:spPr>
          <a:xfrm flipH="1" rot="10800000">
            <a:off x="3276720" y="1368000"/>
            <a:ext cx="5867280" cy="155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76720" y="1828800"/>
            <a:ext cx="5410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8000"/>
                </a:solidFill>
                <a:latin typeface="Times New Roman"/>
                <a:cs typeface="Akhbar MT"/>
              </a:rPr>
              <a:t>هو الوصول الى معلومات جديدة عن طــريق التجربة والخبرات السابقة وذلك بــشكل مستقل جزئيا أو كليا عن المعلم 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51814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8000"/>
                </a:solidFill>
                <a:latin typeface="Times New Roman"/>
                <a:cs typeface="Akhbar MT"/>
              </a:rPr>
              <a:t>ادراك المتــــعلم للتنظيم القائم بين عناصر الموقف المراد اكتشافه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دائرة%20زرقاء" descr=""/>
          <p:cNvPicPr/>
          <p:nvPr/>
        </p:nvPicPr>
        <p:blipFill>
          <a:blip r:embed="rId4"/>
          <a:stretch/>
        </p:blipFill>
        <p:spPr>
          <a:xfrm>
            <a:off x="8526600" y="2057400"/>
            <a:ext cx="617400" cy="436680"/>
          </a:xfrm>
          <a:prstGeom prst="rect">
            <a:avLst/>
          </a:prstGeom>
          <a:ln w="0">
            <a:noFill/>
          </a:ln>
        </p:spPr>
      </p:pic>
      <p:pic>
        <p:nvPicPr>
          <p:cNvPr id="138" name="دائرة%20زرقاء" descr=""/>
          <p:cNvPicPr/>
          <p:nvPr/>
        </p:nvPicPr>
        <p:blipFill>
          <a:blip r:embed="rId5"/>
          <a:stretch/>
        </p:blipFill>
        <p:spPr>
          <a:xfrm>
            <a:off x="8526600" y="5334120"/>
            <a:ext cx="617400" cy="43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9T08:48:44Z</dcterms:created>
  <dc:creator>My Pc</dc:creator>
  <dc:description/>
  <dc:language>en-US</dc:language>
  <cp:lastModifiedBy>c1</cp:lastModifiedBy>
  <dcterms:modified xsi:type="dcterms:W3CDTF">2003-04-20T06:13:44Z</dcterms:modified>
  <cp:revision>222</cp:revision>
  <dc:subject/>
  <dc:title>عرض تقديمي من PowerPoint</dc:title>
</cp:coreProperties>
</file>