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6.jpeg" ContentType="image/jpeg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52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6.jpeg" ContentType="image/jpeg"/>
  <Override PartName="/ppt/media/image5.png" ContentType="image/png"/>
  <Override PartName="/ppt/media/image42.gif" ContentType="image/gif"/>
  <Override PartName="/ppt/media/image3.gif" ContentType="image/gif"/>
  <Override PartName="/ppt/media/image27.gif" ContentType="image/gif"/>
  <Override PartName="/ppt/media/image51.jpeg" ContentType="image/jpeg"/>
  <Override PartName="/ppt/media/image1.jpeg" ContentType="image/jpeg"/>
  <Override PartName="/ppt/media/image54.gif" ContentType="image/gif"/>
  <Override PartName="/ppt/media/image32.gif" ContentType="image/gif"/>
  <Override PartName="/ppt/media/image35.gif" ContentType="image/gif"/>
  <Override PartName="/ppt/media/image40.jpeg" ContentType="image/jpeg"/>
  <Override PartName="/ppt/media/image31.gif" ContentType="image/gif"/>
  <Override PartName="/ppt/media/image43.png" ContentType="image/png"/>
  <Override PartName="/ppt/media/image50.gif" ContentType="image/gif"/>
  <Override PartName="/ppt/media/image48.gif" ContentType="image/gif"/>
  <Override PartName="/ppt/media/image13.gif" ContentType="image/gif"/>
  <Override PartName="/ppt/media/image45.png" ContentType="image/png"/>
  <Override PartName="/ppt/media/image33.jpeg" ContentType="image/jpeg"/>
  <Override PartName="/ppt/media/image34.gif" ContentType="image/gif"/>
  <Override PartName="/ppt/media/image46.gif" ContentType="image/gif"/>
  <Override PartName="/ppt/media/image36.gif" ContentType="image/gif"/>
  <Override PartName="/ppt/media/image41.gif" ContentType="image/gif"/>
  <Override PartName="/ppt/media/image9.gif" ContentType="image/gif"/>
  <Override PartName="/ppt/media/image39.gif" ContentType="image/gif"/>
  <Override PartName="/ppt/media/image53.gif" ContentType="image/gif"/>
  <Override PartName="/ppt/media/image30.gif" ContentType="image/gif"/>
  <Override PartName="/ppt/media/image49.gif" ContentType="image/gif"/>
  <Override PartName="/ppt/media/image12.gif" ContentType="image/gif"/>
  <Override PartName="/ppt/media/image11.png" ContentType="image/png"/>
  <Override PartName="/ppt/media/image47.gif" ContentType="image/gif"/>
  <Override PartName="/ppt/media/image10.gif" ContentType="image/gif"/>
  <Override PartName="/ppt/media/image38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7.png" ContentType="image/png"/>
  <Override PartName="/ppt/media/image37.png" ContentType="image/png"/>
  <Override PartName="/ppt/media/image44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805-0A36-48DE-A95E-0575697A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E86-F560-43A9-8726-189AACF9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3B9-7912-4B7E-A771-A5AC3B7D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8D0-D98E-4609-A503-9916808B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7CB-2179-401E-9BCE-80741B0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238-9F00-4289-8C9C-C4B32077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F12-6D8D-41A7-84F6-E8A67068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1D3-EA60-4BF6-8698-6363537B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F13-6133-41DF-A1F3-F50C65FA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531-625D-4342-9858-4462867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1AF-4C74-4A51-B886-F90833AA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301-B8EE-4755-B412-26A96B76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610D-8B02-40E6-AFE9-170E9F65A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7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gif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7.gif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8.gif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7.gif"/><Relationship Id="rId15" Type="http://schemas.openxmlformats.org/officeDocument/2006/relationships/image" Target="../media/image45.png"/><Relationship Id="rId16" Type="http://schemas.openxmlformats.org/officeDocument/2006/relationships/image" Target="../media/image45.png"/><Relationship Id="rId17" Type="http://schemas.openxmlformats.org/officeDocument/2006/relationships/image" Target="../media/image49.gif"/><Relationship Id="rId1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خلفية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943600" y="380880"/>
            <a:ext cx="2905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"/>
              </a:rPr>
              <a:t>دولة الامارات العربية المتحدة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"/>
              <a:ea typeface="DecoType Naskh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"/>
              </a:rPr>
              <a:t>وزارة التربية والتعليم والشباب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"/>
              <a:ea typeface="DecoType Naskh"/>
            </a:endParaRPr>
          </a:p>
        </p:txBody>
      </p:sp>
      <p:pic>
        <p:nvPicPr>
          <p:cNvPr id="43" name="شعار22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144468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3124080"/>
            <a:ext cx="815364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T Bold Heading"/>
              </a:rPr>
              <a:t>طرق وأساليب التدريس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T Bold Heading"/>
              <a:ea typeface="PT Bold Heading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220968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ورشة عمل ف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pic>
        <p:nvPicPr>
          <p:cNvPr id="47" name="Entertainment-02" descr=""/>
          <p:cNvPicPr/>
          <p:nvPr/>
        </p:nvPicPr>
        <p:blipFill>
          <a:blip r:embed="rId3"/>
          <a:stretch/>
        </p:blipFill>
        <p:spPr>
          <a:xfrm>
            <a:off x="63244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905120" y="464832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المدرب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حسن محمد الصرد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موجه الكيمياء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62520" y="533520"/>
            <a:ext cx="47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مميزات طريقة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0" y="990720"/>
            <a:ext cx="37339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tar3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3" name="star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4" name="star3" descr=""/>
          <p:cNvPicPr/>
          <p:nvPr/>
        </p:nvPicPr>
        <p:blipFill>
          <a:blip r:embed="rId3"/>
          <a:stretch/>
        </p:blipFill>
        <p:spPr>
          <a:xfrm>
            <a:off x="8458200" y="5334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5" name="star3" descr=""/>
          <p:cNvPicPr/>
          <p:nvPr/>
        </p:nvPicPr>
        <p:blipFill>
          <a:blip r:embed="rId4"/>
          <a:stretch/>
        </p:blipFill>
        <p:spPr>
          <a:xfrm>
            <a:off x="8458200" y="44197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6" name="star3" descr=""/>
          <p:cNvPicPr/>
          <p:nvPr/>
        </p:nvPicPr>
        <p:blipFill>
          <a:blip r:embed="rId5"/>
          <a:stretch/>
        </p:blipFill>
        <p:spPr>
          <a:xfrm>
            <a:off x="8458200" y="35812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7" name="star3" descr=""/>
          <p:cNvPicPr/>
          <p:nvPr/>
        </p:nvPicPr>
        <p:blipFill>
          <a:blip r:embed="rId6"/>
          <a:stretch/>
        </p:blipFill>
        <p:spPr>
          <a:xfrm>
            <a:off x="8458200" y="26668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8" name="star3" descr=""/>
          <p:cNvPicPr/>
          <p:nvPr/>
        </p:nvPicPr>
        <p:blipFill>
          <a:blip r:embed="rId7"/>
          <a:stretch/>
        </p:blipFill>
        <p:spPr>
          <a:xfrm>
            <a:off x="8458200" y="1905120"/>
            <a:ext cx="309600" cy="309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33720" y="17524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طالب هو محور العملي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90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 طريقة الاستقصاء عمليات العلم ومهارات الاكتشا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762120" y="3505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ريقة الاستقصاء تدرب الطالب وتنمي عنده التفكير العلمي ومهاراته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762120" y="4343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ريقة الاستقصاء تثير الدافعية والحفز الداخلي نحو التعلم الذات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38080" y="5181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زيد من مستوى التوقعات لدى الطلاب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762120" y="6019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دفع الطالب نحو التعلم النشط بشكل فاع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62520" y="533520"/>
            <a:ext cx="47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شروط أساسية لتعلم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57" name="mzoon31" descr=""/>
          <p:cNvPicPr/>
          <p:nvPr/>
        </p:nvPicPr>
        <p:blipFill>
          <a:blip r:embed="rId1"/>
          <a:stretch/>
        </p:blipFill>
        <p:spPr>
          <a:xfrm>
            <a:off x="7924680" y="518148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mzoon31" descr=""/>
          <p:cNvPicPr/>
          <p:nvPr/>
        </p:nvPicPr>
        <p:blipFill>
          <a:blip r:embed="rId2"/>
          <a:stretch/>
        </p:blipFill>
        <p:spPr>
          <a:xfrm>
            <a:off x="7924680" y="403848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mzoon31" descr=""/>
          <p:cNvPicPr/>
          <p:nvPr/>
        </p:nvPicPr>
        <p:blipFill>
          <a:blip r:embed="rId3"/>
          <a:stretch/>
        </p:blipFill>
        <p:spPr>
          <a:xfrm>
            <a:off x="7924680" y="281952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60" name="mzoon31" descr=""/>
          <p:cNvPicPr/>
          <p:nvPr/>
        </p:nvPicPr>
        <p:blipFill>
          <a:blip r:embed="rId4"/>
          <a:stretch/>
        </p:blipFill>
        <p:spPr>
          <a:xfrm>
            <a:off x="7924680" y="1752480"/>
            <a:ext cx="800280" cy="771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1676520"/>
            <a:ext cx="7467480" cy="9471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قديم مشكلة علمية او طرح اسئلة تثير تفكير الطلاب وتتحداهم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895480"/>
            <a:ext cx="7924680" cy="18003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ر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ستقصاء بمعنى أن يعطى الطالب فرصة لكي يبحث ويستقصي حتى تتولد القناعة والشعور والحفز الداخلي الذي يدفعه للتقصي المستمر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114800"/>
            <a:ext cx="746748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وفر ثقافة او قاعدة علمية مناسبة لدى الطالب بحيث يمكن ان تكون انطلاقة كافية لان يبحث ويتقصى 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257800"/>
            <a:ext cx="754380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ن يمارس الطالب عقليا وعمليا التعلم بالتقصي حتى يكون قادرا على تقصي العلم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990720"/>
            <a:ext cx="37339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mzoon31" descr=""/>
          <p:cNvPicPr/>
          <p:nvPr/>
        </p:nvPicPr>
        <p:blipFill>
          <a:blip r:embed="rId5"/>
          <a:stretch/>
        </p:blipFill>
        <p:spPr>
          <a:xfrm>
            <a:off x="0" y="228600"/>
            <a:ext cx="800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267080" y="38088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دور المعلم في طريقة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69" name="redf" descr=""/>
          <p:cNvPicPr/>
          <p:nvPr/>
        </p:nvPicPr>
        <p:blipFill>
          <a:blip r:embed="rId1"/>
          <a:stretch/>
        </p:blipFill>
        <p:spPr>
          <a:xfrm>
            <a:off x="8229600" y="586728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0" name="redf" descr=""/>
          <p:cNvPicPr/>
          <p:nvPr/>
        </p:nvPicPr>
        <p:blipFill>
          <a:blip r:embed="rId2"/>
          <a:stretch/>
        </p:blipFill>
        <p:spPr>
          <a:xfrm>
            <a:off x="8229600" y="4876920"/>
            <a:ext cx="628560" cy="587160"/>
          </a:xfrm>
          <a:prstGeom prst="rect">
            <a:avLst/>
          </a:prstGeom>
          <a:ln w="0">
            <a:noFill/>
          </a:ln>
        </p:spPr>
      </p:pic>
      <p:pic>
        <p:nvPicPr>
          <p:cNvPr id="171" name="redf" descr=""/>
          <p:cNvPicPr/>
          <p:nvPr/>
        </p:nvPicPr>
        <p:blipFill>
          <a:blip r:embed="rId3"/>
          <a:stretch/>
        </p:blipFill>
        <p:spPr>
          <a:xfrm>
            <a:off x="8229600" y="3962520"/>
            <a:ext cx="628560" cy="587160"/>
          </a:xfrm>
          <a:prstGeom prst="rect">
            <a:avLst/>
          </a:prstGeom>
          <a:ln w="0">
            <a:noFill/>
          </a:ln>
        </p:spPr>
      </p:pic>
      <p:pic>
        <p:nvPicPr>
          <p:cNvPr id="172" name="redf" descr=""/>
          <p:cNvPicPr/>
          <p:nvPr/>
        </p:nvPicPr>
        <p:blipFill>
          <a:blip r:embed="rId4"/>
          <a:stretch/>
        </p:blipFill>
        <p:spPr>
          <a:xfrm>
            <a:off x="8229600" y="312408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3" name="redf" descr=""/>
          <p:cNvPicPr/>
          <p:nvPr/>
        </p:nvPicPr>
        <p:blipFill>
          <a:blip r:embed="rId5"/>
          <a:stretch/>
        </p:blipFill>
        <p:spPr>
          <a:xfrm>
            <a:off x="8229600" y="228600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4" name="redf" descr=""/>
          <p:cNvPicPr/>
          <p:nvPr/>
        </p:nvPicPr>
        <p:blipFill>
          <a:blip r:embed="rId6"/>
          <a:stretch/>
        </p:blipFill>
        <p:spPr>
          <a:xfrm>
            <a:off x="8229600" y="1447920"/>
            <a:ext cx="628560" cy="587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1523880"/>
            <a:ext cx="777240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تهيئة الفرصة المناسبة وجذب انتباه الطلاب  للاستقصاء و اكتشاف الحلول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754380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ن يختار بعض النشاطات التعليمية مفتوحة النهاية كمشكلات عل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200400"/>
            <a:ext cx="762012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ن يحسن تنظيم وادارة الوقت والطاقات الطلاب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962520"/>
            <a:ext cx="792468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طار الاستقصاء يتضمن الحوار والمناقشة والملاحظة والتجريب والتفسير وتوليد المشكلات للاستمرار في البحث والتقصي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029200"/>
            <a:ext cx="800100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ن يعطي الطلبة التلميحات العل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943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نجاح الحقيقي في عملية الاستقصاء هو فن طرح السؤال ونوعه ومخرجه التعليمي 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-360" y="838080"/>
            <a:ext cx="39625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redf" descr=""/>
          <p:cNvPicPr/>
          <p:nvPr/>
        </p:nvPicPr>
        <p:blipFill>
          <a:blip r:embed="rId7"/>
          <a:stretch/>
        </p:blipFill>
        <p:spPr>
          <a:xfrm>
            <a:off x="0" y="0"/>
            <a:ext cx="7621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96080" y="0"/>
            <a:ext cx="0" cy="68580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43000" y="228600"/>
            <a:ext cx="365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التعاوني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185" name="slidbar" descr=""/>
          <p:cNvPicPr/>
          <p:nvPr/>
        </p:nvPicPr>
        <p:blipFill>
          <a:blip r:embed="rId1"/>
          <a:stretch/>
        </p:blipFill>
        <p:spPr>
          <a:xfrm>
            <a:off x="0" y="1185840"/>
            <a:ext cx="9144000" cy="109440"/>
          </a:xfrm>
          <a:prstGeom prst="rect">
            <a:avLst/>
          </a:prstGeom>
          <a:ln w="0">
            <a:noFill/>
          </a:ln>
        </p:spPr>
      </p:pic>
      <p:pic>
        <p:nvPicPr>
          <p:cNvPr id="186" name="التعلم%20تع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1676520"/>
            <a:ext cx="495288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هـــــو موقف تعــــليمي صــف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يعـــمل فيه جـــميع الـــــطلب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باخــــتلاف مستـــويات ادائهم في  مجــــموعات نحــو هـــدف عــــام مشترك لتحقيق الاعتماد المتبادل .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العناصر الأساسية للتعلم التعاوني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90" name="0580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1" name="0580" descr=""/>
          <p:cNvPicPr/>
          <p:nvPr/>
        </p:nvPicPr>
        <p:blipFill>
          <a:blip r:embed="rId2"/>
          <a:stretch/>
        </p:blipFill>
        <p:spPr>
          <a:xfrm>
            <a:off x="8229600" y="52578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2" name="0580" descr=""/>
          <p:cNvPicPr/>
          <p:nvPr/>
        </p:nvPicPr>
        <p:blipFill>
          <a:blip r:embed="rId3"/>
          <a:stretch/>
        </p:blipFill>
        <p:spPr>
          <a:xfrm>
            <a:off x="8229600" y="441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3" name="0580" descr=""/>
          <p:cNvPicPr/>
          <p:nvPr/>
        </p:nvPicPr>
        <p:blipFill>
          <a:blip r:embed="rId4"/>
          <a:stretch/>
        </p:blipFill>
        <p:spPr>
          <a:xfrm>
            <a:off x="8229600" y="3581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94" name="0580" descr=""/>
          <p:cNvPicPr/>
          <p:nvPr/>
        </p:nvPicPr>
        <p:blipFill>
          <a:blip r:embed="rId5"/>
          <a:stretch/>
        </p:blipFill>
        <p:spPr>
          <a:xfrm>
            <a:off x="8229600" y="190512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752480"/>
            <a:ext cx="8077320" cy="2043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عتماد المتبادل الايجابي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أن يشعر كل تلميذ في المجموعة انه مرتبط مع زميله في المجموعة أي تحديد هدف مشترك وتحقيق الــــــــهدف  المشتر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429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مسؤولية الفردية والجماع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4267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فاعل وجها لوجه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518148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تعلم التعاوني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6019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عالجة عمل المجموعة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1143000"/>
            <a:ext cx="419112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0580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دور المعلم في التعلم التعاوني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1143000"/>
            <a:ext cx="419112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time1" descr=""/>
          <p:cNvPicPr/>
          <p:nvPr/>
        </p:nvPicPr>
        <p:blipFill>
          <a:blip r:embed="rId1"/>
          <a:stretch/>
        </p:blipFill>
        <p:spPr>
          <a:xfrm>
            <a:off x="7848720" y="5562720"/>
            <a:ext cx="563400" cy="563400"/>
          </a:xfrm>
          <a:prstGeom prst="rect">
            <a:avLst/>
          </a:prstGeom>
          <a:ln w="0">
            <a:noFill/>
          </a:ln>
        </p:spPr>
      </p:pic>
      <p:pic>
        <p:nvPicPr>
          <p:cNvPr id="206" name="time1" descr=""/>
          <p:cNvPicPr/>
          <p:nvPr/>
        </p:nvPicPr>
        <p:blipFill>
          <a:blip r:embed="rId2"/>
          <a:stretch/>
        </p:blipFill>
        <p:spPr>
          <a:xfrm>
            <a:off x="7848720" y="4495680"/>
            <a:ext cx="563400" cy="563760"/>
          </a:xfrm>
          <a:prstGeom prst="rect">
            <a:avLst/>
          </a:prstGeom>
          <a:ln w="0">
            <a:noFill/>
          </a:ln>
        </p:spPr>
      </p:pic>
      <p:pic>
        <p:nvPicPr>
          <p:cNvPr id="207" name="time1" descr=""/>
          <p:cNvPicPr/>
          <p:nvPr/>
        </p:nvPicPr>
        <p:blipFill>
          <a:blip r:embed="rId3"/>
          <a:stretch/>
        </p:blipFill>
        <p:spPr>
          <a:xfrm>
            <a:off x="7848720" y="3429000"/>
            <a:ext cx="563400" cy="563400"/>
          </a:xfrm>
          <a:prstGeom prst="rect">
            <a:avLst/>
          </a:prstGeom>
          <a:ln w="0">
            <a:noFill/>
          </a:ln>
        </p:spPr>
      </p:pic>
      <p:pic>
        <p:nvPicPr>
          <p:cNvPr id="208" name="time1" descr=""/>
          <p:cNvPicPr/>
          <p:nvPr/>
        </p:nvPicPr>
        <p:blipFill>
          <a:blip r:embed="rId4"/>
          <a:stretch/>
        </p:blipFill>
        <p:spPr>
          <a:xfrm>
            <a:off x="7848720" y="2286000"/>
            <a:ext cx="563400" cy="563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09680" y="2286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ول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خطي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33526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ثاني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شرح المهام والاعتماد الايجابي المتباد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572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ثالث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متابعة والتدخ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56386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رابعا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قويم والمعالج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time1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7160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كيفية تنفيذ دروس التعلم التعاوني؟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-360" y="1143000"/>
            <a:ext cx="342900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0553" descr=""/>
          <p:cNvPicPr/>
          <p:nvPr/>
        </p:nvPicPr>
        <p:blipFill>
          <a:blip r:embed="rId1"/>
          <a:stretch/>
        </p:blipFill>
        <p:spPr>
          <a:xfrm>
            <a:off x="8305920" y="57913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218" name="0553" descr=""/>
          <p:cNvPicPr/>
          <p:nvPr/>
        </p:nvPicPr>
        <p:blipFill>
          <a:blip r:embed="rId2"/>
          <a:stretch/>
        </p:blipFill>
        <p:spPr>
          <a:xfrm>
            <a:off x="8305920" y="48006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0553" descr=""/>
          <p:cNvPicPr/>
          <p:nvPr/>
        </p:nvPicPr>
        <p:blipFill>
          <a:blip r:embed="rId3"/>
          <a:stretch/>
        </p:blipFill>
        <p:spPr>
          <a:xfrm>
            <a:off x="8305920" y="37339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220" name="0553" descr=""/>
          <p:cNvPicPr/>
          <p:nvPr/>
        </p:nvPicPr>
        <p:blipFill>
          <a:blip r:embed="rId4"/>
          <a:stretch/>
        </p:blipFill>
        <p:spPr>
          <a:xfrm>
            <a:off x="8305920" y="27432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21" name="0553" descr=""/>
          <p:cNvPicPr/>
          <p:nvPr/>
        </p:nvPicPr>
        <p:blipFill>
          <a:blip r:embed="rId5"/>
          <a:stretch/>
        </p:blipFill>
        <p:spPr>
          <a:xfrm>
            <a:off x="8305920" y="1828800"/>
            <a:ext cx="487080" cy="487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1828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سم المعلم المتعلمين في الصف الى عدة مجموعات بحيث تراعي المستويات المختلفة في كل مجمو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83808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عين المعلم او يرشح اعضاء المجموعة قائدا لها لكي يمثلها امام المعلم واما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جموعات الاخر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657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دم المعلم للنشاط الذي سوف تقوم المجموعات بادائه والمهام المطلوب انجازها من المجموعة وكذلك مهام كل عضو في المجموع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838080" y="4800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سجل كل مجموعة النتائج التي توصلت اليها ويقدمها قائد المجموعة للمعل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83808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دم المعلم ملخصا للنتائج التي توصلت اليها مجموع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0553" descr=""/>
          <p:cNvPicPr/>
          <p:nvPr/>
        </p:nvPicPr>
        <p:blipFill>
          <a:blip r:embed="rId6"/>
          <a:stretch/>
        </p:blipFill>
        <p:spPr>
          <a:xfrm>
            <a:off x="304920" y="304920"/>
            <a:ext cx="563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562720" y="304920"/>
            <a:ext cx="3343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حل المشكلات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29" name="slidbar" descr=""/>
          <p:cNvPicPr/>
          <p:nvPr/>
        </p:nvPicPr>
        <p:blipFill>
          <a:blip r:embed="rId1"/>
          <a:stretch/>
        </p:blipFill>
        <p:spPr>
          <a:xfrm>
            <a:off x="5019840" y="1295280"/>
            <a:ext cx="4124160" cy="131760"/>
          </a:xfrm>
          <a:prstGeom prst="rect">
            <a:avLst/>
          </a:prstGeom>
          <a:ln w="0">
            <a:noFill/>
          </a:ln>
        </p:spPr>
      </p:pic>
      <p:pic>
        <p:nvPicPr>
          <p:cNvPr id="230" name="حل%20المشكلات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733560" cy="6095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809880" y="1752480"/>
            <a:ext cx="49532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هو استراتيجية لمساعدة الطلاب على ايجاد الحلول للمواقف المشكلة بانفسهم ولانفسهم عن طريق القراءة العلمية وتوجيه الاسئلة وعرض المشكلة والوصول إلى حلها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استفهام%20" descr=""/>
          <p:cNvPicPr/>
          <p:nvPr/>
        </p:nvPicPr>
        <p:blipFill>
          <a:blip r:embed="rId3"/>
          <a:stretch/>
        </p:blipFill>
        <p:spPr>
          <a:xfrm>
            <a:off x="2286000" y="22860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water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04920" y="838080"/>
            <a:ext cx="853416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In Chemistry Problem Solving is :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getting the answer  by using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what you  know  with  out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breaking any  ruls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خطوات حل المشكلة </a:t>
            </a:r>
            <a:endParaRPr b="0" lang="en-US" sz="1800" spc="1" strike="noStrike">
              <a:ln cap="sq"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Lamps_and_Bulbs_v" descr=""/>
          <p:cNvPicPr/>
          <p:nvPr/>
        </p:nvPicPr>
        <p:blipFill>
          <a:blip r:embed="rId1"/>
          <a:stretch/>
        </p:blipFill>
        <p:spPr>
          <a:xfrm>
            <a:off x="8153280" y="59580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39" name="Lamps_and_Bulbs_v" descr=""/>
          <p:cNvPicPr/>
          <p:nvPr/>
        </p:nvPicPr>
        <p:blipFill>
          <a:blip r:embed="rId2"/>
          <a:stretch/>
        </p:blipFill>
        <p:spPr>
          <a:xfrm>
            <a:off x="8153280" y="510552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0" name="Lamps_and_Bulbs_v" descr=""/>
          <p:cNvPicPr/>
          <p:nvPr/>
        </p:nvPicPr>
        <p:blipFill>
          <a:blip r:embed="rId3"/>
          <a:stretch/>
        </p:blipFill>
        <p:spPr>
          <a:xfrm>
            <a:off x="8153280" y="43434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1" name="Lamps_and_Bulbs_v" descr=""/>
          <p:cNvPicPr/>
          <p:nvPr/>
        </p:nvPicPr>
        <p:blipFill>
          <a:blip r:embed="rId4"/>
          <a:stretch/>
        </p:blipFill>
        <p:spPr>
          <a:xfrm>
            <a:off x="8153280" y="3581280"/>
            <a:ext cx="666720" cy="900360"/>
          </a:xfrm>
          <a:prstGeom prst="rect">
            <a:avLst/>
          </a:prstGeom>
          <a:ln w="0">
            <a:noFill/>
          </a:ln>
        </p:spPr>
      </p:pic>
      <p:pic>
        <p:nvPicPr>
          <p:cNvPr id="242" name="Lamps_and_Bulbs_v" descr=""/>
          <p:cNvPicPr/>
          <p:nvPr/>
        </p:nvPicPr>
        <p:blipFill>
          <a:blip r:embed="rId5"/>
          <a:stretch/>
        </p:blipFill>
        <p:spPr>
          <a:xfrm>
            <a:off x="8153280" y="281952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3" name="Lamps_and_Bulbs_v" descr=""/>
          <p:cNvPicPr/>
          <p:nvPr/>
        </p:nvPicPr>
        <p:blipFill>
          <a:blip r:embed="rId6"/>
          <a:stretch/>
        </p:blipFill>
        <p:spPr>
          <a:xfrm>
            <a:off x="8153280" y="20574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4" name="Lamps_and_Bulbs_v" descr=""/>
          <p:cNvPicPr/>
          <p:nvPr/>
        </p:nvPicPr>
        <p:blipFill>
          <a:blip r:embed="rId7"/>
          <a:stretch/>
        </p:blipFill>
        <p:spPr>
          <a:xfrm>
            <a:off x="8153280" y="1295280"/>
            <a:ext cx="666720" cy="900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48120" y="1371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شعور أو الاحساس  ب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209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حديد المشكلة وصياغتها في صورة اجرائية قابلة للحل اما في صيغة سؤال او في صورة تقرير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971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ع البيانات والمعلومات ذات الصلة بالمشكل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ضع احسن الفرضيات او التفسيرات لحل 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4495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بار الفرضية او الفرضيات المؤقتة باية وسيلة 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91440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وصول الى حل 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60199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ستخدام الفرضية كاساس للتعميم في مواقف اخرى مشابه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Lamps_and_Bulbs_v" descr=""/>
          <p:cNvPicPr/>
          <p:nvPr/>
        </p:nvPicPr>
        <p:blipFill>
          <a:blip r:embed="rId8"/>
          <a:stretch/>
        </p:blipFill>
        <p:spPr>
          <a:xfrm>
            <a:off x="228600" y="0"/>
            <a:ext cx="9716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asasia_bcg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4648320"/>
            <a:ext cx="74674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khbar MT"/>
              </a:rPr>
              <a:t>الكيمياء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8672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8672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579" descr=""/>
          <p:cNvPicPr/>
          <p:nvPr/>
        </p:nvPicPr>
        <p:blipFill>
          <a:blip r:embed="rId2"/>
          <a:stretch/>
        </p:blipFill>
        <p:spPr>
          <a:xfrm>
            <a:off x="4952880" y="5943600"/>
            <a:ext cx="365400" cy="353880"/>
          </a:xfrm>
          <a:prstGeom prst="rect">
            <a:avLst/>
          </a:prstGeom>
          <a:ln w="0">
            <a:noFill/>
          </a:ln>
        </p:spPr>
      </p:pic>
      <p:pic>
        <p:nvPicPr>
          <p:cNvPr id="54" name="0579" descr=""/>
          <p:cNvPicPr/>
          <p:nvPr/>
        </p:nvPicPr>
        <p:blipFill>
          <a:blip r:embed="rId3"/>
          <a:stretch/>
        </p:blipFill>
        <p:spPr>
          <a:xfrm>
            <a:off x="5334120" y="5943600"/>
            <a:ext cx="365040" cy="353880"/>
          </a:xfrm>
          <a:prstGeom prst="rect">
            <a:avLst/>
          </a:prstGeom>
          <a:ln w="0">
            <a:noFill/>
          </a:ln>
        </p:spPr>
      </p:pic>
      <p:pic>
        <p:nvPicPr>
          <p:cNvPr id="55" name="0579" descr=""/>
          <p:cNvPicPr/>
          <p:nvPr/>
        </p:nvPicPr>
        <p:blipFill>
          <a:blip r:embed="rId4"/>
          <a:stretch/>
        </p:blipFill>
        <p:spPr>
          <a:xfrm>
            <a:off x="2666880" y="5943600"/>
            <a:ext cx="365400" cy="353880"/>
          </a:xfrm>
          <a:prstGeom prst="rect">
            <a:avLst/>
          </a:prstGeom>
          <a:ln w="0">
            <a:noFill/>
          </a:ln>
        </p:spPr>
      </p:pic>
      <p:pic>
        <p:nvPicPr>
          <p:cNvPr id="56" name="0579" descr=""/>
          <p:cNvPicPr/>
          <p:nvPr/>
        </p:nvPicPr>
        <p:blipFill>
          <a:blip r:embed="rId5"/>
          <a:stretch/>
        </p:blipFill>
        <p:spPr>
          <a:xfrm>
            <a:off x="3048120" y="5943600"/>
            <a:ext cx="365040" cy="353880"/>
          </a:xfrm>
          <a:prstGeom prst="rect">
            <a:avLst/>
          </a:prstGeom>
          <a:ln w="0">
            <a:noFill/>
          </a:ln>
        </p:spPr>
      </p:pic>
      <p:pic>
        <p:nvPicPr>
          <p:cNvPr id="57" name="book4.thw" descr=""/>
          <p:cNvPicPr/>
          <p:nvPr/>
        </p:nvPicPr>
        <p:blipFill>
          <a:blip r:embed="rId6"/>
          <a:stretch/>
        </p:blipFill>
        <p:spPr>
          <a:xfrm>
            <a:off x="4724280" y="3049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58" name="Spill" descr=""/>
          <p:cNvPicPr/>
          <p:nvPr/>
        </p:nvPicPr>
        <p:blipFill>
          <a:blip r:embed="rId7"/>
          <a:stretch/>
        </p:blipFill>
        <p:spPr>
          <a:xfrm>
            <a:off x="1752480" y="2590920"/>
            <a:ext cx="2210040" cy="21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4920" y="228600"/>
            <a:ext cx="49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كتاب الثاني الثانوي الأدب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pic>
        <p:nvPicPr>
          <p:cNvPr id="60" name="beakers" descr=""/>
          <p:cNvPicPr/>
          <p:nvPr/>
        </p:nvPicPr>
        <p:blipFill>
          <a:blip r:embed="rId8"/>
          <a:stretch/>
        </p:blipFill>
        <p:spPr>
          <a:xfrm>
            <a:off x="228600" y="198108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mad" descr=""/>
          <p:cNvPicPr/>
          <p:nvPr/>
        </p:nvPicPr>
        <p:blipFill>
          <a:blip r:embed="rId9"/>
          <a:stretch/>
        </p:blipFill>
        <p:spPr>
          <a:xfrm>
            <a:off x="3733920" y="22860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162920" y="609480"/>
            <a:ext cx="1714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486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مهارات عملية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وحسابي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410080" y="609480"/>
            <a:ext cx="1676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88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التفاعلات الكيميائية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315200" y="1981080"/>
            <a:ext cx="990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9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حالات الماد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34120" y="1905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08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كيمياء العناصر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781680" y="0"/>
            <a:ext cx="0" cy="6858000"/>
          </a:xfrm>
          <a:prstGeom prst="line">
            <a:avLst/>
          </a:prstGeom>
          <a:ln cap="sq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2286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بالتجريب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55" name="slidbar" descr=""/>
          <p:cNvPicPr/>
          <p:nvPr/>
        </p:nvPicPr>
        <p:blipFill>
          <a:blip r:embed="rId1"/>
          <a:stretch/>
        </p:blipFill>
        <p:spPr>
          <a:xfrm>
            <a:off x="0" y="1219320"/>
            <a:ext cx="5181480" cy="152280"/>
          </a:xfrm>
          <a:prstGeom prst="rect">
            <a:avLst/>
          </a:prstGeom>
          <a:ln w="0">
            <a:noFill/>
          </a:ln>
        </p:spPr>
      </p:pic>
      <p:pic>
        <p:nvPicPr>
          <p:cNvPr id="256" name="Chem-mess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038480" cy="5867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28600" y="1600200"/>
            <a:ext cx="434340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80"/>
                </a:solidFill>
                <a:latin typeface="Times New Roman"/>
                <a:cs typeface="Akhbar MT"/>
              </a:rPr>
              <a:t>هو الطريقة التي يتم من خلالها توظيف المختبر وادواته حيث يتم تفاعل نشط بين الافكار والتجارب والاداء المهاري بطريقة عملية تعاونية او فردي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سلوك الطالب في التعلم بالتجريب</a:t>
            </a:r>
            <a:endParaRPr b="0" lang="en-US" sz="1800" spc="1" strike="noStrike">
              <a:ln cap="sq"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وردة%20متحركة%20" descr=""/>
          <p:cNvPicPr/>
          <p:nvPr/>
        </p:nvPicPr>
        <p:blipFill>
          <a:blip r:embed="rId1"/>
          <a:stretch/>
        </p:blipFill>
        <p:spPr>
          <a:xfrm>
            <a:off x="8001000" y="5486400"/>
            <a:ext cx="693720" cy="706320"/>
          </a:xfrm>
          <a:prstGeom prst="rect">
            <a:avLst/>
          </a:prstGeom>
          <a:ln w="0">
            <a:noFill/>
          </a:ln>
        </p:spPr>
      </p:pic>
      <p:pic>
        <p:nvPicPr>
          <p:cNvPr id="262" name="وردة%20متحركة%20" descr=""/>
          <p:cNvPicPr/>
          <p:nvPr/>
        </p:nvPicPr>
        <p:blipFill>
          <a:blip r:embed="rId2"/>
          <a:stretch/>
        </p:blipFill>
        <p:spPr>
          <a:xfrm>
            <a:off x="8001000" y="3962520"/>
            <a:ext cx="693720" cy="706320"/>
          </a:xfrm>
          <a:prstGeom prst="rect">
            <a:avLst/>
          </a:prstGeom>
          <a:ln w="0">
            <a:noFill/>
          </a:ln>
        </p:spPr>
      </p:pic>
      <p:pic>
        <p:nvPicPr>
          <p:cNvPr id="263" name="وردة%20متحركة%20" descr=""/>
          <p:cNvPicPr/>
          <p:nvPr/>
        </p:nvPicPr>
        <p:blipFill>
          <a:blip r:embed="rId3"/>
          <a:stretch/>
        </p:blipFill>
        <p:spPr>
          <a:xfrm>
            <a:off x="8001000" y="2666880"/>
            <a:ext cx="693720" cy="706680"/>
          </a:xfrm>
          <a:prstGeom prst="rect">
            <a:avLst/>
          </a:prstGeom>
          <a:ln w="0">
            <a:noFill/>
          </a:ln>
        </p:spPr>
      </p:pic>
      <p:pic>
        <p:nvPicPr>
          <p:cNvPr id="264" name="وردة%20متحركة%20" descr=""/>
          <p:cNvPicPr/>
          <p:nvPr/>
        </p:nvPicPr>
        <p:blipFill>
          <a:blip r:embed="rId4"/>
          <a:stretch/>
        </p:blipFill>
        <p:spPr>
          <a:xfrm>
            <a:off x="8001000" y="1447920"/>
            <a:ext cx="693720" cy="706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523880"/>
            <a:ext cx="800100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خطيط وتصميم خطوات التجربة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743200"/>
            <a:ext cx="800100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داء ويتضمن قيام الطالب بالتجربة والتعامل مع المواد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962520"/>
            <a:ext cx="8001000" cy="17398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حليل والتفسير ويتمثلان في معالجة المعلومات وفحصها وتفسير العلاقات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548496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طبيق ويتضمن تنبؤات باوضاع جديدة و وضع الفرضيات في ضوء نتائج التجربة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وردة%20متحركة%20" descr=""/>
          <p:cNvPicPr/>
          <p:nvPr/>
        </p:nvPicPr>
        <p:blipFill>
          <a:blip r:embed="rId5"/>
          <a:stretch/>
        </p:blipFill>
        <p:spPr>
          <a:xfrm>
            <a:off x="304920" y="304920"/>
            <a:ext cx="6937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مهارات التعلم بالتجريب </a:t>
            </a:r>
            <a:endParaRPr b="0" lang="en-US" sz="1800" spc="1" strike="noStrike">
              <a:ln cap="sq"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قلم%20" descr=""/>
          <p:cNvPicPr/>
          <p:nvPr/>
        </p:nvPicPr>
        <p:blipFill>
          <a:blip r:embed="rId1"/>
          <a:stretch/>
        </p:blipFill>
        <p:spPr>
          <a:xfrm>
            <a:off x="8210520" y="592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4" name="قلم%20" descr=""/>
          <p:cNvPicPr/>
          <p:nvPr/>
        </p:nvPicPr>
        <p:blipFill>
          <a:blip r:embed="rId2"/>
          <a:stretch/>
        </p:blipFill>
        <p:spPr>
          <a:xfrm>
            <a:off x="8210520" y="457200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5" name="قلم%20" descr=""/>
          <p:cNvPicPr/>
          <p:nvPr/>
        </p:nvPicPr>
        <p:blipFill>
          <a:blip r:embed="rId3"/>
          <a:stretch/>
        </p:blipFill>
        <p:spPr>
          <a:xfrm>
            <a:off x="8210520" y="342900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6" name="قلم%20" descr=""/>
          <p:cNvPicPr/>
          <p:nvPr/>
        </p:nvPicPr>
        <p:blipFill>
          <a:blip r:embed="rId4"/>
          <a:stretch/>
        </p:blipFill>
        <p:spPr>
          <a:xfrm>
            <a:off x="8210520" y="23623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7" name="قلم%20" descr=""/>
          <p:cNvPicPr/>
          <p:nvPr/>
        </p:nvPicPr>
        <p:blipFill>
          <a:blip r:embed="rId5"/>
          <a:stretch/>
        </p:blipFill>
        <p:spPr>
          <a:xfrm>
            <a:off x="8210520" y="137160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04920" y="1447920"/>
            <a:ext cx="8076960" cy="18003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مكتسبة وتتضمن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سماع والملاحظة والبحث والمصادر والاستفسار والتحقق من المعلومات وجمع المعلومات والبحث العلم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666880"/>
            <a:ext cx="838188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تنظيمية وتشمل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سجيل  والمقارنة والمغايرة والتصنيف والتنظيم والترتيب والاختصار والتقييم والتحليل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3886200"/>
            <a:ext cx="7772400" cy="9471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بداعية تشمل مهارات 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خطيط والتصميم والاختراع والتركيب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724280"/>
            <a:ext cx="807696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تحكم وتشمل مهارات 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ستخدام الاجهزة والاعتناء بها وصيانتها وتجميعها ومعايرتها وتجريبها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943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اتصال وتشمل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طرح الاسئلة واختيارها والمناقشة والتفسير والكتابة والتقارير والنقد وترجمة المعلومات بيانيا والتدريس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قلم%20" descr=""/>
          <p:cNvPicPr/>
          <p:nvPr/>
        </p:nvPicPr>
        <p:blipFill>
          <a:blip r:embed="rId6"/>
          <a:stretch/>
        </p:blipFill>
        <p:spPr>
          <a:xfrm>
            <a:off x="0" y="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486400" y="304920"/>
            <a:ext cx="32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مشروع العلمي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85" name="slidbar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4191120" cy="133200"/>
          </a:xfrm>
          <a:prstGeom prst="rect">
            <a:avLst/>
          </a:prstGeom>
          <a:ln w="0">
            <a:noFill/>
          </a:ln>
        </p:spPr>
      </p:pic>
      <p:pic>
        <p:nvPicPr>
          <p:cNvPr id="286" name="مشروع1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3733920" cy="6172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733920" y="1676520"/>
            <a:ext cx="51814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هو محاولة لدراسة مشكلة علمية او للاجابة على سؤال مقترح او لتطوير منتج وهو مجموعة من الاعمال المترابطة التي يتم تنفيذها بطريقة منظمة وله نقطة بداية ونقطة نهاية محددتا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114800" y="304920"/>
            <a:ext cx="4581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أهداف المشروع العلمي 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كتاب%20يكتب" descr=""/>
          <p:cNvPicPr/>
          <p:nvPr/>
        </p:nvPicPr>
        <p:blipFill>
          <a:blip r:embed="rId1"/>
          <a:stretch/>
        </p:blipFill>
        <p:spPr>
          <a:xfrm>
            <a:off x="7696080" y="548640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كتاب%20يكتب" descr=""/>
          <p:cNvPicPr/>
          <p:nvPr/>
        </p:nvPicPr>
        <p:blipFill>
          <a:blip r:embed="rId2"/>
          <a:stretch/>
        </p:blipFill>
        <p:spPr>
          <a:xfrm>
            <a:off x="7696080" y="419112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3" name="كتاب%20يكتب" descr=""/>
          <p:cNvPicPr/>
          <p:nvPr/>
        </p:nvPicPr>
        <p:blipFill>
          <a:blip r:embed="rId3"/>
          <a:stretch/>
        </p:blipFill>
        <p:spPr>
          <a:xfrm>
            <a:off x="7696080" y="289548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4" name="كتاب%20يكتب" descr=""/>
          <p:cNvPicPr/>
          <p:nvPr/>
        </p:nvPicPr>
        <p:blipFill>
          <a:blip r:embed="rId4"/>
          <a:stretch/>
        </p:blipFill>
        <p:spPr>
          <a:xfrm>
            <a:off x="7696080" y="1600200"/>
            <a:ext cx="1200240" cy="914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1905120"/>
            <a:ext cx="6934320" cy="5814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ة قدرة المتعلم ومهاراته 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3124080"/>
            <a:ext cx="6858000" cy="1068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شجيع تفريد التعليم ومراعاة الفروق الفردية بين المتعلمين 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419720"/>
            <a:ext cx="7620120" cy="1068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عداد المتعلم وتهيئته للحياة وتشجيعه على العمل والانتاج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486400"/>
            <a:ext cx="7010640" cy="1556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ة الثقة بالنفس لدى المتعلم وتشجيعه على الابداع والابتكار وتحمل المسؤولية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كتاب%20يكتب" descr=""/>
          <p:cNvPicPr/>
          <p:nvPr/>
        </p:nvPicPr>
        <p:blipFill>
          <a:blip r:embed="rId5"/>
          <a:stretch/>
        </p:blipFill>
        <p:spPr>
          <a:xfrm>
            <a:off x="0" y="0"/>
            <a:ext cx="1200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0" y="304920"/>
            <a:ext cx="412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عناصر المشروع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-360" y="990720"/>
            <a:ext cx="42670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400800" y="1523880"/>
            <a:ext cx="22575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غرض</a:t>
            </a:r>
            <a:endParaRPr b="0" lang="en-US" sz="1800" spc="1" strike="noStrike">
              <a:ln cap="sq"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505320" y="1523880"/>
            <a:ext cx="26859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urpo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5" name="P" descr=""/>
          <p:cNvPicPr/>
          <p:nvPr/>
        </p:nvPicPr>
        <p:blipFill>
          <a:blip r:embed="rId4"/>
          <a:stretch/>
        </p:blipFill>
        <p:spPr>
          <a:xfrm>
            <a:off x="2971800" y="1676520"/>
            <a:ext cx="757080" cy="819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791320" y="2590920"/>
            <a:ext cx="28479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توقعات 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81280" y="2590920"/>
            <a:ext cx="2638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30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pecta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8" name="E" descr=""/>
          <p:cNvPicPr/>
          <p:nvPr/>
        </p:nvPicPr>
        <p:blipFill>
          <a:blip r:embed="rId8"/>
          <a:stretch/>
        </p:blipFill>
        <p:spPr>
          <a:xfrm>
            <a:off x="2971800" y="2666880"/>
            <a:ext cx="655560" cy="914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6095880" y="5791320"/>
            <a:ext cx="25527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استنتاج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324480" y="4724280"/>
            <a:ext cx="236232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تجريب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943600" y="3733920"/>
            <a:ext cx="270504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بحث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33920" y="3657600"/>
            <a:ext cx="253368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28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search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3" name="R" descr=""/>
          <p:cNvPicPr/>
          <p:nvPr/>
        </p:nvPicPr>
        <p:blipFill>
          <a:blip r:embed="rId11"/>
          <a:stretch/>
        </p:blipFill>
        <p:spPr>
          <a:xfrm>
            <a:off x="3048120" y="3809880"/>
            <a:ext cx="685800" cy="723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3505320" y="4724280"/>
            <a:ext cx="275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020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periment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5" name="E" descr=""/>
          <p:cNvPicPr/>
          <p:nvPr/>
        </p:nvPicPr>
        <p:blipFill>
          <a:blip r:embed="rId14"/>
          <a:stretch/>
        </p:blipFill>
        <p:spPr>
          <a:xfrm>
            <a:off x="2819520" y="4724280"/>
            <a:ext cx="655560" cy="9144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3505320" y="5791320"/>
            <a:ext cx="2809800" cy="7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onclus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7" name="C" descr=""/>
          <p:cNvPicPr/>
          <p:nvPr/>
        </p:nvPicPr>
        <p:blipFill>
          <a:blip r:embed="rId17"/>
          <a:stretch/>
        </p:blipFill>
        <p:spPr>
          <a:xfrm>
            <a:off x="2743200" y="5943600"/>
            <a:ext cx="731880" cy="647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04920" y="1752480"/>
            <a:ext cx="251460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هدف من المشرو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304920" y="2819520"/>
            <a:ext cx="3276720" cy="1556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عتقاد المبني على  المعرفة لحل المشك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962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ع وتنظيم المعلوم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380880" y="4876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بار حقيقي للتوقع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380880" y="5791320"/>
            <a:ext cx="3276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 الحل للمشكلة أو الاجابة على السؤا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360" y="1143000"/>
            <a:ext cx="38098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114800" y="304920"/>
            <a:ext cx="4581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كيف نبدأ المشروع العلمي  ؟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326" name="كتابين%20صفر" descr=""/>
          <p:cNvPicPr/>
          <p:nvPr/>
        </p:nvPicPr>
        <p:blipFill>
          <a:blip r:embed="rId1"/>
          <a:stretch/>
        </p:blipFill>
        <p:spPr>
          <a:xfrm>
            <a:off x="7772400" y="5410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327" name="كتابين%20صفر" descr=""/>
          <p:cNvPicPr/>
          <p:nvPr/>
        </p:nvPicPr>
        <p:blipFill>
          <a:blip r:embed="rId2"/>
          <a:stretch/>
        </p:blipFill>
        <p:spPr>
          <a:xfrm>
            <a:off x="7772400" y="35812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328" name="كتابين%20صفر" descr=""/>
          <p:cNvPicPr/>
          <p:nvPr/>
        </p:nvPicPr>
        <p:blipFill>
          <a:blip r:embed="rId3"/>
          <a:stretch/>
        </p:blipFill>
        <p:spPr>
          <a:xfrm>
            <a:off x="7772400" y="175248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514600" y="2057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يار موضوع المشرو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3886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ظيم عملية البحث ( الخطة 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راعاة المعوقات والقيود البحثية والتجريب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كتابين%20صفر" descr=""/>
          <p:cNvPicPr/>
          <p:nvPr/>
        </p:nvPicPr>
        <p:blipFill>
          <a:blip r:embed="rId4"/>
          <a:stretch/>
        </p:blipFill>
        <p:spPr>
          <a:xfrm>
            <a:off x="228600" y="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514600" y="26668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 الخطوة الأكثر صعوبة والأكثر أه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5486400" y="304920"/>
            <a:ext cx="32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الذاتي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335" name="slidbar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4191120" cy="133200"/>
          </a:xfrm>
          <a:prstGeom prst="rect">
            <a:avLst/>
          </a:prstGeom>
          <a:ln w="0">
            <a:noFill/>
          </a:ln>
        </p:spPr>
      </p:pic>
      <p:pic>
        <p:nvPicPr>
          <p:cNvPr id="336" name="تعلم%20ذتي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4076640" cy="3429000"/>
          </a:xfrm>
          <a:prstGeom prst="rect">
            <a:avLst/>
          </a:prstGeom>
          <a:ln w="0">
            <a:noFill/>
          </a:ln>
        </p:spPr>
      </p:pic>
      <p:pic>
        <p:nvPicPr>
          <p:cNvPr id="337" name="تعلم%20ذاتي1" descr=""/>
          <p:cNvPicPr/>
          <p:nvPr/>
        </p:nvPicPr>
        <p:blipFill>
          <a:blip r:embed="rId3"/>
          <a:stretch/>
        </p:blipFill>
        <p:spPr>
          <a:xfrm>
            <a:off x="1143000" y="304920"/>
            <a:ext cx="2209680" cy="3429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191120" y="152388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ي الطريقة التي تسمح لكل طالب ان يتعلم ويتقدم حسب قدراته الذاتية ومهاراته الأدائية تحت اشراف المعلم وتوجيهه وارشاده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 flipH="1">
            <a:off x="-360" y="1143000"/>
            <a:ext cx="3809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505320" y="457200"/>
            <a:ext cx="51102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Variants"/>
              </a:rPr>
              <a:t>استراتيجية تدريسها </a:t>
            </a:r>
            <a:endParaRPr b="0" lang="en-US" sz="18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Variants"/>
              <a:ea typeface="DecoType Naskh Variants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1523880"/>
            <a:ext cx="685800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يتم تقسيم الموضوعات التعليمية الى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جزاء صغيرة وترتيبها منطقيا وتسلسليا حسب المفاهيم العلمية في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وراق عمل تعليمية تدريبية تقويمية اثرائي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حسب المخرجات أو الأهداف التعليمية المراد تحقيقها في صورة اسئلة متنوعة المستويات تثير وتتحدى قدرات ومهارات الطلاب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candle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52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_2003-05-08_1217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380880" y="533520"/>
            <a:ext cx="830592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يقول توماس أديسون :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" </a:t>
            </a: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لست أشعر ببرود الهمة لأن كل محاولة خاطئة</a:t>
            </a: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أتخلى عنها هي خطوة أخرى تقودني نحو الأمام "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1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590560" cy="2438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33520" y="990720"/>
            <a:ext cx="83818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 </a:t>
            </a: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"</a:t>
            </a:r>
            <a:r>
              <a:rPr b="0" lang="hi-IN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نحن لم نهزم في الحرب  و لكن هزمنا في المعمل</a:t>
            </a: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" </a:t>
            </a:r>
            <a:endParaRPr b="0" lang="en-US" sz="18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PT Bold Heading"/>
              <a:ea typeface="PT Bold Heading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يقصد الجانب العملي التطبيقي  </a:t>
            </a:r>
            <a:endParaRPr b="0" lang="en-US" sz="18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PT Bold Heading"/>
              <a:ea typeface="PT Bold Heading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6200" y="228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hbar MT"/>
              </a:rPr>
              <a:t>قال امبراطور اليابان هيروهيتو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952880" y="3200400"/>
            <a:ext cx="3924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hbar MT"/>
              </a:rPr>
              <a:t>استراتيجية التدريس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3962520"/>
            <a:ext cx="8686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هي عملية تواصل نشط بين المعلم والمتعلم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بهدف احداث تعلم نشط  وزيادة نمو المتعلم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 </a:t>
            </a: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في جوانبه المختلفة</a:t>
            </a:r>
            <a:r>
              <a:rPr b="1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38280" y="45720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لمبادئ الستة لتعليم العلوم عالمي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37160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يع الطلاب يمكن أن يستقصوا أو يبحثوا ويتعلموا المـــــــفاهيم العلمية ويستطيعوا ان ينجحوا بخبراته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0565" descr=""/>
          <p:cNvPicPr/>
          <p:nvPr/>
        </p:nvPicPr>
        <p:blipFill>
          <a:blip r:embed="rId2"/>
          <a:stretch/>
        </p:blipFill>
        <p:spPr>
          <a:xfrm>
            <a:off x="8077320" y="1523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5" name="0565" descr=""/>
          <p:cNvPicPr/>
          <p:nvPr/>
        </p:nvPicPr>
        <p:blipFill>
          <a:blip r:embed="rId3"/>
          <a:stretch/>
        </p:blipFill>
        <p:spPr>
          <a:xfrm>
            <a:off x="8077320" y="35053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0565" descr=""/>
          <p:cNvPicPr/>
          <p:nvPr/>
        </p:nvPicPr>
        <p:blipFill>
          <a:blip r:embed="rId4"/>
          <a:stretch/>
        </p:blipFill>
        <p:spPr>
          <a:xfrm>
            <a:off x="8001000" y="51814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3880" y="335268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لى الطلاب أن يطوروا المـــــعرفة والمقدرة </a:t>
            </a: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على استخدا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أدوات وعمليات الاستقصاء العلم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510552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ند إشراك الطلاب في دراسة العلوم يكون لديهم القدرة على بناء النجاح في أجزاء مختلفة من المنهج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43000" y="289548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كفايات الــــطلاب في المفاهيم والعلميات للعلوم يجب أن تقيم من خلال أدوات متنوعة ومختلفة وحقيق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حتوى العلمي يجب أن يقدم بشكل ممتع ومفهوم وفي أشكال ونماذج منظمة و واضح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0565" descr=""/>
          <p:cNvPicPr/>
          <p:nvPr/>
        </p:nvPicPr>
        <p:blipFill>
          <a:blip r:embed="rId2"/>
          <a:stretch/>
        </p:blipFill>
        <p:spPr>
          <a:xfrm>
            <a:off x="8077320" y="30481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0565" descr=""/>
          <p:cNvPicPr/>
          <p:nvPr/>
        </p:nvPicPr>
        <p:blipFill>
          <a:blip r:embed="rId3"/>
          <a:stretch/>
        </p:blipFill>
        <p:spPr>
          <a:xfrm>
            <a:off x="8077320" y="9144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84" name="0565" descr=""/>
          <p:cNvPicPr/>
          <p:nvPr/>
        </p:nvPicPr>
        <p:blipFill>
          <a:blip r:embed="rId4"/>
          <a:stretch/>
        </p:blipFill>
        <p:spPr>
          <a:xfrm>
            <a:off x="8077320" y="48769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457200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خبرات الطلاب العلمية في العلوم تنجح عندما يطورون المعرفة والفهم لعلوم الحياة والأرض العلوم الفيزيائية ويدرسون تاريخ وطبيعة العلم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57200"/>
            <a:ext cx="843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عايير معلم الكيمياء الناجح حسب منظمة 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SC ,200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)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رقم%20اثنان%20" descr=""/>
          <p:cNvPicPr/>
          <p:nvPr/>
        </p:nvPicPr>
        <p:blipFill>
          <a:blip r:embed="rId2"/>
          <a:stretch/>
        </p:blipFill>
        <p:spPr>
          <a:xfrm>
            <a:off x="8305920" y="27432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رقم%20ستة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رقم%20خمسة%20" descr=""/>
          <p:cNvPicPr/>
          <p:nvPr/>
        </p:nvPicPr>
        <p:blipFill>
          <a:blip r:embed="rId4"/>
          <a:stretch/>
        </p:blipFill>
        <p:spPr>
          <a:xfrm>
            <a:off x="8305920" y="533412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رقم%20اربعة%20" descr=""/>
          <p:cNvPicPr/>
          <p:nvPr/>
        </p:nvPicPr>
        <p:blipFill>
          <a:blip r:embed="rId5"/>
          <a:stretch/>
        </p:blipFill>
        <p:spPr>
          <a:xfrm>
            <a:off x="8305920" y="449568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رقم%20ثلاثة%20" descr=""/>
          <p:cNvPicPr/>
          <p:nvPr/>
        </p:nvPicPr>
        <p:blipFill>
          <a:blip r:embed="rId6"/>
          <a:stretch/>
        </p:blipFill>
        <p:spPr>
          <a:xfrm>
            <a:off x="8305920" y="36576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رقم%20واحد" descr=""/>
          <p:cNvPicPr/>
          <p:nvPr/>
        </p:nvPicPr>
        <p:blipFill>
          <a:blip r:embed="rId7"/>
          <a:stretch/>
        </p:blipFill>
        <p:spPr>
          <a:xfrm>
            <a:off x="8229600" y="175248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42040" y="182880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كفاءة في القيادة والفعال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355200" y="2819520"/>
            <a:ext cx="1510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مكن من المادة وفهم مفاهيمها والقدرة على البحث والاستقصاء في مجالاتها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072880" y="3733920"/>
            <a:ext cx="131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ركيز على طرق التدريس التي تعزز الاستقصاء والفهم والتطبيق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9600" y="4572000"/>
            <a:ext cx="75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قدرة على استخدام الاسئلة السابر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8280" y="5334120"/>
            <a:ext cx="93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ستخدام الفعال لأساليب المراقبة والمتابع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6172200"/>
            <a:ext cx="411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ستخدام الامثل للتجارب المعمل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7200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228600" y="3808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كدت لجنة المنهاج البريطاني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Curriculum Counci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9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ن ملامح وسمات الاستراتيجيات الذكية  تبنى على الاسس التالية :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mile" descr=""/>
          <p:cNvPicPr/>
          <p:nvPr/>
        </p:nvPicPr>
        <p:blipFill>
          <a:blip r:embed="rId2"/>
          <a:stretch/>
        </p:blipFill>
        <p:spPr>
          <a:xfrm>
            <a:off x="8305920" y="14479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3" name="smile" descr=""/>
          <p:cNvPicPr/>
          <p:nvPr/>
        </p:nvPicPr>
        <p:blipFill>
          <a:blip r:embed="rId3"/>
          <a:stretch/>
        </p:blipFill>
        <p:spPr>
          <a:xfrm>
            <a:off x="8305920" y="21337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4" name="smile" descr=""/>
          <p:cNvPicPr/>
          <p:nvPr/>
        </p:nvPicPr>
        <p:blipFill>
          <a:blip r:embed="rId4"/>
          <a:stretch/>
        </p:blipFill>
        <p:spPr>
          <a:xfrm>
            <a:off x="8305920" y="53341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5" name="smile" descr=""/>
          <p:cNvPicPr/>
          <p:nvPr/>
        </p:nvPicPr>
        <p:blipFill>
          <a:blip r:embed="rId5"/>
          <a:stretch/>
        </p:blipFill>
        <p:spPr>
          <a:xfrm>
            <a:off x="8305920" y="60958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smile" descr=""/>
          <p:cNvPicPr/>
          <p:nvPr/>
        </p:nvPicPr>
        <p:blipFill>
          <a:blip r:embed="rId6"/>
          <a:stretch/>
        </p:blipFill>
        <p:spPr>
          <a:xfrm>
            <a:off x="8305920" y="457200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smile" descr=""/>
          <p:cNvPicPr/>
          <p:nvPr/>
        </p:nvPicPr>
        <p:blipFill>
          <a:blip r:embed="rId7"/>
          <a:stretch/>
        </p:blipFill>
        <p:spPr>
          <a:xfrm>
            <a:off x="8305920" y="38098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8" name="smile" descr=""/>
          <p:cNvPicPr/>
          <p:nvPr/>
        </p:nvPicPr>
        <p:blipFill>
          <a:blip r:embed="rId8"/>
          <a:stretch/>
        </p:blipFill>
        <p:spPr>
          <a:xfrm>
            <a:off x="8305920" y="3048120"/>
            <a:ext cx="549000" cy="54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33920" y="14479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ثارة حب الاستطلاع عند الطلاب.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عطاء الطلاب الفرصة لبناء اتجاهات ايجابية نحو الانشطة العلمية والتكنولوجيا بما في ذلك التعلم الذات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124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تاحة الفرصة للطلاب لتكوين الافكار العلمية الاساسية وتطويرها نحو الاحسن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Akhbar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28600" y="3809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ربط بين رغبات الطلاب وخبراتهم اليومية في ضوء مستوياتهم العقل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5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راعاة الفروق الفردية الناتجة عن اختلاف الجنس او الخلفية الثقافية .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410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ساعدة الطلاب على فهم العالم المحيط به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095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نح الطلاب الفرصة للعمل الجماعي والتفاهم معهم باستخدام ادوات التفكي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72000" cy="6324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2657160" y="380880"/>
            <a:ext cx="1458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فاختيار طريقة التدريس ترجع إلى عدة معايير يجب أن تؤخذ بعين الاعتبا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ثناء تدريس مادة الكيمياء وهذه المعايير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رقم%201" descr=""/>
          <p:cNvPicPr/>
          <p:nvPr/>
        </p:nvPicPr>
        <p:blipFill>
          <a:blip r:embed="rId2"/>
          <a:stretch/>
        </p:blipFill>
        <p:spPr>
          <a:xfrm>
            <a:off x="8229600" y="16765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19" name="رقم6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20" name="رقم2" descr=""/>
          <p:cNvPicPr/>
          <p:nvPr/>
        </p:nvPicPr>
        <p:blipFill>
          <a:blip r:embed="rId4"/>
          <a:stretch/>
        </p:blipFill>
        <p:spPr>
          <a:xfrm>
            <a:off x="8229600" y="251460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رقم3" descr=""/>
          <p:cNvPicPr/>
          <p:nvPr/>
        </p:nvPicPr>
        <p:blipFill>
          <a:blip r:embed="rId5"/>
          <a:stretch/>
        </p:blipFill>
        <p:spPr>
          <a:xfrm>
            <a:off x="8229600" y="335268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رقم4" descr=""/>
          <p:cNvPicPr/>
          <p:nvPr/>
        </p:nvPicPr>
        <p:blipFill>
          <a:blip r:embed="rId6"/>
          <a:stretch/>
        </p:blipFill>
        <p:spPr>
          <a:xfrm>
            <a:off x="8229600" y="41911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23" name="رقم5" descr=""/>
          <p:cNvPicPr/>
          <p:nvPr/>
        </p:nvPicPr>
        <p:blipFill>
          <a:blip r:embed="rId7"/>
          <a:stretch/>
        </p:blipFill>
        <p:spPr>
          <a:xfrm>
            <a:off x="822960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128400" y="1676520"/>
            <a:ext cx="63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وعية المحتوى العلمي للكيمياء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240" y="2514600"/>
            <a:ext cx="9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خرجات التعليمية المراد تحقيقها من التدريس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2640" y="335268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بيعة البيئ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1200" y="4191120"/>
            <a:ext cx="84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سفة المعلم  وخبراته للعملي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71520" y="5105520"/>
            <a:ext cx="54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رحلة التعليمية للطالب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74840" y="5943600"/>
            <a:ext cx="51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ستوى الطلبة ونوعيته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228600"/>
            <a:ext cx="2971800" cy="4267080"/>
          </a:xfrm>
          <a:custGeom>
            <a:avLst/>
            <a:gdLst>
              <a:gd name="textAreaLeft" fmla="*/ 120600 w 2971800"/>
              <a:gd name="textAreaRight" fmla="*/ 2851200 w 2971800"/>
              <a:gd name="textAreaTop" fmla="*/ 120600 h 4267080"/>
              <a:gd name="textAreaBottom" fmla="*/ 4146480 h 4267080"/>
            </a:gdLst>
            <a:ahLst/>
            <a:rect l="textAreaLeft" t="textAreaTop" r="textAreaRight" b="textAreaBottom"/>
            <a:pathLst>
              <a:path w="21600" h="31013">
                <a:moveTo>
                  <a:pt x="0" y="0"/>
                </a:moveTo>
                <a:lnTo>
                  <a:pt x="0" y="31013"/>
                </a:lnTo>
                <a:lnTo>
                  <a:pt x="21600" y="31013"/>
                </a:lnTo>
                <a:lnTo>
                  <a:pt x="21600" y="0"/>
                </a:lnTo>
                <a:close/>
                <a:moveTo>
                  <a:pt x="878" y="878"/>
                </a:moveTo>
                <a:lnTo>
                  <a:pt x="878" y="30135"/>
                </a:lnTo>
                <a:lnTo>
                  <a:pt x="20722" y="30135"/>
                </a:lnTo>
                <a:lnTo>
                  <a:pt x="20722" y="87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chl063.thw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استفهام%20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94464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581280" y="228600"/>
            <a:ext cx="5334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طريقة الاستقصاء " الاكتشاف"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134" name="slidbar" descr=""/>
          <p:cNvPicPr/>
          <p:nvPr/>
        </p:nvPicPr>
        <p:blipFill>
          <a:blip r:embed="rId3"/>
          <a:stretch/>
        </p:blipFill>
        <p:spPr>
          <a:xfrm flipH="1" rot="10800000">
            <a:off x="3276720" y="1368000"/>
            <a:ext cx="5867280" cy="155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1828800"/>
            <a:ext cx="5410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Times New Roman"/>
                <a:cs typeface="Akhbar MT"/>
              </a:rPr>
              <a:t>هو الوصول الى معلومات جديدة عن طــريق التجربة والخبرات السابقة وذلك بــشكل مستقل جزئيا أو كليا عن المعلم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181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Times New Roman"/>
                <a:cs typeface="Akhbar MT"/>
              </a:rPr>
              <a:t>ادراك المتــــعلم للتنظيم القائم بين عناصر الموقف المراد اكتشافه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دائرة%20زرقاء" descr=""/>
          <p:cNvPicPr/>
          <p:nvPr/>
        </p:nvPicPr>
        <p:blipFill>
          <a:blip r:embed="rId4"/>
          <a:stretch/>
        </p:blipFill>
        <p:spPr>
          <a:xfrm>
            <a:off x="8526600" y="2057400"/>
            <a:ext cx="617400" cy="436680"/>
          </a:xfrm>
          <a:prstGeom prst="rect">
            <a:avLst/>
          </a:prstGeom>
          <a:ln w="0">
            <a:noFill/>
          </a:ln>
        </p:spPr>
      </p:pic>
      <p:pic>
        <p:nvPicPr>
          <p:cNvPr id="138" name="دائرة%20زرقاء" descr=""/>
          <p:cNvPicPr/>
          <p:nvPr/>
        </p:nvPicPr>
        <p:blipFill>
          <a:blip r:embed="rId5"/>
          <a:stretch/>
        </p:blipFill>
        <p:spPr>
          <a:xfrm>
            <a:off x="8526600" y="5334120"/>
            <a:ext cx="6174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9T08:48:44Z</dcterms:created>
  <dc:creator>My Pc</dc:creator>
  <dc:description/>
  <dc:language>en-US</dc:language>
  <cp:lastModifiedBy>c1</cp:lastModifiedBy>
  <dcterms:modified xsi:type="dcterms:W3CDTF">2003-04-20T06:13:44Z</dcterms:modified>
  <cp:revision>222</cp:revision>
  <dc:subject/>
  <dc:title>عرض تقديمي من PowerPoint</dc:title>
</cp:coreProperties>
</file>