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C5C-69E7-4881-B25E-FDAB0E4D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921-3B72-435B-BB3B-4A6D28A8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39B-0ACD-4AA4-AE14-8820EC0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7E6-5E15-4BC6-9D58-4172A2E2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CF76-0F8C-4626-A8F4-0186845F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82A6-EC93-4976-97D1-E9F7CCC6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8D0D-00E5-41E1-B4E0-B8B2415B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112-DA03-48EC-BD0B-1C7233D6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062-3A1D-4673-AF1F-36259ED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CD0D-59CA-4040-9B09-3C104DA3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865-215A-49DB-99DF-B4FE7A3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DAD-BC71-4B88-ADD4-C648A23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4B4C-FB73-4A88-85A2-D08E956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C80-F241-4669-A8FA-6F52409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C510-A7E0-4421-8F70-26A2E16B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699D-1346-489A-82A0-77C6141D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8477-9745-40D1-869C-F860E7A7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647-A956-4748-BF99-F0CC54C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54C-1AD6-4163-9BE7-D60AB69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1C8-84AF-4553-8D69-E060B9E7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366-F041-470A-ACFE-C28A811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582-D42A-49E9-A3A1-1FB6621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AB1-824A-447D-B659-B5849AA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0C9-1752-44A4-80C8-95D4B5E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F1D7BF-D469-48C0-9625-71904E6B8883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9660F2-7C84-4BDC-A007-AB06331AD597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500"/>
                            </p:stCondLst>
                            <p:childTnLst>
                              <p:par>
                                <p:cTn id="4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500"/>
                            </p:stCondLst>
                            <p:childTnLst>
                              <p:par>
                                <p:cTn id="5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500"/>
                            </p:stCondLst>
                            <p:childTnLst>
                              <p:par>
                                <p:cTn id="6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8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8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4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5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1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500"/>
                            </p:stCondLst>
                            <p:childTnLst>
                              <p:par>
                                <p:cTn id="8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500"/>
                            </p:stCondLst>
                            <p:childTnLst>
                              <p:par>
                                <p:cTn id="8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0"/>
                            </p:stCondLst>
                            <p:childTnLst>
                              <p:par>
                                <p:cTn id="8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6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3500"/>
                            </p:stCondLst>
                            <p:childTnLst>
                              <p:par>
                                <p:cTn id="9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500"/>
                            </p:stCondLst>
                            <p:childTnLst>
                              <p:par>
                                <p:cTn id="9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0"/>
                            </p:stCondLst>
                            <p:childTnLst>
                              <p:par>
                                <p:cTn id="9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500"/>
                            </p:stCondLst>
                            <p:childTnLst>
                              <p:par>
                                <p:cTn id="9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6500"/>
                            </p:stCondLst>
                            <p:childTnLst>
                              <p:par>
                                <p:cTn id="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2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5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2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9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7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4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6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1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