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1.gif" ContentType="image/gif"/>
  <Override PartName="/ppt/media/image9.gif" ContentType="image/gif"/>
  <Override PartName="/ppt/media/image13.gif" ContentType="image/gif"/>
  <Override PartName="/ppt/media/image16.jpeg" ContentType="image/jpeg"/>
  <Override PartName="/ppt/media/image8.gif" ContentType="image/gif"/>
  <Override PartName="/ppt/media/image18.jpeg" ContentType="image/jpeg"/>
  <Override PartName="/ppt/media/image19.jpeg" ContentType="image/jpeg"/>
  <Override PartName="/ppt/media/image1.gif" ContentType="image/gif"/>
  <Override PartName="/ppt/media/image17.jpeg" ContentType="image/jpeg"/>
  <Override PartName="/ppt/media/image15.jpeg" ContentType="image/jpeg"/>
  <Override PartName="/ppt/media/image2.jpeg" ContentType="image/jpeg"/>
  <Override PartName="/ppt/media/image3.gif" ContentType="image/gif"/>
  <Override PartName="/ppt/media/image4.gif" ContentType="image/gif"/>
  <Override PartName="/ppt/media/image10.png" ContentType="image/png"/>
  <Override PartName="/ppt/media/image6.jpeg" ContentType="image/jpeg"/>
  <Override PartName="/ppt/media/image20.jpeg" ContentType="image/jpeg"/>
  <Override PartName="/ppt/media/image7.wmf" ContentType="image/x-wmf"/>
  <Override PartName="/ppt/media/image5.gif" ContentType="image/gif"/>
  <Override PartName="/ppt/media/image1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BE69-9732-4B71-B936-AD75E4DB9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8BF4-A033-4356-9514-CB9EB9776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7CD1-9D8B-4FBA-B2E6-31514081C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3984-B7A1-4B9A-AA6D-742296B0A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A9BE-884E-4F90-A87B-96B26B3F6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AF5E-11F2-4A59-89E3-B00A4E8D9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E82D-99F6-4AD4-BE7E-8A7314F7A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30DE-9FF8-4D89-B6BB-5D26C4776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BBD9-CD80-43F3-A2D0-457F53580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2F96-E3D6-48AA-8631-41D9363BD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7011-BFEE-438D-8D0C-DF0FD8B92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1C2C-8D9C-4D73-87F9-C628A23B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123FC-F363-4AA6-A78D-DB148A3E063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4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" Target="slide5.xml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de1506"/>
                </a:solidFill>
                <a:latin typeface="Arial"/>
              </a:rPr>
              <a:t>خصائص الطلبة الذين يعانون من صعوبات تعلم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908000" y="2276640"/>
            <a:ext cx="5329440" cy="14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cc"/>
                </a:solidFill>
                <a:latin typeface="Arial Black"/>
              </a:rPr>
              <a:t>إعداد معلم ذوي صعوبات التعلم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cc"/>
              </a:solidFill>
              <a:latin typeface="Arial Black"/>
              <a:ea typeface="Arial Black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042920" y="4221000"/>
            <a:ext cx="684216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إبراهيم بن عبدالله السعيد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33cc"/>
                </a:solidFill>
                <a:latin typeface="Arial"/>
              </a:rPr>
              <a:t>صعوبة في الإدراك الحسي والحرك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716000" y="1844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صعوبات في الإدراك البصر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صعوبات في الإدراك السمع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صعوبات في الإدراك الحركي والتآزر العا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55640" y="2276640"/>
            <a:ext cx="24480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6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3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0" dur="1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de1506"/>
                </a:solidFill>
                <a:latin typeface="Arial"/>
              </a:rPr>
              <a:t>صعوبات في الإدراك البصر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بعض الطلبة الذين يعانون من مشكلات في الإدراك البصري يصعب عليهم ترجمة ما يرون ، وقد لا يميزون العلاقة بين الأشياء ، وعلاقتها بأنفسهم ، بطريقة ثابتة ، وقابلة للتنبؤ ، فالطالب هنا لا يستطيع تقدير المسافة والزمن اللازم لقطع الشار بطريقة آمنة ، قبل أن تصدمه سيارة ، ويرى الأشياء بصورة مزدوجة و مشوشة ، وقد يعاني من مشكلات في الحكم في حجم الأشياء   مثل                                     </a:t>
            </a:r>
            <a:r>
              <a:rPr b="1" lang="en-US" sz="3200" spc="-1" strike="noStrike">
                <a:solidFill>
                  <a:srgbClr val="de1506"/>
                </a:solidFill>
                <a:latin typeface="Arial"/>
              </a:rPr>
              <a:t>(حجم الكرة التي يقذفها الرامي نحوه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866880" cy="8668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596360" y="476280"/>
            <a:ext cx="86652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0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r" rtl="1">
              <a:spcBef>
                <a:spcPts val="799"/>
              </a:spcBef>
              <a:buClr>
                <a:srgbClr val="de15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de1506"/>
                </a:solidFill>
                <a:latin typeface="Arial"/>
              </a:rPr>
              <a:t>ويعاني هؤلاء الطلبة أيضاً من ضعف الذاكرة البصرية ، فهم قد لا يستطيعون أن يتذكورا الكلمات التي سبق أن شاهدوها ، وعندما ينسخون شيئا فهم يكررون النظر إلى النموذج الذي يقومون بنسخها ، إضاف إلى ذلك يعانون كثير من الطلبة من مشكلات في تمييز الشكل عن الأرضية ، او في أن يرتبوا الصور التي تحكي قصة معينة ترتيباً متسلسلاً ، أو في عقد مقارنة بصرية ، أوفي إيجاد الشيء المختلف الذي لا ينتمي إلى المجموعة ، كما أنهم يستجيبون للتعليمات اللفظية ، بصورة أفضل من التعليمات البصرية</a:t>
            </a:r>
            <a:r>
              <a:rPr b="1" lang="en-US" sz="3200" spc="-1" strike="noStrike">
                <a:solidFill>
                  <a:srgbClr val="de150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7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92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de1506"/>
                </a:solidFill>
                <a:latin typeface="Arial"/>
              </a:rPr>
              <a:t>صعوبات في الإدراك السمع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في هذا المجال يعاني الطلبة من مشكلات في فهم ما يسمعونه وفي استيعابه وبالتالي فإن استجابتهم قد تتأخر وقد تحدث بطريقة لا تتناسب مع موضوع الحديث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52760" cy="73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250560" y="980640"/>
            <a:ext cx="84358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وقد يخلط الطالب بين بعض الكلمات التي لها نفس الأصوات  مثل : جبل ـ جمل ـ أو: لحم لحن ، إضافة إلى ذلك ، فإنه قد لا يربط بين الأصوات البيئية ومصادرها ، وقد يعاني من صعوبات في تعرف الأضداد (عكس الكلمة)، وقد يعاني من مشكلات في تعرف المشكلات المتشابهة ، وقد يشتكي كثير من تداخل الأصوات ، حيث يقوم بتغطية أذنية باستمرار ، ومن السهل تشتيت انتباهه بالأصوات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فضلا عن ذلك ، فهو قد لا يستطيع أن يعرف الكلمة إذا سمع جزءاً منها ، ويجد صعوبات في فهم ما يقال له همساً أو بسرعة ، ويعاني من مشكلات في التذكر السمعي ، وإعادة سلسلة من الكلمات أو الأصوات في تتابعها ، كما قد يجد صعوبات في تعلم أيام الأسبوع و الفصول والشهور والعناوين و أرقام الهواتف وتهجئة الأسماء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de1506"/>
                </a:solidFill>
                <a:latin typeface="Arial"/>
              </a:rPr>
              <a:t>صعوبات في الإدراك الحركي والتآزر العام</a:t>
            </a:r>
            <a:r>
              <a:rPr b="0" lang="en-US" sz="4000" spc="-1" strike="noStrike">
                <a:solidFill>
                  <a:srgbClr val="de1506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1979640" cy="55897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700000" y="1599840"/>
            <a:ext cx="598644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فهو يرتطم بالأشياء ويريق الحليب ، ويتعثر بالسجادة ، وقد يبدو مختل التوزان ، ويعاني من صعوبات في المشي ، أو ركوب الدراجة ، أو لعب الكرة .وقد يجد صعوبة في استخدام أقلام التلوين ، أو المقص ، أو في (تزرير)ثيابه ، من ناحية ، أخرى قد يخلط هذا الطالب بين اتجاه اليمين واتجاه اليسار ويعاني من عدم الثبات في استخدام يد معينة ، أو قدم معينة ، وقد يعاني من الخلافية : (تفضيل استخدام اليد اليمنى مع القدم اليسرى أو العكس) وقد يعاني من ارتعاش بسيط في اليدين ، أوالأصابع أو الأقدام ، فضلا عن ذلك ، فقد يضطرب الإدراك عند بعض الطلبة ، بخصوص الاتجاهات الستة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فوق ـ تحت ـ يمين ـ يسار أمام ـ خلف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28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3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47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de1506"/>
                </a:solidFill>
                <a:latin typeface="Arial"/>
              </a:rPr>
              <a:t>اضطرابات اللغة والكلام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يعاني كثير من ذوي الصعوبات التعليمية من واحدة أو اكثر من مشكلات الكلام واللغة ، فقد يقع هؤلاء الطلبة في أخطاء تركيبية ونحوية ، حيث قد تقتصر إجاباتهم على الأسئلة بكلمة واحدة لعدم قدرتهم على الإجابة بجملة كاملة .وقد يقومون بحذف بعض الكلمات من الجملة ، أو إضافة كلمات غير مطلوبة ، وقد لا يكون تسلسل الجملة دقيقاً ، وقد يجدون صعوبة في بناء جملة مفيدة ، على قواعد لغوية سليم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من ناحية أخرى ، فإنهم قد يكثرون من الإطالة و الالتفاف حول الفكرة ، عند الحديث ، أو رواية القصة ، وقد يعانون من التعلثم ، او البطء الشديد في الكلام الشفهي ، او القصور في وصف الأشياء ، او الصورة ، أو الخبرات ، وبالتالي عدم القدرة على الاشتراك في محادثات ، حول موضوعات مألوفة ، واستخدام الإشارات بصورة متكررة للإشارات على الإجابة الصحيحة فضلاً عن ذلك ، فقد يعاني هؤلاء الطلبة من عدم الكلام ، (حذف أو إضافة بعض الأصوات) وتكرار الأصوات بصورة مشوهة أو محرف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4016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50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55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de1506"/>
                </a:solidFill>
                <a:latin typeface="Arial"/>
              </a:rPr>
              <a:t>صعوبات في عمليات التفكير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04920" cy="21225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لاحظ الباحثون أن الطلبة الذين يعانون من صعوبات في التعلم ، تظهر لديهم دلالات ، تشير إلى وجود صعوبات ، في عمليات التفكير لديهم ، فهؤلاء الطلبة قد يحتاجون إلى وقت طويل ، لتنظيم أفكارهم قبل  أن يقوموا بالاستجابة ، وقد يكون لديهم القدرة على التفكير الحسي ، في حين قد يعانون من ضعف في التفكير المجرد ، وقد يعاني هؤلاء الطلبة من الاعتماد الزائد على المدرس ، وعدم القدر على التركيز ، والصلابة ،وعدم المرونة ، وعدم إعطاء الاهتمام الكافي للتفاصيل ، أولمعاني الكلمات ، والقصور في تنظيم أوقات العمل ، وعدم اتباع التعليمات ، وعدم تذكرها . كما أنهم قد يعانون من صعوبات في تطبيق ما يتعلمونه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4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de1506"/>
                </a:solidFill>
                <a:latin typeface="Arial"/>
              </a:rPr>
              <a:t>خصائص سلوكي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كثير من الطلبة المصابين بصعوبات في التعلم يعانون من نشاط حركي زائد ، فالطالب ــ هنا يبقى متململاً مشحوناً بالحركة ، ويحوم كثيراً . وبالتالي فإن من الصعب السيطرة عليه . هذا الطالب لا يستطيع مقاومة الإثارات الغريبة عن الموقف ، فإذا سمع صوتاً خارج الصف كأن يكون صوت سيارة ، او صوت طائرة ، يهرع إلى النافذ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8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والمشكلة هنا أن هذا الطالب يجد صعوبة في التركيز على ما هو مهم من المثيرات ، كما أنه يحد صعوبة في المحافظة على تركيز انتباهه لفترة كافية من الوقت ، وهذا يحد من قدرته على التعلم ، و على العكس من هذا الطالب ، نجد طلاباً آخرين يعانون من الخمول، وقلة النشاط . وهؤلاء الطلبة يبدون طيبين ، ومسايرين . ونادراً ما ينفلت منهم زمام غضبهم ، وهؤلاء تجدهم بليدين ، فاتري الشعور ، ولايتسمون بالفضول ، او اللهفة ، او الاستقلالية : كما أنهم يتسمون بنشاط منخفض ـ بشكل عام ـ فالدافعية عندهم منخفضة ، ومدة انتباهم قصيرة ، لأن من العسير شد انتباههم . وهذا النوع من صعوبات التعلم : (الخمول في النشاط)هو شكل أقل شيوعاً من حالت النشاط الحركي الزائ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23640" y="404640"/>
            <a:ext cx="835164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de1506"/>
                </a:solidFill>
                <a:latin typeface="Arial"/>
              </a:rPr>
              <a:t>يمكن تصنيف الخصائص الرئيسية للطلبة الذين يعانون من صعوبات في التعلم ، ضمن خمس مجموعات من الخصائ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3200" spc="-1" strike="noStrike">
                <a:solidFill>
                  <a:srgbClr val="de1506"/>
                </a:solidFill>
                <a:latin typeface="Arial"/>
              </a:rPr>
              <a:t>وذلك كما يلي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01صعوبات في التحصيل الدراس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02</a:t>
            </a:r>
            <a:r>
              <a:rPr b="0" lang="hi-IN" sz="3200" spc="-1" strike="noStrike">
                <a:solidFill>
                  <a:srgbClr val="0033cc"/>
                </a:solidFill>
                <a:latin typeface="Arial"/>
              </a:rPr>
              <a:t>صعوبة في الإدراك الحسي والحرك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03</a:t>
            </a:r>
            <a:r>
              <a:rPr b="0" lang="hi-IN" sz="3200" spc="-1" strike="noStrike">
                <a:solidFill>
                  <a:srgbClr val="0033cc"/>
                </a:solidFill>
                <a:latin typeface="Arial"/>
              </a:rPr>
              <a:t>اضطرابات اللغة والكلا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04</a:t>
            </a:r>
            <a:r>
              <a:rPr b="0" lang="hi-IN" sz="3200" spc="-1" strike="noStrike">
                <a:solidFill>
                  <a:srgbClr val="0033cc"/>
                </a:solidFill>
                <a:latin typeface="Arial"/>
              </a:rPr>
              <a:t>صعوبات في عمليات التفكي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05</a:t>
            </a:r>
            <a:r>
              <a:rPr b="0" lang="hi-IN" sz="3200" spc="-1" strike="noStrike">
                <a:solidFill>
                  <a:srgbClr val="0033cc"/>
                </a:solidFill>
                <a:latin typeface="Arial"/>
              </a:rPr>
              <a:t>خصائص سلوكي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1700280"/>
            <a:ext cx="142884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7.03704E-006 L 0.29132 0.02107 E">
                                      <p:cBhvr>
                                        <p:cTn id="35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9132 0.02107 L 0.25191 0.16806 E">
                                      <p:cBhvr>
                                        <p:cTn id="46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191 0.16806 L 0.41407 0.21042 E">
                                      <p:cBhvr>
                                        <p:cTn id="57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1407 0.21042 L 0.31945 0.30486 E">
                                      <p:cBhvr>
                                        <p:cTn id="68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1945 0.30486 L 0.50052 0.36783 E">
                                      <p:cBhvr>
                                        <p:cTn id="79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0052 0.36783 C 0.50261 0.41852 0.49184 0.4331 0.52205 0.425 C 0.54271 0.44722 0.56111 0.46042 0.56962 0.49491 C 0.575 0.55093 0.56528 0.49144 0.58629 0.53935 C 0.58872 0.54491 0.58629 0.55278 0.58872 0.55834 C 0.59219 0.56597 0.59827 0.57084 0.60295 0.57732 C 0.60452 0.58357 0.60538 0.59051 0.60764 0.59653 C 0.60868 0.59931 0.61163 0.59977 0.6125 0.60278 C 0.61858 0.62385 0.60972 0.64491 0.62674 0.65996 C 0.64427 0.65787 0.6625 0.66135 0.67917 0.65371 C 0.68872 0.64931 0.68959 0.62199 0.69097 0.61204 C 0.69514 0.58195 0.69549 0.58658 0.69827 0.56158 C 0.70104 0.53681 0.70122 0.51574 0.71493 0.49792 C 0.72674 0.46621 0.72587 0.43959 0.74097 0.40926 C 0.73976 0.35602 0.73941 0.31343 0.73386 0.26297 C 0.73472 0.20718 0.73629 0.15093 0.73629 0.09491 C 0.73629 0.000229999999999994 0.75018 0.02222 0.72917 -0.00671 C 0.72518 -0.02199 0.72622 -0.02384 0.71007 -0.03518 C 0.70434 -0.03935 0.69097 -0.0419 0.69097 -0.0419 C 0.68976 -0.04467 0.68229 -0.06296 0.67917 -0.06389 C 0.67674 -0.06458 0.67014 -0.05833 0.67205 -0.06065 C 0.67465 -0.06389 0.67847 -0.06481 0.6816 -0.0669 C 0.68004 -0.07106 0.67986 -0.07708 0.67674 -0.07963 C 0.67153 -0.08403 0.65052 -0.08796 0.6434 -0.08935 C 0.63212 -0.10463 0.60695 -0.09953 0.59097 -0.10185 C 0.58472 -0.10833 0.57917 -0.11666 0.57205 -0.12106 C 0.56771 -0.12407 0.56233 -0.12245 0.55764 -0.12407 C 0.52292 -0.13565 0.56684 -0.12685 0.52431 -0.13379 C 0.48143 -0.17708 0.52552 -0.13865 0.49097 -0.15578 C 0.48629 -0.1581 0.48334 -0.16481 0.47917 -0.16852 C 0.48004 -0.175 0.47969 -0.18171 0.4816 -0.18773 C 0.48299 -0.19213 0.48663 -0.19375 0.48872 -0.19722 C 0.49045 -0.20023 0.49132 -0.20393 0.4934 -0.20671 C 0.49965 -0.21504 0.52084 -0.2294 0.52917 -0.23217 C 0.53229 -0.23634 0.53455 -0.24236 0.53872 -0.24467 C 0.54775 -0.25 0.56719 -0.2544 0.56719 -0.2544 C 0.61163 -0.25162 0.65243 -0.24514 0.69584 -0.23518 C 0.74896 -0.23634 0.80226 -0.23541 0.85538 -0.23842 C 0.85816 -0.23865 0.8599 -0.24305 0.8625 -0.24467 C 0.86476 -0.24629 0.86719 -0.24699 0.86962 -0.24791 C 0.9033 -0.29444 0.9665 -0.25347 1.01493 -0.25115 C 1.02118 -0.24907 1.02778 -0.24791 1.03386 -0.24467 C 1.03594 -0.24352 1.03646 -0.23889 1.03872 -0.23842 C 1.054 -0.23472 1.07275 -0.23518 1.08872 -0.23518 E">
                                      <p:cBhvr>
                                        <p:cTn id="90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المراج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حمد بن عبدالله آل سرحان القحطاني،نشرة تربوية عن بعض خصائص الطلاب الذي يعانونمن صعوبات التعلم الاكاديمية والنمائ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de1506"/>
                </a:solidFill>
                <a:latin typeface="Arial"/>
              </a:rPr>
              <a:t>صعوبات في التحصيل الدراسي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419280" y="1413000"/>
            <a:ext cx="5119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الصعوبات الخاصة بالقراء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الصعوبات الخاصة بالكتابة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Arial"/>
              </a:rPr>
              <a:t>الصعوبة الخاصة بالحسا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4140360" y="242100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4140360" y="141300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4211640" y="3357720"/>
            <a:ext cx="56196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ada1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الصعوبات الخاصة بالقراء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حذف بعض الكلمات أو أجزاء من الكلمة المقروءة ، فمثلاً عبارة            ( سافرت بالطائرة ) قد يقرأها الطالب ( سافر بالطائرة )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إضافة بعض الكلمات غير الموجودة في النص الأصلي إلى الجملة ، أو بعض المقاطع أو الأحرف إلى الكلمة المقروءة فمثلاً كلمة ( سافرت بالطائرة ) قد يقرأها ( سافرت بالطائرة إلى أمريكا )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إبدال بعض الكلمات بأخرى قد تحمل بعضاً من معناها ، فمثلاً قد يقرأ كلمة ( العالية ) بدلاً من ( المرتفعة ) أو ( الطلاب ) بدلاً من             ( التلاميذ ) أو أن يقرأ ( حسام ولد شجاع ) وهكذا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19280" cy="1628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 rot="5400000">
            <a:off x="2166480" y="5051160"/>
            <a:ext cx="54288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9152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إعادة بعض الكلمات أكثر من مرة بدون أي مبرر فمثلاً قد يقرأ ( غسلت الأم الثياب ) فيقو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( غسلت الأم … غسلت الأم الثياب )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قلب الأحرف وتبديلها ، وهي من أهم الأخطاء الشائعة في صعوبات القراءة ، حيث يقرأ الطالب الكلمات أو المقاطع معكوسة ، وكأنه يراها في المرآة : فقد يقرأ كلمة ( برد ) فيقول ( درب ) ويقرأ كلمة ( رز ) فيقول ( زر ) وأحياناً يخطىء في ترتيب أحرف الكلمة ، فقد يقرا كلمة ( الفت ) فيقول ( فتل ) وهكذا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ضعف في التمييز بين الأحرف المتشابهة رسماً ، والمختلفة لفظاً مثل:( ع و غ ) أو ( ج و ح و خ) أو ( ب و ت و ث و ن ) أو ( س وش ) وهكذا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rot="5400000">
            <a:off x="3246840" y="5174280"/>
            <a:ext cx="5605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ضعف في التمييز بين الأحرف المتشابهة لفظاً والمختلفة رسماً مثل : ( ك و ق ) أو ( ت و د و ظ ض ) أو ( س و ز ) وهكذا ، وهذا الضعف في تميز الأحرف ينعكس بطبيعة الحال على قراءته للكلمات أو الجمل التي تتضمن مثل هذه الأحرف ،                           فهو قد يقرأ    ( توت ) فيقول ( دود ) مثلاً وهكذا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ضعف في التمييز بين أحرف العلة فقد يقرأ كلمة                                                       ( فول ) فيقول   ( فيل )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صعوبة في تتبع مكان الوصول في القراءة وازدياد حيرته ، وارتباكه عند الانتقال من نهاية السطر إلى بداية السطر الذي يليه أثناء القراءة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قراءة الجملة بطريقة سريعة وغير واضحة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قراءة الجملة بطريقة بطيئة كلمة كلمة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1992240" y="2205000"/>
          <a:ext cx="563760" cy="93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92240" y="2205000"/>
                    <a:ext cx="56376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e1506"/>
                </a:solidFill>
                <a:latin typeface="Arial"/>
              </a:rPr>
              <a:t>الصعوبات الخاصة بالكتابة</a:t>
            </a:r>
            <a:r>
              <a:rPr b="0" lang="en-US" sz="4400" spc="-1" strike="noStrike">
                <a:solidFill>
                  <a:srgbClr val="de150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33cc"/>
                </a:solidFill>
                <a:latin typeface="Arial"/>
              </a:rPr>
              <a:t>يعكس الحروف والأعداد بحيث تكون كما تبدو له في المرآة فالحرف ( خ ) مثلاً قد يكتبه    والرقم ( 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 ) يكتبه بشكل معكوس وأحياناً قد يقوم بكتابة المقاطع والكلمات والجمل بأكملها بصورة معكوسة من اليسار إلى اليمين فتكون كما تكون في مرآ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 rot="20698800">
            <a:off x="539280" y="259920"/>
            <a:ext cx="677880" cy="16527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 rot="20698800">
            <a:off x="8028000" y="333000"/>
            <a:ext cx="665280" cy="1655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 rot="5400000">
            <a:off x="3172320" y="4828320"/>
            <a:ext cx="62100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7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6560" y="549000"/>
            <a:ext cx="78598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* ترتيب أحرف الكلمات والمقاطع بصورة غير صحيحة ، عند الكتابة ، فكلمة ( ربيع ) قد يكتبها ( ريبع ) وأحياناً قد يعكس ترتيب الأحرف فكلمة ( دار ) قد يكتبها ( راد ) وهكذا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* يخلط في الكتابة بين الأحرف المتشابهة فقد يرى كلمة ( باب ) ولكنه يكتبها ( ناب ) وهكذا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* يحذف بعض الحروف من الكلمة أو كلمة من الجملة أثناء الكتابة الإملائية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* يضيف حرف إلى الكلمة غير ضرورية أو إضافة كلمة إلى الجملة غير ضرورية أثناء الكتابة الإملائي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 rot="18940200">
            <a:off x="2503080" y="5070240"/>
            <a:ext cx="16034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0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الصعوبة الخاصة بالحساب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01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تمييز الحجو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02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تمييز الأشكا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03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علاقة بين واحد _واح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04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عد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05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ربط السمعي البصر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06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القيم النقد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07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زما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08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قيا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09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اللغة الكم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010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مسألة الرياض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30477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2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6" dur="1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3" dur="1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0" dur="1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7" dur="1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4" dur="10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1" dur="10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8" dur="1000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5" dur="1000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5T21:08:39Z</dcterms:created>
  <dc:creator>ابراهيم جرار</dc:creator>
  <dc:description/>
  <dc:language>en-US</dc:language>
  <cp:lastModifiedBy>www.arabswell.com</cp:lastModifiedBy>
  <dcterms:modified xsi:type="dcterms:W3CDTF">2006-12-01T06:35:15Z</dcterms:modified>
  <cp:revision>11</cp:revision>
  <dc:subject/>
  <dc:title>الشريحة 1</dc:title>
</cp:coreProperties>
</file>