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913-923F-447F-BBAF-DEA2C8BB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53F-5EF0-4CA5-A6E5-78F8E845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020-30A3-443A-A132-FE892677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860-F5A4-490F-A893-15AD908F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8DB9-5BA0-4688-8804-2ED1329F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DD2C-EB15-43FC-B7C8-6029BD51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1FD9-9813-46F1-84D7-292777E5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7E81-7177-42DD-9D14-C1BFBA6C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BD5B-0E32-42C2-AE0D-6DBB692A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C57F-C721-4572-A8FC-6F652301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B83-EA2A-44DD-910A-F1ABCEC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7C3-EA14-4293-8D5C-0E1E2FF3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207-551C-466F-A2E1-C1B2AB98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7B63-5CD8-4C35-8301-FF54D65D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524B-5F1F-4FEE-B7C9-CC7869C5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87AA-BA12-41EA-ABB0-7D3F5533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BD95-3219-4922-A765-2FA10EB5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C5E-1C75-4108-AD88-12DE4C92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876-F373-41C7-9559-1CF88F69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5CA-6D6E-4B4A-9257-9669DA30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C23-C71E-4ECE-B497-4A178C3B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7C8-4084-464D-9021-28A5384C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2D5-7375-4A82-880A-3FF47F49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20C-ED03-4081-B196-A503BA28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6C2F-A5E8-4DC8-BFD1-837F9B7F5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B5CE-AD9A-41C1-8357-28AFFC393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5280" y="2514600"/>
            <a:ext cx="579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00"/>
                </a:solidFill>
                <a:latin typeface="Arial"/>
              </a:rPr>
              <a:t>صعوبات التعلم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60948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دريب الطفل على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رؤية الفرق بين الاشياء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تفاصيل المرئ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ملء الفراغ في الصو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سمات العا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سيق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كوين الصور الذ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990720"/>
            <a:ext cx="89154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تأثير الاستقبال على السلو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ي كثير من الاحيان الاطفال ذوي صعوبات التعلم يقعون في مشاكل و لكن لا يعلمون لماذا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عطي اسم للصورة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دم معرفة الاطفال لليمين و اليس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71600"/>
            <a:ext cx="8915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تجربة شئ جدي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طفل الذي يعاني من صعوبات التعلم لا يحب المفاجآ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يحب التعامل مع المتغيرات لأنها تعرضهم للفشل و تقلل من قيمتهم امام الا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295280"/>
            <a:ext cx="8458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ناء روتين يومي شبة ثابت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عزيز الطفل عند عمل شئ جيد حتى ولو كان بس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وضيح السلوك الخاطئ الذي قام به الطف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ع قوانين ثابتة للمنزل و شرحها للطفل مع توضيح العقاب اذا لم تتبع و الثواب اذا اتبعها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830556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أزار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 انسخي الرسم التالي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يجد صعوبة في تزرير قميصه او ربط حذائ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مسك و رمي الك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استعمال المطرقة و المسم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تتبع الاشكال او الكلمات الم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استخدام المق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عبير اللفظ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بناء قصة جماعي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ذكر اسماء الاشياء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نظيم الافكار للتعبير الكلام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التحدث بكلام موزون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جهز سلسلة من العبارات التي تحوي كلمات محذوف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اعرضي صورة امام الطفل و قومي بوصفها بجملة واحد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حح الاخطاء القواعدية واطلب من الطفل اعادت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838080"/>
            <a:ext cx="853452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فهم المقرو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ظم الكتب تقدم قائمة بالكلمات الصعبة في القطعة من ثم يفترضون ان من السهل على الطفل فهم القط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هم القطعة (الكلام) يعتمد على خلفية الطفل او معلوماته السابقة عن الموضوع اكثر من اعتماده على معرفة معنى الكلمات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ستمع للقطعتين و اجيبي عن الاسئل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762120"/>
            <a:ext cx="85341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هل تعرفين معنى الكلمات التال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كانت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با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واف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قيمة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رس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فتنا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بيان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قط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ع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علاق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و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ستمر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نحنى    يوض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متغيرات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يتأل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قائ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685800"/>
            <a:ext cx="784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هل تعرفين الكلمات التال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سنير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ربع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هربع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خف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يتربق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لوب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كابلس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را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سترزل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نق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9092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Arial"/>
              </a:rPr>
              <a:t>العدل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صة هن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ماذا تعني لكِ كلمة صعوبات التعل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286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نصائح عام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88390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لا تعطي الطفل العديد من الاعمال في وقت واح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أكد من ان العمل مناسب لمستوى قدرا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عطه وقتا كافيا لإنهاء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تتوقع الكمال في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وضح له طريقة القيام ب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ح ما تريد منه بالضبط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60480"/>
            <a:ext cx="8915400" cy="74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كرر العمل عدة مرات قبل ان تطلب منه القيام ب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عقدا بينك و بينه اذا اتم عمله في الوقت المحدد فسيحصل على مكافا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ما يجب على الطفل ان يقوم به من اعمال و ضعها في مكان بارز ليرا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لمثابرة و الاصرار على ما يطلب من الطفل و عدم التراج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ستخدام ساعة منبه لتساعد الطفل على معرفة الوقت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قلل من مشاهدة التلفا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كافئ طفلك في حال انتهائه من العمل المطلو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شجعي طفلك على الالعاب التي تحتاج الى تركي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علم طفلك تقسيم خطوات العمل الى اجزاء صغي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قرئي قصة لطفلك و ناقشيه في احداثها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دعة يقرا قصصا قصيرة ولا يقرا نهايت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تأكد من انه منتبه لمصدر المعلومات عند اعطائه التعليما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458200" cy="89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وده على ان يسال عن أي شئ لم يفهم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دعه يعد ما قد سمعه من اجل التأكد من صح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م اكثر من حاسة عندما تقدم التوجيه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خصص اماكن محددة لكل شئ في البي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اعادة الاشياء بعد استخدامها الى مكان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كيفية توزيع الوقت على الاعمال التي لديه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عطه فترة راحة اذا شعرت انه بحاجة اليها خلال ادائه للمه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0574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هل الطفل ذو صعوبات التعلم بليد/ كسول / عنيد / مدلل؟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27432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تعريف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243828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خصائص الاطفال ذوي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 rtl="1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معالجة المعلومات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4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سمع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تباع الارشاد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لم عن طريق المحاضر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بير عما يري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52388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60020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س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3645000">
            <a:off x="2678400" y="1141920"/>
            <a:ext cx="241560" cy="709560"/>
          </a:xfrm>
          <a:prstGeom prst="downArrow">
            <a:avLst>
              <a:gd name="adj1" fmla="val 50000"/>
              <a:gd name="adj2" fmla="val 7343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926400">
            <a:off x="5562720" y="1218960"/>
            <a:ext cx="220680" cy="793800"/>
          </a:xfrm>
          <a:prstGeom prst="downArrow">
            <a:avLst>
              <a:gd name="adj1" fmla="val 50000"/>
              <a:gd name="adj2" fmla="val 899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76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مؤشرات تدل على وجود المشكل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تجاهل المتكلم خلال الاندماج في عمل ما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حساسية غير عادية بسبب الضوضا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صعوبة تحديد اتجاه مصدر صوت المتكل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ميل نحو الخلط بين الكلمات ذات اللفظ المتشابه (بنت بيت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ارتباك او النسيان فيما يتعلق بالإرشادات المقدمة في جملة واحدة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صعوبة في ربط الكلمات مع مدلولاتها او استخداماتها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العلاج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جلب انتباه الطفل قبل اعطاء التعلي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حديث ببطء ووضو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تخدام ارشادات مختص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عطاء ارشادات على نحو منطقي و متسلس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ام الاشارات و الايماءات لتوضيح المعلو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ويع في تنغيم الكلام مثل رفع الصوت و انخفاض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9072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ماذا في الصور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ضعف في التنظي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تدقيق ما تم عمل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التعلم عن طريق العرض المسمو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23:09Z</dcterms:created>
  <dc:creator>User</dc:creator>
  <dc:description/>
  <dc:language>en-US</dc:language>
  <cp:lastModifiedBy>سعد</cp:lastModifiedBy>
  <dcterms:modified xsi:type="dcterms:W3CDTF">2006-03-08T08:32:29Z</dcterms:modified>
  <cp:revision>8</cp:revision>
  <dc:subject/>
  <dc:title>الشريحة 1</dc:title>
</cp:coreProperties>
</file>