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ABB6-26E5-4295-A6B3-AEDB956F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E6F0-2277-4C60-898C-91925265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4B0A-B75B-4BBC-ACF7-33B40A90B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4F5F-FE38-4658-97B8-A0C4DF992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E7E4-5017-4A96-A3FE-8CDE1FAB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0024-8991-44A2-9B40-373421A1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3D54-FC40-4158-BDA0-AACDAE20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4FB8-1372-4970-9DA6-77FEB8D3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0B78-A691-4EFD-8CD2-8CB89DE3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2C2B-BD86-4AAE-ADCD-62BA409F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790B-EE38-489C-92AE-28FAFC9C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693E-B268-4F7E-A0BD-797E1EDE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4AFD-8EA1-4172-9BF4-F5EED84A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8ABA-A90B-4193-850C-6EF39AD6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8234-DCDA-4718-A85D-C3DF26D5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2FFF-AE37-469D-8E6E-5290073A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6479-46CF-4AA0-8EAE-4AE998A43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981C-922C-421C-9BE3-A1360334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4B0E-13A1-4D5C-84C7-9483D6F1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5704-55FD-47FF-9C1B-B5A2AA05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D7F0-19FA-489D-A4EB-BD35704D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6FC3-45C9-4FAE-B509-D7C5E157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5EFD-64A6-426A-A168-328F17D4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F01C-6AB3-423F-B8ED-1040D0EA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A9DC-7E8F-4E26-BF8E-81C9255BFC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14A2-5C7C-4132-8588-20CC4DF4D8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95280" y="2514600"/>
            <a:ext cx="5791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ff00"/>
                </a:solidFill>
                <a:latin typeface="Arial"/>
              </a:rPr>
              <a:t>صعوبات التعلم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609480"/>
            <a:ext cx="8153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اقتراحات علاجي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تدريب الطفل على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رؤية الفرق بين الاشياء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تذكر التفاصيل المرئي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ملء الفراغ في الصو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تذكر السمات العام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التنسيق البصري الحرك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تكوين الصور الذهني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990720"/>
            <a:ext cx="8915400" cy="50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تأثير الاستقبال على السلو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في كثير من الاحيان الاطفال ذوي صعوبات التعلم يقعون في مشاكل و لكن لا يعلمون لماذا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نشاط ( اعطي اسم للصورة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عدم معرفة الاطفال لليمين و اليسار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371600"/>
            <a:ext cx="89154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. تجربة شئ جدي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طفل الذي يعاني من صعوبات التعلم لا يحب المفاجآت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لا يحب التعامل مع المتغيرات لأنها تعرضهم للفشل و تقلل من قيمتهم امام الاخري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1295280"/>
            <a:ext cx="84582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اقتراحات علاجي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بناء روتين يومي شبة ثابت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تعزيز الطفل عند عمل شئ جيد حتى ولو كان بس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توضيح السلوك الخاطئ الذي قام به الطف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وضع قوانين ثابتة للمنزل و شرحها للطفل مع توضيح العقاب اذا لم تتبع و الثواب اذا اتبعها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33520" y="304920"/>
            <a:ext cx="8305560" cy="80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. التأزار البصري الحرك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نشاط ( انسخي الرسم التالي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يجد صعوبة في تزرير قميصه او ربط حذائ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لا يستطيع مسك و رمي الكر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لا يستطيع استعمال المطرقة و المسمار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لا يستطيع تتبع الاشكال او الكلمات المنقط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لا يستطيع استخدام المق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45720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. التعبير اللفظ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نشاط (بناء قصة جماعية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صعوبة في تذكر اسماء الاشياء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صعوبة في تنظيم الافكار للتعبير الكلام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صعوبة في التحدث بكلام موزون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اقتراحات علاجي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جهز سلسلة من العبارات التي تحوي كلمات محذوف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اعرضي صورة امام الطفل و قومي بوصفها بجملة واحد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صحح الاخطاء القواعدية واطلب من الطفل اعادتها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0880" y="838080"/>
            <a:ext cx="8534520" cy="67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. فهم المقرو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معظم الكتب تقدم قائمة بالكلمات الصعبة في القطعة من ثم يفترضون ان من السهل على الطفل فهم القطع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فهم القطعة (الكلام) يعتمد على خلفية الطفل او معلوماته السابقة عن الموضوع اكثر من اعتماده على معرفة معنى الكلمات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نشاط ( استمع للقطعتين و اجيبي عن الاسئلة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920" y="762120"/>
            <a:ext cx="85341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هل تعرفين معنى الكلمات التالية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كانت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سباب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توافق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قيمة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رسم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معرفتنا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بياني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فقط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بعد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نقط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علاقة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معروف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مستمرة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منحنى    يوض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متغيرات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يتألف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قائم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38080" y="685800"/>
            <a:ext cx="7848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هل تعرفين الكلمات التالي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السنيري 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قربع 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هربع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الخف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يتربق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قلوبي 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كابلس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ترا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سترزل 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تنق 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259092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ffff00"/>
                </a:solidFill>
                <a:latin typeface="Arial"/>
              </a:rPr>
              <a:t>العدل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00"/>
                </a:solidFill>
                <a:latin typeface="Arial"/>
              </a:rPr>
              <a:t>قصة هند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ar-SA" sz="6000" spc="-1" strike="noStrike">
                <a:solidFill>
                  <a:srgbClr val="ffff00"/>
                </a:solidFill>
                <a:latin typeface="Arial"/>
              </a:rPr>
              <a:t>ماذا تعني لكِ كلمة صعوبات التعلم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76520" y="22860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00"/>
                </a:solidFill>
                <a:latin typeface="Arial"/>
              </a:rPr>
              <a:t>نصائح عامة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219320"/>
            <a:ext cx="883908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لا تعطي الطفل العديد من الاعمال في وقت واح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تأكد من ان العمل مناسب لمستوى قدرات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عطه وقتا كافيا لإنهاء العمل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لا تتوقع الكمال في العمل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وضح له طريقة القيام بالعمل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وضح ما تريد منه بالضبط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8600" y="60480"/>
            <a:ext cx="8915400" cy="74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. كرر العمل عدة مرات قبل ان تطلب منه القيام ب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. اكتب عقدا بينك و بينه اذا اتم عمله في الوقت المحدد فسيحصل على مكافا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. اكتب ما يجب على الطفل ان يقوم به من اعمال و ضعها في مكان بارز ليراها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. المثابرة و الاصرار على ما يطلب من الطفل و عدم التراج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. استخدام ساعة منبه لتساعد الطفل على معرفة الوقت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9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قلل من مشاهدة التلفا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كافئ طفلك في حال انتهائه من العمل المطلو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شجعي طفلك على الالعاب التي تحتاج الى تركي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علم طفلك تقسيم خطوات العمل الى اجزاء صغير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اقرئي قصة لطفلك و ناقشيه في احداثها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دعة يقرا قصصا قصيرة ولا يقرا نهايتها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تأكد من انه منتبه لمصدر المعلومات عند اعطائه التعليمات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533520"/>
            <a:ext cx="8458200" cy="89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عوده على ان يسال عن أي شئ لم يفهم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دعه يعد ما قد سمعه من اجل التأكد من صحت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استخدم اكثر من حاسة عندما تقدم التوجيها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خصص اماكن محددة لكل شئ في البيت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علمه اعادة الاشياء بعد استخدامها الى مكانها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علمه كيفية توزيع الوقت على الاعمال التي لديه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4572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اعطه فترة راحة اذا شعرت انه بحاجة اليها خلال ادائه للمهم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057400"/>
            <a:ext cx="830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00"/>
                </a:solidFill>
                <a:latin typeface="Arial"/>
              </a:rPr>
              <a:t>هل الطفل ذو صعوبات التعلم بليد/ كسول / عنيد / مدلل؟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14400" y="274320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00"/>
                </a:solidFill>
                <a:latin typeface="Arial"/>
              </a:rPr>
              <a:t>تعريف صعوبات التعل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95280" y="2438280"/>
            <a:ext cx="678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00"/>
                </a:solidFill>
                <a:latin typeface="Arial"/>
              </a:rPr>
              <a:t>خصائص الاطفال ذوي صعوبات التعل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10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 rtl="1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00"/>
                </a:solidFill>
                <a:latin typeface="Arial"/>
              </a:rPr>
              <a:t>معالجة المعلومات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85406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السمعية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 algn="r" rtl="1">
              <a:spcBef>
                <a:spcPts val="10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صعوبة في اتباع الارشادا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 algn="r" rtl="1">
              <a:spcBef>
                <a:spcPts val="10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صعوبة في التعلم عن طريق المحاضرا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 algn="r" rtl="1">
              <a:spcBef>
                <a:spcPts val="10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صعوبة في التعبير عما يريد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1523880"/>
            <a:ext cx="1676520" cy="12193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Arial"/>
              </a:rPr>
              <a:t>البصري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1600200"/>
            <a:ext cx="1676520" cy="12193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Arial"/>
              </a:rPr>
              <a:t>السمع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3645000">
            <a:off x="2678400" y="1141920"/>
            <a:ext cx="241560" cy="709560"/>
          </a:xfrm>
          <a:prstGeom prst="downArrow">
            <a:avLst>
              <a:gd name="adj1" fmla="val 50000"/>
              <a:gd name="adj2" fmla="val 7343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8926400">
            <a:off x="5562720" y="1218960"/>
            <a:ext cx="220680" cy="793800"/>
          </a:xfrm>
          <a:prstGeom prst="downArrow">
            <a:avLst>
              <a:gd name="adj1" fmla="val 50000"/>
              <a:gd name="adj2" fmla="val 899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76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مؤشرات تدل على وجود المشكل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تجاهل المتكلم خلال الاندماج في عمل ما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حساسية غير عادية بسبب الضوضاء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صعوبة تحديد اتجاه مصدر صوت المتكل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الميل نحو الخلط بين الكلمات ذات اللفظ المتشابه (بنت بيت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الارتباك او النسيان فيما يتعلق بالإرشادات المقدمة في جملة واحدة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صعوبة في ربط الكلمات مع مدلولاتها او استخداماتها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28600"/>
            <a:ext cx="9144000" cy="80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اقتراحات العلاج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جلب انتباه الطفل قبل اعطاء التعليما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الحديث ببطء ووضو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ستخدام ارشادات مختصر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اعطاء ارشادات على نحو منطقي و متسلس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استخدام الاشارات و الايماءات لتوضيح المعلوما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التنويع في تنغيم الكلام مثل رفع الصوت و انخفاض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990720"/>
            <a:ext cx="80010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البصري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نشاط (ماذا في الصورة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ضعف في التنظيم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صعوبة في تدقيق ما تم عمل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صعوبة في التعلم عن طريق العرض المسمو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1:23:09Z</dcterms:created>
  <dc:creator>User</dc:creator>
  <dc:description/>
  <dc:language>en-US</dc:language>
  <cp:lastModifiedBy>سعد</cp:lastModifiedBy>
  <dcterms:modified xsi:type="dcterms:W3CDTF">2006-03-08T08:32:29Z</dcterms:modified>
  <cp:revision>8</cp:revision>
  <dc:subject/>
  <dc:title>الشريحة 1</dc:title>
</cp:coreProperties>
</file>