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D2B-3F16-4744-885F-236B59D1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BDC-7091-4F6B-8A0E-F344BF1E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557-AD34-4BB6-893E-50E81B9D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0D5-701C-4F89-B3C6-8F48B18E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1D3-F409-48F8-8DDD-5579DDF4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9CB2-4E87-4A7E-9C75-ECE7A762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8B9D-29A4-4859-8C6E-3D0CD19A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ABFB-4A8E-4F02-9DA3-3FCB0018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AC7F-CCD1-453B-BB0B-80EE3E0A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679C-91CD-4566-AE94-FBA3E51A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0692-87E0-452C-A307-3BF463B9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D35-782A-4A6C-B3F7-0F7EC422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6FF8-8B95-48FE-BA60-4D2D5E90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1FD8-87A3-4A90-8B54-91531D96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E4F0-071F-4F73-B711-6774B42B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F58A-D694-4EA7-B1F8-FA8BAEC0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D1A4-41D1-4884-8619-82719488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B16-4DB5-438A-8F69-6C582CB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D52-158A-4790-ACE7-C6D69936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700-A235-4CC3-8797-D806F66D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E76-7D65-4F4E-ABB6-1E33E1F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585-0AD3-4599-8CE4-5DC5BB4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D7D-9CF2-49A4-AC14-0CC7337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E7C-3788-44A5-939D-DD1B959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0E75-61A5-466B-A4A6-D0F490FB4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32B9-34AF-4A58-AEC0-38BE612AB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5280" y="2514600"/>
            <a:ext cx="579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00"/>
                </a:solidFill>
                <a:latin typeface="Arial"/>
              </a:rPr>
              <a:t>صعوبات التعلم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60948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دريب الطفل على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رؤية الفرق بين الاشياء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تفاصيل المرئ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ملء الفراغ في الصو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ذكر السمات العا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سيق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كوين الصور الذ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990720"/>
            <a:ext cx="891540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تأثير الاستقبال على السلو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ي كثير من الاحيان الاطفال ذوي صعوبات التعلم يقعون في مشاكل و لكن لا يعلمون لماذا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عطي اسم للصورة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دم معرفة الاطفال لليمين و اليس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71600"/>
            <a:ext cx="8915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تجربة شئ جدي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طفل الذي يعاني من صعوبات التعلم لا يحب المفاجآ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يحب التعامل مع المتغيرات لأنها تعرضهم للفشل و تقلل من قيمتهم امام الا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295280"/>
            <a:ext cx="8458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ناء روتين يومي شبة ثابت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عزيز الطفل عند عمل شئ جيد حتى ولو كان بس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وضيح السلوك الخاطئ الذي قام به الطف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ع قوانين ثابتة للمنزل و شرحها للطفل مع توضيح العقاب اذا لم تتبع و الثواب اذا اتبعها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304920"/>
            <a:ext cx="830556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أزار البصري الحر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 انسخي الرسم التالي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يجد صعوبة في تزرير قميصه او ربط حذائ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مسك و رمي الك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لا يستطيع استعمال المطرقة و المسم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تتبع الاشكال او الكلمات الم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لا يستطيع استخدام المق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. التعبير اللفظ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نشاط (بناء قصة جماعي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ذكر اسماء الاشياء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تنظيم الافكار للتعبير الكلام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عوبة في التحدث بكلام موزون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اقتراحات علاج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جهز سلسلة من العبارات التي تحوي كلمات محذوف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اعرضي صورة امام الطفل و قومي بوصفها بجملة واحد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صحح الاخطاء القواعدية واطلب من الطفل اعادت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838080"/>
            <a:ext cx="853452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. فهم المقرو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ظم الكتب تقدم قائمة بالكلمات الصعبة في القطعة من ثم يفترضون ان من السهل على الطفل فهم القط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هم القطعة (الكلام) يعتمد على خلفية الطفل او معلوماته السابقة عن الموضوع اكثر من اعتماده على معرفة معنى الكلمات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 استمع للقطعتين و اجيبي عن الاسئل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762120"/>
            <a:ext cx="85341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هل تعرفين معنى الكلمات التال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كانت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با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واف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قيمة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رس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فتنا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بيان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فقط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بع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نقط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علاق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عرو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ستمر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منحنى    يوض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متغيرات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يتأل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قائ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685800"/>
            <a:ext cx="784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هل تعرفين الكلمات التال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سنير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ربع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هربع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الخف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يتربق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قلوبي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كابلس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را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سترزل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تنق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9092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Arial"/>
              </a:rPr>
              <a:t>العدل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صة هن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ماذا تعني لكِ كلمة صعوبات التعل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286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نصائح عام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88390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لا تعطي الطفل العديد من الاعمال في وقت واح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تأكد من ان العمل مناسب لمستوى قدرا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عطه وقتا كافيا لإنهاء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لا تتوقع الكمال في 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وضح له طريقة القيام بالعم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وضح ما تريد منه بالضبط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60480"/>
            <a:ext cx="8915400" cy="74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كرر العمل عدة مرات قبل ان تطلب منه القيام ب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عقدا بينك و بينه اذا اتم عمله في الوقت المحدد فسيحصل على مكافا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كتب ما يجب على الطفل ان يقوم به من اعمال و ضعها في مكان بارز ليراها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لمثابرة و الاصرار على ما يطلب من الطفل و عدم التراج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. استخدام ساعة منبه لتساعد الطفل على معرفة الوقت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9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قلل من مشاهدة التلفا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كافئ طفلك في حال انتهائه من العمل المطلو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شجعي طفلك على الالعاب التي تحتاج الى تركي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علم طفلك تقسيم خطوات العمل الى اجزاء صغير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قرئي قصة لطفلك و ناقشيه في احداثها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دعة يقرا قصصا قصيرة ولا يقرا نهايت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تأكد من انه منتبه لمصدر المعلومات عند اعطائه التعليما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458200" cy="89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عوده على ان يسال عن أي شئ لم يفهم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دعه يعد ما قد سمعه من اجل التأكد من صحت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م اكثر من حاسة عندما تقدم التوجيه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خصص اماكن محددة لكل شئ في البيت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اعادة الاشياء بعد استخدامها الى مكانه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علمه كيفية توزيع الوقت على الاعمال التي لديه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اعطه فترة راحة اذا شعرت انه بحاجة اليها خلال ادائه للمهم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0574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هل الطفل ذو صعوبات التعلم بليد/ كسول / عنيد / مدلل؟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27432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تعريف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243828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خصائص الاطفال ذوي صعوبات التعل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10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 rtl="1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</a:rPr>
              <a:t>معالجة المعلومات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4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سمعي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تباع الارشاد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لم عن طريق المحاضر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 algn="r" rtl="1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صعوبة في التعبير عما يري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52388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600200"/>
            <a:ext cx="1676520" cy="12193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Arial"/>
              </a:rPr>
              <a:t>الس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3645000">
            <a:off x="2678400" y="1141920"/>
            <a:ext cx="241560" cy="709560"/>
          </a:xfrm>
          <a:prstGeom prst="downArrow">
            <a:avLst>
              <a:gd name="adj1" fmla="val 50000"/>
              <a:gd name="adj2" fmla="val 7343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926400">
            <a:off x="5562720" y="1218960"/>
            <a:ext cx="220680" cy="793800"/>
          </a:xfrm>
          <a:prstGeom prst="downArrow">
            <a:avLst>
              <a:gd name="adj1" fmla="val 50000"/>
              <a:gd name="adj2" fmla="val 899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76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مؤشرات تدل على وجود المشكل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تجاهل المتكلم خلال الاندماج في عمل ما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حساسية غير عادية بسبب الضوضا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صعوبة تحديد اتجاه مصدر صوت المتكل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ميل نحو الخلط بين الكلمات ذات اللفظ المتشابه (بنت بيت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ارتباك او النسيان فيما يتعلق بالإرشادات المقدمة في جملة واحدة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صعوبة في ربط الكلمات مع مدلولاتها او استخداماتها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80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قتراحات العلاج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جلب انتباه الطفل قبل اعطاء التعلي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حديث ببطء ووضو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ستخدام ارشادات مختص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عطاء ارشادات على نحو منطقي و متسلس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ستخدام الاشارات و الايماءات لتوضيح المعلوما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التنويع في تنغيم الكلام مثل رفع الصوت و انخفاض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99072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البصري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نشاط (ماذا في الصورة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ضعف في التنظي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تدقيق ما تم عمل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صعوبة في التعلم عن طريق العرض المسمو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23:09Z</dcterms:created>
  <dc:creator>User</dc:creator>
  <dc:description/>
  <dc:language>en-US</dc:language>
  <cp:lastModifiedBy>سعد</cp:lastModifiedBy>
  <dcterms:modified xsi:type="dcterms:W3CDTF">2006-03-08T08:32:29Z</dcterms:modified>
  <cp:revision>8</cp:revision>
  <dc:subject/>
  <dc:title>الشريحة 1</dc:title>
</cp:coreProperties>
</file>