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6A81E-BCA8-435E-BB8B-D8F99FB05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1B8CA-B12F-4FA0-9612-949C1F431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7D85E-DF54-4B89-98D7-1564C4C5C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98C12-1C95-4131-8DCD-49A1E1EA7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65968-C76A-432F-8672-403D77178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81146-E9FC-47C8-BDC9-9D59CBAB2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603FF-856B-45FC-97DA-D92170917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C87D7-6DD3-4EF7-9CB0-B99F9C5C9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31D23-CE94-4DE4-A7E2-89C6A1385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6945E-DD1D-4F04-9F9B-0EA0544DA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438D8-A9E3-44E6-BA36-F5F3021F6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9EBFD-BD9A-4A58-BC7F-1FEFD593D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1E879-F017-4B2A-AA67-1BA43E0A3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558D4-5C2C-413E-87D7-52BA347D8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DD4AF-5970-48FF-9F5D-51C0487E9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324CD-F48E-4464-93EC-33F6E6807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90BD7-17C3-4074-941E-5AF683E83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69F2D-ED7A-4D5D-94F6-86201D935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44832-735E-4731-9CF6-7049DC4E2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4F732-9D93-4DDA-8258-F9A0C405B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9863C-B540-4DC2-8D0B-F5D7D6C2D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F7765-E79E-4CCF-B6AE-7BD13C10D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64C08-DDEE-4271-8343-C88AB9360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0C56E-BF77-4777-A589-C6CF7F0DD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74E10-DBFD-4629-8110-3524CF9E9B9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5CD00-DAAF-4238-BB21-985592D7DAB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 rtl="1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 rtl="1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295280" y="2514600"/>
            <a:ext cx="57913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8000" spc="-1" strike="noStrike">
                <a:solidFill>
                  <a:srgbClr val="ffff00"/>
                </a:solidFill>
                <a:latin typeface="Arial"/>
              </a:rPr>
              <a:t>صعوبات التعلم 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457200" y="609480"/>
            <a:ext cx="815328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Arial"/>
              </a:rPr>
              <a:t>اقتراحات علاجية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Arial"/>
              </a:rPr>
              <a:t>تدريب الطفل على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رؤية الفرق بين الاشياء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تذكر التفاصيل المرئية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ملء الفراغ في الصور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تذكر السمات العامة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التنسيق البصري الحركي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تكوين الصور الذهنية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228600" y="990720"/>
            <a:ext cx="8915400" cy="50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6000" spc="-1" strike="noStrike">
                <a:solidFill>
                  <a:srgbClr val="ffff00"/>
                </a:solidFill>
                <a:latin typeface="Arial"/>
              </a:rPr>
              <a:t>. </a:t>
            </a:r>
            <a:r>
              <a:rPr b="0" lang="hi-IN" sz="4000" spc="-1" strike="noStrike">
                <a:solidFill>
                  <a:srgbClr val="ffff00"/>
                </a:solidFill>
                <a:latin typeface="Arial"/>
              </a:rPr>
              <a:t>تأثير الاستقبال على السلو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Arial"/>
              </a:rPr>
              <a:t>في كثير من الاحيان الاطفال ذوي صعوبات التعلم يقعون في مشاكل و لكن لا يعلمون لماذا.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Arial"/>
              </a:rPr>
              <a:t>نشاط ( اعطي اسم للصورة)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hi-IN" sz="4000" spc="-1" strike="noStrike">
                <a:solidFill>
                  <a:srgbClr val="ffffff"/>
                </a:solidFill>
                <a:latin typeface="Arial"/>
              </a:rPr>
              <a:t>عدم معرفة الاطفال لليمين و اليسار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1371600"/>
            <a:ext cx="8915400" cy="43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3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. تجربة شئ جديد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spcBef>
                <a:spcPts val="25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hi-IN" sz="4000" spc="-1" strike="noStrike">
                <a:solidFill>
                  <a:srgbClr val="ffffff"/>
                </a:solidFill>
                <a:latin typeface="Arial"/>
              </a:rPr>
              <a:t>الطفل الذي يعاني من صعوبات التعلم لا يحب المفاجآت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spcBef>
                <a:spcPts val="2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لا يحب التعامل مع المتغيرات لأنها تعرضهم للفشل و تقلل من قيمتهم امام الاخرين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228600" y="1295280"/>
            <a:ext cx="845820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Arial"/>
              </a:rPr>
              <a:t>اقتراحات علاجية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hi-IN" sz="4000" spc="-1" strike="noStrike">
                <a:solidFill>
                  <a:srgbClr val="ffffff"/>
                </a:solidFill>
                <a:latin typeface="Arial"/>
              </a:rPr>
              <a:t>بناء روتين يومي شبة ثابت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تعزيز الطفل عند عمل شئ جيد حتى ولو كان بسيط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توضيح السلوك الخاطئ الذي قام به الطفل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وضع قوانين ثابتة للمنزل و شرحها للطفل مع توضيح العقاب اذا لم تتبع و الثواب اذا اتبعها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533520" y="304920"/>
            <a:ext cx="8305560" cy="809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00"/>
                </a:solidFill>
                <a:latin typeface="Arial"/>
              </a:rPr>
              <a:t>4</a:t>
            </a:r>
            <a:r>
              <a:rPr b="0" lang="ar-SA" sz="4000" spc="-1" strike="noStrike">
                <a:solidFill>
                  <a:srgbClr val="ffff00"/>
                </a:solidFill>
                <a:latin typeface="Arial"/>
              </a:rPr>
              <a:t>. التأزار البصري الحركي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ff"/>
                </a:solidFill>
                <a:latin typeface="Arial"/>
              </a:rPr>
              <a:t>نشاط ( انسخي الرسم التالي)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2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ff"/>
                </a:solidFill>
                <a:latin typeface="Arial"/>
              </a:rPr>
              <a:t> يجد صعوبة في تزرير قميصه او ربط حذائه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2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ff"/>
                </a:solidFill>
                <a:latin typeface="Arial"/>
              </a:rPr>
              <a:t> لا يستطيع مسك و رمي الكرة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2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ff"/>
                </a:solidFill>
                <a:latin typeface="Arial"/>
              </a:rPr>
              <a:t> لا يستطيع استعمال المطرقة و المسمار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2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ff"/>
                </a:solidFill>
                <a:latin typeface="Arial"/>
              </a:rPr>
              <a:t>لا يستطيع تتبع الاشكال او الكلمات المنقطة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2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ff"/>
                </a:solidFill>
                <a:latin typeface="Arial"/>
              </a:rPr>
              <a:t>لا يستطيع استخدام المقص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457200"/>
            <a:ext cx="9144000" cy="74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00"/>
                </a:solidFill>
                <a:latin typeface="Arial"/>
              </a:rPr>
              <a:t>5</a:t>
            </a:r>
            <a:r>
              <a:rPr b="0" lang="ar-SA" sz="4000" spc="-1" strike="noStrike">
                <a:solidFill>
                  <a:srgbClr val="ffff00"/>
                </a:solidFill>
                <a:latin typeface="Arial"/>
              </a:rPr>
              <a:t>. التعبير اللفظي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ff"/>
                </a:solidFill>
                <a:latin typeface="Arial"/>
              </a:rPr>
              <a:t>نشاط (بناء قصة جماعية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ff"/>
                </a:solidFill>
                <a:latin typeface="Arial"/>
              </a:rPr>
              <a:t> صعوبة في تذكر اسماء الاشياء،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ff"/>
                </a:solidFill>
                <a:latin typeface="Arial"/>
              </a:rPr>
              <a:t> صعوبة في تنظيم الافكار للتعبير الكلامي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ff"/>
                </a:solidFill>
                <a:latin typeface="Arial"/>
              </a:rPr>
              <a:t> صعوبة في التحدث بكلام موزون 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00"/>
                </a:solidFill>
                <a:latin typeface="Arial"/>
              </a:rPr>
              <a:t>اقتراحات علاجية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4000" spc="-1" strike="noStrike">
                <a:solidFill>
                  <a:srgbClr val="ffffff"/>
                </a:solidFill>
                <a:latin typeface="Arial"/>
              </a:rPr>
              <a:t>جهز سلسلة من العبارات التي تحوي كلمات محذوفة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ff"/>
                </a:solidFill>
                <a:latin typeface="Arial"/>
              </a:rPr>
              <a:t> اعرضي صورة امام الطفل و قومي بوصفها بجملة واحدة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ff"/>
                </a:solidFill>
                <a:latin typeface="Arial"/>
              </a:rPr>
              <a:t> صحح الاخطاء القواعدية واطلب من الطفل اعادتها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380880" y="838080"/>
            <a:ext cx="8534520" cy="67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6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. فهم المقروء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Arial"/>
              </a:rPr>
              <a:t>معظم الكتب تقدم قائمة بالكلمات الصعبة في القطعة من ثم يفترضون ان من السهل على الطفل فهم القطعة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Arial"/>
              </a:rPr>
              <a:t>فهم القطعة (الكلام) يعتمد على خلفية الطفل او معلوماته السابقة عن الموضوع اكثر من اعتماده على معرفة معنى الكلمات.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Arial"/>
              </a:rPr>
              <a:t>نشاط ( استمع للقطعتين و اجيبي عن الاسئلة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04920" y="762120"/>
            <a:ext cx="853416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Arial"/>
              </a:rPr>
              <a:t>هل تعرفين معنى الكلمات التالية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كانت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i-IN" sz="4000" spc="-1" strike="noStrike">
                <a:solidFill>
                  <a:srgbClr val="ffffff"/>
                </a:solidFill>
                <a:latin typeface="Arial"/>
              </a:rPr>
              <a:t>اسباب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i-IN" sz="4000" spc="-1" strike="noStrike">
                <a:solidFill>
                  <a:srgbClr val="ffffff"/>
                </a:solidFill>
                <a:latin typeface="Arial"/>
              </a:rPr>
              <a:t>التوافق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i-IN" sz="4000" spc="-1" strike="noStrike">
                <a:solidFill>
                  <a:srgbClr val="ffffff"/>
                </a:solidFill>
                <a:latin typeface="Arial"/>
              </a:rPr>
              <a:t>القيمة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i-IN" sz="4000" spc="-1" strike="noStrike">
                <a:solidFill>
                  <a:srgbClr val="ffffff"/>
                </a:solidFill>
                <a:latin typeface="Arial"/>
              </a:rPr>
              <a:t>الرسم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Arial"/>
              </a:rPr>
              <a:t>معرفتنا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i-IN" sz="4000" spc="-1" strike="noStrike">
                <a:solidFill>
                  <a:srgbClr val="ffffff"/>
                </a:solidFill>
                <a:latin typeface="Arial"/>
              </a:rPr>
              <a:t>البياني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i-IN" sz="4000" spc="-1" strike="noStrike">
                <a:solidFill>
                  <a:srgbClr val="ffffff"/>
                </a:solidFill>
                <a:latin typeface="Arial"/>
              </a:rPr>
              <a:t>فقط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i-IN" sz="4000" spc="-1" strike="noStrike">
                <a:solidFill>
                  <a:srgbClr val="ffffff"/>
                </a:solidFill>
                <a:latin typeface="Arial"/>
              </a:rPr>
              <a:t>بعد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i-IN" sz="4000" spc="-1" strike="noStrike">
                <a:solidFill>
                  <a:srgbClr val="ffffff"/>
                </a:solidFill>
                <a:latin typeface="Arial"/>
              </a:rPr>
              <a:t>النقطة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Arial"/>
              </a:rPr>
              <a:t>العلاقة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i-IN" sz="4000" spc="-1" strike="noStrike">
                <a:solidFill>
                  <a:srgbClr val="ffffff"/>
                </a:solidFill>
                <a:latin typeface="Arial"/>
              </a:rPr>
              <a:t>معروف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i-IN" sz="4000" spc="-1" strike="noStrike">
                <a:solidFill>
                  <a:srgbClr val="ffffff"/>
                </a:solidFill>
                <a:latin typeface="Arial"/>
              </a:rPr>
              <a:t>مستمرة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i-IN" sz="4000" spc="-1" strike="noStrike">
                <a:solidFill>
                  <a:srgbClr val="ffffff"/>
                </a:solidFill>
                <a:latin typeface="Arial"/>
              </a:rPr>
              <a:t>منحنى    يوضح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Arial"/>
              </a:rPr>
              <a:t>المتغيرات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i-IN" sz="4000" spc="-1" strike="noStrike">
                <a:solidFill>
                  <a:srgbClr val="ffffff"/>
                </a:solidFill>
                <a:latin typeface="Arial"/>
              </a:rPr>
              <a:t>يتألف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i-IN" sz="4000" spc="-1" strike="noStrike">
                <a:solidFill>
                  <a:srgbClr val="ffffff"/>
                </a:solidFill>
                <a:latin typeface="Arial"/>
              </a:rPr>
              <a:t>قائمة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838080" y="685800"/>
            <a:ext cx="784872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00"/>
                </a:solidFill>
                <a:latin typeface="Arial"/>
              </a:rPr>
              <a:t>هل تعرفين الكلمات التالية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ff"/>
                </a:solidFill>
                <a:latin typeface="Arial"/>
              </a:rPr>
              <a:t>السنيري </a:t>
            </a:r>
            <a:r>
              <a:rPr b="0" lang="ar-SA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ar-SA" sz="4000" spc="-1" strike="noStrike">
                <a:solidFill>
                  <a:srgbClr val="ffffff"/>
                </a:solidFill>
                <a:latin typeface="Arial"/>
              </a:rPr>
              <a:t>قربع </a:t>
            </a:r>
            <a:r>
              <a:rPr b="0" lang="ar-SA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ar-SA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ar-SA" sz="4000" spc="-1" strike="noStrike">
                <a:solidFill>
                  <a:srgbClr val="ffffff"/>
                </a:solidFill>
                <a:latin typeface="Arial"/>
              </a:rPr>
              <a:t>هربع</a:t>
            </a:r>
            <a:r>
              <a:rPr b="0" lang="ar-SA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ar-SA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ar-SA" sz="4000" spc="-1" strike="noStrike">
                <a:solidFill>
                  <a:srgbClr val="ffffff"/>
                </a:solidFill>
                <a:latin typeface="Arial"/>
              </a:rPr>
              <a:t>الخفر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ff"/>
                </a:solidFill>
                <a:latin typeface="Arial"/>
              </a:rPr>
              <a:t>يتربق</a:t>
            </a:r>
            <a:r>
              <a:rPr b="0" lang="ar-SA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ar-SA" sz="4000" spc="-1" strike="noStrike">
                <a:solidFill>
                  <a:srgbClr val="ffffff"/>
                </a:solidFill>
                <a:latin typeface="Arial"/>
              </a:rPr>
              <a:t>قلوبي </a:t>
            </a:r>
            <a:r>
              <a:rPr b="0" lang="ar-SA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ar-SA" sz="4000" spc="-1" strike="noStrike">
                <a:solidFill>
                  <a:srgbClr val="ffffff"/>
                </a:solidFill>
                <a:latin typeface="Arial"/>
              </a:rPr>
              <a:t>كابلس</a:t>
            </a:r>
            <a:r>
              <a:rPr b="0" lang="ar-SA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ar-SA" sz="4000" spc="-1" strike="noStrike">
                <a:solidFill>
                  <a:srgbClr val="ffffff"/>
                </a:solidFill>
                <a:latin typeface="Arial"/>
              </a:rPr>
              <a:t>تراز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ff"/>
                </a:solidFill>
                <a:latin typeface="Arial"/>
              </a:rPr>
              <a:t>سترزل </a:t>
            </a:r>
            <a:r>
              <a:rPr b="0" lang="ar-SA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ar-SA" sz="4000" spc="-1" strike="noStrike">
                <a:solidFill>
                  <a:srgbClr val="ffffff"/>
                </a:solidFill>
                <a:latin typeface="Arial"/>
              </a:rPr>
              <a:t>تنق </a:t>
            </a:r>
            <a:r>
              <a:rPr b="0" lang="ar-SA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295280" y="259092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-1" strike="noStrike">
                <a:solidFill>
                  <a:srgbClr val="ffff00"/>
                </a:solidFill>
                <a:latin typeface="Arial"/>
              </a:rPr>
              <a:t>العدل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ffff00"/>
                </a:solidFill>
                <a:latin typeface="Arial"/>
              </a:rPr>
              <a:t>قصة هند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r>
              <a:rPr b="0" lang="ar-SA" sz="6000" spc="-1" strike="noStrike">
                <a:solidFill>
                  <a:srgbClr val="ffff00"/>
                </a:solidFill>
                <a:latin typeface="Arial"/>
              </a:rPr>
              <a:t>ماذا تعني لكِ كلمة صعوبات التعلم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676520" y="228600"/>
            <a:ext cx="6324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ffff00"/>
                </a:solidFill>
                <a:latin typeface="Arial"/>
              </a:rPr>
              <a:t>نصائح عامة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1219320"/>
            <a:ext cx="8839080" cy="65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 rtl="1">
              <a:spcBef>
                <a:spcPts val="2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Arial"/>
              </a:rPr>
              <a:t>لا تعطي الطفل العديد من الاعمال في وقت واحد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2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تأكد من ان العمل مناسب لمستوى قدراته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2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Arial"/>
              </a:rPr>
              <a:t>اعطه وقتا كافيا لإنهاء العمل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2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لا تتوقع الكمال في العمل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2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Arial"/>
              </a:rPr>
              <a:t>وضح له طريقة القيام بالعمل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2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وضح ما تريد منه بالضبط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228600" y="60480"/>
            <a:ext cx="8915400" cy="74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0" lang="ar-SA" sz="4000" spc="-1" strike="noStrike">
                <a:solidFill>
                  <a:srgbClr val="ffffff"/>
                </a:solidFill>
                <a:latin typeface="Arial"/>
              </a:rPr>
              <a:t>. كرر العمل عدة مرات قبل ان تطلب منه القيام به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ar-SA" sz="4000" spc="-1" strike="noStrike">
                <a:solidFill>
                  <a:srgbClr val="ffffff"/>
                </a:solidFill>
                <a:latin typeface="Arial"/>
              </a:rPr>
              <a:t>. اكتب عقدا بينك و بينه اذا اتم عمله في الوقت المحدد فسيحصل على مكافاة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ff"/>
                </a:solidFill>
                <a:latin typeface="Arial"/>
              </a:rPr>
              <a:t>9</a:t>
            </a:r>
            <a:r>
              <a:rPr b="0" lang="ar-SA" sz="4000" spc="-1" strike="noStrike">
                <a:solidFill>
                  <a:srgbClr val="ffffff"/>
                </a:solidFill>
                <a:latin typeface="Arial"/>
              </a:rPr>
              <a:t>. اكتب ما يجب على الطفل ان يقوم به من اعمال و ضعها في مكان بارز ليراها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ar-SA" sz="4000" spc="-1" strike="noStrike">
                <a:solidFill>
                  <a:srgbClr val="ffffff"/>
                </a:solidFill>
                <a:latin typeface="Arial"/>
              </a:rPr>
              <a:t>. المثابرة و الاصرار على ما يطلب من الطفل و عدم التراج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ff"/>
                </a:solidFill>
                <a:latin typeface="Arial"/>
              </a:rPr>
              <a:t>11</a:t>
            </a:r>
            <a:r>
              <a:rPr b="0" lang="ar-SA" sz="4000" spc="-1" strike="noStrike">
                <a:solidFill>
                  <a:srgbClr val="ffffff"/>
                </a:solidFill>
                <a:latin typeface="Arial"/>
              </a:rPr>
              <a:t>. استخدام ساعة منبه لتساعد الطفل على معرفة الوقت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144000" cy="9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. قلل من مشاهدة التلفاز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13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. كافئ طفلك في حال انتهائه من العمل المطلوب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14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. شجعي طفلك على الالعاب التي تحتاج الى تركيز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15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. علم طفلك تقسيم خطوات العمل الى اجزاء صغيرة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16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. اقرئي قصة لطفلك و ناقشيه في احداثها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17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. دعة يقرا قصصا قصيرة ولا يقرا نهايتها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18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. تأكد من انه منتبه لمصدر المعلومات عند اعطائه التعليمات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80880" y="533520"/>
            <a:ext cx="8458200" cy="89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 rtl="1">
              <a:spcBef>
                <a:spcPts val="2500"/>
              </a:spcBef>
              <a:buClr>
                <a:srgbClr val="ffffff"/>
              </a:buClr>
              <a:buFont typeface="Arial"/>
              <a:buAutoNum type="arabicPeriod" startAt="1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Arial"/>
              </a:rPr>
              <a:t>عوده على ان يسال عن أي شئ لم يفهمه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2500"/>
              </a:spcBef>
              <a:buClr>
                <a:srgbClr val="ffffff"/>
              </a:buClr>
              <a:buFont typeface="Arial"/>
              <a:buAutoNum type="arabicPeriod" startAt="1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دعه يعد ما قد سمعه من اجل التأكد من صحته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2500"/>
              </a:spcBef>
              <a:buClr>
                <a:srgbClr val="ffffff"/>
              </a:buClr>
              <a:buFont typeface="Arial"/>
              <a:buAutoNum type="arabicPeriod" startAt="1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استخدم اكثر من حاسة عندما تقدم التوجيهات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2500"/>
              </a:spcBef>
              <a:buClr>
                <a:srgbClr val="ffffff"/>
              </a:buClr>
              <a:buFont typeface="Arial"/>
              <a:buAutoNum type="arabicPeriod" startAt="1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خصص اماكن محددة لكل شئ في البيت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2500"/>
              </a:spcBef>
              <a:buClr>
                <a:srgbClr val="ffffff"/>
              </a:buClr>
              <a:buFont typeface="Arial"/>
              <a:buAutoNum type="arabicPeriod" startAt="1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علمه اعادة الاشياء بعد استخدامها الى مكانها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2500"/>
              </a:spcBef>
              <a:buClr>
                <a:srgbClr val="ffffff"/>
              </a:buClr>
              <a:buFont typeface="Arial"/>
              <a:buAutoNum type="arabicPeriod" startAt="1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علمه كيفية توزيع الوقت على الاعمال التي لديه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457200" y="457200"/>
            <a:ext cx="8458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25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. اعطه فترة راحة اذا شعرت انه بحاجة اليها خلال ادائه للمهمة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457200" y="2057400"/>
            <a:ext cx="83059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ffff00"/>
                </a:solidFill>
                <a:latin typeface="Arial"/>
              </a:rPr>
              <a:t>هل الطفل ذو صعوبات التعلم بليد/ كسول / عنيد / مدلل؟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914400" y="2743200"/>
            <a:ext cx="7315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ffff00"/>
                </a:solidFill>
                <a:latin typeface="Arial"/>
              </a:rPr>
              <a:t>تعريف صعوبات التعلم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295280" y="2438280"/>
            <a:ext cx="67820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ffff00"/>
                </a:solidFill>
                <a:latin typeface="Arial"/>
              </a:rPr>
              <a:t>خصائص الاطفال ذوي صعوبات التعلم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510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-838080" algn="ctr" rtl="1"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ffff00"/>
                </a:solidFill>
                <a:latin typeface="Arial"/>
              </a:rPr>
              <a:t>معالجة المعلومات</a:t>
            </a:r>
            <a:endParaRPr b="0" lang="en-US" sz="6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2743200"/>
            <a:ext cx="854064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6052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Arial"/>
              </a:rPr>
              <a:t>السمعية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60520" indent="-560520" algn="r" rtl="1">
              <a:spcBef>
                <a:spcPts val="1001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Arial"/>
              </a:rPr>
              <a:t>صعوبة في اتباع الارشادات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60520" indent="-560520" algn="r" rtl="1">
              <a:spcBef>
                <a:spcPts val="1001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Arial"/>
              </a:rPr>
              <a:t>صعوبة في التعلم عن طريق المحاضرات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60520" indent="-560520" algn="r" rtl="1">
              <a:spcBef>
                <a:spcPts val="1001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Arial"/>
              </a:rPr>
              <a:t>صعوبة في التعبير عما يريد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143000" y="1523880"/>
            <a:ext cx="1676520" cy="1219320"/>
          </a:xfrm>
          <a:prstGeom prst="irregularSeal1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00"/>
                </a:solidFill>
                <a:latin typeface="Arial"/>
              </a:rPr>
              <a:t>البصري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943600" y="1600200"/>
            <a:ext cx="1676520" cy="1219320"/>
          </a:xfrm>
          <a:prstGeom prst="irregularSeal1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00"/>
                </a:solidFill>
                <a:latin typeface="Arial"/>
              </a:rPr>
              <a:t>السمعي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rot="3645000">
            <a:off x="2678400" y="1141920"/>
            <a:ext cx="241560" cy="709560"/>
          </a:xfrm>
          <a:prstGeom prst="downArrow">
            <a:avLst>
              <a:gd name="adj1" fmla="val 50000"/>
              <a:gd name="adj2" fmla="val 73435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rot="18926400">
            <a:off x="5562720" y="1218960"/>
            <a:ext cx="220680" cy="793800"/>
          </a:xfrm>
          <a:prstGeom prst="downArrow">
            <a:avLst>
              <a:gd name="adj1" fmla="val 50000"/>
              <a:gd name="adj2" fmla="val 8992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9144000" cy="76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Arial"/>
              </a:rPr>
              <a:t>مؤشرات تدل على وجود المشكلة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225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ffffff"/>
                </a:solidFill>
                <a:latin typeface="Arial"/>
              </a:rPr>
              <a:t>تجاهل المتكلم خلال الاندماج في عمل ما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225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حساسية غير عادية بسبب الضوضاء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225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صعوبة تحديد اتجاه مصدر صوت المتكلم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225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ffffff"/>
                </a:solidFill>
                <a:latin typeface="Arial"/>
              </a:rPr>
              <a:t>الميل نحو الخلط بين الكلمات ذات اللفظ المتشابه (بنت بيت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225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ffffff"/>
                </a:solidFill>
                <a:latin typeface="Arial"/>
              </a:rPr>
              <a:t>الارتباك او النسيان فيما يتعلق بالإرشادات المقدمة في جملة واحدة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225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ffffff"/>
                </a:solidFill>
                <a:latin typeface="Arial"/>
              </a:rPr>
              <a:t>صعوبة في ربط الكلمات مع مدلولاتها او استخداماتها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228600"/>
            <a:ext cx="9144000" cy="809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Arial"/>
              </a:rPr>
              <a:t>اقتراحات العلاج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2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جلب انتباه الطفل قبل اعطاء التعليمات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2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الحديث ببطء ووضوح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2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Arial"/>
              </a:rPr>
              <a:t>استخدام ارشادات مختصرة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2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اعطاء ارشادات على نحو منطقي و متسلسل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2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استخدام الاشارات و الايماءات لتوضيح المعلومات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2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التنويع في تنغيم الكلام مثل رفع الصوت و انخفاضة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762120" y="990720"/>
            <a:ext cx="8001000" cy="50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Arial"/>
              </a:rPr>
              <a:t>البصريه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Arial"/>
              </a:rPr>
              <a:t>نشاط (ماذا في الصورة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2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ضعف في التنظيم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2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صعوبة في تدقيق ما تم عمله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2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صعوبة في التعلم عن طريق العرض المسمو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4T11:23:09Z</dcterms:created>
  <dc:creator>User</dc:creator>
  <dc:description/>
  <dc:language>en-US</dc:language>
  <cp:lastModifiedBy>سعد</cp:lastModifiedBy>
  <dcterms:modified xsi:type="dcterms:W3CDTF">2006-03-08T08:32:29Z</dcterms:modified>
  <cp:revision>8</cp:revision>
  <dc:subject/>
  <dc:title>الشريحة 1</dc:title>
</cp:coreProperties>
</file>