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B3083-3923-4675-B8AF-2326AD068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A09B9-C370-4638-A772-39FD84A39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405B8-DA97-4835-B021-2345DC282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4BC69-66D0-4274-903C-D75576742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9E985-4E16-4087-B296-A92609240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BC081-8113-4446-B893-7E1F72F73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FF82F-2C84-4334-A93B-8A0BDE16B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64AE1-E10B-4D17-BD54-6E0E08C57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133C6-9153-4FA2-ADD2-41CF74589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013EC-C472-4932-822A-70D54742F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3970E-C690-49D5-8CB8-C2EF8BA89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CD6A7-4C00-42E5-873E-261247E12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CA8CB-7438-4736-B3DB-6E528FDA2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11F06-752D-4072-B37D-2AA85C6D7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A9EF4-24D6-4177-81D0-5D0C580FF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8A236-DE42-42C7-AD1B-13F141F2F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B5B67-3E69-43EC-963F-86E3CB39D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977911-3DEA-446F-83E5-8C6796702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44A1D7-6DE4-4A1D-A55C-A5DE2BA74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DC543A-78D0-42D4-ABD1-AFD6679B9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D2A77B-0BB1-4F19-8DA8-63A811F53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91E36A-0D83-485C-B603-2F78E57DD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88972-82B7-4584-B3B0-F50B3926B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65C96A-7494-450E-B031-4097C0B45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76D3C5-2AFE-4A65-BC28-3D2059EDF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09B65B-9C01-498F-8018-A91D954FA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E48EE5-2DBC-4DB9-A2CA-AB89942AC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6941BB-CC11-4E65-A45B-EB36D9EBF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0BDF14-EF90-4D32-B9E2-37A3362C0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440A21-475A-4678-AEB9-FBB542DF4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431071-AB3D-467E-8C5C-4A125443E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890A39-CAA5-421C-8B83-F0C982648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7F468D-A021-4780-B237-FBBAEDFAE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7160C-4734-430B-9B6C-8AA1B3B0C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029BE3-8A55-41E7-85F5-119CFF11C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49FD1E-F664-4606-9CDB-81EB0A07A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4ED097-683E-4EED-B7E5-20AC1D73F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BF85DE-E788-44D8-A21C-90F23A2B5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95F58C-91B5-4304-B0C4-04A697108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279159-6A34-4D9F-928E-61B7FF82A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AB0F7C-BF5C-49C4-8EAF-F12E3EDAC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3BE582-624F-4384-923B-2515B224B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814163-5961-4BFF-8F02-B34F947EF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71D47-3505-4C74-95F9-F7C48D7FF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89119-B35A-419E-93A6-752873BB7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20680-0053-4F36-8A2D-00E9EB01A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7F1C2-EC8D-4C86-A7BB-448227172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E20AB-B02B-4F8C-A09C-903466325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7FD11-7770-482F-AF2C-E74FAC82614E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478B3-0ABF-4EE3-94C2-9B969218E0C0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 rtl="1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 rtl="1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 rtl="1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99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48401-E1C4-4619-B37F-E96CBAFB6C57}" type="slidenum"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59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572E6-9E78-4AF3-9AA6-FDF049029CA8}" type="slidenum"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2400" spc="-1" strike="noStrike">
                <a:solidFill>
                  <a:srgbClr val="ffffb7"/>
                </a:solidFill>
                <a:latin typeface="Arial Black"/>
              </a:rPr>
              <a:t>مدرسة أحمد العمران الثانوية للبنين</a:t>
            </a:r>
            <a:br>
              <a:rPr sz="2400"/>
            </a:br>
            <a:r>
              <a:rPr b="1" lang="ar-BH" sz="2400" spc="-1" strike="noStrike">
                <a:solidFill>
                  <a:srgbClr val="ffffb7"/>
                </a:solidFill>
                <a:latin typeface="Arial Black"/>
              </a:rPr>
              <a:t>اللجنة الفنية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1116000" y="2133360"/>
            <a:ext cx="678168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2800" spc="-1" strike="noStrike">
                <a:solidFill>
                  <a:srgbClr val="ffff00"/>
                </a:solidFill>
                <a:latin typeface="Arial"/>
              </a:rPr>
              <a:t>التفكير</a:t>
            </a:r>
            <a:r>
              <a:rPr b="1" lang="ar-BH" sz="2800" spc="-1" strike="noStrike">
                <a:solidFill>
                  <a:srgbClr val="ffff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2800" spc="-1" strike="noStrike">
                <a:solidFill>
                  <a:srgbClr val="ffff00"/>
                </a:solidFill>
                <a:latin typeface="Arial"/>
              </a:rPr>
              <a:t>مفاهيم و مهارا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BH" sz="2000" spc="-1" strike="noStrike">
                <a:solidFill>
                  <a:srgbClr val="ffffff"/>
                </a:solidFill>
                <a:latin typeface="Arial"/>
              </a:rPr>
              <a:t>الجزء الأول</a:t>
            </a:r>
            <a:r>
              <a:rPr b="0" lang="ar-BH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826920" y="3860640"/>
            <a:ext cx="7201080" cy="23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2800" spc="-1" strike="noStrike">
                <a:solidFill>
                  <a:srgbClr val="ffffff"/>
                </a:solidFill>
                <a:latin typeface="Arial"/>
              </a:rPr>
              <a:t> اعداد و تقدي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2800" spc="-1" strike="noStrike">
                <a:solidFill>
                  <a:srgbClr val="ffffff"/>
                </a:solidFill>
                <a:latin typeface="Arial"/>
              </a:rPr>
              <a:t>الأستاذ علي صليل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2800" spc="-1" strike="noStrike">
                <a:solidFill>
                  <a:srgbClr val="ffffff"/>
                </a:solidFill>
                <a:latin typeface="Arial"/>
              </a:rPr>
              <a:t>المعلم الأول للغة الانجليزي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2800" spc="-1" strike="noStrike">
                <a:solidFill>
                  <a:srgbClr val="ffffff"/>
                </a:solidFill>
                <a:latin typeface="Arial"/>
              </a:rPr>
              <a:t>الاثنين  </a:t>
            </a:r>
            <a:r>
              <a:rPr b="1" lang="ar-BH" sz="2800" spc="-1" strike="noStrike">
                <a:solidFill>
                  <a:srgbClr val="ffffff"/>
                </a:solidFill>
                <a:latin typeface="Arial"/>
              </a:rPr>
              <a:t>17</a:t>
            </a:r>
            <a:r>
              <a:rPr b="1" lang="ar-BH" sz="2800" spc="-1" strike="noStrike">
                <a:solidFill>
                  <a:srgbClr val="ffffff"/>
                </a:solidFill>
                <a:latin typeface="Arial"/>
              </a:rPr>
              <a:t> / </a:t>
            </a:r>
            <a:r>
              <a:rPr b="1" lang="ar-BH" sz="28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ar-BH" sz="2800" spc="-1" strike="noStrike">
                <a:solidFill>
                  <a:srgbClr val="ffffff"/>
                </a:solidFill>
                <a:latin typeface="Arial"/>
              </a:rPr>
              <a:t> / </a:t>
            </a:r>
            <a:r>
              <a:rPr b="1" lang="ar-BH" sz="2800" spc="-1" strike="noStrike">
                <a:solidFill>
                  <a:srgbClr val="ffffff"/>
                </a:solidFill>
                <a:latin typeface="Arial"/>
              </a:rPr>
              <a:t>200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4400" spc="-1" strike="noStrike">
                <a:solidFill>
                  <a:srgbClr val="feec94"/>
                </a:solidFill>
                <a:latin typeface="Times New Roman"/>
              </a:rPr>
              <a:t>عناصر نجاح عملية تعليم التفكير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BH" sz="3200" spc="-1" strike="noStrike">
                <a:solidFill>
                  <a:srgbClr val="ffff00"/>
                </a:solidFill>
                <a:latin typeface="Times New Roman"/>
              </a:rPr>
              <a:t>ثالثا: أساليب التقويم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BH" sz="2400" spc="-1" strike="noStrike">
                <a:solidFill>
                  <a:srgbClr val="ffffff"/>
                </a:solidFill>
                <a:latin typeface="Times New Roman"/>
              </a:rPr>
              <a:t>تمثل أساليب التقويم ركيزة أساسية لنجاح عملية تعليم التفكير ، وينبغي اتباع الآتي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BH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ar-BH" sz="2400" spc="-1" strike="noStrike">
                <a:solidFill>
                  <a:srgbClr val="ffffff"/>
                </a:solidFill>
                <a:latin typeface="Times New Roman"/>
              </a:rPr>
              <a:t> ألا تقتصر أساليب التقويم على الاختبارات الشفوية و التحريرية، بل لا بد من استخدام تقنيات أخرى مثل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BH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ar-BH" sz="2400" spc="-1" strike="noStrike">
                <a:solidFill>
                  <a:srgbClr val="ffffff"/>
                </a:solidFill>
                <a:latin typeface="Times New Roman"/>
              </a:rPr>
              <a:t>- الملاحظة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BH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ar-BH" sz="2400" spc="-1" strike="noStrike">
                <a:solidFill>
                  <a:srgbClr val="ffffff"/>
                </a:solidFill>
                <a:latin typeface="Times New Roman"/>
              </a:rPr>
              <a:t>- استخدام السجلات التراكمية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BH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ar-BH" sz="2400" spc="-1" strike="noStrike">
                <a:solidFill>
                  <a:srgbClr val="ffffff"/>
                </a:solidFill>
                <a:latin typeface="Times New Roman"/>
              </a:rPr>
              <a:t>- المناقشة الجماعية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BH" sz="24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ar-BH" sz="2400" spc="-1" strike="noStrike">
                <a:solidFill>
                  <a:srgbClr val="ffffff"/>
                </a:solidFill>
                <a:latin typeface="Times New Roman"/>
              </a:rPr>
              <a:t>- طريقة لعب الأدوار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BH" sz="24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0" lang="ar-BH" sz="2400" spc="-1" strike="noStrike">
                <a:solidFill>
                  <a:srgbClr val="ffffff"/>
                </a:solidFill>
                <a:latin typeface="Times New Roman"/>
              </a:rPr>
              <a:t>- التقارير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4400" spc="-1" strike="noStrike">
                <a:solidFill>
                  <a:srgbClr val="feec94"/>
                </a:solidFill>
                <a:latin typeface="Times New Roman"/>
              </a:rPr>
              <a:t>برامج تعليم مهارات التفكير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BH" sz="3200" spc="-1" strike="noStrike">
                <a:solidFill>
                  <a:srgbClr val="ffff00"/>
                </a:solidFill>
                <a:latin typeface="Times New Roman"/>
              </a:rPr>
              <a:t>أولا: برنامج كورت لتعليم التفكير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oRT</a:t>
            </a:r>
            <a:r>
              <a:rPr b="0" lang="ar-BH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(Ed. De Bono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BH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ar-BH" sz="2400" spc="-1" strike="noStrike">
                <a:solidFill>
                  <a:srgbClr val="ffffff"/>
                </a:solidFill>
                <a:latin typeface="Times New Roman"/>
              </a:rPr>
              <a:t>يتكون هذا البرنامج من ستة أقسام و يحتوي كل قسم على </a:t>
            </a:r>
            <a:r>
              <a:rPr b="0" lang="ar-BH" sz="24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ar-BH" sz="2400" spc="-1" strike="noStrike">
                <a:solidFill>
                  <a:srgbClr val="ffffff"/>
                </a:solidFill>
                <a:latin typeface="Times New Roman"/>
              </a:rPr>
              <a:t> دروس ، يدور كل قسم  حول موضوع مهم كالآتي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BH" sz="2400" spc="-1" strike="noStrike">
                <a:solidFill>
                  <a:srgbClr val="ffffff"/>
                </a:solidFill>
                <a:latin typeface="Times New Roman"/>
              </a:rPr>
              <a:t>القسم الأول: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RT 1</a:t>
            </a:r>
            <a:r>
              <a:rPr b="0" lang="ar-BH" sz="2400" spc="-1" strike="noStrike">
                <a:solidFill>
                  <a:srgbClr val="ffffff"/>
                </a:solidFill>
                <a:latin typeface="Times New Roman"/>
              </a:rPr>
              <a:t> : يتناول موضوع توسعة مجال الادراك لدى الطلبة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BH" sz="2400" spc="-1" strike="noStrike">
                <a:solidFill>
                  <a:srgbClr val="ffffff"/>
                </a:solidFill>
                <a:latin typeface="Times New Roman"/>
              </a:rPr>
              <a:t>القسم الثاني: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RT 2</a:t>
            </a:r>
            <a:r>
              <a:rPr b="0" lang="ar-BH" sz="2400" spc="-1" strike="noStrike">
                <a:solidFill>
                  <a:srgbClr val="ffffff"/>
                </a:solidFill>
                <a:latin typeface="Times New Roman"/>
              </a:rPr>
              <a:t>  : يركز على تنظيم عملية التفكير لدى الطلبة ، حيث يتم التركيز على أدوات التفكير و استخدامها بكل دقة و اتقان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BH" sz="2400" spc="-1" strike="noStrike">
                <a:solidFill>
                  <a:srgbClr val="ffffff"/>
                </a:solidFill>
                <a:latin typeface="Times New Roman"/>
              </a:rPr>
              <a:t>القسم الثالث: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RT 3</a:t>
            </a:r>
            <a:r>
              <a:rPr b="0" lang="ar-BH" sz="2400" spc="-1" strike="noStrike">
                <a:solidFill>
                  <a:srgbClr val="ffffff"/>
                </a:solidFill>
                <a:latin typeface="Times New Roman"/>
              </a:rPr>
              <a:t>  : يتناول عملية التفاعل بين تفكير الطالب وتفكير الآخرين من حوله ، و مدى الاستفادة من الحوار أو النقاش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4400" spc="-1" strike="noStrike">
                <a:solidFill>
                  <a:srgbClr val="feec94"/>
                </a:solidFill>
                <a:latin typeface="Times New Roman"/>
              </a:rPr>
              <a:t>برامج تعليم مهارات التفكير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BH" sz="2400" spc="-1" strike="noStrike">
                <a:solidFill>
                  <a:srgbClr val="ffffff"/>
                </a:solidFill>
                <a:latin typeface="Times New Roman"/>
              </a:rPr>
              <a:t>القسم الرابع: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RT 4</a:t>
            </a:r>
            <a:r>
              <a:rPr b="0" lang="ar-BH" sz="2400" spc="-1" strike="noStrike">
                <a:solidFill>
                  <a:srgbClr val="ffffff"/>
                </a:solidFill>
                <a:latin typeface="Times New Roman"/>
              </a:rPr>
              <a:t>  : يتم فيه التركيز على الابداع و التفكير الابداعي لدى الطلبة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BH" sz="2400" spc="-1" strike="noStrike">
                <a:solidFill>
                  <a:srgbClr val="ffffff"/>
                </a:solidFill>
                <a:latin typeface="Times New Roman"/>
              </a:rPr>
              <a:t>القسم الخامس :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RT 5</a:t>
            </a:r>
            <a:r>
              <a:rPr b="0" lang="ar-BH" sz="2400" spc="-1" strike="noStrike">
                <a:solidFill>
                  <a:srgbClr val="ffffff"/>
                </a:solidFill>
                <a:latin typeface="Times New Roman"/>
              </a:rPr>
              <a:t>  : يتناول المعلومات و العواطف لدى الطلبة و تأثيرها على التفكير. حيث يتناول طلب المعلومات و تقييمها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BH" sz="2400" spc="-1" strike="noStrike">
                <a:solidFill>
                  <a:srgbClr val="ffffff"/>
                </a:solidFill>
                <a:latin typeface="Times New Roman"/>
              </a:rPr>
              <a:t>القسم السادس: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RT 6</a:t>
            </a:r>
            <a:r>
              <a:rPr b="0" lang="ar-BH" sz="2400" spc="-1" strike="noStrike">
                <a:solidFill>
                  <a:srgbClr val="ffffff"/>
                </a:solidFill>
                <a:latin typeface="Times New Roman"/>
              </a:rPr>
              <a:t>  : و يدور حول الفعل أو الأفعال ذات العلاقة بتفكير الطلبة. و يتحدد عمله باتخاذ   ”اجراء”   أو   ”فعل“   خاص بالتفكير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4400" spc="-1" strike="noStrike">
                <a:solidFill>
                  <a:srgbClr val="feec94"/>
                </a:solidFill>
                <a:latin typeface="Times New Roman"/>
              </a:rPr>
              <a:t>برامج تعليم مهارات التفكير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BH" sz="2800" spc="-1" strike="noStrike">
                <a:solidFill>
                  <a:srgbClr val="ffff00"/>
                </a:solidFill>
                <a:latin typeface="Times New Roman"/>
              </a:rPr>
              <a:t>ثانيا: برنامج القبعات الست لتعليم التفكير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(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Ed. De Bono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Six Hats Thinking Progra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BH" sz="2000" spc="-1" strike="noStrike">
                <a:solidFill>
                  <a:srgbClr val="ffffff"/>
                </a:solidFill>
                <a:latin typeface="Times New Roman"/>
              </a:rPr>
              <a:t>ترمز القبعات إلى طرق معينة في التفكير ، و تعطي كل نوع من التفكير اسمه و تحدد مهامه. و يفضل استخدامها في مجموعة لا بشكل فردي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BH" sz="2000" spc="-1" strike="noStrike">
                <a:solidFill>
                  <a:srgbClr val="ffffff"/>
                </a:solidFill>
                <a:latin typeface="Times New Roman"/>
              </a:rPr>
              <a:t> و القبعات الست هي: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BH" sz="2400" spc="-1" strike="noStrike">
                <a:solidFill>
                  <a:srgbClr val="ffff00"/>
                </a:solidFill>
                <a:latin typeface="Times New Roman"/>
              </a:rPr>
              <a:t>1</a:t>
            </a:r>
            <a:r>
              <a:rPr b="0" lang="ar-BH" sz="2400" spc="-1" strike="noStrike">
                <a:solidFill>
                  <a:srgbClr val="ffff00"/>
                </a:solidFill>
                <a:latin typeface="Times New Roman"/>
              </a:rPr>
              <a:t>- تفكير القبعة البيضاء: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White Hat Thinking</a:t>
            </a:r>
            <a:r>
              <a:rPr b="0" lang="ar-BH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BH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ar-BH" sz="2000" spc="-1" strike="noStrike">
                <a:solidFill>
                  <a:srgbClr val="ffffff"/>
                </a:solidFill>
                <a:latin typeface="Times New Roman"/>
              </a:rPr>
              <a:t>( التعرض للمعلومات و الحقائق بشكل حيادي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BH" sz="2000" spc="-1" strike="noStrike">
                <a:solidFill>
                  <a:srgbClr val="ffffff"/>
                </a:solidFill>
                <a:latin typeface="Times New Roman"/>
              </a:rPr>
              <a:t>يهتم الفرد الذي يرتدي هذه القبعة (مجازيا) بطلب المعلومات والبيانات و الحقائق و الاحصائيات ، ثم يحاول الوصول إلى نتائج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BH" sz="2400" spc="-1" strike="noStrike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ar-BH" sz="2400" spc="-1" strike="noStrike">
                <a:solidFill>
                  <a:srgbClr val="ffff00"/>
                </a:solidFill>
                <a:latin typeface="Times New Roman"/>
              </a:rPr>
              <a:t>- تفكير القبعة الحمراء: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Red Hat Thinking</a:t>
            </a:r>
            <a:r>
              <a:rPr b="0" lang="ar-BH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BH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ar-BH" sz="2000" spc="-1" strike="noStrike">
                <a:solidFill>
                  <a:srgbClr val="ffffff"/>
                </a:solidFill>
                <a:latin typeface="Times New Roman"/>
              </a:rPr>
              <a:t>( الكشف عن العواطف المتصلة بالموضوع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BH" sz="2000" spc="-1" strike="noStrike">
                <a:solidFill>
                  <a:srgbClr val="ffffff"/>
                </a:solidFill>
                <a:latin typeface="Times New Roman"/>
              </a:rPr>
              <a:t>يهتم الفرد بالتعبير عن الانفعالات و المشاعر و الأحاسيس و استخدام الحدس. ويقوم الفرد باتباع  المشاعر و الأحاسيس و الحدس لمعالجة الحدث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4400" spc="-1" strike="noStrike">
                <a:solidFill>
                  <a:srgbClr val="feec94"/>
                </a:solidFill>
                <a:latin typeface="Times New Roman"/>
              </a:rPr>
              <a:t>برامج تعليم مهارات التفكير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BH" sz="2400" spc="-1" strike="noStrike">
                <a:solidFill>
                  <a:srgbClr val="ffff00"/>
                </a:solidFill>
                <a:latin typeface="Times New Roman"/>
              </a:rPr>
              <a:t>3</a:t>
            </a:r>
            <a:r>
              <a:rPr b="0" lang="ar-BH" sz="2400" spc="-1" strike="noStrike">
                <a:solidFill>
                  <a:srgbClr val="ffff00"/>
                </a:solidFill>
                <a:latin typeface="Times New Roman"/>
              </a:rPr>
              <a:t>- تفكير القبعة السوداء: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Black Hat thinking</a:t>
            </a:r>
            <a:r>
              <a:rPr b="0" lang="ar-BH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BH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ar-BH" sz="2000" spc="-1" strike="noStrike">
                <a:solidFill>
                  <a:srgbClr val="ffffff"/>
                </a:solidFill>
                <a:latin typeface="Times New Roman"/>
              </a:rPr>
              <a:t>( النقد الذي يعتمد على المنطق و الحجج و الأسانيد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BH" sz="2000" spc="-1" strike="noStrike">
                <a:solidFill>
                  <a:srgbClr val="ffffff"/>
                </a:solidFill>
                <a:latin typeface="Times New Roman"/>
              </a:rPr>
              <a:t>يهتم الفرد باصدار الأحكام ، و كيف يؤكد حكمه على أن الاقتراح لا يتماشى مع الحقائق أو التجربة المتوفرة أو النظام أو السياسة المتبعة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BH" sz="2400" spc="-1" strike="noStrike">
                <a:solidFill>
                  <a:srgbClr val="ffff00"/>
                </a:solidFill>
                <a:latin typeface="Times New Roman"/>
              </a:rPr>
              <a:t>4</a:t>
            </a:r>
            <a:r>
              <a:rPr b="0" lang="ar-BH" sz="2400" spc="-1" strike="noStrike">
                <a:solidFill>
                  <a:srgbClr val="ffff00"/>
                </a:solidFill>
                <a:latin typeface="Times New Roman"/>
              </a:rPr>
              <a:t>- تفكير القبعة الصفراء: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Yellow Hat Thinking</a:t>
            </a:r>
            <a:r>
              <a:rPr b="0" lang="ar-BH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BH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ar-BH" sz="2000" spc="-1" strike="noStrike">
                <a:solidFill>
                  <a:srgbClr val="ffffff"/>
                </a:solidFill>
                <a:latin typeface="Times New Roman"/>
              </a:rPr>
              <a:t>( الاهتمام بالجوانب الايجابية المتفائلة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BH" sz="2000" spc="-1" strike="noStrike">
                <a:solidFill>
                  <a:srgbClr val="ffffff"/>
                </a:solidFill>
                <a:latin typeface="Times New Roman"/>
              </a:rPr>
              <a:t>يدور التفكير هنا حول الجوانب الايجابية أو النافعة ، بحيث يتم توضيح السبب الذي يبرر القول بنجاح الأمر المطروح. ويكون هذا التفكير أكثر من مجرد أحكام عقلية و اقتراحات ايجابية ، بل هو موقف عقلي متفائل و ايجابي يجعل الفرد يبصر الجوانب الايجابية مما يفسح المجال لاغتنام الفرص و اختيارها.</a:t>
            </a:r>
            <a:r>
              <a:rPr b="0" lang="ar-BH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ar-BH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ar-BH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ar-BH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ar-BH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ar-BH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ar-BH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ar-BH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ar-BH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ar-BH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ar-BH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ar-BH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ar-BH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BH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4400" spc="-1" strike="noStrike">
                <a:solidFill>
                  <a:srgbClr val="feec94"/>
                </a:solidFill>
                <a:latin typeface="Times New Roman"/>
              </a:rPr>
              <a:t>برامج تعليم مهارات التفكير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BH" sz="2800" spc="-1" strike="noStrike">
                <a:solidFill>
                  <a:srgbClr val="ffff00"/>
                </a:solidFill>
                <a:latin typeface="Times New Roman"/>
              </a:rPr>
              <a:t>5</a:t>
            </a:r>
            <a:r>
              <a:rPr b="0" lang="ar-BH" sz="2800" spc="-1" strike="noStrike">
                <a:solidFill>
                  <a:srgbClr val="ffff00"/>
                </a:solidFill>
                <a:latin typeface="Times New Roman"/>
              </a:rPr>
              <a:t>- تفكير القبعة الخضراء: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Green Hat Thinking</a:t>
            </a:r>
            <a:r>
              <a:rPr b="0" lang="ar-BH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BH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ar-BH" sz="2400" spc="-1" strike="noStrike">
                <a:solidFill>
                  <a:srgbClr val="ffffff"/>
                </a:solidFill>
                <a:latin typeface="Times New Roman"/>
              </a:rPr>
              <a:t>( تهتم بالابداع و ايجاد البدائل و التغيير 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BH" sz="2400" spc="-1" strike="noStrike">
                <a:solidFill>
                  <a:srgbClr val="ffffff"/>
                </a:solidFill>
                <a:latin typeface="Times New Roman"/>
              </a:rPr>
              <a:t>يطلب من الفرد بذل المزيد من الجهد في الحصول على ما يريد بطرق ابداعية متنوعة ، و اقتراحات و بدائل تثير التفكير ، بحيث يتم التحرك من فكرة لأخرى و من حل لآخر حتى يتم اختيار الأنسب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BH" sz="2800" spc="-1" strike="noStrike">
                <a:solidFill>
                  <a:srgbClr val="ffff00"/>
                </a:solidFill>
                <a:latin typeface="Times New Roman"/>
              </a:rPr>
              <a:t>6</a:t>
            </a:r>
            <a:r>
              <a:rPr b="0" lang="ar-BH" sz="2800" spc="-1" strike="noStrike">
                <a:solidFill>
                  <a:srgbClr val="ffff00"/>
                </a:solidFill>
                <a:latin typeface="Times New Roman"/>
              </a:rPr>
              <a:t>- تفكير القبعة الزرقاء: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Blue Hat Thinking</a:t>
            </a:r>
            <a:r>
              <a:rPr b="0" lang="ar-BH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BH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BH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ar-BH" sz="2400" spc="-1" strike="noStrike">
                <a:solidFill>
                  <a:srgbClr val="ffffff"/>
                </a:solidFill>
                <a:latin typeface="Times New Roman"/>
              </a:rPr>
              <a:t>( توجيه عملية التفكير 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BH" sz="2400" spc="-1" strike="noStrike">
                <a:solidFill>
                  <a:srgbClr val="ffffff"/>
                </a:solidFill>
                <a:latin typeface="Times New Roman"/>
              </a:rPr>
              <a:t>يقوم صاحب هذه القبعة بتحديد أي القبعات يجب تنشيطها و متى يكون عملها. انه يضع الخطة الأفضل لتفكير القبعات المختلفة و يتابع اعطاء التعليمات في نسق معين و دقيق.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eec94"/>
                </a:solidFill>
                <a:latin typeface="Times New Roman"/>
              </a:rPr>
              <a:t>تعريف التفكير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BH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ar-BH" sz="2800" spc="-1" strike="noStrike">
                <a:solidFill>
                  <a:srgbClr val="ffffff"/>
                </a:solidFill>
                <a:latin typeface="Times New Roman"/>
              </a:rPr>
              <a:t>تعريف باير (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yer</a:t>
            </a:r>
            <a:r>
              <a:rPr b="0" lang="ar-BH" sz="2800" spc="-1" strike="noStrike">
                <a:solidFill>
                  <a:srgbClr val="ffffff"/>
                </a:solidFill>
                <a:latin typeface="Times New Roman"/>
              </a:rPr>
              <a:t> 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BH" sz="2800" spc="-1" strike="noStrike">
                <a:solidFill>
                  <a:srgbClr val="ffffff"/>
                </a:solidFill>
                <a:latin typeface="Times New Roman"/>
              </a:rPr>
              <a:t>عملية عقلية يستطيع المتعلم عن طريقها عمل شيء ذي معنى من خلال الخبرة التي يمر بها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BH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BH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ar-BH" sz="2800" spc="-1" strike="noStrike">
                <a:solidFill>
                  <a:srgbClr val="ffffff"/>
                </a:solidFill>
                <a:latin typeface="Times New Roman"/>
              </a:rPr>
              <a:t>تعريف ويلسون (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ilson</a:t>
            </a:r>
            <a:r>
              <a:rPr b="0" lang="ar-BH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BH" sz="2800" spc="-1" strike="noStrike">
                <a:solidFill>
                  <a:srgbClr val="ffffff"/>
                </a:solidFill>
                <a:latin typeface="Times New Roman"/>
              </a:rPr>
              <a:t>عملية عقلية يتم عن طريقها معرفة الكثير من الأمور وتذكرها وفهمها و تقبلها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BH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ar-BH" sz="2800" spc="-1" strike="noStrike">
                <a:solidFill>
                  <a:srgbClr val="ffffff"/>
                </a:solidFill>
                <a:latin typeface="Times New Roman"/>
              </a:rPr>
              <a:t>تعريف هايمان (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iman</a:t>
            </a:r>
            <a:r>
              <a:rPr b="0" lang="ar-BH" sz="2800" spc="-1" strike="noStrike">
                <a:solidFill>
                  <a:srgbClr val="ffffff"/>
                </a:solidFill>
                <a:latin typeface="Times New Roman"/>
              </a:rPr>
              <a:t> 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BH" sz="2800" spc="-1" strike="noStrike">
                <a:solidFill>
                  <a:srgbClr val="ffffff"/>
                </a:solidFill>
                <a:latin typeface="Times New Roman"/>
              </a:rPr>
              <a:t>عملية نشطة تشتمل على أحداث كثيرة تتراوح ما بين الأحلام اليومية البسيطة إلى حل المشكلات الصعبة، و تشكل حوارا داخليا مستمرا ومصاحبا لأفعال متعددة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4400" spc="-1" strike="noStrike">
                <a:solidFill>
                  <a:srgbClr val="feec94"/>
                </a:solidFill>
                <a:latin typeface="Times New Roman"/>
              </a:rPr>
              <a:t>تعريف التفكير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BH" sz="3200" spc="-1" strike="noStrike">
                <a:solidFill>
                  <a:srgbClr val="ffffff"/>
                </a:solidFill>
                <a:latin typeface="Times New Roman"/>
              </a:rPr>
              <a:t>تعريفات أخرى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BH" sz="3200" spc="-1" strike="noStrike">
                <a:solidFill>
                  <a:srgbClr val="ffffff"/>
                </a:solidFill>
                <a:latin typeface="Times New Roman"/>
              </a:rPr>
              <a:t>هو ما يجول في الذهن من عمليات تسبق القول و الفعل ، بحيث تبدأ بما نحس به أو نتذكره أو نراه ، ثم نعمل على تقييم ما نفهمه محاولين حل المشكلات التي تعترضنا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BH" sz="3200" spc="-1" strike="noStrike">
                <a:solidFill>
                  <a:srgbClr val="ffffff"/>
                </a:solidFill>
                <a:latin typeface="Times New Roman"/>
              </a:rPr>
              <a:t>يمثل سلسلة من الأنشطة العقلية غير المرئية التي يقوم بها الدماغ عندما يتعرض لمثير يتم استقباله عن طريق احدى الحواس ، وذلك بحثا عن معنى محدد في الموقف التعليمي المطروح أو الخبرة التعليمية المتوفرة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4400" spc="-1" strike="noStrike">
                <a:solidFill>
                  <a:srgbClr val="feec94"/>
                </a:solidFill>
                <a:latin typeface="Times New Roman"/>
              </a:rPr>
              <a:t>مستويات المجال المعرفي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BH" sz="3200" spc="-1" strike="noStrike">
                <a:solidFill>
                  <a:srgbClr val="ffffff"/>
                </a:solidFill>
                <a:latin typeface="Times New Roman"/>
              </a:rPr>
              <a:t>تصنيف بلوم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loom</a:t>
            </a:r>
            <a:r>
              <a:rPr b="0" lang="ar-BH" sz="3200" spc="-1" strike="noStrike">
                <a:solidFill>
                  <a:srgbClr val="ffffff"/>
                </a:solidFill>
                <a:latin typeface="Times New Roman"/>
              </a:rPr>
              <a:t>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BH" sz="3200" spc="-1" strike="noStrike">
                <a:solidFill>
                  <a:srgbClr val="ffffff"/>
                </a:solidFill>
                <a:latin typeface="Times New Roman"/>
              </a:rPr>
              <a:t>مستويات التفكير الدنيا: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ow level thinking skil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BH" sz="32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ar-BH" sz="3200" spc="-1" strike="noStrike">
                <a:solidFill>
                  <a:srgbClr val="ffffff"/>
                </a:solidFill>
                <a:latin typeface="Times New Roman"/>
              </a:rPr>
              <a:t>- التذكر/الحفظ: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nowledge</a:t>
            </a:r>
            <a:r>
              <a:rPr b="0" lang="ar-BH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BH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ar-BH" sz="2400" spc="-1" strike="noStrike">
                <a:solidFill>
                  <a:srgbClr val="ffffff"/>
                </a:solidFill>
                <a:latin typeface="Times New Roman"/>
              </a:rPr>
              <a:t>أن: يحدد / يتذكر / يعيد / يسرد / يسمي / يذكر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BH" sz="32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ar-BH" sz="3200" spc="-1" strike="noStrike">
                <a:solidFill>
                  <a:srgbClr val="ffffff"/>
                </a:solidFill>
                <a:latin typeface="Times New Roman"/>
              </a:rPr>
              <a:t>- الفهم/الاستيعاب: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prehension</a:t>
            </a:r>
            <a:r>
              <a:rPr b="0" lang="ar-BH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BH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ar-BH" sz="2400" spc="-1" strike="noStrike">
                <a:solidFill>
                  <a:srgbClr val="ffffff"/>
                </a:solidFill>
                <a:latin typeface="Times New Roman"/>
              </a:rPr>
              <a:t>أن: يلخص / يناقش / يصف / يتعرف / يشرح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BH" sz="32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ar-BH" sz="3200" spc="-1" strike="noStrike">
                <a:solidFill>
                  <a:srgbClr val="ffffff"/>
                </a:solidFill>
                <a:latin typeface="Times New Roman"/>
              </a:rPr>
              <a:t>- التطبيق: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pplic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BH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ar-BH" sz="2400" spc="-1" strike="noStrike">
                <a:solidFill>
                  <a:srgbClr val="ffffff"/>
                </a:solidFill>
                <a:latin typeface="Times New Roman"/>
              </a:rPr>
              <a:t>أن: يستعرض / يحاكي / يطبق / يستخدم / يجرب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4400" spc="-1" strike="noStrike">
                <a:solidFill>
                  <a:srgbClr val="feec94"/>
                </a:solidFill>
                <a:latin typeface="Times New Roman"/>
              </a:rPr>
              <a:t>مستويات المجال المعرفي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BH" sz="3200" spc="-1" strike="noStrike">
                <a:solidFill>
                  <a:srgbClr val="ffffff"/>
                </a:solidFill>
                <a:latin typeface="Times New Roman"/>
              </a:rPr>
              <a:t>تصنيف بلوم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loom</a:t>
            </a:r>
            <a:r>
              <a:rPr b="0" lang="ar-BH" sz="32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BH" sz="3200" spc="-1" strike="noStrike">
                <a:solidFill>
                  <a:srgbClr val="ffffff"/>
                </a:solidFill>
                <a:latin typeface="Times New Roman"/>
              </a:rPr>
              <a:t>مستويات التفكير العليا: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igh level thinking skil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BH" sz="32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ar-BH" sz="3200" spc="-1" strike="noStrike">
                <a:solidFill>
                  <a:srgbClr val="ffffff"/>
                </a:solidFill>
                <a:latin typeface="Times New Roman"/>
              </a:rPr>
              <a:t>- التحليل: ِِِ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alys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BH" sz="2400" spc="-1" strike="noStrike">
                <a:solidFill>
                  <a:srgbClr val="ffffff"/>
                </a:solidFill>
                <a:latin typeface="Times New Roman"/>
              </a:rPr>
              <a:t>أن: يصنف / يحلل / يقارن / يفرق / ينظم / يقارن / يختبر / يستكشف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BH" sz="32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0" lang="ar-BH" sz="3200" spc="-1" strike="noStrike">
                <a:solidFill>
                  <a:srgbClr val="ffffff"/>
                </a:solidFill>
                <a:latin typeface="Times New Roman"/>
              </a:rPr>
              <a:t>- التركيب: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ynthesis</a:t>
            </a:r>
            <a:r>
              <a:rPr b="0" lang="ar-BH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BH" sz="2400" spc="-1" strike="noStrike">
                <a:solidFill>
                  <a:srgbClr val="ffffff"/>
                </a:solidFill>
                <a:latin typeface="Times New Roman"/>
              </a:rPr>
              <a:t>أن: يؤلف / يخطط / يعد / ينتج / يطور / يصمم / يركب / يخمن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BH" sz="3200" spc="-1" strike="noStrike">
                <a:solidFill>
                  <a:srgbClr val="ffffff"/>
                </a:solidFill>
                <a:latin typeface="Times New Roman"/>
              </a:rPr>
              <a:t>6</a:t>
            </a:r>
            <a:r>
              <a:rPr b="0" lang="ar-BH" sz="3200" spc="-1" strike="noStrike">
                <a:solidFill>
                  <a:srgbClr val="ffffff"/>
                </a:solidFill>
                <a:latin typeface="Times New Roman"/>
              </a:rPr>
              <a:t>- التقويم: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r>
              <a:rPr b="0" lang="ar-BH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BH" sz="2400" spc="-1" strike="noStrike">
                <a:solidFill>
                  <a:srgbClr val="ffffff"/>
                </a:solidFill>
                <a:latin typeface="Times New Roman"/>
              </a:rPr>
              <a:t>أن: يحكم / يقوم / يقرر / يقيس / يستنبط / يوجز / يوصي / يختار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4400" spc="-1" strike="noStrike">
                <a:solidFill>
                  <a:srgbClr val="feec94"/>
                </a:solidFill>
                <a:latin typeface="Times New Roman"/>
              </a:rPr>
              <a:t>أنماط التفكير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BH" sz="2800" spc="-1" strike="noStrike">
                <a:solidFill>
                  <a:srgbClr val="ffffff"/>
                </a:solidFill>
                <a:latin typeface="Times New Roman"/>
              </a:rPr>
              <a:t>يصنف التفكير حسب فاعليته إلى نمطين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BH" sz="2800" spc="-1" strike="noStrike">
                <a:solidFill>
                  <a:srgbClr val="ffff00"/>
                </a:solidFill>
                <a:latin typeface="Times New Roman"/>
              </a:rPr>
              <a:t>أولا: التفكير الفعال: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Effective Thinking</a:t>
            </a:r>
            <a:r>
              <a:rPr b="0" lang="ar-BH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BH" sz="2800" spc="-1" strike="noStrike">
                <a:solidFill>
                  <a:srgbClr val="ffffff"/>
                </a:solidFill>
                <a:latin typeface="Times New Roman"/>
              </a:rPr>
              <a:t>ويتحقق هذا النمط ضمن شرطين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BH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ar-BH" sz="2800" spc="-1" strike="noStrike">
                <a:solidFill>
                  <a:srgbClr val="ffffff"/>
                </a:solidFill>
                <a:latin typeface="Times New Roman"/>
              </a:rPr>
              <a:t>الأول: استخدام أفضل المعلومات المتوفرة من حيث دقتها و كفايتها وعلاقتها بالموضوع المطروح للنقاش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BH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ar-BH" sz="2800" spc="-1" strike="noStrike">
                <a:solidFill>
                  <a:srgbClr val="ffffff"/>
                </a:solidFill>
                <a:latin typeface="Times New Roman"/>
              </a:rPr>
              <a:t>الثاني: اتباع منهجية علمية سليمة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BH" sz="2800" spc="-1" strike="noStrike">
                <a:solidFill>
                  <a:srgbClr val="ffffff"/>
                </a:solidFill>
                <a:latin typeface="Times New Roman"/>
              </a:rPr>
              <a:t>ويتطلب هذا النمط استخدام مهارات التفكير المتنوعة و استراتيجياتها المختلفة بدرجة عالية، وأن يتمتع المتعلم بخصائص شخصية و فكرية كالرغبة في تحديد المشكلة، و استخدام مصادر موثوقة، والبحث عن بدائل و الانفتاح على الافكار الجديدة، والالتزام بالموضوعية وغيرها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4400" spc="-1" strike="noStrike">
                <a:solidFill>
                  <a:srgbClr val="feec94"/>
                </a:solidFill>
                <a:latin typeface="Times New Roman"/>
              </a:rPr>
              <a:t>أنماط التفكير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BH" sz="3200" spc="-1" strike="noStrike">
                <a:solidFill>
                  <a:srgbClr val="ffff00"/>
                </a:solidFill>
                <a:latin typeface="Times New Roman"/>
              </a:rPr>
              <a:t>ثانيا: التفكير غير الفعال: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effective Thinking</a:t>
            </a:r>
            <a:r>
              <a:rPr b="0" lang="ar-BH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BH" sz="3200" spc="-1" strike="noStrike">
                <a:solidFill>
                  <a:srgbClr val="ffffff"/>
                </a:solidFill>
                <a:latin typeface="Times New Roman"/>
              </a:rPr>
              <a:t>وهو التفكير الذي لا يتبع منهجية واضحة أو دقيقة ويقوم على افتراضات باطلة أو متناقضة ، أو ادعاءات وحجج غير متصلة بالموضوع ، أو اعطاء احكام وتعميمات متسرعة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BH" sz="3200" spc="-1" strike="noStrike">
                <a:solidFill>
                  <a:srgbClr val="ffffff"/>
                </a:solidFill>
                <a:latin typeface="Times New Roman"/>
              </a:rPr>
              <a:t>ويتصف المتعلم بالتردد في اتخاذ القرارات و الابتعاد عن صلب الموضوع و اللجوء إلى حسم الموافق بطريقة مزاجية و طرح فرضيات مخالفة للواقع، و النظر إلى المشكلات المعقدة بطريقة سطحية مبسطة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4400" spc="-1" strike="noStrike">
                <a:solidFill>
                  <a:srgbClr val="feec94"/>
                </a:solidFill>
                <a:latin typeface="Times New Roman"/>
              </a:rPr>
              <a:t>عناصر نجاح عملية تعليم التفكير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BH" sz="3200" spc="-1" strike="noStrike">
                <a:solidFill>
                  <a:srgbClr val="ffff00"/>
                </a:solidFill>
                <a:latin typeface="Times New Roman"/>
              </a:rPr>
              <a:t>أولا: المعلم الفعال/المؤهل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BH" sz="2400" spc="-1" strike="noStrike">
                <a:solidFill>
                  <a:srgbClr val="ffffff"/>
                </a:solidFill>
                <a:latin typeface="Times New Roman"/>
              </a:rPr>
              <a:t>ينبغي على المعلم أن يتصف بعدة صفات منها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BH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ar-BH" sz="2400" spc="-1" strike="noStrike">
                <a:solidFill>
                  <a:srgbClr val="ffffff"/>
                </a:solidFill>
                <a:latin typeface="Times New Roman"/>
              </a:rPr>
              <a:t>- الالمام بخصائص التفكير الفعال و مهارات التفكير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BH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ar-BH" sz="2400" spc="-1" strike="noStrike">
                <a:solidFill>
                  <a:srgbClr val="ffffff"/>
                </a:solidFill>
                <a:latin typeface="Times New Roman"/>
              </a:rPr>
              <a:t>- الايمان بأهمية التفكير في حياة الناس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BH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ar-BH" sz="2400" spc="-1" strike="noStrike">
                <a:solidFill>
                  <a:srgbClr val="ffffff"/>
                </a:solidFill>
                <a:latin typeface="Times New Roman"/>
              </a:rPr>
              <a:t>- متابعة التطورات التربوية و الالمام بالتجديدات في مجال المناهج وطرق التدري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BH" sz="24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ar-BH" sz="2400" spc="-1" strike="noStrike">
                <a:solidFill>
                  <a:srgbClr val="ffffff"/>
                </a:solidFill>
                <a:latin typeface="Times New Roman"/>
              </a:rPr>
              <a:t>- تشجيع المتعلمين على طرح الأسئلة و النقاش الحر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BH" sz="24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0" lang="ar-BH" sz="2400" spc="-1" strike="noStrike">
                <a:solidFill>
                  <a:srgbClr val="ffffff"/>
                </a:solidFill>
                <a:latin typeface="Times New Roman"/>
              </a:rPr>
              <a:t>- تقبل أفكار المتعلمين و تعقيباتهم و تعليقاتهم و اضافاتهم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BH" sz="2400" spc="-1" strike="noStrike">
                <a:solidFill>
                  <a:srgbClr val="ffffff"/>
                </a:solidFill>
                <a:latin typeface="Times New Roman"/>
              </a:rPr>
              <a:t>6</a:t>
            </a:r>
            <a:r>
              <a:rPr b="0" lang="ar-BH" sz="2400" spc="-1" strike="noStrike">
                <a:solidFill>
                  <a:srgbClr val="ffffff"/>
                </a:solidFill>
                <a:latin typeface="Times New Roman"/>
              </a:rPr>
              <a:t>- التركيز على المناقشة الفاعلة ودعم حرية التفكير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BH" sz="2400" spc="-1" strike="noStrike">
                <a:solidFill>
                  <a:srgbClr val="ffffff"/>
                </a:solidFill>
                <a:latin typeface="Times New Roman"/>
              </a:rPr>
              <a:t>7</a:t>
            </a:r>
            <a:r>
              <a:rPr b="0" lang="ar-BH" sz="2400" spc="-1" strike="noStrike">
                <a:solidFill>
                  <a:srgbClr val="ffffff"/>
                </a:solidFill>
                <a:latin typeface="Times New Roman"/>
              </a:rPr>
              <a:t>- تشجيع التعلم النشط ، واتباع منهجية علمية في المناقشات و حل المشكلات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4400" spc="-1" strike="noStrike">
                <a:solidFill>
                  <a:srgbClr val="feec94"/>
                </a:solidFill>
                <a:latin typeface="Times New Roman"/>
              </a:rPr>
              <a:t>عناصر نجاح عملية تعليم التفكير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BH" sz="3200" spc="-1" strike="noStrike">
                <a:solidFill>
                  <a:srgbClr val="ffff00"/>
                </a:solidFill>
                <a:latin typeface="Times New Roman"/>
              </a:rPr>
              <a:t>ثانيا: البيئة التعليمية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BH" sz="2800" spc="-1" strike="noStrike">
                <a:solidFill>
                  <a:srgbClr val="ffffff"/>
                </a:solidFill>
                <a:latin typeface="Times New Roman"/>
              </a:rPr>
              <a:t>حتى تأخذ المدرسة دورها الريادي ، لابد من توفر الآتي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BH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ar-BH" sz="2400" spc="-1" strike="noStrike">
                <a:solidFill>
                  <a:srgbClr val="ffffff"/>
                </a:solidFill>
                <a:latin typeface="Times New Roman"/>
              </a:rPr>
              <a:t>- ايمان جميع العاملين بالمؤسسة التعليمية بأهمية دور المدرسة في تنمية التفكير و تعليمه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BH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ar-BH" sz="2400" spc="-1" strike="noStrike">
                <a:solidFill>
                  <a:srgbClr val="ffffff"/>
                </a:solidFill>
                <a:latin typeface="Times New Roman"/>
              </a:rPr>
              <a:t>- تركيز المنهج المدرسي على عملية التفكير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BH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ar-BH" sz="2400" spc="-1" strike="noStrike">
                <a:solidFill>
                  <a:srgbClr val="ffffff"/>
                </a:solidFill>
                <a:latin typeface="Times New Roman"/>
              </a:rPr>
              <a:t>- ضرورة ممارسة الطلبة لعمليات التفكير بحرية تامة  في مناخ تربوي مستقر و آمن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BH" sz="24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ar-BH" sz="2400" spc="-1" strike="noStrike">
                <a:solidFill>
                  <a:srgbClr val="ffffff"/>
                </a:solidFill>
                <a:latin typeface="Times New Roman"/>
              </a:rPr>
              <a:t>- وفرة المصادر التعليمية المتنوعة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BH" sz="24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0" lang="ar-BH" sz="2400" spc="-1" strike="noStrike">
                <a:solidFill>
                  <a:srgbClr val="ffffff"/>
                </a:solidFill>
                <a:latin typeface="Times New Roman"/>
              </a:rPr>
              <a:t>- أن يكون المتعلم هو محور العملية التعليمية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BH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6T11:52:06Z</dcterms:created>
  <dc:creator>Microsoft</dc:creator>
  <dc:description/>
  <dc:language>en-US</dc:language>
  <cp:lastModifiedBy>moe</cp:lastModifiedBy>
  <dcterms:modified xsi:type="dcterms:W3CDTF">2006-05-07T05:23:22Z</dcterms:modified>
  <cp:revision>21</cp:revision>
  <dc:subject/>
  <dc:title>مدرسة أحمد العمران الثانوية للبنين اللجنة الفنية</dc:title>
</cp:coreProperties>
</file>