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BCA-EEBE-45D9-9C41-84438480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8E2-5571-462A-9AB4-C9CB4FD2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05E-44AB-4703-ADFE-EBF7F256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9C5-08FB-47B6-9AB7-90330D52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AD20-7D45-4F45-A179-ADE6A664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BF64-CE00-44E8-828E-D496FE09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FE9E-FB87-4257-8AC1-58C7DEA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C85F-5FDE-4EA3-8F41-09E374F2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5C39-E837-4C0A-94A3-9B8747ED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7B39-9FE7-451E-8240-41F4B068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1916-78BF-419E-80DF-7CB4B669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7C7-C67B-451C-A0B8-0A0D552F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B469-3EC5-4C7C-96C7-BB9DA79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2A47-527D-40F5-8C52-6C286126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AD8F-349F-4C94-8A6A-6FDAC9DD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3611-49F3-4BDD-AF49-FF0B281B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CC5D-EF7D-4468-B643-BC4700BB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B7F8-1559-4EB7-9C71-5EE61ED3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033E-7E12-4C2E-83F8-B09B91EE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3E8E-A492-45C5-A682-F6426E5F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0C64-1F20-4D7C-B2FA-C833EEB7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9B5C-5A1B-42DF-897C-C72D8321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FC0-57CF-4A8C-87F0-487587C4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C211-4E69-42D2-87F7-58C64F3C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082A-1757-4CA2-B247-E506D60B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EEEB-6480-4990-BED5-5F35797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248D-E240-4077-AB6D-AF5820A1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7AAB-9833-43F1-A41F-F77ACF1B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EDF96-8C3C-48BA-98D0-2F2C5791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1D7A-A820-481A-A8EF-D5636D24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1981-FC16-410C-83E6-BD6F498B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B364-3CD5-49F2-9E46-D266D4C1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906D-E1E2-45A4-BBDA-98F1D2FC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300-1731-4404-98A0-8642F73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0C463-E973-438F-BD04-F792B16F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9C753-4E41-4825-874E-F07DD589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759A-26F7-4B17-B4DB-5D4BA9D9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4070D-88B5-40D7-B1E2-DA2D229F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D1B12-35A8-41C1-B246-ACCFB701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31B6-7A84-403D-845B-EF1493C5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64A0-F417-424E-BAB1-A5D9B5D8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8E08-D840-427D-BF7A-929E31BE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81F4-8B10-4AB1-90EC-70310853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A46-1D06-479B-A319-E300123E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B4C-2695-4C43-8404-FDA96007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30E-9CEF-4CDE-AA7B-1A81C220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322-B6A2-4857-BABA-6C89F20B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9AF-D933-43DF-88F7-3DF83206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7D78-F936-456D-8565-A70AECE1C61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F3F7-9938-46C0-AFD9-153FC04191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079-00BD-46F2-88D3-2F9953A113D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2C1D-43ED-4345-AE92-A2C9AAE7FD7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b7"/>
                </a:solidFill>
                <a:latin typeface="Arial Black"/>
              </a:rPr>
              <a:t>مدرسة أحمد العمران الثانوية للبنين</a:t>
            </a:r>
            <a:br>
              <a:rPr sz="2400"/>
            </a:br>
            <a:r>
              <a:rPr b="1" lang="ar-BH" sz="2400" spc="-1" strike="noStrike">
                <a:solidFill>
                  <a:srgbClr val="ffffb7"/>
                </a:solidFill>
                <a:latin typeface="Arial Black"/>
              </a:rPr>
              <a:t>اللجنة الفنية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16000" y="2133360"/>
            <a:ext cx="67816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التفكير</a:t>
            </a: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مفاهيم و مها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Arial"/>
              </a:rPr>
              <a:t>الجزء الأول</a:t>
            </a:r>
            <a:r>
              <a:rPr b="0" lang="ar-BH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3860640"/>
            <a:ext cx="72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اعداد و تق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أستاذ علي صل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معلم الأول للغة الانجليز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اثنين 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لثا: أساليب التقوي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تمثل أساليب التقويم ركيزة أساسية لنجاح عملية تعليم التفكير ، وينبغي اتباع الآتي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ألا تقتصر أساليب التقويم على الاختبارات الشفوية و التحريرية، بل لا بد من استخدام تقنيات أخرى مثل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ملاحظ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ستخدام السجلات التراك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مناقشة الجماع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طريقة لعب الأدوا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تقارير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أولا: برنامج كورت لتعليم التفكير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T</a:t>
            </a: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Ed. De Bon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تكون هذا البرنامج من ستة أقسام و يحتوي كل قسم على 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دروس ، يدور كل قسم  حول موضوع مهم كالآتي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أول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: يتناول موضوع توسعة مجال الادراك لدى الطلب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ثاني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ركز على تنظيم عملية التفكير لدى الطلبة ، حيث يتم التركيز على أدوات التفكير و استخدامها بكل دقة و اتقا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ثالث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ناول عملية التفاعل بين تفكير الطالب وتفكير الآخرين من حوله ، و مدى الاستفادة من الحوار أو النقا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رابع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م فيه التركيز على الابداع و التفكير الابداعي لدى الطلب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خامس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ناول المعلومات و العواطف لدى الطلبة و تأثيرها على التفكير. حيث يتناول طلب المعلومات و تقييمها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سادس: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6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و يدور حول الفعل أو الأفعال ذات العلاقة بتفكير الطلبة. و يتحدد عمله باتخاذ   ”اجراء”   أو   ”فعل“   خاص ب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ثانيا: برنامج القبعات الست لتعليم التفكير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d. De Bon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x Hats Thinking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ترمز القبعات إلى طرق معينة في التفكير ، و تعطي كل نوع من التفكير اسمه و تحدد مهامه. و يفضل استخدامها في مجموعة لا بشكل فردي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 و القبعات الست هي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بيض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te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تعرض للمعلومات و الحقائق بشكل حيادي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الذي يرتدي هذه القبعة (مجازيا) بطلب المعلومات والبيانات و الحقائق و الاحصائيات ، ثم يحاول الوصول إلى نتائج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حمر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d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كشف عن العواطف المتصلة بالموضوع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بالتعبير عن الانفعالات و المشاعر و الأحاسيس و استخدام الحدس. ويقوم الفرد باتباع  المشاعر و الأحاسيس و الحدس لمعالجة الحدث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سود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ack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نقد الذي يعتمد على المنطق و الحجج و الأسانيد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باصدار الأحكام ، و كيف يؤكد حكمه على أن الاقتراح لا يتماشى مع الحقائق أو التجربة المتوفرة أو النظام أو السياسة المتبع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صفراء: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اهتمام بالجوانب الايجابية المتفائلة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دور التفكير هنا حول الجوانب الايجابية أو النافعة ، بحيث يتم توضيح السبب الذي يبرر القول بنجاح الأمر المطروح. ويكون هذا التفكير أكثر من مجرد أحكام عقلية و اقتراحات ايجابية ، بل هو موقف عقلي متفائل و ايجابي يجعل الفرد يبصر الجوانب الايجابية مما يفسح المجال لاغتنام الفرص و اختيارها.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- تفكير القبعة الخضراء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een Hat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( تهتم بالابداع و ايجاد البدائل و التغيير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طلب من الفرد بذل المزيد من الجهد في الحصول على ما يريد بطرق ابداعية متنوعة ، و اقتراحات و بدائل تثير التفكير ، بحيث يتم التحرك من فكرة لأخرى و من حل لآخر حتى يتم اختيار الأنسب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- تفكير القبعة الزرقاء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ue Hat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( توجيه عملية التفكير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قوم صاحب هذه القبعة بتحديد أي القبعات يجب تنشيطها و متى يكون عملها. انه يضع الخطة الأفضل لتفكير القبعات المختلفة و يتابع اعطاء التعليمات في نسق معين و دقيق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eec94"/>
                </a:solidFill>
                <a:latin typeface="Times New Roman"/>
              </a:rPr>
              <a:t>تعريف التفكير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باير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er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عقلية يستطيع المتعلم عن طريقها عمل شيء ذي معنى من خلال الخبرة التي يمر به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ويلسون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عقلية يتم عن طريقها معرفة الكثير من الأمور وتذكرها وفهمها و تقبله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هايمان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man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نشطة تشتمل على أحداث كثيرة تتراوح ما بين الأحلام اليومية البسيطة إلى حل المشكلات الصعبة، و تشكل حوارا داخليا مستمرا ومصاحبا لأفعال متعد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تعريف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عريفات أخرى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هو ما يجول في الذهن من عمليات تسبق القول و الفعل ، بحيث تبدأ بما نحس به أو نتذكره أو نراه ، ثم نعمل على تقييم ما نفهمه محاولين حل المشكلات التي تعترضنا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يمثل سلسلة من الأنشطة العقلية غير المرئية التي يقوم بها الدماغ عندما يتعرض لمثير يتم استقباله عن طريق احدى الحواس ، وذلك بحثا عن معنى محدد في الموقف التعليمي المطروح أو الخبرة التعليمية المتوفر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مستويات المجال المعرفي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صنيف بلو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m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مستويات التفكير الدنيا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evel thinking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ذكر/الحفظ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حدد / يتذكر / يعيد / يسرد / يسمي / يذك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فهم/الاستيعاب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لخص / يناقش / يصف / يتعرف / يشر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طبيق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ستعرض / يحاكي / يطبق / يستخدم / يجرب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مستويات المجال المعرف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صنيف بلو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m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مستويات التفكير العليا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level think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حليل: ِِ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صنف / يحلل / يقارن / يفرق / ينظم / يقارن / يختبر / يستكش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ركيب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ؤلف / يخطط / يعد / ينتج / يطور / يصمم / يركب / يخم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قويم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حكم / يقوم / يقرر / يقيس / يستنبط / يوجز / يوصي / يخت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أنماط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يصنف التفكير حسب فاعليته إلى نمطين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أولا: التفكير الفعال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ffective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ويتحقق هذا النمط ضمن شرطين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الأول: استخدام أفضل المعلومات المتوفرة من حيث دقتها و كفايتها وعلاقتها بالموضوع المطروح للنقا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الثاني: اتباع منهجية علمية سليم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ويتطلب هذا النمط استخدام مهارات التفكير المتنوعة و استراتيجياتها المختلفة بدرجة عالية، وأن يتمتع المتعلم بخصائص شخصية و فكرية كالرغبة في تحديد المشكلة، و استخدام مصادر موثوقة، والبحث عن بدائل و الانفتاح على الافكار الجديدة، والالتزام بالموضوعية وغيرها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أنماط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نيا: التفكير غير الفعال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effective Thinking</a:t>
            </a: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وهو التفكير الذي لا يتبع منهجية واضحة أو دقيقة ويقوم على افتراضات باطلة أو متناقضة ، أو ادعاءات وحجج غير متصلة بالموضوع ، أو اعطاء احكام وتعميمات متسرع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ويتصف المتعلم بالتردد في اتخاذ القرارات و الابتعاد عن صلب الموضوع و اللجوء إلى حسم الموافق بطريقة مزاجية و طرح فرضيات مخالفة للواقع، و النظر إلى المشكلات المعقدة بطريقة سطحية مبسط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أولا: المعلم الفعال/المؤه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نبغي على المعلم أن يتصف بعدة صفات منها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المام بخصائص التفكير الفعال و مهارات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ايمان بأهمية التفكير في حياة النا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متابعة التطورات التربوية و الالمام بالتجديدات في مجال المناهج وطرق التدري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شجيع المتعلمين على طرح الأسئلة و النقاش الح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قبل أفكار المتعلمين و تعقيباتهم و تعليقاتهم و اضافاته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تركيز على المناقشة الفاعلة ودعم حرية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شجيع التعلم النشط ، واتباع منهجية علمية في المناقشات و حل المشكل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نيا: البيئة التعلي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حتى تأخذ المدرسة دورها الريادي ، لابد من توفر الآتي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يمان جميع العاملين بالمؤسسة التعليمية بأهمية دور المدرسة في تنمية التفكير و تعليم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ركيز المنهج المدرسي على عملية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ضرورة ممارسة الطلبة لعمليات التفكير بحرية تامة  في مناخ تربوي مستقر و آم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وفرة المصادر التعليمية المتنوع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أن يكون المتعلم هو محور العملية التعليمي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1:52:06Z</dcterms:created>
  <dc:creator>Microsoft</dc:creator>
  <dc:description/>
  <dc:language>en-US</dc:language>
  <cp:lastModifiedBy>moe</cp:lastModifiedBy>
  <dcterms:modified xsi:type="dcterms:W3CDTF">2006-05-07T05:23:22Z</dcterms:modified>
  <cp:revision>21</cp:revision>
  <dc:subject/>
  <dc:title>مدرسة أحمد العمران الثانوية للبنين اللجنة الفنية</dc:title>
</cp:coreProperties>
</file>