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006A-6AEA-4FD0-9A2D-3C36C548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B9D1-B3FA-4082-B0C1-64860066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F37-FFE2-487A-AEFE-6DD8657C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760-00EF-44A6-975F-05F386E5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91CE-C5D8-4A87-86EB-C37A01CE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C2F4-8D97-4F50-B64D-711B7495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6B2F-D12B-4DB7-B16A-A7F9D8D8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E0C4-2566-4C77-ADD6-38C6DDD3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0FB4-6D9D-4919-8928-6DB935B25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55F9-1E4B-467C-A261-6BF6D3B4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F4FC-9E65-4531-AB59-682228EB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43A3-AA87-458B-AE4D-42C32DEE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8C3A-67B3-482B-BEAC-DC5618D3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BED7-FF2F-4618-963A-E0B03580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3444-5797-4D28-AA48-C148F2F1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0536-D3A4-4B27-8FBB-1F97DF87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4172-0157-4398-83C1-67CF6231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F83E6-2B1E-406D-AD93-0186E769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5F20D-DA90-478F-A812-C718778D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F6794-FA83-4983-9B6C-D6568A79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C108D-6F3C-485E-A5F3-64E8DE94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A811A-9155-4AC0-BFE6-03A5E833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9EB-746E-4BD2-AAC2-F16B5DBC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ECEA2-785D-47DA-AB8C-7E454D89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05F25-F08A-40CF-BCD7-D5592369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47EE6-EF18-4F15-B8BC-6289359F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BBF2D-2916-498D-BAC3-6BC94FCE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F0C99-3BE5-4871-8996-B3EAF9D5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738ED-B8BB-44DF-9C52-2E806D42C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99B1-69A5-423B-8B3F-401C7A6E5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AF823-D8D2-4E38-B90F-A6B0878D0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B41F6-E299-4B40-A760-E1ACFC8D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4E4BC-D036-4914-8B37-5386A863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F73B-25D5-4CD8-A217-B7360854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B1F6B-2A07-4A91-AE46-70FE0A1E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04E1B-D7EE-4869-8804-039FCC45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A96D0-AE79-470A-A7F4-E4CE6FC4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97BC5-A19F-4062-A0E5-9C4B21D8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E6C25-7754-4CF4-B0F7-CC4D1958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A0B71-916E-40A6-950C-5DD33C14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28E54-A53D-4D25-91D4-5F27F48E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C3193-F8E0-404A-BF0C-135F24F9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4B7BE-2E1D-430C-BE03-7F03074E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6DA-E7D0-405A-8F40-CDAFF9CB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0E09-ADD9-4FBD-B5C6-76C86EBE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ABB-E8E6-40A7-BB2A-335C6CEB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DB23-1AF5-41C3-9FE3-686F53D6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07B-1D68-4BC0-946F-37804ECE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ECCE-DF9E-47B5-909E-E8366E8AFA6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7101-8430-405A-93B1-72E8F997F93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9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1676-0FAE-41A3-A9BC-59DEDC9E2EE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9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9AB5-D1FF-403D-984C-BF0346B43095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400" spc="-1" strike="noStrike">
                <a:solidFill>
                  <a:srgbClr val="ffffb7"/>
                </a:solidFill>
                <a:latin typeface="Arial Black"/>
              </a:rPr>
              <a:t>مدرسة أحمد العمران الثانوية للبنين</a:t>
            </a:r>
            <a:br>
              <a:rPr sz="2400"/>
            </a:br>
            <a:r>
              <a:rPr b="1" lang="ar-BH" sz="2400" spc="-1" strike="noStrike">
                <a:solidFill>
                  <a:srgbClr val="ffffb7"/>
                </a:solidFill>
                <a:latin typeface="Arial Black"/>
              </a:rPr>
              <a:t>اللجنة الفنية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116000" y="2133360"/>
            <a:ext cx="67816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Arial"/>
              </a:rPr>
              <a:t>التفكير</a:t>
            </a:r>
            <a:r>
              <a:rPr b="1" lang="ar-BH" sz="28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00"/>
                </a:solidFill>
                <a:latin typeface="Arial"/>
              </a:rPr>
              <a:t>مفاهيم و مهار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Arial"/>
              </a:rPr>
              <a:t>الجزء الأول</a:t>
            </a:r>
            <a:r>
              <a:rPr b="0" lang="ar-BH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26920" y="3860640"/>
            <a:ext cx="7201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 اعداد و تقد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الأستاذ علي صلي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المعلم الأول للغة الانجليز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الاثنين  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17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1" lang="ar-BH" sz="2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عناصر نجاح عملية تعليم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ثالثا: أساليب التقوي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تمثل أساليب التقويم ركيزة أساسية لنجاح عملية تعليم التفكير ، وينبغي اتباع الآتي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ألا تقتصر أساليب التقويم على الاختبارات الشفوية و التحريرية، بل لا بد من استخدام تقنيات أخرى مثل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ملاحظ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ستخدام السجلات التراكم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مناقشة الجماع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طريقة لعب الأدوار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تقارير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أولا: برنامج كورت لتعليم التفكير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RT</a:t>
            </a: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Ed. De Bon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يتكون هذا البرنامج من ستة أقسام و يحتوي كل قسم على 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دروس ، يدور كل قسم  حول موضوع مهم كالآتي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أول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1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: يتناول موضوع توسعة مجال الادراك لدى الطلبة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ثاني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2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يركز على تنظيم عملية التفكير لدى الطلبة ، حيث يتم التركيز على أدوات التفكير و استخدامها بكل دقة و اتقا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ثالث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3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يتناول عملية التفاعل بين تفكير الطالب وتفكير الآخرين من حوله ، و مدى الاستفادة من الحوار أو النقا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رابع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4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يتم فيه التركيز على الابداع و التفكير الابداعي لدى الطلبة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خامس 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5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يتناول المعلومات و العواطف لدى الطلبة و تأثيرها على التفكير. حيث يتناول طلب المعلومات و تقييمها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القسم السادس: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T 6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: و يدور حول الفعل أو الأفعال ذات العلاقة بتفكير الطلبة. و يتحدد عمله باتخاذ   ”اجراء”   أو   ”فعل“   خاص بالتفك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ثانيا: برنامج القبعات الست لتعليم التفكير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d. De Bono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x Hats Thinking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ترمز القبعات إلى طرق معينة في التفكير ، و تعطي كل نوع من التفكير اسمه و تحدد مهامه. و يفضل استخدامها في مجموعة لا بشكل فردي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 و القبعات الست هي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- تفكير القبعة البيضاء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White Hat Thinking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( التعرض للمعلومات و الحقائق بشكل حيادي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يهتم الفرد الذي يرتدي هذه القبعة (مجازيا) بطلب المعلومات والبيانات و الحقائق و الاحصائيات ، ثم يحاول الوصول إلى نتائج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- تفكير القبعة الحمراء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d Hat Thinking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( الكشف عن العواطف المتصلة بالموضوع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يهتم الفرد بالتعبير عن الانفعالات و المشاعر و الأحاسيس و استخدام الحدس. ويقوم الفرد باتباع  المشاعر و الأحاسيس و الحدس لمعالجة الحدث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- تفكير القبعة السوداء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lack Hat thinking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( النقد الذي يعتمد على المنطق و الحجج و الأسانيد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يهتم الفرد باصدار الأحكام ، و كيف يؤكد حكمه على أن الاقتراح لا يتماشى مع الحقائق أو التجربة المتوفرة أو النظام أو السياسة المتبعة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- تفكير القبعة الصفراء: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Yellow Hat Thinking</a:t>
            </a:r>
            <a:r>
              <a:rPr b="0" lang="ar-BH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( الاهتمام بالجوانب الايجابية المتفائلة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يدور التفكير هنا حول الجوانب الايجابية أو النافعة ، بحيث يتم توضيح السبب الذي يبرر القول بنجاح الأمر المطروح. ويكون هذا التفكير أكثر من مجرد أحكام عقلية و اقتراحات ايجابية ، بل هو موقف عقلي متفائل و ايجابي يجعل الفرد يبصر الجوانب الايجابية مما يفسح المجال لاغتنام الفرص و اختيارها.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برامج تعليم مهارات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- تفكير القبعة الخضراء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reen Hat Thinking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( تهتم بالابداع و ايجاد البدائل و التغيير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يطلب من الفرد بذل المزيد من الجهد في الحصول على ما يريد بطرق ابداعية متنوعة ، و اقتراحات و بدائل تثير التفكير ، بحيث يتم التحرك من فكرة لأخرى و من حل لآخر حتى يتم اختيار الأنسب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- تفكير القبعة الزرقاء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lue Hat Thinking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( توجيه عملية التفكير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يقوم صاحب هذه القبعة بتحديد أي القبعات يجب تنشيطها و متى يكون عملها. انه يضع الخطة الأفضل لتفكير القبعات المختلفة و يتابع اعطاء التعليمات في نسق معين و دقيق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3200" spc="-1" strike="noStrike">
                <a:solidFill>
                  <a:srgbClr val="feec94"/>
                </a:solidFill>
                <a:latin typeface="Times New Roman"/>
              </a:rPr>
              <a:t>تعريف التفكير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تعريف باير (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yer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 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عملية عقلية يستطيع المتعلم عن طريقها عمل شيء ذي معنى من خلال الخبرة التي يمر بها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تعريف ويلسون (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عملية عقلية يتم عن طريقها معرفة الكثير من الأمور وتذكرها وفهمها و تقبلها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تعريف هايمان (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iman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عملية نشطة تشتمل على أحداث كثيرة تتراوح ما بين الأحلام اليومية البسيطة إلى حل المشكلات الصعبة، و تشكل حوارا داخليا مستمرا ومصاحبا لأفعال متعدد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تعريف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تعريفات أخرى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هو ما يجول في الذهن من عمليات تسبق القول و الفعل ، بحيث تبدأ بما نحس به أو نتذكره أو نراه ، ثم نعمل على تقييم ما نفهمه محاولين حل المشكلات التي تعترضنا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يمثل سلسلة من الأنشطة العقلية غير المرئية التي يقوم بها الدماغ عندما يتعرض لمثير يتم استقباله عن طريق احدى الحواس ، وذلك بحثا عن معنى محدد في الموقف التعليمي المطروح أو الخبرة التعليمية المتوفرة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مستويات المجال المعرفي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تصنيف بلو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m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مستويات التفكير الدنيا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level thinking ski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ذكر/الحفظ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nowledge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حدد / يتذكر / يعيد / يسرد / يسمي / يذك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فهم/الاستيعاب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rehension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لخص / يناقش / يصف / يتعرف / يشر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طبيق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l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ستعرض / يحاكي / يطبق / يستخدم / يجرب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مستويات المجال المعرف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تصنيف بلوم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om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مستويات التفكير العليا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level thinking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حليل: ِِِ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صنف / يحلل / يقارن / يفرق / ينظم / يقارن / يختبر / يستكش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ركيب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thesis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ؤلف / يخطط / يعد / ينتج / يطور / يصمم / يركب / يخم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- التقويم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أن: يحكم / يقوم / يقرر / يقيس / يستنبط / يوجز / يوصي / يخت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أنماط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يصنف التفكير حسب فاعليته إلى نمطين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أولا: التفكير الفعال: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ffective Thinking</a:t>
            </a:r>
            <a:r>
              <a:rPr b="0" lang="ar-BH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ويتحقق هذا النمط ضمن شرطين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الأول: استخدام أفضل المعلومات المتوفرة من حيث دقتها و كفايتها وعلاقتها بالموضوع المطروح للنقاش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الثاني: اتباع منهجية علمية سليمة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ويتطلب هذا النمط استخدام مهارات التفكير المتنوعة و استراتيجياتها المختلفة بدرجة عالية، وأن يتمتع المتعلم بخصائص شخصية و فكرية كالرغبة في تحديد المشكلة، و استخدام مصادر موثوقة، والبحث عن بدائل و الانفتاح على الافكار الجديدة، والالتزام بالموضوعية وغيرها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أنماط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ثانيا: التفكير غير الفعال: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effective Thinking</a:t>
            </a: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وهو التفكير الذي لا يتبع منهجية واضحة أو دقيقة ويقوم على افتراضات باطلة أو متناقضة ، أو ادعاءات وحجج غير متصلة بالموضوع ، أو اعطاء احكام وتعميمات متسرع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ff"/>
                </a:solidFill>
                <a:latin typeface="Times New Roman"/>
              </a:rPr>
              <a:t>ويتصف المتعلم بالتردد في اتخاذ القرارات و الابتعاد عن صلب الموضوع و اللجوء إلى حسم الموافق بطريقة مزاجية و طرح فرضيات مخالفة للواقع، و النظر إلى المشكلات المعقدة بطريقة سطحية مبسطة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عناصر نجاح عملية تعليم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أولا: المعلم الفعال/المؤه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ينبغي على المعلم أن يتصف بعدة صفات منها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المام بخصائص التفكير الفعال و مهارات التفك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ايمان بأهمية التفكير في حياة النا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متابعة التطورات التربوية و الالمام بالتجديدات في مجال المناهج وطرق التدري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تشجيع المتعلمين على طرح الأسئلة و النقاش الح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تقبل أفكار المتعلمين و تعقيباتهم و تعليقاتهم و اضافاتهم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لتركيز على المناقشة الفاعلة ودعم حرية التفك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تشجيع التعلم النشط ، واتباع منهجية علمية في المناقشات و حل المشكلات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BH" sz="4400" spc="-1" strike="noStrike">
                <a:solidFill>
                  <a:srgbClr val="feec94"/>
                </a:solidFill>
                <a:latin typeface="Times New Roman"/>
              </a:rPr>
              <a:t>عناصر نجاح عملية تعليم التفكير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ffff00"/>
                </a:solidFill>
                <a:latin typeface="Times New Roman"/>
              </a:rPr>
              <a:t>ثانيا: البيئة التعليم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Times New Roman"/>
              </a:rPr>
              <a:t>حتى تأخذ المدرسة دورها الريادي ، لابد من توفر الآتي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ايمان جميع العاملين بالمؤسسة التعليمية بأهمية دور المدرسة في تنمية التفكير و تعليمه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تركيز المنهج المدرسي على عملية التفكير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ضرورة ممارسة الطلبة لعمليات التفكير بحرية تامة  في مناخ تربوي مستقر و آم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وفرة المصادر التعليمية المتنوع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- أن يكون المتعلم هو محور العملية التعليمية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1:52:06Z</dcterms:created>
  <dc:creator>Microsoft</dc:creator>
  <dc:description/>
  <dc:language>en-US</dc:language>
  <cp:lastModifiedBy>moe</cp:lastModifiedBy>
  <dcterms:modified xsi:type="dcterms:W3CDTF">2006-05-07T05:23:22Z</dcterms:modified>
  <cp:revision>21</cp:revision>
  <dc:subject/>
  <dc:title>مدرسة أحمد العمران الثانوية للبنين اللجنة الفنية</dc:title>
</cp:coreProperties>
</file>