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BCA-5E1C-4998-90D4-1AA82320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A62-0F87-4543-A034-C85F607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53F-4B24-4616-B799-89DB5D6F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471-6582-4AD9-A255-44A111D3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38D-5791-45B7-B2B8-9A417304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B14-0376-4DD9-BC7F-7F170633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CA5-1C47-420D-9463-4B1930D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73E-FCA7-49C8-B2C6-353AAF74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C46-75A6-49B0-9133-922901EF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EC9-0CD0-4A46-B510-7EB82F6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79E-F0E6-4387-80B1-B90727B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21C-77AD-4923-A392-2D0679B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3CE7-07AB-4963-963F-319A8946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..............</dc:creator>
  <dc:description/>
  <dc:language>en-US</dc:language>
  <cp:lastModifiedBy>SLAIMAN13</cp:lastModifiedBy>
  <dcterms:modified xsi:type="dcterms:W3CDTF">2006-12-07T15:58:52Z</dcterms:modified>
  <cp:revision>9</cp:revision>
  <dc:subject/>
  <dc:title>القبعات الس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