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597-EDE1-4214-BEB5-E915C4D0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BAF-0007-480B-845C-527A7B30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4C2-DC7C-43C2-AE3F-67D72F5F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363-E2C7-4DD8-BAB7-1EF380AA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530-5F88-4842-A2B5-C43AB909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4F1-18F8-4A55-A515-4B420888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127-0C95-415E-ADF0-823BCE49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5FB-781D-4F29-94BA-B55DC90F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744-09EB-4C25-9959-EC7761B6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727-67F3-481D-AE70-4B0FBC49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DDF-0DCF-439D-8C6D-73A1E7A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7DA-3D11-463D-B0C0-CD4027FC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F246-4845-4992-9831-5C4AF2D4E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...............</dc:creator>
  <dc:description/>
  <dc:language>en-US</dc:language>
  <cp:lastModifiedBy>SLAIMAN13</cp:lastModifiedBy>
  <dcterms:modified xsi:type="dcterms:W3CDTF">2006-12-07T15:58:52Z</dcterms:modified>
  <cp:revision>9</cp:revision>
  <dc:subject/>
  <dc:title>القبعات الس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