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63B4-9198-4DFE-8547-6F759CE3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CE9F-F9F0-410C-ACF6-D06AD1D2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DBC7-2FC0-4298-AE71-6D1B24BA9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86C-AD51-4A4A-AA51-5959D3E2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E32-12ED-4E30-9A68-55FCD912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679F-DA24-4B3B-AC3A-D4FE2BE5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A432-50A9-4E10-9186-5D0CD6F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DED-5497-4D62-AAB2-BBC245B6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2100-5D5A-4FB0-AE72-4A85FBC1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176-F2BC-4CC0-A6C1-F0C45ED6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2D2-1F1F-479D-A42E-170E050F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BC1D-C014-461D-9351-CDADBEE9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FD9-E162-4DDF-9036-8A3A63B1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...............</dc:creator>
  <dc:description/>
  <dc:language>en-US</dc:language>
  <cp:lastModifiedBy>SLAIMAN13</cp:lastModifiedBy>
  <dcterms:modified xsi:type="dcterms:W3CDTF">2006-12-07T15:58:52Z</dcterms:modified>
  <cp:revision>9</cp:revision>
  <dc:subject/>
  <dc:title>القبعات الس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