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16.wmf" ContentType="image/x-wmf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wmf" ContentType="image/x-wmf"/>
  <Override PartName="/ppt/media/image29.png" ContentType="image/png"/>
  <Override PartName="/ppt/media/image28.png" ContentType="image/png"/>
  <Override PartName="/ppt/media/image27.png" ContentType="image/png"/>
  <Override PartName="/ppt/media/image1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F9AE-6A7E-4348-BC6F-E8EC05C83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B30E-82F6-48BE-9C93-D8AF644E2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7E20-05A1-4A97-B4AB-A7CFEB4CB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C7E6-F294-431A-9838-509E260F7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CD175-D8A5-4E4A-B490-AD4DD5D07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BE49-A945-43E1-9BBB-CBA39E8B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86E9-46F9-49CD-8817-319AF709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8621-45B8-40CB-8B81-B2BB2ED0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602F-4D01-47AD-9E6B-E731101D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7AAEE-3FA7-421F-B09A-669450B6A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4D16-DA3B-4D18-950A-2461DC91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C77D-F683-4C83-B8C7-BE4E7F77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CEB6-334C-49E8-B2DF-A9A1DAAA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2FE6-1E24-4B6A-A397-60CBC669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D76EF-C93B-47DC-9E33-22D3AE69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95A4-38D1-4969-9D5F-25CAEC79F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754D-4283-4CCE-AE86-E3EA35E1D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EDD5-FEC7-4433-9596-21059E28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F79F-29AE-44E6-8C40-23F96CB3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84EF-4FF9-4579-BCC4-FBA66500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7EDD-FB71-4841-A256-4E1334C6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BDAC-0F82-4194-AA85-541274DF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B35B-F129-40A0-9DD2-327D8613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6A99-3647-43DA-9BFB-7B8B67E6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14D5-4707-4B0A-9541-43F8F5FE136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5B4A-ED23-4901-9B22-C9CFF614E52E}" type="slidenum">
              <a:rPr b="0" lang="ar-SA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.wmf"/><Relationship Id="rId15" Type="http://schemas.openxmlformats.org/officeDocument/2006/relationships/image" Target="../media/image4.jpeg"/><Relationship Id="rId1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3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3.wmf"/><Relationship Id="rId1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16.xml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slide" Target="slide14.xml"/><Relationship Id="rId6" Type="http://schemas.openxmlformats.org/officeDocument/2006/relationships/image" Target="../media/image3.wmf"/><Relationship Id="rId7" Type="http://schemas.openxmlformats.org/officeDocument/2006/relationships/oleObject" Target="../embeddings/oleObject3.bin"/><Relationship Id="rId8" Type="http://schemas.openxmlformats.org/officeDocument/2006/relationships/slide" Target="slide19.xml"/><Relationship Id="rId9" Type="http://schemas.openxmlformats.org/officeDocument/2006/relationships/image" Target="../media/image3.wmf"/><Relationship Id="rId10" Type="http://schemas.openxmlformats.org/officeDocument/2006/relationships/oleObject" Target="../embeddings/oleObject4.bin"/><Relationship Id="rId11" Type="http://schemas.openxmlformats.org/officeDocument/2006/relationships/slide" Target="slide21.xml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5.bin"/><Relationship Id="rId14" Type="http://schemas.openxmlformats.org/officeDocument/2006/relationships/slide" Target="slide23.xml"/><Relationship Id="rId15" Type="http://schemas.openxmlformats.org/officeDocument/2006/relationships/image" Target="../media/image3.wmf"/><Relationship Id="rId16" Type="http://schemas.openxmlformats.org/officeDocument/2006/relationships/oleObject" Target="../embeddings/oleObject6.bin"/><Relationship Id="rId17" Type="http://schemas.openxmlformats.org/officeDocument/2006/relationships/slide" Target="slide25.xml"/><Relationship Id="rId18" Type="http://schemas.openxmlformats.org/officeDocument/2006/relationships/image" Target="../media/image3.wmf"/><Relationship Id="rId19" Type="http://schemas.openxmlformats.org/officeDocument/2006/relationships/slide" Target="slide27.xml"/><Relationship Id="rId20" Type="http://schemas.openxmlformats.org/officeDocument/2006/relationships/image" Target="../media/image17.wmf"/><Relationship Id="rId2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oleObject" Target="../embeddings/oleObject1.bin"/><Relationship Id="rId6" Type="http://schemas.openxmlformats.org/officeDocument/2006/relationships/slide" Target="slide14.xml"/><Relationship Id="rId7" Type="http://schemas.openxmlformats.org/officeDocument/2006/relationships/image" Target="../media/image3.wmf"/><Relationship Id="rId8" Type="http://schemas.openxmlformats.org/officeDocument/2006/relationships/oleObject" Target="../embeddings/oleObject2.bin"/><Relationship Id="rId9" Type="http://schemas.openxmlformats.org/officeDocument/2006/relationships/slide" Target="slide14.xml"/><Relationship Id="rId10" Type="http://schemas.openxmlformats.org/officeDocument/2006/relationships/image" Target="../media/image3.wmf"/><Relationship Id="rId11" Type="http://schemas.openxmlformats.org/officeDocument/2006/relationships/slide" Target="slide13.xml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oleObject" Target="../embeddings/oleObject1.bin"/><Relationship Id="rId5" Type="http://schemas.openxmlformats.org/officeDocument/2006/relationships/slide" Target="slide14.xml"/><Relationship Id="rId6" Type="http://schemas.openxmlformats.org/officeDocument/2006/relationships/image" Target="../media/image3.wmf"/><Relationship Id="rId7" Type="http://schemas.openxmlformats.org/officeDocument/2006/relationships/oleObject" Target="../embeddings/oleObject2.bin"/><Relationship Id="rId8" Type="http://schemas.openxmlformats.org/officeDocument/2006/relationships/slide" Target="slide14.xml"/><Relationship Id="rId9" Type="http://schemas.openxmlformats.org/officeDocument/2006/relationships/image" Target="../media/image3.wmf"/><Relationship Id="rId10" Type="http://schemas.openxmlformats.org/officeDocument/2006/relationships/oleObject" Target="../embeddings/oleObject3.bin"/><Relationship Id="rId11" Type="http://schemas.openxmlformats.org/officeDocument/2006/relationships/slide" Target="slide14.xml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oleObject" Target="../embeddings/oleObject1.bin"/><Relationship Id="rId8" Type="http://schemas.openxmlformats.org/officeDocument/2006/relationships/slide" Target="slide14.xml"/><Relationship Id="rId9" Type="http://schemas.openxmlformats.org/officeDocument/2006/relationships/image" Target="../media/image3.wmf"/><Relationship Id="rId10" Type="http://schemas.openxmlformats.org/officeDocument/2006/relationships/oleObject" Target="../embeddings/oleObject2.bin"/><Relationship Id="rId11" Type="http://schemas.openxmlformats.org/officeDocument/2006/relationships/slide" Target="slide14.xml"/><Relationship Id="rId12" Type="http://schemas.openxmlformats.org/officeDocument/2006/relationships/image" Target="../media/image3.wmf"/><Relationship Id="rId13" Type="http://schemas.openxmlformats.org/officeDocument/2006/relationships/slide" Target="slide13.xml"/><Relationship Id="rId1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slide" Target="slide14.xml"/><Relationship Id="rId3" Type="http://schemas.openxmlformats.org/officeDocument/2006/relationships/image" Target="../media/image3.wmf"/><Relationship Id="rId4" Type="http://schemas.openxmlformats.org/officeDocument/2006/relationships/slide" Target="slide13.xml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slide" Target="slide13.xml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3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3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3.wmf"/><Relationship Id="rId1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3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3.wmf"/><Relationship Id="rId1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3.wmf"/><Relationship Id="rId1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3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3.wmf"/><Relationship Id="rId1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3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3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.wmf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3.wmf"/><Relationship Id="rId1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ahoma"/>
                <a:cs typeface="Andalus"/>
              </a:rPr>
              <a:t>قبعات</a:t>
            </a:r>
            <a:r>
              <a:rPr b="0" lang="ar-SA" sz="4800" spc="-1" strike="noStrike">
                <a:solidFill>
                  <a:srgbClr val="000000"/>
                </a:solidFill>
                <a:latin typeface="Tahoma"/>
                <a:ea typeface="Andalus"/>
              </a:rPr>
              <a:t> </a:t>
            </a:r>
            <a:r>
              <a:rPr b="0" lang="ar-SA" sz="4800" spc="-1" strike="noStrike">
                <a:solidFill>
                  <a:srgbClr val="ff0000"/>
                </a:solidFill>
                <a:latin typeface="Tahoma"/>
                <a:cs typeface="Andalus"/>
              </a:rPr>
              <a:t>التفكير</a:t>
            </a:r>
            <a:r>
              <a:rPr b="0" lang="ar-SA" sz="4800" spc="-1" strike="noStrike">
                <a:solidFill>
                  <a:srgbClr val="000000"/>
                </a:solidFill>
                <a:latin typeface="Tahoma"/>
                <a:ea typeface="Andalus"/>
              </a:rPr>
              <a:t> </a:t>
            </a:r>
            <a:r>
              <a:rPr b="0" lang="ar-SA" sz="4800" spc="-1" strike="noStrike">
                <a:solidFill>
                  <a:srgbClr val="ffcf01"/>
                </a:solidFill>
                <a:latin typeface="Tahoma"/>
                <a:cs typeface="Andalus"/>
              </a:rPr>
              <a:t>الست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Tahoma"/>
                <a:ea typeface="Andalus"/>
              </a:rPr>
              <a:t>(( </a:t>
            </a:r>
            <a:r>
              <a:rPr b="0" lang="ar-SA" sz="4800" spc="-1" strike="noStrike">
                <a:solidFill>
                  <a:srgbClr val="ffcf01"/>
                </a:solidFill>
                <a:latin typeface="Tahoma"/>
                <a:cs typeface="Andalus"/>
              </a:rPr>
              <a:t>إدوارد </a:t>
            </a:r>
            <a:r>
              <a:rPr b="0" lang="ar-SA" sz="4800" spc="-1" strike="noStrike">
                <a:solidFill>
                  <a:srgbClr val="ff0000"/>
                </a:solidFill>
                <a:latin typeface="Tahoma"/>
                <a:cs typeface="Andalus"/>
              </a:rPr>
              <a:t>دي </a:t>
            </a:r>
            <a:r>
              <a:rPr b="0" lang="ar-SA" sz="4800" spc="-1" strike="noStrike">
                <a:solidFill>
                  <a:srgbClr val="3333cc"/>
                </a:solidFill>
                <a:latin typeface="Tahoma"/>
                <a:cs typeface="Andalus"/>
              </a:rPr>
              <a:t>بونو</a:t>
            </a:r>
            <a:r>
              <a:rPr b="0" lang="ar-SA" sz="4800" spc="-1" strike="noStrike">
                <a:solidFill>
                  <a:srgbClr val="3333cc"/>
                </a:solidFill>
                <a:latin typeface="Tahoma"/>
                <a:ea typeface="Andalus"/>
              </a:rPr>
              <a:t> </a:t>
            </a:r>
            <a:r>
              <a:rPr b="0" lang="ar-SA" sz="4800" spc="-1" strike="noStrike">
                <a:solidFill>
                  <a:srgbClr val="000000"/>
                </a:solidFill>
                <a:latin typeface="Tahoma"/>
                <a:ea typeface="Andalus"/>
              </a:rPr>
              <a:t> </a:t>
            </a:r>
            <a:r>
              <a:rPr b="0" lang="ar-SA" sz="4800" spc="-1" strike="noStrike">
                <a:solidFill>
                  <a:srgbClr val="000000"/>
                </a:solidFill>
                <a:latin typeface="Tahoma"/>
                <a:ea typeface="Andalus"/>
              </a:rPr>
              <a:t>))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956720" y="46080"/>
            <a:ext cx="1079280" cy="1079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564000" y="0"/>
            <a:ext cx="1800000" cy="180036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108000" y="117360"/>
            <a:ext cx="1079280" cy="1079640"/>
            <a:chOff x="108000" y="117360"/>
            <a:chExt cx="1079280" cy="1079640"/>
          </a:xfrm>
        </p:grpSpPr>
        <p:sp>
          <p:nvSpPr>
            <p:cNvPr id="103" name=""/>
            <p:cNvSpPr/>
            <p:nvPr/>
          </p:nvSpPr>
          <p:spPr>
            <a:xfrm>
              <a:off x="455400" y="117360"/>
              <a:ext cx="385200" cy="269640"/>
            </a:xfrm>
            <a:prstGeom prst="diamond">
              <a:avLst/>
            </a:prstGeom>
            <a:noFill/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6880" y="279000"/>
              <a:ext cx="385200" cy="270000"/>
            </a:xfrm>
            <a:prstGeom prst="diamond">
              <a:avLst/>
            </a:prstGeom>
            <a:noFill/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23920" y="279000"/>
              <a:ext cx="385560" cy="270000"/>
            </a:xfrm>
            <a:prstGeom prst="diamond">
              <a:avLst/>
            </a:prstGeom>
            <a:noFill/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6225800">
              <a:off x="405000" y="491040"/>
              <a:ext cx="485640" cy="38520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08000" y="981000"/>
              <a:ext cx="1079280" cy="216000"/>
            </a:xfrm>
            <a:prstGeom prst="rect">
              <a:avLst/>
            </a:prstGeom>
            <a:noFill/>
            <a:ln w="572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 txBox="1"/>
            <p:nvPr/>
          </p:nvSpPr>
          <p:spPr>
            <a:xfrm>
              <a:off x="879120" y="603000"/>
              <a:ext cx="308160" cy="3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0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الإدارة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0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العامة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0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للتعليم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0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بجدة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183240" y="1035360"/>
              <a:ext cx="925200" cy="10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2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القسم الابتدائي</a:t>
              </a:r>
              <a:endParaRPr b="1" lang="en-US" sz="12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</p:txBody>
        </p:sp>
        <p:sp>
          <p:nvSpPr>
            <p:cNvPr id="110" name=""/>
            <p:cNvSpPr txBox="1"/>
            <p:nvPr/>
          </p:nvSpPr>
          <p:spPr>
            <a:xfrm>
              <a:off x="527400" y="666000"/>
              <a:ext cx="231120" cy="10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8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وزارة المعارف</a:t>
              </a:r>
              <a:endParaRPr b="1" lang="en-US" sz="8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1417 </a:t>
              </a:r>
              <a:r>
                <a:rPr b="0" lang="hi-IN" sz="8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هـ</a:t>
              </a:r>
              <a:endParaRPr b="1" lang="en-US" sz="8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115200" y="597240"/>
              <a:ext cx="308160" cy="32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0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مجمع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0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الأمير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0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سلطان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000" spc="1" strike="noStrike">
                  <a:ln w="0">
                    <a:noFill/>
                  </a:ln>
                  <a:solidFill>
                    <a:srgbClr val="000000"/>
                  </a:solidFill>
                  <a:latin typeface="Akhbar MT"/>
                </a:rPr>
                <a:t>التعليمي</a:t>
              </a:r>
              <a:endParaRPr b="1" lang="en-US" sz="1000" spc="1" strike="noStrike">
                <a:ln w="0">
                  <a:noFill/>
                </a:ln>
                <a:solidFill>
                  <a:srgbClr val="000000"/>
                </a:solidFill>
                <a:latin typeface="Akhbar MT"/>
                <a:ea typeface="Akhbar MT"/>
              </a:endParaRPr>
            </a:p>
          </p:txBody>
        </p:sp>
      </p:grpSp>
      <p:graphicFrame>
        <p:nvGraphicFramePr>
          <p:cNvPr id="112" name=""/>
          <p:cNvGraphicFramePr/>
          <p:nvPr/>
        </p:nvGraphicFramePr>
        <p:xfrm>
          <a:off x="7620120" y="3716280"/>
          <a:ext cx="152388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0120" y="371628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7620120" y="2708280"/>
          <a:ext cx="152388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70828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7620120" y="4797360"/>
          <a:ext cx="1523880" cy="83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0120" y="4797360"/>
                    <a:ext cx="15238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7620120" y="5950080"/>
          <a:ext cx="152388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0120" y="595008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5940360" y="5950080"/>
          <a:ext cx="1524240" cy="838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40360" y="5950080"/>
                    <a:ext cx="1524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140360" y="5950080"/>
          <a:ext cx="1523880" cy="838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40360" y="595008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 txBox="1"/>
          <p:nvPr/>
        </p:nvSpPr>
        <p:spPr>
          <a:xfrm>
            <a:off x="1332000" y="2421000"/>
            <a:ext cx="439236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ndalus"/>
              </a:rPr>
              <a:t>ورشة عمل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ndalus"/>
              <a:ea typeface="Andalus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5"/>
          <a:stretch/>
        </p:blipFill>
        <p:spPr>
          <a:xfrm>
            <a:off x="0" y="3500280"/>
            <a:ext cx="2238480" cy="3357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6000"/>
                            </p:stCondLst>
                            <p:childTnLst>
                              <p:par>
                                <p:cTn id="6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8000"/>
                            </p:stCondLst>
                            <p:childTnLst>
                              <p:par>
                                <p:cTn id="7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0"/>
                            </p:stCondLst>
                            <p:childTnLst>
                              <p:par>
                                <p:cTn id="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2843280" y="692280"/>
            <a:ext cx="3720960" cy="101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Simplified Arabic"/>
              </a:rPr>
              <a:t>التفكي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Simplified Arabic"/>
              <a:ea typeface="Simplified Arabic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634000" y="3276720"/>
            <a:ext cx="305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720" y="3276720"/>
            <a:ext cx="341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346800" y="2585880"/>
            <a:ext cx="16099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imes New Roman (Arabic)"/>
              </a:rPr>
              <a:t>سعيد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16000" y="2509920"/>
            <a:ext cx="168588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imes New Roman (Arabic)"/>
              </a:rPr>
              <a:t>جمال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481720" y="1671480"/>
            <a:ext cx="313380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e4a8"/>
                </a:solidFill>
                <a:latin typeface="Times New Roman (Arabic)"/>
              </a:rPr>
              <a:t>متعاكس</a:t>
            </a:r>
            <a:r>
              <a:rPr b="0" lang="ar-SA" sz="4400" spc="-1" strike="noStrike">
                <a:solidFill>
                  <a:srgbClr val="00e4a8"/>
                </a:solidFill>
                <a:latin typeface="Times New Roman"/>
              </a:rPr>
              <a:t> :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119040" y="4876920"/>
            <a:ext cx="3287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119040" y="5589720"/>
            <a:ext cx="3287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3119400" y="6308640"/>
            <a:ext cx="3363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651640" y="4033800"/>
            <a:ext cx="290484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e4a8"/>
                </a:solidFill>
                <a:latin typeface="Times New Roman (Arabic)"/>
              </a:rPr>
              <a:t>متوازي</a:t>
            </a:r>
            <a:r>
              <a:rPr b="1" lang="ar-SA" sz="4400" spc="-1" strike="noStrike">
                <a:solidFill>
                  <a:srgbClr val="00e4a8"/>
                </a:solidFill>
                <a:latin typeface="Times New Roman"/>
              </a:rPr>
              <a:t> :</a:t>
            </a:r>
            <a:r>
              <a:rPr b="0" lang="ar-SA" sz="4400" spc="-1" strike="noStrike">
                <a:solidFill>
                  <a:srgbClr val="00e4a8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28880" y="4719600"/>
            <a:ext cx="16099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imes New Roman (Arabic)"/>
              </a:rPr>
              <a:t>سعيد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48000" y="5549760"/>
            <a:ext cx="20671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imes New Roman (Arabic)"/>
              </a:rPr>
              <a:t>جمال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867280" y="3429000"/>
          <a:ext cx="107964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3429000"/>
                    <a:ext cx="107964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5796000" y="2492280"/>
          <a:ext cx="1079640" cy="59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6000" y="2492280"/>
                    <a:ext cx="107964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2843280" y="2492280"/>
          <a:ext cx="1079280" cy="59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43280" y="2492280"/>
                    <a:ext cx="1079280" cy="59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2843280" y="3429000"/>
          <a:ext cx="1079280" cy="59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43280" y="3429000"/>
                    <a:ext cx="107928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1189080" y="5734080"/>
          <a:ext cx="1079280" cy="593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89080" y="5734080"/>
                    <a:ext cx="107928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1187280" y="4897440"/>
          <a:ext cx="1079640" cy="593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87280" y="4897440"/>
                    <a:ext cx="107964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000"/>
                            </p:stCondLst>
                            <p:childTnLst>
                              <p:par>
                                <p:cTn id="5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مثال على التفكير المتوازي</a:t>
            </a:r>
            <a:br>
              <a:rPr sz="4400"/>
            </a:b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( طيور الأوز 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4360" y="2017440"/>
            <a:ext cx="8270640" cy="34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ahoma"/>
                <a:cs typeface="Simplified Arabic"/>
              </a:rPr>
              <a:t>تسافر و تتنقل و تفكر الاوز بطريقة متوازية مشكلة حرف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  <a:ea typeface="Simplified Arabic"/>
              </a:rPr>
              <a:t> ( 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  <a:ea typeface="Simplified Arabic"/>
              </a:rPr>
              <a:t>V</a:t>
            </a:r>
            <a:r>
              <a:rPr b="1" lang="en-US" sz="4000" spc="-1" strike="noStrike">
                <a:solidFill>
                  <a:srgbClr val="3333cc"/>
                </a:solidFill>
                <a:latin typeface="Tahoma"/>
                <a:ea typeface="Simplified Arabic"/>
              </a:rPr>
              <a:t> ) </a:t>
            </a:r>
            <a:r>
              <a:rPr b="1" lang="ar-SA" sz="4000" spc="-1" strike="noStrike">
                <a:solidFill>
                  <a:srgbClr val="3333cc"/>
                </a:solidFill>
                <a:latin typeface="Tahoma"/>
                <a:ea typeface="Simplified Arabic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r" rtl="1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ahoma"/>
                <a:cs typeface="Simplified Arabic"/>
              </a:rPr>
              <a:t>تدرك اهمية الجماعة و معنى ذلك</a:t>
            </a:r>
            <a:r>
              <a:rPr b="1" lang="en-US" sz="4000" spc="-1" strike="noStrike">
                <a:solidFill>
                  <a:srgbClr val="ff0000"/>
                </a:solidFill>
                <a:latin typeface="Tahoma"/>
                <a:ea typeface="Simplified Arabic"/>
              </a:rPr>
              <a:t> </a:t>
            </a:r>
            <a:r>
              <a:rPr b="1" lang="ar-SA" sz="4000" spc="-1" strike="noStrike">
                <a:solidFill>
                  <a:srgbClr val="ff0000"/>
                </a:solidFill>
                <a:latin typeface="Tahoma"/>
                <a:ea typeface="Simplified Arabic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r" rtl="1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f01"/>
                </a:solidFill>
                <a:latin typeface="Tahoma"/>
                <a:cs typeface="Simplified Arabic"/>
              </a:rPr>
              <a:t>لهذه الطيور وجهة محددة و هدف واحد يخلص له كل الطيور بالمجموعة</a:t>
            </a:r>
            <a:r>
              <a:rPr b="1" lang="en-US" sz="4000" spc="-1" strike="noStrike">
                <a:solidFill>
                  <a:srgbClr val="ffcf01"/>
                </a:solidFill>
                <a:latin typeface="Tahoma"/>
                <a:ea typeface="Simplified Arabic"/>
              </a:rPr>
              <a:t>.</a:t>
            </a:r>
            <a:r>
              <a:rPr b="0" lang="en-US" sz="4000" spc="-1" strike="noStrike">
                <a:solidFill>
                  <a:srgbClr val="ffcf01"/>
                </a:solidFill>
                <a:latin typeface="Tahoma"/>
                <a:ea typeface="Simplified Arab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-3997440" y="2349360"/>
          <a:ext cx="1524240" cy="838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3997440" y="2349360"/>
                    <a:ext cx="15242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-1836720" y="3357720"/>
          <a:ext cx="1523880" cy="838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-1836720" y="3357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"/>
          <p:cNvGraphicFramePr/>
          <p:nvPr/>
        </p:nvGraphicFramePr>
        <p:xfrm>
          <a:off x="-3997440" y="4654440"/>
          <a:ext cx="1524240" cy="838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-3997440" y="4654440"/>
                    <a:ext cx="15242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-6013440" y="5086440"/>
          <a:ext cx="1523880" cy="838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-6013440" y="508644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-6084720" y="1773360"/>
          <a:ext cx="1523880" cy="838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-6084720" y="177336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-6157800" y="3430440"/>
          <a:ext cx="1523880" cy="8384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-6157800" y="3430440"/>
                    <a:ext cx="15238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9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0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1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68125 0 E">
                                      <p:cBhvr>
                                        <p:cTn id="615" dur="5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68125 0 E">
                                      <p:cBhvr>
                                        <p:cTn id="617" dur="5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68125 0 E">
                                      <p:cBhvr>
                                        <p:cTn id="619" dur="5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68125 0 E">
                                      <p:cBhvr>
                                        <p:cTn id="621" dur="5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68125 0 E">
                                      <p:cBhvr>
                                        <p:cTn id="623" dur="5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68125 0 E">
                                      <p:cBhvr>
                                        <p:cTn id="625" dur="5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لماذا القبعات 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35344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r" rtl="1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ahoma"/>
                <a:cs typeface="Simplified Arabic"/>
              </a:rPr>
              <a:t>هناك علاقة تقليدية ما بين التفكير و القبعات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 algn="r" rtl="1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cf01"/>
                </a:solidFill>
                <a:latin typeface="Tahoma"/>
                <a:cs typeface="Simplified Arabic"/>
              </a:rPr>
              <a:t>القبعات يمكن و ضعها  و خلعها بسهولة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 algn="r" rtl="1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ahoma"/>
                <a:cs typeface="Simplified Arabic"/>
              </a:rPr>
              <a:t>كل منها يمثل دور معين</a:t>
            </a:r>
            <a:r>
              <a:rPr b="1" lang="ar-SA" sz="4000" spc="-1" strike="noStrike">
                <a:solidFill>
                  <a:srgbClr val="3333cc"/>
                </a:solidFill>
                <a:latin typeface="Tahoma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0" y="4946760"/>
            <a:ext cx="1886040" cy="1911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5"/>
          <a:stretch/>
        </p:blipFill>
        <p:spPr>
          <a:xfrm>
            <a:off x="7257960" y="4946760"/>
            <a:ext cx="1886040" cy="1911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4400"/>
                            </p:stCondLst>
                            <p:childTnLst>
                              <p:par>
                                <p:cTn id="6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9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9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(( الآن اختر القبعة التي تريد التعرف عليها)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6985080" y="5670720"/>
          <a:ext cx="215892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85080" y="5670720"/>
                    <a:ext cx="2158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6732720" y="2492280"/>
          <a:ext cx="2158920" cy="1187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9" name="" descr="">
                    <a:hlinkClick r:id="rId5" action="ppaction://hlinksldjump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32720" y="2492280"/>
                    <a:ext cx="215892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0" y="2492280"/>
          <a:ext cx="2158920" cy="118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1" name="" descr="">
                    <a:hlinkClick r:id="rId8" action="ppaction://hlinksldjump"/>
                  </p:cNvPr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2492280"/>
                    <a:ext cx="215892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3492360" y="5670720"/>
          <a:ext cx="2159280" cy="1187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3" name="" descr="">
                    <a:hlinkClick r:id="rId11" action="ppaction://hlinksldjump"/>
                  </p:cNvPr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92360" y="5670720"/>
                    <a:ext cx="215928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0" y="5670720"/>
          <a:ext cx="2158920" cy="1187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5" name="" descr="">
                    <a:hlinkClick r:id="rId14" action="ppaction://hlinksldjump"/>
                  </p:cNvPr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0" y="5670720"/>
                    <a:ext cx="2158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3419640" y="2421000"/>
          <a:ext cx="2158920" cy="11872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37" name="" descr="">
                    <a:hlinkClick r:id="rId17" action="ppaction://hlinksldjump"/>
                  </p:cNvPr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419640" y="2421000"/>
                    <a:ext cx="2158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8" name="" descr="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3610080" y="3933720"/>
            <a:ext cx="1825560" cy="14623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250920" y="4005360"/>
            <a:ext cx="2879640" cy="143964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</a:rPr>
              <a:t>الاستخداما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012000" y="4005360"/>
            <a:ext cx="2879640" cy="1439640"/>
          </a:xfrm>
          <a:prstGeom prst="leftArrow">
            <a:avLst>
              <a:gd name="adj1" fmla="val 50000"/>
              <a:gd name="adj2" fmla="val 50006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</a:rPr>
              <a:t>الاستخداما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4600"/>
                            </p:stCondLst>
                            <p:childTnLst>
                              <p:par>
                                <p:cTn id="7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6600"/>
                            </p:stCondLst>
                            <p:childTnLst>
                              <p:par>
                                <p:cTn id="7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7600"/>
                            </p:stCondLst>
                            <p:childTnLst>
                              <p:par>
                                <p:cTn id="7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333399"/>
                </a:solidFill>
                <a:latin typeface="Tahoma"/>
              </a:rPr>
              <a:t>القبعة البيضاء : المعلومات ، البيانات ، المتطلبات 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42920" y="2133360"/>
            <a:ext cx="4025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</a:rPr>
              <a:t>وتركز على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r" rtl="1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معلومات المتوفرة لدينا و الموجود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r" rtl="1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معلومات التي نود الحصول عليها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r" rtl="1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معلومات التي نحتاج لها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r" rtl="1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معلومات الغير متوافرة و الناقصة و التي يجب اكمالها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68360" y="2878200"/>
          <a:ext cx="3809880" cy="227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2878200"/>
                    <a:ext cx="3809880" cy="22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3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3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قبعة البيضاء - النقاط الاساس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50560" y="2017440"/>
            <a:ext cx="8675640" cy="25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Tahoma"/>
                <a:cs typeface="Simplified Arabic"/>
              </a:rPr>
              <a:t>تسجل الآراء المتباينة المختلفة في حالة وجود معلومات متضاربة ، و تقييم صحة المعلومات و مدى علاقتها بأصل الموضوع المطروح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r" rtl="1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  <a:cs typeface="Simplified Arabic"/>
              </a:rPr>
              <a:t>تفرق بين الحقائق المجردة و التخمين و التأملات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r" rtl="1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cf01"/>
                </a:solidFill>
                <a:latin typeface="Tahoma"/>
                <a:cs typeface="Simplified Arabic"/>
              </a:rPr>
              <a:t>تحدد طبيعة الخطوات التي يجب تنفيذها لسد أي نقص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r" rtl="1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cs typeface="Simplified Arabic"/>
              </a:rPr>
              <a:t>تبين المشاعر الخاصة بالآخرين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73080" y="5084640"/>
          <a:ext cx="2448000" cy="146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8" name="" descr="">
                    <a:hlinkClick r:id="rId6" action="ppaction://hlinksldjump"/>
                  </p:cNvPr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080" y="5084640"/>
                    <a:ext cx="244800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"/>
          <p:cNvGraphicFramePr/>
          <p:nvPr/>
        </p:nvGraphicFramePr>
        <p:xfrm>
          <a:off x="6588000" y="5084640"/>
          <a:ext cx="2448000" cy="14655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0" name="" descr="">
                    <a:hlinkClick r:id="rId9" action="ppaction://hlinksldjump"/>
                  </p:cNvPr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88000" y="5084640"/>
                    <a:ext cx="244800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>
            <a:hlinkClick r:id="rId11" action="ppaction://hlinksldjump"/>
          </p:cNvPr>
          <p:cNvSpPr/>
          <p:nvPr/>
        </p:nvSpPr>
        <p:spPr>
          <a:xfrm>
            <a:off x="3564000" y="5445000"/>
            <a:ext cx="2160360" cy="1123920"/>
          </a:xfrm>
          <a:prstGeom prst="cloudCallout">
            <a:avLst>
              <a:gd name="adj1" fmla="val -71967"/>
              <a:gd name="adj2" fmla="val 6610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</a:rPr>
              <a:t>العود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3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8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3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3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3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3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8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8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8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8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8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8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8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8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8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8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8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8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8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8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8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8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1000"/>
                            </p:stCondLst>
                            <p:childTnLst>
                              <p:par>
                                <p:cTn id="9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333399"/>
                </a:solidFill>
                <a:latin typeface="Tahoma"/>
              </a:rPr>
              <a:t>القبعة الحمراء : المشاعر ، الحدس ، العواطف 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284360" y="2133360"/>
            <a:ext cx="4384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</a:rPr>
              <a:t>وتركز على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منح شرعية للتعبير عن المشاعر و الاحاسيس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تعبير عما تشعر به الان  فقط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تستخدم كجزء من التفكير الذي يؤدي الى قرار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r" rtl="1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يمكن استخدامها في مرحلة ما بعد الوصول الى قرار ما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68360" y="2878200"/>
          <a:ext cx="3809880" cy="227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2878200"/>
                    <a:ext cx="3809880" cy="22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0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3" dur="3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3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0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قبعة الحمراء - النقاط الاساس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560" y="2017440"/>
            <a:ext cx="8675640" cy="25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ahoma"/>
              </a:rPr>
              <a:t>تمنح اذن مطلق للتعبير عن الاحاسيس و الشعور و الحدس 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f01"/>
                </a:solidFill>
                <a:latin typeface="Tahoma"/>
              </a:rPr>
              <a:t>لا تطالب باستيضاح او شرح لأسباب مشاعرنا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333cc"/>
                </a:solidFill>
                <a:latin typeface="Tahoma"/>
              </a:rPr>
              <a:t>شعور داخلي مبني على خبراتنا و تجاربنا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73080" y="5084640"/>
          <a:ext cx="2448000" cy="1465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9" name="" descr="">
                    <a:hlinkClick r:id="rId5" action="ppaction://hlinksldjump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080" y="5084640"/>
                    <a:ext cx="244800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6588000" y="5084640"/>
          <a:ext cx="2448000" cy="146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" descr="">
                    <a:hlinkClick r:id="rId8" action="ppaction://hlinksldjump"/>
                  </p:cNvPr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588000" y="5084640"/>
                    <a:ext cx="244800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3276720" y="5084640"/>
          <a:ext cx="2447640" cy="1465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63" name="" descr="">
                    <a:hlinkClick r:id="rId11" action="ppaction://hlinksldjump"/>
                  </p:cNvPr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76720" y="5084640"/>
                    <a:ext cx="244764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0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3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0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5" dur="3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6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3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3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3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3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8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3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8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6" dur="8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8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8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8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6" dur="8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8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8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8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8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8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8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نطاق الشعو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700200" y="43480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ـــــــــــــــــــــــــــــــــــــــــــــــــــــــــــــــــــــــــــــــــــــــــــــــــــــــــــــــــــــ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405560" y="4272120"/>
            <a:ext cx="0" cy="71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43280" y="4272120"/>
            <a:ext cx="0" cy="71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95640" y="4272120"/>
            <a:ext cx="0" cy="71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1200" y="351000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غير راضي</a:t>
            </a:r>
            <a:r>
              <a:rPr b="0" lang="ar-SA" sz="32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265880" y="3429000"/>
            <a:ext cx="1051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cc00"/>
                </a:solidFill>
                <a:latin typeface="Times New Roman"/>
                <a:cs typeface="Simplified Arabic"/>
              </a:rPr>
              <a:t>راضي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492360" y="3357720"/>
            <a:ext cx="20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cf01"/>
                </a:solidFill>
                <a:latin typeface="Times New Roman"/>
                <a:cs typeface="Simplified Arabic"/>
              </a:rPr>
              <a:t>ما بين الب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6273720" y="5234040"/>
          <a:ext cx="2870280" cy="16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3720" y="5234040"/>
                    <a:ext cx="287028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>
            <a:hlinkClick r:id="rId3" action="ppaction://hlinksldjump"/>
          </p:cNvPr>
          <p:cNvSpPr/>
          <p:nvPr/>
        </p:nvSpPr>
        <p:spPr>
          <a:xfrm>
            <a:off x="826920" y="5300640"/>
            <a:ext cx="3635640" cy="1197000"/>
          </a:xfrm>
          <a:prstGeom prst="cloudCallout">
            <a:avLst>
              <a:gd name="adj1" fmla="val -69347"/>
              <a:gd name="adj2" fmla="val 7307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000000"/>
                </a:solidFill>
                <a:latin typeface="Tahoma"/>
              </a:rPr>
              <a:t>العود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0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3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8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3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3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4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1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12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5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2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33000"/>
                            </p:stCondLst>
                            <p:childTnLst>
                              <p:par>
                                <p:cTn id="11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38000"/>
                            </p:stCondLst>
                            <p:childTnLst>
                              <p:par>
                                <p:cTn id="1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333399"/>
                </a:solidFill>
                <a:latin typeface="Tahoma"/>
              </a:rPr>
              <a:t>القبعة السوداء : الحذر ، المخاطر ، المصاعب 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284360" y="2133360"/>
            <a:ext cx="4384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e4a8"/>
                </a:solidFill>
                <a:latin typeface="Tahoma"/>
              </a:rPr>
              <a:t>وتركز على :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تفكير غير المناسب : الخبرات ، الحقائق ، الانظمة ، القيم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….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اخطاء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مشاكل الاساسية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غلطات المنطق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معوقات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468360" y="2878200"/>
          <a:ext cx="3809880" cy="2279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2878200"/>
                    <a:ext cx="3809880" cy="22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1146" dur="indefinite" restart="never" nodeType="tmRoot">
          <p:childTnLst>
            <p:seq>
              <p:cTn id="1147" dur="indefinite" nodeType="mainSeq">
                <p:childTnLst>
                  <p:par>
                    <p:cTn id="1148" fill="hold">
                      <p:stCondLst>
                        <p:cond delay="0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2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3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8" dur="3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9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3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-(( دقيقة للتفكير ))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2205000"/>
            <a:ext cx="3780000" cy="5267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788000" y="2816280"/>
            <a:ext cx="4356000" cy="4789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786200" y="1773360"/>
            <a:ext cx="3673440" cy="10080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ahoma"/>
              </a:rPr>
              <a:t>ما هواية هذه السيدة 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03640" y="3500280"/>
            <a:ext cx="2016000" cy="26654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ahoma"/>
              </a:rPr>
              <a:t>أرى الكذ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ahoma"/>
              </a:rPr>
              <a:t>ف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0000"/>
                </a:solidFill>
                <a:latin typeface="Tahoma"/>
              </a:rPr>
              <a:t>وجه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قبعة السوداء - النقاط الاساس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560" y="2017440"/>
            <a:ext cx="8675640" cy="25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ahoma"/>
              </a:rPr>
              <a:t>قد توفر معلومات في بعض الاحيان و التي قد تتوافر بواسطة القبعة البيضاء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ahoma"/>
              </a:rPr>
              <a:t>لا تلجأ الى حل المشاكل التي تظهر تحت القبعة السوداء فورا  بمجرد ذكرها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f01"/>
                </a:solidFill>
                <a:latin typeface="Tahoma"/>
              </a:rPr>
              <a:t>قبعة لها ذات قيمة و فائدة و ضرورية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f01"/>
                </a:solidFill>
                <a:latin typeface="Tahoma"/>
              </a:rPr>
              <a:t>تمنع وقوع الغلطات السخيفة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ahoma"/>
              </a:rPr>
              <a:t>تبين الصعوبات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 algn="r" rtl="1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ahoma"/>
              </a:rPr>
              <a:t>تسبب مشاكل جمة اذا زاد استخدامها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36360" y="5084640"/>
          <a:ext cx="2448000" cy="146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2" name="" descr="">
                    <a:hlinkClick r:id="rId8" action="ppaction://hlinksldjump"/>
                  </p:cNvPr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6360" y="5084640"/>
                    <a:ext cx="244800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6588000" y="5084640"/>
          <a:ext cx="2448000" cy="14655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84" name="" descr="">
                    <a:hlinkClick r:id="rId11" action="ppaction://hlinksldjump"/>
                  </p:cNvPr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88000" y="5084640"/>
                    <a:ext cx="2448000" cy="14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>
            <a:hlinkClick r:id="rId13" action="ppaction://hlinksldjump"/>
          </p:cNvPr>
          <p:cNvSpPr/>
          <p:nvPr/>
        </p:nvSpPr>
        <p:spPr>
          <a:xfrm>
            <a:off x="3564000" y="5445000"/>
            <a:ext cx="2160360" cy="1123920"/>
          </a:xfrm>
          <a:prstGeom prst="cloudCallout">
            <a:avLst>
              <a:gd name="adj1" fmla="val -71967"/>
              <a:gd name="adj2" fmla="val 6610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</a:rPr>
              <a:t>العود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fill="hold">
                      <p:stCondLst>
                        <p:cond delay="0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6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7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8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9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8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7" dur="8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8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8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8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8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8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8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6" dur="8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7" dur="8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8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8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8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7" dur="8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8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8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6" dur="8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7" dur="8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8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8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6" dur="8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7" dur="8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8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8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333399"/>
                </a:solidFill>
                <a:latin typeface="Tahoma"/>
              </a:rPr>
              <a:t>القبعة الصفراء : الإيجابية ، الفوائد 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858920" y="2133360"/>
            <a:ext cx="3809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e4a8"/>
                </a:solidFill>
                <a:latin typeface="Tahoma"/>
              </a:rPr>
              <a:t>وتركز على :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r" rtl="1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الجدوى و الفوائد ، وما هي الفوائد ؟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r" rtl="1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هل يمكننا تطبيق هذا المفهوم الجذاب ؟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r" rtl="1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هل يمكن تعديل هذه الفكرة حتى تصبح قابلة للتنفيذ ؟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r" rtl="1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هل يمكننا تعديل النظام الحالي ؟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 algn="r" rtl="1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تبحث عن الفوائد المرئية و الكامن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68360" y="2878200"/>
          <a:ext cx="3809880" cy="2279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2878200"/>
                    <a:ext cx="3809880" cy="22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1356" dur="indefinite" restart="never" nodeType="tmRoot">
          <p:childTnLst>
            <p:seq>
              <p:cTn id="1357" dur="indefinite" nodeType="mainSeq">
                <p:childTnLst>
                  <p:par>
                    <p:cTn id="1358" fill="hold">
                      <p:stCondLst>
                        <p:cond delay="0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2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3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3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8" dur="3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9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قبعة الصفراء - النقاط الاساس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43280" y="2017800"/>
            <a:ext cx="4283280" cy="14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تتطلب بذل بعض الجهد 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قل تلقائية مقارنة بالقبعة السوداء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 algn="r" rtl="1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تشجع الافكار الابداعية و المبتكرة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684360" y="2205000"/>
          <a:ext cx="2447640" cy="14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" descr="">
                    <a:hlinkClick r:id="rId2" action="ppaction://hlinksldjump"/>
                  </p:cNvPr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2205000"/>
                    <a:ext cx="244764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>
            <a:hlinkClick r:id="rId4" action="ppaction://hlinksldjump"/>
          </p:cNvPr>
          <p:cNvSpPr/>
          <p:nvPr/>
        </p:nvSpPr>
        <p:spPr>
          <a:xfrm>
            <a:off x="611280" y="5445000"/>
            <a:ext cx="2160360" cy="1123920"/>
          </a:xfrm>
          <a:prstGeom prst="cloudCallout">
            <a:avLst>
              <a:gd name="adj1" fmla="val -71967"/>
              <a:gd name="adj2" fmla="val 6610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</a:rPr>
              <a:t>العود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717800">
            <a:off x="4195440" y="4221000"/>
            <a:ext cx="4913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قيمة المزايا والخصائ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51280" y="4653000"/>
            <a:ext cx="1474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r" rtl="1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أبسط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أسرع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أرخص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متان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480" dur="indefinite" restart="never" nodeType="tmRoot">
          <p:childTnLst>
            <p:seq>
              <p:cTn id="1481" dur="indefinite" nodeType="mainSeq">
                <p:childTnLst>
                  <p:par>
                    <p:cTn id="1482" fill="hold">
                      <p:stCondLst>
                        <p:cond delay="0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6" dur="3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7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2" dur="3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3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3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0" dur="8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1" dur="8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8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8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0" dur="8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1" dur="8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8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8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0" dur="8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1" dur="8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8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8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9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0" dur="2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2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20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500"/>
                            </p:stCondLst>
                            <p:childTnLst>
                              <p:par>
                                <p:cTn id="15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4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333399"/>
                </a:solidFill>
                <a:latin typeface="Tahoma"/>
              </a:rPr>
              <a:t>القبعة الخضراء : الاحتمالات ، البدائل ، الأفكار الجديدة 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284360" y="2133360"/>
            <a:ext cx="438444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</a:rPr>
              <a:t>وتركز على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r" rtl="1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بذل جهد ابداعي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r" rtl="1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تعدل من الافكار و تزيل الاخطاء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r" rtl="1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تنشأ خلية تتخذ من الابتكار ثقافة لها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0" y="2781360"/>
          <a:ext cx="3809880" cy="2279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781360"/>
                    <a:ext cx="3809880" cy="22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6516720" y="4221000"/>
            <a:ext cx="21049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333399"/>
                </a:solidFill>
                <a:latin typeface="Tahoma"/>
              </a:rPr>
              <a:t>النقاط الأساس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132000" y="4915080"/>
            <a:ext cx="547236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تشجع التفكير الابداعي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تستكشف بدائل مختلفة لتنفيذ الاعمال و الافعال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545" dur="indefinite" restart="never" nodeType="tmRoot">
          <p:childTnLst>
            <p:seq>
              <p:cTn id="1546" dur="indefinite" nodeType="mainSeq">
                <p:childTnLst>
                  <p:par>
                    <p:cTn id="1547" fill="hold">
                      <p:stCondLst>
                        <p:cond delay="0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1" dur="3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2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7" dur="3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8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3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6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7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4" dur="8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5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8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الكلمة العشوائية (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</a:t>
            </a: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 )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642160" cy="16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ختر كلمة عشوائية لها علاقة بالموضوع الذي تفكر فيه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ختر كلمة أخرى ليست لها علاق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أوجد العلاقة بين الكلمتين باستخدام (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</a:t>
            </a: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 )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0" y="4005360"/>
          <a:ext cx="1440000" cy="86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05360"/>
                    <a:ext cx="144000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1763640" y="5157720"/>
          <a:ext cx="1440000" cy="86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5157720"/>
                    <a:ext cx="144000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3708360" y="4149720"/>
          <a:ext cx="1440000" cy="86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08360" y="4149720"/>
                    <a:ext cx="144000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5867280" y="5157720"/>
          <a:ext cx="1440000" cy="862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67280" y="5157720"/>
                    <a:ext cx="1440000" cy="8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7704000" y="4005360"/>
          <a:ext cx="1440000" cy="861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704000" y="4005360"/>
                    <a:ext cx="144000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>
            <a:hlinkClick r:id="rId11" action="ppaction://hlinksldjump"/>
          </p:cNvPr>
          <p:cNvSpPr/>
          <p:nvPr/>
        </p:nvSpPr>
        <p:spPr>
          <a:xfrm>
            <a:off x="3276720" y="5013360"/>
            <a:ext cx="2160360" cy="1123920"/>
          </a:xfrm>
          <a:prstGeom prst="cloudCallout">
            <a:avLst>
              <a:gd name="adj1" fmla="val -111"/>
              <a:gd name="adj2" fmla="val 110171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</a:rPr>
              <a:t>العود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1650" dur="indefinite" restart="never" nodeType="tmRoot">
          <p:childTnLst>
            <p:seq>
              <p:cTn id="1651" dur="indefinite" nodeType="mainSeq">
                <p:childTnLst>
                  <p:par>
                    <p:cTn id="1652" fill="hold">
                      <p:stCondLst>
                        <p:cond delay="0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6" dur="3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7" dur="3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3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3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2" dur="3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3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8" dur="3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9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3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8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9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fill="hold">
                            <p:stCondLst>
                              <p:cond delay="4400"/>
                            </p:stCondLst>
                            <p:childTnLst>
                              <p:par>
                                <p:cTn id="17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5" dur="3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6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1" dur="3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2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3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7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000" spc="-1" strike="noStrike">
                <a:solidFill>
                  <a:srgbClr val="333399"/>
                </a:solidFill>
                <a:latin typeface="Tahoma"/>
              </a:rPr>
              <a:t>القبعة الزرقاء : التحكم في عمليات التفكير ، التفكير في التفكير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42920" y="2133360"/>
            <a:ext cx="402588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e4a8"/>
                </a:solidFill>
                <a:latin typeface="Tahoma"/>
              </a:rPr>
              <a:t>وتركز على :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خطوة التالي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جدول الاعمال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طلبات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ملخص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الاستنتاجات و القرارات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0" y="5178600"/>
          <a:ext cx="2808360" cy="16794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5178600"/>
                    <a:ext cx="2808360" cy="16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6300720" y="5821200"/>
          <a:ext cx="1295640" cy="776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300720" y="5821200"/>
                    <a:ext cx="1295640" cy="7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468360" y="3560760"/>
          <a:ext cx="1944720" cy="1163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8360" y="3560760"/>
                    <a:ext cx="194472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3492360" y="5516640"/>
          <a:ext cx="1944720" cy="1163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492360" y="5516640"/>
                    <a:ext cx="1944720" cy="11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826920" y="2205000"/>
          <a:ext cx="1295640" cy="776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826920" y="2205000"/>
                    <a:ext cx="129564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1718" dur="indefinite" restart="never" nodeType="tmRoot">
          <p:childTnLst>
            <p:seq>
              <p:cTn id="1719" dur="indefinite" nodeType="mainSeq">
                <p:childTnLst>
                  <p:par>
                    <p:cTn id="1720" fill="hold">
                      <p:stCondLst>
                        <p:cond delay="0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4" dur="3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5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3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0" dur="3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1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3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6" dur="3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7" dur="3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3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3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2" dur="3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3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8" dur="3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9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3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4" dur="3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5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3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قبعة الزرقاء - النقاط الاساس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0560" y="2017440"/>
            <a:ext cx="8675640" cy="32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توجه عمليات التفكير و تعيده الى الطريق اذا حاد عنه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تنظر في طلب اعضاء المجموعة للنظر في انماط معينة من التفكير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تبين الملاحظات الغير لائقة و غير مناسب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تطالب بتلخيص و خاتمة للموضوع المطروح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تصدر القرار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تجسد دور المنسق او المنظم او المدير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  <a:cs typeface="Simplified Arabic"/>
              </a:rPr>
              <a:t>يجوز ارتدائها  بواسطة أي من اعضاء المجموع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144360" y="5589720"/>
          <a:ext cx="1835280" cy="10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5589720"/>
                    <a:ext cx="1835280" cy="10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6443640" y="5516640"/>
            <a:ext cx="2160720" cy="1123920"/>
          </a:xfrm>
          <a:prstGeom prst="cloudCallout">
            <a:avLst>
              <a:gd name="adj1" fmla="val 71305"/>
              <a:gd name="adj2" fmla="val -62569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</a:rPr>
              <a:t>العود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34920" y="3898800"/>
          <a:ext cx="1258920" cy="75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0" y="3898800"/>
                    <a:ext cx="125892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"/>
          <p:cNvGraphicFramePr/>
          <p:nvPr/>
        </p:nvGraphicFramePr>
        <p:xfrm>
          <a:off x="1119240" y="4575240"/>
          <a:ext cx="1258920" cy="753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9240" y="4575240"/>
                    <a:ext cx="1258920" cy="75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"/>
          <p:cNvGraphicFramePr/>
          <p:nvPr/>
        </p:nvGraphicFramePr>
        <p:xfrm>
          <a:off x="2521080" y="5338800"/>
          <a:ext cx="1258920" cy="754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21080" y="5338800"/>
                    <a:ext cx="125892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3745080" y="6059520"/>
          <a:ext cx="1258560" cy="754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45080" y="6059520"/>
                    <a:ext cx="125856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1866" dur="indefinite" restart="never" nodeType="tmRoot">
          <p:childTnLst>
            <p:seq>
              <p:cTn id="1867" dur="indefinite" nodeType="mainSeq">
                <p:childTnLst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2" dur="3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3" dur="3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3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3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8" dur="3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9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0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3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4" dur="3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5" dur="3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3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3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0" dur="3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1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2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3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6" dur="3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7" dur="3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3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3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3" dur="3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4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3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1" dur="8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2" dur="8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3" dur="8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8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1" dur="8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2" dur="8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8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8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1" dur="8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2" dur="8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8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8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1" dur="8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2" dur="8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8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8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1" dur="8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2" dur="8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8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8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fill="hold">
                      <p:stCondLst>
                        <p:cond delay="indefinite"/>
                      </p:stCondLst>
                      <p:childTnLst>
                        <p:par>
                          <p:cTn id="1958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1" dur="8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2" dur="8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8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8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1" dur="8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2" dur="8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8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800" fill="hold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0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ستخدام القبعا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ahoma"/>
              </a:rPr>
              <a:t>هناك استخدامان اساسيان و عامان للقبعات :</a:t>
            </a:r>
            <a:r>
              <a:rPr b="0" lang="ar-SA" sz="2400" spc="-1" strike="noStrike">
                <a:solidFill>
                  <a:srgbClr val="ff0000"/>
                </a:solidFill>
                <a:latin typeface="Tahoma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f01"/>
                </a:solidFill>
                <a:latin typeface="Tahoma"/>
              </a:rPr>
              <a:t>1</a:t>
            </a:r>
            <a:r>
              <a:rPr b="1" lang="ar-SA" sz="2400" spc="-1" strike="noStrike">
                <a:solidFill>
                  <a:srgbClr val="ffcf01"/>
                </a:solidFill>
                <a:latin typeface="Tahoma"/>
              </a:rPr>
              <a:t> ) الاستخدام الفردي للقبعات :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ar-SA" sz="2400" spc="-1" strike="noStrike">
                <a:solidFill>
                  <a:srgbClr val="333399"/>
                </a:solidFill>
                <a:latin typeface="Tahoma"/>
              </a:rPr>
              <a:t>تستخدم قبعة واحدة فرادا و لفترة محددة مـــــن الوقت لتبني نمط تفكير معين و ذلك لاغراض كتابة تقرير او تسيير اعمال اجتماع</a:t>
            </a:r>
            <a:r>
              <a:rPr b="0" lang="ar-SA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ar-SA" sz="2400" spc="-1" strike="noStrike">
                <a:solidFill>
                  <a:srgbClr val="333399"/>
                </a:solidFill>
                <a:latin typeface="Tahoma"/>
              </a:rPr>
              <a:t>او في محادث .</a:t>
            </a:r>
            <a:r>
              <a:rPr b="0" lang="ar-SA" sz="2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f01"/>
                </a:solidFill>
                <a:latin typeface="Tahoma"/>
              </a:rPr>
              <a:t>2</a:t>
            </a:r>
            <a:r>
              <a:rPr b="1" lang="ar-SA" sz="2400" spc="-1" strike="noStrike">
                <a:solidFill>
                  <a:srgbClr val="ffcf01"/>
                </a:solidFill>
                <a:latin typeface="Tahoma"/>
              </a:rPr>
              <a:t> ) استخدام تسلسلي أو تتابعي : -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ar-SA" sz="2400" spc="-1" strike="noStrike">
                <a:solidFill>
                  <a:srgbClr val="333399"/>
                </a:solidFill>
                <a:latin typeface="Tahoma"/>
              </a:rPr>
              <a:t>هنا تستخدم القبعات الواحدة تلــــــــو الاخرى لبحث و استكشاف موضوع معين</a:t>
            </a:r>
            <a:r>
              <a:rPr b="0" lang="ar-SA" sz="2400" spc="-1" strike="noStrike">
                <a:solidFill>
                  <a:srgbClr val="333399"/>
                </a:solidFill>
                <a:latin typeface="Tahoma"/>
              </a:rPr>
              <a:t>  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8"/>
  </p:transition>
  <p:timing>
    <p:tnLst>
      <p:par>
        <p:cTn id="1981" dur="indefinite" restart="never" nodeType="tmRoot">
          <p:childTnLst>
            <p:seq>
              <p:cTn id="1982" dur="indefinite" nodeType="mainSeq">
                <p:childTnLst>
                  <p:par>
                    <p:cTn id="1983" fill="hold">
                      <p:stCondLst>
                        <p:cond delay="0"/>
                      </p:stCondLst>
                      <p:childTnLst>
                        <p:par>
                          <p:cTn id="1984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2" fill="hold">
                            <p:stCondLst>
                              <p:cond delay="1150"/>
                            </p:stCondLst>
                            <p:childTnLst>
                              <p:par>
                                <p:cTn id="1993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fill="hold">
                            <p:stCondLst>
                              <p:cond delay="2850"/>
                            </p:stCondLst>
                            <p:childTnLst>
                              <p:par>
                                <p:cTn id="2000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6" fill="hold">
                            <p:stCondLst>
                              <p:cond delay="4550"/>
                            </p:stCondLst>
                            <p:childTnLst>
                              <p:par>
                                <p:cTn id="2007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3" fill="hold">
                            <p:stCondLst>
                              <p:cond delay="8150"/>
                            </p:stCondLst>
                            <p:childTnLst>
                              <p:par>
                                <p:cTn id="2014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0" fill="hold">
                            <p:stCondLst>
                              <p:cond delay="9950"/>
                            </p:stCondLst>
                            <p:childTnLst>
                              <p:par>
                                <p:cTn id="2021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ستخدامات أخر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ar-SA" sz="3600" spc="-1" strike="noStrike">
                <a:solidFill>
                  <a:srgbClr val="ff0000"/>
                </a:solidFill>
                <a:latin typeface="Tahoma"/>
              </a:rPr>
              <a:t> ) الاستخدام الشخصي 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Tahoma"/>
              </a:rPr>
              <a:t>يحدد الشخص أي القبعات يستخدم تبعا للموقف المعين 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ar-SA" sz="3600" spc="-1" strike="noStrike">
                <a:solidFill>
                  <a:srgbClr val="ff0000"/>
                </a:solidFill>
                <a:latin typeface="Tahoma"/>
              </a:rPr>
              <a:t> ) الاستخدام اثناء التحدث 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Tahoma"/>
              </a:rPr>
              <a:t>مفيدة للتخاطب و تبادل الرأي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ar-SA" sz="3600" spc="-1" strike="noStrike">
                <a:solidFill>
                  <a:srgbClr val="ff0000"/>
                </a:solidFill>
                <a:latin typeface="Tahoma"/>
              </a:rPr>
              <a:t> ) تستخدم في الاجتماعات 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Tahoma"/>
              </a:rPr>
              <a:t>الجميع يحاول استخدام القبعات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r" rtl="1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ahoma"/>
              </a:rPr>
              <a:t>4</a:t>
            </a:r>
            <a:r>
              <a:rPr b="1" lang="ar-SA" sz="3600" spc="-1" strike="noStrike">
                <a:solidFill>
                  <a:srgbClr val="ff0000"/>
                </a:solidFill>
                <a:latin typeface="Tahoma"/>
              </a:rPr>
              <a:t> ) تستخدم القبعات في كتابة التقارير 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8"/>
  </p:transition>
  <p:timing>
    <p:tnLst>
      <p:par>
        <p:cTn id="2027" dur="indefinite" restart="never" nodeType="tmRoot">
          <p:childTnLst>
            <p:seq>
              <p:cTn id="2028" dur="indefinite" nodeType="mainSeq">
                <p:childTnLst>
                  <p:par>
                    <p:cTn id="2029" fill="hold">
                      <p:stCondLst>
                        <p:cond delay="0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8" fill="hold">
                            <p:stCondLst>
                              <p:cond delay="1100"/>
                            </p:stCondLst>
                            <p:childTnLst>
                              <p:par>
                                <p:cTn id="2039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5" fill="hold">
                            <p:stCondLst>
                              <p:cond delay="2600"/>
                            </p:stCondLst>
                            <p:childTnLst>
                              <p:par>
                                <p:cTn id="2046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2" fill="hold">
                            <p:stCondLst>
                              <p:cond delay="4500"/>
                            </p:stCondLst>
                            <p:childTnLst>
                              <p:par>
                                <p:cTn id="2053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9" fill="hold">
                            <p:stCondLst>
                              <p:cond delay="6100"/>
                            </p:stCondLst>
                            <p:childTnLst>
                              <p:par>
                                <p:cTn id="2060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6" fill="hold">
                            <p:stCondLst>
                              <p:cond delay="7600"/>
                            </p:stCondLst>
                            <p:childTnLst>
                              <p:par>
                                <p:cTn id="2067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3" fill="hold">
                            <p:stCondLst>
                              <p:cond delay="9200"/>
                            </p:stCondLst>
                            <p:childTnLst>
                              <p:par>
                                <p:cTn id="2074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0" fill="hold">
                            <p:stCondLst>
                              <p:cond delay="10600"/>
                            </p:stCondLst>
                            <p:childTnLst>
                              <p:par>
                                <p:cTn id="2081" nodeType="after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استخدام الفردي للقبعات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0764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</a:rPr>
              <a:t>القبعة الصفراء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لدى طرح فكرة جديدة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 حدوث تغيير او تعديل اساسي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ينظر الى فكرة ما باسلوب سلبي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</a:rPr>
              <a:t>القبعة الحمراء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 بحث فكرة قائمة تعتبر مثار للجدل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وجود تشاؤم او تفاؤل غير مبرر حول فكر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لجس نبض المجموعة حول قرار تم اتخاذه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6985080" y="5670720"/>
          <a:ext cx="215892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5080" y="5670720"/>
                    <a:ext cx="2158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0" y="5672160"/>
          <a:ext cx="2158920" cy="118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672160"/>
                    <a:ext cx="215892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2087" dur="indefinite" restart="never" nodeType="tmRoot">
          <p:childTnLst>
            <p:seq>
              <p:cTn id="2088" dur="indefinite" nodeType="mainSeq">
                <p:childTnLst>
                  <p:par>
                    <p:cTn id="2089" fill="hold">
                      <p:stCondLst>
                        <p:cond delay="0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3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5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9" dur="2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3" dur="20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1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7" dur="20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8" fill="hold">
                            <p:stCondLst>
                              <p:cond delay="7000"/>
                            </p:stCondLst>
                            <p:childTnLst>
                              <p:par>
                                <p:cTn id="21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1" dur="20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4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9000"/>
                            </p:stCondLst>
                            <p:childTnLst>
                              <p:par>
                                <p:cTn id="21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8" dur="2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2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2" dur="20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12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6" dur="20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0" dur="20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3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000" y="2781000"/>
            <a:ext cx="77929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333399"/>
                </a:solidFill>
                <a:latin typeface="Arabic Transparent"/>
                <a:cs typeface="Simplified Arabic"/>
              </a:rPr>
              <a:t>إن</a:t>
            </a:r>
            <a:r>
              <a:rPr b="1" lang="en-US" sz="6000" spc="-1" strike="noStrike">
                <a:solidFill>
                  <a:srgbClr val="333399"/>
                </a:solidFill>
                <a:latin typeface="Arial Backslanted"/>
                <a:ea typeface="Simplified Arabic"/>
              </a:rPr>
              <a:t> </a:t>
            </a:r>
            <a:r>
              <a:rPr b="1" lang="hi-IN" sz="6000" spc="-1" strike="noStrike">
                <a:solidFill>
                  <a:srgbClr val="333399"/>
                </a:solidFill>
                <a:latin typeface="Arabic Transparent"/>
                <a:cs typeface="Simplified Arabic"/>
              </a:rPr>
              <a:t>الاسلوب</a:t>
            </a:r>
            <a:r>
              <a:rPr b="1" lang="en-US" sz="6000" spc="-1" strike="noStrike">
                <a:solidFill>
                  <a:srgbClr val="333399"/>
                </a:solidFill>
                <a:latin typeface="Arial Backslanted"/>
                <a:ea typeface="Simplified Arabic"/>
              </a:rPr>
              <a:t> </a:t>
            </a:r>
            <a:r>
              <a:rPr b="1" lang="hi-IN" sz="6000" spc="-1" strike="noStrike">
                <a:solidFill>
                  <a:srgbClr val="333399"/>
                </a:solidFill>
                <a:latin typeface="Arabic Transparent"/>
                <a:cs typeface="Simplified Arabic"/>
              </a:rPr>
              <a:t>الذي</a:t>
            </a:r>
            <a:r>
              <a:rPr b="1" lang="en-US" sz="6000" spc="-1" strike="noStrike">
                <a:solidFill>
                  <a:srgbClr val="333399"/>
                </a:solidFill>
                <a:latin typeface="Arial Backslanted"/>
                <a:ea typeface="Simplified Arabic"/>
              </a:rPr>
              <a:t> </a:t>
            </a:r>
            <a:r>
              <a:rPr b="1" lang="hi-IN" sz="6000" spc="-1" strike="noStrike">
                <a:solidFill>
                  <a:srgbClr val="333399"/>
                </a:solidFill>
                <a:latin typeface="Arabic Transparent"/>
                <a:cs typeface="Simplified Arabic"/>
              </a:rPr>
              <a:t>نفكر</a:t>
            </a:r>
            <a:r>
              <a:rPr b="1" lang="en-US" sz="6000" spc="-1" strike="noStrike">
                <a:solidFill>
                  <a:srgbClr val="333399"/>
                </a:solidFill>
                <a:latin typeface="Arial Backslanted"/>
                <a:ea typeface="Simplified Arabic"/>
              </a:rPr>
              <a:t> </a:t>
            </a:r>
            <a:r>
              <a:rPr b="1" lang="hi-IN" sz="6000" spc="-1" strike="noStrike">
                <a:solidFill>
                  <a:srgbClr val="333399"/>
                </a:solidFill>
                <a:latin typeface="Arabic Transparent"/>
                <a:cs typeface="Simplified Arabic"/>
              </a:rPr>
              <a:t>به</a:t>
            </a:r>
            <a:r>
              <a:rPr b="1" lang="en-US" sz="6000" spc="-1" strike="noStrike">
                <a:solidFill>
                  <a:srgbClr val="333399"/>
                </a:solidFill>
                <a:latin typeface="Arial Backslanted"/>
                <a:ea typeface="Simplified Arabic"/>
              </a:rPr>
              <a:t> </a:t>
            </a:r>
            <a:r>
              <a:rPr b="1" lang="hi-IN" sz="6000" spc="-1" strike="noStrike">
                <a:solidFill>
                  <a:srgbClr val="333399"/>
                </a:solidFill>
                <a:latin typeface="Arabic Transparent"/>
                <a:cs typeface="Simplified Arabic"/>
              </a:rPr>
              <a:t>يحدد</a:t>
            </a:r>
            <a:r>
              <a:rPr b="1" lang="en-US" sz="6000" spc="-1" strike="noStrike">
                <a:solidFill>
                  <a:srgbClr val="333399"/>
                </a:solidFill>
                <a:latin typeface="Arial Backslanted"/>
                <a:ea typeface="Simplified Arabic"/>
              </a:rPr>
              <a:t> </a:t>
            </a:r>
            <a:r>
              <a:rPr b="1" lang="hi-IN" sz="6000" spc="-1" strike="noStrike">
                <a:solidFill>
                  <a:srgbClr val="333399"/>
                </a:solidFill>
                <a:latin typeface="Arabic Transparent"/>
                <a:cs typeface="Simplified Arabic"/>
              </a:rPr>
              <a:t>مسارنا في المستقبل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1332000" y="836640"/>
            <a:ext cx="2160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fcf01"/>
                </a:solidFill>
                <a:latin typeface="Arabic Transparent"/>
                <a:cs typeface="Simplified Arabic"/>
              </a:rPr>
              <a:t>حكمة</a:t>
            </a:r>
            <a:r>
              <a:rPr b="1" lang="en-US" sz="6000" spc="-1" strike="noStrike">
                <a:solidFill>
                  <a:srgbClr val="333399"/>
                </a:solidFill>
                <a:latin typeface="Arabic Transparent"/>
                <a:ea typeface="Simplified Arabi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9431600">
            <a:off x="5973840" y="5239800"/>
            <a:ext cx="327816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Arabic Transparent"/>
                <a:cs typeface="Simplified Arabic"/>
              </a:rPr>
              <a:t>إدوارد دي بون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800"/>
                            </p:stCondLst>
                            <p:childTnLst>
                              <p:par>
                                <p:cTn id="1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استخدام الفردي للقبعا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4560" y="2017800"/>
            <a:ext cx="4249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</a:rPr>
              <a:t>القبعة السوداء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 دراسة مشروع او فكرة ما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تبدو فكرة ما جذاب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بعد أن تعرف القبعة الصفراء على المزايا و الايجابيات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r" rtl="1"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يحدث تغير في البيئة المحيط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88000" y="2017800"/>
            <a:ext cx="424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</a:rPr>
              <a:t>القبعة الخضراء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675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ahoma"/>
              </a:rPr>
              <a:t>عندما يصبح التطور و التحسين شيئا مهما 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675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ahoma"/>
              </a:rPr>
              <a:t>عندما تتواجد ضرورة لطرح بدائل و خيارات 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675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ahoma"/>
              </a:rPr>
              <a:t>عندما تتواجد ضرورة لطرح افكار جديدة 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spcBef>
                <a:spcPts val="675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000000"/>
                </a:solidFill>
                <a:latin typeface="Tahoma"/>
              </a:rPr>
              <a:t>لطرح رؤية مختلفة تجاه امر ما 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0" y="5670720"/>
          <a:ext cx="215892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670720"/>
                    <a:ext cx="2158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6985080" y="5670720"/>
          <a:ext cx="2158920" cy="118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85080" y="5670720"/>
                    <a:ext cx="2158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2134" dur="indefinite" restart="never" nodeType="tmRoot">
          <p:childTnLst>
            <p:seq>
              <p:cTn id="2135" dur="indefinite" nodeType="mainSeq">
                <p:childTnLst>
                  <p:par>
                    <p:cTn id="2136" fill="hold">
                      <p:stCondLst>
                        <p:cond delay="0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0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4" dur="2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8" dur="2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2" dur="20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3" fill="hold">
                            <p:stCondLst>
                              <p:cond delay="8000"/>
                            </p:stCondLst>
                            <p:childTnLst>
                              <p:par>
                                <p:cTn id="21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6" dur="20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9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3" dur="2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7" dur="2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1" dur="2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5" dur="20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6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9" dur="20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2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استخدام الفردي للقبعا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445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e4a8"/>
                </a:solidFill>
                <a:latin typeface="Tahoma"/>
              </a:rPr>
              <a:t>القبعة الزرقاء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 نشوب نزاع او اختلاف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يصبح من الضروري اتخاذ قرار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يصبح الوقت عامل حاسم  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لوجود ضرورة لبحث و استقصاء امر ما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يصبح التفكير غير مركزا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e4a8"/>
                </a:solidFill>
                <a:latin typeface="Tahoma"/>
              </a:rPr>
              <a:t>القبعة البيضاء :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يطرح موقف جديد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لدى اتخاذ قرار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ما يصبح التفكير غير واقعي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 تسوية خلافات و اراء متباينة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cc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عند تدارس عرض ما او مفاوضته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6985080" y="5670720"/>
          <a:ext cx="2158920" cy="11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5080" y="5670720"/>
                    <a:ext cx="2158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0" y="5670720"/>
          <a:ext cx="2158920" cy="118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670720"/>
                    <a:ext cx="2158920" cy="11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2183" dur="indefinite" restart="never" nodeType="tmRoot">
          <p:childTnLst>
            <p:seq>
              <p:cTn id="2184" dur="indefinite" nodeType="mainSeq">
                <p:childTnLst>
                  <p:par>
                    <p:cTn id="2185" fill="hold">
                      <p:stCondLst>
                        <p:cond delay="0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9" dur="2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3" dur="2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7" dur="2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1" dur="20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2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5" dur="2000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9" dur="2000"/>
                                        <p:tgtEl>
                                          <p:spTgt spid="3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2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3" fill="hold">
                      <p:stCondLst>
                        <p:cond delay="indefinite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7" dur="2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8" fill="hold">
                      <p:stCondLst>
                        <p:cond delay="indefinite"/>
                      </p:stCondLst>
                      <p:childTnLst>
                        <p:par>
                          <p:cTn id="2219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2" dur="2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7" dur="2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8" fill="hold">
                      <p:stCondLst>
                        <p:cond delay="indefinite"/>
                      </p:stCondLst>
                      <p:childTnLst>
                        <p:par>
                          <p:cTn id="2229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2" dur="20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7" dur="20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2" dur="20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5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استخدام التسلسل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99640" y="2017800"/>
            <a:ext cx="805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Tahoma"/>
              </a:rPr>
              <a:t>يستخدم عندما يكون</a:t>
            </a:r>
            <a:r>
              <a:rPr b="1" lang="ar-SA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الوقت قصير 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التفكير عشوائيا و غير موجه 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هناك معتقدات و افكار مختلفة و متباينة و متضاربة</a:t>
            </a:r>
            <a:r>
              <a:rPr b="0" lang="ar-SA" sz="3200" spc="-1" strike="noStrike">
                <a:solidFill>
                  <a:srgbClr val="333399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Tahoma"/>
              </a:rPr>
              <a:t>و تذكر انه</a:t>
            </a:r>
            <a:r>
              <a:rPr b="1" lang="ar-SA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cc00"/>
                </a:solidFill>
                <a:latin typeface="Tahoma"/>
              </a:rPr>
              <a:t>لا يوجد تسلسل واحد صحيح بعينه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4320" indent="-27432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cc00"/>
                </a:solidFill>
                <a:latin typeface="Tahoma"/>
              </a:rPr>
              <a:t>ليس من الضروري استخدام كل القبعات في كل تسلسل</a:t>
            </a:r>
            <a:r>
              <a:rPr b="0" lang="ar-SA" sz="3200" spc="-1" strike="noStrike">
                <a:solidFill>
                  <a:srgbClr val="00cc00"/>
                </a:solidFill>
                <a:latin typeface="Tahoma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8"/>
  </p:transition>
  <p:timing>
    <p:tnLst>
      <p:par>
        <p:cTn id="2246" dur="indefinite" restart="never" nodeType="tmRoot">
          <p:childTnLst>
            <p:seq>
              <p:cTn id="2247" dur="indefinite" nodeType="mainSeq">
                <p:childTnLst>
                  <p:par>
                    <p:cTn id="2248" fill="hold">
                      <p:stCondLst>
                        <p:cond delay="0"/>
                      </p:stCondLst>
                      <p:childTnLst>
                        <p:par>
                          <p:cTn id="2249" fill="hold">
                            <p:stCondLst>
                              <p:cond delay="0"/>
                            </p:stCondLst>
                            <p:childTnLst>
                              <p:par>
                                <p:cTn id="22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52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6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0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4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5" fill="hold">
                            <p:stCondLst>
                              <p:cond delay="3500"/>
                            </p:stCondLst>
                            <p:childTnLst>
                              <p:par>
                                <p:cTn id="22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8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2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3" fill="hold">
                            <p:stCondLst>
                              <p:cond delay="4500"/>
                            </p:stCondLst>
                            <p:childTnLst>
                              <p:par>
                                <p:cTn id="22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6" dur="500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7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0" dur="500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- (( أنواع التسلسل )) 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56360" y="2017800"/>
            <a:ext cx="279864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e4a8"/>
                </a:solidFill>
                <a:latin typeface="Tahoma"/>
              </a:rPr>
              <a:t>التسلسل الثابت : 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3708360" y="2924280"/>
          <a:ext cx="15238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292428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4427640" y="4653000"/>
          <a:ext cx="152388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465300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4" name=""/>
          <p:cNvGraphicFramePr/>
          <p:nvPr/>
        </p:nvGraphicFramePr>
        <p:xfrm>
          <a:off x="4427640" y="5975280"/>
          <a:ext cx="1523880" cy="8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27640" y="5975280"/>
                    <a:ext cx="15238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7620120" y="2924280"/>
          <a:ext cx="152388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0120" y="292428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"/>
          <p:cNvGraphicFramePr/>
          <p:nvPr/>
        </p:nvGraphicFramePr>
        <p:xfrm>
          <a:off x="23760" y="2924280"/>
          <a:ext cx="152388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60" y="292428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 flipH="1">
            <a:off x="5580000" y="350028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1763640" y="3429000"/>
            <a:ext cx="165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310440" y="4149720"/>
            <a:ext cx="279864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e4a8"/>
                </a:solidFill>
                <a:latin typeface="Tahoma"/>
              </a:rPr>
              <a:t>التسلسل المرن :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6948360" y="5373720"/>
          <a:ext cx="1524240" cy="838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948360" y="5373720"/>
                    <a:ext cx="1524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"/>
          <p:cNvSpPr/>
          <p:nvPr/>
        </p:nvSpPr>
        <p:spPr>
          <a:xfrm flipH="1" flipV="1">
            <a:off x="6084720" y="5373720"/>
            <a:ext cx="719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6084720" y="6165720"/>
            <a:ext cx="7192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281" dur="indefinite" restart="never" nodeType="tmRoot">
          <p:childTnLst>
            <p:seq>
              <p:cTn id="2282" dur="indefinite" nodeType="mainSeq">
                <p:childTnLst>
                  <p:par>
                    <p:cTn id="2283" fill="hold">
                      <p:stCondLst>
                        <p:cond delay="0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7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3" dur="5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4" dur="50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7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8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9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0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3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4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6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0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1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2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5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6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7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8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1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2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4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5" fill="hold">
                      <p:stCondLst>
                        <p:cond delay="indefinite"/>
                      </p:stCondLst>
                      <p:childTnLst>
                        <p:par>
                          <p:cTn id="2326" fill="hold">
                            <p:stCondLst>
                              <p:cond delay="0"/>
                            </p:stCondLst>
                            <p:childTnLst>
                              <p:par>
                                <p:cTn id="23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9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0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3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4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2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9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0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1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5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6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7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1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2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3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4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7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8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9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0" dur="2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- (( أنواع التسلسل )) 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56360" y="2924280"/>
            <a:ext cx="279864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e4a8"/>
                </a:solidFill>
                <a:latin typeface="Tahoma"/>
              </a:rPr>
              <a:t>التسلسل المتغير : -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4356000" y="3830760"/>
          <a:ext cx="152424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3830760"/>
                    <a:ext cx="1524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1" name=""/>
          <p:cNvGraphicFramePr/>
          <p:nvPr/>
        </p:nvGraphicFramePr>
        <p:xfrm>
          <a:off x="7620120" y="3830760"/>
          <a:ext cx="152388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0120" y="383076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"/>
          <p:cNvSpPr/>
          <p:nvPr/>
        </p:nvSpPr>
        <p:spPr>
          <a:xfrm flipH="1">
            <a:off x="6227280" y="4406760"/>
            <a:ext cx="10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2987640" y="44067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900000" y="44067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124000" y="3903840"/>
            <a:ext cx="46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4200" y="3903840"/>
            <a:ext cx="470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000000"/>
                </a:solidFill>
                <a:latin typeface="Times New Roman"/>
              </a:rPr>
              <a:t>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361" dur="indefinite" restart="never" nodeType="tmRoot">
          <p:childTnLst>
            <p:seq>
              <p:cTn id="2362" dur="indefinite" nodeType="mainSeq">
                <p:childTnLst>
                  <p:par>
                    <p:cTn id="2363" fill="hold">
                      <p:stCondLst>
                        <p:cond delay="0"/>
                      </p:stCondLst>
                      <p:childTnLst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7" dur="5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8" dur="5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1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2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4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7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8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9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0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3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4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6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9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0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1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2" dur="2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5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6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1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2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7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8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0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زمن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99640" y="2017440"/>
            <a:ext cx="8055000" cy="32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يسمح بثلاث (</a:t>
            </a: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 ) الى اربعة (</a:t>
            </a: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 ) دقائق لكل قبعة 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 algn="r" rtl="1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اعلن الوقت المحدد لكل قبعة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 algn="r" rtl="1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يجوز تمديد الوقت اذا توالت الافكار المقترحة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 algn="r" rtl="1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يسمح بثلاثين (</a:t>
            </a: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 ) ثانية فقط للقبعة الحمراء كحد اقصى.</a:t>
            </a:r>
            <a:r>
              <a:rPr b="0" lang="ar-SA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6108840" y="5589720"/>
          <a:ext cx="152388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08840" y="5589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"/>
          <p:cNvGraphicFramePr/>
          <p:nvPr/>
        </p:nvGraphicFramePr>
        <p:xfrm>
          <a:off x="7656480" y="5614920"/>
          <a:ext cx="1523880" cy="83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56480" y="5614920"/>
                    <a:ext cx="15238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4" name=""/>
          <p:cNvGraphicFramePr/>
          <p:nvPr/>
        </p:nvGraphicFramePr>
        <p:xfrm>
          <a:off x="4537080" y="5589720"/>
          <a:ext cx="152388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37080" y="5589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"/>
          <p:cNvGraphicFramePr/>
          <p:nvPr/>
        </p:nvGraphicFramePr>
        <p:xfrm>
          <a:off x="3084480" y="5589720"/>
          <a:ext cx="1523880" cy="838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84480" y="5589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1571760" y="5589720"/>
          <a:ext cx="1523880" cy="838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71760" y="5589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36360" y="5589720"/>
          <a:ext cx="1524240" cy="838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6360" y="5589720"/>
                    <a:ext cx="1524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2411" dur="indefinite" restart="never" nodeType="tmRoot">
          <p:childTnLst>
            <p:seq>
              <p:cTn id="2412" dur="indefinite" nodeType="mainSeq">
                <p:childTnLst>
                  <p:par>
                    <p:cTn id="2413" fill="hold">
                      <p:stCondLst>
                        <p:cond delay="0"/>
                      </p:stCondLst>
                      <p:childTnLst>
                        <p:par>
                          <p:cTn id="2414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7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8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3" dur="2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7" dur="2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4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1" dur="20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2" fill="hold">
                            <p:stCondLst>
                              <p:cond delay="7000"/>
                            </p:stCondLst>
                            <p:childTnLst>
                              <p:par>
                                <p:cTn id="24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5" dur="20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8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9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2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3" dur="5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6" dur="5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5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0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1" dur="5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4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5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8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9" dur="5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cf01"/>
                </a:solidFill>
                <a:latin typeface="Tahoma"/>
              </a:rPr>
              <a:t>ماذا قالو عن القبعات .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690840" indent="-690840" algn="r" rtl="1">
              <a:spcBef>
                <a:spcPts val="1001"/>
              </a:spcBef>
              <a:buClr>
                <a:srgbClr val="ff0000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يمكن استخدامها بمختلف الدرجات و الوظائف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90840" indent="-690840" algn="r" rtl="1">
              <a:spcBef>
                <a:spcPts val="1001"/>
              </a:spcBef>
              <a:buClr>
                <a:srgbClr val="ff0000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تحسن من التواصل و العلاقات عامة . 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90840" indent="-690840" algn="r" rtl="1">
              <a:spcBef>
                <a:spcPts val="1001"/>
              </a:spcBef>
              <a:buClr>
                <a:srgbClr val="ff0000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تقلل من النزاعات و الخلافات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90840" indent="-690840" algn="r" rtl="1">
              <a:spcBef>
                <a:spcPts val="1001"/>
              </a:spcBef>
              <a:buClr>
                <a:srgbClr val="ff0000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تشجع الابداع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90840" indent="-690840" algn="r" rtl="1">
              <a:spcBef>
                <a:spcPts val="1001"/>
              </a:spcBef>
              <a:buClr>
                <a:srgbClr val="ff0000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ترتقي بنوعية و كفاءة التفكير</a:t>
            </a:r>
            <a:r>
              <a:rPr b="0" lang="ar-SA" sz="4000" spc="-1" strike="noStrike">
                <a:solidFill>
                  <a:srgbClr val="333399"/>
                </a:solidFill>
                <a:latin typeface="Tahoma"/>
              </a:rPr>
              <a:t> 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8"/>
  </p:transition>
  <p:timing>
    <p:tnLst>
      <p:par>
        <p:cTn id="2460" dur="indefinite" restart="never" nodeType="tmRoot">
          <p:childTnLst>
            <p:seq>
              <p:cTn id="2461" dur="indefinite" nodeType="mainSeq">
                <p:childTnLst>
                  <p:par>
                    <p:cTn id="2462" fill="hold">
                      <p:stCondLst>
                        <p:cond delay="0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7" fill="hold">
                      <p:stCondLst>
                        <p:cond delay="indefinite"/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1" dur="2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2" fill="hold">
                      <p:stCondLst>
                        <p:cond delay="indefinite"/>
                      </p:stCondLst>
                      <p:childTnLst>
                        <p:par>
                          <p:cTn id="2473" fill="hold">
                            <p:stCondLst>
                              <p:cond delay="0"/>
                            </p:stCondLst>
                            <p:childTnLst>
                              <p:par>
                                <p:cTn id="2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6" dur="2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7" fill="hold">
                      <p:stCondLst>
                        <p:cond delay="indefinite"/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1" dur="2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2" fill="hold">
                      <p:stCondLst>
                        <p:cond delay="indefinite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6" dur="2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7" fill="hold">
                      <p:stCondLst>
                        <p:cond delay="indefinite"/>
                      </p:stCondLst>
                      <p:childTnLst>
                        <p:par>
                          <p:cTn id="2488" fill="hold">
                            <p:stCondLst>
                              <p:cond delay="0"/>
                            </p:stCondLst>
                            <p:childTnLst>
                              <p:par>
                                <p:cTn id="2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1" dur="20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cf01"/>
                </a:solidFill>
                <a:latin typeface="Tahoma"/>
              </a:rPr>
              <a:t>هل لها فوائد 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136000" cy="24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54400" indent="-554400" algn="r" rtl="1">
              <a:spcBef>
                <a:spcPts val="799"/>
              </a:spcBef>
              <a:buClr>
                <a:srgbClr val="ff0000"/>
              </a:buClr>
              <a:buSzPct val="60000"/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تساهم في بناء نظم الجودة : ادارة الجودة الشاملة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 algn="r" rtl="1">
              <a:spcBef>
                <a:spcPts val="799"/>
              </a:spcBef>
              <a:buClr>
                <a:srgbClr val="ff0000"/>
              </a:buClr>
              <a:buSzPct val="60000"/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تقلل من الصراعات و الخلافات 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 algn="r" rtl="1">
              <a:spcBef>
                <a:spcPts val="799"/>
              </a:spcBef>
              <a:buClr>
                <a:srgbClr val="ff0000"/>
              </a:buClr>
              <a:buSzPct val="60000"/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تساهم في بناء فرق عمل فعالة 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 algn="r" rtl="1">
              <a:spcBef>
                <a:spcPts val="799"/>
              </a:spcBef>
              <a:buClr>
                <a:srgbClr val="ff0000"/>
              </a:buClr>
              <a:buSzPct val="60000"/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تجعل من الاجتماعات اكثر فعالية. </a:t>
            </a:r>
            <a:r>
              <a:rPr b="0" lang="ar-SA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0" y="3933720"/>
            <a:ext cx="2193840" cy="2924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2843280" y="4941720"/>
            <a:ext cx="5976720" cy="1511640"/>
          </a:xfrm>
          <a:prstGeom prst="wedgeRoundRectCallout">
            <a:avLst>
              <a:gd name="adj1" fmla="val -75393"/>
              <a:gd name="adj2" fmla="val -2174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أسأل الله عز وج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لكم التوفيق والنجاح في حياتكم العم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ahoma"/>
              </a:rPr>
              <a:t>مع تحياتي : أ. ممدوح عبدالكر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2492" dur="indefinite" restart="never" nodeType="tmRoot">
          <p:childTnLst>
            <p:seq>
              <p:cTn id="2493" dur="indefinite" nodeType="mainSeq">
                <p:childTnLst>
                  <p:par>
                    <p:cTn id="2494" fill="hold">
                      <p:stCondLst>
                        <p:cond delay="0"/>
                      </p:stCondLst>
                      <p:childTnLst>
                        <p:par>
                          <p:cTn id="2495" fill="hold">
                            <p:stCondLst>
                              <p:cond delay="0"/>
                            </p:stCondLst>
                            <p:childTnLst>
                              <p:par>
                                <p:cTn id="24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9" fill="hold">
                      <p:stCondLst>
                        <p:cond delay="indefinite"/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3" dur="2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8" dur="20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3" dur="20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4" fill="hold">
                      <p:stCondLst>
                        <p:cond delay="indefinite"/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8" dur="20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fill="hold">
                      <p:stCondLst>
                        <p:cond delay="indefinite"/>
                      </p:stCondLst>
                      <p:childTnLst>
                        <p:par>
                          <p:cTn id="2520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3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4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5" dur="9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Tahoma"/>
              </a:rPr>
              <a:t>من هو إدوارد دي بونو 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2781000"/>
            <a:ext cx="87044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r" rtl="1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دكتور متخصص في جراحة المخ والأعصاب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دكتور في علم النفس والفلسفة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مبتدع برنامج كورت لتطوير تفكير الاطفال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مبتدع وسائل التفكير الابداعي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 algn="r" rtl="1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استشاري لكثير من المؤسسات و الحكومات</a:t>
            </a:r>
            <a:r>
              <a:rPr b="0" lang="ar-SA" sz="40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8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8000"/>
                            </p:stCondLst>
                            <p:childTnLst>
                              <p:par>
                                <p:cTn id="1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قبعات التفكير الست ما هي ؟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2491920"/>
            <a:ext cx="8631000" cy="27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 algn="r" rtl="1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ahoma"/>
              </a:rPr>
              <a:t>اداة تفكير فعالة تشجع التفكير المتوازي 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236520" indent="-236520" algn="r" rtl="1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ahoma"/>
              </a:rPr>
              <a:t>برنامـج تدريبـي يمنـح متلقيـه المعرفـة </a:t>
            </a:r>
            <a:br>
              <a:rPr sz="4800"/>
            </a:br>
            <a:r>
              <a:rPr b="1" lang="ar-SA" sz="4800" spc="-1" strike="noStrike">
                <a:solidFill>
                  <a:srgbClr val="000000"/>
                </a:solidFill>
                <a:latin typeface="Tahoma"/>
              </a:rPr>
              <a:t>و المهارة لاستخدامه و الاستفادة منه 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108840" y="5589720"/>
          <a:ext cx="152388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08840" y="5589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7656480" y="5614920"/>
          <a:ext cx="1523880" cy="8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56480" y="5614920"/>
                    <a:ext cx="15238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4537080" y="5589720"/>
          <a:ext cx="152388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37080" y="5589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3084480" y="5589720"/>
          <a:ext cx="1523880" cy="838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84480" y="5589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571760" y="5589720"/>
          <a:ext cx="1523880" cy="838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571760" y="55897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6360" y="5589720"/>
          <a:ext cx="1524240" cy="838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360" y="5589720"/>
                    <a:ext cx="1524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الانتقادات التي تواجه قبعات التفكير الس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4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 algn="r" rtl="1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ahoma"/>
              </a:rPr>
              <a:t>البعض يرونها وسيلة لجذب الانظار .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236520" indent="-236520" algn="r" rtl="1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ahoma"/>
              </a:rPr>
              <a:t>البعض يعتقد انها وسيلة لشحذ الافكار 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236520" indent="-236520" algn="r" rtl="1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ahoma"/>
              </a:rPr>
              <a:t>الاستغناء عن التدريب بقراءة  الكتاب .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7620120" y="6019920"/>
          <a:ext cx="152388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0120" y="60199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7620120" y="4724280"/>
          <a:ext cx="1523880" cy="838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20120" y="4724280"/>
                    <a:ext cx="15238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4572000" y="6019920"/>
          <a:ext cx="1523880" cy="838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72000" y="60199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771640" y="6019920"/>
          <a:ext cx="1524240" cy="838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771640" y="6019920"/>
                    <a:ext cx="1524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0" y="6019920"/>
          <a:ext cx="1523880" cy="838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0" y="60199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0" y="4653000"/>
          <a:ext cx="1523880" cy="838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0" y="465300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8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1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3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1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8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1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000"/>
                            </p:stCondLst>
                            <p:childTnLst>
                              <p:par>
                                <p:cTn id="342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3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8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000"/>
                            </p:stCondLst>
                            <p:childTnLst>
                              <p:par>
                                <p:cTn id="352" nodeType="after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3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26560" y="981000"/>
            <a:ext cx="831708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333399"/>
                </a:solidFill>
                <a:latin typeface="Tahoma"/>
              </a:rPr>
              <a:t>ما هي أوجه القصور في الأسلوب الذي نفكر فيه  عادة ؟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27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 algn="r" rtl="1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ahoma"/>
              </a:rPr>
              <a:t>يفتقد الى البناء المنتظم و التصميم 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243360" indent="-243360" algn="r" rtl="1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ahoma"/>
              </a:rPr>
              <a:t>يفتقد الى الابداع و الابتكار 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243360" indent="-243360" algn="r" rtl="1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ahoma"/>
              </a:rPr>
              <a:t>يجعل الناس في حالة تضاد و تنافر</a:t>
            </a:r>
            <a:r>
              <a:rPr b="0" lang="ar-SA" sz="48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7620120" y="6019920"/>
          <a:ext cx="152388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0120" y="60199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7620120" y="4724280"/>
          <a:ext cx="1523880" cy="838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620120" y="4724280"/>
                    <a:ext cx="15238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940360" y="5470560"/>
          <a:ext cx="1524240" cy="838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940360" y="5470560"/>
                    <a:ext cx="1524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1547640" y="5445000"/>
          <a:ext cx="1524240" cy="8384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547640" y="5445000"/>
                    <a:ext cx="15242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0" y="6019920"/>
          <a:ext cx="1523880" cy="8380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0" y="601992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0" y="4653000"/>
          <a:ext cx="1523880" cy="838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0" y="4653000"/>
                    <a:ext cx="1523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4800"/>
                            </p:stCondLst>
                            <p:childTnLst>
                              <p:par>
                                <p:cTn id="36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9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9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9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800"/>
                            </p:stCondLst>
                            <p:childTnLst>
                              <p:par>
                                <p:cTn id="3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9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9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نمو الإنسان وتطوره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cf01"/>
                </a:solidFill>
                <a:latin typeface="Tahoma"/>
              </a:rPr>
              <a:t>من سن </a:t>
            </a: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0</a:t>
            </a: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 – </a:t>
            </a:r>
            <a:r>
              <a:rPr b="0" lang="en-US" sz="4000" spc="-1" strike="noStrike">
                <a:solidFill>
                  <a:srgbClr val="ffcf01"/>
                </a:solidFill>
                <a:latin typeface="Tahoma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4000"/>
            </a:br>
            <a:r>
              <a:rPr b="0" lang="hi-IN" sz="4000" spc="-1" strike="noStrike">
                <a:solidFill>
                  <a:srgbClr val="000000"/>
                </a:solidFill>
                <a:latin typeface="Tahoma"/>
              </a:rPr>
              <a:t>يسأل الطفل لماذا ؟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0000"/>
                </a:solidFill>
                <a:latin typeface="Tahoma"/>
              </a:rPr>
              <a:t>من سن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 –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12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4000"/>
            </a:br>
            <a:r>
              <a:rPr b="0" lang="hi-IN" sz="4000" spc="-1" strike="noStrike">
                <a:solidFill>
                  <a:srgbClr val="000000"/>
                </a:solidFill>
                <a:latin typeface="Tahoma"/>
              </a:rPr>
              <a:t>يسأل لماذا لا ؟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3333cc"/>
                </a:solidFill>
                <a:latin typeface="Tahoma"/>
              </a:rPr>
              <a:t>من سن </a:t>
            </a: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12</a:t>
            </a: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- </a:t>
            </a:r>
            <a:r>
              <a:rPr b="0" lang="en-US" sz="4000" spc="-1" strike="noStrike">
                <a:solidFill>
                  <a:srgbClr val="3333cc"/>
                </a:solidFill>
                <a:latin typeface="Tahoma"/>
              </a:rPr>
              <a:t>75</a:t>
            </a:r>
            <a:br>
              <a:rPr sz="4000"/>
            </a:br>
            <a:r>
              <a:rPr b="0" lang="hi-IN" sz="4000" spc="-1" strike="noStrike">
                <a:solidFill>
                  <a:srgbClr val="000000"/>
                </a:solidFill>
                <a:latin typeface="Tahoma"/>
              </a:rPr>
              <a:t>هي مرحلة التبرير وإعطاء الأسباب 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324000" y="2151000"/>
            <a:ext cx="4464000" cy="4302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9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9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333399"/>
                </a:solidFill>
                <a:latin typeface="Tahoma"/>
              </a:rPr>
              <a:t>قبعات التفكير الست تمثل الاطار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لتشجيع التفكير المتوازي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تخصص مساحة و زمن للتفكير الابداعي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يوجه التفكير نحو افكار معينة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يحول التفكير من نمط الى اخر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يفصل ما بين الانا  و الاداء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r" rtl="1">
              <a:spcBef>
                <a:spcPts val="9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ahoma"/>
              </a:rPr>
              <a:t>يتيح الفرصة لاستكشاف موضوع ما بعمق و تفحص 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wheel spokes="8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4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4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4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4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4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4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4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4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4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4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4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4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1T14:07:51Z</dcterms:created>
  <dc:creator>USER</dc:creator>
  <dc:description/>
  <dc:language>en-US</dc:language>
  <cp:lastModifiedBy>36057</cp:lastModifiedBy>
  <dcterms:modified xsi:type="dcterms:W3CDTF">2005-09-11T09:24:21Z</dcterms:modified>
  <cp:revision>1</cp:revision>
  <dc:subject/>
  <dc:title>الشريحة 1</dc:title>
</cp:coreProperties>
</file>