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811-B04E-4E8C-AC22-B70B256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0A9-8D2A-4E23-A4F7-B3950EAB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174-2977-4336-9E20-EDD6769A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307-D4CE-4398-A8D7-4A3756AC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7938-488A-4D0B-B896-2AEF7A7A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7597-2FB4-4613-BFF1-8D369AF3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1B24-4D3B-418F-90A3-2BAD7CDD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D016-B832-4EB8-8E29-BD778C7D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A4F-CF04-49B2-9AF3-BA191E32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2081-11A1-4A86-8527-2B23DDD2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110-C9C1-46F6-9188-9805EC8A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12A-C038-4CEF-A0CB-AEDD397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4C39-E81B-4FFD-83BA-3CEDC84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03F4-7C38-40F0-ABB3-0A423BA4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4F69-F9BE-4759-92B0-5616330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95B3-9D1A-4A69-9EEF-91C4F6B2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00F8-6BB8-45A1-9223-5CE507DE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C0ED-2595-43F1-858D-5591F719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D8F-731A-4843-97A1-48B11931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E2F-D2C4-418D-BB10-28CCAFDF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FAB-9E5A-4817-8EC0-66B945BF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882-91B6-4AB7-A752-314DAD86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246-8EBE-426A-B65A-928B903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A6C-C327-4736-98B1-7251F59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6758-4F00-4200-ABB2-7305C244902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E63A-E934-4BEB-9C91-B92D1E183793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6.xm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slide" Target="slide19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slide" Target="slide21.xml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slide" Target="slide23.xml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6.bin"/><Relationship Id="rId17" Type="http://schemas.openxmlformats.org/officeDocument/2006/relationships/slide" Target="slide25.xml"/><Relationship Id="rId18" Type="http://schemas.openxmlformats.org/officeDocument/2006/relationships/image" Target="../media/image3.wmf"/><Relationship Id="rId19" Type="http://schemas.openxmlformats.org/officeDocument/2006/relationships/slide" Target="slide27.xml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slide" Target="slide14.xml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slide" Target="slide14.xml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4.xml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قبعات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التفكي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الست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((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إدوارد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دي 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بونو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56720" y="460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180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8000" y="117360"/>
            <a:ext cx="1079280" cy="1079640"/>
            <a:chOff x="108000" y="117360"/>
            <a:chExt cx="1079280" cy="1079640"/>
          </a:xfrm>
        </p:grpSpPr>
        <p:sp>
          <p:nvSpPr>
            <p:cNvPr id="103" name=""/>
            <p:cNvSpPr/>
            <p:nvPr/>
          </p:nvSpPr>
          <p:spPr>
            <a:xfrm>
              <a:off x="455400" y="117360"/>
              <a:ext cx="385200" cy="26964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880" y="279000"/>
              <a:ext cx="38520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920" y="279000"/>
              <a:ext cx="38556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25800">
              <a:off x="405000" y="491040"/>
              <a:ext cx="485640" cy="385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000" y="981000"/>
              <a:ext cx="1079280" cy="21600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79120" y="60300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إدار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عام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للتعليم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بجد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3240" y="1035360"/>
              <a:ext cx="92520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قسم الابتدائي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27400" y="666000"/>
              <a:ext cx="23112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وزارة المعارف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1417 </a:t>
              </a: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هـ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200" y="59724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مجمع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أمير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سلطان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تعليمي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620120" y="371628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716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0120" y="270828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08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0120" y="479736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79736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0120" y="59500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595008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95008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40360" y="595008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1332000" y="2421000"/>
            <a:ext cx="4392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ndalus"/>
              </a:rPr>
              <a:t>ورشة عم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ndalus"/>
              <a:ea typeface="Andalu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0" y="3500280"/>
            <a:ext cx="22384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43280" y="692280"/>
            <a:ext cx="3720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implified Arabic"/>
              </a:rPr>
              <a:t>التفكي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implified Arabic"/>
              <a:ea typeface="Simplified Arabic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4000" y="3276720"/>
            <a:ext cx="305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3276720"/>
            <a:ext cx="34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46800" y="258588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509920"/>
            <a:ext cx="1685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1720" y="1671480"/>
            <a:ext cx="3133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عاكس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19040" y="48769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19040" y="55897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19400" y="6308640"/>
            <a:ext cx="33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033800"/>
            <a:ext cx="290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وازي</a:t>
            </a:r>
            <a:r>
              <a:rPr b="1" lang="ar-SA" sz="4400" spc="-1" strike="noStrike">
                <a:solidFill>
                  <a:srgbClr val="00e4a8"/>
                </a:solidFill>
                <a:latin typeface="Times New Roman"/>
              </a:rPr>
              <a:t> :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8880" y="471960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5549760"/>
            <a:ext cx="206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867280" y="3429000"/>
          <a:ext cx="10796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10796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6000" y="2492280"/>
          <a:ext cx="1079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92280"/>
                    <a:ext cx="107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43280" y="2492280"/>
          <a:ext cx="107928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492280"/>
                    <a:ext cx="1079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43280" y="3429000"/>
          <a:ext cx="10792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42900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89080" y="5734080"/>
          <a:ext cx="10792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9080" y="573408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87280" y="4897440"/>
          <a:ext cx="10796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897440"/>
                    <a:ext cx="1079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ثال على التفكير المتوازي</a:t>
            </a:r>
            <a:br>
              <a:rPr sz="4400"/>
            </a:b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( طيور الأوز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سافر و تتنقل و تفكر الاوز بطريقة متوازية مشكلة حرف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(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V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درك اهمية الجماعة و معنى ذلك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لهذه الطيور وجهة محددة و هدف واحد يخلص له كل الطيور بالمجموعة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.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997440" y="2349360"/>
          <a:ext cx="1524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997440" y="234936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-1836720" y="3357720"/>
          <a:ext cx="15238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1836720" y="3357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-3997440" y="4654440"/>
          <a:ext cx="15242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3997440" y="465444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-6013440" y="5086440"/>
          <a:ext cx="15238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6013440" y="508644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-6084720" y="177336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084720" y="17733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-6157800" y="3430440"/>
          <a:ext cx="15238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6157800" y="343044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5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لماذا القبعات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353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هناك علاقة تقليدية ما بين التفكير و القبعات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القبعات يمكن و ضعها  و خلعها بسهول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كل منها يمثل دور معين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0" y="4946760"/>
            <a:ext cx="188604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7257960" y="4946760"/>
            <a:ext cx="188604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4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( الآن اختر القبعة التي تريد التعرف عليها)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732720" y="2492280"/>
          <a:ext cx="215892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2492280"/>
          <a:ext cx="2158920" cy="11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5670720"/>
          <a:ext cx="2159280" cy="11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670720"/>
                    <a:ext cx="2159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419640" y="2421000"/>
          <a:ext cx="2158920" cy="118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242100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10080" y="3933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005360"/>
            <a:ext cx="2879640" cy="1439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005360"/>
            <a:ext cx="2879640" cy="14396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6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600"/>
                            </p:stCondLst>
                            <p:childTnLst>
                              <p:par>
                                <p:cTn id="7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6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بيضاء : المعلومات ، البيانات ، المتطلبات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متوفرة لدينا و الموجود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ود الحصول علي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حتاج 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غير متوافرة و الناقصة و التي يجب اكما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بيض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سجل الآراء المتباينة المختلفة في حالة وجود معلومات متضاربة ، و تقييم صحة المعلومات و مدى علاقتها بأصل الموضوع المطروح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  <a:cs typeface="Simplified Arabic"/>
              </a:rPr>
              <a:t>تفرق بين الحقائق المجردة و التخمين و التأملات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f01"/>
                </a:solidFill>
                <a:latin typeface="Tahoma"/>
                <a:cs typeface="Simplified Arabic"/>
              </a:rPr>
              <a:t>تحدد طبيعة الخطوات التي يجب تنفيذها لسد أي نق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بين المشاعر الخاصة بالآخرين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حمراء : المشاعر ، الحدس ، العواطف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ح شرعية للتعبير عن المشاعر و الاحاسيس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عبير عما تشعر به الان  فقط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ستخدم كجزء من التفكير الذي يؤدي الى قرار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مكن استخدامها في مرحلة ما بعد الوصول الى قرار م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حم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تمنح اذن مطلق للتعبير عن الاحاسيس و الشعور و الحدس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ahoma"/>
              </a:rPr>
              <a:t>لا تطالب باستيضاح او شرح لأسباب مشاعرن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شعور داخلي مبني على خبراتنا و تجاربنا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276720" y="5084640"/>
          <a:ext cx="244764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084640"/>
                    <a:ext cx="24476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طاق الشعو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00200" y="4348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0556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200" y="3510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غير راضي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65880" y="3429000"/>
            <a:ext cx="10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راض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3357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imes New Roman"/>
                <a:cs typeface="Simplified Arabic"/>
              </a:rPr>
              <a:t>ما بين ال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73720" y="5234040"/>
          <a:ext cx="2870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5234040"/>
                    <a:ext cx="2870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26920" y="5300640"/>
            <a:ext cx="3635640" cy="1197000"/>
          </a:xfrm>
          <a:prstGeom prst="cloudCallout">
            <a:avLst>
              <a:gd name="adj1" fmla="val -69347"/>
              <a:gd name="adj2" fmla="val 73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سوداء : الحذر ، المخاطر ، المصاعب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فكير غير المناسب : الخبرات ، الحقائق ، الانظمة ، القي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خطا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شاكل الاساسي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غلطات المنط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وق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(( دقيقة للتفكير ))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80000" cy="526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816280"/>
            <a:ext cx="435600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86200" y="1773360"/>
            <a:ext cx="367344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ما هواية هذه السيد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3500280"/>
            <a:ext cx="2016000" cy="2665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أرى الكذ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وجه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سود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قد توفر معلومات في بعض الاحيان و التي قد تتوافر بواسطة القبعة البيض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لا تلجأ الى حل المشاكل التي تظهر تحت القبعة السوداء فورا  بمجرد ذكرها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قبعة لها ذات قيمة و فائدة و ضرور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تمنع وقوع الغلطات السخيف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بين الصعوبات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سبب مشاكل جمة اذا زاد استخدام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636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6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4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>
            <a:hlinkClick r:id="rId13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صفراء : الإيجابية ، الفوائد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8920" y="2133360"/>
            <a:ext cx="3809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جدوى و الفوائد ، وما هي الفوائد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طبيق هذا المفهوم الجذاب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 تعديل هذه الفكرة حتى تصبح قابلة للتنفيذ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عديل النظام الحالي ؟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حث عن الفوائد المرئية و الكامن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صف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3280" y="2017800"/>
            <a:ext cx="42832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طلب بذل بعض الجهد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قل تلقائية مقارنة بالقبعة السود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شجع الافكار الابداعية و المبتك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2205000"/>
          <a:ext cx="2447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2447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1128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717800">
            <a:off x="4195440" y="4221000"/>
            <a:ext cx="491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يمة المزايا والخصائ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465300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بس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سر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خ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ت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قبعة الخضراء : الاحتمالات ، البدائل ، الأفكار الجديدة 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بذل جهد ابداعي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عدل من الافكار و تزيل الاخط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شأ خلية تتخذ من الابتكار ثقافة ل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2781360"/>
          <a:ext cx="3809880" cy="22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8136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516720" y="4221000"/>
            <a:ext cx="210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نقاط ال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4915080"/>
            <a:ext cx="54723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شجع التفكير الابداعي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ستكشف بدائل مختلفة لتنفيذ الاعمال و الاف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لمة العشوائية (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64216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عشوائية لها علاقة بالموضوع الذي تفكر في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أخرى ليست لها علاق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وجد العلاقة بين الكلمتين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005360"/>
          <a:ext cx="14400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63640" y="5157720"/>
          <a:ext cx="14400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4149720"/>
          <a:ext cx="1440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414972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867280" y="5157720"/>
          <a:ext cx="144000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704000" y="4005360"/>
          <a:ext cx="1440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400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3276720" y="5013360"/>
            <a:ext cx="2160360" cy="1123920"/>
          </a:xfrm>
          <a:prstGeom prst="cloudCallout">
            <a:avLst>
              <a:gd name="adj1" fmla="val -111"/>
              <a:gd name="adj2" fmla="val 110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3399"/>
                </a:solidFill>
                <a:latin typeface="Tahoma"/>
              </a:rPr>
              <a:t>القبعة الزرقاء : التحكم في عمليات التفكير ، التفكير في التفكير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خطوة التالي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جدول الاعما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طلب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لخ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ستنتاجات و القرار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5178600"/>
          <a:ext cx="28083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178600"/>
                    <a:ext cx="280836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300720" y="5821200"/>
          <a:ext cx="129564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00720" y="5821200"/>
                    <a:ext cx="12956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68360" y="3560760"/>
          <a:ext cx="1944720" cy="116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56076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492360" y="5516640"/>
          <a:ext cx="1944720" cy="116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51664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26920" y="2205000"/>
          <a:ext cx="129564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220500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زرق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وجه عمليات التفكير و تعيده الى الطريق اذا حاد عن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نظر في طلب اعضاء المجموعة للنظر في انماط معينة من التفك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بين الملاحظات الغير لائقة و غير مناس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طالب بتلخيص و خاتمة للموضوع المطروح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صدر ال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جسد دور المنسق او المنظم او المد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يجوز ارتدائها  بواسطة أي من اعضاء المجموع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4360" y="5589720"/>
          <a:ext cx="18352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589720"/>
                    <a:ext cx="18352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43640" y="5516640"/>
            <a:ext cx="2160720" cy="1123920"/>
          </a:xfrm>
          <a:prstGeom prst="cloudCallout">
            <a:avLst>
              <a:gd name="adj1" fmla="val 71305"/>
              <a:gd name="adj2" fmla="val -625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20" y="3898800"/>
          <a:ext cx="12589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389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119240" y="4575240"/>
          <a:ext cx="125892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9240" y="4575240"/>
                    <a:ext cx="12589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21080" y="5338800"/>
          <a:ext cx="125892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533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745080" y="6059520"/>
          <a:ext cx="12585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5080" y="6059520"/>
                    <a:ext cx="1258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8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8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8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8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8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 ا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هناك استخدامان اساسيان و عامان للقبعات :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لاستخدام الفردي للقبعات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تستخدم قبعة واحدة فرادا و لفترة محددة مـــــن الوقت لتبني نمط تفكير معين و ذلك لاغراض كتابة تقرير او تسيير اعمال اجتماع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او في محادث .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ستخدام تسلسلي أو تتابعي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هنا تستخدم القبعات الواحدة تلــــــــو الاخرى لبحث و استكشاف موضوع معين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50"/>
                            </p:stCondLst>
                            <p:childTnLst>
                              <p:par>
                                <p:cTn id="199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0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4550"/>
                            </p:stCondLst>
                            <p:childTnLst>
                              <p:par>
                                <p:cTn id="20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8150"/>
                            </p:stCondLst>
                            <p:childTnLst>
                              <p:par>
                                <p:cTn id="20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ات أخر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لشخصي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يحدد الشخص أي القبعات يستخدم تبعا للموقف المعين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ثناء التحدث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مفيدة للتخاطب و تبادل الرأ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في الاجتماعات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الجميع يحاول استخدام القبعات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القبعات في كتابة التقارير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3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600"/>
                            </p:stCondLst>
                            <p:childTnLst>
                              <p:par>
                                <p:cTn id="204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6100"/>
                            </p:stCondLst>
                            <p:childTnLst>
                              <p:par>
                                <p:cTn id="20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7600"/>
                            </p:stCondLst>
                            <p:childTnLst>
                              <p:par>
                                <p:cTn id="20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9200"/>
                            </p:stCondLst>
                            <p:childTnLst>
                              <p:par>
                                <p:cTn id="20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صف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طرح فكرة جديدة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حدوث تغيير او تعديل اساسي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نظر الى فكرة ما باسلوب سلبي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حم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بحث فكرة قائمة تعتبر مثار للجد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جود تشاؤم او تفاؤل غير مبرر حول فكر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جس نبض المجموعة حول قرار تم اتخاذ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0" y="5672160"/>
          <a:ext cx="21589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2160"/>
                    <a:ext cx="215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0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0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792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إن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اسلوب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ذي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نفكر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به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يحدد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مسارنا في المستقبل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836640"/>
            <a:ext cx="216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f01"/>
                </a:solidFill>
                <a:latin typeface="Arabic Transparent"/>
                <a:cs typeface="Simplified Arabic"/>
              </a:rPr>
              <a:t>حكمة</a:t>
            </a:r>
            <a:r>
              <a:rPr b="1" lang="en-US" sz="6000" spc="-1" strike="noStrike">
                <a:solidFill>
                  <a:srgbClr val="333399"/>
                </a:solidFill>
                <a:latin typeface="Arabic Transparent"/>
                <a:ea typeface="Simplified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431600">
            <a:off x="5973840" y="5239800"/>
            <a:ext cx="327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abic Transparent"/>
                <a:cs typeface="Simplified Arabic"/>
              </a:rPr>
              <a:t>إدوارد دي بون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8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60" y="201780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سود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دراسة مشروع او فكرة م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تبدو فكرة ما جذا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أن تعرف القبعة الصفراء على المزايا و الايجابي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حدث تغير في البيئة المحيط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800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خض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يصبح التطور و التحسين شيئا مه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بدائل و خيارات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افكار جديدة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لطرح رؤية مختلفة تجاه امر 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4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6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زرق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نشوب نزاع او اختلاف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من الضروري اتخاذ قرار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وقت عامل حاسم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وجود ضرورة لبحث و استقصاء امر م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مركز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e4a8"/>
                </a:solidFill>
                <a:latin typeface="Tahoma"/>
              </a:rPr>
              <a:t>القبعة البيض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طرح موقف جديد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اتخاذ 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واقع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سوية خلافات و اراء متباين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دارس عرض ما او مفاوضت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0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5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9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2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7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2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تسلسل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يستخدم عندما يكون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وقت قصير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تفكير عشوائيا و غير موجه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هناك معتقدات و افكار مختلفة و متباينة و متضاربة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و تذكر انه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ا يوجد تسلسل واحد صحيح بعينه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يس من الضروري استخدام كل القبعات في كل تسلسل</a:t>
            </a:r>
            <a:r>
              <a:rPr b="0" lang="ar-SA" sz="3200" spc="-1" strike="noStrike">
                <a:solidFill>
                  <a:srgbClr val="00cc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0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56360" y="201780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ثابت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708360" y="2924280"/>
          <a:ext cx="1523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7640" y="465300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427640" y="597528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975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0120" y="292428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760" y="29242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H="1">
            <a:off x="5580000" y="3500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763640" y="3429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0440" y="4149720"/>
            <a:ext cx="2798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رن 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948360" y="537372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5373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H="1" flipV="1">
            <a:off x="6084720" y="537372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084720" y="616572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0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56360" y="292428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تغير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56000" y="3830760"/>
          <a:ext cx="1524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8307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20120" y="383076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8307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 flipH="1">
            <a:off x="6227280" y="4406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64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0000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3903840"/>
            <a:ext cx="4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200" y="390384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زم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الى اربعة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دقائق لكل قبعة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اعلن الوقت المحدد لكل قبع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جوز تمديد الوقت اذا توالت الافكار المقترح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ين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ثانية فقط للقبعة الحمراء كحد اقصى.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7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1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5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ماذا قالو عن القبعات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يمكن استخدامها بمختلف الدرجات و الوظائ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حسن من التواصل و العلاقات عامة 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قلل من النزاعات و الخلافات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شجع الابداع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رتقي بنوعية و كفاءة التفكير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هل لها فوائد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نظم الجودة : ادارة الجودة الشامل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قلل من الصراعات و الخلافات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فرق عمل فعالة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جعل من الاجتماعات اكثر فعالية. 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93840" cy="292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3280" y="4941720"/>
            <a:ext cx="5976720" cy="1511640"/>
          </a:xfrm>
          <a:prstGeom prst="wedgeRoundRectCallout">
            <a:avLst>
              <a:gd name="adj1" fmla="val -75393"/>
              <a:gd name="adj2" fmla="val -21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سأل الله عز 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كم التوفيق والنجاح في حياتكم ال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ع تحياتي : أ. ممدوح عبدالكر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0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ن هو إدوارد دي بونو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704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متخصص في جراحة المخ والأعص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في علم النفس والفلسف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برنامج كورت لتطوير تفكير الاطفال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وسائل التفكير الابداعي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استشاري لكثير من المؤسسات و الحكومات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ما هي 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6310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اداة تفكير فعالة تشجع التفكير المتوازي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برنامـج تدريبـي يمنـح متلقيـه المعرفـة 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و المهارة لاستخدامه و الاستفادة منه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نتقادات التي تواجه قبعات التفكير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رونها وسيلة لجذب الانظار .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عتقد انها وسيلة لشحذ الافكا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استغناء عن التدريب بقراءة  الكتاب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6019920"/>
          <a:ext cx="152388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6019920"/>
          <a:ext cx="152424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60199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31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ما هي أوجه القصور في الأسلوب الذي نفكر فيه  عادة ؟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بناء المنتظم و التصميم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ابداع و الابتكار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جعل الناس في حالة تضاد و تناف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0360" y="5470560"/>
          <a:ext cx="15242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0360" y="54705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547640" y="5445000"/>
          <a:ext cx="152424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544500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مو الإنسان وتطور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f01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الطفل لماذ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لماذا ل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75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هي مرحلة التبرير وإعطاء الأسب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4464000" cy="430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تمثل الاطا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لتشجيع التفكير المتواز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تخصص مساحة و زمن للتفكير الابداع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وجه التفكير نحو افكار معين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حول التفكير من نمط الى اخر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فصل ما بين الانا  و الاداء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تيح الفرصة لاستكشاف موضوع ما بعمق و تفحص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4:07:51Z</dcterms:created>
  <dc:creator>USER</dc:creator>
  <dc:description/>
  <dc:language>en-US</dc:language>
  <cp:lastModifiedBy>36057</cp:lastModifiedBy>
  <dcterms:modified xsi:type="dcterms:W3CDTF">2005-09-11T09:24:21Z</dcterms:modified>
  <cp:revision>1</cp:revision>
  <dc:subject/>
  <dc:title>الشريحة 1</dc:title>
</cp:coreProperties>
</file>