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6.wmf" ContentType="image/x-wmf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wmf" ContentType="image/x-wmf"/>
  <Override PartName="/ppt/media/image29.png" ContentType="image/png"/>
  <Override PartName="/ppt/media/image28.png" ContentType="image/png"/>
  <Override PartName="/ppt/media/image27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4A07-4E7B-47BB-9D09-43D2E1F4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9399-45AD-4A87-8567-4F0BD43A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DD3A-F2B8-4A80-BB7E-C92C54F4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7FAD-0024-4705-833D-80F04A10F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B7BC-009B-4AEB-BCC3-552DDF19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7178-A047-44D1-9248-977B72A2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6C9F-0609-40ED-8279-9F8BFE07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C1EE-A5C2-47C2-822D-54E055A5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2C90-2455-43A7-9A45-D2E884E4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677D-33AA-4CBC-8E08-747F0AD7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4C5E-53F8-4AAB-A036-D26B8CE7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92B0-4E4E-4AD9-811A-44A145FB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3F66-8F70-41FA-BE38-B0415AE7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4D4D-752E-4F32-A3C4-C739BC26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37F2-F820-4222-9BB7-B68F74CD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0B8D-A945-437D-A749-F6B0125EE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D99A-4C50-41BB-92BA-0DFE1531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28B2-E45D-4771-92EA-A602663D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FFFF-C2FD-4B64-978D-A69EC176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6688-C383-45C2-9E06-DECF2647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4891-EB80-4E8B-87AC-80B974B8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504C-544C-46DB-BD42-B1365D34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11CC-E69F-43CB-A96B-90872A55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5E6C-984C-4CC2-8C2A-D1B2841F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06B0-6B40-4C53-9AF9-7B7FFF92D35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CE39-2A50-4AB8-9418-A1D66A983FA5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.wmf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16.xml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slide" Target="slide14.xml"/><Relationship Id="rId6" Type="http://schemas.openxmlformats.org/officeDocument/2006/relationships/image" Target="../media/image3.wmf"/><Relationship Id="rId7" Type="http://schemas.openxmlformats.org/officeDocument/2006/relationships/oleObject" Target="../embeddings/oleObject3.bin"/><Relationship Id="rId8" Type="http://schemas.openxmlformats.org/officeDocument/2006/relationships/slide" Target="slide19.xml"/><Relationship Id="rId9" Type="http://schemas.openxmlformats.org/officeDocument/2006/relationships/image" Target="../media/image3.wmf"/><Relationship Id="rId10" Type="http://schemas.openxmlformats.org/officeDocument/2006/relationships/oleObject" Target="../embeddings/oleObject4.bin"/><Relationship Id="rId11" Type="http://schemas.openxmlformats.org/officeDocument/2006/relationships/slide" Target="slide21.xml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5.bin"/><Relationship Id="rId14" Type="http://schemas.openxmlformats.org/officeDocument/2006/relationships/slide" Target="slide23.xml"/><Relationship Id="rId15" Type="http://schemas.openxmlformats.org/officeDocument/2006/relationships/image" Target="../media/image3.wmf"/><Relationship Id="rId16" Type="http://schemas.openxmlformats.org/officeDocument/2006/relationships/oleObject" Target="../embeddings/oleObject6.bin"/><Relationship Id="rId17" Type="http://schemas.openxmlformats.org/officeDocument/2006/relationships/slide" Target="slide25.xml"/><Relationship Id="rId18" Type="http://schemas.openxmlformats.org/officeDocument/2006/relationships/image" Target="../media/image3.wmf"/><Relationship Id="rId19" Type="http://schemas.openxmlformats.org/officeDocument/2006/relationships/slide" Target="slide27.xml"/><Relationship Id="rId20" Type="http://schemas.openxmlformats.org/officeDocument/2006/relationships/image" Target="../media/image17.wmf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oleObject" Target="../embeddings/oleObject1.bin"/><Relationship Id="rId6" Type="http://schemas.openxmlformats.org/officeDocument/2006/relationships/slide" Target="slide14.xml"/><Relationship Id="rId7" Type="http://schemas.openxmlformats.org/officeDocument/2006/relationships/image" Target="../media/image3.wmf"/><Relationship Id="rId8" Type="http://schemas.openxmlformats.org/officeDocument/2006/relationships/oleObject" Target="../embeddings/oleObject2.bin"/><Relationship Id="rId9" Type="http://schemas.openxmlformats.org/officeDocument/2006/relationships/slide" Target="slide14.xml"/><Relationship Id="rId10" Type="http://schemas.openxmlformats.org/officeDocument/2006/relationships/image" Target="../media/image3.wmf"/><Relationship Id="rId11" Type="http://schemas.openxmlformats.org/officeDocument/2006/relationships/slide" Target="slide13.xml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oleObject" Target="../embeddings/oleObject1.bin"/><Relationship Id="rId5" Type="http://schemas.openxmlformats.org/officeDocument/2006/relationships/slide" Target="slide14.xml"/><Relationship Id="rId6" Type="http://schemas.openxmlformats.org/officeDocument/2006/relationships/image" Target="../media/image3.wmf"/><Relationship Id="rId7" Type="http://schemas.openxmlformats.org/officeDocument/2006/relationships/oleObject" Target="../embeddings/oleObject2.bin"/><Relationship Id="rId8" Type="http://schemas.openxmlformats.org/officeDocument/2006/relationships/slide" Target="slide14.xml"/><Relationship Id="rId9" Type="http://schemas.openxmlformats.org/officeDocument/2006/relationships/image" Target="../media/image3.wmf"/><Relationship Id="rId10" Type="http://schemas.openxmlformats.org/officeDocument/2006/relationships/oleObject" Target="../embeddings/oleObject3.bin"/><Relationship Id="rId11" Type="http://schemas.openxmlformats.org/officeDocument/2006/relationships/slide" Target="slide14.xml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oleObject" Target="../embeddings/oleObject1.bin"/><Relationship Id="rId8" Type="http://schemas.openxmlformats.org/officeDocument/2006/relationships/slide" Target="slide14.xml"/><Relationship Id="rId9" Type="http://schemas.openxmlformats.org/officeDocument/2006/relationships/image" Target="../media/image3.wmf"/><Relationship Id="rId10" Type="http://schemas.openxmlformats.org/officeDocument/2006/relationships/oleObject" Target="../embeddings/oleObject2.bin"/><Relationship Id="rId11" Type="http://schemas.openxmlformats.org/officeDocument/2006/relationships/slide" Target="slide14.xml"/><Relationship Id="rId12" Type="http://schemas.openxmlformats.org/officeDocument/2006/relationships/image" Target="../media/image3.wmf"/><Relationship Id="rId13" Type="http://schemas.openxmlformats.org/officeDocument/2006/relationships/slide" Target="slide13.xml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14.xml"/><Relationship Id="rId3" Type="http://schemas.openxmlformats.org/officeDocument/2006/relationships/image" Target="../media/image3.wmf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slide" Target="slide13.xml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3.wmf"/><Relationship Id="rId1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.wmf"/><Relationship Id="rId1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ahoma"/>
                <a:cs typeface="Andalus"/>
              </a:rPr>
              <a:t>قبعات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Andalus"/>
              </a:rPr>
              <a:t> </a:t>
            </a:r>
            <a:r>
              <a:rPr b="0" lang="ar-SA" sz="4800" spc="-1" strike="noStrike">
                <a:solidFill>
                  <a:srgbClr val="ff0000"/>
                </a:solidFill>
                <a:latin typeface="Tahoma"/>
                <a:cs typeface="Andalus"/>
              </a:rPr>
              <a:t>التفكير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Andalus"/>
              </a:rPr>
              <a:t> </a:t>
            </a:r>
            <a:r>
              <a:rPr b="0" lang="ar-SA" sz="4800" spc="-1" strike="noStrike">
                <a:solidFill>
                  <a:srgbClr val="ffcf01"/>
                </a:solidFill>
                <a:latin typeface="Tahoma"/>
                <a:cs typeface="Andalus"/>
              </a:rPr>
              <a:t>الست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Andalus"/>
              </a:rPr>
              <a:t>(( </a:t>
            </a:r>
            <a:r>
              <a:rPr b="0" lang="ar-SA" sz="4800" spc="-1" strike="noStrike">
                <a:solidFill>
                  <a:srgbClr val="ffcf01"/>
                </a:solidFill>
                <a:latin typeface="Tahoma"/>
                <a:cs typeface="Andalus"/>
              </a:rPr>
              <a:t>إدوارد </a:t>
            </a:r>
            <a:r>
              <a:rPr b="0" lang="ar-SA" sz="4800" spc="-1" strike="noStrike">
                <a:solidFill>
                  <a:srgbClr val="ff0000"/>
                </a:solidFill>
                <a:latin typeface="Tahoma"/>
                <a:cs typeface="Andalus"/>
              </a:rPr>
              <a:t>دي </a:t>
            </a:r>
            <a:r>
              <a:rPr b="0" lang="ar-SA" sz="4800" spc="-1" strike="noStrike">
                <a:solidFill>
                  <a:srgbClr val="3333cc"/>
                </a:solidFill>
                <a:latin typeface="Tahoma"/>
                <a:cs typeface="Andalus"/>
              </a:rPr>
              <a:t>بونو</a:t>
            </a:r>
            <a:r>
              <a:rPr b="0" lang="ar-SA" sz="4800" spc="-1" strike="noStrike">
                <a:solidFill>
                  <a:srgbClr val="3333cc"/>
                </a:solidFill>
                <a:latin typeface="Tahoma"/>
                <a:ea typeface="Andalus"/>
              </a:rPr>
              <a:t> 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Andalus"/>
              </a:rPr>
              <a:t> 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Andalus"/>
              </a:rPr>
              <a:t>))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956720" y="460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564000" y="0"/>
            <a:ext cx="1800000" cy="180036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108000" y="117360"/>
            <a:ext cx="1079280" cy="1079640"/>
            <a:chOff x="108000" y="117360"/>
            <a:chExt cx="1079280" cy="1079640"/>
          </a:xfrm>
        </p:grpSpPr>
        <p:sp>
          <p:nvSpPr>
            <p:cNvPr id="103" name=""/>
            <p:cNvSpPr/>
            <p:nvPr/>
          </p:nvSpPr>
          <p:spPr>
            <a:xfrm>
              <a:off x="455400" y="117360"/>
              <a:ext cx="385200" cy="269640"/>
            </a:xfrm>
            <a:prstGeom prst="diamond">
              <a:avLst/>
            </a:prstGeom>
            <a:noFill/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6880" y="279000"/>
              <a:ext cx="385200" cy="270000"/>
            </a:xfrm>
            <a:prstGeom prst="diamond">
              <a:avLst/>
            </a:prstGeom>
            <a:noFill/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3920" y="279000"/>
              <a:ext cx="385560" cy="270000"/>
            </a:xfrm>
            <a:prstGeom prst="diamond">
              <a:avLst/>
            </a:prstGeom>
            <a:noFill/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25800">
              <a:off x="405000" y="491040"/>
              <a:ext cx="485640" cy="38520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8000" y="981000"/>
              <a:ext cx="1079280" cy="216000"/>
            </a:xfrm>
            <a:prstGeom prst="rect">
              <a:avLst/>
            </a:prstGeom>
            <a:noFill/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879120" y="603000"/>
              <a:ext cx="308160" cy="3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الإدارة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العامة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للتعليم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بجدة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183240" y="1035360"/>
              <a:ext cx="925200" cy="1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القسم الابتدائي</a:t>
              </a:r>
              <a:endParaRPr b="1" lang="en-US" sz="12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527400" y="666000"/>
              <a:ext cx="231120" cy="1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8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وزارة المعارف</a:t>
              </a:r>
              <a:endParaRPr b="1" lang="en-US" sz="8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1417 </a:t>
              </a:r>
              <a:r>
                <a:rPr b="0" lang="hi-IN" sz="8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هـ</a:t>
              </a:r>
              <a:endParaRPr b="1" lang="en-US" sz="8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115200" y="597240"/>
              <a:ext cx="308160" cy="3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مجمع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الأمير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سلطان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التعليمي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</p:txBody>
        </p:sp>
      </p:grpSp>
      <p:graphicFrame>
        <p:nvGraphicFramePr>
          <p:cNvPr id="112" name=""/>
          <p:cNvGraphicFramePr/>
          <p:nvPr/>
        </p:nvGraphicFramePr>
        <p:xfrm>
          <a:off x="7620120" y="3716280"/>
          <a:ext cx="1523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37162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7620120" y="2708280"/>
          <a:ext cx="152388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7082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7620120" y="4797360"/>
          <a:ext cx="1523880" cy="83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479736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7620120" y="5950080"/>
          <a:ext cx="152388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59500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940360" y="5950080"/>
          <a:ext cx="152424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0360" y="595008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140360" y="5950080"/>
          <a:ext cx="152388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0360" y="59500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 txBox="1"/>
          <p:nvPr/>
        </p:nvSpPr>
        <p:spPr>
          <a:xfrm>
            <a:off x="1332000" y="2421000"/>
            <a:ext cx="439236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ndalus"/>
              </a:rPr>
              <a:t>ورشة عمل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ndalus"/>
              <a:ea typeface="Andalu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5"/>
          <a:stretch/>
        </p:blipFill>
        <p:spPr>
          <a:xfrm>
            <a:off x="0" y="3500280"/>
            <a:ext cx="2238480" cy="3357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000"/>
                            </p:stCondLst>
                            <p:childTnLst>
                              <p:par>
                                <p:cTn id="6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7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2843280" y="692280"/>
            <a:ext cx="3720960" cy="10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Simplified Arabic"/>
              </a:rPr>
              <a:t>التفكي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Simplified Arabic"/>
              <a:ea typeface="Simplified Arabic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634000" y="3276720"/>
            <a:ext cx="305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720" y="3276720"/>
            <a:ext cx="341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46800" y="2585880"/>
            <a:ext cx="16099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 (Arabic)"/>
              </a:rPr>
              <a:t>سعيد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2509920"/>
            <a:ext cx="168588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 (Arabic)"/>
              </a:rPr>
              <a:t>جمال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81720" y="1671480"/>
            <a:ext cx="31338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e4a8"/>
                </a:solidFill>
                <a:latin typeface="Times New Roman (Arabic)"/>
              </a:rPr>
              <a:t>متعاكس</a:t>
            </a:r>
            <a:r>
              <a:rPr b="0" lang="ar-SA" sz="4400" spc="-1" strike="noStrike">
                <a:solidFill>
                  <a:srgbClr val="00e4a8"/>
                </a:solidFill>
                <a:latin typeface="Times New Roman"/>
              </a:rPr>
              <a:t> 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119040" y="4876920"/>
            <a:ext cx="3287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119040" y="5589720"/>
            <a:ext cx="3287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119400" y="6308640"/>
            <a:ext cx="3363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51640" y="4033800"/>
            <a:ext cx="29048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e4a8"/>
                </a:solidFill>
                <a:latin typeface="Times New Roman (Arabic)"/>
              </a:rPr>
              <a:t>متوازي</a:t>
            </a:r>
            <a:r>
              <a:rPr b="1" lang="ar-SA" sz="4400" spc="-1" strike="noStrike">
                <a:solidFill>
                  <a:srgbClr val="00e4a8"/>
                </a:solidFill>
                <a:latin typeface="Times New Roman"/>
              </a:rPr>
              <a:t> :</a:t>
            </a:r>
            <a:r>
              <a:rPr b="0" lang="ar-SA" sz="4400" spc="-1" strike="noStrike">
                <a:solidFill>
                  <a:srgbClr val="00e4a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28880" y="4719600"/>
            <a:ext cx="16099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 (Arabic)"/>
              </a:rPr>
              <a:t>سعيد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8000" y="5549760"/>
            <a:ext cx="2067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 (Arabic)"/>
              </a:rPr>
              <a:t>جما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867280" y="3429000"/>
          <a:ext cx="107964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429000"/>
                    <a:ext cx="10796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796000" y="2492280"/>
          <a:ext cx="1079640" cy="59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2492280"/>
                    <a:ext cx="107964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843280" y="2492280"/>
          <a:ext cx="1079280" cy="59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3280" y="2492280"/>
                    <a:ext cx="107928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843280" y="3429000"/>
          <a:ext cx="1079280" cy="59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3429000"/>
                    <a:ext cx="10792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189080" y="5734080"/>
          <a:ext cx="1079280" cy="59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89080" y="5734080"/>
                    <a:ext cx="10792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187280" y="4897440"/>
          <a:ext cx="1079640" cy="59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87280" y="4897440"/>
                    <a:ext cx="10796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مثال على التفكير المتوازي</a:t>
            </a:r>
            <a:br>
              <a:rPr sz="4400"/>
            </a:b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( طيور الأوز 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7064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ahoma"/>
                <a:cs typeface="Simplified Arabic"/>
              </a:rPr>
              <a:t>تسافر و تتنقل و تفكر الاوز بطريقة متوازية مشكلة حرف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  <a:ea typeface="Simplified Arabic"/>
              </a:rPr>
              <a:t> ( 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  <a:ea typeface="Simplified Arabic"/>
              </a:rPr>
              <a:t>V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  <a:ea typeface="Simplified Arabic"/>
              </a:rPr>
              <a:t> ) </a:t>
            </a:r>
            <a:r>
              <a:rPr b="1" lang="ar-SA" sz="4000" spc="-1" strike="noStrike">
                <a:solidFill>
                  <a:srgbClr val="3333cc"/>
                </a:solidFill>
                <a:latin typeface="Tahoma"/>
                <a:ea typeface="Simplified Arabic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ahoma"/>
                <a:cs typeface="Simplified Arabic"/>
              </a:rPr>
              <a:t>تدرك اهمية الجماعة و معنى ذلك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Tahoma"/>
                <a:ea typeface="Simplified Arabic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f01"/>
                </a:solidFill>
                <a:latin typeface="Tahoma"/>
                <a:cs typeface="Simplified Arabic"/>
              </a:rPr>
              <a:t>لهذه الطيور وجهة محددة و هدف واحد يخلص له كل الطيور بالمجموعة</a:t>
            </a:r>
            <a:r>
              <a:rPr b="1" lang="en-US" sz="4000" spc="-1" strike="noStrike">
                <a:solidFill>
                  <a:srgbClr val="ffcf01"/>
                </a:solidFill>
                <a:latin typeface="Tahoma"/>
                <a:ea typeface="Simplified Arabic"/>
              </a:rPr>
              <a:t>.</a:t>
            </a:r>
            <a:r>
              <a:rPr b="0" lang="en-US" sz="4000" spc="-1" strike="noStrike">
                <a:solidFill>
                  <a:srgbClr val="ffcf01"/>
                </a:solidFill>
                <a:latin typeface="Tahoma"/>
                <a:ea typeface="Simplified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-3997440" y="2349360"/>
          <a:ext cx="1524240" cy="8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3997440" y="2349360"/>
                    <a:ext cx="15242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-1836720" y="3357720"/>
          <a:ext cx="1523880" cy="83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-1836720" y="3357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-3997440" y="4654440"/>
          <a:ext cx="1524240" cy="838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-3997440" y="4654440"/>
                    <a:ext cx="15242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-6013440" y="5086440"/>
          <a:ext cx="1523880" cy="838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-6013440" y="508644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-6084720" y="1773360"/>
          <a:ext cx="1523880" cy="838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-6084720" y="177336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-6157800" y="3430440"/>
          <a:ext cx="1523880" cy="838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-6157800" y="343044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15" dur="5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17" dur="5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19" dur="5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21" dur="5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23" dur="5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25" dur="5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لماذا القبعات 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35344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r" rtl="1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ahoma"/>
                <a:cs typeface="Simplified Arabic"/>
              </a:rPr>
              <a:t>هناك علاقة تقليدية ما بين التفكير و القبعات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r" rtl="1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f01"/>
                </a:solidFill>
                <a:latin typeface="Tahoma"/>
                <a:cs typeface="Simplified Arabic"/>
              </a:rPr>
              <a:t>القبعات يمكن و ضعها  و خلعها بسهولة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r" rtl="1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ahoma"/>
                <a:cs typeface="Simplified Arabic"/>
              </a:rPr>
              <a:t>كل منها يمثل دور معين</a:t>
            </a:r>
            <a:r>
              <a:rPr b="1" lang="ar-SA" sz="4000" spc="-1" strike="noStrike">
                <a:solidFill>
                  <a:srgbClr val="3333cc"/>
                </a:solidFill>
                <a:latin typeface="Tahoma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0" y="4946760"/>
            <a:ext cx="1886040" cy="1911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7257960" y="4946760"/>
            <a:ext cx="1886040" cy="1911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400"/>
                            </p:stCondLst>
                            <p:childTnLst>
                              <p:par>
                                <p:cTn id="6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9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( الآن اختر القبعة التي تريد التعرف عليها)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985080" y="5670720"/>
          <a:ext cx="215892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8508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6732720" y="2492280"/>
          <a:ext cx="2158920" cy="118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9" name="" descr="">
                    <a:hlinkClick r:id="rId5" action="ppaction://hlinksldjump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720" y="2492280"/>
                    <a:ext cx="21589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0" y="2492280"/>
          <a:ext cx="2158920" cy="118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1" name="" descr="">
                    <a:hlinkClick r:id="rId8" action="ppaction://hlinksldjump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2492280"/>
                    <a:ext cx="21589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3492360" y="5670720"/>
          <a:ext cx="2159280" cy="1187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3" name="" descr="">
                    <a:hlinkClick r:id="rId11" action="ppaction://hlinksldjump"/>
                  </p:cNvPr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92360" y="5670720"/>
                    <a:ext cx="21592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0" y="5670720"/>
          <a:ext cx="2158920" cy="1187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5" name="" descr="">
                    <a:hlinkClick r:id="rId14" action="ppaction://hlinksldjump"/>
                  </p:cNvPr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419640" y="2421000"/>
          <a:ext cx="2158920" cy="1187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7" name="" descr="">
                    <a:hlinkClick r:id="rId17" action="ppaction://hlinksldjump"/>
                  </p:cNvPr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19640" y="242100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8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3610080" y="3933720"/>
            <a:ext cx="1825560" cy="14623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50920" y="4005360"/>
            <a:ext cx="2879640" cy="14396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استخدام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12000" y="4005360"/>
            <a:ext cx="2879640" cy="143964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استخدام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4600"/>
                            </p:stCondLst>
                            <p:childTnLst>
                              <p:par>
                                <p:cTn id="7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6600"/>
                            </p:stCondLst>
                            <p:childTnLst>
                              <p:par>
                                <p:cTn id="7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7600"/>
                            </p:stCondLst>
                            <p:childTnLst>
                              <p:par>
                                <p:cTn id="7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Tahoma"/>
              </a:rPr>
              <a:t>القبعة البيضاء : المعلومات ، البيانات ، المتطلبات 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42920" y="2133360"/>
            <a:ext cx="4025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علومات المتوفرة لدينا و الموجود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علومات التي نود الحصول عليها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علومات التي نحتاج لها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علومات الغير متوافرة و الناقصة و التي يجب اكمالها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68360" y="2878200"/>
          <a:ext cx="3809880" cy="22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2878200"/>
                    <a:ext cx="380988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ة البيضاء - النقاط الاساس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0560" y="2017440"/>
            <a:ext cx="8675640" cy="25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  <a:cs typeface="Simplified Arabic"/>
              </a:rPr>
              <a:t>تسجل الآراء المتباينة المختلفة في حالة وجود معلومات متضاربة ، و تقييم صحة المعلومات و مدى علاقتها بأصل الموضوع المطروح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  <a:cs typeface="Simplified Arabic"/>
              </a:rPr>
              <a:t>تفرق بين الحقائق المجردة و التخمين و التأملات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f01"/>
                </a:solidFill>
                <a:latin typeface="Tahoma"/>
                <a:cs typeface="Simplified Arabic"/>
              </a:rPr>
              <a:t>تحدد طبيعة الخطوات التي يجب تنفيذها لسد أي نقص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cs typeface="Simplified Arabic"/>
              </a:rPr>
              <a:t>تبين المشاعر الخاصة بالآخرين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73080" y="5084640"/>
          <a:ext cx="2448000" cy="146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8" name="" descr="">
                    <a:hlinkClick r:id="rId6" action="ppaction://hlinksldjump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08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6588000" y="5084640"/>
          <a:ext cx="2448000" cy="1465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0" name="" descr="">
                    <a:hlinkClick r:id="rId9" action="ppaction://hlinksldjump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8800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>
            <a:hlinkClick r:id="rId11" action="ppaction://hlinksldjump"/>
          </p:cNvPr>
          <p:cNvSpPr/>
          <p:nvPr/>
        </p:nvSpPr>
        <p:spPr>
          <a:xfrm>
            <a:off x="3564000" y="5445000"/>
            <a:ext cx="2160360" cy="1123920"/>
          </a:xfrm>
          <a:prstGeom prst="cloudCallout">
            <a:avLst>
              <a:gd name="adj1" fmla="val -71967"/>
              <a:gd name="adj2" fmla="val 6610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8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8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8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8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8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8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8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8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8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8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8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8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8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8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8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8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Tahoma"/>
              </a:rPr>
              <a:t>القبعة الحمراء : المشاعر ، الحدس ، العواطف 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284360" y="2133360"/>
            <a:ext cx="4384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منح شرعية للتعبير عن المشاعر و الاحاسيس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تعبير عما تشعر به الان  فقط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تستخدم كجزء من التفكير الذي يؤدي الى قرار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يمكن استخدامها في مرحلة ما بعد الوصول الى قرار ما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68360" y="2878200"/>
          <a:ext cx="3809880" cy="22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2878200"/>
                    <a:ext cx="380988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ة الحمراء - النقاط الاساس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560" y="2017440"/>
            <a:ext cx="8675640" cy="25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ahoma"/>
              </a:rPr>
              <a:t>تمنح اذن مطلق للتعبير عن الاحاسيس و الشعور و الحدس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f01"/>
                </a:solidFill>
                <a:latin typeface="Tahoma"/>
              </a:rPr>
              <a:t>لا تطالب باستيضاح او شرح لأسباب مشاعرنا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cc"/>
                </a:solidFill>
                <a:latin typeface="Tahoma"/>
              </a:rPr>
              <a:t>شعور داخلي مبني على خبراتنا و تجاربنا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73080" y="5084640"/>
          <a:ext cx="2448000" cy="1465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9" name="" descr="">
                    <a:hlinkClick r:id="rId5" action="ppaction://hlinksldjump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6588000" y="5084640"/>
          <a:ext cx="2448000" cy="146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" descr="">
                    <a:hlinkClick r:id="rId8" action="ppaction://hlinksldjump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58800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276720" y="5084640"/>
          <a:ext cx="2447640" cy="1465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3" name="" descr="">
                    <a:hlinkClick r:id="rId11" action="ppaction://hlinksldjump"/>
                  </p:cNvPr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5084640"/>
                    <a:ext cx="244764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0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3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3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8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8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8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8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8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8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8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8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8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8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8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نطاق الشعو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700200" y="43480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ـــــــــــــــــــــــــــــــــــــــــــــــــــــــــــــــــــــــــــــــــــــــــــــــــــــــــــــــــــــ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405560" y="4272120"/>
            <a:ext cx="0" cy="71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43280" y="4272120"/>
            <a:ext cx="0" cy="71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95640" y="4272120"/>
            <a:ext cx="0" cy="71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1200" y="351000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غير راضي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265880" y="3429000"/>
            <a:ext cx="105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cc00"/>
                </a:solidFill>
                <a:latin typeface="Times New Roman"/>
                <a:cs typeface="Simplified Arabic"/>
              </a:rPr>
              <a:t>راضي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3357720"/>
            <a:ext cx="20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f01"/>
                </a:solidFill>
                <a:latin typeface="Times New Roman"/>
                <a:cs typeface="Simplified Arabic"/>
              </a:rPr>
              <a:t>ما بين الب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6273720" y="5234040"/>
          <a:ext cx="2870280" cy="16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3720" y="5234040"/>
                    <a:ext cx="287028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>
            <a:hlinkClick r:id="rId3" action="ppaction://hlinksldjump"/>
          </p:cNvPr>
          <p:cNvSpPr/>
          <p:nvPr/>
        </p:nvSpPr>
        <p:spPr>
          <a:xfrm>
            <a:off x="826920" y="5300640"/>
            <a:ext cx="3635640" cy="1197000"/>
          </a:xfrm>
          <a:prstGeom prst="cloudCallout">
            <a:avLst>
              <a:gd name="adj1" fmla="val -69347"/>
              <a:gd name="adj2" fmla="val 7307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0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8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1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2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Tahoma"/>
              </a:rPr>
              <a:t>القبعة السوداء : الحذر ، المخاطر ، المصاعب 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284360" y="2133360"/>
            <a:ext cx="4384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تفكير غير المناسب : الخبرات ، الحقائق ، الانظمة ، القيم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….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اخطا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شاكل الاساسي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غلطات المنط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عوقات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68360" y="2878200"/>
          <a:ext cx="3809880" cy="2279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2878200"/>
                    <a:ext cx="380988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0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3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(( دقيقة للتفكير ))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3780000" cy="5267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788000" y="2816280"/>
            <a:ext cx="4356000" cy="4789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786200" y="1773360"/>
            <a:ext cx="3673440" cy="1008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ما هواية هذه السيدة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3640" y="3500280"/>
            <a:ext cx="2016000" cy="2665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أرى الكذ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ف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وجه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ة السوداء - النقاط الاساس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560" y="2017440"/>
            <a:ext cx="8675640" cy="25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قد توفر معلومات في بعض الاحيان و التي قد تتوافر بواسطة القبعة البيضاء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لا تلجأ الى حل المشاكل التي تظهر تحت القبعة السوداء فورا  بمجرد ذكرها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قبعة لها ذات قيمة و فائدة و ضرورية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تمنع وقوع الغلطات السخيفة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ahoma"/>
              </a:rPr>
              <a:t>تبين الصعوبات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ahoma"/>
              </a:rPr>
              <a:t>تسبب مشاكل جمة اذا زاد استخدامها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6360" y="5084640"/>
          <a:ext cx="2448000" cy="146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2" name="" descr="">
                    <a:hlinkClick r:id="rId8" action="ppaction://hlinksldjump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36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6588000" y="5084640"/>
          <a:ext cx="2448000" cy="1465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4" name="" descr="">
                    <a:hlinkClick r:id="rId11" action="ppaction://hlinksldjump"/>
                  </p:cNvPr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8800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>
            <a:hlinkClick r:id="rId13" action="ppaction://hlinksldjump"/>
          </p:cNvPr>
          <p:cNvSpPr/>
          <p:nvPr/>
        </p:nvSpPr>
        <p:spPr>
          <a:xfrm>
            <a:off x="3564000" y="5445000"/>
            <a:ext cx="2160360" cy="1123920"/>
          </a:xfrm>
          <a:prstGeom prst="cloudCallout">
            <a:avLst>
              <a:gd name="adj1" fmla="val -71967"/>
              <a:gd name="adj2" fmla="val 6610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0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8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8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8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8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8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8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8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8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8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8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8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8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8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8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8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8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8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8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8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8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8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8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8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8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Tahoma"/>
              </a:rPr>
              <a:t>القبعة الصفراء : الإيجابية ، الفوائد 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858920" y="2133360"/>
            <a:ext cx="3809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r" rtl="1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جدوى و الفوائد ، وما هي الفوائد ؟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r" rtl="1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هل يمكننا تطبيق هذا المفهوم الجذاب ؟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r" rtl="1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هل يمكن تعديل هذه الفكرة حتى تصبح قابلة للتنفيذ ؟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r" rtl="1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هل يمكننا تعديل النظام الحالي ؟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r" rtl="1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بحث عن الفوائد المرئية و الكامن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68360" y="2878200"/>
          <a:ext cx="3809880" cy="2279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2878200"/>
                    <a:ext cx="380988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0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3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9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ة الصفراء - النقاط الاساس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43280" y="2017800"/>
            <a:ext cx="42832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تتطلب بذل بعض الجهد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قل تلقائية مقارنة بالقبعة السوداء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تشجع الافكار الابداعية و المبتكرة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84360" y="2205000"/>
          <a:ext cx="2447640" cy="14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205000"/>
                    <a:ext cx="244764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611280" y="5445000"/>
            <a:ext cx="2160360" cy="1123920"/>
          </a:xfrm>
          <a:prstGeom prst="cloudCallout">
            <a:avLst>
              <a:gd name="adj1" fmla="val -71967"/>
              <a:gd name="adj2" fmla="val 6610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717800">
            <a:off x="4195440" y="4221000"/>
            <a:ext cx="4913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قيمة المزايا والخصائ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51280" y="4653000"/>
            <a:ext cx="1474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بسط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سرع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رخ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متان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0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3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7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8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1" dur="8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8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8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0" dur="8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1" dur="8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8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8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8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1" dur="8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8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8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0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500"/>
                            </p:stCondLst>
                            <p:childTnLst>
                              <p:par>
                                <p:cTn id="1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99"/>
                </a:solidFill>
                <a:latin typeface="Tahoma"/>
              </a:rPr>
              <a:t>القبعة الخضراء : الاحتمالات ، البدائل ، الأفكار الجديدة 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284360" y="2133360"/>
            <a:ext cx="438444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بذل جهد ابداعي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عدل من الافكار و تزيل الاخطاء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نشأ خلية تتخذ من الابتكار ثقافة لها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0" y="2781360"/>
          <a:ext cx="3809880" cy="227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781360"/>
                    <a:ext cx="380988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6516720" y="4221000"/>
            <a:ext cx="2104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99"/>
                </a:solidFill>
                <a:latin typeface="Tahoma"/>
              </a:rPr>
              <a:t>النقاط الأسا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32000" y="4915080"/>
            <a:ext cx="547236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شجع التفكير الابداعي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ستكشف بدائل مختلفة لتنفيذ الاعمال و الافعال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545" dur="indefinite" restart="never" nodeType="tmRoot">
          <p:childTnLst>
            <p:seq>
              <p:cTn id="1546" dur="indefinite" nodeType="mainSeq">
                <p:childTnLst>
                  <p:par>
                    <p:cTn id="1547" fill="hold">
                      <p:stCondLst>
                        <p:cond delay="0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2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3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8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6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7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8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5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الكلمة العشوائية (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</a:t>
            </a: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 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64216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ختر كلمة عشوائية لها علاقة بالموضوع الذي تفكر فيه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ختر كلمة أخرى ليست لها علاق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أوجد العلاقة بين الكلمتين باستخدام (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)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0" y="4005360"/>
          <a:ext cx="1440000" cy="86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05360"/>
                    <a:ext cx="144000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763640" y="5157720"/>
          <a:ext cx="1440000" cy="8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5157720"/>
                    <a:ext cx="144000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708360" y="4149720"/>
          <a:ext cx="1440000" cy="86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8360" y="4149720"/>
                    <a:ext cx="144000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867280" y="5157720"/>
          <a:ext cx="1440000" cy="86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5157720"/>
                    <a:ext cx="144000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7704000" y="4005360"/>
          <a:ext cx="1440000" cy="861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04000" y="4005360"/>
                    <a:ext cx="144000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>
            <a:hlinkClick r:id="rId11" action="ppaction://hlinksldjump"/>
          </p:cNvPr>
          <p:cNvSpPr/>
          <p:nvPr/>
        </p:nvSpPr>
        <p:spPr>
          <a:xfrm>
            <a:off x="3276720" y="5013360"/>
            <a:ext cx="2160360" cy="1123920"/>
          </a:xfrm>
          <a:prstGeom prst="cloudCallout">
            <a:avLst>
              <a:gd name="adj1" fmla="val -111"/>
              <a:gd name="adj2" fmla="val 11017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650" dur="indefinite" restart="never" nodeType="tmRoot">
          <p:childTnLst>
            <p:seq>
              <p:cTn id="1651" dur="indefinite" nodeType="mainSeq">
                <p:childTnLst>
                  <p:par>
                    <p:cTn id="1652" fill="hold">
                      <p:stCondLst>
                        <p:cond delay="0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6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7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3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8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9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9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4400"/>
                            </p:stCondLst>
                            <p:childTnLst>
                              <p:par>
                                <p:cTn id="17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6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1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2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7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333399"/>
                </a:solidFill>
                <a:latin typeface="Tahoma"/>
              </a:rPr>
              <a:t>القبعة الزرقاء : التحكم في عمليات التفكير ، التفكير في التفكير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42920" y="2133360"/>
            <a:ext cx="402588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خطوة التالي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جدول الاعمال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طلبات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لخص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استنتاجات و القرارات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0" y="5178600"/>
          <a:ext cx="2808360" cy="1679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5178600"/>
                    <a:ext cx="280836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6300720" y="5821200"/>
          <a:ext cx="1295640" cy="776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300720" y="5821200"/>
                    <a:ext cx="129564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468360" y="3560760"/>
          <a:ext cx="1944720" cy="1163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360" y="3560760"/>
                    <a:ext cx="194472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3492360" y="5516640"/>
          <a:ext cx="1944720" cy="1163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92360" y="5516640"/>
                    <a:ext cx="194472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826920" y="2205000"/>
          <a:ext cx="1295640" cy="776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26920" y="2205000"/>
                    <a:ext cx="12956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718" dur="indefinite" restart="never" nodeType="tmRoot">
          <p:childTnLst>
            <p:seq>
              <p:cTn id="1719" dur="indefinite" nodeType="mainSeq">
                <p:childTnLst>
                  <p:par>
                    <p:cTn id="1720" fill="hold">
                      <p:stCondLst>
                        <p:cond delay="0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5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0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1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6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7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8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9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4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5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ة الزرقاء - النقاط الاساس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560" y="2017440"/>
            <a:ext cx="8675640" cy="32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وجه عمليات التفكير و تعيده الى الطريق اذا حاد عنه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نظر في طلب اعضاء المجموعة للنظر في انماط معينة من التفكي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بين الملاحظات الغير لائقة و غير مناسب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طالب بتلخيص و خاتمة للموضوع المطروح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صدر القرا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جسد دور المنسق او المنظم او المدي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يجوز ارتدائها  بواسطة أي من اعضاء المجموع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44360" y="5589720"/>
          <a:ext cx="1835280" cy="10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5589720"/>
                    <a:ext cx="183528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6443640" y="5516640"/>
            <a:ext cx="2160720" cy="1123920"/>
          </a:xfrm>
          <a:prstGeom prst="cloudCallout">
            <a:avLst>
              <a:gd name="adj1" fmla="val 71305"/>
              <a:gd name="adj2" fmla="val -6256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4920" y="3898800"/>
          <a:ext cx="1258920" cy="7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0" y="3898800"/>
                    <a:ext cx="125892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1119240" y="4575240"/>
          <a:ext cx="1258920" cy="75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9240" y="4575240"/>
                    <a:ext cx="125892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2521080" y="5338800"/>
          <a:ext cx="1258920" cy="75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21080" y="5338800"/>
                    <a:ext cx="125892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3745080" y="6059520"/>
          <a:ext cx="1258560" cy="754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45080" y="6059520"/>
                    <a:ext cx="125856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2" dur="3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3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8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9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4" dur="3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5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0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1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6" dur="3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7" dur="3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3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3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3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4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8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2" dur="8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8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8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1" dur="8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2" dur="8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8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8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1" dur="8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2" dur="8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8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8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8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2" dur="8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8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8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1" dur="8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2" dur="8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8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8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1" dur="8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2" dur="8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8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8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8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2" dur="8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8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8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ستخدام القبعا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هناك استخدامان اساسيان و عامان للقبعات :</a:t>
            </a:r>
            <a:r>
              <a:rPr b="0" lang="ar-SA" sz="2400" spc="-1" strike="noStrike">
                <a:solidFill>
                  <a:srgbClr val="ff0000"/>
                </a:solidFill>
                <a:latin typeface="Tahoma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1</a:t>
            </a: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 ) الاستخدام الفردي للقبعات :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ar-SA" sz="2400" spc="-1" strike="noStrike">
                <a:solidFill>
                  <a:srgbClr val="333399"/>
                </a:solidFill>
                <a:latin typeface="Tahoma"/>
              </a:rPr>
              <a:t>تستخدم قبعة واحدة فرادا و لفترة محددة مـــــن الوقت لتبني نمط تفكير معين و ذلك لاغراض كتابة تقرير او تسيير اعمال اجتماع</a:t>
            </a:r>
            <a:r>
              <a:rPr b="0" lang="ar-SA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Tahoma"/>
              </a:rPr>
              <a:t>او في محادث .</a:t>
            </a:r>
            <a:r>
              <a:rPr b="0" lang="ar-SA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2</a:t>
            </a: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 ) استخدام تسلسلي أو تتابعي :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ar-SA" sz="2400" spc="-1" strike="noStrike">
                <a:solidFill>
                  <a:srgbClr val="333399"/>
                </a:solidFill>
                <a:latin typeface="Tahoma"/>
              </a:rPr>
              <a:t>هنا تستخدم القبعات الواحدة تلــــــــو الاخرى لبحث و استكشاف موضوع معين</a:t>
            </a:r>
            <a:r>
              <a:rPr b="0" lang="ar-SA" sz="2400" spc="-1" strike="noStrike">
                <a:solidFill>
                  <a:srgbClr val="333399"/>
                </a:solidFill>
                <a:latin typeface="Tahoma"/>
              </a:rPr>
              <a:t> 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1981" dur="indefinite" restart="never" nodeType="tmRoot">
          <p:childTnLst>
            <p:seq>
              <p:cTn id="1982" dur="indefinite" nodeType="mainSeq">
                <p:childTnLst>
                  <p:par>
                    <p:cTn id="1983" fill="hold">
                      <p:stCondLst>
                        <p:cond delay="0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1150"/>
                            </p:stCondLst>
                            <p:childTnLst>
                              <p:par>
                                <p:cTn id="1993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2850"/>
                            </p:stCondLst>
                            <p:childTnLst>
                              <p:par>
                                <p:cTn id="2000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6" fill="hold">
                            <p:stCondLst>
                              <p:cond delay="4550"/>
                            </p:stCondLst>
                            <p:childTnLst>
                              <p:par>
                                <p:cTn id="2007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8150"/>
                            </p:stCondLst>
                            <p:childTnLst>
                              <p:par>
                                <p:cTn id="2014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0" fill="hold">
                            <p:stCondLst>
                              <p:cond delay="9950"/>
                            </p:stCondLst>
                            <p:childTnLst>
                              <p:par>
                                <p:cTn id="2021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ستخدامات أخر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 ) الاستخدام الشخصي 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Tahoma"/>
              </a:rPr>
              <a:t>يحدد الشخص أي القبعات يستخدم تبعا للموقف المعين 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 ) الاستخدام اثناء التحدث 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Tahoma"/>
              </a:rPr>
              <a:t>مفيدة للتخاطب و تبادل الرأي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 ) تستخدم في الاجتماعات 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Tahoma"/>
              </a:rPr>
              <a:t>الجميع يحاول استخدام القبعات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 ) تستخدم القبعات في كتابة التقارير 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2027" dur="indefinite" restart="never" nodeType="tmRoot">
          <p:childTnLst>
            <p:seq>
              <p:cTn id="2028" dur="indefinite" nodeType="mainSeq">
                <p:childTnLst>
                  <p:par>
                    <p:cTn id="2029" fill="hold">
                      <p:stCondLst>
                        <p:cond delay="0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8" fill="hold">
                            <p:stCondLst>
                              <p:cond delay="1100"/>
                            </p:stCondLst>
                            <p:childTnLst>
                              <p:par>
                                <p:cTn id="2039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fill="hold">
                            <p:stCondLst>
                              <p:cond delay="2600"/>
                            </p:stCondLst>
                            <p:childTnLst>
                              <p:par>
                                <p:cTn id="2046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4500"/>
                            </p:stCondLst>
                            <p:childTnLst>
                              <p:par>
                                <p:cTn id="2053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6100"/>
                            </p:stCondLst>
                            <p:childTnLst>
                              <p:par>
                                <p:cTn id="2060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6" fill="hold">
                            <p:stCondLst>
                              <p:cond delay="7600"/>
                            </p:stCondLst>
                            <p:childTnLst>
                              <p:par>
                                <p:cTn id="2067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fill="hold">
                            <p:stCondLst>
                              <p:cond delay="9200"/>
                            </p:stCondLst>
                            <p:childTnLst>
                              <p:par>
                                <p:cTn id="2074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0" fill="hold">
                            <p:stCondLst>
                              <p:cond delay="10600"/>
                            </p:stCondLst>
                            <p:childTnLst>
                              <p:par>
                                <p:cTn id="2081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استخدام الفردي للقبعات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764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القبعة الصفر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دى طرح فكرة جديدة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حدوث تغيير او تعديل اساسي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نظر الى فكرة ما باسلوب سلبي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القبعة الحمر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بحث فكرة قائمة تعتبر مثار للجدل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وجود تشاؤم او تفاؤل غير مبرر حول فكر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جس نبض المجموعة حول قرار تم اتخاذه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6985080" y="5670720"/>
          <a:ext cx="215892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508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0" y="5672160"/>
          <a:ext cx="2158920" cy="118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672160"/>
                    <a:ext cx="215892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2087" dur="indefinite" restart="never" nodeType="tmRoot">
          <p:childTnLst>
            <p:seq>
              <p:cTn id="2088" dur="indefinite" nodeType="mainSeq">
                <p:childTnLst>
                  <p:par>
                    <p:cTn id="2089" fill="hold">
                      <p:stCondLst>
                        <p:cond delay="0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9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3" dur="2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7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1" dur="2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4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9000"/>
                            </p:stCondLst>
                            <p:childTnLst>
                              <p:par>
                                <p:cTn id="21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8" dur="2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2" dur="2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6" dur="2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0" dur="20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3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2781000"/>
            <a:ext cx="77929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إن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الاسلوب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الذي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نفكر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به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يحدد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مسارنا في المستقبل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836640"/>
            <a:ext cx="2160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f01"/>
                </a:solidFill>
                <a:latin typeface="Arabic Transparent"/>
                <a:cs typeface="Simplified Arabic"/>
              </a:rPr>
              <a:t>حكمة</a:t>
            </a:r>
            <a:r>
              <a:rPr b="1" lang="en-US" sz="6000" spc="-1" strike="noStrike">
                <a:solidFill>
                  <a:srgbClr val="333399"/>
                </a:solidFill>
                <a:latin typeface="Arabic Transparent"/>
                <a:ea typeface="Simplified Arab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9431600">
            <a:off x="5973840" y="5239800"/>
            <a:ext cx="32781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abic Transparent"/>
                <a:cs typeface="Simplified Arabic"/>
              </a:rPr>
              <a:t>إدوارد دي بون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800"/>
                            </p:stCondLst>
                            <p:childTnLst>
                              <p:par>
                                <p:cTn id="1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استخدام الفردي للقبعا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4560" y="2017800"/>
            <a:ext cx="424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القبعة السود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دراسة مشروع او فكرة ما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تبدو فكرة ما جذاب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بعد أن تعرف القبعة الصفراء على المزايا و الايجابيات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حدث تغير في البيئة المحيط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88000" y="2017800"/>
            <a:ext cx="424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القبعة الخضر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675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ahoma"/>
              </a:rPr>
              <a:t>عندما يصبح التطور و التحسين شيئا مهما 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675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ahoma"/>
              </a:rPr>
              <a:t>عندما تتواجد ضرورة لطرح بدائل و خيارات 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675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ahoma"/>
              </a:rPr>
              <a:t>عندما تتواجد ضرورة لطرح افكار جديدة 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675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ahoma"/>
              </a:rPr>
              <a:t>لطرح رؤية مختلفة تجاه امر ما 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0" y="5670720"/>
          <a:ext cx="215892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6985080" y="5670720"/>
          <a:ext cx="2158920" cy="11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508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2134" dur="indefinite" restart="never" nodeType="tmRoot">
          <p:childTnLst>
            <p:seq>
              <p:cTn id="2135" dur="indefinite" nodeType="mainSeq">
                <p:childTnLst>
                  <p:par>
                    <p:cTn id="2136" fill="hold">
                      <p:stCondLst>
                        <p:cond delay="0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0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4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8" dur="2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2" dur="2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3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6" dur="20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3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7" dur="2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1" dur="2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5" dur="2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9" dur="2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استخدام الفردي للقبعا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445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القبعة الزرق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نشوب نزاع او اختلاف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صبح من الضروري اتخاذ قرار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صبح الوقت عامل حاسم  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وجود ضرورة لبحث و استقصاء امر ما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صبح التفكير غير مركزا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e4a8"/>
                </a:solidFill>
                <a:latin typeface="Tahoma"/>
              </a:rPr>
              <a:t>القبعة البيض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طرح موقف جديد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دى اتخاذ قرا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صبح التفكير غير واقعي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تسوية خلافات و اراء متباين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تدارس عرض ما او مفاوضته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6985080" y="5670720"/>
          <a:ext cx="215892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508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0" y="5670720"/>
          <a:ext cx="2158920" cy="11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2183" dur="indefinite" restart="never" nodeType="tmRoot">
          <p:childTnLst>
            <p:seq>
              <p:cTn id="2184" dur="indefinite" nodeType="mainSeq">
                <p:childTnLst>
                  <p:par>
                    <p:cTn id="2185" fill="hold">
                      <p:stCondLst>
                        <p:cond delay="0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9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3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7" dur="2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1" dur="20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5" dur="20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9" dur="20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7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2" dur="2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7" dur="2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2" dur="2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7" dur="2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2" dur="2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استخدام التسلسل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80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Tahoma"/>
              </a:rPr>
              <a:t>يستخدم عندما يكون</a:t>
            </a:r>
            <a:r>
              <a:rPr b="1" lang="ar-SA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الوقت قصير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التفكير عشوائيا و غير موجه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هناك معتقدات و افكار مختلفة و متباينة و متضاربة</a:t>
            </a:r>
            <a:r>
              <a:rPr b="0" lang="ar-SA" sz="3200" spc="-1" strike="noStrike">
                <a:solidFill>
                  <a:srgbClr val="333399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Tahoma"/>
              </a:rPr>
              <a:t>و تذكر انه</a:t>
            </a:r>
            <a:r>
              <a:rPr b="1" lang="ar-SA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cc00"/>
                </a:solidFill>
                <a:latin typeface="Tahoma"/>
              </a:rPr>
              <a:t>لا يوجد تسلسل واحد صحيح بعينه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cc00"/>
                </a:solidFill>
                <a:latin typeface="Tahoma"/>
              </a:rPr>
              <a:t>ليس من الضروري استخدام كل القبعات في كل تسلسل</a:t>
            </a:r>
            <a:r>
              <a:rPr b="0" lang="ar-SA" sz="3200" spc="-1" strike="noStrike">
                <a:solidFill>
                  <a:srgbClr val="00cc00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2246" dur="indefinite" restart="never" nodeType="tmRoot">
          <p:childTnLst>
            <p:seq>
              <p:cTn id="2247" dur="indefinite" nodeType="mainSeq">
                <p:childTnLst>
                  <p:par>
                    <p:cTn id="2248" fill="hold">
                      <p:stCondLst>
                        <p:cond delay="0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2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6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0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4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fill="hold">
                            <p:stCondLst>
                              <p:cond delay="3500"/>
                            </p:stCondLst>
                            <p:childTnLst>
                              <p:par>
                                <p:cTn id="2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8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2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6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0" dur="5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 (( أنواع التسلسل ))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56360" y="2017800"/>
            <a:ext cx="279864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e4a8"/>
                </a:solidFill>
                <a:latin typeface="Tahoma"/>
              </a:rPr>
              <a:t>التسلسل الثابت : 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708360" y="2924280"/>
          <a:ext cx="15238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9242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4427640" y="4653000"/>
          <a:ext cx="1523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65300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4427640" y="5975280"/>
          <a:ext cx="152388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597528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7620120" y="2924280"/>
          <a:ext cx="152388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29242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23760" y="2924280"/>
          <a:ext cx="152388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60" y="29242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 flipH="1">
            <a:off x="5580000" y="350028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1763640" y="342900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310440" y="4149720"/>
            <a:ext cx="27986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e4a8"/>
                </a:solidFill>
                <a:latin typeface="Tahoma"/>
              </a:rPr>
              <a:t>التسلسل المرن :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948360" y="5373720"/>
          <a:ext cx="152424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48360" y="537372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 flipH="1" flipV="1">
            <a:off x="6084720" y="5373720"/>
            <a:ext cx="719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6084720" y="6165720"/>
            <a:ext cx="719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281" dur="indefinite" restart="never" nodeType="tmRoot">
          <p:childTnLst>
            <p:seq>
              <p:cTn id="2282" dur="indefinite" nodeType="mainSeq">
                <p:childTnLst>
                  <p:par>
                    <p:cTn id="2283" fill="hold">
                      <p:stCondLst>
                        <p:cond delay="0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3" dur="5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4" dur="5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8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9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3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4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0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5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6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1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2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9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0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3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4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6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1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2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8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 (( أنواع التسلسل ))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56360" y="2924280"/>
            <a:ext cx="279864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e4a8"/>
                </a:solidFill>
                <a:latin typeface="Tahoma"/>
              </a:rPr>
              <a:t>التسلسل المتغير : 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356000" y="3830760"/>
          <a:ext cx="15242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383076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7620120" y="3830760"/>
          <a:ext cx="1523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383076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"/>
          <p:cNvSpPr/>
          <p:nvPr/>
        </p:nvSpPr>
        <p:spPr>
          <a:xfrm flipH="1">
            <a:off x="6227280" y="44067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987640" y="44067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900000" y="44067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24000" y="3903840"/>
            <a:ext cx="46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4200" y="3903840"/>
            <a:ext cx="47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361" dur="indefinite" restart="never" nodeType="tmRoot">
          <p:childTnLst>
            <p:seq>
              <p:cTn id="2362" dur="indefinite" nodeType="mainSeq">
                <p:childTnLst>
                  <p:par>
                    <p:cTn id="2363" fill="hold">
                      <p:stCondLst>
                        <p:cond delay="0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1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2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8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3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4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0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6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8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زم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99640" y="2017440"/>
            <a:ext cx="8055000" cy="32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سمح بثلاث (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 ) الى اربعة (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 ) دقائق لكل قبعة 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r" rtl="1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اعلن الوقت المحدد لكل قبعة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r" rtl="1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جوز تمديد الوقت اذا توالت الافكار المقترحة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r" rtl="1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سمح بثلاثين (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 ) ثانية فقط للقبعة الحمراء كحد اقصى.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6108840" y="5589720"/>
          <a:ext cx="152388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0884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7656480" y="5614920"/>
          <a:ext cx="1523880" cy="83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56480" y="561492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4537080" y="5589720"/>
          <a:ext cx="152388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3708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3084480" y="5589720"/>
          <a:ext cx="152388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8448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1571760" y="5589720"/>
          <a:ext cx="152388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7176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36360" y="5589720"/>
          <a:ext cx="152424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360" y="558972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2411" dur="indefinite" restart="never" nodeType="tmRoot">
          <p:childTnLst>
            <p:seq>
              <p:cTn id="2412" dur="indefinite" nodeType="mainSeq">
                <p:childTnLst>
                  <p:par>
                    <p:cTn id="2413" fill="hold">
                      <p:stCondLst>
                        <p:cond delay="0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3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7" dur="2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1" dur="2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5" dur="2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8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2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6" dur="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0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1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4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8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cf01"/>
                </a:solidFill>
                <a:latin typeface="Tahoma"/>
              </a:rPr>
              <a:t>ماذا قالو عن القبعات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690840" indent="-690840" algn="r" rtl="1">
              <a:spcBef>
                <a:spcPts val="1001"/>
              </a:spcBef>
              <a:buClr>
                <a:srgbClr val="ff0000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يمكن استخدامها بمختلف الدرجات و الوظائف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90840" indent="-690840" algn="r" rtl="1">
              <a:spcBef>
                <a:spcPts val="1001"/>
              </a:spcBef>
              <a:buClr>
                <a:srgbClr val="ff0000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تحسن من التواصل و العلاقات عامة .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90840" indent="-690840" algn="r" rtl="1">
              <a:spcBef>
                <a:spcPts val="1001"/>
              </a:spcBef>
              <a:buClr>
                <a:srgbClr val="ff0000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تقلل من النزاعات و الخلافات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90840" indent="-690840" algn="r" rtl="1">
              <a:spcBef>
                <a:spcPts val="1001"/>
              </a:spcBef>
              <a:buClr>
                <a:srgbClr val="ff0000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تشجع الابداع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90840" indent="-690840" algn="r" rtl="1">
              <a:spcBef>
                <a:spcPts val="1001"/>
              </a:spcBef>
              <a:buClr>
                <a:srgbClr val="ff0000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ترتقي بنوعية و كفاءة التفكير</a:t>
            </a:r>
            <a:r>
              <a:rPr b="0" lang="ar-SA" sz="4000" spc="-1" strike="noStrike">
                <a:solidFill>
                  <a:srgbClr val="333399"/>
                </a:solidFill>
                <a:latin typeface="Tahoma"/>
              </a:rPr>
              <a:t> 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2460" dur="indefinite" restart="never" nodeType="tmRoot">
          <p:childTnLst>
            <p:seq>
              <p:cTn id="2461" dur="indefinite" nodeType="mainSeq">
                <p:childTnLst>
                  <p:par>
                    <p:cTn id="2462" fill="hold">
                      <p:stCondLst>
                        <p:cond delay="0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1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2" fill="hold">
                      <p:stCondLst>
                        <p:cond delay="indefinite"/>
                      </p:stCondLst>
                      <p:childTnLst>
                        <p:par>
                          <p:cTn id="2473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6" dur="2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1" dur="2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6" dur="2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fill="hold">
                      <p:stCondLst>
                        <p:cond delay="indefinite"/>
                      </p:stCondLst>
                      <p:childTnLst>
                        <p:par>
                          <p:cTn id="2488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1" dur="20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cf01"/>
                </a:solidFill>
                <a:latin typeface="Tahoma"/>
              </a:rPr>
              <a:t>هل لها فوائد 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1360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54400" indent="-554400" algn="r" rtl="1">
              <a:spcBef>
                <a:spcPts val="799"/>
              </a:spcBef>
              <a:buClr>
                <a:srgbClr val="ff0000"/>
              </a:buClr>
              <a:buSzPct val="6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تساهم في بناء نظم الجودة : ادارة الجودة الشاملة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 algn="r" rtl="1">
              <a:spcBef>
                <a:spcPts val="799"/>
              </a:spcBef>
              <a:buClr>
                <a:srgbClr val="ff0000"/>
              </a:buClr>
              <a:buSzPct val="6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تقلل من الصراعات و الخلافات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 algn="r" rtl="1">
              <a:spcBef>
                <a:spcPts val="799"/>
              </a:spcBef>
              <a:buClr>
                <a:srgbClr val="ff0000"/>
              </a:buClr>
              <a:buSzPct val="6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تساهم في بناء فرق عمل فعالة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 algn="r" rtl="1">
              <a:spcBef>
                <a:spcPts val="799"/>
              </a:spcBef>
              <a:buClr>
                <a:srgbClr val="ff0000"/>
              </a:buClr>
              <a:buSzPct val="6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تجعل من الاجتماعات اكثر فعالية. </a:t>
            </a:r>
            <a:r>
              <a:rPr b="0" lang="ar-SA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0" y="3933720"/>
            <a:ext cx="2193840" cy="2924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2843280" y="4941720"/>
            <a:ext cx="5976720" cy="1511640"/>
          </a:xfrm>
          <a:prstGeom prst="wedgeRoundRectCallout">
            <a:avLst>
              <a:gd name="adj1" fmla="val -75393"/>
              <a:gd name="adj2" fmla="val -2174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أسأل الله عز وج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كم التوفيق والنجاح في حياتكم العم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مع تحياتي : أ. ممدوح عبدالكر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492" dur="indefinite" restart="never" nodeType="tmRoot">
          <p:childTnLst>
            <p:seq>
              <p:cTn id="2493" dur="indefinite" nodeType="mainSeq">
                <p:childTnLst>
                  <p:par>
                    <p:cTn id="2494" fill="hold">
                      <p:stCondLst>
                        <p:cond delay="0"/>
                      </p:stCondLst>
                      <p:childTnLst>
                        <p:par>
                          <p:cTn id="2495" fill="hold">
                            <p:stCondLst>
                              <p:cond delay="0"/>
                            </p:stCondLst>
                            <p:childTnLst>
                              <p:par>
                                <p:cTn id="24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3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8" dur="2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3" dur="2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8" dur="2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9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من هو إدوارد دي بونو 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2781000"/>
            <a:ext cx="8704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r" rtl="1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دكتور متخصص في جراحة المخ والأعصاب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دكتور في علم النفس والفلسفة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مبتدع برنامج كورت لتطوير تفكير الاطفال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مبتدع وسائل التفكير الابداعي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استشاري لكثير من المؤسسات و الحكومات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قبعات التفكير الست ما هي ؟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2491920"/>
            <a:ext cx="8631000" cy="27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اداة تفكير فعالة تشجع التفكير المتوازي 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236520" indent="-236520" algn="r" rtl="1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برنامـج تدريبـي يمنـح متلقيـه المعرفـة </a:t>
            </a:r>
            <a:br>
              <a:rPr sz="4800"/>
            </a:b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و المهارة لاستخدامه و الاستفادة منه 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108840" y="5589720"/>
          <a:ext cx="1523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0884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7656480" y="5614920"/>
          <a:ext cx="152388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56480" y="561492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537080" y="5589720"/>
          <a:ext cx="152388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3708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084480" y="5589720"/>
          <a:ext cx="152388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8448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571760" y="5589720"/>
          <a:ext cx="152388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7176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6360" y="5589720"/>
          <a:ext cx="152424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360" y="558972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انتقادات التي تواجه قبعات التفكير الس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4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</a:rPr>
              <a:t>البعض يرونها وسيلة لجذب الانظار .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236520" indent="-236520" algn="r" rtl="1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</a:rPr>
              <a:t>البعض يعتقد انها وسيلة لشحذ الافكار 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236520" indent="-236520" algn="r" rtl="1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</a:rPr>
              <a:t>الاستغناء عن التدريب بقراءة  الكتاب 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0120" y="6019920"/>
          <a:ext cx="152388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0120" y="60199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7620120" y="4724280"/>
          <a:ext cx="1523880" cy="838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20120" y="472428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572000" y="6019920"/>
          <a:ext cx="1523880" cy="838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72000" y="60199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771640" y="6019920"/>
          <a:ext cx="1524240" cy="838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71640" y="601992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0" y="6019920"/>
          <a:ext cx="1523880" cy="838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0" y="60199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0" y="4653000"/>
          <a:ext cx="1523880" cy="838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0" y="465300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8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3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8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3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3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560" y="981000"/>
            <a:ext cx="831708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Tahoma"/>
              </a:rPr>
              <a:t>ما هي أوجه القصور في الأسلوب الذي نفكر فيه  عادة ؟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7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r" rtl="1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يفتقد الى البناء المنتظم و التصميم 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243360" indent="-243360" algn="r" rtl="1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يفتقد الى الابداع و الابتكار 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243360" indent="-243360" algn="r" rtl="1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يجعل الناس في حالة تضاد و تنافر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620120" y="6019920"/>
          <a:ext cx="152388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0120" y="60199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7620120" y="4724280"/>
          <a:ext cx="1523880" cy="838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20120" y="472428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940360" y="5470560"/>
          <a:ext cx="1524240" cy="838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940360" y="547056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547640" y="5445000"/>
          <a:ext cx="1524240" cy="838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47640" y="5445000"/>
                    <a:ext cx="15242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0" y="6019920"/>
          <a:ext cx="1523880" cy="838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0" y="60199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0" y="4653000"/>
          <a:ext cx="1523880" cy="838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0" y="465300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800"/>
                            </p:stCondLst>
                            <p:childTnLst>
                              <p:par>
                                <p:cTn id="3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800"/>
                            </p:stCondLst>
                            <p:childTnLst>
                              <p:par>
                                <p:cTn id="3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نمو الإنسان وتطوره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cf01"/>
                </a:solidFill>
                <a:latin typeface="Tahoma"/>
              </a:rPr>
              <a:t>من سن </a:t>
            </a: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0</a:t>
            </a: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 – </a:t>
            </a: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Tahoma"/>
              </a:rPr>
              <a:t>يسأل الطفل لماذا ؟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0000"/>
                </a:solidFill>
                <a:latin typeface="Tahoma"/>
              </a:rPr>
              <a:t>من سن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–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Tahoma"/>
              </a:rPr>
              <a:t>يسأل لماذا لا ؟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3333cc"/>
                </a:solidFill>
                <a:latin typeface="Tahoma"/>
              </a:rPr>
              <a:t>من سن 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12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75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Tahoma"/>
              </a:rPr>
              <a:t>هي مرحلة التبرير وإعطاء الأسباب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324000" y="2151000"/>
            <a:ext cx="4464000" cy="430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9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9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قبعات التفكير الست تمثل الاطا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لتشجيع التفكير المتوازي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تخصص مساحة و زمن للتفكير الابداعي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وجه التفكير نحو افكار معينة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حول التفكير من نمط الى اخر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فصل ما بين الانا  و الاداء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تيح الفرصة لاستكشاف موضوع ما بعمق و تفحص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4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4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4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4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4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4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4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4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4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4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14:07:51Z</dcterms:created>
  <dc:creator>USER</dc:creator>
  <dc:description/>
  <dc:language>en-US</dc:language>
  <cp:lastModifiedBy>36057</cp:lastModifiedBy>
  <dcterms:modified xsi:type="dcterms:W3CDTF">2005-09-11T09:24:21Z</dcterms:modified>
  <cp:revision>1</cp:revision>
  <dc:subject/>
  <dc:title>الشريحة 1</dc:title>
</cp:coreProperties>
</file>