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wmf" ContentType="image/x-wmf"/>
  <Override PartName="/ppt/media/image29.png" ContentType="image/png"/>
  <Override PartName="/ppt/media/image28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0AF-7062-47D0-AA88-3A95D8AC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7A6-CDF1-4B6E-9DCD-9C890C86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ECFB-7C9C-4170-9C06-5E4ABC3C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935-AE89-46D3-BFBE-D8219931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1734-4EA9-47CB-AD91-6342AD97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8B31-608C-4596-81E3-A3ECF9FC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3FA7-28B3-4B3E-B8A5-6D4F4007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6360-14B7-42C2-B0BC-76128FF3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DF88-8A16-4663-B811-A3AA3F64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16EA-017A-4E87-A1C4-7361CADB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1382-CB12-4B37-8D06-4B56D069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AEF-3B24-4511-A272-DBD930B9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8B3C-BC2F-4159-BD77-C3F71DE1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AFE4-4805-43A6-AD47-B946CE19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79D2-ABDD-4EBC-8E81-B0E7C7B4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48DA-60ED-499F-BE14-5A213A65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9D10-9D11-48F7-A267-FFDA9C03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BBD-4A24-458F-B848-CCFF2C47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275-BABA-4A9D-B668-583C28CC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F99D-E32B-49B5-8E1A-03FBB725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B60-792E-45DA-BAE8-4635BF80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E8AF-9717-446D-A6CD-24AAE800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520-0266-4E0B-8AD0-F53FAF34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555E-486F-421F-84B1-0C5DD245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252C-B68B-44F0-91D7-592584A69729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3C2C-3DAB-4217-9A44-B3B527482010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6.xml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slide" Target="slide14.xml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slide" Target="slide19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slide" Target="slide21.xml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5.bin"/><Relationship Id="rId14" Type="http://schemas.openxmlformats.org/officeDocument/2006/relationships/slide" Target="slide23.xml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6.bin"/><Relationship Id="rId17" Type="http://schemas.openxmlformats.org/officeDocument/2006/relationships/slide" Target="slide25.xml"/><Relationship Id="rId18" Type="http://schemas.openxmlformats.org/officeDocument/2006/relationships/image" Target="../media/image3.wmf"/><Relationship Id="rId19" Type="http://schemas.openxmlformats.org/officeDocument/2006/relationships/slide" Target="slide27.xml"/><Relationship Id="rId20" Type="http://schemas.openxmlformats.org/officeDocument/2006/relationships/image" Target="../media/image17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oleObject" Target="../embeddings/oleObject1.bin"/><Relationship Id="rId6" Type="http://schemas.openxmlformats.org/officeDocument/2006/relationships/slide" Target="slide14.xml"/><Relationship Id="rId7" Type="http://schemas.openxmlformats.org/officeDocument/2006/relationships/image" Target="../media/image3.wmf"/><Relationship Id="rId8" Type="http://schemas.openxmlformats.org/officeDocument/2006/relationships/oleObject" Target="../embeddings/oleObject2.bin"/><Relationship Id="rId9" Type="http://schemas.openxmlformats.org/officeDocument/2006/relationships/slide" Target="slide14.xml"/><Relationship Id="rId10" Type="http://schemas.openxmlformats.org/officeDocument/2006/relationships/image" Target="../media/image3.wmf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oleObject" Target="../embeddings/oleObject1.bin"/><Relationship Id="rId5" Type="http://schemas.openxmlformats.org/officeDocument/2006/relationships/slide" Target="slide14.xml"/><Relationship Id="rId6" Type="http://schemas.openxmlformats.org/officeDocument/2006/relationships/image" Target="../media/image3.wmf"/><Relationship Id="rId7" Type="http://schemas.openxmlformats.org/officeDocument/2006/relationships/oleObject" Target="../embeddings/oleObject2.bin"/><Relationship Id="rId8" Type="http://schemas.openxmlformats.org/officeDocument/2006/relationships/slide" Target="slide14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3.bin"/><Relationship Id="rId11" Type="http://schemas.openxmlformats.org/officeDocument/2006/relationships/slide" Target="slide14.xml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oleObject" Target="../embeddings/oleObject1.bin"/><Relationship Id="rId8" Type="http://schemas.openxmlformats.org/officeDocument/2006/relationships/slide" Target="slide14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2.bin"/><Relationship Id="rId11" Type="http://schemas.openxmlformats.org/officeDocument/2006/relationships/slide" Target="slide14.xml"/><Relationship Id="rId12" Type="http://schemas.openxmlformats.org/officeDocument/2006/relationships/image" Target="../media/image3.wmf"/><Relationship Id="rId13" Type="http://schemas.openxmlformats.org/officeDocument/2006/relationships/slide" Target="slide13.xml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4.xml"/><Relationship Id="rId3" Type="http://schemas.openxmlformats.org/officeDocument/2006/relationships/image" Target="../media/image3.wmf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ahoma"/>
                <a:cs typeface="Andalus"/>
              </a:rPr>
              <a:t>قبعات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cs typeface="Andalus"/>
              </a:rPr>
              <a:t>التفكير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ffcf01"/>
                </a:solidFill>
                <a:latin typeface="Tahoma"/>
                <a:cs typeface="Andalus"/>
              </a:rPr>
              <a:t>الست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(( </a:t>
            </a:r>
            <a:r>
              <a:rPr b="0" lang="ar-SA" sz="4800" spc="-1" strike="noStrike">
                <a:solidFill>
                  <a:srgbClr val="ffcf01"/>
                </a:solidFill>
                <a:latin typeface="Tahoma"/>
                <a:cs typeface="Andalus"/>
              </a:rPr>
              <a:t>إدوارد 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cs typeface="Andalus"/>
              </a:rPr>
              <a:t>دي </a:t>
            </a:r>
            <a:r>
              <a:rPr b="0" lang="ar-SA" sz="4800" spc="-1" strike="noStrike">
                <a:solidFill>
                  <a:srgbClr val="3333cc"/>
                </a:solidFill>
                <a:latin typeface="Tahoma"/>
                <a:cs typeface="Andalus"/>
              </a:rPr>
              <a:t>بونو</a:t>
            </a:r>
            <a:r>
              <a:rPr b="0" lang="ar-SA" sz="4800" spc="-1" strike="noStrike">
                <a:solidFill>
                  <a:srgbClr val="3333cc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))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956720" y="460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564000" y="0"/>
            <a:ext cx="18000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108000" y="117360"/>
            <a:ext cx="1079280" cy="1079640"/>
            <a:chOff x="108000" y="117360"/>
            <a:chExt cx="1079280" cy="1079640"/>
          </a:xfrm>
        </p:grpSpPr>
        <p:sp>
          <p:nvSpPr>
            <p:cNvPr id="103" name=""/>
            <p:cNvSpPr/>
            <p:nvPr/>
          </p:nvSpPr>
          <p:spPr>
            <a:xfrm>
              <a:off x="455400" y="117360"/>
              <a:ext cx="385200" cy="26964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6880" y="279000"/>
              <a:ext cx="385200" cy="27000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3920" y="279000"/>
              <a:ext cx="385560" cy="27000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25800">
              <a:off x="405000" y="491040"/>
              <a:ext cx="485640" cy="3852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8000" y="981000"/>
              <a:ext cx="1079280" cy="216000"/>
            </a:xfrm>
            <a:prstGeom prst="rect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879120" y="603000"/>
              <a:ext cx="30816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إدار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عام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للتعليم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بجد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83240" y="1035360"/>
              <a:ext cx="925200" cy="1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قسم الابتدائي</a:t>
              </a:r>
              <a:endParaRPr b="1" lang="en-US" sz="12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527400" y="666000"/>
              <a:ext cx="231120" cy="1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وزارة المعارف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1417 </a:t>
              </a:r>
              <a:r>
                <a:rPr b="0" lang="hi-IN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هـ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15200" y="597240"/>
              <a:ext cx="30816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مجمع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أمير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سلطان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تعليمي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</p:grpSp>
      <p:graphicFrame>
        <p:nvGraphicFramePr>
          <p:cNvPr id="112" name=""/>
          <p:cNvGraphicFramePr/>
          <p:nvPr/>
        </p:nvGraphicFramePr>
        <p:xfrm>
          <a:off x="7620120" y="371628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3716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620120" y="2708280"/>
          <a:ext cx="15238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708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620120" y="4797360"/>
          <a:ext cx="152388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479736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620120" y="595008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59500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940360" y="5950080"/>
          <a:ext cx="152424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595008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140360" y="5950080"/>
          <a:ext cx="152388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0360" y="59500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 txBox="1"/>
          <p:nvPr/>
        </p:nvSpPr>
        <p:spPr>
          <a:xfrm>
            <a:off x="1332000" y="2421000"/>
            <a:ext cx="439236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ndalus"/>
              </a:rPr>
              <a:t>ورشة عمل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ndalus"/>
              <a:ea typeface="Andalu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5"/>
          <a:stretch/>
        </p:blipFill>
        <p:spPr>
          <a:xfrm>
            <a:off x="0" y="3500280"/>
            <a:ext cx="223848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843280" y="692280"/>
            <a:ext cx="372096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Simplified Arabic"/>
              </a:rPr>
              <a:t>التفكي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Simplified Arabic"/>
              <a:ea typeface="Simplified Arabic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634000" y="3276720"/>
            <a:ext cx="305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720" y="3276720"/>
            <a:ext cx="34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46800" y="2585880"/>
            <a:ext cx="16099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سعيد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2509920"/>
            <a:ext cx="16858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جمال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1720" y="1671480"/>
            <a:ext cx="3133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e4a8"/>
                </a:solidFill>
                <a:latin typeface="Times New Roman (Arabic)"/>
              </a:rPr>
              <a:t>متعاكس</a:t>
            </a:r>
            <a:r>
              <a:rPr b="0" lang="ar-SA" sz="4400" spc="-1" strike="noStrike">
                <a:solidFill>
                  <a:srgbClr val="00e4a8"/>
                </a:solidFill>
                <a:latin typeface="Times New Roman"/>
              </a:rPr>
              <a:t> 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19040" y="4876920"/>
            <a:ext cx="328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119040" y="5589720"/>
            <a:ext cx="328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119400" y="6308640"/>
            <a:ext cx="3363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4033800"/>
            <a:ext cx="29048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e4a8"/>
                </a:solidFill>
                <a:latin typeface="Times New Roman (Arabic)"/>
              </a:rPr>
              <a:t>متوازي</a:t>
            </a:r>
            <a:r>
              <a:rPr b="1" lang="ar-SA" sz="4400" spc="-1" strike="noStrike">
                <a:solidFill>
                  <a:srgbClr val="00e4a8"/>
                </a:solidFill>
                <a:latin typeface="Times New Roman"/>
              </a:rPr>
              <a:t> :</a:t>
            </a:r>
            <a:r>
              <a:rPr b="0" lang="ar-SA" sz="4400" spc="-1" strike="noStrike">
                <a:solidFill>
                  <a:srgbClr val="00e4a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28880" y="4719600"/>
            <a:ext cx="16099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سعيد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5549760"/>
            <a:ext cx="2067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جم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867280" y="3429000"/>
          <a:ext cx="10796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429000"/>
                    <a:ext cx="10796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796000" y="2492280"/>
          <a:ext cx="1079640" cy="5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492280"/>
                    <a:ext cx="10796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843280" y="2492280"/>
          <a:ext cx="1079280" cy="5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2492280"/>
                    <a:ext cx="107928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843280" y="3429000"/>
          <a:ext cx="107928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3429000"/>
                    <a:ext cx="10792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189080" y="5734080"/>
          <a:ext cx="1079280" cy="59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9080" y="5734080"/>
                    <a:ext cx="10792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187280" y="4897440"/>
          <a:ext cx="1079640" cy="59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4897440"/>
                    <a:ext cx="10796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مثال على التفكير المتوازي</a:t>
            </a:r>
            <a:br>
              <a:rPr sz="4400"/>
            </a:b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( طيور الأوز 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Simplified Arabic"/>
              </a:rPr>
              <a:t>تسافر و تتنقل و تفكر الاوز بطريقة متوازية مشكلة حرف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(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V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) 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Simplified Arabic"/>
              </a:rPr>
              <a:t>تدرك اهمية الجماعة و معنى ذلك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Tahoma"/>
                <a:ea typeface="Simplified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f01"/>
                </a:solidFill>
                <a:latin typeface="Tahoma"/>
                <a:cs typeface="Simplified Arabic"/>
              </a:rPr>
              <a:t>لهذه الطيور وجهة محددة و هدف واحد يخلص له كل الطيور بالمجموعة</a:t>
            </a:r>
            <a:r>
              <a:rPr b="1" lang="en-US" sz="4000" spc="-1" strike="noStrike">
                <a:solidFill>
                  <a:srgbClr val="ffcf01"/>
                </a:solidFill>
                <a:latin typeface="Tahoma"/>
                <a:ea typeface="Simplified Arabic"/>
              </a:rPr>
              <a:t>.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  <a:ea typeface="Simplified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-3997440" y="2349360"/>
          <a:ext cx="1524240" cy="8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3997440" y="234936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-1836720" y="3357720"/>
          <a:ext cx="152388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1836720" y="3357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-3997440" y="4654440"/>
          <a:ext cx="1524240" cy="83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-3997440" y="465444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-6013440" y="5086440"/>
          <a:ext cx="152388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-6013440" y="508644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-6084720" y="177336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-6084720" y="177336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-6157800" y="3430440"/>
          <a:ext cx="1523880" cy="838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-6157800" y="343044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5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7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9" dur="5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1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3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5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لماذا القبعات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35344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Simplified Arabic"/>
              </a:rPr>
              <a:t>هناك علاقة تقليدية ما بين التفكير و القبعات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f01"/>
                </a:solidFill>
                <a:latin typeface="Tahoma"/>
                <a:cs typeface="Simplified Arabic"/>
              </a:rPr>
              <a:t>القبعات يمكن و ضعها  و خلعها بسهولة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Simplified Arabic"/>
              </a:rPr>
              <a:t>كل منها يمثل دور معين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0" y="4946760"/>
            <a:ext cx="1886040" cy="1911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7257960" y="4946760"/>
            <a:ext cx="1886040" cy="1911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400"/>
                            </p:stCondLst>
                            <p:childTnLst>
                              <p:par>
                                <p:cTn id="6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( الآن اختر القبعة التي تريد التعرف عليها)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6732720" y="2492280"/>
          <a:ext cx="2158920" cy="118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9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2492280"/>
                    <a:ext cx="2158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0" y="2492280"/>
          <a:ext cx="2158920" cy="118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2492280"/>
                    <a:ext cx="2158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492360" y="5670720"/>
          <a:ext cx="2159280" cy="1187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3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92360" y="5670720"/>
                    <a:ext cx="2159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" descr="">
                    <a:hlinkClick r:id="rId14" action="ppaction://hlinksldjump"/>
                  </p:cNvPr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419640" y="2421000"/>
          <a:ext cx="2158920" cy="1187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" descr="">
                    <a:hlinkClick r:id="rId17" action="ppaction://hlinksldjump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19640" y="242100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610080" y="3933720"/>
            <a:ext cx="1825560" cy="1462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50920" y="4005360"/>
            <a:ext cx="2879640" cy="14396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استخدام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2000" y="4005360"/>
            <a:ext cx="2879640" cy="143964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استخدام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600"/>
                            </p:stCondLst>
                            <p:childTnLst>
                              <p:par>
                                <p:cTn id="7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600"/>
                            </p:stCondLst>
                            <p:childTnLst>
                              <p:par>
                                <p:cTn id="7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7600"/>
                            </p:stCondLst>
                            <p:childTnLst>
                              <p:par>
                                <p:cTn id="7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بيضاء : المعلومات ، البيانات ، المتطلبات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25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متوفرة لدينا و الموجود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تي نود الحصول علي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تي نحتاج ل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غير متوافرة و الناقصة و التي يجب اكمال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بيض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Simplified Arabic"/>
              </a:rPr>
              <a:t>تسجل الآراء المتباينة المختلفة في حالة وجود معلومات متضاربة ، و تقييم صحة المعلومات و مدى علاقتها بأصل الموضوع المطروح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  <a:cs typeface="Simplified Arabic"/>
              </a:rPr>
              <a:t>تفرق بين الحقائق المجردة و التخمين و التأملات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f01"/>
                </a:solidFill>
                <a:latin typeface="Tahoma"/>
                <a:cs typeface="Simplified Arabic"/>
              </a:rPr>
              <a:t>تحدد طبيعة الخطوات التي يجب تنفيذها لسد أي نقص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cs typeface="Simplified Arabic"/>
              </a:rPr>
              <a:t>تبين المشاعر الخاصة بالآخرين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3080" y="5084640"/>
          <a:ext cx="2448000" cy="146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0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>
            <a:hlinkClick r:id="rId11" action="ppaction://hlinksldjump"/>
          </p:cNvPr>
          <p:cNvSpPr/>
          <p:nvPr/>
        </p:nvSpPr>
        <p:spPr>
          <a:xfrm>
            <a:off x="356400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8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8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8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8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حمراء : المشاعر ، الحدس ، العواطف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نح شرعية للتعبير عن المشاعر و الاحاسيس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عبير عما تشعر به الان  فقط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تستخدم كجزء من التفكير الذي يؤدي الى قرار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مكن استخدامها في مرحلة ما بعد الوصول الى قرار م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حمر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ahoma"/>
              </a:rPr>
              <a:t>تمنح اذن مطلق للتعبير عن الاحاسيس و الشعور و الحدس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f01"/>
                </a:solidFill>
                <a:latin typeface="Tahoma"/>
              </a:rPr>
              <a:t>لا تطالب باستيضاح او شرح لأسباب مشاعرنا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cc"/>
                </a:solidFill>
                <a:latin typeface="Tahoma"/>
              </a:rPr>
              <a:t>شعور داخلي مبني على خبراتنا و تجاربنا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3080" y="5084640"/>
          <a:ext cx="2448000" cy="146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276720" y="5084640"/>
          <a:ext cx="2447640" cy="1465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3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084640"/>
                    <a:ext cx="244764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8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8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8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نطاق الشعو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00200" y="4348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ـــــــــــــــــــــــــــــــــــــــــــــــــــــــــــــــــــــــــــــــــــــــــــــــــــــــــــــــــــــ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0556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9564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1200" y="35100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غير راضي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65880" y="3429000"/>
            <a:ext cx="105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00"/>
                </a:solidFill>
                <a:latin typeface="Times New Roman"/>
                <a:cs typeface="Simplified Arabic"/>
              </a:rPr>
              <a:t>راضي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335772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f01"/>
                </a:solidFill>
                <a:latin typeface="Times New Roman"/>
                <a:cs typeface="Simplified Arabic"/>
              </a:rPr>
              <a:t>ما بين الب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6273720" y="5234040"/>
          <a:ext cx="287028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3720" y="5234040"/>
                    <a:ext cx="287028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>
            <a:hlinkClick r:id="rId3" action="ppaction://hlinksldjump"/>
          </p:cNvPr>
          <p:cNvSpPr/>
          <p:nvPr/>
        </p:nvSpPr>
        <p:spPr>
          <a:xfrm>
            <a:off x="826920" y="5300640"/>
            <a:ext cx="3635640" cy="1197000"/>
          </a:xfrm>
          <a:prstGeom prst="cloudCallout">
            <a:avLst>
              <a:gd name="adj1" fmla="val -69347"/>
              <a:gd name="adj2" fmla="val 7307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سوداء : الحذر ، المخاطر ، المصاعب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فكير غير المناسب : الخبرات ، الحقائق ، الانظمة ، القي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….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اخطا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شاكل الاساسي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غلطات المنط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وق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(( دقيقة للتفكير ))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3780000" cy="5267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88000" y="2816280"/>
            <a:ext cx="4356000" cy="478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786200" y="1773360"/>
            <a:ext cx="3673440" cy="1008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ما هواية هذه السيد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3640" y="3500280"/>
            <a:ext cx="2016000" cy="2665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أرى الكذ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ف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وجه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سود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قد توفر معلومات في بعض الاحيان و التي قد تتوافر بواسطة القبعة البيض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لا تلجأ الى حل المشاكل التي تظهر تحت القبعة السوداء فورا  بمجرد ذكرها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قبعة لها ذات قيمة و فائدة و ضروري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تمنع وقوع الغلطات السخيف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ahoma"/>
              </a:rPr>
              <a:t>تبين الصعوبات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ahoma"/>
              </a:rPr>
              <a:t>تسبب مشاكل جمة اذا زاد استخدامها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6360" y="5084640"/>
          <a:ext cx="2448000" cy="146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36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4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>
            <a:hlinkClick r:id="rId13" action="ppaction://hlinksldjump"/>
          </p:cNvPr>
          <p:cNvSpPr/>
          <p:nvPr/>
        </p:nvSpPr>
        <p:spPr>
          <a:xfrm>
            <a:off x="356400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8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8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8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8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8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8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صفراء : الإيجابية ، الفوائد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58920" y="2133360"/>
            <a:ext cx="3809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جدوى و الفوائد ، وما هي الفوائد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نا تطبيق هذا المفهوم الجذاب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 تعديل هذه الفكرة حتى تصبح قابلة للتنفيذ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نا تعديل النظام الحالي ؟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بحث عن الفوائد المرئية و الكامن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0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صفر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3280" y="2017800"/>
            <a:ext cx="42832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تطلب بذل بعض الجهد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قل تلقائية مقارنة بالقبعة السود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شجع الافكار الابداعية و المبتكر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4360" y="2205000"/>
          <a:ext cx="244764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205000"/>
                    <a:ext cx="244764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61128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717800">
            <a:off x="4195440" y="4221000"/>
            <a:ext cx="491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يمة المزايا والخصائ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51280" y="4653000"/>
            <a:ext cx="147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بسط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سرع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رخ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تا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8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8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1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8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Tahoma"/>
              </a:rPr>
              <a:t>القبعة الخضراء : الاحتمالات ، البدائل ، الأفكار الجديدة 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بذل جهد ابداعي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عدل من الافكار و تزيل الاخط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نشأ خلية تتخذ من الابتكار ثقافة لها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2781360"/>
          <a:ext cx="3809880" cy="227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78136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6516720" y="4221000"/>
            <a:ext cx="2104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Tahoma"/>
              </a:rPr>
              <a:t>النقاط الأ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2000" y="4915080"/>
            <a:ext cx="54723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شجع التفكير الابداعي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ستكشف بدائل مختلفة لتنفيذ الاعمال و الافعا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0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كلمة العشوائية (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</a:t>
            </a: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 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64216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ختر كلمة عشوائية لها علاقة بالموضوع الذي تفكر فيه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ختر كلمة أخرى ليست لها علاق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وجد العلاقة بين الكلمتين باستخدام (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)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0" y="4005360"/>
          <a:ext cx="1440000" cy="86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0536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763640" y="5157720"/>
          <a:ext cx="144000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5157720"/>
                    <a:ext cx="14400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708360" y="4149720"/>
          <a:ext cx="1440000" cy="86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414972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867280" y="5157720"/>
          <a:ext cx="1440000" cy="86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5157720"/>
                    <a:ext cx="14400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704000" y="4005360"/>
          <a:ext cx="1440000" cy="86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04000" y="400536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>
            <a:hlinkClick r:id="rId11" action="ppaction://hlinksldjump"/>
          </p:cNvPr>
          <p:cNvSpPr/>
          <p:nvPr/>
        </p:nvSpPr>
        <p:spPr>
          <a:xfrm>
            <a:off x="3276720" y="5013360"/>
            <a:ext cx="2160360" cy="1123920"/>
          </a:xfrm>
          <a:prstGeom prst="cloudCallout">
            <a:avLst>
              <a:gd name="adj1" fmla="val -111"/>
              <a:gd name="adj2" fmla="val 1101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0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7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9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4400"/>
                            </p:stCondLst>
                            <p:childTnLst>
                              <p:par>
                                <p:cTn id="17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6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333399"/>
                </a:solidFill>
                <a:latin typeface="Tahoma"/>
              </a:rPr>
              <a:t>القبعة الزرقاء : التحكم في عمليات التفكير ، التفكير في التفكير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258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خطوة التالي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جدول الاعما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طلب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لخص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استنتاجات و القرار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0" y="5178600"/>
          <a:ext cx="2808360" cy="16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178600"/>
                    <a:ext cx="280836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6300720" y="5821200"/>
          <a:ext cx="1295640" cy="77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00720" y="5821200"/>
                    <a:ext cx="129564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68360" y="3560760"/>
          <a:ext cx="1944720" cy="116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560760"/>
                    <a:ext cx="19447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492360" y="5516640"/>
          <a:ext cx="1944720" cy="1163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92360" y="5516640"/>
                    <a:ext cx="19447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826920" y="2205000"/>
          <a:ext cx="1295640" cy="776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26920" y="2205000"/>
                    <a:ext cx="12956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fill="hold">
                      <p:stCondLst>
                        <p:cond delay="0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5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1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9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زرق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وجه عمليات التفكير و تعيده الى الطريق اذا حاد عنه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نظر في طلب اعضاء المجموعة للنظر في انماط معينة من التفكي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بين الملاحظات الغير لائقة و غير مناسب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طالب بتلخيص و خاتمة للموضوع المطروح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صدر القرا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جسد دور المنسق او المنظم او المدي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يجوز ارتدائها  بواسطة أي من اعضاء المجموع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44360" y="5589720"/>
          <a:ext cx="18352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5589720"/>
                    <a:ext cx="18352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443640" y="5516640"/>
            <a:ext cx="2160720" cy="1123920"/>
          </a:xfrm>
          <a:prstGeom prst="cloudCallout">
            <a:avLst>
              <a:gd name="adj1" fmla="val 71305"/>
              <a:gd name="adj2" fmla="val -6256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4920" y="3898800"/>
          <a:ext cx="125892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3898800"/>
                    <a:ext cx="12589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119240" y="4575240"/>
          <a:ext cx="125892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9240" y="4575240"/>
                    <a:ext cx="125892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521080" y="5338800"/>
          <a:ext cx="125892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21080" y="5338800"/>
                    <a:ext cx="12589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745080" y="6059520"/>
          <a:ext cx="1258560" cy="75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5080" y="6059520"/>
                    <a:ext cx="12585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3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9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0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1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7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8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8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8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2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8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8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2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1" dur="8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2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8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ستخدام ا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هناك استخدامان اساسيان و عامان للقبعات :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 ) الاستخدام الفردي للقبعات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تستخدم قبعة واحدة فرادا و لفترة محددة مـــــن الوقت لتبني نمط تفكير معين و ذلك لاغراض كتابة تقرير او تسيير اعمال اجتماع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او في محادث .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 ) استخدام تسلسلي أو تتابعي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هنا تستخدم القبعات الواحدة تلــــــــو الاخرى لبحث و استكشاف موضوع معين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1150"/>
                            </p:stCondLst>
                            <p:childTnLst>
                              <p:par>
                                <p:cTn id="1993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850"/>
                            </p:stCondLst>
                            <p:childTnLst>
                              <p:par>
                                <p:cTn id="2000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4550"/>
                            </p:stCondLst>
                            <p:childTnLst>
                              <p:par>
                                <p:cTn id="200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8150"/>
                            </p:stCondLst>
                            <p:childTnLst>
                              <p:par>
                                <p:cTn id="201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2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ستخدامات أخر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الاستخدام الشخصي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يحدد الشخص أي القبعات يستخدم تبعا للموقف المعين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الاستخدام اثناء التحدث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مفيدة للتخاطب و تبادل الرأ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تستخدم في الاجتماعات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الجميع يحاول استخدام القبعات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تستخدم القبعات في كتابة التقارير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1100"/>
                            </p:stCondLst>
                            <p:childTnLst>
                              <p:par>
                                <p:cTn id="203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2600"/>
                            </p:stCondLst>
                            <p:childTnLst>
                              <p:par>
                                <p:cTn id="204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3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6100"/>
                            </p:stCondLst>
                            <p:childTnLst>
                              <p:par>
                                <p:cTn id="2060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7600"/>
                            </p:stCondLst>
                            <p:childTnLst>
                              <p:par>
                                <p:cTn id="206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9200"/>
                            </p:stCondLst>
                            <p:childTnLst>
                              <p:par>
                                <p:cTn id="207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8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76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صف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ى طرح فكرة جديدة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حدوث تغيير او تعديل اساسي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نظر الى فكرة ما باسلوب سلبي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حم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بحث فكرة قائمة تعتبر مثار للجد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وجود تشاؤم او تفاؤل غير مبرر حول فكر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جس نبض المجموعة حول قرار تم اتخاذه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0" y="5672160"/>
          <a:ext cx="2158920" cy="11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2160"/>
                    <a:ext cx="2158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0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9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3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7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1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8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2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6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0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2781000"/>
            <a:ext cx="77929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إن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الاسلوب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الذي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نفكر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به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يحدد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مسارنا في المستقبل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836640"/>
            <a:ext cx="216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f01"/>
                </a:solidFill>
                <a:latin typeface="Arabic Transparent"/>
                <a:cs typeface="Simplified Arabic"/>
              </a:rPr>
              <a:t>حكمة</a:t>
            </a:r>
            <a:r>
              <a:rPr b="1" lang="en-US" sz="6000" spc="-1" strike="noStrike">
                <a:solidFill>
                  <a:srgbClr val="333399"/>
                </a:solidFill>
                <a:latin typeface="Arabic Transparent"/>
                <a:ea typeface="Simplified Arab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9431600">
            <a:off x="5973840" y="5239800"/>
            <a:ext cx="32781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abic Transparent"/>
                <a:cs typeface="Simplified Arabic"/>
              </a:rPr>
              <a:t>إدوارد دي بون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8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560" y="2017800"/>
            <a:ext cx="424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سود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دراسة مشروع او فكرة ما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تبدو فكرة ما جذاب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بعد أن تعرف القبعة الصفراء على المزايا و الايجابي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حدث تغير في البيئة المحيط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8000" y="201780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خض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يصبح التطور و التحسين شيئا مهما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تتواجد ضرورة لطرح بدائل و خيارات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تتواجد ضرورة لطرح افكار جديدة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لطرح رؤية مختلفة تجاه امر ما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0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4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8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2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6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3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7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1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5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9" dur="2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44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زرق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نشوب نزاع او اختلاف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من الضروري اتخاذ قرار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وقت عامل حاسم  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وجود ضرورة لبحث و استقصاء امر ما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تفكير غير مركزا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e4a8"/>
                </a:solidFill>
                <a:latin typeface="Tahoma"/>
              </a:rPr>
              <a:t>القبعة البيض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طرح موقف جديد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ى اتخاذ قرا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تفكير غير واقعي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تسوية خلافات و اراء متباين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تدارس عرض ما او مفاوضته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183" dur="indefinite" restart="never" nodeType="tmRoot">
          <p:childTnLst>
            <p:seq>
              <p:cTn id="2184" dur="indefinite" nodeType="mainSeq">
                <p:childTnLst>
                  <p:par>
                    <p:cTn id="2185" fill="hold">
                      <p:stCondLst>
                        <p:cond delay="0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9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3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7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1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5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9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7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2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7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2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7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2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تسلسل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Tahoma"/>
              </a:rPr>
              <a:t>يستخدم عندما يكون</a:t>
            </a: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الوقت قصير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التفكير عشوائيا و غير موجه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هناك معتقدات و افكار مختلفة و متباينة و متضاربة</a:t>
            </a:r>
            <a:r>
              <a:rPr b="0" lang="ar-SA" sz="3200" spc="-1" strike="noStrike">
                <a:solidFill>
                  <a:srgbClr val="333399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Tahoma"/>
              </a:rPr>
              <a:t>و تذكر انه</a:t>
            </a: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ahoma"/>
              </a:rPr>
              <a:t>لا يوجد تسلسل واحد صحيح بعينه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ahoma"/>
              </a:rPr>
              <a:t>ليس من الضروري استخدام كل القبعات في كل تسلسل</a:t>
            </a:r>
            <a:r>
              <a:rPr b="0" lang="ar-SA" sz="3200" spc="-1" strike="noStrike">
                <a:solidFill>
                  <a:srgbClr val="00cc00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246" dur="indefinite" restart="never" nodeType="tmRoot">
          <p:childTnLst>
            <p:seq>
              <p:cTn id="2247" dur="indefinite" nodeType="mainSeq">
                <p:childTnLst>
                  <p:par>
                    <p:cTn id="2248" fill="hold">
                      <p:stCondLst>
                        <p:cond delay="0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0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4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8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6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0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 (( أنواع التسلسل ))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56360" y="2017800"/>
            <a:ext cx="27986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ثابت : 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708360" y="2924280"/>
          <a:ext cx="1523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4427640" y="465300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427640" y="5975280"/>
          <a:ext cx="15238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5975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620120" y="2924280"/>
          <a:ext cx="15238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3760" y="292428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6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 flipH="1">
            <a:off x="5580000" y="350028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763640" y="342900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10440" y="4149720"/>
            <a:ext cx="27986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مرن :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948360" y="5373720"/>
          <a:ext cx="152424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48360" y="5373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 flipH="1" flipV="1">
            <a:off x="6084720" y="5373720"/>
            <a:ext cx="71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084720" y="6165720"/>
            <a:ext cx="719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281" dur="indefinite" restart="never" nodeType="tmRoot">
          <p:childTnLst>
            <p:seq>
              <p:cTn id="2282" dur="indefinite" nodeType="mainSeq">
                <p:childTnLst>
                  <p:par>
                    <p:cTn id="2283" fill="hold">
                      <p:stCondLst>
                        <p:cond delay="0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4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2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2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 (( أنواع التسلسل ))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56360" y="2924280"/>
            <a:ext cx="27986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متغير : 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356000" y="3830760"/>
          <a:ext cx="15242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383076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7620120" y="383076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383076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 flipH="1">
            <a:off x="6227280" y="44067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987640" y="44067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900000" y="44067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24000" y="3903840"/>
            <a:ext cx="4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4200" y="3903840"/>
            <a:ext cx="47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361" dur="indefinite" restart="never" nodeType="tmRoot">
          <p:childTnLst>
            <p:seq>
              <p:cTn id="2362" dur="indefinite" nodeType="mainSeq">
                <p:childTnLst>
                  <p:par>
                    <p:cTn id="2363" fill="hold">
                      <p:stCondLst>
                        <p:cond delay="0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زم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99640" y="2017440"/>
            <a:ext cx="805500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سمح بثلاث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الى اربعة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دقائق لكل قبعة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اعلن الوقت المحدد لكل قبع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جوز تمديد الوقت اذا توالت الافكار المقترح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سمح بثلاثين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ثانية فقط للقبعة الحمراء كحد اقصى.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108840" y="5589720"/>
          <a:ext cx="15238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0884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7656480" y="5614920"/>
          <a:ext cx="152388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56480" y="561492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4537080" y="558972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370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084480" y="5589720"/>
          <a:ext cx="152388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844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571760" y="5589720"/>
          <a:ext cx="152388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7176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6360" y="5589720"/>
          <a:ext cx="152424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60" y="5589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411" dur="indefinite" restart="never" nodeType="tmRoot">
          <p:childTnLst>
            <p:seq>
              <p:cTn id="2412" dur="indefinite" nodeType="mainSeq">
                <p:childTnLst>
                  <p:par>
                    <p:cTn id="2413" fill="hold">
                      <p:stCondLst>
                        <p:cond delay="0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3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7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1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5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0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f01"/>
                </a:solidFill>
                <a:latin typeface="Tahoma"/>
              </a:rPr>
              <a:t>ماذا قالو عن القبعات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يمكن استخدامها بمختلف الدرجات و الوظائف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حسن من التواصل و العلاقات عامة .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قلل من النزاعات و الخلافات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شجع الابداع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رتقي بنوعية و كفاءة التفكير</a:t>
            </a:r>
            <a:r>
              <a:rPr b="0" lang="ar-SA" sz="4000" spc="-1" strike="noStrike">
                <a:solidFill>
                  <a:srgbClr val="333399"/>
                </a:solidFill>
                <a:latin typeface="Tahoma"/>
              </a:rPr>
              <a:t> 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460" dur="indefinite" restart="never" nodeType="tmRoot">
          <p:childTnLst>
            <p:seq>
              <p:cTn id="2461" dur="indefinite" nodeType="mainSeq">
                <p:childTnLst>
                  <p:par>
                    <p:cTn id="2462" fill="hold">
                      <p:stCondLst>
                        <p:cond delay="0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6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1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2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1" dur="2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f01"/>
                </a:solidFill>
                <a:latin typeface="Tahoma"/>
              </a:rPr>
              <a:t>هل لها فوائد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1360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ساهم في بناء نظم الجودة : ادارة الجودة الشامل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قلل من الصراعات و الخلافات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ساهم في بناء فرق عمل فعالة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جعل من الاجتماعات اكثر فعالية. </a:t>
            </a:r>
            <a:r>
              <a:rPr b="0" lang="ar-S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193840" cy="2924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843280" y="4941720"/>
            <a:ext cx="5976720" cy="1511640"/>
          </a:xfrm>
          <a:prstGeom prst="wedgeRoundRectCallout">
            <a:avLst>
              <a:gd name="adj1" fmla="val -75393"/>
              <a:gd name="adj2" fmla="val -2174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سأل الله عز وج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كم التوفيق والنجاح في حياتكم العم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ع تحياتي : أ. ممدوح عبدالكر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492" dur="indefinite" restart="never" nodeType="tmRoot">
          <p:childTnLst>
            <p:seq>
              <p:cTn id="2493" dur="indefinite" nodeType="mainSeq">
                <p:childTnLst>
                  <p:par>
                    <p:cTn id="2494" fill="hold">
                      <p:stCondLst>
                        <p:cond delay="0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8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3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8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9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من هو إدوارد دي بونو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000"/>
            <a:ext cx="8704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دكتور متخصص في جراحة المخ والأعصاب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دكتور في علم النفس والفلسفة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مبتدع برنامج كورت لتطوير تفكير الاطفال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مبتدع وسائل التفكير الابداعي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استشاري لكثير من المؤسسات و الحكومات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بعات التفكير الست ما هي ؟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63100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اداة تفكير فعالة تشجع التفكير المتوازي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برنامـج تدريبـي يمنـح متلقيـه المعرفـة </a:t>
            </a: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و المهارة لاستخدامه و الاستفادة منه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108840" y="558972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0884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656480" y="5614920"/>
          <a:ext cx="15238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56480" y="561492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537080" y="5589720"/>
          <a:ext cx="15238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70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084480" y="558972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844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571760" y="5589720"/>
          <a:ext cx="152388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7176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6360" y="5589720"/>
          <a:ext cx="152424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60" y="5589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نتقادات التي تواجه قبعات التفكير الس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بعض يرونها وسيلة لجذب الانظار .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بعض يعتقد انها وسيلة لشحذ الافكار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استغناء عن التدريب بقراءة  الكتاب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0120" y="6019920"/>
          <a:ext cx="152388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620120" y="4724280"/>
          <a:ext cx="152388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0120" y="4724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6019920"/>
          <a:ext cx="1523880" cy="83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771640" y="6019920"/>
          <a:ext cx="152424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71640" y="60199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0" y="601992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0" y="4653000"/>
          <a:ext cx="152388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560" y="981000"/>
            <a:ext cx="83170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ما هي أوجه القصور في الأسلوب الذي نفكر فيه  عادة ؟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r" rtl="1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فتقد الى البناء المنتظم و التصميم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 algn="r" rtl="1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فتقد الى الابداع و الابتكار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 algn="r" rtl="1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جعل الناس في حالة تضاد و تنافر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0120" y="6019920"/>
          <a:ext cx="152388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7620120" y="4724280"/>
          <a:ext cx="152388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0120" y="4724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940360" y="5470560"/>
          <a:ext cx="1524240" cy="83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40360" y="547056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547640" y="5445000"/>
          <a:ext cx="1524240" cy="838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544500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0" y="601992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0" y="4653000"/>
          <a:ext cx="152388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8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8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نمو الإنسان وتطور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cf01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0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 –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يسأل الطفل لماذا ؟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–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يسأل لماذا لا ؟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3333cc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75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هي مرحلة التبرير وإعطاء الأسباب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24000" y="2151000"/>
            <a:ext cx="4464000" cy="430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بعات التفكير الست تمثل الاطا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لتشجيع التفكير المتواز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تخصص مساحة و زمن للتفكير الابداع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وجه التفكير نحو افكار معين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حول التفكير من نمط الى اخر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فصل ما بين الانا  و الاداء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تيح الفرصة لاستكشاف موضوع ما بعمق و تفحص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4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4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4:07:51Z</dcterms:created>
  <dc:creator>USER</dc:creator>
  <dc:description/>
  <dc:language>en-US</dc:language>
  <cp:lastModifiedBy>36057</cp:lastModifiedBy>
  <dcterms:modified xsi:type="dcterms:W3CDTF">2005-09-11T09:24:21Z</dcterms:modified>
  <cp:revision>1</cp:revision>
  <dc:subject/>
  <dc:title>الشريحة 1</dc:title>
</cp:coreProperties>
</file>