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E46-D933-464C-8340-6C783CB4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893-9114-4CE3-BC23-74F8AE4A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C6E-5AD4-47DE-96E4-B715A95F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191-9892-41BC-8448-72488BE8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2E9D-75CB-48F0-A773-FD664392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EB53-6142-46C3-BA52-D6695964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B5F0-59A4-4654-A016-E5C6F114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4BA5-B089-4317-B512-2EE4B57C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7A9E-94E0-4B3B-B234-89B00710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DE9D-000F-45FE-905D-02AD2F92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3E75-B96C-47AF-96CD-38C2187C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699-9EC4-4C02-8B53-428F845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4844-EE24-4E1B-B88D-1E6A28A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05A1-9658-4102-AC94-F6ACEB1F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ADC5-B745-4A11-A080-AC0CA182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D3F4-3AFA-48C1-B594-0F47C7EE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2FE5-F7D5-4B5C-9E70-DF23DF79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3F4-B1C6-49F1-B9EB-E7DB036F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8FF-1042-48CF-AB51-0A329CD6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9E3-7588-4DDB-B6F5-876DACB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AF3-1849-4283-B3F4-1031BE33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BCB-7E14-4D89-8908-A9667D29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EE8-69BB-4110-871E-EFF8642A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16B-10DA-4612-9615-D1892294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71440" y="785880"/>
            <a:ext cx="506520" cy="506520"/>
          </a:xfrm>
          <a:custGeom>
            <a:avLst/>
            <a:gdLst/>
            <a:ahLst/>
            <a:rect l="l" t="t" r="r" b="b"/>
            <a:pathLst>
              <a:path w="319" h="319">
                <a:moveTo>
                  <a:pt x="318" y="198"/>
                </a:moveTo>
                <a:lnTo>
                  <a:pt x="318" y="318"/>
                </a:lnTo>
                <a:lnTo>
                  <a:pt x="1" y="99"/>
                </a:lnTo>
                <a:lnTo>
                  <a:pt x="0" y="108"/>
                </a:lnTo>
                <a:lnTo>
                  <a:pt x="46" y="0"/>
                </a:lnTo>
                <a:lnTo>
                  <a:pt x="318" y="198"/>
                </a:lnTo>
              </a:path>
            </a:pathLst>
          </a:custGeom>
          <a:gradFill rotWithShape="0">
            <a:gsLst>
              <a:gs pos="0">
                <a:srgbClr val="00763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785880"/>
            <a:ext cx="506520" cy="506520"/>
          </a:xfrm>
          <a:custGeom>
            <a:avLst/>
            <a:gdLst/>
            <a:ahLst/>
            <a:rect l="l" t="t" r="r" b="b"/>
            <a:pathLst>
              <a:path w="319" h="319">
                <a:moveTo>
                  <a:pt x="0" y="198"/>
                </a:moveTo>
                <a:lnTo>
                  <a:pt x="0" y="318"/>
                </a:lnTo>
                <a:lnTo>
                  <a:pt x="316" y="99"/>
                </a:lnTo>
                <a:lnTo>
                  <a:pt x="318" y="108"/>
                </a:lnTo>
                <a:lnTo>
                  <a:pt x="271" y="0"/>
                </a:lnTo>
                <a:lnTo>
                  <a:pt x="0" y="198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76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586C-C7EA-476B-A8E2-DCA7ED45D419}" type="datetime">
              <a:rPr b="0" lang="ar-SA" sz="1400" spc="-1" strike="noStrike">
                <a:solidFill>
                  <a:srgbClr val="eaeae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0012-3995-4B2A-A21B-5BD62377166A}" type="slidenum">
              <a: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231920" cy="1281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52280" y="1117440"/>
            <a:ext cx="1522440" cy="17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71bb9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BF54-6EE6-42F8-9709-DDC8CCF050D6}" type="datetime">
              <a:rPr b="0" lang="ar-SA" sz="1400" spc="-1" strike="noStrike">
                <a:solidFill>
                  <a:srgbClr val="eaeae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59C0-6EF5-4E0D-8BF0-CAECA4D43D89}" type="slidenum">
              <a: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1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819520" y="0"/>
              <a:ext cx="334476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L-Mateen"/>
              </a:rPr>
              <a:t>برنامج الكشف والتعرف على الموهويبن في المملكة العربية السعودي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واقع والمأمو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C6F5DCE-DC44-4EC8-83E1-2FB55E04627A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7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القدرات العقلية الخاص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وهو مقياس جمعي يركز على قياس القدرات العقلية الخاصة التالية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قدرة اللغو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2408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عدد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0988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مكان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251"/>
              </a:spcBef>
              <a:buClr>
                <a:srgbClr val="eaeae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استدلالية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197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تقريبا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:30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اع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F7CD1-911E-49D6-8BF9-15991E2243CD}" type="datetime1">
              <a:rPr lang="en-US"/>
              <a:t>07/31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القدرات العقلية الخاص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5248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92160" tIns="46080" bIns="46080" anchor="t">
            <a:normAutofit fontScale="90000"/>
          </a:bodyPr>
          <a:p>
            <a:pPr lvl="1" marL="82296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 وقد مر المقياس بخطوات مماثلة لتلك التي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ُتبعت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إعداد مقياسي وكسلر والتفكير الابتكاري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311AE-9C3F-4472-B942-2968D88C8BB6}" type="datetime1">
              <a:rPr lang="en-US"/>
              <a:t>07/31/26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كفاءة وفعالية المعايير المستخدمة </a:t>
            </a:r>
            <a:br>
              <a:rPr sz="4000"/>
            </a:br>
            <a:r>
              <a:rPr b="0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في التعرف على الموهوبي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lvl="1" marL="76788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إنطلاقا من التعريف المستخدم في البرنامج الوطني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،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ذي صنف الموهوبين الى فئات اربع، فإنه ينبغي تقدير مدى دقة هذه الوسائط ومدى اسهامها في الكشف عن الموهوبين. ومن اجل ذلك فقد تم التحري عن </a:t>
            </a:r>
            <a:r>
              <a:rPr b="0" lang="ar-SA" sz="3600" spc="-1" strike="noStrike">
                <a:solidFill>
                  <a:srgbClr val="ff66ff"/>
                </a:solidFill>
                <a:latin typeface="Times New Roman"/>
                <a:cs typeface="AL-Mateen"/>
              </a:rPr>
              <a:t>فعالية وكفاء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كل طريقة من طرق ال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ف عن الموهوبين. ويوضح الجدول التالي فعالية وكفاءة كل طريقة من ال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ط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ر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F54FE-6947-45B2-8508-D5AE704ABABE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54080" y="254160"/>
            <a:ext cx="829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جدول رقم 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فعالية وكفاءة طرق الكشف عن الاذكياء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24000"/>
            <a:ext cx="9144000" cy="56386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1905120"/>
            <a:ext cx="0" cy="49528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905120"/>
            <a:ext cx="0" cy="4957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1219320"/>
            <a:ext cx="0" cy="56433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38280"/>
            <a:ext cx="7086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38098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309680"/>
            <a:ext cx="88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المتغيرات                     نسبة ذكاء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(العدد=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05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عدد المرشحين              الفاعلية                  الكفاء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حصيل العام   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98/3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89548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علوم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07/3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32907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رياضيات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59/2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388620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قدرات الخاصة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11/3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76320" y="429732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فكير الابتكاري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70/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28920" y="487692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76320" y="495288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مدرس واحد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92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791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ثلاثة مدرسين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33/2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 rot="10800000">
                <a:off x="4114800" y="1218960"/>
                <a:ext cx="8380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3CD20-0EA3-4673-AD25-85AAB49B3AB9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152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تحصيل العا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8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6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79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B79AD-567F-45C3-8886-C6DE3B79ACEE}" type="datetime1">
              <a:rPr lang="en-US"/>
              <a:t>07/31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2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تحصيل العلوم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7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70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C6F82-AB12-4909-BCD9-66228F7B7CE8}" type="datetime1">
              <a:rPr lang="en-US"/>
              <a:t>07/31/26</a:t>
            </a:fld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تحصيل الرياضيات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0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55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F15A2-1D62-44B0-9539-DB7AD33F9047}" type="datetime1">
              <a:rPr lang="en-US"/>
              <a:t>07/31/26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4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ذكاء الجمعي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8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41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2E6AC-5DA0-4467-8B34-F94AD4793FC2}" type="datetime1">
              <a:rPr lang="en-US"/>
              <a:t>07/31/26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5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5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تفكير الابتكاري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30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5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1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EB271-37B0-447C-8C40-7E6BECFAD176}" type="datetime1">
              <a:rPr lang="en-US"/>
              <a:t>07/31/26</a:t>
            </a:fld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6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مدرس واحد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2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8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49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6C381-8E8D-4043-BAC1-1D04EAE9FD45}" type="datetime1">
              <a:rPr lang="en-US"/>
              <a:t>07/31/26</a:t>
            </a:fld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50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عايير التعرف على الموهوبي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بناءا على إستقراء أدبيات المجال، فقد تبنى الباحثو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معايير التالية نظرا لشموليتها ورغبة في دراسة مدى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جدوتها، ليتم اختيار المناسب منها وهي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فوق فى التحصيل الدراسي( 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95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% فأكثر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قديرات المعلمين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اختبارات الموضوعية للدكاء و الابدا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A6491-BE6A-4B46-A985-65DB00D747C9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7920" y="12708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7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ثلاثة معلمين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5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33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38DD5-AB25-4B24-8FED-B90DA8D91943}" type="datetime1">
              <a:rPr lang="en-US"/>
              <a:t>07/31/26</a:t>
            </a:fld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7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50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500"/>
                            </p:stCondLst>
                            <p:childTnLst>
                              <p:par>
                                <p:cTn id="7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0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650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95280" y="2430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جدول رقم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: نسبة التصنيف الصحيح(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Hit ratio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 الناتج عن معادلة التحليل التمايزي(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Discriminant analysis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 لطرق الكشف المختلف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797120"/>
            <a:ext cx="9134640" cy="440676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1797120"/>
            <a:ext cx="0" cy="44067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2438280"/>
            <a:ext cx="0" cy="3765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2438280"/>
            <a:ext cx="0" cy="3765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24382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00400"/>
            <a:ext cx="91346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797120"/>
            <a:ext cx="88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Indicator                    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Cut-off scor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66880" y="2697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0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5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35496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Group IQ and             66%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65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68%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Torr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876920"/>
            <a:ext cx="91346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25780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All indicators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67%                      70%              75%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DF157-D9B0-4E09-8A9C-2A724248E855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295280" y="-38160"/>
            <a:ext cx="783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جدو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فاعلية وكفاءة طرق الكشف عن الموهوبين في الذكاء والتفكير الابتكار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24000"/>
            <a:ext cx="9144000" cy="56386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1905120"/>
            <a:ext cx="0" cy="49528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1905120"/>
            <a:ext cx="0" cy="4957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219320"/>
            <a:ext cx="0" cy="56433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38280"/>
            <a:ext cx="7086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0384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304920" y="1309680"/>
            <a:ext cx="943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المتغيرات          درجة ذكاء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وتفكير إبتكاري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(العدد=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905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عدد المرشحين              الفاعلية                  الكفاء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حصيل العام   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8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98620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علوم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0/1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34732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رياضيات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7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320" y="42051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قدرات الخاصة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2/1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-76320" y="527220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مدرس واحد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5/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28920" y="487692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76320" y="603396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ثلاثة مدرسين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0/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 rot="10800000">
                <a:off x="5181480" y="1218960"/>
                <a:ext cx="838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 rot="10800000">
                <a:off x="2428920" y="1224000"/>
                <a:ext cx="83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FA27E-39CB-43FD-B779-9687D1911126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ظهرت نتائج الدراسة ماي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380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خلاص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695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تمتع مقياسا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قدرات الخاصة وتورانس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تفكير الابتكار بقدر جيد من الفعالية والكفاءة في تصنيف الطلبة الموهوبين في الذكاء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320" y="3930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افة تقديرات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ثلاثة مدرسين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يزيد نسبة التصنيف الصحيح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4524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عتبر تحصيل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علو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من المتغيرات الجيدة للتعرف على المواهب الابتكارية لدى الاطفال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71B3A-CD61-4825-B07F-90CA7E217B15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ظهرت نتائج الدراسة ماي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380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خلاص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4224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عتبر تحصيل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رياضيات ومقياس القدرات الخاص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من المتغيرات الجيدة للتعرف على الاطفال الموهوبين في الذكاء والتفكير الابتكاري لدى الاطفال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414324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دراج كل المتغيرات ضمن معادلة التحليل التمايزي- ماعدا تقدير مدرس واحد- يزيد نسبة التصنيف الصحيح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FE78F-672F-43DD-92E0-566FB4FA5488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ي ضوء نتائج الدراسة فقد تم التوصل الى الاستنتاج التا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80880"/>
            <a:ext cx="90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حكات المستخدمة للكشف عن الموهوبي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441600"/>
            <a:ext cx="786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يمكن استخدام متغيرات التحصيل الدراسي وتقدير ثلاثة معلمين، والمقاييس الموضوعية في التعرف على الاطفال الموهوبين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ولكن بأوزان مختلف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BDC44-C6F6-48FA-8AA3-DD691B84BFC7}" type="datetime1">
              <a:rPr lang="en-US"/>
              <a:t>07/31/26</a:t>
            </a:fld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ي ضوء نتائج الدراسة فقد تم التوصل الى الاستنتاج التا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320" y="380880"/>
            <a:ext cx="90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حكات المستخدمة للكشف عن الموهوبي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7520" y="3124080"/>
            <a:ext cx="85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ستخدام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جميع  هذه المتغيرات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تعرف على الاطفال الموهوبين في الذكاء والتفكير الابتكاري، نظرا لكون إدراجها جميعا في المعادلة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يقلل من الاخطاء الموجبة والسالبة في التصنيف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6739A-E218-4A33-A10E-9AB0C4E9FD76}" type="datetime1">
              <a:rPr lang="en-US"/>
              <a:t>07/31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واقعية للكشف والتعرف على الموهوبين تحتم وجود خطة واضح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380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مستقبلية لبرنامج طرق الكش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تعرف على  الموهوبين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2760" y="31240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ضرورة الاعتماد على مقاييس محلية تتمتع بالدق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320" y="388620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اهتمام بتأهيل أخصائيين قادرين على استخدام معايير الكشف والتعرف بصورة مهن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5029200"/>
            <a:ext cx="8991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الاهتمام بسرية وسائل الكشف والتعرف على الموهوبين وإستحداث خطة واضحة لذلك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F5696-9115-4CDE-8916-DAD758735C14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0880" y="380880"/>
            <a:ext cx="906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مستقبلية لبرنامج طرق الكش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تعرف على  الموهوبين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7080" y="2362320"/>
            <a:ext cx="8991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افة معايير جديدة للاستخدام في الكشف والتعرف يحتم دراسة قدرتها على اداء وظيفتها بصورة مقبولة، وهذا يحتم ضرورة دراسة فعاليتها وكفاءته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480" y="4038480"/>
            <a:ext cx="8991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طلاع مؤسسة الملك عبدالعزيز ورجاله بدور أكثر فعالية في رسم خطة التعرف على الموهوبين، و تأمين معايير الكشف اللازم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7C12B-4018-43E0-8A8D-D8FE267399FC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905120" y="31240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را على حسن  إستماعكم والله الهادي إلى سواء السبيل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1B95B-1DF5-42F3-BD21-6E106E57CFDC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عايير التعرف على الموهوبين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75200" indent="0" algn="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	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كانت الخطوة التالية هي إعداد المقاييس الموضوعية، ثم فحص جودة الطرق المستحدمة في التعرف على الموهوبين، فكان ذلك وفق الدراسات  التالية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إعداد المقاييس الموضوعية، والتأكد من جودته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دراسة فعالية وكفاءة الطرق المختلفة في التعرف على الموهوبين والكشف عنه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وصية بافضل الطرق التي يمكن أن تستخدم في الكشف عن الموهوبين في المملكة العربية السعود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DFFD2-975B-4A72-BAD7-69AA03B4856C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1337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حسب المتعا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ر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 علية عالميا، فإن الاختبارات المـوضوعـية الـدقيقـة -اختبـــارات الذكـــاء والإبــــداع والقدرات الخاصة- هي البديل الفعال لقياس الموهبة واكتشافها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78BB5-95DF-47B1-8702-7C7710712068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نظرا لعـدم وجود مقاييس ذكاء وإبـداع مقنـنة على البيئة السعودية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،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فإن الخطوة الأو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ى هي تقنين هـذه المقاييس عـلى البيئــة المحليـة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83572-2FD9-4DCF-AC6A-CD453EAC1575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وكسلر لذكاء ال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أ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طفال ال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عدلِ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3945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هو مقياس فردي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م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ون من جزأين أحدهما لفظي والآخر أدائي.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قيس القدر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ت التالية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44680"/>
            <a:ext cx="8229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2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قدرة اللغو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93048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الادائ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1628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4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على التركيز والانتبا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6320" y="2610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العقلية العامة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973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من 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1:45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-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2:00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اع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1E499-0B39-43B3-A970-3E9570F18964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وكسلر لذكاء ال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أ</a:t>
            </a: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طفال ال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</a:t>
            </a: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عدلِ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63836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3733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قد مر إعداد هذا المقياس وتعريـبه بعدة مراحل ه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438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25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رجمة المقياس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52280" y="3048120"/>
            <a:ext cx="8915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جريب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581280"/>
            <a:ext cx="8915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حري </a:t>
            </a: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ثبات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ه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  <a:ea typeface="AL-Mohanad"/>
              </a:rPr>
              <a:t> 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و صدقه بعدة طر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4114800"/>
            <a:ext cx="86108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إستخراج المعايير: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حـيث تـم تطـبيق المقياس على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348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طفلا وطفلة من الفئات العمرية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6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-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6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نة، وحـددت خصـائصهم، وأستخرجـت المعـايير للفـئات العمرية المختـلفة. وقد تراوحـت درجـات الذكاء بين 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28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73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BEE31-064E-4F6A-8C31-C15AFA673AAA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تورانس للتفكير الابتكار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هو مقياس جمعي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ون من عدة اشكال.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قيس القدر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ت التالية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514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طلاق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24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رونة في التفكي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09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اصال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دراك التفاصي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97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حوالي 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45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دقيق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9A3E1-7719-4BC7-BBDB-A6EEC19B48E2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تورانس للتفكير الابتكاري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lvl="1" marL="842040" indent="0" algn="r" rtl="1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وقد مر المقياس بخطوات مماثلة لتلك التي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ُتبعت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إعداد مقياس وكسلر. حيث تم التأكد من 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ثبات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ه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 و صدقة،واستخرجت معاييره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842040" indent="0" algn="r" rtl="1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03806-EE71-4D3E-AD20-9A2BEDAFAE4D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z</cp:lastModifiedBy>
  <dcterms:modified xsi:type="dcterms:W3CDTF">2004-12-11T07:51:19Z</dcterms:modified>
  <cp:revision>31</cp:revision>
  <dc:subject/>
  <dc:title>Gifted Identification and Caring Project </dc:title>
</cp:coreProperties>
</file>