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210-354E-4EC1-89E1-83D462EC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B80-527D-4B05-ADBD-48857778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2FE-0AB5-4663-883B-12A6C21C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1BF-E61A-462E-92A4-0D761520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D34B-61B8-4549-92E6-B780153F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ECC6-7168-47FB-8CC4-1C8CB7AF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046C-152E-44A2-B603-76DFB220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100A-82DD-4378-85C5-35748564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4C23-CF8D-4630-91E8-5E147693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59A1-9D88-4E08-8C1C-9BCE1FC2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0348-DC56-465C-9962-276AA077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D6B-8BFA-45E6-A162-93DD4D7B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7243-6DC9-4AAE-80D5-97C425FC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DBBE-AB01-4AFA-8654-BDF6E56E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252A-EB2E-4263-A058-CED49320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558C-6AFF-46CF-B814-154D7474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589C-5539-4A90-9AB9-1B168DCE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377-6436-4F64-B664-6D4B4D65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B3C-3113-4298-9B76-EBB0AACE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3B4-7537-4D71-9ABF-6B606120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F57-8E34-4E2B-AA27-C7F2B447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528-900C-429D-8254-B32FFB5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855-5E45-49CA-A4E8-84D60EBF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2EB-827A-4BAD-AD5C-93F82647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71440" y="785880"/>
            <a:ext cx="506520" cy="506520"/>
          </a:xfrm>
          <a:custGeom>
            <a:avLst/>
            <a:gdLst/>
            <a:ahLst/>
            <a:rect l="l" t="t" r="r" b="b"/>
            <a:pathLst>
              <a:path w="319" h="319">
                <a:moveTo>
                  <a:pt x="318" y="198"/>
                </a:moveTo>
                <a:lnTo>
                  <a:pt x="318" y="318"/>
                </a:lnTo>
                <a:lnTo>
                  <a:pt x="1" y="99"/>
                </a:lnTo>
                <a:lnTo>
                  <a:pt x="0" y="108"/>
                </a:lnTo>
                <a:lnTo>
                  <a:pt x="46" y="0"/>
                </a:lnTo>
                <a:lnTo>
                  <a:pt x="318" y="198"/>
                </a:lnTo>
              </a:path>
            </a:pathLst>
          </a:custGeom>
          <a:gradFill rotWithShape="0">
            <a:gsLst>
              <a:gs pos="0">
                <a:srgbClr val="00763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785880"/>
            <a:ext cx="506520" cy="506520"/>
          </a:xfrm>
          <a:custGeom>
            <a:avLst/>
            <a:gdLst/>
            <a:ahLst/>
            <a:rect l="l" t="t" r="r" b="b"/>
            <a:pathLst>
              <a:path w="319" h="319">
                <a:moveTo>
                  <a:pt x="0" y="198"/>
                </a:moveTo>
                <a:lnTo>
                  <a:pt x="0" y="318"/>
                </a:lnTo>
                <a:lnTo>
                  <a:pt x="316" y="99"/>
                </a:lnTo>
                <a:lnTo>
                  <a:pt x="318" y="108"/>
                </a:lnTo>
                <a:lnTo>
                  <a:pt x="271" y="0"/>
                </a:lnTo>
                <a:lnTo>
                  <a:pt x="0" y="198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76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D9D4-059E-4F75-A21A-57E31D860E6C}" type="datetime">
              <a:rPr b="0" lang="ar-SA" sz="1400" spc="-1" strike="noStrike">
                <a:solidFill>
                  <a:srgbClr val="eaeaea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B8D2-1065-4BD7-AA52-644DADE1FC99}" type="slidenum">
              <a: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231920" cy="12812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52280" y="1117440"/>
            <a:ext cx="1522440" cy="17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71bb96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0D23-362E-4794-A7B5-737C45A6D947}" type="datetime">
              <a:rPr b="0" lang="ar-SA" sz="1400" spc="-1" strike="noStrike">
                <a:solidFill>
                  <a:srgbClr val="eaeaea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BE07-5429-4374-8B5B-01B2F5FACF9B}" type="slidenum">
              <a: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1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819520" y="0"/>
              <a:ext cx="334476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L-Mateen"/>
              </a:rPr>
              <a:t>برنامج الكشف والتعرف على الموهويبن في المملكة العربية السعودي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واقع والمأمو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C303230-B18A-4335-85DA-009902AE7CB0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7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القدرات العقلية الخاص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وهو مقياس جمعي يركز على قياس القدرات العقلية الخاصة التالية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51460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قدرة اللغو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24080"/>
            <a:ext cx="853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عدد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809880"/>
            <a:ext cx="853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مكان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95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251"/>
              </a:spcBef>
              <a:buClr>
                <a:srgbClr val="eaeae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استدلالية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197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تقريبا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:30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اع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D8EA2-7D28-48E9-8EE9-218349AAF2E5}" type="datetime1">
              <a:rPr lang="en-US"/>
              <a:t>07/29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القدرات العقلية الخاص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95248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92160" tIns="46080" bIns="46080" anchor="t">
            <a:normAutofit fontScale="90000"/>
          </a:bodyPr>
          <a:p>
            <a:pPr lvl="1" marL="82296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 وقد مر المقياس بخطوات مماثلة لتلك التي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ُتبعت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إعداد مقياسي وكسلر والتفكير الابتكاري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89E9F-F9A4-489D-9136-2BC424DD31CD}" type="datetime1">
              <a:rPr lang="en-US"/>
              <a:t>07/29/26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كفاءة وفعالية المعايير المستخدمة </a:t>
            </a:r>
            <a:br>
              <a:rPr sz="4000"/>
            </a:br>
            <a:r>
              <a:rPr b="0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في التعرف على الموهوبي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lvl="1" marL="76788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إنطلاقا من التعريف المستخدم في البرنامج الوطني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،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ذي صنف الموهوبين الى فئات اربع، فإنه ينبغي تقدير مدى دقة هذه الوسائط ومدى اسهامها في الكشف عن الموهوبين. ومن اجل ذلك فقد تم التحري عن </a:t>
            </a:r>
            <a:r>
              <a:rPr b="0" lang="ar-SA" sz="3600" spc="-1" strike="noStrike">
                <a:solidFill>
                  <a:srgbClr val="ff66ff"/>
                </a:solidFill>
                <a:latin typeface="Times New Roman"/>
                <a:cs typeface="AL-Mateen"/>
              </a:rPr>
              <a:t>فعالية وكفاء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كل طريقة من طرق ال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ف عن الموهوبين. ويوضح الجدول التالي فعالية وكفاءة كل طريقة من ال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ط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رق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C33B6-46A4-430B-B5C7-AF564B42E017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54080" y="254160"/>
            <a:ext cx="829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جدول رقم 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فعالية وكفاءة طرق الكشف عن الاذكياء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24000"/>
            <a:ext cx="9144000" cy="563868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1905120"/>
            <a:ext cx="0" cy="49528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905120"/>
            <a:ext cx="0" cy="4957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1219320"/>
            <a:ext cx="0" cy="56433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438280"/>
            <a:ext cx="7086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38098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309680"/>
            <a:ext cx="88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المتغيرات                     نسبة ذكاء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(العدد=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905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عدد المرشحين              الفاعلية                  الكفاء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حصيل العام   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98/3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89548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علوم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07/3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32907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رياضيات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59/2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388620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قدرات الخاصة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11/3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76320" y="429732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فكير الابتكاري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70/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28920" y="487692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76320" y="495288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مدرس واحد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92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791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ثلاثة مدرسين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33/2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 rot="10800000">
                <a:off x="4114800" y="1218960"/>
                <a:ext cx="8380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A9E95-F63D-4590-84D5-3C3DC1A294CC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152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تحصيل العا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8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6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79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79A39-256A-43FF-8456-89DA1C0FA481}" type="datetime1">
              <a:rPr lang="en-US"/>
              <a:t>07/29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2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تحصيل العلوم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7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70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01C18-77EC-42C9-9656-CB1D23C2BFCE}" type="datetime1">
              <a:rPr lang="en-US"/>
              <a:t>07/29/26</a:t>
            </a:fld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تحصيل الرياضيات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0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55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2C07E-3AA5-4000-972A-A9EB9DD8B2D4}" type="datetime1">
              <a:rPr lang="en-US"/>
              <a:t>07/29/26</a:t>
            </a:fld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5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4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ذكاء الجمعي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8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41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4D086-5763-4519-B9F8-E852805BB336}" type="datetime1">
              <a:rPr lang="en-US"/>
              <a:t>07/29/26</a:t>
            </a:fld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5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5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تفكير الابتكاري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30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5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1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1BB7B-3D0B-45F5-BBA6-4F1FCD49A66E}" type="datetime1">
              <a:rPr lang="en-US"/>
              <a:t>07/29/26</a:t>
            </a:fld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6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مدرس واحد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2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8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49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E62F7-EF49-466F-A5D2-CFB63E32A5C8}" type="datetime1">
              <a:rPr lang="en-US"/>
              <a:t>07/29/26</a:t>
            </a:fld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500"/>
                            </p:stCondLst>
                            <p:childTnLst>
                              <p:par>
                                <p:cTn id="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عايير التعرف على الموهوبي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بناءا على إستقراء أدبيات المجال، فقد تبنى الباحثو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معايير التالية نظرا لشموليتها ورغبة في دراسة مدى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جدوتها، ليتم اختيار المناسب منها وهي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فوق فى التحصيل الدراسي( 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95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% فأكثر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قديرات المعلمين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اختبارات الموضوعية للدكاء و الابدا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9F432-3AC8-4846-8835-FF8130380810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47920" y="12708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7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ثلاثة معلمين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5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33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3B024-AEF3-4505-B0C0-B35C5352AE52}" type="datetime1">
              <a:rPr lang="en-US"/>
              <a:t>07/29/26</a:t>
            </a:fld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50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000"/>
                            </p:stCondLst>
                            <p:childTnLst>
                              <p:par>
                                <p:cTn id="7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500"/>
                            </p:stCondLst>
                            <p:childTnLst>
                              <p:par>
                                <p:cTn id="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500"/>
                            </p:stCondLst>
                            <p:childTnLst>
                              <p:par>
                                <p:cTn id="7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0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6500"/>
                            </p:stCondLst>
                            <p:childTnLst>
                              <p:par>
                                <p:cTn id="7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95280" y="2430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جدول رقم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: نسبة التصنيف الصحيح(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Hit ratio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 الناتج عن معادلة التحليل التمايزي(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Discriminant analysis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 لطرق الكشف المختلف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797120"/>
            <a:ext cx="9134640" cy="440676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1797120"/>
            <a:ext cx="0" cy="44067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2438280"/>
            <a:ext cx="0" cy="3765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86600" y="2438280"/>
            <a:ext cx="0" cy="3765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24382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00400"/>
            <a:ext cx="91346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797120"/>
            <a:ext cx="88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Indicator                     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Cut-off scor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66880" y="2697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0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5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35496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Group IQ and             66%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65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68%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Torr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876920"/>
            <a:ext cx="91346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25780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All indicators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67%                      70%              75%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3DE3D-8227-4F35-8480-D88C00979CBC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295280" y="-38160"/>
            <a:ext cx="783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جدو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فاعلية وكفاءة طرق الكشف عن الموهوبين في الذكاء والتفكير الابتكاري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24000"/>
            <a:ext cx="9144000" cy="563868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1905120"/>
            <a:ext cx="0" cy="49528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1905120"/>
            <a:ext cx="0" cy="4957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1219320"/>
            <a:ext cx="0" cy="56433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438280"/>
            <a:ext cx="7086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40384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304920" y="1309680"/>
            <a:ext cx="943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المتغيرات          درجة ذكاء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وتفكير إبتكاري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(العدد=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905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عدد المرشحين              الفاعلية                  الكفاء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حصيل العام   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8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298620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علوم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0/1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34732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رياضيات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7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320" y="42051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قدرات الخاصة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2/1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-76320" y="527220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مدرس واحد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5/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28920" y="487692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76320" y="603396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ثلاثة مدرسين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0/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 rot="10800000">
                <a:off x="5181480" y="1218960"/>
                <a:ext cx="8384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 rot="10800000">
                <a:off x="2428920" y="1224000"/>
                <a:ext cx="838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C329B-5378-4824-950C-95DB8F48C47A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ظهرت نتائج الدراسة ماي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3808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خلاص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695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تمتع مقياسا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قدرات الخاصة وتورانس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تفكير الابتكار بقدر جيد من الفعالية والكفاءة في تصنيف الطلبة الموهوبين في الذكاء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320" y="3930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افة تقديرات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ثلاثة مدرسين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يزيد نسبة التصنيف الصحيح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4524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عتبر تحصيل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علو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من المتغيرات الجيدة للتعرف على المواهب الابتكارية لدى الاطفال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25C38-FB02-4EE0-A2FC-850DEE1886BF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ظهرت نتائج الدراسة ماي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320" y="3808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خلاص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4224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عتبر تحصيل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رياضيات ومقياس القدرات الخاص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من المتغيرات الجيدة للتعرف على الاطفال الموهوبين في الذكاء والتفكير الابتكاري لدى الاطفال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4143240"/>
            <a:ext cx="90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دراج كل المتغيرات ضمن معادلة التحليل التمايزي- ماعدا تقدير مدرس واحد- يزيد نسبة التصنيف الصحيح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9ACF7-C124-46E4-9CDE-CDAF4EE391F9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ي ضوء نتائج الدراسة فقد تم التوصل الى الاستنتاج التا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80880"/>
            <a:ext cx="90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حكات المستخدمة للكشف عن الموهوبين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441600"/>
            <a:ext cx="786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يمكن استخدام متغيرات التحصيل الدراسي وتقدير ثلاثة معلمين، والمقاييس الموضوعية في التعرف على الاطفال الموهوبين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ولكن بأوزان مختلف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9C19B-251B-4949-8314-DFFE27234AAA}" type="datetime1">
              <a:rPr lang="en-US"/>
              <a:t>07/29/26</a:t>
            </a:fld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ي ضوء نتائج الدراسة فقد تم التوصل الى الاستنتاج التا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320" y="380880"/>
            <a:ext cx="90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حكات المستخدمة للكشف عن الموهوبين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7520" y="3124080"/>
            <a:ext cx="85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ستخدام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جميع  هذه المتغيرات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تعرف على الاطفال الموهوبين في الذكاء والتفكير الابتكاري، نظرا لكون إدراجها جميعا في المعادلة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يقلل من الاخطاء الموجبة والسالبة في التصنيف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4B281-7E26-4B5E-BEFB-D8894D6DB7B4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واقعية للكشف والتعرف على الموهوبين تحتم وجود خطة واضح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3808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مستقبلية لبرنامج طرق الكش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تعرف على  الموهوبين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2760" y="31240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ضرورة الاعتماد على مقاييس محلية تتمتع بالدق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320" y="388620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اهتمام بتأهيل أخصائيين قادرين على استخدام معايير الكشف والتعرف بصورة مهن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5029200"/>
            <a:ext cx="8991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 marL="233280" indent="-23328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الاهتمام بسرية وسائل الكشف والتعرف على الموهوبين وإستحداث خطة واضحة لذلك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6271B-D8C0-4B93-9285-F2D5BEAC1A22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0880" y="380880"/>
            <a:ext cx="906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مستقبلية لبرنامج طرق الكش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تعرف على  الموهوبين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7080" y="2362320"/>
            <a:ext cx="8991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افة معايير جديدة للاستخدام في الكشف والتعرف يحتم دراسة قدرتها على اداء وظيفتها بصورة مقبولة، وهذا يحتم ضرورة دراسة فعاليتها وكفاءته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480" y="4038480"/>
            <a:ext cx="8991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طلاع مؤسسة الملك عبدالعزيز ورجاله بدور أكثر فعالية في رسم خطة التعرف على الموهوبين، و تأمين معايير الكشف اللازم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2E94F-BCA3-4B35-BB3E-B14D37A6E9EF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905120" y="31240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را على حسن  إستماعكم والله الهادي إلى سواء السبيل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45C78-B175-4216-B7F1-7774F035FD1F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عايير التعرف على الموهوبين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75200" indent="0" algn="r" rtl="1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	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كانت الخطوة التالية هي إعداد المقاييس الموضوعية، ثم فحص جودة الطرق المستحدمة في التعرف على الموهوبين، فكان ذلك وفق الدراسات  التالية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إعداد المقاييس الموضوعية، والتأكد من جودته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دراسة فعالية وكفاءة الطرق المختلفة في التعرف على الموهوبين والكشف عنه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وصية بافضل الطرق التي يمكن أن تستخدم في الكشف عن الموهوبين في المملكة العربية السعود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DEC81-EE08-4F8A-82C5-260869A944F1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1337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حسب المتعا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ر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 علية عالميا، فإن الاختبارات المـوضوعـية الـدقيقـة -اختبـــارات الذكـــاء والإبــــداع والقدرات الخاصة- هي البديل الفعال لقياس الموهبة واكتشافها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FE22E-01D2-49DD-A470-3EDA526EAD96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1337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نظرا لعـدم وجود مقاييس ذكاء وإبـداع مقنـنة على البيئة السعودية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،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فإن الخطوة الأو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ى هي تقنين هـذه المقاييس عـلى البيئــة المحليـة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53EF2-B41F-40FF-A7D4-A0B5830C8468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وكسلر لذكاء ال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أ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طفال ال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عدلِ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3945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هو مقياس فردي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م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ون من جزأين أحدهما لفظي والآخر أدائي.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قيس القدر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ت التالية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244680"/>
            <a:ext cx="8229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2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قدرة اللغوي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930480"/>
            <a:ext cx="853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الادائي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16280"/>
            <a:ext cx="853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4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على التركيز والانتبا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76320" y="2610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العقلية العامة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1973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من 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1:45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-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2:00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اع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A31F3-0AFC-4C85-AE48-987F0F880D06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وكسلر لذكاء ال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أ</a:t>
            </a: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طفال ال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</a:t>
            </a: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عدلِ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638360"/>
            <a:ext cx="8915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3733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قد مر إعداد هذا المقياس وتعريـبه بعدة مراحل ه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438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25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رجمة المقياس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52280" y="3048120"/>
            <a:ext cx="8915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جريب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581280"/>
            <a:ext cx="8915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حري </a:t>
            </a: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ثبات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ه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  <a:ea typeface="AL-Mohanad"/>
              </a:rPr>
              <a:t> 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و صدقه بعدة طر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4114800"/>
            <a:ext cx="86108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إستخراج المعايير: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حـيث تـم تطـبيق المقياس على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348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طفلا وطفلة من الفئات العمرية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6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-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6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نة، وحـددت خصـائصهم، وأستخرجـت المعـايير للفـئات العمرية المختـلفة. وقد تراوحـت درجـات الذكاء بين 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28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73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8FF84-CD52-443E-8C83-6174CFDFDC08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تورانس للتفكير الابتكار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هو مقياس جمعي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ون من عدة اشكال.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قيس القدر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ت التالية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514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طلاق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24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رونة في التفكي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809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اصال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95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دراك التفاصي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97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حوالي 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45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دقيق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CE64D-5DDC-410B-AF19-39930713A6B2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تورانس للتفكير الابتكاري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lvl="1" marL="842040" indent="0" algn="r" rtl="1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وقد مر المقياس بخطوات مماثلة لتلك التي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ُتبعت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إعداد مقياس وكسلر. حيث تم التأكد من 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ثبات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ه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 و صدقة،واستخرجت معاييره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842040" indent="0" algn="r" rtl="1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A9807-5381-4E4C-B350-AC6E19A7B715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z</cp:lastModifiedBy>
  <dcterms:modified xsi:type="dcterms:W3CDTF">2004-12-11T07:51:19Z</dcterms:modified>
  <cp:revision>31</cp:revision>
  <dc:subject/>
  <dc:title>Gifted Identification and Caring Project </dc:title>
</cp:coreProperties>
</file>