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41D-EC44-4C33-8976-7B315E46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D1A-3D51-49FB-BF3A-81E64577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B11-1043-4791-85B1-A63530BF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111-9758-479E-AD8A-5450FE9C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4F3-8DBA-4DBB-9ED8-CC50D56D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5C78-26C8-47ED-B519-80326A6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9D16-8C4F-4989-B183-A1B575D4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A8E4-3420-40F5-AA18-7EBAA5CA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1289-4873-4697-A8F5-10847B31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CD08-366B-4ED2-85F1-94C7BD1E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87E5-187E-408B-960C-2C78C166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D1B7-BF82-495B-A851-C7CF7C00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A3C-9DAD-4C8A-96C9-27D37BC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82AB-BF2E-42EC-A325-ED2E484A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2CF4-DAA4-4882-BA76-F22EDF33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A4E2-636D-4B5D-8C4F-942A2AA2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CCD-AE57-4F2A-A6BB-C5D72061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FDC1-3C37-4762-B5C8-75BB591C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B55-B011-464D-A736-84D67A3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BB0-CB5C-4AC6-92DD-52E4DF5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954E-09CD-4A00-8B50-9620B0F07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AAB-9976-415B-A76E-835B54C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B68-A78E-417B-A8D6-65C10651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B4E-81D0-461D-BD79-B67F9AA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7144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318" y="198"/>
                </a:moveTo>
                <a:lnTo>
                  <a:pt x="318" y="318"/>
                </a:lnTo>
                <a:lnTo>
                  <a:pt x="1" y="99"/>
                </a:lnTo>
                <a:lnTo>
                  <a:pt x="0" y="108"/>
                </a:lnTo>
                <a:lnTo>
                  <a:pt x="46" y="0"/>
                </a:lnTo>
                <a:lnTo>
                  <a:pt x="318" y="198"/>
                </a:lnTo>
              </a:path>
            </a:pathLst>
          </a:custGeom>
          <a:gradFill rotWithShape="0">
            <a:gsLst>
              <a:gs pos="0">
                <a:srgbClr val="00763b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785880"/>
            <a:ext cx="506520" cy="506520"/>
          </a:xfrm>
          <a:custGeom>
            <a:avLst/>
            <a:gdLst/>
            <a:ahLst/>
            <a:rect l="l" t="t" r="r" b="b"/>
            <a:pathLst>
              <a:path w="319" h="319">
                <a:moveTo>
                  <a:pt x="0" y="198"/>
                </a:moveTo>
                <a:lnTo>
                  <a:pt x="0" y="318"/>
                </a:lnTo>
                <a:lnTo>
                  <a:pt x="316" y="99"/>
                </a:lnTo>
                <a:lnTo>
                  <a:pt x="318" y="108"/>
                </a:lnTo>
                <a:lnTo>
                  <a:pt x="271" y="0"/>
                </a:lnTo>
                <a:lnTo>
                  <a:pt x="0" y="198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763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5873-B326-4FC4-AA6C-4B762133F81C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7FC5-1107-4555-B137-AE987C8B7406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231920" cy="12812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52280" y="1117440"/>
            <a:ext cx="1522440" cy="1731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71bb96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56D6-EB85-4CC5-BB78-C2D90E45748C}" type="datetime">
              <a:rPr b="0" lang="ar-SA" sz="1400" spc="-1" strike="noStrike">
                <a:solidFill>
                  <a:srgbClr val="eaeaea"/>
                </a:solidFill>
                <a:latin typeface="Times New Roman"/>
              </a:rPr>
              <a:t>١٤٤٨/٠٢/١٤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77CE-140E-49C5-95B8-FF38C397D480}" type="slidenum">
              <a:rPr b="0" lang="ar-SA" sz="1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133720" y="0"/>
            <a:ext cx="4878360" cy="6856560"/>
            <a:chOff x="2133720" y="0"/>
            <a:chExt cx="4878360" cy="6856560"/>
          </a:xfrm>
        </p:grpSpPr>
        <p:sp>
          <p:nvSpPr>
            <p:cNvPr id="51" name=""/>
            <p:cNvSpPr/>
            <p:nvPr/>
          </p:nvSpPr>
          <p:spPr>
            <a:xfrm>
              <a:off x="2895480" y="0"/>
              <a:ext cx="335304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763b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2819520" y="0"/>
              <a:ext cx="3344760" cy="34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AL-Mateen"/>
              </a:rPr>
              <a:t>برنامج الكشف والتعرف على الموهويبن في المملكة العربية السعودي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54100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واقع والمأمو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F057D92-2A17-4D61-A061-3C85DC41EC7C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7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3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91440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هو مقياس جمعي يركز على قياس القدرات العقلية الخاصة التالية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514600"/>
            <a:ext cx="8229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1240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عدد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809880"/>
            <a:ext cx="8534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مكاني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eaeaea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قدرة الاستدلالية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تقريبا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30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F17C7-9562-4A2F-9F06-20D9400EAAF4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القدرات العقلية الخاص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95248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92160" tIns="46080" bIns="46080" anchor="t">
            <a:normAutofit fontScale="90000"/>
          </a:bodyPr>
          <a:p>
            <a:pPr lvl="1" marL="82296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 وقد مر المقياس بخطوات مماثلة لتلك الت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ي وكسلر والتفكير الابتكاري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366E1-B1F6-474E-9A70-54F42AC327CF}" type="datetime1">
              <a:rPr lang="en-US"/>
              <a:t>07/28/26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كفاءة وفعالية المعايير المستخدمة </a:t>
            </a:r>
            <a:br>
              <a:rPr sz="4000"/>
            </a:br>
            <a:r>
              <a:rPr b="0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في التعرف على الموهوبي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88390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lvl="1" marL="767880" indent="0" algn="r" rtl="1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إنطلاقا من التعريف المستخدم في البرنامج الوطني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ذي صنف الموهوبين الى فئات اربع، فإنه ينبغي تقدير مدى دقة هذه الوسائط ومدى اسهامها في الكشف عن الموهوبين. ومن اجل ذلك فقد تم التحري عن </a:t>
            </a:r>
            <a:r>
              <a:rPr b="0" lang="ar-SA" sz="3600" spc="-1" strike="noStrike">
                <a:solidFill>
                  <a:srgbClr val="ff66ff"/>
                </a:solidFill>
                <a:latin typeface="Times New Roman"/>
                <a:cs typeface="AL-Mateen"/>
              </a:rPr>
              <a:t>فعالية وكفاء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كل طريقة من طرق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ف عن الموهوبين. ويوضح الجدول التالي فعالية وكفاءة كل طريقة من ال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ط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ق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8E20D-0EF4-410F-BA02-520D1980A036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54080" y="254160"/>
            <a:ext cx="829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عالية وكفاءة طرق الكشف عن الاذكياء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38098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309680"/>
            <a:ext cx="88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المتغيرات                     نسب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98/3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8954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7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907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9/2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88620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11/3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76320" y="429732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فكير الابتكاري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70/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76320" y="495288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492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5791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3/2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 rot="10800000">
                <a:off x="4114800" y="1218960"/>
                <a:ext cx="83808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6E616-7745-4967-AAD8-ADE52B0ECBA4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15228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حصيل العا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8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64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98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BEF4B-9503-4E8C-B87A-CC6E0B7D4218}" type="datetime1">
              <a:rPr lang="en-US"/>
              <a:t>07/28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علوم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7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707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FD4A4-C1C2-4A50-A7E3-6222677A31CE}" type="datetime1">
              <a:rPr lang="en-US"/>
              <a:t>07/28/26</a:t>
            </a:fld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تحصيل الرياضيات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55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23706B-CFC9-440F-8988-4BCF8E31A6D8}" type="datetime1">
              <a:rPr lang="en-US"/>
              <a:t>07/28/26</a:t>
            </a:fld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ذكاء الجمع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7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8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5156FC-9004-4AD5-A8EC-946250BC8A39}" type="datetime1">
              <a:rPr lang="en-US"/>
              <a:t>07/28/26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3000"/>
                            </p:stCondLst>
                            <p:childTnLst>
                              <p:par>
                                <p:cTn id="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4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5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5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5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التفكير الابتكاري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30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5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17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90D91-7A42-4489-9460-4FEDB8BF707A}" type="datetime1">
              <a:rPr lang="en-US"/>
              <a:t>07/28/26</a:t>
            </a:fld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500"/>
                            </p:stCondLst>
                            <p:childTnLst>
                              <p:par>
                                <p:cTn id="5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3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0"/>
                            </p:stCondLst>
                            <p:childTnLst>
                              <p:par>
                                <p:cTn id="5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600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14400" y="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1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مدرس واحد</a:t>
            </a:r>
            <a:r>
              <a:rPr b="1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28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8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49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2A6EB-A87A-4CF2-882A-61A40ABE6E08}" type="datetime1">
              <a:rPr lang="en-US"/>
              <a:t>07/28/26</a:t>
            </a:fld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6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000"/>
                            </p:stCondLst>
                            <p:childTnLst>
                              <p:par>
                                <p:cTn id="6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50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40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4500"/>
                            </p:stCondLst>
                            <p:childTnLst>
                              <p:par>
                                <p:cTn id="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0"/>
                            </p:stCondLst>
                            <p:childTnLst>
                              <p:par>
                                <p:cTn id="6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500"/>
                            </p:stCondLst>
                            <p:childTnLst>
                              <p:par>
                                <p:cTn id="6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0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بناءا على إستقراء أدبيات المجال، فقد تبنى الباحثو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معايير التالية نظرا لشموليتها ورغبة في دراسة مدى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0" algn="r" rtl="1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جدوتها، ليتم اختيار المناسب منها وهي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فوق فى التحصيل الدراسي( 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95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% فأكثر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قديرات المعلمين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93560" indent="-493560" algn="r" rtl="1">
              <a:lnSpc>
                <a:spcPct val="9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اختبارات الموضوعية للدكاء و الابدا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61EF8-A0D4-42C3-A28B-A4B44C63DC66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447920" y="12708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7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الاخطاء الموجبة والسالبة في تقدير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ثلاثة معلم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موهوبين في الذكاء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95280" y="137160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294920" y="3733920"/>
            <a:ext cx="48006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1294920" y="6170760"/>
            <a:ext cx="4800600" cy="14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0160"/>
            <a:ext cx="0" cy="4800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1752480"/>
            <a:ext cx="4419360" cy="762120"/>
          </a:xfrm>
          <a:prstGeom prst="rightArrow">
            <a:avLst>
              <a:gd name="adj1" fmla="val 50000"/>
              <a:gd name="adj2" fmla="val 144969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15000" y="2514600"/>
            <a:ext cx="685800" cy="27432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ffff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5280" y="1371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1240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62520" y="13716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ectiveness 55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5332800">
            <a:off x="5730480" y="38937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029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7%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3840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1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038480" y="5440320"/>
            <a:ext cx="27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lse 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6600" y="1951200"/>
            <a:ext cx="2057400" cy="175248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1951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iterion selected group=4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09680" y="6248520"/>
            <a:ext cx="4581720" cy="685800"/>
          </a:xfrm>
          <a:prstGeom prst="rect">
            <a:avLst/>
          </a:prstGeom>
          <a:gradFill rotWithShape="0">
            <a:gsLst>
              <a:gs pos="0">
                <a:srgbClr val="002412"/>
              </a:gs>
              <a:gs pos="50000">
                <a:srgbClr val="005028"/>
              </a:gs>
              <a:gs pos="100000">
                <a:srgbClr val="002412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617220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dicator selected group=333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65BF3-0BD0-401E-AB69-02AADC995B79}" type="datetime1">
              <a:rPr lang="en-US"/>
              <a:t>07/28/26</a:t>
            </a:fld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6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3500"/>
                            </p:stCondLst>
                            <p:childTnLst>
                              <p:par>
                                <p:cTn id="7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7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4500"/>
                            </p:stCondLst>
                            <p:childTnLst>
                              <p:par>
                                <p:cTn id="7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500"/>
                            </p:stCondLst>
                            <p:childTnLst>
                              <p:par>
                                <p:cTn id="7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60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6500"/>
                            </p:stCondLst>
                            <p:childTnLst>
                              <p:par>
                                <p:cTn id="7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95280" y="2430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جدول رقم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2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: نسبة التصنيف الصحيح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Hit ratio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الناتج عن معادلة التحليل التمايزي(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Discriminant analysis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 لطرق الكشف المختلف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797120"/>
            <a:ext cx="9134640" cy="440676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1797120"/>
            <a:ext cx="0" cy="44067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95288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86600" y="2438280"/>
            <a:ext cx="0" cy="3765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24382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0040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797120"/>
            <a:ext cx="88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Indicator                        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Cut-off score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66880" y="26971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5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3549600"/>
            <a:ext cx="9219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Group IQ and             66%  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5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68%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Torr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876920"/>
            <a:ext cx="913464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5257800"/>
            <a:ext cx="98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All indicators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67%                      70%              75%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372FC-F605-4FDD-B7FE-FEB0716DB6E8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295280" y="-38160"/>
            <a:ext cx="783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جدول رقم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: فاعلية وكفاءة طرق الكشف عن الموهوبين في الذكاء والتفكير الابتكار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1224000"/>
            <a:ext cx="9144000" cy="5638680"/>
          </a:xfrm>
          <a:prstGeom prst="rect">
            <a:avLst/>
          </a:prstGeom>
          <a:gradFill rotWithShape="0">
            <a:gsLst>
              <a:gs pos="0">
                <a:srgbClr val="002f17"/>
              </a:gs>
              <a:gs pos="100000">
                <a:srgbClr val="006633"/>
              </a:gs>
            </a:gsLst>
            <a:lin ang="5400000"/>
          </a:gra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1905120"/>
            <a:ext cx="0" cy="49528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52880" y="1905120"/>
            <a:ext cx="0" cy="4957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1219320"/>
            <a:ext cx="0" cy="56433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8280"/>
            <a:ext cx="70866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38280" y="403848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-304920" y="1309680"/>
            <a:ext cx="943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المتغيرات          درجة ذكاء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وتفكير إبتكاري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(العدد=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90512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عدد المرشحين              الفاعلية                  الكفاء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تحصيل العام   </a:t>
            </a:r>
            <a:r>
              <a:rPr b="1" lang="ar-SA" sz="24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8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98620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علوم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10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6320" y="347328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حصيل الرياضيات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7/11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9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6320" y="420516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القدرات الخاصة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2/10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8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2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-76320" y="527220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مدرس واحد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75/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33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428920" y="4876920"/>
            <a:ext cx="670572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76320" y="6033960"/>
            <a:ext cx="922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aeaea"/>
                </a:solidFill>
                <a:latin typeface="Times New Roman"/>
                <a:cs typeface="Traditional Arabic"/>
              </a:rPr>
              <a:t>تقدير ثلاثة مدرسين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0/7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58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                      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14</a:t>
            </a:r>
            <a:r>
              <a:rPr b="1" lang="ar-SA" sz="2800" spc="-1" strike="noStrike">
                <a:solidFill>
                  <a:srgbClr val="eaeaea"/>
                </a:solidFill>
                <a:latin typeface="Times New Roman"/>
                <a:ea typeface="Traditional Arabic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 rot="10800000">
                <a:off x="5181480" y="1218960"/>
                <a:ext cx="83844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 rot="10800000">
                <a:off x="2428920" y="1224000"/>
                <a:ext cx="838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A64A3-FF8A-4469-A32C-D4AF1BEC2847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1752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695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تمتع مقياسا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قدرات الخاصة وتوران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فكير الابتكار بقدر جيد من الفعالية والكفاءة في تصنيف الطلبة الموهوبين في الذكاء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3930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تقديرات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ثلاثة مدرسين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زيد نسبة التصنيف الصحيح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4524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علو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مواهب الابتكارية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877EF-6A0C-47C8-948B-B0668A598625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ظهرت نتائج الدراسة ماي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6320" y="380880"/>
            <a:ext cx="906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خلاص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224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عتبر تحصيل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الرياضيات ومقياس القدرات الخاص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من المتغيرات الجيدة للتعرف على الاطفال الموهوبين في الذكاء والتفكير الابتكاري لدى الاطفال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414324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دراج كل المتغيرات ضمن معادلة التحليل التمايزي- ماعدا تقدير مدرس واحد- يزيد نسبة التصنيف الصحيح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05E82-073D-4324-A523-1E5475E81AB4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441600"/>
            <a:ext cx="786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يمكن استخدام متغيرات التحصيل الدراسي وتقدير ثلاثة معلمين، والمقاييس الموضوعية في التعرف على الاطفال الموهوبين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ولكن بأوزان مختلف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69588-FC13-4FAD-A726-C616E5E7D2F0}" type="datetime1">
              <a:rPr lang="en-US"/>
              <a:t>07/28/26</a:t>
            </a:fld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ي ضوء نتائج الدراسة فقد تم التوصل الى الاستنتاج التالي: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6320" y="380880"/>
            <a:ext cx="906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حكات المستخدمة للكشف عن الموهوبين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7520" y="3124080"/>
            <a:ext cx="8521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ستخدام 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AL-Mateen"/>
              </a:rPr>
              <a:t>جميع  هذه المتغيرات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للتعرف على الاطفال الموهوبين في الذكاء والتفكير الابتكاري، نظرا لكون إدراجها جميعا في المعادلة </a:t>
            </a: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AL-Mateen"/>
              </a:rPr>
              <a:t>يقلل من الاخطاء الموجبة والسالبة في التصنيف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FAA22-776B-4E0B-B2AA-B70E1FF2D8ED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0" y="2362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واقعية للكشف والتعرف على الموهوبين تحتم وجود خطة واضح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380880"/>
            <a:ext cx="883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2760" y="31240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ضرورة الاعتماد على مقاييس محلية تتمتع بالدق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320" y="3886200"/>
            <a:ext cx="8991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هتمام بتأهيل أخصائيين قادرين على استخدام معايير الكشف والتعرف بصورة مهن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6320" y="5029200"/>
            <a:ext cx="8991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الاهتمام بسرية وسائل الكشف والتعرف على الموهوبين وإستحداث خطة واضحة لذلك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59B88-81AE-4A9F-8C86-6AEDF2259F77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0880" y="380880"/>
            <a:ext cx="906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نظرة المستقبلية لبرنامج طرق الكش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التعرف على  الموهوبين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7080" y="2362320"/>
            <a:ext cx="8991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افة معايير جديدة للاستخدام في الكشف والتعرف يحتم دراسة قدرتها على اداء وظيفتها بصورة مقبولة، وهذا يحتم ضرورة دراسة فعاليتها وكفاء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480" y="4038480"/>
            <a:ext cx="8991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إضطلاع مؤسسة الملك عبدالعزيز ورجاله بدور أكثر فعالية في رسم خطة التعرف على الموهوبين، و تأمين معايير الكشف اللازم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91D86-F252-46D2-90DA-5A0ADE6E7DF4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905120" y="312408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شكرا على حسن  إستماعكم والله الهادي إلى سواء السبي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E78673-4B0F-43E2-BDA3-BFBBD24F4188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عايير التعرف على الموهوبين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0" algn="r" rtl="1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	</a:t>
            </a: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كانت الخطوة التالية هي إعداد المقاييس الموضوعية، ثم فحص جودة الطرق المستحدمة في التعرف على الموهوبين، فكان ذلك وفق الدراسات  التالية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عداد المقاييس الموضوعية، والتأكد من جودتها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دراسة فعالية وكفاءة الطرق المختلفة في التعرف على الموهوبين والكشف عنهم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75200" indent="-475200" algn="r" rtl="1">
              <a:lnSpc>
                <a:spcPct val="80000"/>
              </a:lnSpc>
              <a:spcBef>
                <a:spcPts val="2001"/>
              </a:spcBef>
              <a:buClr>
                <a:srgbClr val="ccccf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وصية بافضل الطرق التي يمكن أن تستخدم في الكشف عن الموهوبين في المملكة العربية السعودية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ECB7-5260-442C-9B6D-0C976BB8C9A9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1337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سب المتعا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ر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ف علية عالميا، فإن الاختبارات المـوضوعـية الـدقيقـة -اختبـــارات الذكـــاء والإبــــداع والقدرات الخاصة- هي البديل الفعال لقياس الموهبة واكتشافها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A1A3A-3D4E-495D-85CA-600E4E5E00CF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133720"/>
            <a:ext cx="883908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نظرا لعـدم وجود مقاييس ذكاء وإبـداع مقنـنة على البيئة السعودية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،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فإن الخطوة الأو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</a:t>
            </a:r>
            <a:r>
              <a:rPr b="0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ى هي تقنين هـذه المقاييس عـلى البيئــة المحليـة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ABDC4-EE60-4C96-92FB-2D146DFC6BF7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3945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فردي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جزأين أحدهما لفظي والآخر أدائي.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44680"/>
            <a:ext cx="82296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2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قدرة اللغو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9304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3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ادائي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1628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4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على التركيز والانتباة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6320" y="2610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1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- القدرة العقلية العامة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51973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من 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1:45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2:00</a:t>
            </a:r>
            <a:r>
              <a:rPr b="0" lang="ar-SA" sz="44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اعة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7D0321-59DE-4575-BB10-EEF5F8AB9C0D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وكسلر لذكاء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أ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طفال ال</a:t>
            </a:r>
            <a:r>
              <a:rPr b="1" lang="en-US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</a:t>
            </a: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عدلِ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638360"/>
            <a:ext cx="8915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37332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قد مر إعداد هذا المقياس وتعريـبه بعدة مراحل ه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  <a:cs typeface="AL-Mateen"/>
              </a:rPr>
              <a:t>ي</a:t>
            </a:r>
            <a:r>
              <a:rPr b="1" lang="ar-SA" sz="4000" spc="-1" strike="noStrike">
                <a:solidFill>
                  <a:srgbClr val="eaeaea"/>
                </a:solidFill>
                <a:latin typeface="Times New Roman"/>
                <a:ea typeface="AL-Mateen"/>
              </a:rPr>
              <a:t>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4382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2251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رجمة المقياس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52280" y="304812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تجريبة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581280"/>
            <a:ext cx="8915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التحري </a:t>
            </a: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2400" spc="-1" strike="noStrike">
                <a:solidFill>
                  <a:srgbClr val="eaeaea"/>
                </a:solidFill>
                <a:latin typeface="Times New Roman"/>
                <a:ea typeface="AL-Mohanad"/>
              </a:rPr>
              <a:t>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و صدقه بعدة طرق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4114800"/>
            <a:ext cx="861084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90000"/>
              </a:lnSpc>
              <a:spcBef>
                <a:spcPts val="901"/>
              </a:spcBef>
              <a:buClr>
                <a:srgbClr val="ccccff"/>
              </a:buClr>
              <a:buSzPct val="7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ccccff"/>
                </a:solidFill>
                <a:latin typeface="Times New Roman"/>
                <a:cs typeface="AL-Mateen"/>
              </a:rPr>
              <a:t>إستخراج المعايير: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حـيث تـم تطـبيق المقياس على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34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طفلا وطفلة من الفئات العمرية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-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6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سنة، وحـددت خصـائصهم، وأستخرجـت المعـايير للفـئات العمرية المختـلفة. وقد تراوحـت درجـات الذكاء بين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28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و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173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25FEB-B5A6-4ABB-8D83-C4E41E726B60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-7632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هو مقياس جمعي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م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كون من عدة اشكال.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قيس القدر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ت التالية: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2514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طلا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12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مرونة في التفكير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لاصال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95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ادراك التفاصيل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197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eaeaea"/>
                </a:solidFill>
                <a:latin typeface="Times New Roman"/>
                <a:cs typeface="AL-Mateen"/>
              </a:rPr>
              <a:t>ويستغرق تطبيقة حوالي  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45</a:t>
            </a:r>
            <a:r>
              <a:rPr b="0" lang="ar-SA" sz="3600" spc="-1" strike="noStrike">
                <a:solidFill>
                  <a:srgbClr val="eaeaea"/>
                </a:solidFill>
                <a:latin typeface="Times New Roman"/>
                <a:ea typeface="AL-Mateen"/>
              </a:rPr>
              <a:t> دقيق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C32F0-E972-4FD8-897C-D76A0F48323A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imes New Roman"/>
                <a:cs typeface="AL-Mateen"/>
              </a:rPr>
              <a:t>مقياس تورانس للتفكير الابتكاري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    وقد مر المقياس بخطوات مماثلة لتلك التي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أ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ُتبعت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 </a:t>
            </a:r>
            <a:r>
              <a:rPr b="1" lang="ar-SA" sz="3200" spc="-1" strike="noStrike">
                <a:solidFill>
                  <a:srgbClr val="eaeaea"/>
                </a:solidFill>
                <a:latin typeface="Times New Roman"/>
                <a:cs typeface="AL-Mateen"/>
              </a:rPr>
              <a:t>لإعداد مقياس وكسلر. حيث تم التأكد من 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ثبات</a:t>
            </a:r>
            <a:r>
              <a:rPr b="0" lang="en-US" sz="3200" spc="-1" strike="noStrike">
                <a:solidFill>
                  <a:srgbClr val="ccccff"/>
                </a:solidFill>
                <a:latin typeface="Times New Roman"/>
                <a:cs typeface="AL-Mateen"/>
              </a:rPr>
              <a:t>ه</a:t>
            </a:r>
            <a:r>
              <a:rPr b="0" lang="ar-SA" sz="3200" spc="-1" strike="noStrike">
                <a:solidFill>
                  <a:srgbClr val="ccccff"/>
                </a:solidFill>
                <a:latin typeface="Times New Roman"/>
                <a:ea typeface="AL-Mateen"/>
              </a:rPr>
              <a:t> و صدقة،واستخرجت معاييره</a:t>
            </a:r>
            <a:r>
              <a:rPr b="0" lang="ar-SA" sz="3200" spc="-1" strike="noStrike">
                <a:solidFill>
                  <a:srgbClr val="eaeaea"/>
                </a:solidFill>
                <a:latin typeface="Times New Roman"/>
                <a:ea typeface="AL-Mateen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842040" indent="0" algn="r" rtl="1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A47AE-746B-4AF1-9F72-EDBE57C6B70A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z</cp:lastModifiedBy>
  <dcterms:modified xsi:type="dcterms:W3CDTF">2004-12-11T07:51:19Z</dcterms:modified>
  <cp:revision>31</cp:revision>
  <dc:subject/>
  <dc:title>Gifted Identification and Caring Project </dc:title>
</cp:coreProperties>
</file>