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FCE-552D-4ACB-A56D-8BE5B24F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3E3-A6B1-496B-A032-24595C8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AB3-70C8-489A-AE22-FBCD49BE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E07-F06B-465D-9724-B1DC2727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199C-EAD6-4CEF-87B8-5CF9422B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FB82-C84C-4A49-AE0F-B818B2D4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97A2-280F-46A8-BA77-A9B3639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386-3DC8-410E-B96F-B7E9DC4C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C2EA-B51E-428B-BBFA-E2ED5BDD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1BC8-992D-4876-9924-1457DF73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0A2E-7974-4619-888E-99FDEF9E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805-89CD-4F3C-8557-6F2335A0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2572-BBA6-4725-9317-3AB1A01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5D28-293B-4547-92B1-7138887D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1CE7-185F-4F82-9AA9-8C679D04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279A-E69C-4113-8401-1B41003E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97FF-8361-46EE-88E1-EBD25247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75F-A91C-4948-818F-7408756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3CE-47F2-4AF1-980D-EE4C46BE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C80-98B0-4C0B-8A02-844D2D9D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E96-B0E9-4E81-BC9C-FA4B43A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A68-A6D0-45B5-8325-0037B47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AA6-4CAE-4C01-BAEC-73A7DD4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197-D2E1-48FB-B50B-9ED09943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7144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318" y="198"/>
                </a:moveTo>
                <a:lnTo>
                  <a:pt x="318" y="318"/>
                </a:lnTo>
                <a:lnTo>
                  <a:pt x="1" y="99"/>
                </a:lnTo>
                <a:lnTo>
                  <a:pt x="0" y="108"/>
                </a:lnTo>
                <a:lnTo>
                  <a:pt x="46" y="0"/>
                </a:lnTo>
                <a:lnTo>
                  <a:pt x="318" y="198"/>
                </a:lnTo>
              </a:path>
            </a:pathLst>
          </a:custGeom>
          <a:gradFill rotWithShape="0">
            <a:gsLst>
              <a:gs pos="0">
                <a:srgbClr val="00763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0" y="198"/>
                </a:moveTo>
                <a:lnTo>
                  <a:pt x="0" y="318"/>
                </a:lnTo>
                <a:lnTo>
                  <a:pt x="316" y="99"/>
                </a:lnTo>
                <a:lnTo>
                  <a:pt x="318" y="108"/>
                </a:lnTo>
                <a:lnTo>
                  <a:pt x="271" y="0"/>
                </a:lnTo>
                <a:lnTo>
                  <a:pt x="0" y="198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76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B8F2-D1A0-4B43-8FE0-603223B89ECB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B12-52B7-47B2-8083-699BBF0738A7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231920" cy="1281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52280" y="1117440"/>
            <a:ext cx="1522440" cy="17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1bb9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30AB-C36D-475A-B6AD-F45FF5803919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E545-2CEE-4D05-8F8C-EADFE6FE16C3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1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819520" y="0"/>
              <a:ext cx="334476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L-Mateen"/>
              </a:rPr>
              <a:t>برنامج الكشف والتعرف على الموهويبن في المملكة العربية السعودي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واقع والمأمو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05A0B5-816D-4FDF-B860-BC44C35387CF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7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هو مقياس جمعي يركز على قياس القدرات العقلية الخاصة التالية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240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عدد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098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مكان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استدلالية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تقريبا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30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E503F-A1C2-4FEF-B7D5-80BE57B66976}" type="datetime1">
              <a:rPr lang="en-US"/>
              <a:t>07/29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5248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92160" tIns="46080" bIns="46080" anchor="t">
            <a:normAutofit fontScale="90000"/>
          </a:bodyPr>
          <a:p>
            <a:pPr lvl="1" marL="82296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 وقد مر المقياس بخطوات مماثلة لتلك الت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ي وكسلر والتفكير الابتكاري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84A56-C342-4903-A119-89C22EE73DF9}" type="datetime1">
              <a:rPr lang="en-US"/>
              <a:t>07/29/2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كفاءة وفعالية المعايير المستخدمة </a:t>
            </a:r>
            <a:br>
              <a:rPr sz="4000"/>
            </a:b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في التعرف على الموهوبي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lvl="1" marL="76788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إنطلاقا من التعريف المستخدم في البرنامج الوطني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ذي صنف الموهوبين الى فئات اربع، فإنه ينبغي تقدير مدى دقة هذه الوسائط ومدى اسهامها في الكشف عن الموهوبين. ومن اجل ذلك فقد تم التحري عن </a:t>
            </a:r>
            <a:r>
              <a:rPr b="0" lang="ar-SA" sz="3600" spc="-1" strike="noStrike">
                <a:solidFill>
                  <a:srgbClr val="ff66ff"/>
                </a:solidFill>
                <a:latin typeface="Times New Roman"/>
                <a:cs typeface="AL-Mateen"/>
              </a:rPr>
              <a:t>فعالية وكفاء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كل طريقة من طرق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ف عن الموهوبين. ويوضح الجدول التالي فعالية وكفاءة كل طريقة من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ط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FF193-19A1-435F-B981-A697CFECE3BD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54080" y="254160"/>
            <a:ext cx="829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عالية وكفاءة طرق الكشف عن الاذكياء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38098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309680"/>
            <a:ext cx="88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المتغيرات                     نسب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98/3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9548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7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2907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9/2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88620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11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429732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فكير الابتكاري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70/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495288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92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91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3/2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 rot="10800000">
                <a:off x="4114800" y="1218960"/>
                <a:ext cx="838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E9B7B-D4AA-471F-A623-AF25D10A4483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152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حصيل العا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8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6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9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F60F3-AC74-44A8-8A73-67B966BC84E9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علوم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7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843D8-8E72-420A-A347-25DF44969C82}" type="datetime1">
              <a:rPr lang="en-US"/>
              <a:t>07/29/26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رياضيات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55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B409B-AC19-4220-B015-0758D69529A1}" type="datetime1">
              <a:rPr lang="en-US"/>
              <a:t>07/29/26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ذكاء الجمع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8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1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3D7B4-B53B-429A-B929-823185B13E4A}" type="datetime1">
              <a:rPr lang="en-US"/>
              <a:t>07/29/26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5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فكير الابتكار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3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1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305A9-4664-4448-A69C-40E607C9870D}" type="datetime1">
              <a:rPr lang="en-US"/>
              <a:t>07/29/26</a:t>
            </a:fld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مدرس واحد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2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8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9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0EE63-E270-4F34-8D3C-730710BE0054}" type="datetime1">
              <a:rPr lang="en-US"/>
              <a:t>07/29/26</a:t>
            </a:fld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بناءا على إستقراء أدبيات المجال، فقد تبنى الباحثو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معايير التالية نظرا لشموليتها ورغبة في دراسة مدى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جدوتها، ليتم اختيار المناسب منها وهي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فوق فى التحصيل الدراسي( 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95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% فأكثر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قديرات المعلمي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اختبارات الموضوعية للدكاء و الابدا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29678-D962-4EFC-9E84-46E62D756F74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1270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7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ثلاثة معلم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5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33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AA37F-BB01-4C7D-B543-BFD2D176C43C}" type="datetime1">
              <a:rPr lang="en-US"/>
              <a:t>07/29/26</a:t>
            </a:fld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500"/>
                            </p:stCondLst>
                            <p:childTnLst>
                              <p:par>
                                <p:cTn id="7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650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95280" y="2430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جدول رقم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: نسبة التصنيف الصحيح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Hit ratio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الناتج عن معادلة التحليل التمايزي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Discriminant analysis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لطرق الكشف المختلف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797120"/>
            <a:ext cx="9134640" cy="440676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1797120"/>
            <a:ext cx="0" cy="44067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24382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0040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797120"/>
            <a:ext cx="88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Indicator                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Cut-off scor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66880" y="2697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5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35496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Group IQ and             66%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5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8%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Torr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87692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25780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All indicators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67%                      70%              75%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811E8-A32E-4347-B540-D03D42117221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295280" y="-38160"/>
            <a:ext cx="78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اعلية وكفاءة طرق الكشف عن الموهوبين في الذكاء والتفكير الابتكار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0384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304920" y="1309680"/>
            <a:ext cx="943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المتغيرات          درج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وتفكير إبتكاري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8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98620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0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34732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7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320" y="42051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2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-76320" y="527220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5/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76320" y="60339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0/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 rot="10800000">
                <a:off x="5181480" y="1218960"/>
                <a:ext cx="838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 rot="10800000">
                <a:off x="2428920" y="1224000"/>
                <a:ext cx="83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ECA5E-1759-4E31-AD71-5D15A5E545A4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695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تمتع مقياسا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قدرات الخاصة وتوران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فكير الابتكار بقدر جيد من الفعالية والكفاءة في تصنيف الطلبة الموهوبين في الذكاء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3930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تقديرات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ثلاثة مدرس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زيد نسبة التصنيف الصحيح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4524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علو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مواهب الابتكارية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91885-8128-4890-A2ED-68C29BF63FB5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22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رياضيات ومقياس القدرات الخاص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اطفال الموهوبين في الذكاء والتفكير الابتكاري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414324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دراج كل المتغيرات ضمن معادلة التحليل التمايزي- ماعدا تقدير مدرس واحد- يزيد نسبة التصنيف الصحيح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77216-47F5-41EE-9394-B98D13CA4384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441600"/>
            <a:ext cx="786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مكن استخدام متغيرات التحصيل الدراسي وتقدير ثلاثة معلمين، والمقاييس الموضوعية في التعرف على الاطفال الموهوبين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ولكن بأوزان مختلف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70A2A-5937-4BEB-BA86-88C9E13BBCE9}" type="datetime1">
              <a:rPr lang="en-US"/>
              <a:t>07/29/26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7520" y="312408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ستخدام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جميع  هذه المتغيرات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عرف على الاطفال الموهوبين في الذكاء والتفكير الابتكاري، نظرا لكون إدراجها جميعا في المعادلة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يقلل من الاخطاء الموجبة والسالبة في التصنيف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5F0D4-DADA-4AFA-A77B-7E3E567ACDA1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واقعية للكشف والتعرف على الموهوبين تحتم وجود خطة واضح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380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2760" y="31240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ضرورة الاعتماد على مقاييس محلية تتمتع بالدق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320" y="388620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هتمام بتأهيل أخصائيين قادرين على استخدام معايير الكشف والتعرف بصورة مهن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5029200"/>
            <a:ext cx="8991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الاهتمام بسرية وسائل الكشف والتعرف على الموهوبين وإستحداث خطة واضحة لذل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3E079-9672-42CD-B125-37E0991B95D6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380880"/>
            <a:ext cx="906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7080" y="2362320"/>
            <a:ext cx="8991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معايير جديدة للاستخدام في الكشف والتعرف يحتم دراسة قدرتها على اداء وظيفتها بصورة مقبولة، وهذا يحتم ضرورة دراسة فعاليتها وكفاء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480" y="4038480"/>
            <a:ext cx="8991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طلاع مؤسسة الملك عبدالعزيز ورجاله بدور أكثر فعالية في رسم خطة التعرف على الموهوبين، و تأمين معايير الكشف اللازم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D0D70-4834-4782-8880-FCA66841E679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905120" y="312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را على حسن  إستماعكم والله الهادي إلى سواء السبي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E0818-D25B-4C05-83AB-5A0E657985F8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75200" indent="0" algn="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	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كانت الخطوة التالية هي إعداد المقاييس الموضوعية، ثم فحص جودة الطرق المستحدمة في التعرف على الموهوبين، فكان ذلك وفق الدراسات  التالية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عداد المقاييس الموضوعية، والتأكد من جود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دراسة فعالية وكفاءة الطرق المختلفة في التعرف على الموهوبين والكشف عنه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وصية بافضل الطرق التي يمكن أن تستخدم في الكشف عن الموهوبين في المملكة العربية السعود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77C22-DACD-46C2-B127-C33CD82FF482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1337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سب المتعا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 علية عالميا، فإن الاختبارات المـوضوعـية الـدقيقـة -اختبـــارات الذكـــاء والإبــــداع والقدرات الخاصة- هي البديل الفعال لقياس الموهبة واكتشافها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D33BD-D815-46F8-A5CA-AAA4E10DD699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نظرا لعـدم وجود مقاييس ذكاء وإبـداع مقنـنة على البيئة السعودية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فإن الخطوة الأو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ى هي تقنين هـذه المقاييس عـلى البيئــة المحليـة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B5F5C-1B0B-4B5A-8146-696D029C369F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3945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فردي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جزأين أحدهما لفظي والآخر أدائي.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44680"/>
            <a:ext cx="8229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9304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ادائ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162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على التركيز والانتبا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2610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عقلية العامة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97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من 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45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2:00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3B2D6-BC44-4D31-A0E7-3647F4776C13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63836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373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قد مر إعداد هذا المقياس وتعريـبه بعدة مراحل ه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438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رجمة المقيا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304812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جريب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58128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حري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  <a:ea typeface="AL-Mohanad"/>
              </a:rPr>
              <a:t>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و صدقه بعدة طر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114800"/>
            <a:ext cx="86108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ستخراج المعايير: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ـيث تـم تطـبيق المقياس على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34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طفلا وطفلة من الفئات العمرية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نة، وحـددت خصـائصهم، وأستخرجـت المعـايير للفـئات العمرية المختـلفة. وقد تراوحـت درجـات الذكاء بين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7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8641D-C87A-4BAC-9BE0-C187A94396AC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جمع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عدة اشكال.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514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طلا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24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رونة في التفكي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09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صال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دراك التفاصي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حوالي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5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دقي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4B114-8967-4EF0-BD17-756DC0818565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قد مر المقياس بخطوات مماثلة لتلك التي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 وكسلر. حيث تم التأكد من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 و صدقة،واستخرجت معاييره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92BC9-E81E-44AF-B38D-593A06CAD4C9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z</cp:lastModifiedBy>
  <dcterms:modified xsi:type="dcterms:W3CDTF">2004-12-11T07:51:19Z</dcterms:modified>
  <cp:revision>31</cp:revision>
  <dc:subject/>
  <dc:title>Gifted Identification and Caring Project </dc:title>
</cp:coreProperties>
</file>