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bomb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BD7-78C5-47C7-B64F-06309D80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6E17-96CA-4CDC-BC68-68180A2E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2A1-F1BF-4C59-8C94-10568D5C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2CA-3706-4248-9F06-4C0FB731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2353-8F6F-4651-9609-A530ADC6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26CF-FBEC-4087-BF84-8B6EE16A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91B9-9BDE-4A5E-BFFE-9EB22FC2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31F5-2EA3-46BE-8257-D9E3B365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2403-4954-4C1A-9132-4EC2426E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60CE-5AE6-462A-89BB-EB70BF67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203A-D337-4F71-ADBD-44B53C64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565-4237-4D2B-95E6-3381264A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2BF9-2708-4372-AD0A-EE0883C6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0BA1-BEC5-4634-ABBF-302D1600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2897-8CCC-49C3-AB50-106D8842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A120-B9B4-4C49-A424-AEE8BD05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317B-1067-49B2-8BF2-64969E72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1C8A-A5E0-4EF0-8C11-9EE280FD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E372-B6B7-493B-AEC9-FCE0B0CC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786-763C-4C76-B750-C35A479C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F7FF-91D6-4500-92DF-D0DE6596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A360-9A07-4755-9996-8FE51D23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F05-5D7C-4F65-8FB2-C0C20088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E7CF-2BA3-4E12-B3B2-6C86F14C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3240"/>
            <a:ext cx="17543160" cy="13690440"/>
            <a:chOff x="-8410320" y="32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932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32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55" swAng="5396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55" swAng="5396755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161B-920C-4746-AFF0-09508365156C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59800" y="1461960"/>
            <a:ext cx="16903800" cy="10794600"/>
            <a:chOff x="-7759800" y="1461960"/>
            <a:chExt cx="1690380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932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59800" y="146196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5"/>
                  </a:moveTo>
                  <a:arcTo wR="10800" hR="10800" stAng="-4763526" swAng="4763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5"/>
                  </a:moveTo>
                  <a:arcTo wR="10800" hR="10800" stAng="-4763526" swAng="476352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54C7-8006-4C18-81BE-CE5069DED716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ffffcc"/>
            </a:gs>
            <a:gs pos="100000">
              <a:srgbClr val="00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476280"/>
            <a:ext cx="9144000" cy="6308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ButtonPour">
              <a:avLst>
                <a:gd name="adj1" fmla="val 10800000"/>
                <a:gd name="adj2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CS Diwany1 S_U adorned."/>
              </a:rPr>
              <a:t>بسم الله الرحمن الرحيم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CS Diwany1 S_U adorned."/>
              <a:ea typeface="MCS Diwany1 S_U adorned.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01960" y="2133720"/>
            <a:ext cx="3232080" cy="410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A1B-9C75-491C-9921-B1CB27D480C0}" type="slidenum">
              <a:t>1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50000">
              <a:srgbClr val="fefefe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476280"/>
            <a:ext cx="9144000" cy="6308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ButtonPour">
              <a:avLst>
                <a:gd name="adj1" fmla="val 10800000"/>
                <a:gd name="adj2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CS Diwany1 S_U adorned."/>
              </a:rPr>
              <a:t>بسم الله الرحمن الرحيم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CS Diwany1 S_U adorned."/>
              <a:ea typeface="MCS Diwany1 S_U adorned.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01960" y="2133720"/>
            <a:ext cx="3232080" cy="41036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093080" y="4075200"/>
            <a:ext cx="1584360" cy="865080"/>
          </a:xfrm>
          <a:custGeom>
            <a:avLst/>
            <a:gdLst>
              <a:gd name="textAreaLeft" fmla="*/ 55800 w 1584360"/>
              <a:gd name="textAreaRight" fmla="*/ 1528560 w 158436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9552" h="21600">
                <a:moveTo>
                  <a:pt x="0" y="0"/>
                </a:moveTo>
                <a:lnTo>
                  <a:pt x="39552" y="0"/>
                </a:lnTo>
                <a:lnTo>
                  <a:pt x="39552" y="21600"/>
                </a:lnTo>
                <a:lnTo>
                  <a:pt x="0" y="21600"/>
                </a:lnTo>
                <a:close/>
              </a:path>
              <a:path fill="lightenLess" w="39552" h="21600">
                <a:moveTo>
                  <a:pt x="0" y="0"/>
                </a:moveTo>
                <a:lnTo>
                  <a:pt x="39552" y="0"/>
                </a:lnTo>
                <a:lnTo>
                  <a:pt x="38152" y="1400"/>
                </a:lnTo>
                <a:lnTo>
                  <a:pt x="1400" y="1400"/>
                </a:lnTo>
                <a:close/>
              </a:path>
              <a:path fill="darken" w="39552" h="21600">
                <a:moveTo>
                  <a:pt x="39552" y="0"/>
                </a:moveTo>
                <a:lnTo>
                  <a:pt x="39552" y="21600"/>
                </a:lnTo>
                <a:lnTo>
                  <a:pt x="38152" y="20200"/>
                </a:lnTo>
                <a:lnTo>
                  <a:pt x="38152" y="1400"/>
                </a:lnTo>
                <a:close/>
              </a:path>
              <a:path fill="darkenLess" w="39552" h="21600">
                <a:moveTo>
                  <a:pt x="39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2" y="20200"/>
                </a:lnTo>
                <a:close/>
              </a:path>
              <a:path fill="lighten" w="39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52" h="21600">
                <a:moveTo>
                  <a:pt x="12770" y="3794"/>
                </a:moveTo>
                <a:lnTo>
                  <a:pt x="26783" y="10800"/>
                </a:lnTo>
                <a:lnTo>
                  <a:pt x="12770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مهارات الأساس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6165720"/>
            <a:ext cx="1584360" cy="621000"/>
          </a:xfrm>
          <a:custGeom>
            <a:avLst/>
            <a:gdLst>
              <a:gd name="textAreaLeft" fmla="*/ 39960 w 1584360"/>
              <a:gd name="textAreaRight" fmla="*/ 1544400 w 1584360"/>
              <a:gd name="textAreaTop" fmla="*/ 39960 h 621000"/>
              <a:gd name="textAreaBottom" fmla="*/ 581040 h 621000"/>
            </a:gdLst>
            <a:ahLst/>
            <a:rect l="textAreaLeft" t="textAreaTop" r="textAreaRight" b="textAreaBottom"/>
            <a:pathLst>
              <a:path w="55089" h="21600">
                <a:moveTo>
                  <a:pt x="0" y="0"/>
                </a:moveTo>
                <a:lnTo>
                  <a:pt x="55089" y="0"/>
                </a:lnTo>
                <a:lnTo>
                  <a:pt x="55089" y="21600"/>
                </a:lnTo>
                <a:lnTo>
                  <a:pt x="0" y="21600"/>
                </a:lnTo>
                <a:close/>
              </a:path>
              <a:path fill="lightenLess" w="55089" h="21600">
                <a:moveTo>
                  <a:pt x="0" y="0"/>
                </a:moveTo>
                <a:lnTo>
                  <a:pt x="55089" y="0"/>
                </a:lnTo>
                <a:lnTo>
                  <a:pt x="53689" y="1400"/>
                </a:lnTo>
                <a:lnTo>
                  <a:pt x="1400" y="1400"/>
                </a:lnTo>
                <a:close/>
              </a:path>
              <a:path fill="darken" w="55089" h="21600">
                <a:moveTo>
                  <a:pt x="55089" y="0"/>
                </a:moveTo>
                <a:lnTo>
                  <a:pt x="55089" y="21600"/>
                </a:lnTo>
                <a:lnTo>
                  <a:pt x="53689" y="20200"/>
                </a:lnTo>
                <a:lnTo>
                  <a:pt x="53689" y="1400"/>
                </a:lnTo>
                <a:close/>
              </a:path>
              <a:path fill="darkenLess" w="55089" h="21600">
                <a:moveTo>
                  <a:pt x="55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89" y="20200"/>
                </a:lnTo>
                <a:close/>
              </a:path>
              <a:path fill="lighten" w="55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089" h="21600">
                <a:moveTo>
                  <a:pt x="20538" y="3794"/>
                </a:moveTo>
                <a:lnTo>
                  <a:pt x="34551" y="10800"/>
                </a:lnTo>
                <a:lnTo>
                  <a:pt x="2053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تخاذ القرا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5372280"/>
            <a:ext cx="1584360" cy="865080"/>
          </a:xfrm>
          <a:custGeom>
            <a:avLst/>
            <a:gdLst>
              <a:gd name="textAreaLeft" fmla="*/ 55800 w 1584360"/>
              <a:gd name="textAreaRight" fmla="*/ 1528560 w 158436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9552" h="21600">
                <a:moveTo>
                  <a:pt x="0" y="0"/>
                </a:moveTo>
                <a:lnTo>
                  <a:pt x="39552" y="0"/>
                </a:lnTo>
                <a:lnTo>
                  <a:pt x="39552" y="21600"/>
                </a:lnTo>
                <a:lnTo>
                  <a:pt x="0" y="21600"/>
                </a:lnTo>
                <a:close/>
              </a:path>
              <a:path fill="lightenLess" w="39552" h="21600">
                <a:moveTo>
                  <a:pt x="0" y="0"/>
                </a:moveTo>
                <a:lnTo>
                  <a:pt x="39552" y="0"/>
                </a:lnTo>
                <a:lnTo>
                  <a:pt x="38152" y="1400"/>
                </a:lnTo>
                <a:lnTo>
                  <a:pt x="1400" y="1400"/>
                </a:lnTo>
                <a:close/>
              </a:path>
              <a:path fill="darken" w="39552" h="21600">
                <a:moveTo>
                  <a:pt x="39552" y="0"/>
                </a:moveTo>
                <a:lnTo>
                  <a:pt x="39552" y="21600"/>
                </a:lnTo>
                <a:lnTo>
                  <a:pt x="38152" y="20200"/>
                </a:lnTo>
                <a:lnTo>
                  <a:pt x="38152" y="1400"/>
                </a:lnTo>
                <a:close/>
              </a:path>
              <a:path fill="darkenLess" w="39552" h="21600">
                <a:moveTo>
                  <a:pt x="39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2" y="20200"/>
                </a:lnTo>
                <a:close/>
              </a:path>
              <a:path fill="lighten" w="39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52" h="21600">
                <a:moveTo>
                  <a:pt x="12770" y="3794"/>
                </a:moveTo>
                <a:lnTo>
                  <a:pt x="26783" y="10800"/>
                </a:lnTo>
                <a:lnTo>
                  <a:pt x="12770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حل المشكل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2280"/>
            <a:ext cx="1584360" cy="865080"/>
          </a:xfrm>
          <a:custGeom>
            <a:avLst/>
            <a:gdLst>
              <a:gd name="textAreaLeft" fmla="*/ 55800 w 1584360"/>
              <a:gd name="textAreaRight" fmla="*/ 1528560 w 158436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9552" h="21600">
                <a:moveTo>
                  <a:pt x="0" y="0"/>
                </a:moveTo>
                <a:lnTo>
                  <a:pt x="39552" y="0"/>
                </a:lnTo>
                <a:lnTo>
                  <a:pt x="39552" y="21600"/>
                </a:lnTo>
                <a:lnTo>
                  <a:pt x="0" y="21600"/>
                </a:lnTo>
                <a:close/>
              </a:path>
              <a:path fill="lightenLess" w="39552" h="21600">
                <a:moveTo>
                  <a:pt x="0" y="0"/>
                </a:moveTo>
                <a:lnTo>
                  <a:pt x="39552" y="0"/>
                </a:lnTo>
                <a:lnTo>
                  <a:pt x="38152" y="1400"/>
                </a:lnTo>
                <a:lnTo>
                  <a:pt x="1400" y="1400"/>
                </a:lnTo>
                <a:close/>
              </a:path>
              <a:path fill="darken" w="39552" h="21600">
                <a:moveTo>
                  <a:pt x="39552" y="0"/>
                </a:moveTo>
                <a:lnTo>
                  <a:pt x="39552" y="21600"/>
                </a:lnTo>
                <a:lnTo>
                  <a:pt x="38152" y="20200"/>
                </a:lnTo>
                <a:lnTo>
                  <a:pt x="38152" y="1400"/>
                </a:lnTo>
                <a:close/>
              </a:path>
              <a:path fill="darkenLess" w="39552" h="21600">
                <a:moveTo>
                  <a:pt x="39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2" y="20200"/>
                </a:lnTo>
                <a:close/>
              </a:path>
              <a:path fill="lighten" w="39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52" h="21600">
                <a:moveTo>
                  <a:pt x="12770" y="3794"/>
                </a:moveTo>
                <a:lnTo>
                  <a:pt x="26783" y="10800"/>
                </a:lnTo>
                <a:lnTo>
                  <a:pt x="12770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فكير الناق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11280" y="4148280"/>
            <a:ext cx="1584360" cy="865080"/>
          </a:xfrm>
          <a:custGeom>
            <a:avLst/>
            <a:gdLst>
              <a:gd name="textAreaLeft" fmla="*/ 55800 w 1584360"/>
              <a:gd name="textAreaRight" fmla="*/ 1528560 w 158436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9552" h="21600">
                <a:moveTo>
                  <a:pt x="0" y="0"/>
                </a:moveTo>
                <a:lnTo>
                  <a:pt x="39552" y="0"/>
                </a:lnTo>
                <a:lnTo>
                  <a:pt x="39552" y="21600"/>
                </a:lnTo>
                <a:lnTo>
                  <a:pt x="0" y="21600"/>
                </a:lnTo>
                <a:close/>
              </a:path>
              <a:path fill="lightenLess" w="39552" h="21600">
                <a:moveTo>
                  <a:pt x="0" y="0"/>
                </a:moveTo>
                <a:lnTo>
                  <a:pt x="39552" y="0"/>
                </a:lnTo>
                <a:lnTo>
                  <a:pt x="38152" y="1400"/>
                </a:lnTo>
                <a:lnTo>
                  <a:pt x="1400" y="1400"/>
                </a:lnTo>
                <a:close/>
              </a:path>
              <a:path fill="darken" w="39552" h="21600">
                <a:moveTo>
                  <a:pt x="39552" y="0"/>
                </a:moveTo>
                <a:lnTo>
                  <a:pt x="39552" y="21600"/>
                </a:lnTo>
                <a:lnTo>
                  <a:pt x="38152" y="20200"/>
                </a:lnTo>
                <a:lnTo>
                  <a:pt x="38152" y="1400"/>
                </a:lnTo>
                <a:close/>
              </a:path>
              <a:path fill="darkenLess" w="39552" h="21600">
                <a:moveTo>
                  <a:pt x="39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2" y="20200"/>
                </a:lnTo>
                <a:close/>
              </a:path>
              <a:path fill="lighten" w="39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52" h="21600">
                <a:moveTo>
                  <a:pt x="12770" y="3794"/>
                </a:moveTo>
                <a:lnTo>
                  <a:pt x="26783" y="10800"/>
                </a:lnTo>
                <a:lnTo>
                  <a:pt x="12770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حويل التركي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قوي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0D9-554B-4C42-A589-B169CDDA52F6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33"/>
                </a:solidFill>
                <a:latin typeface="Arial"/>
              </a:rPr>
              <a:t>خريطة مهارات وعمليات التفكير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1480" y="907920"/>
            <a:ext cx="759960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 rot="5400000">
            <a:off x="-2368800" y="3240000"/>
            <a:ext cx="4697280" cy="1042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المهارات الأساسي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                             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1480" y="6418440"/>
            <a:ext cx="790416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 rot="5400000">
            <a:off x="6603120" y="3550320"/>
            <a:ext cx="412920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33"/>
                </a:solidFill>
                <a:latin typeface="Arial"/>
              </a:rPr>
              <a:t>المــواد الـــــدراســـيـــ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33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1480" y="1413000"/>
            <a:ext cx="7904160" cy="5005440"/>
          </a:xfrm>
          <a:prstGeom prst="rect">
            <a:avLst/>
          </a:prstGeom>
          <a:solidFill>
            <a:srgbClr val="ff6699"/>
          </a:solidFill>
          <a:ln w="57240">
            <a:solidFill>
              <a:srgbClr val="000000"/>
            </a:solidFill>
            <a:miter/>
          </a:ln>
          <a:effectLst>
            <a:outerShdw dist="52300" dir="17036436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5877000"/>
            <a:ext cx="1169640" cy="541440"/>
          </a:xfrm>
          <a:custGeom>
            <a:avLst/>
            <a:gdLst>
              <a:gd name="textAreaLeft" fmla="*/ 34920 w 1169640"/>
              <a:gd name="textAreaRight" fmla="*/ 1134720 w 116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6645" h="21600">
                <a:moveTo>
                  <a:pt x="0" y="0"/>
                </a:moveTo>
                <a:lnTo>
                  <a:pt x="46645" y="0"/>
                </a:lnTo>
                <a:lnTo>
                  <a:pt x="46645" y="21600"/>
                </a:lnTo>
                <a:lnTo>
                  <a:pt x="0" y="21600"/>
                </a:lnTo>
                <a:close/>
              </a:path>
              <a:path fill="lightenLess" w="46645" h="21600">
                <a:moveTo>
                  <a:pt x="0" y="0"/>
                </a:moveTo>
                <a:lnTo>
                  <a:pt x="46645" y="0"/>
                </a:lnTo>
                <a:lnTo>
                  <a:pt x="45245" y="1400"/>
                </a:lnTo>
                <a:lnTo>
                  <a:pt x="1400" y="1400"/>
                </a:lnTo>
                <a:close/>
              </a:path>
              <a:path fill="darken" w="46645" h="21600">
                <a:moveTo>
                  <a:pt x="46645" y="0"/>
                </a:moveTo>
                <a:lnTo>
                  <a:pt x="46645" y="21600"/>
                </a:lnTo>
                <a:lnTo>
                  <a:pt x="45245" y="20200"/>
                </a:lnTo>
                <a:lnTo>
                  <a:pt x="45245" y="1400"/>
                </a:lnTo>
                <a:close/>
              </a:path>
              <a:path fill="darkenLess" w="46645" h="21600">
                <a:moveTo>
                  <a:pt x="4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5" y="20200"/>
                </a:lnTo>
                <a:close/>
              </a:path>
              <a:path fill="lighten" w="4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5" h="21600">
                <a:moveTo>
                  <a:pt x="16316" y="3794"/>
                </a:moveTo>
                <a:lnTo>
                  <a:pt x="30329" y="10800"/>
                </a:lnTo>
                <a:lnTo>
                  <a:pt x="16316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ود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5C2D-4F55-4259-8A60-506AED53E4DE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ff"/>
            </a:gs>
            <a:gs pos="100000">
              <a:srgbClr val="ff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33"/>
                </a:solidFill>
                <a:latin typeface="Arial"/>
              </a:rPr>
              <a:t>خريطة مهارات وعمليات التفكير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360" y="836640"/>
            <a:ext cx="741672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 rot="5400000">
            <a:off x="-2024640" y="3401280"/>
            <a:ext cx="469728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التحويل التركيب التقويم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360" y="6418440"/>
            <a:ext cx="772128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 rot="5400000">
            <a:off x="6782040" y="3550320"/>
            <a:ext cx="41292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ــواد الـــــدراســـيـــ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1341360"/>
            <a:ext cx="7721280" cy="50418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  <a:effectLst>
            <a:outerShdw dist="52300" dir="17036436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6000" y="5877000"/>
            <a:ext cx="1169640" cy="541440"/>
          </a:xfrm>
          <a:custGeom>
            <a:avLst/>
            <a:gdLst>
              <a:gd name="textAreaLeft" fmla="*/ 34920 w 1169640"/>
              <a:gd name="textAreaRight" fmla="*/ 1134720 w 116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6645" h="21600">
                <a:moveTo>
                  <a:pt x="0" y="0"/>
                </a:moveTo>
                <a:lnTo>
                  <a:pt x="46645" y="0"/>
                </a:lnTo>
                <a:lnTo>
                  <a:pt x="46645" y="21600"/>
                </a:lnTo>
                <a:lnTo>
                  <a:pt x="0" y="21600"/>
                </a:lnTo>
                <a:close/>
              </a:path>
              <a:path fill="lightenLess" w="46645" h="21600">
                <a:moveTo>
                  <a:pt x="0" y="0"/>
                </a:moveTo>
                <a:lnTo>
                  <a:pt x="46645" y="0"/>
                </a:lnTo>
                <a:lnTo>
                  <a:pt x="45245" y="1400"/>
                </a:lnTo>
                <a:lnTo>
                  <a:pt x="1400" y="1400"/>
                </a:lnTo>
                <a:close/>
              </a:path>
              <a:path fill="darken" w="46645" h="21600">
                <a:moveTo>
                  <a:pt x="46645" y="0"/>
                </a:moveTo>
                <a:lnTo>
                  <a:pt x="46645" y="21600"/>
                </a:lnTo>
                <a:lnTo>
                  <a:pt x="45245" y="20200"/>
                </a:lnTo>
                <a:lnTo>
                  <a:pt x="45245" y="1400"/>
                </a:lnTo>
                <a:close/>
              </a:path>
              <a:path fill="darkenLess" w="46645" h="21600">
                <a:moveTo>
                  <a:pt x="4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5" y="20200"/>
                </a:lnTo>
                <a:close/>
              </a:path>
              <a:path fill="lighten" w="4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5" h="21600">
                <a:moveTo>
                  <a:pt x="16316" y="3794"/>
                </a:moveTo>
                <a:lnTo>
                  <a:pt x="30329" y="10800"/>
                </a:lnTo>
                <a:lnTo>
                  <a:pt x="16316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ود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EF7-3956-4AD9-B47B-0240C1EC16EA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a13a"/>
            </a:gs>
            <a:gs pos="50000">
              <a:srgbClr val="ffffcc"/>
            </a:gs>
            <a:gs pos="100000">
              <a:srgbClr val="c6a1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33"/>
                </a:solidFill>
                <a:latin typeface="Arial"/>
              </a:rPr>
              <a:t>خريطة مهارات وعمليات التفكير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907920"/>
            <a:ext cx="698508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 rot="5400000">
            <a:off x="-2431440" y="3447360"/>
            <a:ext cx="543744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حل المشكلات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6418440"/>
            <a:ext cx="786600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 rot="5400000">
            <a:off x="6603120" y="3550320"/>
            <a:ext cx="412920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ــواد الـــــدراســـيـــ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376280"/>
            <a:ext cx="7848720" cy="504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  <a:effectLst>
            <a:outerShdw dist="52300" dir="17036436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6000" y="5877000"/>
            <a:ext cx="1169640" cy="541440"/>
          </a:xfrm>
          <a:custGeom>
            <a:avLst/>
            <a:gdLst>
              <a:gd name="textAreaLeft" fmla="*/ 34920 w 1169640"/>
              <a:gd name="textAreaRight" fmla="*/ 1134720 w 116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6645" h="21600">
                <a:moveTo>
                  <a:pt x="0" y="0"/>
                </a:moveTo>
                <a:lnTo>
                  <a:pt x="46645" y="0"/>
                </a:lnTo>
                <a:lnTo>
                  <a:pt x="46645" y="21600"/>
                </a:lnTo>
                <a:lnTo>
                  <a:pt x="0" y="21600"/>
                </a:lnTo>
                <a:close/>
              </a:path>
              <a:path fill="lightenLess" w="46645" h="21600">
                <a:moveTo>
                  <a:pt x="0" y="0"/>
                </a:moveTo>
                <a:lnTo>
                  <a:pt x="46645" y="0"/>
                </a:lnTo>
                <a:lnTo>
                  <a:pt x="45245" y="1400"/>
                </a:lnTo>
                <a:lnTo>
                  <a:pt x="1400" y="1400"/>
                </a:lnTo>
                <a:close/>
              </a:path>
              <a:path fill="darken" w="46645" h="21600">
                <a:moveTo>
                  <a:pt x="46645" y="0"/>
                </a:moveTo>
                <a:lnTo>
                  <a:pt x="46645" y="21600"/>
                </a:lnTo>
                <a:lnTo>
                  <a:pt x="45245" y="20200"/>
                </a:lnTo>
                <a:lnTo>
                  <a:pt x="45245" y="1400"/>
                </a:lnTo>
                <a:close/>
              </a:path>
              <a:path fill="darkenLess" w="46645" h="21600">
                <a:moveTo>
                  <a:pt x="4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5" y="20200"/>
                </a:lnTo>
                <a:close/>
              </a:path>
              <a:path fill="lighten" w="4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5" h="21600">
                <a:moveTo>
                  <a:pt x="16316" y="3794"/>
                </a:moveTo>
                <a:lnTo>
                  <a:pt x="30329" y="10800"/>
                </a:lnTo>
                <a:lnTo>
                  <a:pt x="16316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ود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2F62-02ED-48B5-963B-518AA2021B2C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999ff"/>
            </a:gs>
            <a:gs pos="100000">
              <a:srgbClr val="00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33"/>
                </a:solidFill>
                <a:latin typeface="Arial"/>
              </a:rPr>
              <a:t>خريطة مهارات وعمليات التفكير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1280" y="836640"/>
            <a:ext cx="806436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 rot="5400000">
            <a:off x="-2025720" y="3473280"/>
            <a:ext cx="469728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التفكير الناقد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6418440"/>
            <a:ext cx="806436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 rot="5400000">
            <a:off x="6853320" y="3550320"/>
            <a:ext cx="41292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ــواد الـــــدراســـيـــ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341360"/>
            <a:ext cx="8064360" cy="504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  <a:effectLst>
            <a:outerShdw dist="52300" dir="17036436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غالطات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نطق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ناقضات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نطق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6000" y="5877000"/>
            <a:ext cx="1169640" cy="541440"/>
          </a:xfrm>
          <a:custGeom>
            <a:avLst/>
            <a:gdLst>
              <a:gd name="textAreaLeft" fmla="*/ 34920 w 1169640"/>
              <a:gd name="textAreaRight" fmla="*/ 1134720 w 116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6645" h="21600">
                <a:moveTo>
                  <a:pt x="0" y="0"/>
                </a:moveTo>
                <a:lnTo>
                  <a:pt x="46645" y="0"/>
                </a:lnTo>
                <a:lnTo>
                  <a:pt x="46645" y="21600"/>
                </a:lnTo>
                <a:lnTo>
                  <a:pt x="0" y="21600"/>
                </a:lnTo>
                <a:close/>
              </a:path>
              <a:path fill="lightenLess" w="46645" h="21600">
                <a:moveTo>
                  <a:pt x="0" y="0"/>
                </a:moveTo>
                <a:lnTo>
                  <a:pt x="46645" y="0"/>
                </a:lnTo>
                <a:lnTo>
                  <a:pt x="45245" y="1400"/>
                </a:lnTo>
                <a:lnTo>
                  <a:pt x="1400" y="1400"/>
                </a:lnTo>
                <a:close/>
              </a:path>
              <a:path fill="darken" w="46645" h="21600">
                <a:moveTo>
                  <a:pt x="46645" y="0"/>
                </a:moveTo>
                <a:lnTo>
                  <a:pt x="46645" y="21600"/>
                </a:lnTo>
                <a:lnTo>
                  <a:pt x="45245" y="20200"/>
                </a:lnTo>
                <a:lnTo>
                  <a:pt x="45245" y="1400"/>
                </a:lnTo>
                <a:close/>
              </a:path>
              <a:path fill="darkenLess" w="46645" h="21600">
                <a:moveTo>
                  <a:pt x="4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5" y="20200"/>
                </a:lnTo>
                <a:close/>
              </a:path>
              <a:path fill="lighten" w="4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5" h="21600">
                <a:moveTo>
                  <a:pt x="16316" y="3794"/>
                </a:moveTo>
                <a:lnTo>
                  <a:pt x="30329" y="10800"/>
                </a:lnTo>
                <a:lnTo>
                  <a:pt x="16316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ود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1413000"/>
            <a:ext cx="100800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37080" y="1413000"/>
            <a:ext cx="1079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ميز افتراض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لى غي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ساس مغالط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نطق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1413000"/>
            <a:ext cx="1297080" cy="44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3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عرف عل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جزاء الحوا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تيج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أسبا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1413000"/>
            <a:ext cx="1224000" cy="44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دعاء الحقيق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/ القيم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ه علاقة / لي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ه علاق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1413000"/>
            <a:ext cx="115236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5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عرف عل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5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لس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5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وار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88000" y="1413000"/>
            <a:ext cx="1079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كم عل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وة الح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3B3-C008-4DB7-A4D1-B756EDC648BA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ccff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33"/>
                </a:solidFill>
                <a:latin typeface="Arial"/>
              </a:rPr>
              <a:t>خريطة مهارات وعمليات التفكير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93640" y="907920"/>
            <a:ext cx="750744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 rot="5400000">
            <a:off x="-2097000" y="3473640"/>
            <a:ext cx="469728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اتخاذالقرار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640" y="6418440"/>
            <a:ext cx="786600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5400000">
            <a:off x="6603120" y="3550320"/>
            <a:ext cx="412920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ــواد الـــــدراســـيـــ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3640" y="1413000"/>
            <a:ext cx="7723440" cy="496872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00"/>
            </a:solidFill>
            <a:miter/>
          </a:ln>
          <a:effectLst>
            <a:outerShdw dist="52300" dir="17036436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تحديد الهدف            تحديد الهدف                   تحديد الهد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التعرف على البدائل    التعرف على البدائل          اكتشاف البدائ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تحليل البدائل            تحليل البدائل                  تحليل البدائ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ترتيب البدائل           ترتيب البدائل                 اختيار البديل الأنس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تقويم البدائل            اختيار البديل الأنس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اختيار البديل الأنس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6000" y="5877000"/>
            <a:ext cx="1169640" cy="541440"/>
          </a:xfrm>
          <a:custGeom>
            <a:avLst/>
            <a:gdLst>
              <a:gd name="textAreaLeft" fmla="*/ 34920 w 1169640"/>
              <a:gd name="textAreaRight" fmla="*/ 1134720 w 116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6645" h="21600">
                <a:moveTo>
                  <a:pt x="0" y="0"/>
                </a:moveTo>
                <a:lnTo>
                  <a:pt x="46645" y="0"/>
                </a:lnTo>
                <a:lnTo>
                  <a:pt x="46645" y="21600"/>
                </a:lnTo>
                <a:lnTo>
                  <a:pt x="0" y="21600"/>
                </a:lnTo>
                <a:close/>
              </a:path>
              <a:path fill="lightenLess" w="46645" h="21600">
                <a:moveTo>
                  <a:pt x="0" y="0"/>
                </a:moveTo>
                <a:lnTo>
                  <a:pt x="46645" y="0"/>
                </a:lnTo>
                <a:lnTo>
                  <a:pt x="45245" y="1400"/>
                </a:lnTo>
                <a:lnTo>
                  <a:pt x="1400" y="1400"/>
                </a:lnTo>
                <a:close/>
              </a:path>
              <a:path fill="darken" w="46645" h="21600">
                <a:moveTo>
                  <a:pt x="46645" y="0"/>
                </a:moveTo>
                <a:lnTo>
                  <a:pt x="46645" y="21600"/>
                </a:lnTo>
                <a:lnTo>
                  <a:pt x="45245" y="20200"/>
                </a:lnTo>
                <a:lnTo>
                  <a:pt x="45245" y="1400"/>
                </a:lnTo>
                <a:close/>
              </a:path>
              <a:path fill="darkenLess" w="46645" h="21600">
                <a:moveTo>
                  <a:pt x="4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5" y="20200"/>
                </a:lnTo>
                <a:close/>
              </a:path>
              <a:path fill="lighten" w="4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5" h="21600">
                <a:moveTo>
                  <a:pt x="16316" y="3794"/>
                </a:moveTo>
                <a:lnTo>
                  <a:pt x="30329" y="10800"/>
                </a:lnTo>
                <a:lnTo>
                  <a:pt x="16316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ود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607-6073-4B29-BE86-53BD86D32D48}" type="slidenum">
              <a:t>7</a:t>
            </a:fld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11:58:30Z</dcterms:created>
  <dc:creator/>
  <dc:description>
</dc:description>
  <dc:language>en-US</dc:language>
  <cp:lastModifiedBy>abwaad</cp:lastModifiedBy>
  <dcterms:modified xsi:type="dcterms:W3CDTF">2002-12-25T08:11:02Z</dcterms:modified>
  <cp:revision>556</cp:revision>
  <dc:subject/>
  <dc:title>عرض مشروع المدرسة الرائدة</dc:title>
</cp:coreProperties>
</file>