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450-6778-4CFD-8F9C-CBA29D60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16F-4A47-41B3-8F81-DD21D30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39E-FEFA-475F-976D-F418DBD5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CC9-E933-4D73-B602-7C0BDA8C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065C-E481-4BAF-A6AB-921BEE7F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3DC-215E-44AD-98B4-2FB5819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C03-701A-44C4-9679-8AB2A1B4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7C48-1328-475C-A8AA-8ECB470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86E5-337A-455E-B9CC-6C4AF51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74D-980B-4FAF-87C5-6C7D0BE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416B-BDB6-42F4-81A0-8E2D6B3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89D-5917-4B09-A42B-0DCCECEC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20DE-BD58-469F-9C83-53572D56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9F82-25EC-4B7A-9BDB-A810B00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1C44-25E5-4E22-B004-2CEAFC12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874-6721-4B3D-B9CD-69BC9EEE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7A9-D610-4C3D-92DF-61000270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C497-32CA-4299-9EB4-81F5FE3A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EC6E-34DD-4066-85C9-F2F5DE5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2B1B-AA49-4CB9-BB8B-216F170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BD07-55BD-4FA1-9AB3-F698D0A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E714-833B-4F21-8B91-FF32430B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071-A357-4E2B-87AA-1B0C5B6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0B9C-E60D-466E-BC34-E906541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2C29-62C0-461D-90A3-2EE37D6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3640-49B8-4886-A393-51C37964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2576-34CB-448C-BA2C-2E389C8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9812-5C67-4979-B0DC-E1733739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195E-8FF9-44AE-9C18-31131F41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7DCC-AA10-44FB-9C89-C087D310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89C7-9AE4-4EE9-8736-E81252D1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6E5B-8266-4451-80A2-3355184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A770-D306-4424-A9B7-1337EC02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171-410D-4A78-BE3F-74BAF89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9C64-D837-427D-8113-151C8FF4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34D2-A9B9-4A0E-AAA9-4D22C18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D3811-1B29-455E-AF6A-46F1CC7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7BB7-DCD9-4F66-A6BE-BD83B00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E402-2852-40AA-8375-498FE86B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82675-1E0E-4E2A-9729-1166C5DB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EAF2-B798-4E7B-B7A1-5A991C4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4CC65-936C-489A-BCDB-77D3C296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C16B-8385-4495-B40E-EBF5CA12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2E75F-EE93-441E-9B02-503F313A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87E-F8B6-4669-8666-B520EDFB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6731-1DDF-4D25-9D76-804262F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89E0-91CD-4BE7-BE48-8C9955BC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89DE-983C-4B03-9B16-8720883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7C111-2D0C-4E0C-A793-DF5C18C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59A4D-3A1F-40DC-8C09-5D9703D5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51B6A-B4D8-4C7A-B16A-373A7E4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6CF3-803C-447A-9758-E4176E0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20FD0-2320-4D50-9B55-72F3BD0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16F09-1280-48EF-A11D-F2B4B3B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7655-68CF-4D75-A160-9A2B4ACD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07F-4BBE-41D2-B25E-DF1E6BA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980B-5A04-4A5A-964D-BFE430AF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EF4-7259-4A56-8D3F-9978C63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56D-5403-4D96-BC66-7CD2CC1D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E23-EFF2-44B3-BAA5-45FD016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L-Matee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46D4-FADA-4526-8C15-F89127E25B51}" type="slidenum"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AD7B-41ED-47AC-BFF0-CC5D14DA6D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AE49-40C0-46C0-929F-B2204485B7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3C3-B198-4202-B912-7378FF77B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F321-ED15-4FE5-9644-2C107F61D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fablevision.com/northstar/make/characters/magnifying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6335640" cy="4525920"/>
          </a:xfrm>
          <a:prstGeom prst="rect">
            <a:avLst/>
          </a:prstGeom>
          <a:blipFill rotWithShape="0">
            <a:blip r:embed="rId2">
              <a:alphaModFix amt="29000"/>
            </a:blip>
            <a:stretch/>
          </a:blipFill>
          <a:ln w="76320">
            <a:solidFill>
              <a:srgbClr val="820000">
                <a:alpha val="20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البرنامج المدرسي التفاعلي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كن مخترعا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دورة التدريبية الأولى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رياض 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3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-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4/2/1426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هـ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أوراق الشج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فكر في أكبر عدد ممكن من الأفكار لإنجاح البرنامج في مدينتك؟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مرونة: القدرة على إنتاج أفكار متنوع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تنوع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حول إلى مجالات وتصنيفات متعد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عمل ”تحويلة“ في طريق التفكي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مرون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ستخدم القائمة التي حصلت عليها من مرحلة الطلاق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قم بتصنيف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ؤال هنا عن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ي يمكن بها استخدام ا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لإنجاح البرنامج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افحص الأفكار السابقة وقم بتصنيفها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مثلة مساعدة للتفكير المرن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عكس ما هو موجود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تمثل رؤية الآخرين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الذات موضع التطوير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مجالات الاستخدام والربط بينها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أصالة أو الجدة: القدرة على إنتاج حلول جديدة أو غريب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ستجابات غير اعتيادي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ذكية ومفاجأ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بعيدة عن ما هو واضح ومشاهد من جميع أو معظم الناس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صال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خدم القائمة السابقة للبحث عن أفكار غريبة وناد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أل نفسك ما الذي يجعل من بعض الأفكار غريبة ونادرة.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للمساعدة على أصالة التفكير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شجع على الربط بين فكرتين أو أكثر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تفكير إلى البحث عن استخدامات جدي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نظر إلى استهداف الج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إضافة والتفاصيل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إضافة والتفصيل:القدرة على تطوير، توسيع، أو إضافة تفاصيل جديدة إلى الحلول المقدم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لقدرة على جعل فكرة ما تظهر بصورة أفضل من خلال البناء والإضافة إليها 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ختر فكرة واحدة من القائمة لتطويرها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أضف تفاصيل جديدة لتطوير الفكر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طلاقة = أفكار كثي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مرونة = أفكار منوع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أصالة = أفكار جديد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إضافة = زيادة تفاصيل دقيق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0066"/>
                </a:solidFill>
                <a:latin typeface="AL-Mateen"/>
                <a:cs typeface="AL-Majd"/>
              </a:rPr>
              <a:t>المحتوى التدريبي</a:t>
            </a:r>
            <a:endParaRPr b="0" lang="en-US" sz="5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عريف عام بعناصر الإبداع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طلاق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مرون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أصال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تفاصيل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طوير الأفكا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الخيال أهم من العلم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أنشتاين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800" spc="-1" strike="noStrike">
                <a:solidFill>
                  <a:srgbClr val="ffffcc"/>
                </a:solidFill>
                <a:latin typeface="Tahoma"/>
                <a:cs typeface="Al-Hadith2"/>
              </a:rPr>
              <a:t>سكامبر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Scamp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669680" y="189000"/>
            <a:ext cx="7294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بدل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bstitu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ادمج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كيِّف أو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غير ،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كب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f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صغ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ضعه في استخدامات أخرى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t to other uses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حذف أو صغر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iminate or 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عكس  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rs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د الرتيب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r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 rot="5400000">
            <a:off x="-1945440" y="2601000"/>
            <a:ext cx="619308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 بدل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bstitu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 ) 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استبداله من الأجزاء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ادمج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bine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دمجه من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إضافت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كيِّف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عدل بحيث يناسب حالات معينة وأغراض متعدد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غير    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غير اللون ، الشكل ، الطول ، العرض ، المادة المصنوع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كب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gnify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كبيره ، تقويمه، تعريض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صغر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nify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صغيره ، إخفاؤه ، تقصي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ضعه في استخدامات أخرى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 to other us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ل هناك استخدامات أخرى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كيف يمكن الاستفادة منه بصور متعد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ما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 rtl="1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660066"/>
                </a:solidFill>
                <a:latin typeface="AL-Mateen"/>
              </a:rPr>
              <a:t>القدرة على الخروج بأفكار وحلول تتسم بالجدة والأهمية للمشاكل والتحديات اليومية. </a:t>
            </a:r>
            <a:endParaRPr b="0" lang="en-US" sz="52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حذف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شيء أو الأشياء التي يمكن حذفها أو تقليص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عكس 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ers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فكر في أن تقلب هذا الشيء وتنظر إليه بالعك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أجزاء التي يمكن عكسه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أعد الترتيب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 أن نغير في ترتيب الحركات أو الأعمال أو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قويم الأداء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وليد عدد كبير من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نوع مجالات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فكير بأشياء لم نفكر بها من قبل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عبير عن أنفسنا بأساليب جديدة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جنيب خبراتنا وتصوراتنا السابقة الأفكار التي توصلنا إلي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دمج بين الأفكار وتطوير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كيف يمكن تشخيص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660066"/>
                </a:solidFill>
                <a:latin typeface="AL-Mateen"/>
                <a:cs typeface="Traditional Arabic"/>
              </a:rPr>
              <a:t>هناك إجماع بين الباحثين على أن السلوك الإبداعي يخرج إلى الوجود كنتاج تأثير مجموعة من المؤثرات الشخصية والنفسية والعقلية والاجتماعية.</a:t>
            </a:r>
            <a:endParaRPr b="0" lang="en-US" sz="38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3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051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نمية الإبداع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الأبحاث العلمية دلت على: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 أن عملية التفكير الإبداعي يمكن تعلم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عملية التفكير الإبداعي ليست شيئا إما أن يملكه الإنسان أو لا يملكه، بل هي في الواقع عملية يمكن أن يعمل المعلم أو الأب على تنميتها أو ضمور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أهم أربعة عناصر للتفكير الإبداعي هي: (الطلاقة، المرونة، الأصالة، التفاصيل)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بمجرد توجيه الذهن إلى هذه العناصر وفهم طبيعتها يستطيع الإنسان تطويرها بشكل ذاتي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هداف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هدف الرئيس هو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نمية الوعي بعناصر السلوك الإبداعي. 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 الرئيس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طلاقة: القدرة على انتاج عدد كبير من الحلول لمشكلة ما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تفكير في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كبر عدد ممكن من الاستجابات ذات العلاقة.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جري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أثناء التفكير في هذه المرحلة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قم بتقيي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نتق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ثني على أي فك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حضر الهدف من هذه المرحل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12:56Z</dcterms:created>
  <dc:creator>Administrator</dc:creator>
  <dc:description/>
  <dc:language>en-US</dc:language>
  <cp:lastModifiedBy> </cp:lastModifiedBy>
  <dcterms:modified xsi:type="dcterms:W3CDTF">2005-04-02T13:30:06Z</dcterms:modified>
  <cp:revision>5</cp:revision>
  <dc:subject/>
  <dc:title>الشريحة 1</dc:title>
</cp:coreProperties>
</file>