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58EE-EC9C-42A2-829D-444AFBB34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1FE4-C8A2-49A9-98B3-93AEBDA0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6829-02A5-4E4A-8D93-95C1339C3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F3B3-A67D-4DA8-8643-35F1C8BA3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2B64E-472E-4FD2-94BB-DEA880059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212C9-1DFA-4CCB-A93D-E4CF42D1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E549-BD84-4502-A3AF-7E542609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32AB-B610-4FE7-95AD-AF58F559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C263-DC92-41E9-B22D-D4C6D90D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F5A8A-503F-4A49-B175-03C32A51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8251-DCDA-4F57-8146-3B5BDEFE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A98C-77C2-46FC-A21F-3C65812A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7DAC0-25D7-4E46-A056-A9DDBF4A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829A8-8A23-44EB-820E-A0377822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A1FC-D1ED-48A1-BFB7-94906E6D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271C4-0CB0-4DFF-B83A-9021E11FD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EFC53-7650-47BE-9BF6-D31420362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F8716-B98C-4814-83E2-F56DF9DE5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791A6-BF97-4255-A413-1F18E741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714C5-6FD7-401E-8216-7E105494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DACCA-A348-482D-B96F-618CB880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58CD5-1001-48A0-8274-1584C144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9D92-2BC2-4AAA-8B6E-FAF47FA8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B94C7-A641-4A9F-81C5-F1CD14E5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BFAC8-DD11-48CB-8E9E-99BDC4DC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8439F-0BFA-4BA6-860E-A1AA89DD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C18E9-D239-4C0D-BB53-6D54D958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D371A-9776-450D-8EE8-2D3C048A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4DDD5-B0CA-4FAE-B486-8ACE8EFAA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3DEF8-B78F-4081-B05D-6BAF8A106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F943C-14EB-41C1-AC39-8486EA050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8EBA7-28E0-44F0-AE58-F516EFC1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91C9B-F141-4C46-9E4E-75597500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8BC0-E6B6-4A76-98E8-F6CC8BC4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3E567-9AB4-473E-B7BF-8E9FE805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B277A-E1D3-4F99-A043-6E9B10F8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C6055-BD5B-43F7-9F1E-85C87B12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784D7-830C-424D-90C0-B22E5E4D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3C31B-D58D-4B5E-BD9F-3C3004F5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C61EA-6C48-4972-808B-0781A092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5EED7-666F-4447-8217-E232085C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C4897-B5F8-4038-B26B-E1B875D8C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9C2B7-C517-4515-8DD1-3CE468D82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75A7A-61B4-41DF-8051-00E47F578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B348-F7C4-4149-B6A6-73369452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288D7-0869-4E15-AF5D-BF83F656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0BA93-4703-49D6-AB6B-4552C523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43B41-979A-4B86-ACE8-AC51D073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40466-4811-4C52-9330-24C45A73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AF351-5C54-4C4D-ADF4-311E00B5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C6BCD-7477-4816-85D0-870DA72B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4FF41-6CB7-4336-B61A-397EE0E3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71F87-2FD9-43F8-AC47-76399371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911E7-57DD-44F7-AD77-5BFE3DEC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1B28C-367E-461E-8C54-89C76D62B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4B62-E72E-4A9B-B686-029C1FE1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F6898-41FC-4A9E-A0A7-CEAE69431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EB79-B504-4385-8C8E-F6DB983C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D744-2D06-4389-BAFA-C3758F7D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62F9-B946-43E9-BB1E-71FC70DE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L-Mateen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L-Mateen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L-Mateen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L-Mateen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L-Mateen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660066"/>
              </a:buClr>
              <a:buFont typeface="AL-Matee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L-Mateen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660066"/>
              </a:buClr>
              <a:buFont typeface="AL-Matee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L-Mateen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660066"/>
              </a:buClr>
              <a:buFont typeface="AL-Matee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L-Mateen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L-Mateen"/>
                <a:ea typeface="AL-Matee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L-Mateen"/>
                <a:ea typeface="AL-Matee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L-Mateen"/>
                <a:ea typeface="AL-Matee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L-Mateen"/>
                <a:ea typeface="AL-Matee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L-Mateen"/>
                <a:ea typeface="AL-Matee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368D-3C0A-4BBB-8BF1-72F9B02567C1}" type="slidenum">
              <a:rPr b="0" lang="en-US" sz="1400" spc="-1" strike="noStrike">
                <a:solidFill>
                  <a:srgbClr val="000000"/>
                </a:solidFill>
                <a:latin typeface="AL-Mateen"/>
                <a:ea typeface="AL-Matee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D7BD-B206-4CBA-9170-C00C840A3D2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78E2-848E-48C1-AD09-8F0A07E9379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30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7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"/>
                </a:endParaRPr>
              </a:p>
            </p:txBody>
          </p:sp>
        </p:grp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0A0B-7B46-472E-A72D-A484AA0A5F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1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0066"/>
                </a:solidFill>
                <a:latin typeface="Arial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0066"/>
                  </a:solidFill>
                  <a:latin typeface="Arial"/>
                </a:endParaRPr>
              </a:p>
            </p:txBody>
          </p:sp>
        </p:grp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6914-3879-48D7-B0C9-EB372B26A4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hyperlink" Target="http://www.fablevision.com/northstar/make/characters/magnifying.gif" TargetMode="Externa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1476000" y="1197000"/>
            <a:ext cx="6335640" cy="4525920"/>
          </a:xfrm>
          <a:prstGeom prst="rect">
            <a:avLst/>
          </a:prstGeom>
          <a:blipFill rotWithShape="0">
            <a:blip r:embed="rId2">
              <a:alphaModFix amt="29000"/>
            </a:blip>
            <a:stretch/>
          </a:blipFill>
          <a:ln w="76320">
            <a:solidFill>
              <a:srgbClr val="820000">
                <a:alpha val="20000"/>
              </a:srgbClr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L-Mateen"/>
                <a:cs typeface="Al Moharib  Blook Othman1"/>
              </a:rPr>
              <a:t>البرنامج المدرسي التفاعلي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L-Mateen"/>
                <a:cs typeface="Al Moharib  Blook Othman1"/>
              </a:rPr>
              <a:t>كن مخترعا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AL-Mateen"/>
                <a:cs typeface="AL-Mohanad Bold"/>
              </a:rPr>
              <a:t>الدورة التدريبية الأولى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AL-Mateen"/>
                <a:cs typeface="AL-Mohanad Bold"/>
              </a:rPr>
              <a:t>الرياض </a:t>
            </a:r>
            <a:r>
              <a:rPr b="0" lang="ar-SA" sz="3200" spc="-1" strike="noStrike">
                <a:solidFill>
                  <a:srgbClr val="660066"/>
                </a:solidFill>
                <a:latin typeface="AL-Mateen"/>
                <a:ea typeface="AL-Mohanad Bold"/>
              </a:rPr>
              <a:t>23</a:t>
            </a:r>
            <a:r>
              <a:rPr b="0" lang="ar-SA" sz="3200" spc="-1" strike="noStrike">
                <a:solidFill>
                  <a:srgbClr val="660066"/>
                </a:solidFill>
                <a:latin typeface="AL-Mateen"/>
                <a:ea typeface="AL-Mohanad Bold"/>
              </a:rPr>
              <a:t>-</a:t>
            </a:r>
            <a:r>
              <a:rPr b="0" lang="ar-SA" sz="3200" spc="-1" strike="noStrike">
                <a:solidFill>
                  <a:srgbClr val="660066"/>
                </a:solidFill>
                <a:latin typeface="AL-Mateen"/>
                <a:ea typeface="AL-Mohanad Bold"/>
              </a:rPr>
              <a:t>24/2/1426</a:t>
            </a:r>
            <a:r>
              <a:rPr b="0" lang="ar-SA" sz="3200" spc="-1" strike="noStrike">
                <a:solidFill>
                  <a:srgbClr val="660066"/>
                </a:solidFill>
                <a:latin typeface="AL-Mateen"/>
                <a:cs typeface="AL-Mohanad Bold"/>
              </a:rPr>
              <a:t>هـ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تدريب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L-Mateen"/>
            </a:endParaRPr>
          </a:p>
          <a:p>
            <a:pPr marL="329040" indent="0" algn="ctr" rtl="1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AL-Mateen"/>
              </a:rPr>
              <a:t>فكر في أكبر قدر ممكن من الاستخدامات لأوراق الشجر.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29040" indent="0" algn="ctr" rtl="1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0066"/>
                </a:solidFill>
                <a:latin typeface="AL-Mateen"/>
              </a:rPr>
              <a:t>فكر في أكبر عدد ممكن من الأفكار لإنجاح البرنامج في مدينتك؟</a:t>
            </a: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100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AL-Mateen"/>
              </a:rPr>
              <a:t>المرونة: القدرة على إنتاج أفكار متنوعة.</a:t>
            </a:r>
            <a:endParaRPr b="0" lang="en-US" sz="4400" spc="-1" strike="noStrike">
              <a:solidFill>
                <a:srgbClr val="660066"/>
              </a:solidFill>
              <a:latin typeface="AL-Mateen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60066"/>
                </a:solidFill>
                <a:latin typeface="AL-Mateen"/>
              </a:rPr>
              <a:t> تنوع الأفكار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60066"/>
                </a:solidFill>
                <a:latin typeface="AL-Mateen"/>
              </a:rPr>
              <a:t> التحول إلى مجالات وتصنيفات متعددة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60066"/>
                </a:solidFill>
                <a:latin typeface="AL-Mateen"/>
              </a:rPr>
              <a:t> عمل ”تحويلة“ في طريق التفكير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المرونة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1001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60066"/>
                </a:solidFill>
                <a:latin typeface="AL-Mateen"/>
              </a:rPr>
              <a:t>استخدم القائمة التي حصلت عليها من مرحلة الطلاقة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marL="315360" indent="-315360" algn="r" rtl="1">
              <a:spcBef>
                <a:spcPts val="1001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60066"/>
                </a:solidFill>
                <a:latin typeface="AL-Mateen"/>
              </a:rPr>
              <a:t>قم بتصنيف الأفكار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marL="31536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60066"/>
                </a:solidFill>
                <a:latin typeface="AL-Mateen"/>
              </a:rPr>
              <a:t>السؤال هنا عن: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marL="3153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60066"/>
                </a:solidFill>
                <a:latin typeface="AL-Mateen"/>
              </a:rPr>
              <a:t>السبل </a:t>
            </a:r>
            <a:r>
              <a:rPr b="0" lang="ar-SA" sz="4000" spc="-1" strike="noStrike">
                <a:solidFill>
                  <a:srgbClr val="cc3300"/>
                </a:solidFill>
                <a:latin typeface="AL-Mateen"/>
              </a:rPr>
              <a:t>المتنوعة</a:t>
            </a:r>
            <a:r>
              <a:rPr b="0" lang="ar-SA" sz="4000" spc="-1" strike="noStrike">
                <a:solidFill>
                  <a:srgbClr val="660066"/>
                </a:solidFill>
                <a:latin typeface="AL-Mateen"/>
              </a:rPr>
              <a:t> التي يمكن بها استخدام الحجر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marL="3153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60066"/>
                </a:solidFill>
                <a:latin typeface="AL-Mateen"/>
              </a:rPr>
              <a:t>السبل </a:t>
            </a:r>
            <a:r>
              <a:rPr b="0" lang="ar-SA" sz="4000" spc="-1" strike="noStrike">
                <a:solidFill>
                  <a:srgbClr val="cc3300"/>
                </a:solidFill>
                <a:latin typeface="AL-Mateen"/>
              </a:rPr>
              <a:t>المتنوعة</a:t>
            </a:r>
            <a:r>
              <a:rPr b="0" lang="ar-SA" sz="4000" spc="-1" strike="noStrike">
                <a:solidFill>
                  <a:srgbClr val="660066"/>
                </a:solidFill>
                <a:latin typeface="AL-Mateen"/>
              </a:rPr>
              <a:t> لإنجاح البرنامج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تدريب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AL-Mateen"/>
              </a:rPr>
              <a:t>افحص الأفكار السابقة وقم بتصنيفها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AL-Mateen"/>
              </a:rPr>
              <a:t>أمثلة مساعدة للتفكير المرن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L-Mateen"/>
              </a:rPr>
              <a:t>توجيه التفكير إلى تصور عكس ما هو موجود</a:t>
            </a:r>
            <a:endParaRPr b="0" lang="en-US" sz="28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L-Mateen"/>
              </a:rPr>
              <a:t>توجيه النظر إلى تمثل رؤية الآخرين</a:t>
            </a:r>
            <a:endParaRPr b="0" lang="en-US" sz="28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L-Mateen"/>
              </a:rPr>
              <a:t>توجيه التفكير إلى تصور الذات موضع التطوير</a:t>
            </a:r>
            <a:r>
              <a:rPr b="0" lang="en-US" sz="3200" spc="-1" strike="noStrike">
                <a:solidFill>
                  <a:srgbClr val="660066"/>
                </a:solidFill>
                <a:latin typeface="AL-Mateen"/>
              </a:rPr>
              <a:t> 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L-Mateen"/>
              </a:rPr>
              <a:t>توجيه النظر إلى مجالات الاستخدام والربط بينها</a:t>
            </a:r>
            <a:endParaRPr b="0" lang="en-US" sz="28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100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AL-Mateen"/>
              </a:rPr>
              <a:t>الأصالة أو الجدة: القدرة على إنتاج حلول جديدة أو غريبة.</a:t>
            </a:r>
            <a:endParaRPr b="0" lang="en-US" sz="4400" spc="-1" strike="noStrike">
              <a:solidFill>
                <a:srgbClr val="660066"/>
              </a:solidFill>
              <a:latin typeface="AL-Mateen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60066"/>
                </a:solidFill>
                <a:latin typeface="AL-Mateen"/>
              </a:rPr>
              <a:t> استجابات غير اعتيادية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60066"/>
                </a:solidFill>
                <a:latin typeface="AL-Mateen"/>
              </a:rPr>
              <a:t> ذكية ومفاجأة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660066"/>
                </a:solidFill>
                <a:latin typeface="AL-Mateen"/>
              </a:rPr>
              <a:t>بعيدة عن ما هو واضح ومشاهد من جميع أو معظم الناس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الأصالة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  <a:p>
            <a:pPr marL="343080" indent="-343080" algn="r" rtl="1">
              <a:spcBef>
                <a:spcPts val="901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0066"/>
                </a:solidFill>
                <a:latin typeface="AL-Mateen"/>
              </a:rPr>
              <a:t>استخدم القائمة السابقة للبحث عن أفكار غريبة ونادرة.</a:t>
            </a: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  <a:p>
            <a:pPr marL="343080" indent="-34308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0066"/>
                </a:solidFill>
                <a:latin typeface="AL-Mateen"/>
              </a:rPr>
              <a:t>اسأل نفسك ما الذي يجعل من بعض الأفكار غريبة ونادرة.</a:t>
            </a:r>
            <a:r>
              <a:rPr b="0" lang="en-US" sz="3200" spc="-1" strike="noStrike">
                <a:solidFill>
                  <a:srgbClr val="660066"/>
                </a:solidFill>
                <a:latin typeface="AL-Mateen"/>
              </a:rPr>
              <a:t> 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AL-Mateen"/>
              </a:rPr>
              <a:t>للمساعدة على أصالة التفكير: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L-Mateen"/>
              </a:rPr>
              <a:t>شجع على الربط بين فكرتين أو أكثر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L-Mateen"/>
              </a:rPr>
              <a:t>وجه التفكير إلى البحث عن استخدامات جديدة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L-Mateen"/>
              </a:rPr>
              <a:t>وجه النظر إلى استهداف الجدة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الإضافة والتفاصيل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100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AL-Mateen"/>
              </a:rPr>
              <a:t>الإضافة والتفصيل:القدرة على تطوير، توسيع، أو إضافة تفاصيل جديدة إلى الحلول المقدمة.</a:t>
            </a:r>
            <a:endParaRPr b="0" lang="en-US" sz="44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AL-Mateen"/>
              </a:rPr>
              <a:t>القدرة على جعل فكرة ما تظهر بصورة أفضل من خلال البناء والإضافة إليها 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AL-Mateen"/>
              </a:rPr>
              <a:t>اختر فكرة واحدة من القائمة لتطويرها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marL="343080" indent="-343080" algn="r" rtl="1">
              <a:spcBef>
                <a:spcPts val="1001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AL-Mateen"/>
              </a:rPr>
              <a:t>أضف تفاصيل جديدة لتطوير الفكرة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عناصر السلوك الإبداعي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0066"/>
                </a:solidFill>
                <a:latin typeface="AL-Mateen"/>
              </a:rPr>
              <a:t>الطلاقة = أفكار كثيرة.</a:t>
            </a: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0066"/>
                </a:solidFill>
                <a:latin typeface="AL-Mateen"/>
              </a:rPr>
              <a:t>المرونة = أفكار منوعة.</a:t>
            </a: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0066"/>
                </a:solidFill>
                <a:latin typeface="AL-Mateen"/>
              </a:rPr>
              <a:t>الأصالة = أفكار جديدة.</a:t>
            </a: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0066"/>
                </a:solidFill>
                <a:latin typeface="AL-Mateen"/>
              </a:rPr>
              <a:t>الإضافة = زيادة تفاصيل دقيقة.</a:t>
            </a: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660066"/>
                </a:solidFill>
                <a:latin typeface="AL-Mateen"/>
                <a:cs typeface="AL-Majd"/>
              </a:rPr>
              <a:t>المحتوى التدريبي</a:t>
            </a:r>
            <a:endParaRPr b="0" lang="en-US" sz="5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0066"/>
                </a:solidFill>
                <a:latin typeface="AL-Mateen"/>
                <a:cs typeface="AL-Mohanad Bold"/>
              </a:rPr>
              <a:t>تعريف عام بعناصر الإبداع:</a:t>
            </a: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AL-Mateen"/>
                <a:cs typeface="AL-Mohanad Bold"/>
              </a:rPr>
              <a:t>الطلاقة.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AL-Mateen"/>
                <a:cs typeface="AL-Mohanad Bold"/>
              </a:rPr>
              <a:t>المرونة.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AL-Mateen"/>
                <a:cs typeface="AL-Mohanad Bold"/>
              </a:rPr>
              <a:t>الأصالة.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AL-Mateen"/>
                <a:cs typeface="AL-Mohanad Bold"/>
              </a:rPr>
              <a:t>التفاصيل.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AL-Mateen"/>
                <a:cs typeface="AL-Mohanad Bold"/>
              </a:rPr>
              <a:t>تطوير الأفكار.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1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660066"/>
                </a:solidFill>
                <a:latin typeface="AL-Mateen"/>
              </a:rPr>
              <a:t>الخيال أهم من العلم</a:t>
            </a:r>
            <a:endParaRPr b="0" lang="en-US" sz="6000" spc="-1" strike="noStrike">
              <a:solidFill>
                <a:srgbClr val="660066"/>
              </a:solidFill>
              <a:latin typeface="AL-Mateen"/>
            </a:endParaRPr>
          </a:p>
          <a:p>
            <a:pPr marL="343080" indent="0" algn="ctr" rtl="1">
              <a:lnSpc>
                <a:spcPct val="1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660066"/>
                </a:solidFill>
                <a:latin typeface="AL-Mateen"/>
              </a:rPr>
              <a:t>أنشتاين</a:t>
            </a:r>
            <a:endParaRPr b="0" lang="en-US" sz="60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800" spc="-1" strike="noStrike">
                <a:solidFill>
                  <a:srgbClr val="ffffcc"/>
                </a:solidFill>
                <a:latin typeface="Tahoma"/>
                <a:cs typeface="Al-Hadith2"/>
              </a:rPr>
              <a:t>سكامبر</a:t>
            </a:r>
            <a:endParaRPr b="0" lang="en-US" sz="10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Tahoma"/>
              </a:rPr>
              <a:t>Scamper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4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98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1669680" y="189000"/>
            <a:ext cx="729468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 algn="r" rtl="1">
              <a:spcBef>
                <a:spcPts val="799"/>
              </a:spcBef>
              <a:buClr>
                <a:srgbClr val="ff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 بدل (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ubstitut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 )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 algn="r" rtl="1">
              <a:spcBef>
                <a:spcPts val="799"/>
              </a:spcBef>
              <a:buClr>
                <a:srgbClr val="ff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ادمج (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mbine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 algn="r" rtl="1">
              <a:spcBef>
                <a:spcPts val="799"/>
              </a:spcBef>
              <a:buClr>
                <a:srgbClr val="ff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كيِّف أو عدل  (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dapt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)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 algn="r" rtl="1">
              <a:spcBef>
                <a:spcPts val="799"/>
              </a:spcBef>
              <a:buClr>
                <a:srgbClr val="ff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غير ، عدل  (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dif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 algn="r" rtl="1">
              <a:spcBef>
                <a:spcPts val="799"/>
              </a:spcBef>
              <a:buClr>
                <a:srgbClr val="ff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كبر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agnify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) 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 algn="r" rtl="1">
              <a:spcBef>
                <a:spcPts val="799"/>
              </a:spcBef>
              <a:buClr>
                <a:srgbClr val="ff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صغر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inify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 algn="r" rtl="1">
              <a:spcBef>
                <a:spcPts val="799"/>
              </a:spcBef>
              <a:buClr>
                <a:srgbClr val="ff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ضعه في استخدامات أخرى  (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ut to other uses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 algn="r" rtl="1">
              <a:spcBef>
                <a:spcPts val="799"/>
              </a:spcBef>
              <a:buClr>
                <a:srgbClr val="ff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احذف أو صغر  (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liminate or Minify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 algn="r" rtl="1">
              <a:spcBef>
                <a:spcPts val="799"/>
              </a:spcBef>
              <a:buClr>
                <a:srgbClr val="ff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اعكس   (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verse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 )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 algn="r" rtl="1">
              <a:spcBef>
                <a:spcPts val="799"/>
              </a:spcBef>
              <a:buClr>
                <a:srgbClr val="ff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أعد الرتيب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arr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 rot="5400000">
            <a:off x="-1945440" y="2601000"/>
            <a:ext cx="6193080" cy="180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-  بدل (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ubstitute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  ) 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ما الذي يمكن استبداله من الأجزاء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- ادمج (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mbine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 )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ما الذي يمكن دمجه من الأجزاء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ما الذي يمكن إضافته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- كيِّف  (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apt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)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كيف يمكننا أن نعدل بحيث يناسب حالات معينة وأغراض متعددة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- غير      (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ify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)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كيف يمكننا أن نغير اللون ، الشكل ، الطول ، العرض ، المادة المصنوعة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- كبر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gnify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ما الذي يمكن تكبيره ، تقويمه، تعريضه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- صغر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inify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ما الذي يمكن تصغيره ، إخفاؤه ، تقصيره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9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- ضعه في استخدامات أخرى</a:t>
            </a:r>
            <a:br>
              <a:rPr sz="4400"/>
            </a:b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ut to other uses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)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2923920"/>
            <a:ext cx="8229600" cy="32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هل هناك استخدامات أخرى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كيف يمكن الاستفادة منه بصور متعددة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ما الإبداع؟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 rtl="1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200" spc="-1" strike="noStrike">
                <a:solidFill>
                  <a:srgbClr val="660066"/>
                </a:solidFill>
                <a:latin typeface="AL-Mateen"/>
              </a:rPr>
              <a:t>القدرة على الخروج بأفكار وحلول تتسم بالجدة والأهمية للمشاكل والتحديات اليومية. </a:t>
            </a:r>
            <a:endParaRPr b="0" lang="en-US" sz="5200" spc="-1" strike="noStrike">
              <a:solidFill>
                <a:srgbClr val="660066"/>
              </a:solidFill>
              <a:latin typeface="AL-Matee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37339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- احذف (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iminat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) 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ما الشيء أو الأشياء التي يمكن حذفها أو تقليصه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- اعكس  (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verse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) 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فكر في أن تقلب هذا الشيء وتنظر إليه بالعك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ما الأجزاء التي يمكن عكسه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- أعد الترتيب 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arran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كيف يمكن أن نغير في ترتيب الحركات أو الأعمال أو الأجزاء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تقويم الأداء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AL-Mateen"/>
              </a:rPr>
              <a:t>كيف كان أداؤنا في توليد عدد كبير من الأفكار؟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578880" indent="-57888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AL-Mateen"/>
              </a:rPr>
              <a:t>كيف كان أداؤنا في تنوع مجالات الأفكار؟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578880" indent="-57888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AL-Mateen"/>
              </a:rPr>
              <a:t>كيف كان أداؤنا في التفكير بأشياء لم نفكر بها من قبل؟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578880" indent="-57888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AL-Mateen"/>
              </a:rPr>
              <a:t>كيف كان أداؤنا في التعبير عن أنفسنا بأساليب جديدة؟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578880" indent="-57888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AL-Mateen"/>
              </a:rPr>
              <a:t>كيف كان أداؤنا في تجنيب خبراتنا وتصوراتنا السابقة الأفكار التي توصلنا إليها؟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578880" indent="-57888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AL-Mateen"/>
              </a:rPr>
              <a:t>كيف كان أداؤنا في الدمج بين الأفكار وتطويرها؟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كيف يمكن تشخيص الإبداع؟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456840" y="1600200"/>
            <a:ext cx="4033800" cy="452592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r" rtl="1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660066"/>
                </a:solidFill>
                <a:latin typeface="AL-Mateen"/>
                <a:cs typeface="Traditional Arabic"/>
              </a:rPr>
              <a:t>هناك إجماع بين الباحثين على أن السلوك الإبداعي يخرج إلى الوجود كنتاج تأثير مجموعة من المؤثرات الشخصية والنفسية والعقلية والاجتماعية.</a:t>
            </a:r>
            <a:endParaRPr b="0" lang="en-US" sz="3800" spc="-1" strike="noStrike">
              <a:solidFill>
                <a:srgbClr val="660066"/>
              </a:solidFill>
              <a:latin typeface="AL-Mateen"/>
            </a:endParaRPr>
          </a:p>
        </p:txBody>
      </p:sp>
      <p:pic>
        <p:nvPicPr>
          <p:cNvPr id="30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5800" y="1905120"/>
            <a:ext cx="380988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تنمية الإبداع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AL-Mateen"/>
              </a:rPr>
              <a:t>الأبحاث العلمية دلت على: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AL-Mateen"/>
              </a:rPr>
              <a:t> أن عملية التفكير الإبداعي يمكن تعلمها.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AL-Mateen"/>
              </a:rPr>
              <a:t>عملية التفكير الإبداعي ليست شيئا إما أن يملكه الإنسان أو لا يملكه، بل هي في الواقع عملية يمكن أن يعمل المعلم أو الأب على تنميتها أو ضمورها.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AL-Mateen"/>
              </a:rPr>
              <a:t>أهم أربعة عناصر للتفكير الإبداعي هي: (الطلاقة، المرونة، الأصالة، التفاصيل).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  <a:p>
            <a:pPr marL="322200" indent="-322200" algn="r" rtl="1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AL-Mateen"/>
              </a:rPr>
              <a:t>بمجرد توجيه الذهن إلى هذه العناصر وفهم طبيعتها يستطيع الإنسان تطويرها بشكل ذاتي.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الأهداف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660066"/>
                </a:solidFill>
                <a:latin typeface="AL-Mateen"/>
                <a:cs typeface="AL-Mohanad Bold"/>
              </a:rPr>
              <a:t>الهدف الرئيس هو:</a:t>
            </a:r>
            <a:endParaRPr b="0" lang="en-US" sz="4400" spc="-1" strike="noStrike">
              <a:solidFill>
                <a:srgbClr val="660066"/>
              </a:solidFill>
              <a:latin typeface="AL-Mateen"/>
            </a:endParaRPr>
          </a:p>
          <a:p>
            <a:pPr marL="609480" indent="0" algn="ctr" rtl="1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660066"/>
                </a:solidFill>
                <a:latin typeface="AL-Mateen"/>
                <a:cs typeface="AL-Mohanad Bold"/>
              </a:rPr>
              <a:t>تنمية الوعي بعناصر السلوك الإبداعي. </a:t>
            </a:r>
            <a:endParaRPr b="0" lang="en-US" sz="44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عناصر السلوك الإبداعي الرئيسة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100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AL-Mateen"/>
              </a:rPr>
              <a:t>الطلاقة: القدرة على انتاج عدد كبير من الحلول لمشكلة ما.</a:t>
            </a:r>
            <a:endParaRPr b="0" lang="en-US" sz="4400" spc="-1" strike="noStrike">
              <a:solidFill>
                <a:srgbClr val="660066"/>
              </a:solidFill>
              <a:latin typeface="AL-Mateen"/>
            </a:endParaRPr>
          </a:p>
          <a:p>
            <a:pPr marL="343080" indent="-343080" algn="r" rtl="1">
              <a:spcBef>
                <a:spcPts val="1100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AL-Mateen"/>
              </a:rPr>
              <a:t>التفكير في:</a:t>
            </a:r>
            <a:endParaRPr b="0" lang="en-US" sz="4400" spc="-1" strike="noStrike">
              <a:solidFill>
                <a:srgbClr val="660066"/>
              </a:solidFill>
              <a:latin typeface="AL-Matee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660066"/>
              </a:buClr>
              <a:buFont typeface="AL-Matee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AL-Mateen"/>
              </a:rPr>
              <a:t>أكبر عدد ممكن من الاستجابات ذات العلاقة. </a:t>
            </a:r>
            <a:endParaRPr b="0" lang="en-US" sz="32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الطلاقة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 rtl="1">
              <a:lnSpc>
                <a:spcPct val="2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AL-Mateen"/>
              </a:rPr>
              <a:t>فكر في أكبر قدر ممكن من الاستخدامات للحجر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  <a:p>
            <a:pPr marL="301680" indent="0" algn="ctr" rtl="1">
              <a:lnSpc>
                <a:spcPct val="2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AL-Mateen"/>
              </a:rPr>
              <a:t>فكر في أكبر قدر ممكن من الاستخدامات للجريدة.</a:t>
            </a:r>
            <a:endParaRPr b="0" lang="en-US" sz="40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00"/>
                </a:solidFill>
                <a:latin typeface="AL-Mateen"/>
              </a:rPr>
              <a:t>الطلاقة</a:t>
            </a:r>
            <a:endParaRPr b="0" lang="en-US" sz="4400" spc="-1" strike="noStrike">
              <a:solidFill>
                <a:srgbClr val="006600"/>
              </a:solidFill>
              <a:latin typeface="AL-Matee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0066"/>
                </a:solidFill>
                <a:latin typeface="AL-Mateen"/>
              </a:rPr>
              <a:t>أثناء التفكير في هذه المرحلة:</a:t>
            </a: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  <a:p>
            <a:pPr marL="343080" indent="-343080" algn="r" rtl="1">
              <a:spcBef>
                <a:spcPts val="901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0066"/>
                </a:solidFill>
                <a:latin typeface="AL-Mateen"/>
              </a:rPr>
              <a:t>قم بتقييد الأفكار.</a:t>
            </a: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  <a:p>
            <a:pPr marL="343080" indent="-343080" algn="r" rtl="1">
              <a:spcBef>
                <a:spcPts val="901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0066"/>
                </a:solidFill>
                <a:latin typeface="AL-Mateen"/>
              </a:rPr>
              <a:t>لا تنتقد الأفكار.</a:t>
            </a: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  <a:p>
            <a:pPr marL="343080" indent="-343080" algn="r" rtl="1">
              <a:spcBef>
                <a:spcPts val="901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0066"/>
                </a:solidFill>
                <a:latin typeface="AL-Mateen"/>
              </a:rPr>
              <a:t>لا تثني على أي فكرة.</a:t>
            </a: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  <a:p>
            <a:pPr marL="343080" indent="-343080" algn="r" rtl="1">
              <a:spcBef>
                <a:spcPts val="901"/>
              </a:spcBef>
              <a:buClr>
                <a:srgbClr val="660066"/>
              </a:buClr>
              <a:buFont typeface="AL-Mate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0066"/>
                </a:solidFill>
                <a:latin typeface="AL-Mateen"/>
              </a:rPr>
              <a:t>استحضر الهدف من هذه المرحلة.</a:t>
            </a:r>
            <a:endParaRPr b="0" lang="en-US" sz="3600" spc="-1" strike="noStrike">
              <a:solidFill>
                <a:srgbClr val="660066"/>
              </a:solidFill>
              <a:latin typeface="AL-Mateen"/>
            </a:endParaRPr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09:12:56Z</dcterms:created>
  <dc:creator>Administrator</dc:creator>
  <dc:description/>
  <dc:language>en-US</dc:language>
  <cp:lastModifiedBy> </cp:lastModifiedBy>
  <dcterms:modified xsi:type="dcterms:W3CDTF">2005-04-02T13:30:06Z</dcterms:modified>
  <cp:revision>5</cp:revision>
  <dc:subject/>
  <dc:title>الشريحة 1</dc:title>
</cp:coreProperties>
</file>