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BB9-2DD3-4AD8-8DF3-04D89283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2B0-C7A0-4053-B4A0-A97AFD2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F5F-A882-494E-9023-C89CA51A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735-5D61-408E-8C64-046B5285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8BD-D5C1-47E4-985A-0FB3520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846F-142F-4997-A34A-F8BE806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4E3-765C-413F-8D41-62E347EF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DAAC-6286-47C9-98B2-FF6724E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507-5FD0-42D6-8029-7D04E752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5E48-D1E3-424E-94D6-9F618D6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F221-1B71-42E3-91B3-768F6B5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FC5-0FE7-4A18-BDDC-4CEF32D0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2FA1-4ECD-4269-80C0-2202FBB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4C9E-D6B5-4332-952B-469EB5F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67CC-BCEA-4C9F-A870-07EF745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3DE-B351-47A4-99E0-F43E1E6D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C6BD-F18D-4862-ADC3-08AC7C57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D8B2-BE21-44BE-9525-C9B48320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9B0D-BA19-4BD5-A04C-562D8F36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E9CC-A7EA-493A-8DBF-3628B77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4F6F-6C8A-4FED-9085-C952EB8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E156-4002-43F4-88C0-E70C4F3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5DF-E3FF-495B-98B9-7CCA1AAF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155A-4C6C-4C7C-B22B-2985245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15BE-9633-4658-B6CB-A54D055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17FF-2EEF-402D-9B44-14952DE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2A5E-945A-49D4-B8E2-C8201F2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CD5A-F44E-45A4-8265-939427E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43C3-730F-4027-A569-4758680C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B8AE-DB21-472A-B02E-A9C1A3E5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368C-703D-41EA-BFF2-0A8296C5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5F15-DC4A-4DB4-8290-D5D0977E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8896-474D-4058-BCC1-B6CD0D27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583-77F8-43C0-8353-B73C09B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6A73-6705-4733-AF4C-B53D29CA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DE87-B95D-4999-8CDD-C686C87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1B06-B3E0-4318-A46F-6E812E7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C948-ECA6-4A9F-AA5A-A8F87DB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FD82-C6CE-4AD1-A916-69E6BB2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D01E-78BB-4F3A-9FDB-9DE66E2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9434-BFD4-4C9B-9872-716A929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16CC-8FFD-416A-B9C8-AA6D6EA5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55E8-57CF-4AFB-8F51-4D4548CE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3F51-2C5B-4513-B419-3BFE44E7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DA9-E2F5-4B6F-8752-352C90C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0534-2946-47CA-8287-7E8CEDD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DCB1-C5FA-492A-BCEF-A18B4B2F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4650-A8B0-4C5D-989B-8019C2E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E888-46B9-4831-91FC-8EF66A94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0CD1-31AD-4848-8D27-FB555CA0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F6981-3D91-4B39-ADD3-6979407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38EF-4D09-41D8-ACDB-23F2912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1CBC-6798-4940-987A-75EA622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0850-B452-47AF-96BF-D937FCC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C559-B100-403E-8BCC-52E98A74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A43-A591-4EBB-9A82-F22929C1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2541-5352-4762-B2F2-949FA256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710-743B-4C0A-958C-DC8E169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8B1-82E6-45D4-B3C2-FCB8A1C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808-C56B-4CF6-9AC5-4F38A96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L-Matee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1E27-4DF8-46A5-B4A8-2D3B12427520}" type="slidenum"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D550-7D7E-4D01-8570-597CB30B6B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BC0-F195-4864-A1EE-B0D1AE7851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6B3E-79DA-46B9-B2CD-AA2E60CD9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4A23-EFCE-4F0A-9309-0E6333C8B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fablevision.com/northstar/make/characters/magnifying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6335640" cy="4525920"/>
          </a:xfrm>
          <a:prstGeom prst="rect">
            <a:avLst/>
          </a:prstGeom>
          <a:blipFill rotWithShape="0">
            <a:blip r:embed="rId2">
              <a:alphaModFix amt="29000"/>
            </a:blip>
            <a:stretch/>
          </a:blipFill>
          <a:ln w="76320">
            <a:solidFill>
              <a:srgbClr val="820000">
                <a:alpha val="20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البرنامج المدرسي التفاعلي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كن مخترعا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دورة التدريبية الأولى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رياض 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3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-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4/2/1426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هـ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أوراق الشج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فكر في أكبر عدد ممكن من الأفكار لإنجاح البرنامج في مدينتك؟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مرونة: القدرة على إنتاج أفكار متنوع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تنوع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حول إلى مجالات وتصنيفات متعد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عمل ”تحويلة“ في طريق التفكي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مرون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ستخدم القائمة التي حصلت عليها من مرحلة الطلاق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قم بتصنيف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ؤال هنا عن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ي يمكن بها استخدام ا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لإنجاح البرنامج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افحص الأفكار السابقة وقم بتصنيفها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مثلة مساعدة للتفكير المرن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عكس ما هو موجود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تمثل رؤية الآخرين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الذات موضع التطوير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مجالات الاستخدام والربط بينها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أصالة أو الجدة: القدرة على إنتاج حلول جديدة أو غريب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ستجابات غير اعتيادي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ذكية ومفاجأ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بعيدة عن ما هو واضح ومشاهد من جميع أو معظم الناس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صال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خدم القائمة السابقة للبحث عن أفكار غريبة وناد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أل نفسك ما الذي يجعل من بعض الأفكار غريبة ونادرة.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للمساعدة على أصالة التفكير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شجع على الربط بين فكرتين أو أكثر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تفكير إلى البحث عن استخدامات جدي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نظر إلى استهداف الج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إضافة والتفاصيل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إضافة والتفصيل:القدرة على تطوير، توسيع، أو إضافة تفاصيل جديدة إلى الحلول المقدم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لقدرة على جعل فكرة ما تظهر بصورة أفضل من خلال البناء والإضافة إليها 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ختر فكرة واحدة من القائمة لتطويرها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أضف تفاصيل جديدة لتطوير الفكر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طلاقة = أفكار كثي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مرونة = أفكار منوع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أصالة = أفكار جديد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إضافة = زيادة تفاصيل دقيق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0066"/>
                </a:solidFill>
                <a:latin typeface="AL-Mateen"/>
                <a:cs typeface="AL-Majd"/>
              </a:rPr>
              <a:t>المحتوى التدريبي</a:t>
            </a:r>
            <a:endParaRPr b="0" lang="en-US" sz="5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عريف عام بعناصر الإبداع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طلاق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مرون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أصال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تفاصيل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طوير الأفكا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الخيال أهم من العلم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أنشتاين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800" spc="-1" strike="noStrike">
                <a:solidFill>
                  <a:srgbClr val="ffffcc"/>
                </a:solidFill>
                <a:latin typeface="Tahoma"/>
                <a:cs typeface="Al-Hadith2"/>
              </a:rPr>
              <a:t>سكامبر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Scamp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669680" y="189000"/>
            <a:ext cx="7294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بدل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stitu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ادمج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كيِّف أو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غير ،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كب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f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صغ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ضعه في استخدامات أخرى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t to other uses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حذف أو صغر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iminate or 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عكس 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rs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د الرتيب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r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-1945440" y="260100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 بدل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stitu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 )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استبداله من الأجز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ادمج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bine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دمجه من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إضافت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كيِّف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عدل بحيث يناسب حالات معينة وأغراض متعدد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غير    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غير اللون ، الشكل ، الطول ، العرض ، المادة المصنوع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كب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nify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كبيره ، تقويمه، تعريض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صغر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ify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صغيره ، إخفاؤه ، تقصي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ضعه في استخدامات أخرى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 to other us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ل هناك استخدامات أخرى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كيف يمكن الاستفادة منه بصور متعد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ما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660066"/>
                </a:solidFill>
                <a:latin typeface="AL-Mateen"/>
              </a:rPr>
              <a:t>القدرة على الخروج بأفكار وحلول تتسم بالجدة والأهمية للمشاكل والتحديات اليومية. </a:t>
            </a:r>
            <a:endParaRPr b="0" lang="en-US" sz="52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حذف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شيء أو الأشياء التي يمكن حذفها أو تقليص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عكس 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ers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فكر في أن تقلب هذا الشيء وتنظر إليه بالعك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أجزاء التي يمكن عكسه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أعد الترتيب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 أن نغير في ترتيب الحركات أو الأعمال أو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قويم الأداء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وليد عدد كبير من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نوع مجالات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فكير بأشياء لم نفكر بها من قبل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عبير عن أنفسنا بأساليب جديدة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جنيب خبراتنا وتصوراتنا السابقة الأفكار التي توصلنا إلي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دمج بين الأفكار وتطوير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كيف يمكن تشخيص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660066"/>
                </a:solidFill>
                <a:latin typeface="AL-Mateen"/>
                <a:cs typeface="Traditional Arabic"/>
              </a:rPr>
              <a:t>هناك إجماع بين الباحثين على أن السلوك الإبداعي يخرج إلى الوجود كنتاج تأثير مجموعة من المؤثرات الشخصية والنفسية والعقلية والاجتماعية.</a:t>
            </a:r>
            <a:endParaRPr b="0" lang="en-US" sz="38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3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051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نمية الإبداع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الأبحاث العلمية دلت على: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 أن عملية التفكير الإبداعي يمكن تعلم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عملية التفكير الإبداعي ليست شيئا إما أن يملكه الإنسان أو لا يملكه، بل هي في الواقع عملية يمكن أن يعمل المعلم أو الأب على تنميتها أو ضمور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أهم أربعة عناصر للتفكير الإبداعي هي: (الطلاقة، المرونة، الأصالة، التفاصيل)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بمجرد توجيه الذهن إلى هذه العناصر وفهم طبيعتها يستطيع الإنسان تطويرها بشكل ذاتي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هداف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هدف الرئيس هو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نمية الوعي بعناصر السلوك الإبداعي. 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 الرئيس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طلاقة: القدرة على انتاج عدد كبير من الحلول لمشكلة ما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تفكير في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كبر عدد ممكن من الاستجابات ذات العلاقة.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جري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أثناء التفكير في هذه المرحلة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قم بتقيي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نتق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ثني على أي فك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حضر الهدف من هذه المرحل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12:56Z</dcterms:created>
  <dc:creator>Administrator</dc:creator>
  <dc:description/>
  <dc:language>en-US</dc:language>
  <cp:lastModifiedBy> </cp:lastModifiedBy>
  <dcterms:modified xsi:type="dcterms:W3CDTF">2005-04-02T13:30:06Z</dcterms:modified>
  <cp:revision>5</cp:revision>
  <dc:subject/>
  <dc:title>الشريحة 1</dc:title>
</cp:coreProperties>
</file>