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809-7F2C-4AFE-995B-89C00B87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F68-D118-4EB8-B3AB-575C008F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7D4-CB0F-4AEE-921C-A940AD43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D255-6E69-4F2D-889C-31006ED9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C532-013B-473C-82CC-F2E9987D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508B-5F7E-40DC-AC78-A892464D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423D-E36A-4C5C-A42F-FB5DA5D1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F91C-5D42-4799-839B-1DB28437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C7BF-9367-4EBD-A9AD-EBDD7886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1D2B-068B-4B82-BD18-4537F46C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A23B-BB09-438F-9B55-53249BE4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896-8070-406B-B01B-1EA4C086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E437-5D80-4CC1-94CD-38914277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7DDB-B950-4C55-91DC-B738D6CE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6C16-2F87-41FD-AA9E-2E3842E7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4E2B-C005-4B91-A6C5-C847EF02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E7C9-47A1-4184-970B-AACE3452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C784-1A82-4CF5-98EB-905B03E2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47894-B38D-43DA-B65D-0B5AF840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01D71-5F73-4CEA-B152-D53CDB35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DD5A6-558D-43C1-8D29-A6DE053C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AB18-2D40-4BC7-B7C0-2CA33F81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EB3-2F7D-45AC-A1FF-B116F8D9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DD0A-C73B-4A71-9804-AB2220A8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B960B-F99B-4F58-9BB7-7BE5AB41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E831-B5F7-45E4-B5B2-2253C625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728A-E420-4A8B-AD59-C8E5FA77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D6FBA-2889-48F8-8219-56561F7B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2839B-3279-46DD-AC1C-6C4B1C68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90542-9F72-4A58-8AB6-5E1349D1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130EE-6668-4058-B107-31CB24C1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D5317-FF19-4BFA-A58E-1D1EA6B1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E9F8D-06EC-421F-9587-B9F7D056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802-9385-40B8-A495-72D61D0F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193BF-FF37-4E20-8041-1BD91CEC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450EE-697E-4230-A30D-332CB682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004D1-9922-4620-9C6A-AF44062F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E4B23-B752-4A11-A0AA-C9BDFE1A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AED74-AA71-4E8F-9CAC-532F210F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E186C-183A-4745-86C2-CD9A3B1A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62D07-F77C-4BDC-9202-35B908D1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B2795-A7B5-4B6D-A109-64877EA7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EC443-A38E-4936-9CF5-6C08C28C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288B7-B014-4419-804B-76A80D31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7150-8496-406F-AD2B-C0E9FC91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4E386-7437-4DFC-93B1-F93FBF4C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FC2AF-6304-42D6-9DC8-D37166A2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0BECD-C712-4B19-A841-2B32E277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EFC71-60D1-441C-BD9E-39C8C137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CA6BB-414C-4027-B9B0-423F0D8C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6E89B-9B01-4625-A336-756E42F3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0C0E2-3360-4AD0-B5AB-B6E9CC65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6E947-D9D5-440F-BA49-A3F41E38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DE7C8-8F29-4A55-8B59-D4E4E640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13879-B7D4-46F7-BEB2-ACA28C1E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1FF-1EBF-4870-9954-ED8B62E0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E80D9-13B4-4EA6-85BE-0F344A0A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D51-F4E7-4AE8-B48E-31254CFD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9E3-8404-496A-AE72-FA3DE238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ACF-4A8F-4666-8278-C25AE25A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L-Matee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L-Mateen"/>
                <a:ea typeface="AL-Matee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-Mateen"/>
                <a:ea typeface="AL-Matee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L-Mateen"/>
                <a:ea typeface="AL-Matee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-Mateen"/>
                <a:ea typeface="AL-Matee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L-Mateen"/>
                <a:ea typeface="AL-Matee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C629-6F1D-4CBB-B130-99EEE5BF9572}" type="slidenum">
              <a:rPr b="0" lang="en-US" sz="1400" spc="-1" strike="noStrike">
                <a:solidFill>
                  <a:srgbClr val="000000"/>
                </a:solidFill>
                <a:latin typeface="AL-Mateen"/>
                <a:ea typeface="AL-Matee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AAED-FEE4-43F1-A3F2-7D3E7E1AA4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28A5-6A5E-4934-AD61-399FB9B6FA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6743-BF93-428C-A80E-C828B23C48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54D8-CD48-47A1-BD24-F3807341CB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fablevision.com/northstar/make/characters/magnifying.gif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476000" y="1197000"/>
            <a:ext cx="6335640" cy="4525920"/>
          </a:xfrm>
          <a:prstGeom prst="rect">
            <a:avLst/>
          </a:prstGeom>
          <a:blipFill rotWithShape="0">
            <a:blip r:embed="rId2">
              <a:alphaModFix amt="29000"/>
            </a:blip>
            <a:stretch/>
          </a:blipFill>
          <a:ln w="76320">
            <a:solidFill>
              <a:srgbClr val="820000">
                <a:alpha val="20000"/>
              </a:srgbClr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L-Mateen"/>
                <a:cs typeface="Al Moharib  Blook Othman1"/>
              </a:rPr>
              <a:t>البرنامج المدرسي التفاعلي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L-Mateen"/>
                <a:cs typeface="Al Moharib  Blook Othman1"/>
              </a:rPr>
              <a:t>كن مخترعا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دورة التدريبية الأولى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رياض 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ea typeface="AL-Mohanad Bold"/>
              </a:rPr>
              <a:t>23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ea typeface="AL-Mohanad Bold"/>
              </a:rPr>
              <a:t>-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ea typeface="AL-Mohanad Bold"/>
              </a:rPr>
              <a:t>24/2/1426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هـ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دريب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29040" indent="0" algn="ct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فكر في أكبر قدر ممكن من الاستخدامات لأوراق الشجر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9040" indent="0" algn="ctr" rtl="1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فكر في أكبر عدد ممكن من الأفكار لإنجاح البرنامج في مدينتك؟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AL-Mateen"/>
              </a:rPr>
              <a:t>المرونة: القدرة على إنتاج أفكار متنوعة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تنوع الأفكا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التحول إلى مجالات وتصنيفات متعدد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عمل ”تحويلة“ في طريق التفكي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مرون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ستخدم القائمة التي حصلت عليها من مرحلة الطلاق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-31536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قم بتصنيف الأفكا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لسؤال هنا عن: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لسبل </a:t>
            </a:r>
            <a:r>
              <a:rPr b="0" lang="ar-SA" sz="4000" spc="-1" strike="noStrike">
                <a:solidFill>
                  <a:srgbClr val="cc3300"/>
                </a:solidFill>
                <a:latin typeface="AL-Mateen"/>
              </a:rPr>
              <a:t>المتنوعة</a:t>
            </a: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التي يمكن بها استخدام الحج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لسبل </a:t>
            </a:r>
            <a:r>
              <a:rPr b="0" lang="ar-SA" sz="4000" spc="-1" strike="noStrike">
                <a:solidFill>
                  <a:srgbClr val="cc3300"/>
                </a:solidFill>
                <a:latin typeface="AL-Mateen"/>
              </a:rPr>
              <a:t>المتنوعة</a:t>
            </a: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لإنجاح البرنامج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دريب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افحص الأفكار السابقة وقم بتصنيفها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أمثلة مساعدة للتفكير المرن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تفكير إلى تصور عكس ما هو موجود</a:t>
            </a: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نظر إلى تمثل رؤية الآخرين</a:t>
            </a: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تفكير إلى تصور الذات موضع التطوير</a:t>
            </a: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نظر إلى مجالات الاستخدام والربط بينها</a:t>
            </a: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AL-Mateen"/>
              </a:rPr>
              <a:t>الأصالة أو الجدة: القدرة على إنتاج حلول جديدة أو غريبة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استجابات غير اعتيادي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ذكية ومفاجأ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بعيدة عن ما هو واضح ومشاهد من جميع أو معظم الناس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أصال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ستخدم القائمة السابقة للبحث عن أفكار غريبة ونادر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سأل نفسك ما الذي يجعل من بعض الأفكار غريبة ونادرة.</a:t>
            </a: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للمساعدة على أصالة التفكير: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L-Mateen"/>
              </a:rPr>
              <a:t>شجع على الربط بين فكرتين أو أكثر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L-Mateen"/>
              </a:rPr>
              <a:t>وجه التفكير إلى البحث عن استخدامات جديدة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L-Mateen"/>
              </a:rPr>
              <a:t>وجه النظر إلى استهداف الجدة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إضافة والتفاصيل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AL-Mateen"/>
              </a:rPr>
              <a:t>الإضافة والتفصيل:القدرة على تطوير، توسيع، أو إضافة تفاصيل جديدة إلى الحلول المقدمة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القدرة على جعل فكرة ما تظهر بصورة أفضل من خلال البناء والإضافة إليها 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اختر فكرة واحدة من القائمة لتطويرها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أضف تفاصيل جديدة لتطوير الفكر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عناصر السلوك الإبداعي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طلاقة = أفكار كثير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مرونة = أفكار منوع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أصالة = أفكار جديد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إضافة = زيادة تفاصيل دقيق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660066"/>
                </a:solidFill>
                <a:latin typeface="AL-Mateen"/>
                <a:cs typeface="AL-Majd"/>
              </a:rPr>
              <a:t>المحتوى التدريبي</a:t>
            </a:r>
            <a:endParaRPr b="0" lang="en-US" sz="5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AL-Mateen"/>
                <a:cs typeface="AL-Mohanad Bold"/>
              </a:rPr>
              <a:t>تعريف عام بعناصر الإبداع: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طلاقة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مرونة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أصالة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تفاصيل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تطوير الأفكار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L-Mateen"/>
              </a:rPr>
              <a:t>الخيال أهم من العلم</a:t>
            </a:r>
            <a:endParaRPr b="0" lang="en-US" sz="6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L-Mateen"/>
              </a:rPr>
              <a:t>أنشتاين</a:t>
            </a:r>
            <a:endParaRPr b="0" lang="en-US" sz="6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800" spc="-1" strike="noStrike">
                <a:solidFill>
                  <a:srgbClr val="ffffcc"/>
                </a:solidFill>
                <a:latin typeface="Tahoma"/>
                <a:cs typeface="Al-Hadith2"/>
              </a:rPr>
              <a:t>سكامبر</a:t>
            </a:r>
            <a:endParaRPr b="0" lang="en-US" sz="10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Scamper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669680" y="189000"/>
            <a:ext cx="72946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بدل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bstitut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ادمج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كيِّف أو عدل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apt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غير ، عدل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i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كب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gnif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 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صغر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nify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ضعه في استخدامات أخرى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ut to other uses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حذف أو صغر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iminate or Minify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عكس  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erse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أعد الرتيب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ar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 rot="5400000">
            <a:off x="-1945440" y="2601000"/>
            <a:ext cx="619308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 بدل (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bstitut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  ) 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ذي يمكن استبداله من الأجزاء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ادمج (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bine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 )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ا الذي يمكن دمجه من الأجزاء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ا الذي يمكن إضافت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كيِّف  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apt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)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كيف يمكننا أن نعدل بحيث يناسب حالات معينة وأغراض متعددة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غير      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if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)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كيف يمكننا أن نغير اللون ، الشكل ، الطول ، العرض ، المادة المصنوعة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كبر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gnify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ذي يمكن تكبيره ، تقويمه، تعريض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صغر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inify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ذي يمكن تصغيره ، إخفاؤه ، تقصير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ضعه في استخدامات أخرى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t to other uses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)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هل هناك استخدامات أخرى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كيف يمكن الاستفادة منه بصور متعد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ما الإبداع؟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 rtl="1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660066"/>
                </a:solidFill>
                <a:latin typeface="AL-Mateen"/>
              </a:rPr>
              <a:t>القدرة على الخروج بأفكار وحلول تتسم بالجدة والأهمية للمشاكل والتحديات اليومية. </a:t>
            </a:r>
            <a:endParaRPr b="0" lang="en-US" sz="5200" spc="-1" strike="noStrike">
              <a:solidFill>
                <a:srgbClr val="660066"/>
              </a:solidFill>
              <a:latin typeface="AL-Matee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733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احذف 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imin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)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شيء أو الأشياء التي يمكن حذفها أو تقليص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اعكس  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erse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)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فكر في أن تقلب هذا الشيء وتنظر إليه بالعك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ا الأجزاء التي يمكن عكسه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أعد الترتيب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rr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كيف يمكن أن نغير في ترتيب الحركات أو الأعمال أو الأجزاء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قويم الأداء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توليد عدد كبير من الأفكار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تنوع مجالات الأفكار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التفكير بأشياء لم نفكر بها من قبل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التعبير عن أنفسنا بأساليب جديدة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تجنيب خبراتنا وتصوراتنا السابقة الأفكار التي توصلنا إليها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الدمج بين الأفكار وتطويرها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كيف يمكن تشخيص الإبداع؟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56840" y="1600200"/>
            <a:ext cx="4033800" cy="45259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660066"/>
                </a:solidFill>
                <a:latin typeface="AL-Mateen"/>
                <a:cs typeface="Traditional Arabic"/>
              </a:rPr>
              <a:t>هناك إجماع بين الباحثين على أن السلوك الإبداعي يخرج إلى الوجود كنتاج تأثير مجموعة من المؤثرات الشخصية والنفسية والعقلية والاجتماعية.</a:t>
            </a:r>
            <a:endParaRPr b="0" lang="en-US" sz="3800" spc="-1" strike="noStrike">
              <a:solidFill>
                <a:srgbClr val="660066"/>
              </a:solidFill>
              <a:latin typeface="AL-Mateen"/>
            </a:endParaRPr>
          </a:p>
        </p:txBody>
      </p:sp>
      <p:pic>
        <p:nvPicPr>
          <p:cNvPr id="3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05120"/>
            <a:ext cx="38098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نمية الإبداع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الأبحاث العلمية دلت على: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 أن عملية التفكير الإبداعي يمكن تعلمها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عملية التفكير الإبداعي ليست شيئا إما أن يملكه الإنسان أو لا يملكه، بل هي في الواقع عملية يمكن أن يعمل المعلم أو الأب على تنميتها أو ضمورها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أهم أربعة عناصر للتفكير الإبداعي هي: (الطلاقة، المرونة، الأصالة، التفاصيل)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بمجرد توجيه الذهن إلى هذه العناصر وفهم طبيعتها يستطيع الإنسان تطويرها بشكل ذاتي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أهداف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هدف الرئيس هو: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marL="609480" indent="0" algn="ctr" rtl="1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66"/>
                </a:solidFill>
                <a:latin typeface="AL-Mateen"/>
                <a:cs typeface="AL-Mohanad Bold"/>
              </a:rPr>
              <a:t>تنمية الوعي بعناصر السلوك الإبداعي. 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عناصر السلوك الإبداعي الرئيس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AL-Mateen"/>
              </a:rPr>
              <a:t>الطلاقة: القدرة على انتاج عدد كبير من الحلول لمشكلة ما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AL-Mateen"/>
              </a:rPr>
              <a:t>التفكير في: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أكبر عدد ممكن من الاستجابات ذات العلاقة. 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طلاق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فكر في أكبر قدر ممكن من الاستخدامات للحج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01680" indent="0" algn="ctr" rtl="1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فكر في أكبر قدر ممكن من الاستخدامات للجريد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طلاق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أثناء التفكير في هذه المرحلة: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قم بتقييد الأفكار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لا تنتقد الأفكار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لا تثني على أي فكر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ستحضر الهدف من هذه المرحل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09:12:56Z</dcterms:created>
  <dc:creator>Administrator</dc:creator>
  <dc:description/>
  <dc:language>en-US</dc:language>
  <cp:lastModifiedBy> </cp:lastModifiedBy>
  <dcterms:modified xsi:type="dcterms:W3CDTF">2005-04-02T13:30:06Z</dcterms:modified>
  <cp:revision>5</cp:revision>
  <dc:subject/>
  <dc:title>الشريحة 1</dc:title>
</cp:coreProperties>
</file>