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5D8-A077-4EE2-B2C3-09F07CAF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BA9-292F-4ECF-B7B1-2B89B35C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107-6838-427F-9934-2501D231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8A5-1F52-454E-8CE6-C45E1D0F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3367-C625-4C2F-87B0-4329365C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B5E-8167-49F2-84C3-EC963EAF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6ADF-8E77-40A9-9F98-953072F2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CEFF-A129-43C9-ABA3-6E3C55F5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F5FE-17C3-4B93-B731-BB0A8DD0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911F-0F0B-42F2-92A7-11DE88FD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7308-148C-4954-BE2B-A35D305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E2F-8AF4-4CA7-BC7D-1D93A93F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48A-E5DE-49E2-919A-74FA44D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7F80-90CD-4E25-ACC4-8FC27BB1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E35-1C6D-4447-B3DD-58E68050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5BC9-1C8C-428F-A3DA-4758E05C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D0DF-BBC4-42D8-AE93-677D20A5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A0E3-A5A2-4F8C-BCAA-2B33B695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62A6-84B7-426B-9F92-8C4B099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B05D-CE54-4C2A-B005-6F1781D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4E05-CC30-47C0-B60C-9DB106F4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975F-721E-4E1E-8157-D2ADB15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CFD-1635-4778-8149-2ABBA550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2AE8-8B0E-4D1F-864B-09E018ED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6772A-0783-4F94-B4A2-88DD88F6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4398-CF1E-4247-B15F-360EBAC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1600-D9DF-4EFA-99DD-A544BA0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C0855-95C2-4934-B16F-0175F0B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09D5-160D-47DF-8EEB-A8E0F327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AB1E0-3BA0-44D9-B6DF-DF436792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A10B6-FB31-4FEB-AE18-A2469DCC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5175-4E3D-4A4C-A6CD-7C0407B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F520B-DC67-49C1-A4EC-17DEBB55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2BF-3055-40F9-B54D-2409906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99D8-80AA-462A-83BD-407DC179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F609-3D84-4DD7-B678-D71EC1A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B5B1F-EF33-44DB-9EAD-55C57D46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408FC-C80E-4A78-8A3C-4C32E33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0930-812A-4D65-8CA9-0F2BE16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66BC-D32E-472C-AC3D-A4CA0AA9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B593D-3A64-4DD7-A78A-5B110399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3A2B-9E11-4172-8249-DC9E88DE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34C5E-C51C-42BD-979E-7D63E468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759EA-FD74-4A76-BBCB-6215EDC7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8AD-5D61-4EE3-8399-53FD3077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621B-42D1-489A-9B99-AB4A65C8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BC47-C3C4-476E-9AC8-9A59FC9E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1B59-3F1A-485C-978D-91FAB414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6EAA-C503-4774-996E-53AD8386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56089-7F3A-45A0-9D87-D92105D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8329F-5AD0-4E9B-BA9C-522E751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DEB4-871E-4814-A1DD-3DF0FAA6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554B-50BD-44D8-93ED-33809A1B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C210-1A90-4E32-A660-6799487B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8718-F9FA-4D15-9A45-50AE138D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898-2D67-4A1F-A1CD-91A5FCE7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A0216-2F9F-488B-BAF1-C14A8556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2C6-DD1C-4D95-BCE8-58218F5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C85-E050-4846-A400-9A3F4700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AC6-A842-464C-8AD7-5A2DD10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L-Matee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F80F-0586-4F8D-84D1-E65A494FFAF3}" type="slidenum"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8C8-E54F-4FA3-AD21-1F28CBD5CF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061-72EC-4FF8-8453-F75F41C5BE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4C1-E0CA-4323-8942-8C7DF6809F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A281-4329-41F3-9C21-3A4E60613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fablevision.com/northstar/make/characters/magnifying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6335640" cy="4525920"/>
          </a:xfrm>
          <a:prstGeom prst="rect">
            <a:avLst/>
          </a:prstGeom>
          <a:blipFill rotWithShape="0">
            <a:blip r:embed="rId2">
              <a:alphaModFix amt="29000"/>
            </a:blip>
            <a:stretch/>
          </a:blipFill>
          <a:ln w="76320">
            <a:solidFill>
              <a:srgbClr val="820000">
                <a:alpha val="20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البرنامج المدرسي التفاعلي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كن مخترعا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دورة التدريبية الأولى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رياض 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3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-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4/2/1426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هـ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أوراق الشج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فكر في أكبر عدد ممكن من الأفكار لإنجاح البرنامج في مدينتك؟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مرونة: القدرة على إنتاج أفكار متنوع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تنوع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حول إلى مجالات وتصنيفات متعد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عمل ”تحويلة“ في طريق التفكي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مرون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ستخدم القائمة التي حصلت عليها من مرحلة الطلاق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قم بتصنيف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ؤال هنا عن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ي يمكن بها استخدام ا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لإنجاح البرنامج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افحص الأفكار السابقة وقم بتصنيفها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مثلة مساعدة للتفكير المرن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عكس ما هو موجود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تمثل رؤية الآخرين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الذات موضع التطوير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مجالات الاستخدام والربط بينها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أصالة أو الجدة: القدرة على إنتاج حلول جديدة أو غريب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ستجابات غير اعتيادي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ذكية ومفاجأ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بعيدة عن ما هو واضح ومشاهد من جميع أو معظم الناس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صال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خدم القائمة السابقة للبحث عن أفكار غريبة وناد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أل نفسك ما الذي يجعل من بعض الأفكار غريبة ونادرة.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للمساعدة على أصالة التفكير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شجع على الربط بين فكرتين أو أكثر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تفكير إلى البحث عن استخدامات جدي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نظر إلى استهداف الج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إضافة والتفاصيل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إضافة والتفصيل:القدرة على تطوير، توسيع، أو إضافة تفاصيل جديدة إلى الحلول المقدم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لقدرة على جعل فكرة ما تظهر بصورة أفضل من خلال البناء والإضافة إليها 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ختر فكرة واحدة من القائمة لتطويرها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أضف تفاصيل جديدة لتطوير الفكر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طلاقة = أفكار كثي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مرونة = أفكار منوع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أصالة = أفكار جديد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إضافة = زيادة تفاصيل دقيق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0066"/>
                </a:solidFill>
                <a:latin typeface="AL-Mateen"/>
                <a:cs typeface="AL-Majd"/>
              </a:rPr>
              <a:t>المحتوى التدريبي</a:t>
            </a:r>
            <a:endParaRPr b="0" lang="en-US" sz="5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عريف عام بعناصر الإبداع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طلاق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مرون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أصال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تفاصيل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طوير الأفكا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الخيال أهم من العلم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أنشتاين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800" spc="-1" strike="noStrike">
                <a:solidFill>
                  <a:srgbClr val="ffffcc"/>
                </a:solidFill>
                <a:latin typeface="Tahoma"/>
                <a:cs typeface="Al-Hadith2"/>
              </a:rPr>
              <a:t>سكامبر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Scamp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669680" y="189000"/>
            <a:ext cx="7294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بدل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bstitu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ادمج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كيِّف أو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غير ،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كب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f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صغ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ضعه في استخدامات أخرى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t to other uses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حذف أو صغر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iminate or 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عكس  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rs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د الرتيب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r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 rot="5400000">
            <a:off x="-1945440" y="2601000"/>
            <a:ext cx="619308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 بدل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bstitu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 ) 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استبداله من الأجزاء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ادمج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bine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دمجه من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إضافت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كيِّف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عدل بحيث يناسب حالات معينة وأغراض متعدد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غير    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غير اللون ، الشكل ، الطول ، العرض ، المادة المصنوع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كب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gnify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كبيره ، تقويمه، تعريض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صغر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nify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صغيره ، إخفاؤه ، تقصي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ضعه في استخدامات أخرى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 to other us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ل هناك استخدامات أخرى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كيف يمكن الاستفادة منه بصور متعد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ما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 rtl="1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660066"/>
                </a:solidFill>
                <a:latin typeface="AL-Mateen"/>
              </a:rPr>
              <a:t>القدرة على الخروج بأفكار وحلول تتسم بالجدة والأهمية للمشاكل والتحديات اليومية. </a:t>
            </a:r>
            <a:endParaRPr b="0" lang="en-US" sz="52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حذف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شيء أو الأشياء التي يمكن حذفها أو تقليص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عكس 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ers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فكر في أن تقلب هذا الشيء وتنظر إليه بالعك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أجزاء التي يمكن عكسه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أعد الترتيب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 أن نغير في ترتيب الحركات أو الأعمال أو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قويم الأداء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وليد عدد كبير من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نوع مجالات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فكير بأشياء لم نفكر بها من قبل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عبير عن أنفسنا بأساليب جديدة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جنيب خبراتنا وتصوراتنا السابقة الأفكار التي توصلنا إلي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دمج بين الأفكار وتطوير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كيف يمكن تشخيص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660066"/>
                </a:solidFill>
                <a:latin typeface="AL-Mateen"/>
                <a:cs typeface="Traditional Arabic"/>
              </a:rPr>
              <a:t>هناك إجماع بين الباحثين على أن السلوك الإبداعي يخرج إلى الوجود كنتاج تأثير مجموعة من المؤثرات الشخصية والنفسية والعقلية والاجتماعية.</a:t>
            </a:r>
            <a:endParaRPr b="0" lang="en-US" sz="38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3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051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نمية الإبداع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الأبحاث العلمية دلت على: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 أن عملية التفكير الإبداعي يمكن تعلم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عملية التفكير الإبداعي ليست شيئا إما أن يملكه الإنسان أو لا يملكه، بل هي في الواقع عملية يمكن أن يعمل المعلم أو الأب على تنميتها أو ضمور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أهم أربعة عناصر للتفكير الإبداعي هي: (الطلاقة، المرونة، الأصالة، التفاصيل)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بمجرد توجيه الذهن إلى هذه العناصر وفهم طبيعتها يستطيع الإنسان تطويرها بشكل ذاتي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هداف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هدف الرئيس هو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نمية الوعي بعناصر السلوك الإبداعي. 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 الرئيس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طلاقة: القدرة على انتاج عدد كبير من الحلول لمشكلة ما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تفكير في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كبر عدد ممكن من الاستجابات ذات العلاقة.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جري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أثناء التفكير في هذه المرحلة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قم بتقيي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نتق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ثني على أي فك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حضر الهدف من هذه المرحل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12:56Z</dcterms:created>
  <dc:creator>Administrator</dc:creator>
  <dc:description/>
  <dc:language>en-US</dc:language>
  <cp:lastModifiedBy> </cp:lastModifiedBy>
  <dcterms:modified xsi:type="dcterms:W3CDTF">2005-04-02T13:30:06Z</dcterms:modified>
  <cp:revision>5</cp:revision>
  <dc:subject/>
  <dc:title>الشريحة 1</dc:title>
</cp:coreProperties>
</file>