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9.jpeg" ContentType="image/jpeg"/>
  <Override PartName="/ppt/media/image5.wmf" ContentType="image/x-wmf"/>
  <Override PartName="/ppt/media/image25.wmf" ContentType="image/x-wmf"/>
  <Override PartName="/ppt/media/image22.wmf" ContentType="image/x-wmf"/>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14.wmf" ContentType="image/x-wmf"/>
  <Override PartName="/ppt/media/image1.png" ContentType="image/png"/>
  <Override PartName="/ppt/media/image2.png" ContentType="image/png"/>
  <Override PartName="/ppt/media/image23.wmf" ContentType="image/x-wmf"/>
  <Override PartName="/ppt/media/image9.jpeg" ContentType="image/jpe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65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65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22200" y="696960"/>
            <a:ext cx="261468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ED87-A523-4597-9382-3005D989DDB4}"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08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A1C3-2302-40D7-89A7-A052523AE6AD}"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88584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108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2122560" y="696960"/>
            <a:ext cx="2614680" cy="3486240"/>
          </a:xfrm>
          <a:prstGeom prst="rect">
            <a:avLst/>
          </a:prstGeom>
          <a:ln w="0">
            <a:noFill/>
          </a:ln>
        </p:spPr>
      </p:sp>
      <p:sp>
        <p:nvSpPr>
          <p:cNvPr id="2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89C22-F446-4A21-95AC-3407CE0E1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89B09-8FBD-438B-B4BE-D8D5C34F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C33D0-F382-4F53-9CF2-85048850C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71C20-AAC8-425B-AF37-FA5B74648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00C74-5FC4-4C33-8D59-86A457497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28948-56E8-4197-8D06-A822193AB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F7F1D-9AB8-4317-BFAC-F5D55EC68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6BC97-7500-49E3-A3E2-100414AA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4FCA-B459-441C-BE0B-8B37508F8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5926-2B56-462C-BC71-56E330F8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A7D56-5720-4E1F-B808-0549581B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8724-1E20-4505-8101-CA3014BA6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75920" y="8604360"/>
            <a:ext cx="5977080" cy="357120"/>
          </a:xfrm>
          <a:prstGeom prst="rect">
            <a:avLst/>
          </a:prstGeom>
          <a:noFill/>
          <a:ln w="9360">
            <a:solidFill>
              <a:srgbClr val="000000"/>
            </a:solidFill>
            <a:miter/>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cs typeface="Monotype Kouf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onotype Koufi"/>
              </a:rPr>
              <a:t>مفاجآت صيف دبي </a:t>
            </a:r>
            <a:r>
              <a:rPr b="0" lang="ar-SA" sz="1400" spc="-1" strike="noStrike">
                <a:solidFill>
                  <a:srgbClr val="000000"/>
                </a:solidFill>
                <a:latin typeface="Arial"/>
                <a:ea typeface="Monotype Koufi"/>
              </a:rPr>
              <a:t>2005</a:t>
            </a:r>
            <a:r>
              <a:rPr b="0" lang="ar-SA" sz="1400" spc="-1" strike="noStrike">
                <a:solidFill>
                  <a:srgbClr val="000000"/>
                </a:solidFill>
                <a:latin typeface="Arial"/>
                <a:ea typeface="Monotype Koufi"/>
              </a:rPr>
              <a:t>     الذكاء الوجداني : </a:t>
            </a:r>
            <a:r>
              <a:rPr b="0" lang="ar-KW" sz="1400" spc="-1" strike="noStrike">
                <a:solidFill>
                  <a:srgbClr val="000000"/>
                </a:solidFill>
                <a:latin typeface="Arial"/>
                <a:ea typeface="Monotype Koufi"/>
              </a:rPr>
              <a:t>”موعد مع القمة “</a:t>
            </a:r>
            <a:r>
              <a:rPr b="0" lang="ar-SA" sz="1400" spc="-1" strike="noStrike">
                <a:solidFill>
                  <a:srgbClr val="000000"/>
                </a:solidFill>
                <a:latin typeface="Arial"/>
                <a:ea typeface="Monotype Koufi"/>
              </a:rPr>
              <a:t> </a:t>
            </a:r>
            <a:r>
              <a:rPr b="0" lang="ar-KW" sz="1400" spc="-1" strike="noStrike">
                <a:solidFill>
                  <a:srgbClr val="000000"/>
                </a:solidFill>
                <a:latin typeface="Arial"/>
                <a:ea typeface="Monotype Koufi"/>
              </a:rPr>
              <a:t>     </a:t>
            </a:r>
            <a:r>
              <a:rPr b="0" lang="ar-SA" sz="1400" spc="-1" strike="noStrike">
                <a:solidFill>
                  <a:srgbClr val="000000"/>
                </a:solidFill>
                <a:latin typeface="Arial"/>
                <a:cs typeface="Monotype Koufi"/>
              </a:rPr>
              <a:t>د.مصطفى أبوسعد</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2812-5AB2-4CA3-A48D-060936938C95}" type="slidenum">
              <a:rPr b="0" lang="ar-A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oleObject" Target="../embeddings/oleObject4.bin"/><Relationship Id="rId12" Type="http://schemas.openxmlformats.org/officeDocument/2006/relationships/image" Target="../media/image8.wmf"/><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1.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pocketbook.co.uk/images/large_images/emotional_intelligence_large.jpg&amp;imgrefurl=http://www.pocketbook.co.uk/manager-series/manager_series_21.htm&amp;h=429&amp;w=600&amp;sz=56&amp;tbnid=Y6Wu9Rwg-JAJ:&amp;tbnh=95&amp;tbnw=133&amp;hl=en&amp;start=29&amp;prev=/images%3Fq%3Demotional%2Bintelligence%26start%3D20%26hl%3Den%26lr%3Dlang_ar%26sa%3DN" TargetMode="External"/><Relationship Id="rId2" Type="http://schemas.openxmlformats.org/officeDocument/2006/relationships/image" Target="../media/image18.jpeg"/><Relationship Id="rId3" Type="http://schemas.openxmlformats.org/officeDocument/2006/relationships/image" Target="../media/image9.jpe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21.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mailto:kjalabi@alwatan.com.sa" TargetMode="External"/><Relationship Id="rId2" Type="http://schemas.openxmlformats.org/officeDocument/2006/relationships/hyperlink" Target="mailto:kjalabi@alwatan.com.sa"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2280" y="1258920"/>
            <a:ext cx="5330520" cy="14479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2771640"/>
            <a:ext cx="5545080" cy="30481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700280" y="1335240"/>
            <a:ext cx="3089160" cy="17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كاء الوجداني</a:t>
            </a:r>
            <a:r>
              <a:rPr b="1" lang="ar-SA" sz="3200" spc="-1" strike="noStrike">
                <a:solidFill>
                  <a:srgbClr val="000000"/>
                </a:solidFill>
                <a:latin typeface="Times New Roman"/>
                <a:ea typeface="Monotype Koufi"/>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imes New Roman"/>
                <a:ea typeface="Monotype Koufi"/>
              </a:rPr>
              <a:t>”</a:t>
            </a:r>
            <a:r>
              <a:rPr b="0" lang="ar-KW" sz="2800" spc="-1" strike="noStrike">
                <a:solidFill>
                  <a:srgbClr val="000000"/>
                </a:solidFill>
                <a:latin typeface="Times New Roman"/>
                <a:cs typeface="Monotype Koufi"/>
              </a:rPr>
              <a:t>موعد مع القمة</a:t>
            </a:r>
            <a:r>
              <a:rPr b="0" lang="ar-KW" sz="2800" spc="-1" strike="noStrike">
                <a:solidFill>
                  <a:srgbClr val="000000"/>
                </a:solidFill>
                <a:latin typeface="Times New Roman"/>
                <a:ea typeface="Monotype Koufi"/>
              </a:rPr>
              <a:t> “</a:t>
            </a:r>
            <a:r>
              <a:rPr b="0" lang="ar-SA" sz="2800" spc="-1" strike="noStrike">
                <a:solidFill>
                  <a:srgbClr val="000000"/>
                </a:solidFill>
                <a:latin typeface="Times New Roman"/>
                <a:ea typeface="Monotype Koufi"/>
              </a:rPr>
              <a:t> </a:t>
            </a:r>
            <a:endParaRPr b="0" lang="en-US" sz="2800" spc="-1" strike="noStrike">
              <a:solidFill>
                <a:srgbClr val="000000"/>
              </a:solidFill>
              <a:latin typeface="Arial"/>
            </a:endParaRPr>
          </a:p>
        </p:txBody>
      </p:sp>
      <p:sp>
        <p:nvSpPr>
          <p:cNvPr id="51" name=""/>
          <p:cNvSpPr/>
          <p:nvPr/>
        </p:nvSpPr>
        <p:spPr>
          <a:xfrm>
            <a:off x="1989000" y="2916360"/>
            <a:ext cx="3429000" cy="252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ع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د.مصطفى أبوسعد </a:t>
            </a:r>
            <a:endParaRPr b="0" lang="en-US" sz="2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 دكتوراه في علم النفس التربوي</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مدرب في التنمية البشرية والتربية الإيجابية</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mostafabac1@gawab.com</a:t>
            </a:r>
            <a:r>
              <a:rPr b="0" lang="ar-SA" sz="1400" spc="-1" strike="noStrike">
                <a:solidFill>
                  <a:srgbClr val="000000"/>
                </a:solidFill>
                <a:latin typeface="Times New Roman"/>
                <a:ea typeface="Monotype Koufi"/>
              </a:rPr>
              <a:t> </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Fax:009654752570</a:t>
            </a:r>
            <a:endParaRPr b="0" lang="en-US" sz="1400" spc="-1" strike="noStrike">
              <a:solidFill>
                <a:srgbClr val="000000"/>
              </a:solidFill>
              <a:latin typeface="Arial"/>
            </a:endParaRPr>
          </a:p>
        </p:txBody>
      </p:sp>
      <p:sp>
        <p:nvSpPr>
          <p:cNvPr id="52" name=""/>
          <p:cNvSpPr/>
          <p:nvPr/>
        </p:nvSpPr>
        <p:spPr>
          <a:xfrm>
            <a:off x="98280" y="34920"/>
            <a:ext cx="6715440" cy="9036000"/>
          </a:xfrm>
          <a:prstGeom prst="rect">
            <a:avLst/>
          </a:prstGeom>
          <a:noFill/>
          <a:ln w="114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2133720" y="5003640"/>
            <a:ext cx="576000" cy="540000"/>
          </a:xfrm>
          <a:prstGeom prst="rect">
            <a:avLst/>
          </a:prstGeom>
          <a:ln w="0">
            <a:noFill/>
          </a:ln>
        </p:spPr>
      </p:pic>
      <p:pic>
        <p:nvPicPr>
          <p:cNvPr id="54" name="" descr=""/>
          <p:cNvPicPr/>
          <p:nvPr/>
        </p:nvPicPr>
        <p:blipFill>
          <a:blip r:embed="rId2"/>
          <a:stretch/>
        </p:blipFill>
        <p:spPr>
          <a:xfrm>
            <a:off x="4870440" y="5003640"/>
            <a:ext cx="720720" cy="595440"/>
          </a:xfrm>
          <a:prstGeom prst="rect">
            <a:avLst/>
          </a:prstGeom>
          <a:ln w="0">
            <a:noFill/>
          </a:ln>
        </p:spPr>
      </p:pic>
      <p:pic>
        <p:nvPicPr>
          <p:cNvPr id="55" name="" descr=""/>
          <p:cNvPicPr/>
          <p:nvPr/>
        </p:nvPicPr>
        <p:blipFill>
          <a:blip r:embed="rId3"/>
          <a:stretch/>
        </p:blipFill>
        <p:spPr>
          <a:xfrm>
            <a:off x="911160" y="1409760"/>
            <a:ext cx="933480" cy="855720"/>
          </a:xfrm>
          <a:prstGeom prst="rect">
            <a:avLst/>
          </a:prstGeom>
          <a:ln w="0">
            <a:noFill/>
          </a:ln>
        </p:spPr>
      </p:pic>
      <p:pic>
        <p:nvPicPr>
          <p:cNvPr id="56" name="" descr=""/>
          <p:cNvPicPr/>
          <p:nvPr/>
        </p:nvPicPr>
        <p:blipFill>
          <a:blip r:embed="rId4"/>
          <a:stretch/>
        </p:blipFill>
        <p:spPr>
          <a:xfrm>
            <a:off x="692280" y="3924360"/>
            <a:ext cx="979200" cy="1481040"/>
          </a:xfrm>
          <a:prstGeom prst="rect">
            <a:avLst/>
          </a:prstGeom>
          <a:ln w="0">
            <a:noFill/>
          </a:ln>
        </p:spPr>
      </p:pic>
      <p:sp>
        <p:nvSpPr>
          <p:cNvPr id="57" name=""/>
          <p:cNvSpPr/>
          <p:nvPr/>
        </p:nvSpPr>
        <p:spPr>
          <a:xfrm>
            <a:off x="835200" y="7085160"/>
            <a:ext cx="5330520" cy="144756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09640" y="7161120"/>
            <a:ext cx="4383360" cy="147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ع تحيات :    مفاجآت صيف دبي </a:t>
            </a:r>
            <a:r>
              <a:rPr b="1" lang="ar-SA" sz="2400" spc="-1" strike="noStrike">
                <a:solidFill>
                  <a:srgbClr val="000000"/>
                </a:solidFill>
                <a:latin typeface="Times New Roman"/>
                <a:ea typeface="Monotype Koufi"/>
              </a:rPr>
              <a:t>2005</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Times New Roman"/>
                <a:cs typeface="Monotype Koufi"/>
              </a:rPr>
              <a:t>مركز النخبة</a:t>
            </a:r>
            <a:r>
              <a:rPr b="1" i="1" lang="ar-SA" sz="2800" spc="-1" strike="noStrike" u="sng">
                <a:solidFill>
                  <a:srgbClr val="000000"/>
                </a:solidFill>
                <a:uFillTx/>
                <a:latin typeface="Times New Roman"/>
                <a:ea typeface="Monotype Koufi"/>
              </a:rPr>
              <a:t> </a:t>
            </a:r>
            <a:endParaRPr b="0" lang="en-US" sz="2800" spc="-1" strike="noStrike">
              <a:solidFill>
                <a:srgbClr val="000000"/>
              </a:solidFill>
              <a:latin typeface="Arial"/>
            </a:endParaRPr>
          </a:p>
        </p:txBody>
      </p:sp>
      <p:graphicFrame>
        <p:nvGraphicFramePr>
          <p:cNvPr id="59" name=""/>
          <p:cNvGraphicFramePr/>
          <p:nvPr/>
        </p:nvGraphicFramePr>
        <p:xfrm>
          <a:off x="3681360" y="5651640"/>
          <a:ext cx="1028880" cy="1307880"/>
        </p:xfrm>
        <a:graphic>
          <a:graphicData uri="http://schemas.openxmlformats.org/presentationml/2006/ole">
            <p:oleObj r:id="rId5" spid="">
              <p:embed/>
              <p:pic>
                <p:nvPicPr>
                  <p:cNvPr id="60" name="" descr=""/>
                  <p:cNvPicPr/>
                  <p:nvPr/>
                </p:nvPicPr>
                <p:blipFill>
                  <a:blip r:embed="rId6"/>
                  <a:stretch/>
                </p:blipFill>
                <p:spPr>
                  <a:xfrm>
                    <a:off x="3681360" y="5651640"/>
                    <a:ext cx="1028880" cy="1307880"/>
                  </a:xfrm>
                  <a:prstGeom prst="rect">
                    <a:avLst/>
                  </a:prstGeom>
                  <a:ln w="0">
                    <a:noFill/>
                  </a:ln>
                </p:spPr>
              </p:pic>
            </p:oleObj>
          </a:graphicData>
        </a:graphic>
      </p:graphicFrame>
      <p:graphicFrame>
        <p:nvGraphicFramePr>
          <p:cNvPr id="61" name=""/>
          <p:cNvGraphicFramePr/>
          <p:nvPr/>
        </p:nvGraphicFramePr>
        <p:xfrm>
          <a:off x="2424240" y="5651640"/>
          <a:ext cx="1006200" cy="1280880"/>
        </p:xfrm>
        <a:graphic>
          <a:graphicData uri="http://schemas.openxmlformats.org/presentationml/2006/ole">
            <p:oleObj r:id="rId7" spid="">
              <p:embed/>
              <p:pic>
                <p:nvPicPr>
                  <p:cNvPr id="62" name="" descr=""/>
                  <p:cNvPicPr/>
                  <p:nvPr/>
                </p:nvPicPr>
                <p:blipFill>
                  <a:blip r:embed="rId8"/>
                  <a:stretch/>
                </p:blipFill>
                <p:spPr>
                  <a:xfrm>
                    <a:off x="2424240" y="5651640"/>
                    <a:ext cx="1006200" cy="1280880"/>
                  </a:xfrm>
                  <a:prstGeom prst="rect">
                    <a:avLst/>
                  </a:prstGeom>
                  <a:ln w="0">
                    <a:noFill/>
                  </a:ln>
                </p:spPr>
              </p:pic>
            </p:oleObj>
          </a:graphicData>
        </a:graphic>
      </p:graphicFrame>
      <p:graphicFrame>
        <p:nvGraphicFramePr>
          <p:cNvPr id="63" name=""/>
          <p:cNvGraphicFramePr/>
          <p:nvPr/>
        </p:nvGraphicFramePr>
        <p:xfrm>
          <a:off x="4941720" y="5651640"/>
          <a:ext cx="1006560" cy="1280880"/>
        </p:xfrm>
        <a:graphic>
          <a:graphicData uri="http://schemas.openxmlformats.org/presentationml/2006/ole">
            <p:oleObj r:id="rId9" spid="">
              <p:embed/>
              <p:pic>
                <p:nvPicPr>
                  <p:cNvPr id="64" name="" descr=""/>
                  <p:cNvPicPr/>
                  <p:nvPr/>
                </p:nvPicPr>
                <p:blipFill>
                  <a:blip r:embed="rId10"/>
                  <a:stretch/>
                </p:blipFill>
                <p:spPr>
                  <a:xfrm>
                    <a:off x="4941720" y="5651640"/>
                    <a:ext cx="1006560" cy="1280880"/>
                  </a:xfrm>
                  <a:prstGeom prst="rect">
                    <a:avLst/>
                  </a:prstGeom>
                  <a:ln w="0">
                    <a:noFill/>
                  </a:ln>
                </p:spPr>
              </p:pic>
            </p:oleObj>
          </a:graphicData>
        </a:graphic>
      </p:graphicFrame>
      <p:graphicFrame>
        <p:nvGraphicFramePr>
          <p:cNvPr id="65" name=""/>
          <p:cNvGraphicFramePr/>
          <p:nvPr/>
        </p:nvGraphicFramePr>
        <p:xfrm>
          <a:off x="1055520" y="5651640"/>
          <a:ext cx="1006560" cy="1280880"/>
        </p:xfrm>
        <a:graphic>
          <a:graphicData uri="http://schemas.openxmlformats.org/presentationml/2006/ole">
            <p:oleObj r:id="rId11" spid="">
              <p:embed/>
              <p:pic>
                <p:nvPicPr>
                  <p:cNvPr id="66" name="" descr=""/>
                  <p:cNvPicPr/>
                  <p:nvPr/>
                </p:nvPicPr>
                <p:blipFill>
                  <a:blip r:embed="rId12"/>
                  <a:stretch/>
                </p:blipFill>
                <p:spPr>
                  <a:xfrm>
                    <a:off x="1055520" y="5651640"/>
                    <a:ext cx="1006560" cy="1280880"/>
                  </a:xfrm>
                  <a:prstGeom prst="rect">
                    <a:avLst/>
                  </a:prstGeom>
                  <a:ln w="0">
                    <a:noFill/>
                  </a:ln>
                </p:spPr>
              </p:pic>
            </p:oleObj>
          </a:graphicData>
        </a:graphic>
      </p:graphicFrame>
      <p:pic>
        <p:nvPicPr>
          <p:cNvPr id="67" name="" descr=""/>
          <p:cNvPicPr/>
          <p:nvPr/>
        </p:nvPicPr>
        <p:blipFill>
          <a:blip r:embed="rId13"/>
          <a:stretch/>
        </p:blipFill>
        <p:spPr>
          <a:xfrm>
            <a:off x="4797360" y="1332000"/>
            <a:ext cx="1112760" cy="1295280"/>
          </a:xfrm>
          <a:prstGeom prst="rect">
            <a:avLst/>
          </a:prstGeom>
          <a:ln w="0">
            <a:noFill/>
          </a:ln>
        </p:spPr>
      </p:pic>
      <p:pic>
        <p:nvPicPr>
          <p:cNvPr id="68" name="" descr=""/>
          <p:cNvPicPr/>
          <p:nvPr/>
        </p:nvPicPr>
        <p:blipFill>
          <a:blip r:embed="rId14"/>
          <a:stretch/>
        </p:blipFill>
        <p:spPr>
          <a:xfrm>
            <a:off x="5638680" y="457200"/>
            <a:ext cx="414360" cy="490680"/>
          </a:xfrm>
          <a:prstGeom prst="rect">
            <a:avLst/>
          </a:prstGeom>
          <a:ln w="0">
            <a:noFill/>
          </a:ln>
        </p:spPr>
      </p:pic>
      <p:pic>
        <p:nvPicPr>
          <p:cNvPr id="69" name="" descr=""/>
          <p:cNvPicPr/>
          <p:nvPr/>
        </p:nvPicPr>
        <p:blipFill>
          <a:blip r:embed="rId15"/>
          <a:stretch/>
        </p:blipFill>
        <p:spPr>
          <a:xfrm>
            <a:off x="533520" y="457200"/>
            <a:ext cx="414360" cy="490680"/>
          </a:xfrm>
          <a:prstGeom prst="rect">
            <a:avLst/>
          </a:prstGeom>
          <a:ln w="0">
            <a:noFill/>
          </a:ln>
        </p:spPr>
      </p:pic>
      <p:pic>
        <p:nvPicPr>
          <p:cNvPr id="70" name="" descr=""/>
          <p:cNvPicPr/>
          <p:nvPr/>
        </p:nvPicPr>
        <p:blipFill>
          <a:blip r:embed="rId16"/>
          <a:stretch/>
        </p:blipFill>
        <p:spPr>
          <a:xfrm>
            <a:off x="692280" y="2771640"/>
            <a:ext cx="1123920" cy="1111320"/>
          </a:xfrm>
          <a:prstGeom prst="rect">
            <a:avLst/>
          </a:prstGeom>
          <a:ln w="0">
            <a:noFill/>
          </a:ln>
        </p:spPr>
      </p:pic>
      <p:pic>
        <p:nvPicPr>
          <p:cNvPr id="71" name="" descr=""/>
          <p:cNvPicPr/>
          <p:nvPr/>
        </p:nvPicPr>
        <p:blipFill>
          <a:blip r:embed="rId17"/>
          <a:stretch/>
        </p:blipFill>
        <p:spPr>
          <a:xfrm>
            <a:off x="260280" y="6012000"/>
            <a:ext cx="711360" cy="660240"/>
          </a:xfrm>
          <a:prstGeom prst="rect">
            <a:avLst/>
          </a:prstGeom>
          <a:ln w="0">
            <a:noFill/>
          </a:ln>
        </p:spPr>
      </p:pic>
      <p:pic>
        <p:nvPicPr>
          <p:cNvPr id="72" name="" descr=""/>
          <p:cNvPicPr/>
          <p:nvPr/>
        </p:nvPicPr>
        <p:blipFill>
          <a:blip r:embed="rId18"/>
          <a:stretch/>
        </p:blipFill>
        <p:spPr>
          <a:xfrm>
            <a:off x="5084640" y="2916360"/>
            <a:ext cx="650880" cy="930240"/>
          </a:xfrm>
          <a:prstGeom prst="rect">
            <a:avLst/>
          </a:prstGeom>
          <a:ln w="0">
            <a:noFill/>
          </a:ln>
        </p:spPr>
      </p:pic>
      <p:pic>
        <p:nvPicPr>
          <p:cNvPr id="73" name="" descr=""/>
          <p:cNvPicPr/>
          <p:nvPr/>
        </p:nvPicPr>
        <p:blipFill>
          <a:blip r:embed="rId19"/>
          <a:stretch/>
        </p:blipFill>
        <p:spPr>
          <a:xfrm>
            <a:off x="907920" y="7236000"/>
            <a:ext cx="936720" cy="1076040"/>
          </a:xfrm>
          <a:prstGeom prst="rect">
            <a:avLst/>
          </a:prstGeom>
          <a:ln w="0">
            <a:noFill/>
          </a:ln>
        </p:spPr>
      </p:pic>
      <p:pic>
        <p:nvPicPr>
          <p:cNvPr id="74" name="" descr=""/>
          <p:cNvPicPr/>
          <p:nvPr/>
        </p:nvPicPr>
        <p:blipFill>
          <a:blip r:embed="rId20"/>
          <a:stretch/>
        </p:blipFill>
        <p:spPr>
          <a:xfrm>
            <a:off x="2852640" y="179280"/>
            <a:ext cx="1117800" cy="854280"/>
          </a:xfrm>
          <a:prstGeom prst="rect">
            <a:avLst/>
          </a:prstGeom>
          <a:ln w="0">
            <a:noFill/>
          </a:ln>
        </p:spPr>
      </p:pic>
      <p:sp>
        <p:nvSpPr>
          <p:cNvPr id="2" name="PlaceHolder 1"/>
          <p:cNvSpPr>
            <a:spLocks noGrp="1"/>
          </p:cNvSpPr>
          <p:nvPr>
            <p:ph type="sldNum" idx="3"/>
          </p:nvPr>
        </p:nvSpPr>
        <p:spPr/>
        <p:txBody>
          <a:bodyPr/>
          <a:p>
            <a:fld id="{8B64AE54-DD12-4E87-A8C8-015C7E975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04560"/>
            <a:ext cx="52801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عدل الذكاء الوجداني لطفلك</a:t>
            </a:r>
            <a:endParaRPr b="0" lang="en-US" sz="4000" spc="-1" strike="noStrike">
              <a:solidFill>
                <a:srgbClr val="000000"/>
              </a:solidFill>
              <a:latin typeface="Arial"/>
            </a:endParaRPr>
          </a:p>
        </p:txBody>
      </p:sp>
      <p:sp>
        <p:nvSpPr>
          <p:cNvPr id="116" name="PlaceHolder 2"/>
          <p:cNvSpPr>
            <a:spLocks noGrp="1"/>
          </p:cNvSpPr>
          <p:nvPr>
            <p:ph type="subTitle"/>
          </p:nvPr>
        </p:nvSpPr>
        <p:spPr>
          <a:xfrm>
            <a:off x="304920" y="1294920"/>
            <a:ext cx="4495680" cy="61722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مكن  ان نكون الأفضل بكوننا أباء (ولسنا معلمين ! ) لتحسين معدل الذكاء الوجداني بتشكيل الذكاء العاطفى فى سلوكنا بطريقة أخرى. الأباء الذين فى مقدرتهم مساعدة الأطفال ذو الذكاء العاطفى العالى هم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نتبهين جيداً لمشاعر ابنائهم ومساعدتهم فى فهم مشاعرهم</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ى فهم ومعرفة مشاعر الأخريين</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حديد الاهداف لاطفالهم·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ي تطوير نظرتهم التفاؤلية للحياة·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إمداد بالروابط والحدود والاتجاهات حتى يصبح أطفالنا أعضاء مسئولة في المجتمع·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ندة عملية تطوير الكفاءة و الثقة بالنفس و المثابرة ضرورى للنجاح  فى المهمات مع التدريب اللطيف والتدقيق.</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 العادة هذه اكثر الطرق فعالية لمساعدة الأطفال. تجاهل العواطف يكون عادة للتغلب علي المخاوف التي تتقبل جميع الانفعالات،او الانفعال السلبي لردود أفعال الأطفال لن تفيد الأطفال الذين يطوروا إحساسهم بأنفسهم ومهارات هم محتاجين لها للنجاح.يوجد كثير من الكتابات الرائجة المتاحة عن مبادئ معدل الذكاء العاطفى. الوالدين لابد ان يختاروا وان يبحثوا عن كتب التي تكون مبينة على أبحاث حقيقية، الطريقة الهندسية لتنمية معدل الذكاء الوجداني للطفل تكون على الأرجح إيجابية. أحسن نصيحة للوالدين يمكن ان تكون هي قضاء وقت أقل فى التركيز على ما يجب أن يكون عليه أطفالنا ووقت اكبر في إمتاع ومساعدة أطفالنا بصورة متفائلة ،و التوقعات الكبيرة ( الواقعية) ، والتوجيه اللطيف للنجاح.</a:t>
            </a:r>
            <a:endParaRPr b="0" lang="en-US" sz="1600" spc="-1" strike="noStrike">
              <a:solidFill>
                <a:srgbClr val="000000"/>
              </a:solidFill>
              <a:latin typeface="Arial"/>
            </a:endParaRPr>
          </a:p>
        </p:txBody>
      </p:sp>
      <p:sp>
        <p:nvSpPr>
          <p:cNvPr id="117" name=""/>
          <p:cNvSpPr/>
          <p:nvPr/>
        </p:nvSpPr>
        <p:spPr>
          <a:xfrm rot="16756800">
            <a:off x="2527200" y="4136760"/>
            <a:ext cx="6521400" cy="685800"/>
          </a:xfrm>
          <a:prstGeom prst="rect">
            <a:avLst/>
          </a:prstGeom>
          <a:gradFill rotWithShape="0">
            <a:gsLst>
              <a:gs pos="0">
                <a:srgbClr val="bbe0e3"/>
              </a:gs>
              <a:gs pos="100000">
                <a:srgbClr val="ffffff"/>
              </a:gs>
            </a:gsLst>
            <a:lin ang="10242000"/>
          </a:gra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كيفية مساعدة أطفالنا بتحسين معدل ذكائهم الوجداني ؟</a:t>
            </a:r>
            <a:endParaRPr b="0" lang="en-US" sz="2800" spc="-1" strike="noStrike">
              <a:solidFill>
                <a:srgbClr val="000000"/>
              </a:solidFill>
              <a:latin typeface="Arial"/>
            </a:endParaRPr>
          </a:p>
        </p:txBody>
      </p:sp>
      <p:pic>
        <p:nvPicPr>
          <p:cNvPr id="118" name="" descr="">
            <a:hlinkClick r:id="rId1"/>
          </p:cNvPr>
          <p:cNvPicPr/>
          <p:nvPr/>
        </p:nvPicPr>
        <p:blipFill>
          <a:blip r:embed="rId2"/>
          <a:stretch/>
        </p:blipFill>
        <p:spPr>
          <a:xfrm>
            <a:off x="304920" y="7493040"/>
            <a:ext cx="1371600" cy="1039680"/>
          </a:xfrm>
          <a:prstGeom prst="rect">
            <a:avLst/>
          </a:prstGeom>
          <a:ln w="0">
            <a:noFill/>
          </a:ln>
        </p:spPr>
      </p:pic>
      <p:pic>
        <p:nvPicPr>
          <p:cNvPr id="119" name="" descr=""/>
          <p:cNvPicPr/>
          <p:nvPr/>
        </p:nvPicPr>
        <p:blipFill>
          <a:blip r:embed="rId3"/>
          <a:stretch/>
        </p:blipFill>
        <p:spPr>
          <a:xfrm>
            <a:off x="4869000" y="2268360"/>
            <a:ext cx="647640" cy="876600"/>
          </a:xfrm>
          <a:prstGeom prst="rect">
            <a:avLst/>
          </a:prstGeom>
          <a:ln w="0">
            <a:noFill/>
          </a:ln>
        </p:spPr>
      </p:pic>
      <p:pic>
        <p:nvPicPr>
          <p:cNvPr id="120" name="" descr=""/>
          <p:cNvPicPr/>
          <p:nvPr/>
        </p:nvPicPr>
        <p:blipFill>
          <a:blip r:embed="rId4"/>
          <a:stretch/>
        </p:blipFill>
        <p:spPr>
          <a:xfrm>
            <a:off x="2565360" y="7451640"/>
            <a:ext cx="1123920" cy="1111320"/>
          </a:xfrm>
          <a:prstGeom prst="rect">
            <a:avLst/>
          </a:prstGeom>
          <a:ln w="0">
            <a:noFill/>
          </a:ln>
        </p:spPr>
      </p:pic>
      <p:pic>
        <p:nvPicPr>
          <p:cNvPr id="121" name="" descr=""/>
          <p:cNvPicPr/>
          <p:nvPr/>
        </p:nvPicPr>
        <p:blipFill>
          <a:blip r:embed="rId5"/>
          <a:stretch/>
        </p:blipFill>
        <p:spPr>
          <a:xfrm>
            <a:off x="4869000" y="1258920"/>
            <a:ext cx="711000" cy="660240"/>
          </a:xfrm>
          <a:prstGeom prst="rect">
            <a:avLst/>
          </a:prstGeom>
          <a:ln w="0">
            <a:noFill/>
          </a:ln>
        </p:spPr>
      </p:pic>
      <p:pic>
        <p:nvPicPr>
          <p:cNvPr id="122" name="" descr=""/>
          <p:cNvPicPr/>
          <p:nvPr/>
        </p:nvPicPr>
        <p:blipFill>
          <a:blip r:embed="rId6"/>
          <a:stretch/>
        </p:blipFill>
        <p:spPr>
          <a:xfrm>
            <a:off x="5877000" y="179280"/>
            <a:ext cx="650880" cy="930240"/>
          </a:xfrm>
          <a:prstGeom prst="rect">
            <a:avLst/>
          </a:prstGeom>
          <a:ln w="0">
            <a:noFill/>
          </a:ln>
        </p:spPr>
      </p:pic>
      <p:pic>
        <p:nvPicPr>
          <p:cNvPr id="123" name="" descr=""/>
          <p:cNvPicPr/>
          <p:nvPr/>
        </p:nvPicPr>
        <p:blipFill>
          <a:blip r:embed="rId7"/>
          <a:stretch/>
        </p:blipFill>
        <p:spPr>
          <a:xfrm>
            <a:off x="5877000" y="6300720"/>
            <a:ext cx="863640" cy="1076400"/>
          </a:xfrm>
          <a:prstGeom prst="rect">
            <a:avLst/>
          </a:prstGeom>
          <a:ln w="0">
            <a:noFill/>
          </a:ln>
        </p:spPr>
      </p:pic>
      <p:sp>
        <p:nvSpPr>
          <p:cNvPr id="4" name="PlaceHolder 3"/>
          <p:cNvSpPr>
            <a:spLocks noGrp="1"/>
          </p:cNvSpPr>
          <p:nvPr>
            <p:ph type="sldNum" idx="3"/>
          </p:nvPr>
        </p:nvSpPr>
        <p:spPr/>
        <p:txBody>
          <a:bodyPr/>
          <a:p>
            <a:fld id="{2C2A56DA-1E82-4657-B1F4-AAB136B229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304560"/>
            <a:ext cx="5135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Arial"/>
              </a:rPr>
              <a:t>أبعاد الذكاء الوجداني </a:t>
            </a:r>
            <a:br>
              <a:rPr sz="2800"/>
            </a:br>
            <a:r>
              <a:rPr b="1" i="1" lang="ar-SA" sz="2800" spc="-1" strike="noStrike">
                <a:solidFill>
                  <a:srgbClr val="000000"/>
                </a:solidFill>
                <a:latin typeface="Arial"/>
              </a:rPr>
              <a:t>الذكاء الوجداني يبنى على الأتى</a:t>
            </a:r>
            <a:r>
              <a:rPr b="1" i="1" lang="ar-SA" sz="2800" spc="-1" strike="noStrike">
                <a:solidFill>
                  <a:srgbClr val="000000"/>
                </a:solidFill>
                <a:latin typeface="Arial"/>
              </a:rPr>
              <a:t>:</a:t>
            </a:r>
            <a:endParaRPr b="0" lang="en-US" sz="2800" spc="-1" strike="noStrike">
              <a:solidFill>
                <a:srgbClr val="000000"/>
              </a:solidFill>
              <a:latin typeface="Arial"/>
            </a:endParaRPr>
          </a:p>
        </p:txBody>
      </p:sp>
      <p:sp>
        <p:nvSpPr>
          <p:cNvPr id="125" name="PlaceHolder 2"/>
          <p:cNvSpPr>
            <a:spLocks noGrp="1"/>
          </p:cNvSpPr>
          <p:nvPr>
            <p:ph type="subTitle"/>
          </p:nvPr>
        </p:nvSpPr>
        <p:spPr>
          <a:xfrm>
            <a:off x="304560" y="1523880"/>
            <a:ext cx="6095880" cy="59436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1</a:t>
            </a:r>
            <a:r>
              <a:rPr b="1" lang="ar-SA" sz="2400" spc="-1" strike="noStrike" u="sng">
                <a:solidFill>
                  <a:srgbClr val="000000"/>
                </a:solidFill>
                <a:uFillTx/>
                <a:latin typeface="Monotype Corsiva"/>
              </a:rPr>
              <a:t>.     معرفة  العواطف الفرد</a:t>
            </a:r>
            <a:br>
              <a:rPr sz="2400"/>
            </a:br>
            <a:r>
              <a:rPr b="1" lang="ar-SA" sz="1800" spc="-1" strike="noStrike">
                <a:solidFill>
                  <a:srgbClr val="000000"/>
                </a:solidFill>
                <a:latin typeface="Arial"/>
              </a:rPr>
              <a:t>            المعرفة الشخصية أو القدرة على معرفة المشاعر كما تحدث هى حجر الزاوية للذكاء العاطفى   </a:t>
            </a:r>
            <a:br>
              <a:rPr sz="1800"/>
            </a:br>
            <a:r>
              <a:rPr b="1" lang="ar-SA" sz="1800" spc="-1" strike="noStrike">
                <a:solidFill>
                  <a:srgbClr val="000000"/>
                </a:solidFill>
                <a:latin typeface="Arial"/>
              </a:rPr>
              <a:t>            أن نكون علي عالم بأمزجتنا، أفكارنا، و مشاعرنا عن أمزجتنا هذا ضرورى لأدارة العواطف.</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2</a:t>
            </a:r>
            <a:r>
              <a:rPr b="1" lang="ar-SA" sz="2400" spc="-1" strike="noStrike" u="sng">
                <a:solidFill>
                  <a:srgbClr val="000000"/>
                </a:solidFill>
                <a:uFillTx/>
                <a:latin typeface="Arial"/>
              </a:rPr>
              <a:t>.     </a:t>
            </a:r>
            <a:r>
              <a:rPr b="1" lang="ar-KW" sz="2400" spc="-1" strike="noStrike" u="sng">
                <a:solidFill>
                  <a:srgbClr val="000000"/>
                </a:solidFill>
                <a:uFillTx/>
                <a:latin typeface="Arial"/>
              </a:rPr>
              <a:t>إ</a:t>
            </a:r>
            <a:r>
              <a:rPr b="1" lang="ar-SA" sz="2400" spc="-1" strike="noStrike" u="sng">
                <a:solidFill>
                  <a:srgbClr val="000000"/>
                </a:solidFill>
                <a:uFillTx/>
                <a:latin typeface="Arial"/>
              </a:rPr>
              <a:t>دارة العواطف</a:t>
            </a:r>
            <a:endParaRPr b="0" lang="en-US" sz="24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KW" sz="1800" spc="-1" strike="noStrike">
                <a:solidFill>
                  <a:srgbClr val="000000"/>
                </a:solidFill>
                <a:latin typeface="Arial"/>
              </a:rPr>
              <a:t>إ</a:t>
            </a:r>
            <a:r>
              <a:rPr b="1" lang="ar-SA" sz="1800" spc="-1" strike="noStrike">
                <a:solidFill>
                  <a:srgbClr val="000000"/>
                </a:solidFill>
                <a:latin typeface="Arial"/>
              </a:rPr>
              <a:t>دارة المشاعر هكذا تؤدى إلى سلوك ملائم يَكون مهارة طبيعية التى تبنى الوعى الشخصى</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3</a:t>
            </a:r>
            <a:r>
              <a:rPr b="1" lang="ar-SA" sz="2400" spc="-1" strike="noStrike" u="sng">
                <a:solidFill>
                  <a:srgbClr val="000000"/>
                </a:solidFill>
                <a:uFillTx/>
                <a:latin typeface="Monotype Corsiva"/>
              </a:rPr>
              <a:t>.     التحفيز النفسى</a:t>
            </a:r>
            <a:endParaRPr b="0" lang="en-US" sz="24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مواجهه والأصرار لمواجهة القلق والخوف و العقبات يترتكز علي الإنجاز المنفرد.</a:t>
            </a:r>
            <a:br>
              <a:rPr sz="1800"/>
            </a:br>
            <a:r>
              <a:rPr b="1" lang="ar-SA" sz="1800" spc="-1" strike="noStrike">
                <a:solidFill>
                  <a:srgbClr val="000000"/>
                </a:solidFill>
                <a:latin typeface="Arial"/>
              </a:rPr>
              <a:t>          صدق انك تمتلك الرغبة لادارة الأحداث الرئيسية والتنبؤات الحاسمة للنجاح فى الحياة  والمدرسة.</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ملاحظة عواطف الأخرين</a:t>
            </a:r>
            <a:br>
              <a:rPr sz="2400"/>
            </a:br>
            <a:r>
              <a:rPr b="1" lang="ar-SA" sz="1800" spc="-1" strike="noStrike">
                <a:solidFill>
                  <a:srgbClr val="000000"/>
                </a:solidFill>
                <a:latin typeface="Arial"/>
              </a:rPr>
              <a:t>         بالتأكيد بناء على المعرفة الشخصية للعواطف و تطبيقها عملياً على الأخريين هى المهارة الوجداني ة  الأساسية للنجاح فى التفاعل الداخلى.</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التعامل في العلاقات الشخصية</a:t>
            </a:r>
            <a:br>
              <a:rPr sz="2400"/>
            </a:br>
            <a:r>
              <a:rPr b="1" lang="ar-SA" sz="1800" spc="-1" strike="noStrike">
                <a:solidFill>
                  <a:srgbClr val="000000"/>
                </a:solidFill>
                <a:latin typeface="Arial"/>
              </a:rPr>
              <a:t>         فن العلاقات هو على نطاق موسع يقاس بواسطة كيفية التأثير على الأخريين وكيفية قدرتنا على التعرف و الأستجابة لهذا الأحساس بسلوك ملائم.</a:t>
            </a:r>
            <a:endParaRPr b="0" lang="en-US" sz="1800" spc="-1" strike="noStrike">
              <a:solidFill>
                <a:srgbClr val="000000"/>
              </a:solidFill>
              <a:latin typeface="Arial"/>
            </a:endParaRPr>
          </a:p>
        </p:txBody>
      </p:sp>
      <p:pic>
        <p:nvPicPr>
          <p:cNvPr id="126" name="" descr=""/>
          <p:cNvPicPr/>
          <p:nvPr/>
        </p:nvPicPr>
        <p:blipFill>
          <a:blip r:embed="rId1"/>
          <a:stretch/>
        </p:blipFill>
        <p:spPr>
          <a:xfrm>
            <a:off x="3886200" y="6629400"/>
            <a:ext cx="2438280" cy="1828800"/>
          </a:xfrm>
          <a:prstGeom prst="rect">
            <a:avLst/>
          </a:prstGeom>
          <a:ln w="0">
            <a:noFill/>
          </a:ln>
        </p:spPr>
      </p:pic>
      <p:pic>
        <p:nvPicPr>
          <p:cNvPr id="127" name="" descr=""/>
          <p:cNvPicPr/>
          <p:nvPr/>
        </p:nvPicPr>
        <p:blipFill>
          <a:blip r:embed="rId2"/>
          <a:stretch/>
        </p:blipFill>
        <p:spPr>
          <a:xfrm>
            <a:off x="990720" y="6553080"/>
            <a:ext cx="1509480" cy="1905120"/>
          </a:xfrm>
          <a:prstGeom prst="rect">
            <a:avLst/>
          </a:prstGeom>
          <a:ln w="0">
            <a:noFill/>
          </a:ln>
        </p:spPr>
      </p:pic>
      <p:sp>
        <p:nvSpPr>
          <p:cNvPr id="4" name="PlaceHolder 3"/>
          <p:cNvSpPr>
            <a:spLocks noGrp="1"/>
          </p:cNvSpPr>
          <p:nvPr>
            <p:ph type="sldNum" idx="3"/>
          </p:nvPr>
        </p:nvSpPr>
        <p:spPr/>
        <p:txBody>
          <a:bodyPr/>
          <a:p>
            <a:fld id="{7999F3BE-D788-42EA-BE24-DB52199C6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04560"/>
            <a:ext cx="5000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ما هي الانفعالات الوجدانية؟</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type="subTitle"/>
          </p:nvPr>
        </p:nvSpPr>
        <p:spPr>
          <a:xfrm>
            <a:off x="304920" y="1523520"/>
            <a:ext cx="5790960" cy="5712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الانفعالات الوجدانية هي التعبير الذي لا يزال علماء النفس والفلسفة ينتقدونه منذ قرابة القرن، وفي أدق معناه الحرفي يعرف قاموس أوكسفورد اصطلاح </a:t>
            </a:r>
            <a:r>
              <a:rPr b="1" lang="en-US" sz="1500" spc="-1" strike="noStrike">
                <a:solidFill>
                  <a:srgbClr val="000000"/>
                </a:solidFill>
                <a:latin typeface="Arial"/>
              </a:rPr>
              <a:t>emotion</a:t>
            </a:r>
            <a:r>
              <a:rPr b="1" lang="ar-KW" sz="1500" spc="-1" strike="noStrike">
                <a:solidFill>
                  <a:srgbClr val="000000"/>
                </a:solidFill>
                <a:latin typeface="Arial"/>
              </a:rPr>
              <a:t> بأنه حالات اضطراب في الدفاع والمشاعر والعواطف وأي حالة ذهنية عميقة أو انفعالية ، ويأخذ المؤلف هذه الكلمة على انها اشارة الى المشاعر والافكار الخاصة بها والحالتين النفسية والبيولوجية وحالات من النزوع الطبيعي للتحرك أو العمل. وهناك المئات من الانفعالات العاطفة مع مزيج خاص بها وتنوعات والطفرات والمضايقات. وهناك الكثير من العناوين الفرعية للانفعالات اكثر ما لدى الباحثين والعلماء من كلمات مرادفة لها أو تشرح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واصل الباحثون جدلهم حول اي بالضبط الانفعالات التي يمكن اعتبارها أولية أو يجادلون ما اذا كانت هناك انفعالات عاطفية أولية. ويفترض بعض المنظرين عائلات أساسية على الرغم من ان الجميع لا يشاطرون الرأى. وفيما يلي التعريفات المرشحة الرئيسية وبعض اعضاء عائلاتها: الغضب: الاثارة والحنق واليأس والنبض والضيق والحيرة والعداء ويجوز ان تكون حالات مرضية مثل الكراهية والعنف.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زن:</a:t>
            </a:r>
            <a:r>
              <a:rPr b="1" lang="ar-KW" sz="1500" spc="-1" strike="noStrike">
                <a:solidFill>
                  <a:srgbClr val="000000"/>
                </a:solidFill>
                <a:latin typeface="Arial"/>
              </a:rPr>
              <a:t> الأسي، والحزن الشديد وعدم البهجة والكآبة والانقباض والرعب والذعر.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نبساط:</a:t>
            </a:r>
            <a:r>
              <a:rPr b="1" lang="ar-KW" sz="1500" spc="-1" strike="noStrike">
                <a:solidFill>
                  <a:srgbClr val="000000"/>
                </a:solidFill>
                <a:latin typeface="Arial"/>
              </a:rPr>
              <a:t> السعادة، المتعة، الخلاص الفرحة والمتعة والتسلية.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ب:</a:t>
            </a:r>
            <a:r>
              <a:rPr b="1" lang="ar-KW" sz="1500" spc="-1" strike="noStrike">
                <a:solidFill>
                  <a:srgbClr val="000000"/>
                </a:solidFill>
                <a:latin typeface="Arial"/>
              </a:rPr>
              <a:t> القبول، الصداقة والثقة، واللطف العشق والافتتان.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مفاجأة:</a:t>
            </a:r>
            <a:r>
              <a:rPr b="1" lang="ar-KW" sz="1500" spc="-1" strike="noStrike">
                <a:solidFill>
                  <a:srgbClr val="000000"/>
                </a:solidFill>
                <a:latin typeface="Arial"/>
              </a:rPr>
              <a:t> الصدمة، المفاجأة والدهشة والتعجب.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شمئزاز:</a:t>
            </a:r>
            <a:r>
              <a:rPr b="1" lang="ar-KW" sz="1500" spc="-1" strike="noStrike">
                <a:solidFill>
                  <a:srgbClr val="000000"/>
                </a:solidFill>
                <a:latin typeface="Arial"/>
              </a:rPr>
              <a:t> الازدراء، الغثيان، الاحتقار، التجنب، الخجل: الذنب، الارباك والأسى، الندم، الاذلال، إماثة الجسد.</a:t>
            </a:r>
            <a:r>
              <a:rPr b="0" lang="ar-KW" sz="1500" spc="-1" strike="noStrike">
                <a:solidFill>
                  <a:srgbClr val="000000"/>
                </a:solidFill>
                <a:latin typeface="Arial"/>
              </a:rPr>
              <a:t> </a:t>
            </a:r>
            <a:r>
              <a:rPr b="1" lang="ar-KW" sz="1500" spc="-1" strike="noStrike">
                <a:solidFill>
                  <a:srgbClr val="000000"/>
                </a:solidFill>
                <a:latin typeface="Arial"/>
              </a:rPr>
              <a:t>للتأكد من ذلك فإن هذه القائمة لا تحل كل قضية ازاء كيفية فرز العواطف والانفعالات، وعلى سبيل المثال ما هي قضية الخليط مثل الحسد الذي يحتوي على مزيج من الغضب والحزن والخوف، والواقع فإنه لا وجود لاجابات شافية، ولا يزال النقاش العلمي حول كيفية تصنيف العواطف الانفعالية قائماً. ولكن لم يظهر نموذج علمي للعقلية الانفعالية التي توضح ان ما نقوم به يمكن ان يدفعنا بصورة انفصالية الا في السنوات الاخيرة، وهي كيف يمكن ان نكون عقلانيين في لحظة وغير عقلانيين أو منطقيين في لحظات اخرى. والشعور الذي تكون للانفعالات حالاتها المنطقية المتعلقة بها وكيف يكون لها منطق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قدم عدد من العلماء قائمة من الادلة العلمية المختلفة ويوفرون قائمة من السمات التي تميز الانفعالات الوجداني ة عن بقية الحياة الذهنية</a:t>
            </a:r>
            <a:r>
              <a:rPr b="0" lang="ar-KW" sz="1500" spc="-1" strike="noStrike">
                <a:solidFill>
                  <a:srgbClr val="000000"/>
                </a:solidFill>
                <a:latin typeface="Arial"/>
              </a:rPr>
              <a:t> </a:t>
            </a:r>
            <a:endParaRPr b="0" lang="en-US" sz="1500" spc="-1" strike="noStrike">
              <a:solidFill>
                <a:srgbClr val="000000"/>
              </a:solidFill>
              <a:latin typeface="Arial"/>
            </a:endParaRPr>
          </a:p>
        </p:txBody>
      </p:sp>
      <p:graphicFrame>
        <p:nvGraphicFramePr>
          <p:cNvPr id="130" name=""/>
          <p:cNvGraphicFramePr/>
          <p:nvPr/>
        </p:nvGraphicFramePr>
        <p:xfrm>
          <a:off x="5014800" y="7596360"/>
          <a:ext cx="719280" cy="863280"/>
        </p:xfrm>
        <a:graphic>
          <a:graphicData uri="http://schemas.openxmlformats.org/presentationml/2006/ole">
            <p:oleObj r:id="rId1" spid="">
              <p:embed/>
              <p:pic>
                <p:nvPicPr>
                  <p:cNvPr id="131" name="" descr=""/>
                  <p:cNvPicPr/>
                  <p:nvPr/>
                </p:nvPicPr>
                <p:blipFill>
                  <a:blip r:embed="rId2"/>
                  <a:stretch/>
                </p:blipFill>
                <p:spPr>
                  <a:xfrm>
                    <a:off x="5014800" y="7596360"/>
                    <a:ext cx="719280" cy="863280"/>
                  </a:xfrm>
                  <a:prstGeom prst="rect">
                    <a:avLst/>
                  </a:prstGeom>
                  <a:ln w="0">
                    <a:noFill/>
                  </a:ln>
                </p:spPr>
              </p:pic>
            </p:oleObj>
          </a:graphicData>
        </a:graphic>
      </p:graphicFrame>
      <p:pic>
        <p:nvPicPr>
          <p:cNvPr id="132" name="" descr=""/>
          <p:cNvPicPr/>
          <p:nvPr/>
        </p:nvPicPr>
        <p:blipFill>
          <a:blip r:embed="rId3"/>
          <a:stretch/>
        </p:blipFill>
        <p:spPr>
          <a:xfrm>
            <a:off x="2060640" y="7451640"/>
            <a:ext cx="1123920" cy="1111320"/>
          </a:xfrm>
          <a:prstGeom prst="rect">
            <a:avLst/>
          </a:prstGeom>
          <a:ln w="0">
            <a:noFill/>
          </a:ln>
        </p:spPr>
      </p:pic>
      <p:pic>
        <p:nvPicPr>
          <p:cNvPr id="133" name="" descr=""/>
          <p:cNvPicPr/>
          <p:nvPr/>
        </p:nvPicPr>
        <p:blipFill>
          <a:blip r:embed="rId4"/>
          <a:stretch/>
        </p:blipFill>
        <p:spPr>
          <a:xfrm>
            <a:off x="3716280" y="7667640"/>
            <a:ext cx="711360" cy="660240"/>
          </a:xfrm>
          <a:prstGeom prst="rect">
            <a:avLst/>
          </a:prstGeom>
          <a:ln w="0">
            <a:noFill/>
          </a:ln>
        </p:spPr>
      </p:pic>
      <p:pic>
        <p:nvPicPr>
          <p:cNvPr id="134" name="" descr=""/>
          <p:cNvPicPr/>
          <p:nvPr/>
        </p:nvPicPr>
        <p:blipFill>
          <a:blip r:embed="rId5"/>
          <a:stretch/>
        </p:blipFill>
        <p:spPr>
          <a:xfrm>
            <a:off x="6021360" y="7236000"/>
            <a:ext cx="650880" cy="930240"/>
          </a:xfrm>
          <a:prstGeom prst="rect">
            <a:avLst/>
          </a:prstGeom>
          <a:ln w="0">
            <a:noFill/>
          </a:ln>
        </p:spPr>
      </p:pic>
      <p:pic>
        <p:nvPicPr>
          <p:cNvPr id="135" name="" descr=""/>
          <p:cNvPicPr/>
          <p:nvPr/>
        </p:nvPicPr>
        <p:blipFill>
          <a:blip r:embed="rId6"/>
          <a:stretch/>
        </p:blipFill>
        <p:spPr>
          <a:xfrm>
            <a:off x="5300640" y="250920"/>
            <a:ext cx="1224000" cy="1152360"/>
          </a:xfrm>
          <a:prstGeom prst="rect">
            <a:avLst/>
          </a:prstGeom>
          <a:ln w="0">
            <a:noFill/>
          </a:ln>
        </p:spPr>
      </p:pic>
      <p:pic>
        <p:nvPicPr>
          <p:cNvPr id="136" name="" descr=""/>
          <p:cNvPicPr/>
          <p:nvPr/>
        </p:nvPicPr>
        <p:blipFill>
          <a:blip r:embed="rId7"/>
          <a:stretch/>
        </p:blipFill>
        <p:spPr>
          <a:xfrm>
            <a:off x="981000" y="7524720"/>
            <a:ext cx="676440" cy="1076400"/>
          </a:xfrm>
          <a:prstGeom prst="rect">
            <a:avLst/>
          </a:prstGeom>
          <a:ln w="0">
            <a:noFill/>
          </a:ln>
        </p:spPr>
      </p:pic>
      <p:sp>
        <p:nvSpPr>
          <p:cNvPr id="4" name="PlaceHolder 3"/>
          <p:cNvSpPr>
            <a:spLocks noGrp="1"/>
          </p:cNvSpPr>
          <p:nvPr>
            <p:ph type="sldNum" idx="3"/>
          </p:nvPr>
        </p:nvSpPr>
        <p:spPr/>
        <p:txBody>
          <a:bodyPr/>
          <a:p>
            <a:fld id="{BFE92D29-7433-49B9-9585-9F873044F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6480"/>
            <a:ext cx="4305240" cy="10047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Arial"/>
              </a:rPr>
              <a:t>مكونات الذكاء الوجداني</a:t>
            </a:r>
            <a:r>
              <a:rPr b="1" i="1" lang="ar-SA"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38" name=""/>
          <p:cNvGraphicFramePr/>
          <p:nvPr/>
        </p:nvGraphicFramePr>
        <p:xfrm>
          <a:off x="343080" y="2133720"/>
          <a:ext cx="6134040" cy="6033960"/>
        </p:xfrm>
        <a:graphic>
          <a:graphicData uri="http://schemas.openxmlformats.org/drawingml/2006/table">
            <a:tbl>
              <a:tblPr/>
              <a:tblGrid>
                <a:gridCol w="3066840"/>
                <a:gridCol w="3067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ذا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 </a:t>
                      </a:r>
                      <a:r>
                        <a:rPr b="1" lang="ar-SA" sz="1800" spc="-1" strike="noStrike">
                          <a:solidFill>
                            <a:srgbClr val="000000"/>
                          </a:solidFill>
                          <a:latin typeface="Arial"/>
                          <a:ea typeface="Monotype Koufi"/>
                        </a:rPr>
                        <a:t>12- </a:t>
                      </a:r>
                      <a:r>
                        <a:rPr b="1" lang="ar-SA" sz="1800" spc="-1" strike="noStrike">
                          <a:solidFill>
                            <a:srgbClr val="000000"/>
                          </a:solidFill>
                          <a:latin typeface="Arial"/>
                          <a:cs typeface="Monotype Koufi"/>
                        </a:rPr>
                        <a:t>إدراك مشاعر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 </a:t>
                      </a:r>
                      <a:r>
                        <a:rPr b="1" lang="ar-SA" sz="1800" spc="-1" strike="noStrike">
                          <a:solidFill>
                            <a:srgbClr val="000000"/>
                          </a:solidFill>
                          <a:latin typeface="Arial"/>
                          <a:cs typeface="Monotype Koufi"/>
                        </a:rPr>
                        <a:t>إدراك المبادئ والقيم والأهداف</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مل الإيجابي مع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2- </a:t>
                      </a:r>
                      <a:r>
                        <a:rPr b="1" lang="ar-SA" sz="1800" spc="-1" strike="noStrike">
                          <a:solidFill>
                            <a:srgbClr val="000000"/>
                          </a:solidFill>
                          <a:latin typeface="Arial"/>
                          <a:cs typeface="Monotype Koufi"/>
                        </a:rPr>
                        <a:t>إدراك مشاعر الذات</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3- </a:t>
                      </a:r>
                      <a:r>
                        <a:rPr b="1" lang="ar-SA" sz="1800" spc="-1" strike="noStrike">
                          <a:solidFill>
                            <a:srgbClr val="000000"/>
                          </a:solidFill>
                          <a:latin typeface="Arial"/>
                          <a:cs typeface="Monotype Koufi"/>
                        </a:rPr>
                        <a:t>التعاطف</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3- </a:t>
                      </a:r>
                      <a:r>
                        <a:rPr b="1" lang="ar-SA" sz="1800" spc="-1" strike="noStrike">
                          <a:solidFill>
                            <a:srgbClr val="000000"/>
                          </a:solidFill>
                          <a:latin typeface="Arial"/>
                          <a:cs typeface="Monotype Koufi"/>
                        </a:rPr>
                        <a:t>استخدام الحدس بشكل صحيح</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4- </a:t>
                      </a:r>
                      <a:r>
                        <a:rPr b="1" lang="ar-SA" sz="1800" spc="-1" strike="noStrike">
                          <a:solidFill>
                            <a:srgbClr val="000000"/>
                          </a:solidFill>
                          <a:latin typeface="Arial"/>
                          <a:cs typeface="Monotype Koufi"/>
                        </a:rPr>
                        <a:t>التعبير عن المشاع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onotype Koufi"/>
                        </a:rPr>
                        <a:t>التعامل الإيجابي مع الذ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5- </a:t>
                      </a:r>
                      <a:r>
                        <a:rPr b="1" lang="ar-SA" sz="1800" spc="-1" strike="noStrike">
                          <a:solidFill>
                            <a:srgbClr val="000000"/>
                          </a:solidFill>
                          <a:latin typeface="Arial"/>
                          <a:cs typeface="Monotype Koufi"/>
                        </a:rPr>
                        <a:t>التواصل مع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4- </a:t>
                      </a:r>
                      <a:r>
                        <a:rPr b="1" lang="ar-SA" sz="1800" spc="-1" strike="noStrike">
                          <a:solidFill>
                            <a:srgbClr val="000000"/>
                          </a:solidFill>
                          <a:latin typeface="Arial"/>
                          <a:cs typeface="Monotype Koufi"/>
                        </a:rPr>
                        <a:t>التفاؤل</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6- </a:t>
                      </a:r>
                      <a:r>
                        <a:rPr b="1" lang="ar-SA" sz="1800" spc="-1" strike="noStrike">
                          <a:solidFill>
                            <a:srgbClr val="000000"/>
                          </a:solidFill>
                          <a:latin typeface="Arial"/>
                          <a:cs typeface="Monotype Koufi"/>
                        </a:rPr>
                        <a:t>الخلاف البنا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5- </a:t>
                      </a:r>
                      <a:r>
                        <a:rPr b="1" lang="ar-SA" sz="1800" spc="-1" strike="noStrike">
                          <a:solidFill>
                            <a:srgbClr val="000000"/>
                          </a:solidFill>
                          <a:latin typeface="Arial"/>
                          <a:cs typeface="Monotype Koufi"/>
                        </a:rPr>
                        <a:t>المرون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7- </a:t>
                      </a:r>
                      <a:r>
                        <a:rPr b="1" lang="ar-SA" sz="1800" spc="-1" strike="noStrike">
                          <a:solidFill>
                            <a:srgbClr val="000000"/>
                          </a:solidFill>
                          <a:latin typeface="Arial"/>
                          <a:cs typeface="Monotype Koufi"/>
                        </a:rPr>
                        <a:t>الثقة ب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6- </a:t>
                      </a:r>
                      <a:r>
                        <a:rPr b="1" lang="ar-SA" sz="1800" spc="-1" strike="noStrike">
                          <a:solidFill>
                            <a:srgbClr val="000000"/>
                          </a:solidFill>
                          <a:latin typeface="Arial"/>
                          <a:cs typeface="Monotype Koufi"/>
                        </a:rPr>
                        <a:t>المبادرة وتحمل المسؤول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7- </a:t>
                      </a:r>
                      <a:r>
                        <a:rPr b="1" lang="ar-SA" sz="1800" spc="-1" strike="noStrike">
                          <a:solidFill>
                            <a:srgbClr val="000000"/>
                          </a:solidFill>
                          <a:latin typeface="Arial"/>
                          <a:cs typeface="Monotype Koufi"/>
                        </a:rPr>
                        <a:t>التحكم بالمشاعر</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8- </a:t>
                      </a:r>
                      <a:r>
                        <a:rPr b="1" lang="ar-SA" sz="1800" spc="-1" strike="noStrike">
                          <a:solidFill>
                            <a:srgbClr val="000000"/>
                          </a:solidFill>
                          <a:latin typeface="Arial"/>
                          <a:cs typeface="Monotype Koufi"/>
                        </a:rPr>
                        <a:t>الثقة بالنف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9- </a:t>
                      </a:r>
                      <a:r>
                        <a:rPr b="1" lang="ar-SA" sz="1800" spc="-1" strike="noStrike">
                          <a:solidFill>
                            <a:srgbClr val="000000"/>
                          </a:solidFill>
                          <a:latin typeface="Arial"/>
                          <a:cs typeface="Monotype Koufi"/>
                        </a:rPr>
                        <a:t>التصم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0- </a:t>
                      </a:r>
                      <a:r>
                        <a:rPr b="1" lang="ar-SA" sz="1800" spc="-1" strike="noStrike">
                          <a:solidFill>
                            <a:srgbClr val="000000"/>
                          </a:solidFill>
                          <a:latin typeface="Arial"/>
                          <a:cs typeface="Monotype Koufi"/>
                        </a:rPr>
                        <a:t>الإبدا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1- </a:t>
                      </a:r>
                      <a:r>
                        <a:rPr b="1" lang="ar-SA" sz="1800" spc="-1" strike="noStrike">
                          <a:solidFill>
                            <a:srgbClr val="000000"/>
                          </a:solidFill>
                          <a:latin typeface="Arial"/>
                          <a:cs typeface="Monotype Koufi"/>
                        </a:rPr>
                        <a:t>الانسجام الداخل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9" name="" descr=""/>
          <p:cNvPicPr/>
          <p:nvPr/>
        </p:nvPicPr>
        <p:blipFill>
          <a:blip r:embed="rId1"/>
          <a:stretch/>
        </p:blipFill>
        <p:spPr>
          <a:xfrm>
            <a:off x="4724280" y="152280"/>
            <a:ext cx="1905120" cy="1981440"/>
          </a:xfrm>
          <a:prstGeom prst="rect">
            <a:avLst/>
          </a:prstGeom>
          <a:ln w="0">
            <a:noFill/>
          </a:ln>
        </p:spPr>
      </p:pic>
      <p:sp>
        <p:nvSpPr>
          <p:cNvPr id="140" name=""/>
          <p:cNvSpPr/>
          <p:nvPr/>
        </p:nvSpPr>
        <p:spPr>
          <a:xfrm rot="20683200">
            <a:off x="75960" y="761976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5A72904-8999-4BE1-9611-15FBE21240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3080" y="150840"/>
            <a:ext cx="5749920" cy="5335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2000" spc="-1" strike="noStrike">
                <a:solidFill>
                  <a:srgbClr val="000000"/>
                </a:solidFill>
                <a:latin typeface="Arial"/>
              </a:rPr>
              <a:t>من </a:t>
            </a:r>
            <a:r>
              <a:rPr b="1" i="1" lang="ar-SA" sz="2000" spc="-1" strike="noStrike">
                <a:solidFill>
                  <a:srgbClr val="000000"/>
                </a:solidFill>
                <a:latin typeface="Arial"/>
              </a:rPr>
              <a:t>مكونات الذكاء الوجداني</a:t>
            </a:r>
            <a:r>
              <a:rPr b="1" i="1" lang="ar-KW" sz="2000" spc="-1" strike="noStrike">
                <a:solidFill>
                  <a:srgbClr val="000000"/>
                </a:solidFill>
                <a:latin typeface="Arial"/>
              </a:rPr>
              <a:t> </a:t>
            </a:r>
            <a:r>
              <a:rPr b="1" i="1" lang="ar-KW" sz="2000" spc="-1" strike="noStrike">
                <a:solidFill>
                  <a:srgbClr val="000000"/>
                </a:solidFill>
                <a:latin typeface="Arial"/>
              </a:rPr>
              <a:t>1</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142" name=""/>
          <p:cNvSpPr/>
          <p:nvPr/>
        </p:nvSpPr>
        <p:spPr>
          <a:xfrm>
            <a:off x="1413000" y="75564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Arial"/>
              </a:rPr>
              <a:t>إدراك مشاعر الآخرين :</a:t>
            </a:r>
            <a:endParaRPr b="0" lang="en-US" sz="1200" spc="-1" strike="noStrike">
              <a:solidFill>
                <a:srgbClr val="000000"/>
              </a:solidFill>
              <a:latin typeface="Arial"/>
            </a:endParaRPr>
          </a:p>
        </p:txBody>
      </p:sp>
      <p:sp>
        <p:nvSpPr>
          <p:cNvPr id="143" name=""/>
          <p:cNvSpPr/>
          <p:nvPr/>
        </p:nvSpPr>
        <p:spPr>
          <a:xfrm>
            <a:off x="476280" y="1258920"/>
            <a:ext cx="576108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الإحساس بما يشعر به الآخرون من خلال كلماتهم ولغة أجسادهم .</a:t>
            </a:r>
            <a:endParaRPr b="0" lang="en-US" sz="1200" spc="-1" strike="noStrike">
              <a:solidFill>
                <a:srgbClr val="000000"/>
              </a:solidFill>
              <a:latin typeface="Arial"/>
            </a:endParaRPr>
          </a:p>
        </p:txBody>
      </p:sp>
      <p:sp>
        <p:nvSpPr>
          <p:cNvPr id="144" name=""/>
          <p:cNvSpPr/>
          <p:nvPr/>
        </p:nvSpPr>
        <p:spPr>
          <a:xfrm>
            <a:off x="1413000" y="1908000"/>
            <a:ext cx="3095640" cy="287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اطف :</a:t>
            </a:r>
            <a:endParaRPr b="0" lang="en-US" sz="1400" spc="-1" strike="noStrike">
              <a:solidFill>
                <a:srgbClr val="000000"/>
              </a:solidFill>
              <a:latin typeface="Arial"/>
            </a:endParaRPr>
          </a:p>
        </p:txBody>
      </p:sp>
      <p:sp>
        <p:nvSpPr>
          <p:cNvPr id="145" name=""/>
          <p:cNvSpPr/>
          <p:nvPr/>
        </p:nvSpPr>
        <p:spPr>
          <a:xfrm>
            <a:off x="476280" y="2484360"/>
            <a:ext cx="57610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تفهم مشاعر الآخرين وإشعارهم بذلك</a:t>
            </a:r>
            <a:endParaRPr b="0" lang="en-US" sz="1400" spc="-1" strike="noStrike">
              <a:solidFill>
                <a:srgbClr val="000000"/>
              </a:solidFill>
              <a:latin typeface="Arial"/>
            </a:endParaRPr>
          </a:p>
        </p:txBody>
      </p:sp>
      <p:sp>
        <p:nvSpPr>
          <p:cNvPr id="146" name=""/>
          <p:cNvSpPr/>
          <p:nvPr/>
        </p:nvSpPr>
        <p:spPr>
          <a:xfrm>
            <a:off x="1413000" y="2916360"/>
            <a:ext cx="3095640" cy="2872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بير عن المشاعر :</a:t>
            </a:r>
            <a:endParaRPr b="0" lang="en-US" sz="1400" spc="-1" strike="noStrike">
              <a:solidFill>
                <a:srgbClr val="000000"/>
              </a:solidFill>
              <a:latin typeface="Arial"/>
            </a:endParaRPr>
          </a:p>
        </p:txBody>
      </p:sp>
      <p:sp>
        <p:nvSpPr>
          <p:cNvPr id="147" name=""/>
          <p:cNvSpPr/>
          <p:nvPr/>
        </p:nvSpPr>
        <p:spPr>
          <a:xfrm>
            <a:off x="476280" y="3348000"/>
            <a:ext cx="5761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إظهار مشاعرك للآخرين وأن تجعل ذلك جزءاً أساسياً من تفاعلاتك اليومية مع الناس .</a:t>
            </a:r>
            <a:endParaRPr b="0" lang="en-US" sz="1200" spc="-1" strike="noStrike">
              <a:solidFill>
                <a:srgbClr val="000000"/>
              </a:solidFill>
              <a:latin typeface="Arial"/>
            </a:endParaRPr>
          </a:p>
        </p:txBody>
      </p:sp>
      <p:sp>
        <p:nvSpPr>
          <p:cNvPr id="148" name=""/>
          <p:cNvSpPr/>
          <p:nvPr/>
        </p:nvSpPr>
        <p:spPr>
          <a:xfrm>
            <a:off x="1484280" y="378000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واصل مع الآخرين :</a:t>
            </a:r>
            <a:endParaRPr b="0" lang="en-US" sz="1400" spc="-1" strike="noStrike">
              <a:solidFill>
                <a:srgbClr val="000000"/>
              </a:solidFill>
              <a:latin typeface="Arial"/>
            </a:endParaRPr>
          </a:p>
        </p:txBody>
      </p:sp>
      <p:sp>
        <p:nvSpPr>
          <p:cNvPr id="149" name=""/>
          <p:cNvSpPr/>
          <p:nvPr/>
        </p:nvSpPr>
        <p:spPr>
          <a:xfrm>
            <a:off x="549360" y="4284720"/>
            <a:ext cx="5761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إنشاء شبكة من العلاقات مع الآخرين بحيث تجد في هذه العلاقات نفسك بشكل حقيقي وكامل وتستطيع أن تعبر عن اهتمامك بالآخرين وتقديرك لهم وأن تشاركهم آلامك وآمالك .</a:t>
            </a:r>
            <a:endParaRPr b="0" lang="en-US" sz="1400" spc="-1" strike="noStrike">
              <a:solidFill>
                <a:srgbClr val="000000"/>
              </a:solidFill>
              <a:latin typeface="Arial"/>
            </a:endParaRPr>
          </a:p>
        </p:txBody>
      </p:sp>
      <p:sp>
        <p:nvSpPr>
          <p:cNvPr id="150" name=""/>
          <p:cNvSpPr/>
          <p:nvPr/>
        </p:nvSpPr>
        <p:spPr>
          <a:xfrm>
            <a:off x="1413000" y="500364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علاقات الاجتماعية</a:t>
            </a:r>
            <a:endParaRPr b="0" lang="en-US" sz="1400" spc="-1" strike="noStrike">
              <a:solidFill>
                <a:srgbClr val="000000"/>
              </a:solidFill>
              <a:latin typeface="Arial"/>
            </a:endParaRPr>
          </a:p>
        </p:txBody>
      </p:sp>
      <p:sp>
        <p:nvSpPr>
          <p:cNvPr id="151" name=""/>
          <p:cNvSpPr/>
          <p:nvPr/>
        </p:nvSpPr>
        <p:spPr>
          <a:xfrm>
            <a:off x="476280" y="5580000"/>
            <a:ext cx="5832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rPr>
              <a:t>- </a:t>
            </a:r>
            <a:r>
              <a:rPr b="1" lang="ar-SA" sz="1200" spc="-1" strike="noStrike">
                <a:solidFill>
                  <a:srgbClr val="000000"/>
                </a:solidFill>
                <a:latin typeface="Arial"/>
              </a:rPr>
              <a:t>التعاطف مع الآخرين يعتمد على تفهم الإنسان لمشاعره الخاصة .</a:t>
            </a:r>
            <a:endParaRPr b="0" lang="en-US" sz="1200" spc="-1" strike="noStrike">
              <a:solidFill>
                <a:srgbClr val="000000"/>
              </a:solidFill>
              <a:latin typeface="Arial"/>
            </a:endParaRPr>
          </a:p>
        </p:txBody>
      </p:sp>
      <p:sp>
        <p:nvSpPr>
          <p:cNvPr id="152" name=""/>
          <p:cNvSpPr/>
          <p:nvPr/>
        </p:nvSpPr>
        <p:spPr>
          <a:xfrm>
            <a:off x="476280" y="6084720"/>
            <a:ext cx="5905440" cy="43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دم تفهم الإنسان لمشاعر الآخرين يؤدي إلى المفاجآت في التعامل معهم .</a:t>
            </a:r>
            <a:endParaRPr b="0" lang="en-US" sz="1200" spc="-1" strike="noStrike">
              <a:solidFill>
                <a:srgbClr val="000000"/>
              </a:solidFill>
              <a:latin typeface="Arial"/>
            </a:endParaRPr>
          </a:p>
        </p:txBody>
      </p:sp>
      <p:sp>
        <p:nvSpPr>
          <p:cNvPr id="153" name=""/>
          <p:cNvSpPr/>
          <p:nvPr/>
        </p:nvSpPr>
        <p:spPr>
          <a:xfrm>
            <a:off x="476280" y="6588000"/>
            <a:ext cx="5977080" cy="53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يجب عدم الحكم على مشاعر الآخرين وإبداء الرأي فيها وإنما تفهمها واحترامها كما هي .</a:t>
            </a:r>
            <a:endParaRPr b="0" lang="en-US" sz="1200" spc="-1" strike="noStrike">
              <a:solidFill>
                <a:srgbClr val="000000"/>
              </a:solidFill>
              <a:latin typeface="Arial"/>
            </a:endParaRPr>
          </a:p>
        </p:txBody>
      </p:sp>
      <p:sp>
        <p:nvSpPr>
          <p:cNvPr id="154" name=""/>
          <p:cNvSpPr/>
          <p:nvPr/>
        </p:nvSpPr>
        <p:spPr>
          <a:xfrm>
            <a:off x="476280" y="7236000"/>
            <a:ext cx="5977080" cy="7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عندما نطلب من الآخرين أن يشعروا مثلنا ونربط تقبلنا لهم بذلك فنحن نمحو هويتهم ونعتدي على حقهم في الوجود كأشخاص مستقلين عنا .</a:t>
            </a:r>
            <a:endParaRPr b="0" lang="en-US" sz="1200" spc="-1" strike="noStrike">
              <a:solidFill>
                <a:srgbClr val="000000"/>
              </a:solidFill>
              <a:latin typeface="Arial"/>
            </a:endParaRPr>
          </a:p>
        </p:txBody>
      </p:sp>
      <p:sp>
        <p:nvSpPr>
          <p:cNvPr id="155" name=""/>
          <p:cNvSpPr/>
          <p:nvPr/>
        </p:nvSpPr>
        <p:spPr>
          <a:xfrm>
            <a:off x="4508640" y="8028000"/>
            <a:ext cx="165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قانون الصدى :</a:t>
            </a:r>
            <a:endParaRPr b="0" lang="en-US" sz="1600" spc="-1" strike="noStrike">
              <a:solidFill>
                <a:srgbClr val="000000"/>
              </a:solidFill>
              <a:latin typeface="Arial"/>
            </a:endParaRPr>
          </a:p>
        </p:txBody>
      </p:sp>
      <p:sp>
        <p:nvSpPr>
          <p:cNvPr id="156" name=""/>
          <p:cNvSpPr/>
          <p:nvPr/>
        </p:nvSpPr>
        <p:spPr>
          <a:xfrm>
            <a:off x="260280" y="8028000"/>
            <a:ext cx="417672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Arial"/>
              </a:rPr>
              <a:t>إن تفهم الآخرين واحترام مشاعرهم سيدفعهم إلى مبادلتنا هذا التفهم والاحترام</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990403A-39D0-42E7-83B7-3FA94C62C9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9000" y="179280"/>
            <a:ext cx="5749920" cy="7207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000" spc="-1" strike="noStrike">
                <a:solidFill>
                  <a:srgbClr val="000000"/>
                </a:solidFill>
                <a:latin typeface="Arial"/>
              </a:rPr>
              <a:t>من </a:t>
            </a:r>
            <a:r>
              <a:rPr b="1" i="1" lang="ar-SA" sz="4000" spc="-1" strike="noStrike">
                <a:solidFill>
                  <a:srgbClr val="000000"/>
                </a:solidFill>
                <a:latin typeface="Arial"/>
              </a:rPr>
              <a:t>مكونات الذكاء الوجداني</a:t>
            </a:r>
            <a:r>
              <a:rPr b="0" lang="ar-KW" sz="4000" spc="-1" strike="noStrike">
                <a:solidFill>
                  <a:srgbClr val="000000"/>
                </a:solidFill>
                <a:latin typeface="Arial"/>
              </a:rPr>
              <a:t> </a:t>
            </a:r>
            <a:r>
              <a:rPr b="0" lang="en-GB" sz="4000" spc="-1" strike="noStrike">
                <a:solidFill>
                  <a:srgbClr val="000000"/>
                </a:solidFill>
                <a:latin typeface="Arial"/>
              </a:rPr>
              <a:t>2</a:t>
            </a:r>
            <a:endParaRPr b="0" lang="en-US" sz="4000" spc="-1" strike="noStrike">
              <a:solidFill>
                <a:srgbClr val="000000"/>
              </a:solidFill>
              <a:latin typeface="Arial"/>
            </a:endParaRPr>
          </a:p>
        </p:txBody>
      </p:sp>
      <p:sp>
        <p:nvSpPr>
          <p:cNvPr id="158" name=""/>
          <p:cNvSpPr/>
          <p:nvPr/>
        </p:nvSpPr>
        <p:spPr>
          <a:xfrm>
            <a:off x="1773360" y="104292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خروج من الصندوق</a:t>
            </a:r>
            <a:endParaRPr b="0" lang="en-US" sz="1800" spc="-1" strike="noStrike">
              <a:solidFill>
                <a:srgbClr val="000000"/>
              </a:solidFill>
              <a:latin typeface="Arial"/>
            </a:endParaRPr>
          </a:p>
        </p:txBody>
      </p:sp>
      <p:sp>
        <p:nvSpPr>
          <p:cNvPr id="159" name=""/>
          <p:cNvSpPr/>
          <p:nvPr/>
        </p:nvSpPr>
        <p:spPr>
          <a:xfrm>
            <a:off x="549360" y="5651640"/>
            <a:ext cx="482436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دث خطأ غي حجز المقاعد لزوجين في طائرة , فلا يجلسان بجانب بعضهما و فيما المضيف يبحث عن حل لهذه المشكلة تتقدم امرأة بجانبها مقعد فارغ        و تعرض على أحد الزوجين و تبادله المكان ليجلس الزوجان بجانب بعضهما</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rot="19464000">
            <a:off x="5630400" y="1322640"/>
            <a:ext cx="12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هدالاول</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1" name=""/>
          <p:cNvSpPr/>
          <p:nvPr/>
        </p:nvSpPr>
        <p:spPr>
          <a:xfrm>
            <a:off x="189000" y="2052720"/>
            <a:ext cx="611964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جل يجلس في مقعده في الطائرة و إلى جانبه مقعد فارغ .هو لا يريد لأحد أن يجلس في المقعد المجاور له و يزعجه ,يضع حقيبته في المقعد المجاور و يمسك بجريدة و يبدأ بقراءتها .تزدحم الطائرة بالركاب و هم يبحثون عن مقعد يجلسون فيه, يسترق النظر إلى الناس من خلف الجريدة و يفردها اكثر ليجعل الناس لا يرغبون في الجلوس في المقعد المجاور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2" name=""/>
          <p:cNvSpPr/>
          <p:nvPr/>
        </p:nvSpPr>
        <p:spPr>
          <a:xfrm>
            <a:off x="333360" y="3635280"/>
            <a:ext cx="6120000" cy="180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وقف</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ه يهتم بحاجته فقط و يعتبر حاجات الآخرين أقل أهمية , إنه ينظر إلى الآخرين كمشكلة أو تهديد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شاعر</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و يشعر بالقلق و الضيق و التوتر و الغضب من الآخرين الذين يمكن أن يجلسوا بجوار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3" name=""/>
          <p:cNvSpPr/>
          <p:nvPr/>
        </p:nvSpPr>
        <p:spPr>
          <a:xfrm rot="19464000">
            <a:off x="5252400" y="5769000"/>
            <a:ext cx="1520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شهدال</a:t>
            </a:r>
            <a:r>
              <a:rPr b="1" lang="ar-KW" sz="1800" spc="-1" strike="noStrike">
                <a:solidFill>
                  <a:srgbClr val="000000"/>
                </a:solidFill>
                <a:latin typeface="Arial"/>
              </a:rPr>
              <a:t>ثاني</a:t>
            </a:r>
            <a:r>
              <a:rPr b="1" lang="ar-KW"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4" name=""/>
          <p:cNvSpPr/>
          <p:nvPr/>
        </p:nvSpPr>
        <p:spPr>
          <a:xfrm>
            <a:off x="404640" y="7236000"/>
            <a:ext cx="576108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u="sng">
                <a:solidFill>
                  <a:srgbClr val="000000"/>
                </a:solidFill>
                <a:uFillTx/>
                <a:latin typeface="Arial"/>
              </a:rPr>
              <a:t>الموقف</a:t>
            </a:r>
            <a:r>
              <a:rPr b="1" lang="ar-KW"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اعر</a:t>
            </a:r>
            <a:r>
              <a:rPr b="1" lang="ar-S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قد شعرت بالغبطة و الارتياح بسبب تلبيتها لحاجات الآخرين</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5" name=""/>
          <p:cNvSpPr/>
          <p:nvPr/>
        </p:nvSpPr>
        <p:spPr>
          <a:xfrm rot="20683200">
            <a:off x="0" y="111564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014B26C-F6B7-48F9-9AD0-61A631438E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4640" y="323640"/>
            <a:ext cx="457200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اطف : فن الإحساس بالآخر</a:t>
            </a:r>
            <a:endParaRPr b="0" lang="en-US" sz="3200" spc="-1" strike="noStrike">
              <a:solidFill>
                <a:srgbClr val="000000"/>
              </a:solidFill>
              <a:latin typeface="Arial"/>
            </a:endParaRPr>
          </a:p>
        </p:txBody>
      </p:sp>
      <p:sp>
        <p:nvSpPr>
          <p:cNvPr id="167" name="PlaceHolder 2"/>
          <p:cNvSpPr>
            <a:spLocks noGrp="1"/>
          </p:cNvSpPr>
          <p:nvPr>
            <p:ph type="subTitle"/>
          </p:nvPr>
        </p:nvSpPr>
        <p:spPr>
          <a:xfrm>
            <a:off x="304560" y="1523880"/>
            <a:ext cx="6219720" cy="708048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lang="ar-SA" sz="1500" spc="-1" strike="noStrike">
                <a:solidFill>
                  <a:srgbClr val="000000"/>
                </a:solidFill>
                <a:latin typeface="Arial"/>
              </a:rPr>
              <a:t> متى نستطيع أن نقول بالفعل لشخص آخر "أنا أفهمك" أو "أشعر بما تحس به" أو "أفهم ما يدور بداخلك" ... عندما نكون حساسين. التعاطف </a:t>
            </a:r>
            <a:r>
              <a:rPr b="1" lang="fr-FR" sz="1500" spc="-1" strike="noStrike">
                <a:solidFill>
                  <a:srgbClr val="000000"/>
                </a:solidFill>
                <a:latin typeface="Arial"/>
              </a:rPr>
              <a:t>Empathy</a:t>
            </a:r>
            <a:r>
              <a:rPr b="1" lang="ar-SA" sz="1500" spc="-1" strike="noStrike">
                <a:solidFill>
                  <a:srgbClr val="000000"/>
                </a:solidFill>
                <a:latin typeface="Arial"/>
              </a:rPr>
              <a:t> هو أكثر من مجرد المشاركة الوجدانية </a:t>
            </a:r>
            <a:r>
              <a:rPr b="1" lang="fr-FR" sz="1500" spc="-1" strike="noStrike">
                <a:solidFill>
                  <a:srgbClr val="000000"/>
                </a:solidFill>
                <a:latin typeface="Arial"/>
              </a:rPr>
              <a:t>Sympathy</a:t>
            </a:r>
            <a:r>
              <a:rPr b="1" lang="ar-SA" sz="1500" spc="-1" strike="noStrike">
                <a:solidFill>
                  <a:srgbClr val="000000"/>
                </a:solidFill>
                <a:latin typeface="Arial"/>
              </a:rPr>
              <a:t> - إنه القدرة على الإصغاء و التبصر بهدف التعرف على أفكار و مشاعر الآخر. و تعد هذه القدرة مولودة و ليست مكتسبة و مع ذلك فإننا قليلا ما نستخدمها.</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أشعر بخوفكم </a:t>
            </a:r>
            <a:r>
              <a:rPr b="1" lang="fr-FR" sz="1500" spc="-1" strike="noStrike">
                <a:solidFill>
                  <a:srgbClr val="000000"/>
                </a:solidFill>
                <a:latin typeface="Arial"/>
              </a:rPr>
              <a:t>I can feel your pain</a:t>
            </a:r>
            <a:r>
              <a:rPr b="1" lang="ar-SA" sz="1500" spc="-1" strike="noStrike">
                <a:solidFill>
                  <a:srgbClr val="000000"/>
                </a:solidFill>
                <a:latin typeface="Arial"/>
              </a:rPr>
              <a:t> "، قالها بل كيلنتون بعيون مغرورقة بالدمع في حديث مع أسرة إحدى ضحايا انفجار. و في هذه الجملة، الني كان ينطق بها بصور مختلفة في مناسبات مشابهة، يعتقد المراقبون و المحللون أنهم اكتشفوا سر الرئيس السابق للولايات المتحدة الأمريكية، و الذي يتمثل في الموهبة الخاصة بمنح الناس الشعور بأنه يفهمهم. حتى أن معارضوه السياسيون وصفوه بالجذاب المتعاطف</a:t>
            </a:r>
            <a:r>
              <a:rPr b="1" lang="en-US" sz="1500" spc="-1" strike="noStrike">
                <a:solidFill>
                  <a:srgbClr val="000000"/>
                </a:solidFill>
                <a:latin typeface="Arial"/>
              </a:rPr>
              <a:t>empathically Charmer</a:t>
            </a:r>
            <a:r>
              <a:rPr b="1" lang="en-US" sz="1500" spc="-1" strike="noStrike">
                <a:solidFill>
                  <a:srgbClr val="000000"/>
                </a:solidFill>
                <a:latin typeface="Arial"/>
              </a:rPr>
              <a:t>  </a:t>
            </a:r>
            <a:r>
              <a:rPr b="1" lang="ar-SA" sz="1500" spc="-1" strike="noStrike">
                <a:solidFill>
                  <a:srgbClr val="000000"/>
                </a:solidFill>
                <a:latin typeface="Arial"/>
              </a:rPr>
              <a:t>، و بأنه منفتح على الآخر (و ليس على النساء فحسب)، و يبحث عن التقارب الجسدي و ينظر بعمق في عينيه، و يشد على يديه بحرارة و يبث له : أنا مصغ لك بالفعل، أنا مهتم بمشكلتك و يبدو أن كلينتون كان يستخدم هذه القدرة أو المهارة حسب الحاجة في مقابلاته الشخصية.</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لكن هل هذا الشعور هو التعاطف </a:t>
            </a:r>
            <a:r>
              <a:rPr b="1" lang="fr-FR" sz="1500" spc="-1" strike="noStrike">
                <a:solidFill>
                  <a:srgbClr val="000000"/>
                </a:solidFill>
                <a:latin typeface="Arial"/>
              </a:rPr>
              <a:t>Empathy</a:t>
            </a:r>
            <a:r>
              <a:rPr b="1" lang="ar-SA" sz="1500" spc="-1" strike="noStrike">
                <a:solidFill>
                  <a:srgbClr val="000000"/>
                </a:solidFill>
                <a:latin typeface="Arial"/>
              </a:rPr>
              <a:t> أم مشاركة وجدانية </a:t>
            </a:r>
            <a:r>
              <a:rPr b="1" lang="fr-FR" sz="1500" spc="-1" strike="noStrike">
                <a:solidFill>
                  <a:srgbClr val="000000"/>
                </a:solidFill>
                <a:latin typeface="Arial"/>
              </a:rPr>
              <a:t>Sympathy</a:t>
            </a:r>
            <a:r>
              <a:rPr b="1" lang="ar-SA" sz="1500" spc="-1" strike="noStrike">
                <a:solidFill>
                  <a:srgbClr val="000000"/>
                </a:solidFill>
                <a:latin typeface="Arial"/>
              </a:rPr>
              <a:t> الذي يتم الخلط بينه و بين المفهوم الأشمل و الأوسع التعاطف (التماهي الوجداني ) في كثير من الأحيان؟</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أكثر من مجرد الإحساس العفوي بالآخر، الذي يغمرنا أو يستحوذ علينا استنادا لمشاعر الآخر، و قد يدفع أعيننا لذرف الدموع. فالمشاركة الوجدانية هي مجرد مرحلة سابقة للتعاطف. فعندما نشارك الآخر وجدانيا نتذكر كيف "يكون" الحزن أو السعادة أو الحنق إننا نتقاسم هذه الخبرات و يمكننا لهذا أن نعزي أنفسنا، أن نفرح أو نتوتر. و هكذا ينشأ بين الناس تشارك مصبوغ بالانفعال أو المشاعر، إلا أنه من حيث المبدأ تشارك سطحي.</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إلا أن التعاطف أكثر من مجرد التشارك الوجداني. إنه يصف القدرة على فهم خبرات الآخر و الاستجابة بناء على هذا الفهم بالشكل المناسب.</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ليس مجرد المشاركة في المشاعر فحسب إنه يحاول فهم ما هو كامن خلف هذه المشاعر. لهذا يشترط التعاطف الإصغاء الدقيق و الملاحظة الدقيقة. فإذا أردنا أن نكون متعاطفين فإننا نريد أن تفهم بدقة ما الذي يجري في الآخر. لهذا نحاول أن نرى العالم بعيون "أن نرتدي حذائه". و هذا التبديل للمنظور (و التخلي العابر عن منظورنا) يفتح لنا تفهما يتجاوز المشاركة الوجدانية لآخر. و بمجرد نستطيع "قراءة" ما الذي يفكر فيه الآخر و يحسه و ما ينويه و ما هي الدوافع و العقد التي دفعه وهو موقفه نحونا، عندئذ يمكننا أن نتعاطف معه. و هذا يعني : ما نستطيع عندئذ مساعدته – أو حتى حماية أنفسنا من نواياه و مخططاته. إذ أنه يمكن استخدام التعاطف لصالح الآخر أو لإلحاق الضرر به. فمن يعرف بشكل جيد ما "يدور" في رأس المحيطين به فإنه لا يستطيع نصحه أو حمايته فحسب و إنما توجيهه و استغلاله.</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يعرف باحث التعاطف وليم إكس </a:t>
            </a:r>
            <a:r>
              <a:rPr b="1" lang="fr-FR" sz="1500" spc="-1" strike="noStrike">
                <a:solidFill>
                  <a:srgbClr val="000000"/>
                </a:solidFill>
                <a:latin typeface="Arial"/>
              </a:rPr>
              <a:t>William Ickes</a:t>
            </a:r>
            <a:r>
              <a:rPr b="1" lang="ar-SA" sz="1500" spc="-1" strike="noStrike">
                <a:solidFill>
                  <a:srgbClr val="000000"/>
                </a:solidFill>
                <a:latin typeface="Arial"/>
              </a:rPr>
              <a:t> القدرة التعاطفية على النحو التالي : الاحتضان التعاطفي (من الذات نحو الآخرين) ليس أكثر من شكل من قراءة الأفكار الذي نمارسه في حياتنا اليومية ... إنه على ما يبدو ثاني أكبر الإنجازات القادر عليها دماغنا، حيث أن الوعي نفسه هو الإنجاز الأكبر" ...</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168" name=""/>
          <p:cNvSpPr/>
          <p:nvPr/>
        </p:nvSpPr>
        <p:spPr>
          <a:xfrm rot="19464000">
            <a:off x="4954320" y="51300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بقلم:</a:t>
            </a:r>
            <a:r>
              <a:rPr b="1" lang="ar-SA" sz="1800" spc="-1" strike="noStrike">
                <a:solidFill>
                  <a:srgbClr val="000000"/>
                </a:solidFill>
                <a:latin typeface="Arial"/>
              </a:rPr>
              <a:t>هايكو إيرنست</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F5ABA5-6BDA-4FBE-93DD-CA60073513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304560"/>
            <a:ext cx="44197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ل العاطفة ذكاء؟ </a:t>
            </a:r>
            <a:endParaRPr b="0" lang="en-US" sz="4400" spc="-1" strike="noStrike">
              <a:solidFill>
                <a:srgbClr val="000000"/>
              </a:solidFill>
              <a:latin typeface="Arial"/>
            </a:endParaRPr>
          </a:p>
        </p:txBody>
      </p:sp>
      <p:sp>
        <p:nvSpPr>
          <p:cNvPr id="170" name="PlaceHolder 2"/>
          <p:cNvSpPr>
            <a:spLocks noGrp="1"/>
          </p:cNvSpPr>
          <p:nvPr>
            <p:ph type="subTitle"/>
          </p:nvPr>
        </p:nvSpPr>
        <p:spPr>
          <a:xfrm>
            <a:off x="304920" y="1523520"/>
            <a:ext cx="6292800" cy="6720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منذ مائة عام تم الكشف عن طرق لتحديد الذكاء عند الناس وأصبحت طرقا يعتد بها وتقرر بواسطتها مصائر الناس وأنا شخصياً أتذكر أنني أردت التقدم إلى وظيفة في أوروبا فخضعت لهذا الامتحان ولفت نظري دقته في اكتشاف مواهب الإنسان إلى درجة أن عقلي بدأ يشتغل على ثلاثة محاور فمن جهة كان لابد من التركيز على اللغة التي هي ليست اللغة الأم بالنسبة لي فكان الحديث باللغة الألمانية. وثانياً حصر الذهن للإجابة على الأسئلة التي تعتمد الذاكرة والنباهة والبديهة. وثالثاً أمتعني الفحص فبدأت أسخر ذاكرتي لحفظ طرائقه. ولكن المفاجأة أن علم النفس بدأ يكتشف بحراً غنياً لم يتم كشفه عند الإنسان. فقد عمد (هوارد جاردنر </a:t>
            </a:r>
            <a:r>
              <a:rPr b="1" lang="en-US" sz="1500" spc="-1" strike="noStrike">
                <a:solidFill>
                  <a:srgbClr val="000000"/>
                </a:solidFill>
                <a:latin typeface="Arial"/>
              </a:rPr>
              <a:t>Haward Gardner</a:t>
            </a:r>
            <a:r>
              <a:rPr b="1" lang="ar-SA" sz="1500" spc="-1" strike="noStrike">
                <a:solidFill>
                  <a:srgbClr val="000000"/>
                </a:solidFill>
                <a:latin typeface="Arial"/>
              </a:rPr>
              <a:t>) العالم السيكولوجي بكلية التربية بجامعة هارفارد إلى بلورة مفهوم جديد للذكاء صدر ذلك في كتاب بعنوان (أطر العقل </a:t>
            </a:r>
            <a:r>
              <a:rPr b="1" lang="en-US" sz="1500" spc="-1" strike="noStrike">
                <a:solidFill>
                  <a:srgbClr val="000000"/>
                </a:solidFill>
                <a:latin typeface="Arial"/>
              </a:rPr>
              <a:t>Frames of Mind</a:t>
            </a:r>
            <a:r>
              <a:rPr b="1" lang="ar-SA" sz="1500" spc="-1" strike="noStrike">
                <a:solidFill>
                  <a:srgbClr val="000000"/>
                </a:solidFill>
                <a:latin typeface="Arial"/>
              </a:rPr>
              <a:t>) حيث رأى أن المدرسة السابقة التي أسسها (ستافورد ـ بينيه </a:t>
            </a:r>
            <a:r>
              <a:rPr b="1" lang="en-US" sz="1500" spc="-1" strike="noStrike">
                <a:solidFill>
                  <a:srgbClr val="000000"/>
                </a:solidFill>
                <a:latin typeface="Arial"/>
              </a:rPr>
              <a:t>Staford-Binet</a:t>
            </a:r>
            <a:r>
              <a:rPr b="1" lang="ar-SA" sz="1500" spc="-1" strike="noStrike">
                <a:solidFill>
                  <a:srgbClr val="000000"/>
                </a:solidFill>
                <a:latin typeface="Arial"/>
              </a:rPr>
              <a:t>) لا تتناول إلا حيزاً من اكتشاف شخصية الإنسان ومهاراته. وظهر واضحاً ومن خلال إحصائيات مدروسة أنه ليس كل من نال فوق </a:t>
            </a:r>
            <a:r>
              <a:rPr b="1" lang="ar-SA" sz="1500" spc="-1" strike="noStrike">
                <a:solidFill>
                  <a:srgbClr val="000000"/>
                </a:solidFill>
                <a:latin typeface="Arial"/>
              </a:rPr>
              <a:t>120</a:t>
            </a:r>
            <a:r>
              <a:rPr b="1" lang="ar-SA" sz="1500" spc="-1" strike="noStrike">
                <a:solidFill>
                  <a:srgbClr val="000000"/>
                </a:solidFill>
                <a:latin typeface="Arial"/>
              </a:rPr>
              <a:t> من فحص الذكاء المرموز له (</a:t>
            </a:r>
            <a:r>
              <a:rPr b="1" lang="en-US" sz="1500" spc="-1" strike="noStrike">
                <a:solidFill>
                  <a:srgbClr val="000000"/>
                </a:solidFill>
                <a:latin typeface="Arial"/>
              </a:rPr>
              <a:t>IQ</a:t>
            </a:r>
            <a:r>
              <a:rPr b="1" lang="ar-SA" sz="1500" spc="-1" strike="noStrike">
                <a:solidFill>
                  <a:srgbClr val="000000"/>
                </a:solidFill>
                <a:latin typeface="Arial"/>
              </a:rPr>
              <a:t>) سيكون ناجحاً في الحياة. والجانب الجديد الذي كشف النقاب عنه جاردنر هو أن ذكاء الإنسان ليس ثلاث زوايا من المنطق والعمليات الحسابية أو البراعة اللفظية بل هناك حسب ما كشف عنه جاردنر ما لا يقل عن سبعة جداول معرفية تكشف ذكاء الإنسان وأهمها الجدول الاجتماعي أي النجاح في بناء العلاقات الإنسانية وكما جاء في كتابه: (إن الذكاء في العلاقات المتبادلة بين الناس هو القدرة على فهم الآخرين وما الذي يحركهم وكيف يمارسون عملهم وكيف يتعاون معهم) وفيما يتعلق بذكاء الشخصية الاجتماعية وتميزها حدد أربع مواصفات: (القيادة والمقدرة على تنمية العلاقات. والمحافظة على الأصدقاء. والقدرة على حل الصراعات. والمهارة في التحليل الاجتماعي) ويقول جاردنر إن الفروع السبعة من الذكاء ليست إلا حقولاً بدائية لاكتشاف مواهب الإنسان وهناك في الواقع أكثر من عشرين بوابة لاكتشاف الذكاء الإنساني. والذكاء الأكاديمي لا يعد المرء لتقلبات الحياة المخيفة والذكاء الفعلي كما يقول صاحب كتاب الذكاء الوجداني (دانيل جولمان) هو أن: (تكون قادرا على حث نفسك باستمرار في مواجهة الإحباطات والتحكم في النزوات وتأجيل إحساسك بإشباع النفس وإرضائها والقدرة على تنظيم حالتك النفسية ومنع الأسى أو الألم من شل قدرتك على التفكير وأن تكون قادرا على التعاطف والشعور بالأمل). ومن الأمور التي أظهرت صحة هذه النظرة أن خمسة أطفال من المتفوقين في فحص الذكاء ونالوا فيه </a:t>
            </a:r>
            <a:r>
              <a:rPr b="1" lang="ar-SA" sz="1500" spc="-1" strike="noStrike">
                <a:solidFill>
                  <a:srgbClr val="000000"/>
                </a:solidFill>
                <a:latin typeface="Arial"/>
              </a:rPr>
              <a:t>125</a:t>
            </a:r>
            <a:r>
              <a:rPr b="1" lang="ar-SA" sz="1500" spc="-1" strike="noStrike">
                <a:solidFill>
                  <a:srgbClr val="000000"/>
                </a:solidFill>
                <a:latin typeface="Arial"/>
              </a:rPr>
              <a:t> ـ </a:t>
            </a:r>
            <a:r>
              <a:rPr b="1" lang="ar-SA" sz="1500" spc="-1" strike="noStrike">
                <a:solidFill>
                  <a:srgbClr val="000000"/>
                </a:solidFill>
                <a:latin typeface="Arial"/>
              </a:rPr>
              <a:t>133</a:t>
            </a:r>
            <a:r>
              <a:rPr b="1" lang="ar-SA" sz="1500" spc="-1" strike="noStrike">
                <a:solidFill>
                  <a:srgbClr val="000000"/>
                </a:solidFill>
                <a:latin typeface="Arial"/>
              </a:rPr>
              <a:t> لم يحظ إلا واحد منهم بتفوقه في ثلاثة مجالات. وتفوق واحد منهم فقط في التفاهم الاجتماعي. ولكن مشكلة هذا الكشف الجديد أنه غامض بعض الشيء وليس له اختبارات واضحة كما أنه لم يفرز هذا الذكاء عن (المعرفة واللغة) فلم يصل إلى لب المشكلة كما يقول جولمان. ولقد حاول تلميذ جاردنر وهو (بيتر سالوفي) أن يعين خمسة أشكال من هذا الذكاء هي الوعي بالنفس وإدارة العواطف ومنها القدرة على تهدئة النفس وتحفيز النفس أي توجيه العواطف في خدمة هدف ما والتحكم في الانفعالات والتقمص الوجداني أي التعرف على عواطف الآخرين. وأخيرا توجيه العلاقات الإنسانية وتطويع عواطف الآخرين، ومن يؤت الحكمة فقد أوتي خيرا كثيرا.</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71" name=""/>
          <p:cNvSpPr/>
          <p:nvPr/>
        </p:nvSpPr>
        <p:spPr>
          <a:xfrm rot="20770800">
            <a:off x="4495320" y="380520"/>
            <a:ext cx="175284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بقلم</a:t>
            </a:r>
            <a:r>
              <a:rPr b="1" i="1" lang="ar-SA" sz="1800" spc="-1" strike="noStrike">
                <a:solidFill>
                  <a:srgbClr val="000000"/>
                </a:solidFill>
                <a:latin typeface="Arial"/>
              </a:rPr>
              <a:t>: </a:t>
            </a:r>
            <a:r>
              <a:rPr b="0" lang="ar-SA" sz="1800" spc="-1" strike="noStrike" u="sng">
                <a:solidFill>
                  <a:srgbClr val="009999"/>
                </a:solidFill>
                <a:uFillTx/>
                <a:latin typeface="Arial"/>
                <a:hlinkClick r:id="rId1"/>
              </a:rPr>
              <a:t>خالص جلبي</a:t>
            </a:r>
            <a:r>
              <a:rPr b="0" lang="ar-SA" sz="4400" spc="-1" strike="noStrike" u="sng">
                <a:solidFill>
                  <a:srgbClr val="009999"/>
                </a:solidFill>
                <a:uFillTx/>
                <a:latin typeface="Arial"/>
                <a:hlinkClick r:id="rId2"/>
              </a:rPr>
              <a:t> </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D32B4F93-E716-44FE-8C30-672F9D019B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366480"/>
            <a:ext cx="6172200" cy="152388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يف تكون سيد نفس</a:t>
            </a:r>
            <a:r>
              <a:rPr b="1" lang="ar-KW" sz="4000" spc="-1" strike="noStrike">
                <a:solidFill>
                  <a:srgbClr val="000000"/>
                </a:solidFill>
                <a:latin typeface="Arial"/>
              </a:rPr>
              <a:t>ك</a:t>
            </a:r>
            <a:r>
              <a:rPr b="1" lang="ar-SA" sz="4000" spc="-1" strike="noStrike">
                <a:solidFill>
                  <a:srgbClr val="000000"/>
                </a:solidFill>
                <a:latin typeface="Arial"/>
              </a:rPr>
              <a:t> </a:t>
            </a:r>
            <a:br>
              <a:rPr sz="4000"/>
            </a:br>
            <a:r>
              <a:rPr b="1" lang="ar-SA" sz="2000" spc="-1" strike="noStrike">
                <a:solidFill>
                  <a:srgbClr val="000000"/>
                </a:solidFill>
                <a:latin typeface="Arial"/>
              </a:rPr>
              <a:t>إن القدرة على التحكم بالنفس تؤدي إلى السعادة والنجاح في الحياة</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343080" y="2709360"/>
            <a:ext cx="6038640" cy="2367000"/>
          </a:xfrm>
          <a:prstGeom prst="rect">
            <a:avLst/>
          </a:prstGeom>
          <a:noFill/>
          <a:ln w="9360">
            <a:solidFill>
              <a:srgbClr val="000000"/>
            </a:solidFill>
            <a:miter/>
          </a:ln>
        </p:spPr>
        <p:txBody>
          <a:bodyPr lIns="90000" rIns="90000" tIns="46800" bIns="46800"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ظيفة العواطف حماية الإنسان من الأخطار والحفاظ على وجوده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لعب العواطف دورها الإيجابي حينما تأتي في الوقت المناسب وبالشدة المناسبة ولفترة مناسبة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حن لا نستطيع أن نقرر عواطفنا لكننا نستطيع أن نقرر ماذا نفعل حيالها.</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بة الوجداني ة للإنسان وراثية ولكن كيفية التعامل معها مكتسبة </a:t>
            </a:r>
            <a:r>
              <a:rPr b="1" lang="ar-KW" sz="1800" spc="-1" strike="noStrike">
                <a:solidFill>
                  <a:srgbClr val="000000"/>
                </a:solidFill>
                <a:latin typeface="Arial"/>
              </a:rPr>
              <a:t>.</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 التحكم في العواطف لا يعني تجاهلها أو كبتها  .</a:t>
            </a:r>
            <a:endParaRPr b="0" lang="en-US" sz="1800" spc="-1" strike="noStrike">
              <a:solidFill>
                <a:srgbClr val="000000"/>
              </a:solidFill>
              <a:latin typeface="Arial"/>
            </a:endParaRPr>
          </a:p>
        </p:txBody>
      </p:sp>
      <p:sp>
        <p:nvSpPr>
          <p:cNvPr id="174" name=""/>
          <p:cNvSpPr/>
          <p:nvPr/>
        </p:nvSpPr>
        <p:spPr>
          <a:xfrm>
            <a:off x="1195560" y="205092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مبادئ عامة حول العواطف </a:t>
            </a:r>
            <a:endParaRPr b="0" lang="en-US" sz="2800" spc="-1" strike="noStrike">
              <a:solidFill>
                <a:srgbClr val="000000"/>
              </a:solidFill>
              <a:latin typeface="Arial"/>
            </a:endParaRPr>
          </a:p>
        </p:txBody>
      </p:sp>
      <p:sp>
        <p:nvSpPr>
          <p:cNvPr id="175" name=""/>
          <p:cNvSpPr/>
          <p:nvPr/>
        </p:nvSpPr>
        <p:spPr>
          <a:xfrm>
            <a:off x="1557360" y="543564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cs typeface="Monotype Koufi"/>
              </a:rPr>
              <a:t>التحكم بالعواطف يعني :</a:t>
            </a:r>
            <a:endParaRPr b="0" lang="en-US" sz="3200" spc="-1" strike="noStrike">
              <a:solidFill>
                <a:srgbClr val="000000"/>
              </a:solidFill>
              <a:latin typeface="Arial"/>
            </a:endParaRPr>
          </a:p>
        </p:txBody>
      </p:sp>
      <p:sp>
        <p:nvSpPr>
          <p:cNvPr id="176" name=""/>
          <p:cNvSpPr/>
          <p:nvPr/>
        </p:nvSpPr>
        <p:spPr>
          <a:xfrm>
            <a:off x="333360" y="6300720"/>
            <a:ext cx="6191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راءتها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عرفة تأثيرها على أفكارك وأقوالك وتصرفاتك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حييد تأثيرها السلبي عليك وذلك إما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تغيير العاطفة نفسها عن طريق تغيير طريقة النظر إلى الموضوع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القيام بسلوك ما لتحييد الأثر السلبي لهذه العاطفة .</a:t>
            </a:r>
            <a:r>
              <a:rPr b="0" lang="ar-SA"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77" name="" descr=""/>
          <p:cNvPicPr/>
          <p:nvPr/>
        </p:nvPicPr>
        <p:blipFill>
          <a:blip r:embed="rId1"/>
          <a:stretch/>
        </p:blipFill>
        <p:spPr>
          <a:xfrm>
            <a:off x="5805360" y="5435640"/>
            <a:ext cx="695520" cy="527040"/>
          </a:xfrm>
          <a:prstGeom prst="rect">
            <a:avLst/>
          </a:prstGeom>
          <a:ln w="0">
            <a:noFill/>
          </a:ln>
        </p:spPr>
      </p:pic>
      <p:sp>
        <p:nvSpPr>
          <p:cNvPr id="4" name="PlaceHolder 3"/>
          <p:cNvSpPr>
            <a:spLocks noGrp="1"/>
          </p:cNvSpPr>
          <p:nvPr>
            <p:ph type="sldNum" idx="3"/>
          </p:nvPr>
        </p:nvSpPr>
        <p:spPr/>
        <p:txBody>
          <a:bodyPr/>
          <a:p>
            <a:fld id="{56909719-E16B-4A50-8692-459C8288A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20178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79" name=""/>
          <p:cNvGraphicFramePr/>
          <p:nvPr/>
        </p:nvGraphicFramePr>
        <p:xfrm>
          <a:off x="476280" y="2411280"/>
          <a:ext cx="5977080" cy="5570640"/>
        </p:xfrm>
        <a:graphic>
          <a:graphicData uri="http://schemas.openxmlformats.org/drawingml/2006/table">
            <a:tbl>
              <a:tblPr/>
              <a:tblGrid>
                <a:gridCol w="3079800"/>
                <a:gridCol w="289728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إيجا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سل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جي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حبا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اؤ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اؤ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عدم 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م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خو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رخ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ت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ندفا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مل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قلال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عتماد على الآخري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نص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ظل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فخ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شعور بالذن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ث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كتئا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اص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وحد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هتم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جاه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سوء ال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
          <p:cNvSpPr/>
          <p:nvPr/>
        </p:nvSpPr>
        <p:spPr>
          <a:xfrm>
            <a:off x="0" y="6759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1" name=""/>
          <p:cNvSpPr/>
          <p:nvPr/>
        </p:nvSpPr>
        <p:spPr>
          <a:xfrm>
            <a:off x="333360" y="1116000"/>
            <a:ext cx="617220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طوة الأولى نحو التحكم بالعواطف هي قراءتها فالذين يجهلون قراءة عواطفهم يعيشون تحت رحمتها.</a:t>
            </a:r>
            <a:endParaRPr b="0" lang="en-US" sz="2400" spc="-1" strike="noStrike">
              <a:solidFill>
                <a:srgbClr val="000000"/>
              </a:solidFill>
              <a:latin typeface="Arial"/>
            </a:endParaRPr>
          </a:p>
        </p:txBody>
      </p:sp>
      <p:sp>
        <p:nvSpPr>
          <p:cNvPr id="182" name=""/>
          <p:cNvSpPr/>
          <p:nvPr/>
        </p:nvSpPr>
        <p:spPr>
          <a:xfrm>
            <a:off x="1197000" y="250920"/>
            <a:ext cx="4105080" cy="576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قراءة العواطف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5A1973B-8B5A-41E0-B05B-412B3236D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8160" y="395280"/>
            <a:ext cx="5353200" cy="59544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ما هو الذكاء الوجداني؟</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p:txBody>
      </p:sp>
      <p:sp>
        <p:nvSpPr>
          <p:cNvPr id="76" name="PlaceHolder 2"/>
          <p:cNvSpPr>
            <a:spLocks noGrp="1"/>
          </p:cNvSpPr>
          <p:nvPr>
            <p:ph type="subTitle"/>
          </p:nvPr>
        </p:nvSpPr>
        <p:spPr>
          <a:xfrm>
            <a:off x="304560" y="2230200"/>
            <a:ext cx="6095880" cy="522108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ذكاء الوجداني هو عبارة عن مجموعة من الصفات الشخصية والمهارات الاجتماعية والوجدانية  التى تمكن الشخص من تفهم مشاعر و انفعالات الآخرين، ومن ثم يكون أكثر قدرة علي ترشيد حياته النفسية والاجتماعية انطلاقا من هذه المهارات .  فالشخص الذي يتسم بدرجة عالية من الذكاء الوجداني، يتصف بقدرات ومهارات تمكنه من أن</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عاطف مع الآخرين خاصة في أوقات ضيق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سهل عليه تكوين الأصدقاء والمحافظة عليهم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حكم في الانفعالات والتقلبات الوجداني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عبر عن المشاعر والأحاسيس بسهول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المشكلات بين الأشخاص و يحل الخلافات بينهم بيس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ترم الآخرين ويقدر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ظهر درجة عالية من الود والمودة  في تعاملاته مع الناس.</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قق الحب والتقدير من الذين يعرفونه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مشاعر الآخرين ودوافعهم ويستطيع أن ينظر للأمور من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جهات  نظرهم.</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ميل للاستقلال في الرأي والحكم وفهم الأمو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كيف للمواقف الاجتماعية الجديدة بسهولة.</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واجه المواقف الصعبة بثقة.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شعر بالراحة في المواقف الحميمية التي تتطلب تبادل المشاعر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المودة.</a:t>
            </a:r>
            <a:endParaRPr b="0" lang="en-US" sz="16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1600" spc="-1" strike="noStrike">
                <a:solidFill>
                  <a:srgbClr val="000000"/>
                </a:solidFill>
                <a:latin typeface="Arial"/>
              </a:rPr>
              <a:t>يستطيع أن يتصدى للأخطاء والامتهان الخارجي.</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419040" y="7543800"/>
            <a:ext cx="5829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00000"/>
                </a:solidFill>
                <a:uFillTx/>
                <a:latin typeface="Monotype Corsiva"/>
              </a:rPr>
              <a:t> </a:t>
            </a:r>
            <a:r>
              <a:rPr b="1" i="1" lang="ar-SA" sz="2000" spc="-1" strike="noStrike">
                <a:solidFill>
                  <a:srgbClr val="000000"/>
                </a:solidFill>
                <a:latin typeface="Monotype Corsiva"/>
              </a:rPr>
              <a:t>هو قدرة الإنسان على التعامل الإيجابي مع نفسه ومع الآخرين بحيث يحقق أكبر قدر من السعادة لنفسه ولمن حوله</a:t>
            </a:r>
            <a:r>
              <a:rPr b="1" i="1" lang="ar-SA" sz="2000" spc="-1" strike="noStrike">
                <a:solidFill>
                  <a:srgbClr val="000000"/>
                </a:solidFill>
                <a:latin typeface="Monotype Corsiva"/>
              </a:rPr>
              <a:t>.</a:t>
            </a:r>
            <a:endParaRPr b="0" lang="en-US" sz="2000" spc="-1" strike="noStrike">
              <a:solidFill>
                <a:srgbClr val="000000"/>
              </a:solidFill>
              <a:latin typeface="Arial"/>
            </a:endParaRPr>
          </a:p>
        </p:txBody>
      </p:sp>
      <p:pic>
        <p:nvPicPr>
          <p:cNvPr id="78" name="" descr="">
            <a:hlinkClick r:id="rId1"/>
          </p:cNvPr>
          <p:cNvPicPr/>
          <p:nvPr/>
        </p:nvPicPr>
        <p:blipFill>
          <a:blip r:embed="rId2"/>
          <a:stretch/>
        </p:blipFill>
        <p:spPr>
          <a:xfrm>
            <a:off x="5516640" y="457200"/>
            <a:ext cx="414360" cy="490680"/>
          </a:xfrm>
          <a:prstGeom prst="rect">
            <a:avLst/>
          </a:prstGeom>
          <a:ln w="0">
            <a:noFill/>
          </a:ln>
        </p:spPr>
      </p:pic>
      <p:pic>
        <p:nvPicPr>
          <p:cNvPr id="79" name="" descr="">
            <a:hlinkClick r:id="rId3"/>
          </p:cNvPr>
          <p:cNvPicPr/>
          <p:nvPr/>
        </p:nvPicPr>
        <p:blipFill>
          <a:blip r:embed="rId4"/>
          <a:stretch/>
        </p:blipFill>
        <p:spPr>
          <a:xfrm>
            <a:off x="782640" y="457200"/>
            <a:ext cx="414360" cy="490680"/>
          </a:xfrm>
          <a:prstGeom prst="rect">
            <a:avLst/>
          </a:prstGeom>
          <a:ln w="0">
            <a:noFill/>
          </a:ln>
        </p:spPr>
      </p:pic>
      <p:sp>
        <p:nvSpPr>
          <p:cNvPr id="80" name=""/>
          <p:cNvSpPr/>
          <p:nvPr/>
        </p:nvSpPr>
        <p:spPr>
          <a:xfrm>
            <a:off x="260280" y="1116000"/>
            <a:ext cx="6264360" cy="1008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أجريت أبحاث خلال </a:t>
            </a:r>
            <a:r>
              <a:rPr b="1" lang="ar-SA" sz="1600" spc="-1" strike="noStrike">
                <a:solidFill>
                  <a:srgbClr val="000000"/>
                </a:solidFill>
                <a:latin typeface="Arial"/>
                <a:ea typeface="Traditional Arabic"/>
              </a:rPr>
              <a:t>25</a:t>
            </a:r>
            <a:r>
              <a:rPr b="1" lang="ar-SA" sz="1600" spc="-1" strike="noStrike">
                <a:solidFill>
                  <a:srgbClr val="000000"/>
                </a:solidFill>
                <a:latin typeface="Arial"/>
                <a:ea typeface="Traditional Arabic"/>
              </a:rPr>
              <a:t> سنة من قبل </a:t>
            </a:r>
            <a:r>
              <a:rPr b="1" lang="ar-SA" sz="1600" spc="-1" strike="noStrike">
                <a:solidFill>
                  <a:srgbClr val="000000"/>
                </a:solidFill>
                <a:latin typeface="Arial"/>
                <a:ea typeface="Traditional Arabic"/>
              </a:rPr>
              <a:t>1000</a:t>
            </a:r>
            <a:r>
              <a:rPr b="1" lang="ar-SA" sz="1600" spc="-1" strike="noStrike">
                <a:solidFill>
                  <a:srgbClr val="000000"/>
                </a:solidFill>
                <a:latin typeface="Arial"/>
                <a:ea typeface="Traditional Arabic"/>
              </a:rPr>
              <a:t> مؤسسة على عشرات الألوف من الأشخاص وكلها توصلت إلى  النتيجة</a:t>
            </a:r>
            <a:r>
              <a:rPr b="1" lang="ar-KW" sz="1600" spc="-1" strike="noStrike">
                <a:solidFill>
                  <a:srgbClr val="000000"/>
                </a:solidFill>
                <a:latin typeface="Arial"/>
                <a:ea typeface="Traditional Arabic"/>
              </a:rPr>
              <a:t> نفسها</a:t>
            </a:r>
            <a:r>
              <a:rPr b="1" lang="ar-SA" sz="1600" spc="-1" strike="noStrike">
                <a:solidFill>
                  <a:srgbClr val="000000"/>
                </a:solidFill>
                <a:latin typeface="Arial"/>
                <a:ea typeface="Traditional Arabic"/>
              </a:rPr>
              <a:t> :</a:t>
            </a:r>
            <a:r>
              <a:rPr b="1" lang="ar-SA" sz="1800" spc="-1" strike="noStrike">
                <a:solidFill>
                  <a:srgbClr val="000000"/>
                </a:solidFill>
                <a:latin typeface="Arial"/>
              </a:rPr>
              <a:t> </a:t>
            </a:r>
            <a:br>
              <a:rPr sz="1800"/>
            </a:br>
            <a:r>
              <a:rPr b="1" lang="ar-KW" sz="1600" spc="-1" strike="noStrike">
                <a:solidFill>
                  <a:srgbClr val="000000"/>
                </a:solidFill>
                <a:latin typeface="Arial"/>
              </a:rPr>
              <a:t>”</a:t>
            </a:r>
            <a:r>
              <a:rPr b="1" i="1" lang="ar-SA" sz="1600" spc="-1" strike="noStrike">
                <a:solidFill>
                  <a:srgbClr val="000000"/>
                </a:solidFill>
                <a:latin typeface="Arial"/>
                <a:cs typeface="Monotype Koufi"/>
              </a:rPr>
              <a:t>إن نجاح الإنسان يتوقف على مهارات لا علاقة لها بشهاداته وتحصيله العلمي</a:t>
            </a:r>
            <a:r>
              <a:rPr b="1" lang="ar-SA" sz="1600" spc="-1" strike="noStrike">
                <a:solidFill>
                  <a:srgbClr val="000000"/>
                </a:solidFill>
                <a:latin typeface="Arial"/>
                <a:ea typeface="Monotype Koufi"/>
              </a:rPr>
              <a:t> </a:t>
            </a:r>
            <a:r>
              <a:rPr b="1" lang="ar-SA" sz="1600" spc="-1" strike="noStrike">
                <a:solidFill>
                  <a:srgbClr val="000000"/>
                </a:solidFill>
                <a:latin typeface="Arial"/>
                <a:ea typeface="Monotype Koufi"/>
              </a:rPr>
              <a:t>.</a:t>
            </a:r>
            <a:r>
              <a:rPr b="1" lang="ar-KW" sz="1600" spc="-1" strike="noStrike">
                <a:solidFill>
                  <a:srgbClr val="000000"/>
                </a:solidFill>
                <a:latin typeface="Arial"/>
                <a:ea typeface="Monotype Koufi"/>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A1CA379-40CC-4F5E-9A82-B9038453B5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2720" y="1692360"/>
            <a:ext cx="5173560" cy="3024000"/>
          </a:xfrm>
          <a:prstGeom prst="rect">
            <a:avLst/>
          </a:prstGeom>
          <a:noFill/>
          <a:ln w="9360">
            <a:solidFill>
              <a:srgbClr val="000000"/>
            </a:solidFill>
            <a:miter/>
          </a:ln>
        </p:spPr>
        <p:txBody>
          <a:bodyPr lIns="90000" rIns="90000" tIns="46800" bIns="46800" anchor="t">
            <a:normAutofit fontScale="96000"/>
          </a:bodyPr>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إن وضع المشكلة ضمن أسئلة الإطار السلبي يؤدي إلى الشعور بالعجز وإلقاء اللوم على الآخرين وإضاعة الفرص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شكلة ؟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ماذا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ذ متى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د هذه المشكلة من إمكانياتي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السبب في وجود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ول هذه المشكلة بيني وبين تحقيق ما أرغب فيه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أسوأ وقت عشت خلاله هذه المشكلة ؟</a:t>
            </a:r>
            <a:endParaRPr b="0" lang="en-US" sz="1600" spc="-1" strike="noStrike">
              <a:solidFill>
                <a:srgbClr val="000000"/>
              </a:solidFill>
              <a:latin typeface="Arial"/>
            </a:endParaRPr>
          </a:p>
        </p:txBody>
      </p:sp>
      <p:sp>
        <p:nvSpPr>
          <p:cNvPr id="184" name=""/>
          <p:cNvSpPr/>
          <p:nvPr/>
        </p:nvSpPr>
        <p:spPr>
          <a:xfrm>
            <a:off x="404640" y="826920"/>
            <a:ext cx="590400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أشخاص الأذكياء عاطفياً يعرفون كيف يطرحون الأسئلة الذكية عاطفياً التي تحرك مشاعرهم الإيجابية وتوجههم في الاتجاه الصحيح .</a:t>
            </a:r>
            <a:endParaRPr b="0" lang="en-US" sz="1600" spc="-1" strike="noStrike">
              <a:solidFill>
                <a:srgbClr val="000000"/>
              </a:solidFill>
              <a:latin typeface="Arial"/>
            </a:endParaRPr>
          </a:p>
        </p:txBody>
      </p:sp>
      <p:sp>
        <p:nvSpPr>
          <p:cNvPr id="185"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أسئلة الذكية </a:t>
            </a:r>
            <a:endParaRPr b="0" lang="en-US" sz="2800" spc="-1" strike="noStrike">
              <a:solidFill>
                <a:srgbClr val="000000"/>
              </a:solidFill>
              <a:latin typeface="Arial"/>
            </a:endParaRPr>
          </a:p>
        </p:txBody>
      </p:sp>
      <p:sp>
        <p:nvSpPr>
          <p:cNvPr id="186" name=""/>
          <p:cNvSpPr/>
          <p:nvPr/>
        </p:nvSpPr>
        <p:spPr>
          <a:xfrm rot="16200000">
            <a:off x="5085360" y="3204000"/>
            <a:ext cx="244800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سئلة الإطار السلبي :</a:t>
            </a:r>
            <a:endParaRPr b="0" lang="en-US" sz="2400" spc="-1" strike="noStrike">
              <a:solidFill>
                <a:srgbClr val="000000"/>
              </a:solidFill>
              <a:latin typeface="Arial"/>
            </a:endParaRPr>
          </a:p>
        </p:txBody>
      </p:sp>
      <p:sp>
        <p:nvSpPr>
          <p:cNvPr id="187" name=""/>
          <p:cNvSpPr/>
          <p:nvPr/>
        </p:nvSpPr>
        <p:spPr>
          <a:xfrm rot="16200000">
            <a:off x="4905360" y="6624360"/>
            <a:ext cx="280836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cs typeface="Arial"/>
              </a:rPr>
              <a:t>أ</a:t>
            </a:r>
            <a:r>
              <a:rPr b="1" lang="ar-SA" sz="2400" spc="-1" strike="noStrike">
                <a:solidFill>
                  <a:srgbClr val="000000"/>
                </a:solidFill>
                <a:latin typeface="Arial"/>
                <a:cs typeface="Arial"/>
              </a:rPr>
              <a:t>سئلة الإطار الإيجابي</a:t>
            </a:r>
            <a:endParaRPr b="0" lang="en-US" sz="2400" spc="-1" strike="noStrike">
              <a:solidFill>
                <a:srgbClr val="000000"/>
              </a:solidFill>
              <a:latin typeface="Arial"/>
            </a:endParaRPr>
          </a:p>
        </p:txBody>
      </p:sp>
      <p:sp>
        <p:nvSpPr>
          <p:cNvPr id="188" name=""/>
          <p:cNvSpPr/>
          <p:nvPr/>
        </p:nvSpPr>
        <p:spPr>
          <a:xfrm>
            <a:off x="333360" y="5003640"/>
            <a:ext cx="5505480" cy="3313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9000"/>
          </a:bodyPr>
          <a:p>
            <a:pPr marL="305280" indent="-3052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 وضع المشكلة ضمن أسئلة الإطار الإيجابي يدفع الإنسان إلى السير في الاتجاه الذي يريده ويحمله المسئولية ويعطيه الكثير من الخيار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ذا أريد ؟نحن نصنع عادات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ثم تقوم عاداتنا بصنع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تى أريد تحقيق ذلك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عد الحصول على ما أريده ما الذي سيتحسن في حيات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صادر المتاحة لمساعدتي على الوصول إلى ما أريد ؟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أستخدم الإمكانات التي لدي أحسن استخدام؟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تحديات التي يمكن أن تواجهن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أفضل طريقة لمواجهة هذه التحدي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الذي يجب القيام به</a:t>
            </a:r>
            <a:r>
              <a:rPr b="1" lang="ar-KW" sz="1600" spc="-1" strike="noStrike">
                <a:solidFill>
                  <a:srgbClr val="000000"/>
                </a:solidFill>
                <a:latin typeface="Arial"/>
              </a:rPr>
              <a:t> الآن </a:t>
            </a:r>
            <a:r>
              <a:rPr b="1" lang="ar-SA" sz="1600" spc="-1" strike="noStrike">
                <a:solidFill>
                  <a:srgbClr val="000000"/>
                </a:solidFill>
                <a:latin typeface="Arial"/>
              </a:rPr>
              <a:t> للحصول على ما أريد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89" name="" descr=""/>
          <p:cNvPicPr/>
          <p:nvPr/>
        </p:nvPicPr>
        <p:blipFill>
          <a:blip r:embed="rId1"/>
          <a:stretch/>
        </p:blipFill>
        <p:spPr>
          <a:xfrm>
            <a:off x="6006960" y="4932360"/>
            <a:ext cx="662040" cy="503280"/>
          </a:xfrm>
          <a:prstGeom prst="rect">
            <a:avLst/>
          </a:prstGeom>
          <a:ln w="0">
            <a:noFill/>
          </a:ln>
        </p:spPr>
      </p:pic>
      <p:pic>
        <p:nvPicPr>
          <p:cNvPr id="190" name="" descr=""/>
          <p:cNvPicPr/>
          <p:nvPr/>
        </p:nvPicPr>
        <p:blipFill>
          <a:blip r:embed="rId2"/>
          <a:stretch/>
        </p:blipFill>
        <p:spPr>
          <a:xfrm>
            <a:off x="5950080" y="1619280"/>
            <a:ext cx="588960" cy="592200"/>
          </a:xfrm>
          <a:prstGeom prst="rect">
            <a:avLst/>
          </a:prstGeom>
          <a:ln w="0">
            <a:noFill/>
          </a:ln>
        </p:spPr>
      </p:pic>
      <p:sp>
        <p:nvSpPr>
          <p:cNvPr id="3" name="PlaceHolder 2"/>
          <p:cNvSpPr>
            <a:spLocks noGrp="1"/>
          </p:cNvSpPr>
          <p:nvPr>
            <p:ph type="sldNum" idx="3"/>
          </p:nvPr>
        </p:nvSpPr>
        <p:spPr/>
        <p:txBody>
          <a:bodyPr/>
          <a:p>
            <a:fld id="{01B56FAA-B1F9-43EE-8431-0D11C8000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3000" y="899640"/>
            <a:ext cx="6172200" cy="7704360"/>
          </a:xfrm>
          <a:prstGeom prst="rect">
            <a:avLst/>
          </a:prstGeom>
          <a:noFill/>
          <a:ln w="9360">
            <a:solidFill>
              <a:srgbClr val="000000"/>
            </a:solidFill>
            <a:miter/>
          </a:ln>
        </p:spPr>
        <p:txBody>
          <a:bodyPr lIns="90000" rIns="90000" tIns="46800" bIns="46800" anchor="t">
            <a:normAutofit fontScale="86000"/>
          </a:bodyPr>
          <a:p>
            <a:pPr marL="29484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اللوزة في اجسام البشر هي مجموعة من الهياكل المتداخلة تقع فوق جذع الدماغ قرب قاع الحلقة الحوفية.. وهناك لوزتان. واحدة على كل جانب من الدماغ تقع باتجاه جانب الرأس. وتعد اللوزة متخصصة في المسائل الانفصالية الوجداني ة، فإذا بترت اللوزة عن باقي الدماغ، تكون النتيجة عدم القدرة على الاحساس بالاحداث المهمة الوجداني ة وتسمى هذه الحالة احيانا بـ «العمى المؤثر». ويؤدي فقد اللوزة الى الافتقار لأي تفاعل عاطفي. فعلى سبيل المثال خضع شاب لعملية استؤصلت خلالها اللوزة من دماغه، فأصبح لا يبدي اي رغبة في الاختلاط بالناس، وفضل الجلوس في عزلة بدون اي اتصال مع البشر. وبينما كان قادرا بصورة مثالية على التخاطب والتحادث مع الآخرين، إلا انه لم يعد قادرا على التمييز بين اصدقائه وأقاربه، ولم يعد يتعرف حتى على والدته، وبقي غير مبال بضيق الآخرين. وتعمل اللوزة لمخزن الذكريات الانفعالية، ولذلك فهي ذات اهمية بوظيفتها. فالحياة بدون لوزة الدماغ مجردة من المعاني الشخصي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دعنا نتذكر ذلك الوضع عندما يتحول الذكي الى مغفل، لقد حدث بدقة عندما طعن الطالب النجيب جاسون استاذ الفيزياء في المرحلة الثانوية باستخدام ساطور المطبخ، ولكن الحقائق ذكرت في التقرير الذي افاد ان جاسون الطالب الحاصل على ترتيب مستوى رفيع في مدرسة بكلورال سبرنيغ بولاية فلوريدا كان همه وأمله الوحيد هو دخول كلية الطب، اي ان حلمه كان الدخول الى كلية الطب بجامعة هارفرد، لكن استاذ مادة الفيزياء ديفيد بولوجروتو منحه </a:t>
            </a:r>
            <a:r>
              <a:rPr b="1" lang="ar-KW" sz="1400" spc="-1" strike="noStrike">
                <a:solidFill>
                  <a:srgbClr val="000000"/>
                </a:solidFill>
                <a:latin typeface="Arial"/>
              </a:rPr>
              <a:t>80</a:t>
            </a:r>
            <a:r>
              <a:rPr b="1" lang="ar-KW" sz="1400" spc="-1" strike="noStrike">
                <a:solidFill>
                  <a:srgbClr val="000000"/>
                </a:solidFill>
                <a:latin typeface="Arial"/>
              </a:rPr>
              <a:t> درجة في الاختبار. وعندما اعتقد جاسون ان الدرجة مجرد «</a:t>
            </a:r>
            <a:r>
              <a:rPr b="1" lang="en-US" sz="1400" spc="-1" strike="noStrike">
                <a:solidFill>
                  <a:srgbClr val="000000"/>
                </a:solidFill>
                <a:latin typeface="Arial"/>
              </a:rPr>
              <a:t>B</a:t>
            </a:r>
            <a:r>
              <a:rPr b="1" lang="ar-KW" sz="1400" spc="-1" strike="noStrike">
                <a:solidFill>
                  <a:srgbClr val="000000"/>
                </a:solidFill>
                <a:latin typeface="Arial"/>
              </a:rPr>
              <a:t>» احس ان امله قد خاب فحمل ساطورا الى المدرسة وفي مواجهة مع بولوجروتو في مختبر الفيزياء طعن الطالب استاذه في عظمة الترقوة قبل ان يتمكن اخرون من السيطرة على الموقف. وحكم قاض على الطالب جاسون بالبراءة، وقال ان الطالب اصيب بالجنون خلال الحادث وأقسم </a:t>
            </a:r>
            <a:r>
              <a:rPr b="1" lang="ar-KW" sz="1400" spc="-1" strike="noStrike">
                <a:solidFill>
                  <a:srgbClr val="000000"/>
                </a:solidFill>
                <a:latin typeface="Arial"/>
              </a:rPr>
              <a:t>4</a:t>
            </a:r>
            <a:r>
              <a:rPr b="1" lang="ar-KW" sz="1400" spc="-1" strike="noStrike">
                <a:solidFill>
                  <a:srgbClr val="000000"/>
                </a:solidFill>
                <a:latin typeface="Arial"/>
              </a:rPr>
              <a:t> أطباء نفسانيون وعلماء نفس على انه اصيب باضطراب نفسي خلال الشجار، وزعم جاسون انه كان يخطط للانتحار بسبب نتيجة الاختبار. وذهب الى استاذه لابلاغه بأنه سيقتل نفسه بسبب هذه الدرجة السيئة. ولكن الاستاذ بولوجروتو روى قصة مختلفة: «اعتقد انه كان يحاول الاجهاز علي بالكامل لانه اصيب بغضب شديد نتيجة للدرجة السيئ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بعد نقله الى مدرسة خاصة، تخرج جاسون بعد عامين وكان الاول في فصله. وبعد ان حصل على درجات عالية تخرج بمرتبة الشرف وكان استاذه ديفيد بولوجروتو لا يزال يشتكي بأن طالبه السابق لم يعتذر قط عما فعله او حتى يتحمل المسئولية عن الحادث.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القضية الآن كيف لطالب شديد الذكاء ومتميز ان يقوم بعمل اخرق مثل ذلك، عمل لا يقوم به سوى مجنون؟ الاجابة هي ان الذكاء الاكاديمي ليس له علاقة بالحياة الوجداني ة. فالاشخاص من ذوي الذكاء المتوقد يمكن ان يكونوا ضعفاء بصورة مذهلة في توجيه حياتهم الخاصة. والحقيقة ان هناك استثناءات واسعة النطاق من القاعدة القائلة ان اصحاب الذكاء الرفيع يتوقعون النجاح، بل ان هناك الكثير من الاستثناءات اكثر من الحالات التي تنسجم مع القاعدة. وفي احسن الحالات فإن الذكاء يسهم بنسبة </a:t>
            </a:r>
            <a:r>
              <a:rPr b="1" lang="ar-KW" sz="1400" spc="-1" strike="noStrike">
                <a:solidFill>
                  <a:srgbClr val="000000"/>
                </a:solidFill>
                <a:latin typeface="Arial"/>
              </a:rPr>
              <a:t>20</a:t>
            </a:r>
            <a:r>
              <a:rPr b="1" lang="ar-KW" sz="1400" spc="-1" strike="noStrike">
                <a:solidFill>
                  <a:srgbClr val="000000"/>
                </a:solidFill>
                <a:latin typeface="Arial"/>
              </a:rPr>
              <a:t>% بالعوامل التي تحدد النجاح في الحياة. ويترك </a:t>
            </a:r>
            <a:r>
              <a:rPr b="1" lang="ar-KW" sz="1400" spc="-1" strike="noStrike">
                <a:solidFill>
                  <a:srgbClr val="000000"/>
                </a:solidFill>
                <a:latin typeface="Arial"/>
              </a:rPr>
              <a:t>80</a:t>
            </a:r>
            <a:r>
              <a:rPr b="1" lang="ar-KW" sz="1400" spc="-1" strike="noStrike">
                <a:solidFill>
                  <a:srgbClr val="000000"/>
                </a:solidFill>
                <a:latin typeface="Arial"/>
              </a:rPr>
              <a:t>% لعوامل اخرى، وكما لاحظ احد الباحثين فإن الغالبية العظمى من العناصر التي تكمن وراء ارتفاع المكانة في المجتمع تحددها عوامل ليس لها صلة بالذكاء وتتراوح ما بين الطبقة الاجتماعية الى الحظ.</a:t>
            </a:r>
            <a:r>
              <a:rPr b="0" lang="ar-KW" sz="1400" spc="-1" strike="noStrike">
                <a:solidFill>
                  <a:srgbClr val="000000"/>
                </a:solidFill>
                <a:latin typeface="Arial"/>
              </a:rPr>
              <a:t> </a:t>
            </a:r>
            <a:endParaRPr b="0" lang="en-US" sz="1400" spc="-1" strike="noStrike">
              <a:solidFill>
                <a:srgbClr val="000000"/>
              </a:solidFill>
              <a:latin typeface="Arial"/>
            </a:endParaRPr>
          </a:p>
          <a:p>
            <a:pPr marL="294840" indent="-294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600" spc="-1" strike="noStrike">
                <a:solidFill>
                  <a:srgbClr val="000000"/>
                </a:solidFill>
                <a:latin typeface="Arial"/>
              </a:rPr>
              <a:t>وحتى كبار المفكرين، امثال ريتشارد هيرنشتين وتشارلز موريه، لا يعلقون الكثير من الاهمية على الذكاء والاخيران يعترفان بأنه يجوز ان طالبا بدرجات مقبول في الرياضيات، بدلا من التوجه كي يصبح عالماً رياضياً فإنه يدير مشروعه الخاص به فيصبح سيناتورا او يجمع الملايين من الدولارات، ولذلك لا ينبغي ان يفقد احلامه، ان الصلة بين درجات الاختبار وتلك الانجازات تتضاءل في ضوء شمولية السمات الاخرى التي يبعث فيها الحياة. </a:t>
            </a:r>
            <a:endParaRPr b="0" lang="en-US" sz="1600" spc="-1" strike="noStrike">
              <a:solidFill>
                <a:srgbClr val="000000"/>
              </a:solidFill>
              <a:latin typeface="Arial"/>
            </a:endParaRPr>
          </a:p>
          <a:p>
            <a:pPr marL="294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مركز المشاعر القوي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2D59F41-C54A-49B9-BD98-D9011F3EFB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83920" y="228240"/>
            <a:ext cx="4032360" cy="1219320"/>
          </a:xfrm>
          <a:prstGeom prst="rect">
            <a:avLst/>
          </a:prstGeom>
          <a:solidFill>
            <a:srgbClr val="ffffc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      </a:t>
            </a:r>
            <a:r>
              <a:rPr b="1" lang="ar-KW" sz="4000" spc="-1" strike="noStrike">
                <a:solidFill>
                  <a:srgbClr val="000000"/>
                </a:solidFill>
                <a:latin typeface="Arial"/>
              </a:rPr>
              <a:t>الذكاء الوجداني :</a:t>
            </a:r>
            <a:br>
              <a:rPr sz="4000"/>
            </a:br>
            <a:r>
              <a:rPr b="1" lang="ar-KW" sz="4000" spc="-1" strike="noStrike">
                <a:solidFill>
                  <a:srgbClr val="000000"/>
                </a:solidFill>
                <a:latin typeface="Arial"/>
              </a:rPr>
              <a:t>           </a:t>
            </a:r>
            <a:r>
              <a:rPr b="1" lang="ar-SA" sz="2000" spc="-1" strike="noStrike">
                <a:solidFill>
                  <a:srgbClr val="000000"/>
                </a:solidFill>
                <a:latin typeface="Arial"/>
              </a:rPr>
              <a:t>دانييل جولمان</a:t>
            </a:r>
            <a:r>
              <a:rPr b="1" lang="ar-SA" sz="4000" spc="-1" strike="noStrike">
                <a:solidFill>
                  <a:srgbClr val="000000"/>
                </a:solidFill>
                <a:latin typeface="Arial"/>
              </a:rPr>
              <a:t>      </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type="subTitle"/>
          </p:nvPr>
        </p:nvSpPr>
        <p:spPr>
          <a:xfrm>
            <a:off x="304920" y="1676160"/>
            <a:ext cx="6248160" cy="6553080"/>
          </a:xfrm>
          <a:prstGeom prst="rect">
            <a:avLst/>
          </a:prstGeom>
          <a:noFill/>
          <a:ln w="9360">
            <a:solidFill>
              <a:srgbClr val="000000"/>
            </a:solidFill>
            <a:miter/>
          </a:ln>
        </p:spPr>
        <p:txBody>
          <a:bodyPr lIns="90000" rIns="90000" tIns="46800" bIns="46800" anchor="t">
            <a:noAutofit/>
          </a:bodyPr>
          <a:p>
            <a:pPr marL="3049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عن سلسلة عالم المعرفة صدر كتاب (الذكاء الوجداني ) ، محتوياً على ثلاثة أقسام مع مقدمة يقدم المؤلف في هذا الكتاب طريقاً جديداً للنظر في جذور أسباب أمراض الأسر والمجتمعات، ويدعو فيه إلى ثقافة العقل والقلب مع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قام المؤلف في هذا الكتاب برحلة تأمل علمي ثاقب في عواطف الإنسان، نفهم منها معنى الذكاء، وكيفية ارتباطه بالعاطفة، ونطلع عبر صفحاته على مملكة المشاعر وتأثيرها في مسار حياتن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عتمد المؤلف على الأبحاث الطبية والدراسات التي أجريت على الدماغ البشري خلال العقدين الماضيين، ليخرج بآخر اكتشافات تركيبة المخ الوجداني ة التي تفسر كيف تهيمن قبضة العاطفة القوية على العقل المفكر، وكيف تكشف تراكيب المخ المتداخلة المتحكمة في لحظات الغضب والخوف أو الحب عن كثير من الحقائق، وأن النقص في الذكاء الوجداني أساس الكثير من مشاكل كل فرد منا، لأنه يدمر الذهن ويهدد الصحة الجسمانية بأخطار جسيم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جيب المؤلف عن السؤال المهم: ما هذه المشاعر الإنسانية؟ وما مكانها في المخ؟ وهل ما ورثناه من طباع قدر محتوم، أم أن دوائر المخ العصبية دوائر مرنة يمكن أن تتعلم وتتغذى، وتقوى وفقاً للبنية التي يتأسس عليها ذكاؤنا الوجداني  منذ الطفول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أما أكثر الحقائق إثارة للقلق في هذا الكتاب فهي ذلك المسح البحثي الشامل الذي يكشف كيف بات جيل الأطفال الحالي في العالم كله أكثر غضباً وجنوحاً وقلقاً واندفاعاً وعنفاً.. فهل الذكاء الوجداني يقدم علاجاً؟</a:t>
            </a:r>
            <a:r>
              <a:rPr b="1" i="1" lang="ar-SA" sz="1500" spc="-1" strike="noStrike">
                <a:solidFill>
                  <a:srgbClr val="000000"/>
                </a:solidFill>
                <a:latin typeface="Arial"/>
              </a:rPr>
              <a:t> </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لجواب في صفحات هذا الكتاب الشيق</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
          <p:cNvSpPr/>
          <p:nvPr/>
        </p:nvSpPr>
        <p:spPr>
          <a:xfrm rot="20707200">
            <a:off x="4458960" y="394920"/>
            <a:ext cx="22096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قــراءة في كتــاب</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6" name="" descr=""/>
          <p:cNvPicPr/>
          <p:nvPr/>
        </p:nvPicPr>
        <p:blipFill>
          <a:blip r:embed="rId1"/>
          <a:stretch/>
        </p:blipFill>
        <p:spPr>
          <a:xfrm>
            <a:off x="0" y="0"/>
            <a:ext cx="1197000" cy="1619280"/>
          </a:xfrm>
          <a:prstGeom prst="rect">
            <a:avLst/>
          </a:prstGeom>
          <a:ln w="0">
            <a:noFill/>
          </a:ln>
        </p:spPr>
      </p:pic>
      <p:sp>
        <p:nvSpPr>
          <p:cNvPr id="4" name="PlaceHolder 3"/>
          <p:cNvSpPr>
            <a:spLocks noGrp="1"/>
          </p:cNvSpPr>
          <p:nvPr>
            <p:ph type="sldNum" idx="3"/>
          </p:nvPr>
        </p:nvSpPr>
        <p:spPr/>
        <p:txBody>
          <a:bodyPr/>
          <a:p>
            <a:fld id="{0E5B709B-E50F-4A89-B487-340BD6A196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04560" y="380520"/>
            <a:ext cx="6219720" cy="8007480"/>
          </a:xfrm>
          <a:prstGeom prst="rect">
            <a:avLst/>
          </a:prstGeom>
          <a:noFill/>
          <a:ln w="9360">
            <a:solidFill>
              <a:srgbClr val="000000"/>
            </a:solidFill>
            <a:miter/>
          </a:ln>
        </p:spPr>
        <p:txBody>
          <a:bodyPr lIns="90000" rIns="90000" tIns="46800" bIns="46800" anchor="t">
            <a:noAutofit/>
          </a:bodyPr>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أحد المراهقين يطلق النار على جمهور أحد النوادي في مدينة مانهاتن ويصيب ثمانية من الصبية لأن كرامته أهينت كما تصو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جاء في تقرير حول ضحايا جرائم ما قبل سن الثانية عشرة، أن </a:t>
            </a:r>
            <a:r>
              <a:rPr b="1" i="1" lang="ar-SA" sz="1500" spc="-1" strike="noStrike">
                <a:solidFill>
                  <a:srgbClr val="000000"/>
                </a:solidFill>
                <a:latin typeface="Arial"/>
              </a:rPr>
              <a:t>75</a:t>
            </a:r>
            <a:r>
              <a:rPr b="1" i="1" lang="ar-SA" sz="1500" spc="-1" strike="noStrike">
                <a:solidFill>
                  <a:srgbClr val="000000"/>
                </a:solidFill>
                <a:latin typeface="Arial"/>
              </a:rPr>
              <a:t> % من صبية هذه المرحلة السنية هم ضحايا آبائهم أو أزواج أمهاتهم.. وفي </a:t>
            </a:r>
            <a:r>
              <a:rPr b="1" i="1" lang="ar-SA" sz="1500" spc="-1" strike="noStrike">
                <a:solidFill>
                  <a:srgbClr val="000000"/>
                </a:solidFill>
                <a:latin typeface="Arial"/>
              </a:rPr>
              <a:t>50</a:t>
            </a:r>
            <a:r>
              <a:rPr b="1" i="1" lang="ar-SA" sz="1500" spc="-1" strike="noStrike">
                <a:solidFill>
                  <a:srgbClr val="000000"/>
                </a:solidFill>
                <a:latin typeface="Arial"/>
              </a:rPr>
              <a:t>% من الحالات الواردة في التقرير يقول الآباء أنهم لم يفعلوا شيئاً سوى محاولة أداء واجبهم في تربية أولادهم، بمعاقبتهم بالضرب حين يخالفون أوامر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وشاب ألماني يقتل خمس نساء تركيات، من خلال إشعال النار فيهن وهن نائمات.. وقد اعترف الشاب أثناء محاكمته، وهو عضو في مجموعة نازية جديدة، بأنه فشل في الحصول على عمل، وأنه يتعاطى الخمور، وأنه يحمّل الأجانب مسؤولية حظه السيء</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أصبحت أخبار الصحف تحمل لنا كل يوم مثل هذه التقارير حول انهيار الحس الحضاري وفقدان الإحساس بالأمان، بما يشبه موجة من الدوافع النفسية المتدنية الآخذة في الاستفحال.. غير أن هذه الأخبار تعكس في النهاية إحساسنا المتزايد بانتشار هذه الانفعالات غير المحكومة على صعيد حياتنا الخاصة، وحياة الآخرين المحيطين بنا.. وليس هناك أحد بيننا بمنأى عن ذلك المد المتفلت من الانفجار الانفعالي، إذ هو يصيب مختلف مناحي حياتنا بشكل أو بآخ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B2978A9A-0798-4A5F-B4D3-70B02F8C6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59920" y="307800"/>
            <a:ext cx="6248520" cy="2392560"/>
          </a:xfrm>
          <a:prstGeom prst="rect">
            <a:avLst/>
          </a:prstGeom>
          <a:noFill/>
          <a:ln w="9360">
            <a:solidFill>
              <a:srgbClr val="000000"/>
            </a:solidFill>
            <a:miter/>
          </a:ln>
        </p:spPr>
        <p:txBody>
          <a:bodyPr lIns="90000" rIns="90000" tIns="46800" bIns="46800" anchor="t">
            <a:noAutofit/>
          </a:bodyPr>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p:txBody>
      </p:sp>
      <p:sp>
        <p:nvSpPr>
          <p:cNvPr id="199" name="PlaceHolder 2"/>
          <p:cNvSpPr>
            <a:spLocks noGrp="1"/>
          </p:cNvSpPr>
          <p:nvPr>
            <p:ph type="title"/>
          </p:nvPr>
        </p:nvSpPr>
        <p:spPr>
          <a:xfrm>
            <a:off x="1628280" y="2771280"/>
            <a:ext cx="3311640" cy="522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واعث الفعل:</a:t>
            </a:r>
            <a:endParaRPr b="0" lang="en-US" sz="2400" spc="-1" strike="noStrike">
              <a:solidFill>
                <a:srgbClr val="000000"/>
              </a:solidFill>
              <a:latin typeface="Arial"/>
            </a:endParaRPr>
          </a:p>
        </p:txBody>
      </p:sp>
      <p:sp>
        <p:nvSpPr>
          <p:cNvPr id="200" name=""/>
          <p:cNvSpPr/>
          <p:nvPr/>
        </p:nvSpPr>
        <p:spPr>
          <a:xfrm>
            <a:off x="260280" y="3348000"/>
            <a:ext cx="626436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كل الانفعالات في جوهرها هي دوافع لأفعالنا.. هي الخطط الفورية للتعامل مع الحياة التي غرسها التطور في كياننا الإنساني</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يلعب كل انفعال في سجلنا الوجداني  دوراً فريداً، كما توضحه البصمات البيولوجية المتميزة</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تمكن الباحثون اليوم بالوسائل العلمية الجديدة البالغة التقدم التي استطاعت أن ترى الجسم والمخ من الداخل بدقة من اكتشاف مزيد من تفاصيل الكيفية الفسيولوجية التي تجهز بها العاطفة الجسم بمختلف أنواع الاستجابات، وعلى سبيل المثال</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حالة الغضب يتدفق الدم إلى اليدين ليجعلهما قادرتين بصورة أسهل على القبض على سلاح أو ضرب عدو.. وتتسارع ضربات القلب، وتندفع دفقة من الهرمونات مثل هرمون (الأدرينالين) فيتولد كم من الطاقة القوية تكفي القيام بعمل عني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خوف: يندفع الدم إلى أكبر العضلات حجماً، مثل عضلات الساقين، فيسهل الهرب، ويصبح الوجه أبيض اللون شاحباً لأن الدم يهرب منه</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دهشة؛ ترفع الحواجب لتسمح بنظرة شاملة أوسع، وتسمح بدخول مزيد من الضوء إلى الشبكية، وهذا يوفر مزيداً من المعلومات حول ما حدث دون توقع وأثار الدهشة، ويكشف حقيقة ما يجري بالضبط، بما يساعد على اختيار أفضل فعل مناسب للموق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هذا القسم الأول من الكتاب؛ كانت رحلة المؤلف مع آخر اكتشافات لتركيبة المخ الوجداني ة، والتي تقدم تفسيراً لتلك اللحظات الأكثر تحييراً في حياتنا والتي تهيمن فيها، مشاعرنا على عقولنا</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فهم التفاعل بين تراكيب المخ يكشف عن الكثير فيما يتعلق بكيفية تعلمنا للعادات الوجداني ة التي يمكن أن تقوض أفضل أهدافنا، وكذلك ما الذي بوسعنا أن نفعله للسيطرة على انفعالاتنا الوجداني ة الهدامة والمسببة للإحباط؟</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القسم الثاني من الكتاب يرينا المؤلف كيف تدخل معطياتنا العصبية في تشكيل المهارة الأساسية لممارسة الحياة والتي نسميها (الذكاء الوجداني ) أي أن نكون قادرين مثلاً على التحكم في نزعاتنا ونزواتنا، وأن نقرأ مشاعر الآخرين اليومية ونتعامل بمرونة في علاقاتنا مع الآخرون</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هذا النموذج المسهب لمعنى أن يكون المرء (ذكياً) يضع العواطف في بؤرة القدرات الشخصية في التعامل مع الحياة</a:t>
            </a:r>
            <a:r>
              <a:rPr b="1" lang="ar-SA"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FA4E68F8-49BE-443F-B118-8883CDD4D0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نفلات الأعصاب:</a:t>
            </a:r>
            <a:endParaRPr b="0" lang="en-US" sz="4000" spc="-1" strike="noStrike">
              <a:solidFill>
                <a:srgbClr val="000000"/>
              </a:solidFill>
              <a:latin typeface="Arial"/>
            </a:endParaRPr>
          </a:p>
        </p:txBody>
      </p:sp>
      <p:sp>
        <p:nvSpPr>
          <p:cNvPr id="202" name="PlaceHolder 2"/>
          <p:cNvSpPr>
            <a:spLocks noGrp="1"/>
          </p:cNvSpPr>
          <p:nvPr>
            <p:ph type="subTitle"/>
          </p:nvPr>
        </p:nvSpPr>
        <p:spPr>
          <a:xfrm>
            <a:off x="304920" y="1523880"/>
            <a:ext cx="5790960" cy="9907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شك في أن ما يثير الفضول لفهم قوة العواطف وتأثيرها في حياتنا العقلية، تلك اللحظات المثيرة للمشاعر، والتي نندم عليها بعد أن ينقشع عنها غبار الانفعال، ونتذكرها فيما بعد..</a:t>
            </a:r>
            <a:endParaRPr b="0" lang="en-US" sz="1800" spc="-1" strike="noStrike">
              <a:solidFill>
                <a:srgbClr val="000000"/>
              </a:solidFill>
              <a:latin typeface="Arial"/>
            </a:endParaRPr>
          </a:p>
        </p:txBody>
      </p:sp>
      <p:pic>
        <p:nvPicPr>
          <p:cNvPr id="203" name="" descr="">
            <a:hlinkClick r:id="rId1"/>
          </p:cNvPr>
          <p:cNvPicPr/>
          <p:nvPr/>
        </p:nvPicPr>
        <p:blipFill>
          <a:blip r:embed="rId2"/>
          <a:stretch/>
        </p:blipFill>
        <p:spPr>
          <a:xfrm>
            <a:off x="4800600" y="347760"/>
            <a:ext cx="871560" cy="871560"/>
          </a:xfrm>
          <a:prstGeom prst="rect">
            <a:avLst/>
          </a:prstGeom>
          <a:ln w="0">
            <a:noFill/>
          </a:ln>
        </p:spPr>
      </p:pic>
      <p:sp>
        <p:nvSpPr>
          <p:cNvPr id="204" name=""/>
          <p:cNvSpPr/>
          <p:nvPr/>
        </p:nvSpPr>
        <p:spPr>
          <a:xfrm>
            <a:off x="228600" y="2895480"/>
            <a:ext cx="582948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000000"/>
                </a:solidFill>
                <a:latin typeface="Arial"/>
              </a:rPr>
              <a:t>ا</a:t>
            </a:r>
            <a:r>
              <a:rPr b="0" lang="ar-SA" sz="4400" spc="-1" strike="noStrike">
                <a:solidFill>
                  <a:srgbClr val="000000"/>
                </a:solidFill>
                <a:latin typeface="Arial"/>
              </a:rPr>
              <a:t>عرف نفسك:</a:t>
            </a:r>
            <a:endParaRPr b="0" lang="en-US" sz="4400" spc="-1" strike="noStrike">
              <a:solidFill>
                <a:srgbClr val="000000"/>
              </a:solidFill>
              <a:latin typeface="Arial"/>
            </a:endParaRPr>
          </a:p>
        </p:txBody>
      </p:sp>
      <p:sp>
        <p:nvSpPr>
          <p:cNvPr id="205" name=""/>
          <p:cNvSpPr/>
          <p:nvPr/>
        </p:nvSpPr>
        <p:spPr>
          <a:xfrm>
            <a:off x="304920" y="4114800"/>
            <a:ext cx="5790960" cy="4038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اشك في أن وصية سقراط التي تقول (اعرف نفسك) تتحدث عن حجر الزاوية في الذكاء الوجداني ، الذي هو وعي الإنسان بمشاعره وقت حدوثها</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يبدو للوهلة الأولى أن مشاعرنا واضحة.. ولكن قدراً أكبر من التفكير والتأمل يذكرنا بأننا جميعاً غافلون عما شعرنا به تجاه شيء ما في الحقيقة، أو يوقظ فينا هذه المشاعر فيما بعد</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استخدم علماء النفس مصطلحاً ثقيلاً اسمه (ما بعد المعرفة) إشارة إلى الوعي بعملية التفكير واستخدموا مصطلح (ما بعد الانفعال) ليشير إلى تأمل الإنسان لانفعالاته</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كن المؤلف يفضل مصطلح (الوعي بالذات) بمعنى الانتباه إلى الحالات الداخلية التي يعيشها الإنسان وبهذا الوعي التأملي للنفس، يقوم العقل بملاحظة ودراسة الخبرة نفسها بما فيها من انفعالات</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الواقع أن مراقبة الذات - على أحسن الفروض - تحقق إدراكاً رصيناً للمشاعر المضطربة والمتقدمة، إنها في أقل تقدير تقدم نفسها في صورة ظاهرية وبسيطة، وكأنها عائدة لتوها من خبرة ما.. هي مجرى يوازي الوعي، أي ما بعد توزع الانتباه في مجرى الوعي الرئيسي، أو بجانبه، مدركة الحدث الجاري أكثر من انضمامها إلى هذه المشاعر، وضياعها فيها.. وهذا هو الفرق - مثلاً - بين أن تكون غاضباً غضباً شديداً من شخص ما، وأن تدرك بفكرك الذاتي التأملي قائلاً: (أنا أشعر بالغضب) حتى وأنت في حالة هذا الغضب</a:t>
            </a:r>
            <a:r>
              <a:rPr b="1" lang="ar-SA" sz="1500" spc="-1" strike="noStrike">
                <a:solidFill>
                  <a:srgbClr val="000000"/>
                </a:solidFill>
                <a:latin typeface="Arial"/>
              </a:rPr>
              <a:t>..</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8D743C59-57A5-4199-AD5E-256B810AD6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000000"/>
                </a:solidFill>
                <a:latin typeface="Arial"/>
              </a:rPr>
              <a:t>ا</a:t>
            </a:r>
            <a:r>
              <a:rPr b="0" lang="ar-SA" sz="4000" spc="-1" strike="noStrike">
                <a:solidFill>
                  <a:srgbClr val="000000"/>
                </a:solidFill>
                <a:latin typeface="Arial"/>
              </a:rPr>
              <a:t>عرف نفسك:</a:t>
            </a:r>
            <a:endParaRPr b="0" lang="en-US" sz="4000" spc="-1" strike="noStrike">
              <a:solidFill>
                <a:srgbClr val="000000"/>
              </a:solidFill>
              <a:latin typeface="Arial"/>
            </a:endParaRPr>
          </a:p>
        </p:txBody>
      </p:sp>
      <p:sp>
        <p:nvSpPr>
          <p:cNvPr id="207" name="PlaceHolder 2"/>
          <p:cNvSpPr>
            <a:spLocks noGrp="1"/>
          </p:cNvSpPr>
          <p:nvPr>
            <p:ph type="subTitle"/>
          </p:nvPr>
        </p:nvSpPr>
        <p:spPr>
          <a:xfrm>
            <a:off x="304920" y="1523880"/>
            <a:ext cx="5790960" cy="68580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على الرغم من التمييز المنطقي بين أن نكون مدركين لمشاعرنا، وأن نعمل على تغييرها، نجد أن جون ماير العالم السيكولوجي بجامعة هامبشير، الذي وضع نظرية الذكاء الوجداني ، قد اكتشف أن الوعي بالمشاعر والقيام بالأفعال من أجل الأهداف العملية كلها عادة جنباً إلى جنب ويداً بيد.. ذلك لأن مجرد إدراكنا أن المزاج سيء، فهذا معناه الرغبة في التخلص منه والتعرف على الحالة النفسية شيء متميز عما نبذله من جهود حتى لا نقوم بفعل ما بدافع انفعالي.</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اكتشف ماير أن الناس يميلون إلى اتباع أساليب متميزة للعناية بعواطفهم والتعامل معها:</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وعي بالنفس</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 أولئك البشر الذين يدركون حالتهم النفسية في أثناء معايشتها، عندهم بصورة متفهمة بعض الحنكة فيما يخص حياتهم الانفعالية.. ويمثل إدراكهم الواضح لانفعالاتهم أساساً لسماتهم الشخصية.. هم شخصيات استقلالية واثقة من إمكاناتها، ويتمتعون بصحة نفسية جيدة، ويميلون أيضاً إلى النظر للحياة نظرة إيجابية. وعندما يتكدر مزاجهم لا يجترونها ولا تستبد بأفكارهم، هم أيضاً قادرون على الخروج من مزاجهم السيء في أسرع وقت ممكن.. باختصار تساعدهم عقلانيتهم على إدارة عواطفهم وانفعالات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غارقون بانفعالات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الأشخاص هم من يشعرون غالباً بأنهم غارقون في انفعالاتهم، عاجزون عن الخروج منها، وكأن حالتهم النفسية قد تملكتهم تماماً. هم أيضاً متقلبو المزاج، غير مدركين تماماً لمشاعرهم إلى الدرجة التي يضيعون فيها ويتيهون عن أهدافهم إلى حد ما، ومن ثم فهم قليلاً ما يحاولون الهرب من حالتهم النفسية السيئة، كما يشعرون بعجزهم عن التحكم في حياتهم الوجداني ة.. إنهم أناس مغلوبون على أمرهم، فاقدو السيطرة على عواطف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متقبلون لمشاعر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على الرغم من وضوح رؤيتهم بالنسبة لمشاعرهم، فإنهم يميلون لتقبل حالتهم النفسية، دون محاولة تغييرها، ويبدو أن هناك مجموعتين من المتقبلين لمشاعرهم:</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جموعة الأولى: تشمل من هم عادة في حالة مزاجية جيدة، ومن ثم ليس لديهم دافع لتغييرها.. والمجموعة الثانية تشمل من لهم رؤية واضحة لحالتهم النفسية ومع ذلك حين يتعرضون لحالة نفسية سيئة، يتقبلونها كأمر واقع، ولا يفعلون أي شيء لتغييرها على الرغم من اكتئابهم. وهذا النموذج من المتقبلين يدخل في إطار المكتئبين الذين استكانوا لليأس..</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08" name="" descr="">
            <a:hlinkClick r:id="rId1"/>
          </p:cNvPr>
          <p:cNvPicPr/>
          <p:nvPr/>
        </p:nvPicPr>
        <p:blipFill>
          <a:blip r:embed="rId2"/>
          <a:stretch/>
        </p:blipFill>
        <p:spPr>
          <a:xfrm>
            <a:off x="4800600" y="347760"/>
            <a:ext cx="871560" cy="871560"/>
          </a:xfrm>
          <a:prstGeom prst="rect">
            <a:avLst/>
          </a:prstGeom>
          <a:ln w="0">
            <a:noFill/>
          </a:ln>
        </p:spPr>
      </p:pic>
      <p:sp>
        <p:nvSpPr>
          <p:cNvPr id="4" name="PlaceHolder 3"/>
          <p:cNvSpPr>
            <a:spLocks noGrp="1"/>
          </p:cNvSpPr>
          <p:nvPr>
            <p:ph type="sldNum" idx="3"/>
          </p:nvPr>
        </p:nvSpPr>
        <p:spPr/>
        <p:txBody>
          <a:bodyPr/>
          <a:p>
            <a:fld id="{B383A51D-906A-45EF-9D06-9B291A7C52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425520"/>
            <a:ext cx="5829480" cy="450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بيد العاطفة:</a:t>
            </a:r>
            <a:endParaRPr b="0" lang="en-US" sz="2800" spc="-1" strike="noStrike">
              <a:solidFill>
                <a:srgbClr val="000000"/>
              </a:solidFill>
              <a:latin typeface="Arial"/>
            </a:endParaRPr>
          </a:p>
        </p:txBody>
      </p:sp>
      <p:sp>
        <p:nvSpPr>
          <p:cNvPr id="210" name="PlaceHolder 2"/>
          <p:cNvSpPr>
            <a:spLocks noGrp="1"/>
          </p:cNvSpPr>
          <p:nvPr>
            <p:ph type="subTitle"/>
          </p:nvPr>
        </p:nvSpPr>
        <p:spPr>
          <a:xfrm>
            <a:off x="301320" y="947880"/>
            <a:ext cx="5791320" cy="347976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منذ عصر أفلاطون، ظل الإحساس بتفوق النفس وقدرتها على مواجهة العواصف الوجداني ة الناتجة عن ضربات القدر بدلاً من الاستسلام لها لكي نصبح عبيداً للعاطفة، ظل هذا الإحساس فضيلة تستحق الإشادة بها دائماً..كانت الكلمة اليونانية لهذه الفضيلة هي (سوفروزايم </a:t>
            </a:r>
            <a:r>
              <a:rPr b="1" lang="en-US" sz="1300" spc="-1" strike="noStrike">
                <a:solidFill>
                  <a:srgbClr val="000000"/>
                </a:solidFill>
                <a:latin typeface="Arial"/>
              </a:rPr>
              <a:t>sophrozyme</a:t>
            </a:r>
            <a:r>
              <a:rPr b="1" lang="ar-SA" sz="1300" spc="-1" strike="noStrike">
                <a:solidFill>
                  <a:srgbClr val="000000"/>
                </a:solidFill>
                <a:latin typeface="Arial"/>
              </a:rPr>
              <a:t> )أي الانتباه والذكاء في إدارة حياتنا: بمعنى الإتزان والحكمة.. أما الرومان والكنيسة المسيحية القديمة فقد أطلقوا عليها اسم (</a:t>
            </a:r>
            <a:r>
              <a:rPr b="1" lang="en-US" sz="1300" spc="-1" strike="noStrike">
                <a:solidFill>
                  <a:srgbClr val="000000"/>
                </a:solidFill>
                <a:latin typeface="Arial"/>
              </a:rPr>
              <a:t>temprrantia</a:t>
            </a:r>
            <a:r>
              <a:rPr b="1" lang="ar-SA" sz="1300" spc="-1" strike="noStrike">
                <a:solidFill>
                  <a:srgbClr val="000000"/>
                </a:solidFill>
                <a:latin typeface="Arial"/>
              </a:rPr>
              <a:t> ) أي ضبط النفس، أو كبح جماح الإفراط في الانفعال، والهدف من ذلك تحقيق التوازن الوجداني  وليس قمع العاطفة، لأن لكل شعور قيمته ودلالته.. فالحياة من دون عاطفة تصبح أرضاً حيادية قاحلة ومملّة، منقطعة ومنعزلة عن ثراء الحياة نفسها..والمطلوب، كما لاحظ (أرسطو) انفعال يناسب الظرف ذاته، فعندما يكبت الانفعال تماماً فإن ذلك يؤدي إلى الفتور والعزلة، وعندما يخرج عن إطار الانضباط والسيطرة ويصبح بالغ التطرف، والإلحاح، فإنه يتحول إلى حالة مرضية، تحتاج إلى العلاج مثل الاكتئاب المؤدي إلى الشلل، والقلق الساحق، والغضب الكاسح، والتهيج المجنون..</a:t>
            </a:r>
            <a:endParaRPr b="0" lang="en-US" sz="1300" spc="-1" strike="noStrike">
              <a:solidFill>
                <a:srgbClr val="000000"/>
              </a:solidFill>
              <a:latin typeface="Arial"/>
            </a:endParaRPr>
          </a:p>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لا شك في أن مفتاح سعادتنا الوجداني ة يكمن في ضبط انفعالاتنا المزعجة بصورة دائمة، هذا؛ لأن التطرف المتزايد والمكثف في العواطف لفترة طويلة يؤدي إلى تقويض استقرارنا.ومن الطبيعي ألا نشعر طوال الوقت بنوع واحد من الانفعال.. والواقع أن هناك الكثير مما يقال عما تسهم به المعاناة البناءة في الحياة الإبداعية والروحانية، لأن المعاناة تهذب الروح..ولا شك في أن تقلبات الدهر بما فيها من سعادة وتعاسة تعطي الحياة نكهة خاصة، وإن كانت تحتاج إلى التوازن..وما يحدد الإحساس بالسعادة - بحساب القلب - هو معدل العواطف الإيجابية والسلبية. وهذه - على الأقل - هي الحكمة التي خرجت بها دراسات عن طبائع مئات الرجال والنساء، وحالاتهم النفسية التي مرت عليهم، وسجلوا انفعالاتهم في تلك الأوقات.. مثل هؤلاء لا يحتاجون إلى تجنب المشاعر غير السارة للإحساس بالرضا عن حياتهم، لكنهم لا يتركون أنفسهم تحت رحمة مشاعرهم العاصفة دون كبح جماحها حتى لا تحل محل حالتهم النفسية المبتهجة، وثمة أناس يتعرضون لنوبات عارمة من الغضب والاكتئاب، ويمكن لأولئك الناس أن يشعروا بالرضا نحو حياتهم إذا ما تناوبتهم بقدر متساو فترات من الفرح والابتهاج..</a:t>
            </a:r>
            <a:endParaRPr b="0" lang="en-US" sz="1300" spc="-1" strike="noStrike">
              <a:solidFill>
                <a:srgbClr val="000000"/>
              </a:solidFill>
              <a:latin typeface="Arial"/>
            </a:endParaRPr>
          </a:p>
        </p:txBody>
      </p:sp>
      <p:pic>
        <p:nvPicPr>
          <p:cNvPr id="211" name="" descr="">
            <a:hlinkClick r:id="rId1"/>
          </p:cNvPr>
          <p:cNvPicPr/>
          <p:nvPr/>
        </p:nvPicPr>
        <p:blipFill>
          <a:blip r:embed="rId2"/>
          <a:stretch/>
        </p:blipFill>
        <p:spPr>
          <a:xfrm>
            <a:off x="4724280" y="420840"/>
            <a:ext cx="357480" cy="479160"/>
          </a:xfrm>
          <a:prstGeom prst="rect">
            <a:avLst/>
          </a:prstGeom>
          <a:ln w="0">
            <a:noFill/>
          </a:ln>
        </p:spPr>
      </p:pic>
      <p:sp>
        <p:nvSpPr>
          <p:cNvPr id="212" name=""/>
          <p:cNvSpPr/>
          <p:nvPr/>
        </p:nvSpPr>
        <p:spPr>
          <a:xfrm>
            <a:off x="260280" y="4500720"/>
            <a:ext cx="5829480" cy="37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ثورة الغضب:</a:t>
            </a:r>
            <a:endParaRPr b="0" lang="en-US" sz="2400" spc="-1" strike="noStrike">
              <a:solidFill>
                <a:srgbClr val="000000"/>
              </a:solidFill>
              <a:latin typeface="Arial"/>
            </a:endParaRPr>
          </a:p>
        </p:txBody>
      </p:sp>
      <p:sp>
        <p:nvSpPr>
          <p:cNvPr id="213" name=""/>
          <p:cNvSpPr/>
          <p:nvPr/>
        </p:nvSpPr>
        <p:spPr>
          <a:xfrm>
            <a:off x="304920" y="4979880"/>
            <a:ext cx="5790960" cy="35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يبدو أن الغضب هو أكثر الحالات تصلباً وعناداً من بين كل الحالات التي يرغب الناس في الهروب منها، فقد انتهت (تايس) من دراستها إلى أن الغضب هو أسوأ الحالات النفسية التي يصعب السيطرة عليها. والغضب هو أكثر هذه الحالات غواية وخطأ على العواطف السلبية، ذلك لأن المونولوج الداخلي الذي يحث على الغضب والمبرر أخلاقياً، يملأ عقل الغاضب بالذرائع المقنعة ليصب جام غضبه.. والغضب ليس مثل الحزن، لأنه انفعال يولد الطاقة والتنبه.. فالغضب لديه قدرة على الإغواء والحفز، وربما كان هذا هو السبب في الأفكار الشائعة عنه بأنه يصعب التحكم فيه أو أنه لا ينبغي كظمه.. بل أكثر من ذلك، أن التنفيس بالغضب يطهر النفس وهو في مصلحة الغاضب، أما الرأي الآخر المضاد للرأي السالف والذي قد يكون رد فعل على الصورة الكئيبة التي يرسمها الرأيان الآخران، فيتمثل في القول إن الغضب يمكن الحيلولة دون حدوثه تماماً</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الواقع أن تسلسل الأفكار الغاضبة الذي يؤجج الغضب، من الممكن أن يكون هو نفسه مفتاح أقوى الوسائل للتخفيف من شدة الغضب، وذلك بوضع حد للأفكار التي توقد نار الغضب في مهدها.. وكلما طال الوقت الذي نجتر فيه الأسباب التي أثارت غضبنا، وجدنا (أسباباً طيبة) نلفقها ونخترعها لنبرر بها لأنفسنا أسباب غضبنا، لكن إذا نظرنا للأمور بشكل مختلف فسوف تهدأ هذه النيران المشتعلة. وهذا ما انتهت إليه (تايس) في بحثها فقد وجدت أن إعادة وضع موقف ما إيجابياً في إطاره، كان أكثر السبل الفعالة لوقف الغضب</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ي القسم الثالث من الكتاب يبحث المؤلف في بعض الاختلافات الأساسية المترتبة على هذه القدرات مثل: كيف يمكن بهذه القدرات أن نصون علاقتنا الأكثر أهمية أو كيف يفسد الافتقار إلى هذه القدرات تلك العلاقات.. وكيف تسبغ قوى السوق التي تعيد تشكيل حياتنا العملية أهمية غير مسبوقة على الذكاء الوجداني من أجل تحقيق النجاح في العمل. وكيف تتسبب العواطف المسمومة في تهديد صحتنا الجسدية وإصابتها بالمخاطر، تماماً كما يفعل الإفراط في التدخين، في الوقت الذي يمكن للتوازن الوجداني  أن يحمي صحتنا وسعادتنا على حد سواء</a:t>
            </a:r>
            <a:r>
              <a:rPr b="1" lang="ar-SA" sz="1300" spc="-1" strike="noStrike">
                <a:solidFill>
                  <a:srgbClr val="000000"/>
                </a:solidFill>
                <a:latin typeface="Arial"/>
              </a:rPr>
              <a:t>..</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EF4D8470-5527-478E-BB93-450BB788E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أعداء الحميمون:</a:t>
            </a:r>
            <a:endParaRPr b="0" lang="en-US" sz="4000" spc="-1" strike="noStrike">
              <a:solidFill>
                <a:srgbClr val="000000"/>
              </a:solidFill>
              <a:latin typeface="Arial"/>
            </a:endParaRPr>
          </a:p>
        </p:txBody>
      </p:sp>
      <p:sp>
        <p:nvSpPr>
          <p:cNvPr id="215" name="PlaceHolder 2"/>
          <p:cNvSpPr>
            <a:spLocks noGrp="1"/>
          </p:cNvSpPr>
          <p:nvPr>
            <p:ph type="subTitle"/>
          </p:nvPr>
        </p:nvSpPr>
        <p:spPr>
          <a:xfrm>
            <a:off x="304920" y="1523520"/>
            <a:ext cx="5790960" cy="2057400"/>
          </a:xfrm>
          <a:prstGeom prst="rect">
            <a:avLst/>
          </a:prstGeom>
          <a:noFill/>
          <a:ln w="9360">
            <a:solidFill>
              <a:srgbClr val="000000"/>
            </a:solidFill>
            <a:miter/>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ذا نظرنا اليوم إلى معدلات الطلاق، فسنجد أنها أصبحت معدلات سنوية ثابتة بدرجة أو بأخرى.. لكن هناك طريقة أخرى لحساب معدلات الطلاق تشير إلى قفزة خطيرة في هذه المعدلات، إذا نظرنا إلى الخلافات الخطيرة التي تنشأ بين المتزوجين حديثاً وتنتهي أخيراً بالطلاق.. وعلى الرغم من ثبات معدلات الطلاق الإجمالية، فإن خطر الطلاق قد انتقل إلى الزيجات الحديثة</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إذا ناقشنا هذا التصاعد في حالات الطلاق، فسنجد أنه يرجع بدرجة كبيرة إلى انخفاض في مستوى الذكاء الوجداني ، وتراجع الضغوط الاجتماعية، المتمثلة في وصمة العار التي تلحق بالمطلق أو المطلقة، أو في اعتماد الزوجات الاقتصادي على أزواجهن، الذي ظل سبباً في بقائهن معهم حتى لو كانوا أسوأ الأزواج. أما بعد أن أصبحت الضغوط الاجتماعية لا تمثل العامل الذي يبقي على العلاقة الزوجية، فقد باتت العلاقة الوجداني ة بين الزوج والزوجة أهم وأخطر العوامل التي تبقي على الزواج، إذا أراد كل من الزوجين لارتباطهما أن يدوم</a:t>
            </a:r>
            <a:r>
              <a:rPr b="1" lang="ar-SA"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16" name="" descr="">
            <a:hlinkClick r:id="rId1"/>
          </p:cNvPr>
          <p:cNvPicPr/>
          <p:nvPr/>
        </p:nvPicPr>
        <p:blipFill>
          <a:blip r:embed="rId2"/>
          <a:stretch/>
        </p:blipFill>
        <p:spPr>
          <a:xfrm>
            <a:off x="4800600" y="347760"/>
            <a:ext cx="871560" cy="871560"/>
          </a:xfrm>
          <a:prstGeom prst="rect">
            <a:avLst/>
          </a:prstGeom>
          <a:ln w="0">
            <a:noFill/>
          </a:ln>
        </p:spPr>
      </p:pic>
      <p:sp>
        <p:nvSpPr>
          <p:cNvPr id="217" name=""/>
          <p:cNvSpPr/>
          <p:nvPr/>
        </p:nvSpPr>
        <p:spPr>
          <a:xfrm>
            <a:off x="380880" y="380988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ــــنقد البــــــارع :</a:t>
            </a:r>
            <a:endParaRPr b="0" lang="en-US" sz="3200" spc="-1" strike="noStrike">
              <a:solidFill>
                <a:srgbClr val="000000"/>
              </a:solidFill>
              <a:latin typeface="Arial"/>
            </a:endParaRPr>
          </a:p>
        </p:txBody>
      </p:sp>
      <p:sp>
        <p:nvSpPr>
          <p:cNvPr id="218" name=""/>
          <p:cNvSpPr/>
          <p:nvPr/>
        </p:nvSpPr>
        <p:spPr>
          <a:xfrm>
            <a:off x="304920" y="4419720"/>
            <a:ext cx="5790960" cy="396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هاري لفنسون المحلل السيكولوجي، النصيحة التالية حول (فن النقد) الذي يتضافر مع فن الإطراء</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محدداً: التقط حدثاً له دلالة، هدفاً يوضح مشكلة رئيسية تحتاج إلى التغيير، أو نموذجاً يمثل عدم الكفاءة، مثل عدم القدرة على أداء أجزاء معينة من العمل بصورة جيدة.. هذا لأن ما يثبط معنويات الإنسان هو أن يسمع أنه أخطأ في عمل شيء ما دون أن يعرف على وجه التحديد ما هذا الخطأ لكي يعمل على تصحيحه.. فلابد من التركيز على التحديد</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تذكر الشيء الجيد الذي فعله الإنسان، وما فعله بالتحديد بصورة ضعيفة، وكيف يمكن تغييره؟</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دم حلاً: فالنقد مثل كل تغذية مركزة مفيدة، يجب أن يشير إلى طريقة تحدد المشكلة تماماً، وإلا فسوف تترك المتلقي في حالة إحباط ومعنويات منخفضة ودون دافع للقيام بعمل، لأن النقد قد يفتح الباب إلى إمكانات وبدائل لم يتبين الشخص نفسه وجودها، أو يثير - ببساطة - الحساسية بأوجه النقص التي تستلزم الانتباه، وما يجب أن يصاحبه من اقتراحات حول أسلوب الاهتمام بهذه المشاكل</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اضراً: لأن النقد مثل المديح، أكثر فعالية حين يقال وحينما يوجه للشخص نفسه على انفراد.. ونحن نلاحظ أن أولئك الناقدين غير المريحين يوجهون دائماً نقدهم سلباً أو إيجاباً من على بعد، كما لو أنهم يزيحون عبئاً عن أنفسهم</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ساساً: هذه دعوة للتعاطف مع الآخر، ليكون متناغماً مع ما تقوله، وكيف يكون وقعه على الشخص المتلقي</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ليفنسون أيضاً بعض النصائح الوجداني ة في آخر الأمر لمن يتلقون النقد قائلاً: يجب أن ينظر الإنسان إلى النقد كمعلومة لها قيمتها حول كيفية تحسين العمل وليس بوصفه هجوماً شخصياً، والأمر الآخر أن تراقب حافزك إلى اتخاذ موقف دفاعي بدلاً من تحمل المسؤولية</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أخيراً ينصح ليفنسون الجميع أن ينظروا إلى النقد بوصفه فرصة للناقد والمنتقد للعمل معاً بهدف حل المشكلة، وليس بوصفه حالة خصومة بينهما</a:t>
            </a:r>
            <a:r>
              <a:rPr b="1" lang="ar-SA"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ED8E1ED-A813-4537-AC9F-0D8561B3E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304560"/>
            <a:ext cx="5829480" cy="6858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ـــذور التعصب  :</a:t>
            </a:r>
            <a:endParaRPr b="0" lang="en-US" sz="3200" spc="-1" strike="noStrike">
              <a:solidFill>
                <a:srgbClr val="000000"/>
              </a:solidFill>
              <a:latin typeface="Arial"/>
            </a:endParaRPr>
          </a:p>
        </p:txBody>
      </p:sp>
      <p:sp>
        <p:nvSpPr>
          <p:cNvPr id="220" name="PlaceHolder 2"/>
          <p:cNvSpPr>
            <a:spLocks noGrp="1"/>
          </p:cNvSpPr>
          <p:nvPr>
            <p:ph type="subTitle"/>
          </p:nvPr>
        </p:nvSpPr>
        <p:spPr>
          <a:xfrm>
            <a:off x="304920" y="1142640"/>
            <a:ext cx="5790960" cy="20574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عتبر حالات التعصب نوعاً من التعلم الوجداني  الذي يجري في تيار الحياة منذ وقت مبكر، مكوناً ردود أفعال يصعب استئصالها كلية.. يحدث هذا أيضا حتى مع من يشعرون وهم شباب بخطأ الاقتناع بهذه الأفكار المتعصب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يفسر هذه الحقيقة توماس بيتجرو المتخصص في السيكولوجيا الاجتماعية، بجامعة كاليفورنيا، والذي درس مشكلة التعصب على مدى عقود قائلاً: قد يحدث في وقت متأخر من حياتك أن تغير تعصبك هذا، لكنك ستكتشف أنه من السهل عليك كثيراً أن تغير من معتقداتك الفكرية عن تغيير مشاعرك العميق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أتي جزئياً الأفكار النمطية الشائعة التي تكرس التعصب من آليات أكثر حيادية في العقل الذي يجعل كل أنواع الأفكار النمطية مؤكدة بذاتها. هذا لأن الناس عموماً على استعداد سريع لتذكر اللحظات التي تؤيد الأفكار من هذا النوع، بينما ينزعون إلى إسقاط اللحظات التي تتحدى هذه الأفكار..</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21" name="" descr="">
            <a:hlinkClick r:id="rId1"/>
          </p:cNvPr>
          <p:cNvPicPr/>
          <p:nvPr/>
        </p:nvPicPr>
        <p:blipFill>
          <a:blip r:embed="rId2"/>
          <a:stretch/>
        </p:blipFill>
        <p:spPr>
          <a:xfrm>
            <a:off x="4797360" y="395280"/>
            <a:ext cx="573120" cy="573120"/>
          </a:xfrm>
          <a:prstGeom prst="rect">
            <a:avLst/>
          </a:prstGeom>
          <a:ln w="0">
            <a:noFill/>
          </a:ln>
        </p:spPr>
      </p:pic>
      <p:sp>
        <p:nvSpPr>
          <p:cNvPr id="222" name=""/>
          <p:cNvSpPr/>
          <p:nvPr/>
        </p:nvSpPr>
        <p:spPr>
          <a:xfrm>
            <a:off x="380880" y="342900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تر </a:t>
            </a:r>
            <a:r>
              <a:rPr b="1" lang="ar-KW" sz="2800" spc="-1" strike="noStrike">
                <a:solidFill>
                  <a:srgbClr val="000000"/>
                </a:solidFill>
                <a:latin typeface="Arial"/>
              </a:rPr>
              <a:t>:</a:t>
            </a:r>
            <a:r>
              <a:rPr b="1" lang="ar-SA" sz="2800" spc="-1" strike="noStrike">
                <a:solidFill>
                  <a:srgbClr val="000000"/>
                </a:solidFill>
                <a:latin typeface="Arial"/>
              </a:rPr>
              <a:t> قلق أكثر من اللازم و في غير محله  :</a:t>
            </a:r>
            <a:endParaRPr b="0" lang="en-US" sz="2800" spc="-1" strike="noStrike">
              <a:solidFill>
                <a:srgbClr val="000000"/>
              </a:solidFill>
              <a:latin typeface="Arial"/>
            </a:endParaRPr>
          </a:p>
        </p:txBody>
      </p:sp>
      <p:sp>
        <p:nvSpPr>
          <p:cNvPr id="223" name=""/>
          <p:cNvSpPr/>
          <p:nvPr/>
        </p:nvSpPr>
        <p:spPr>
          <a:xfrm>
            <a:off x="304920" y="4038480"/>
            <a:ext cx="5790960" cy="434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ظ السيكولوجي (بروس ماكوين) بجامعة بيل في بحث موسّع نشره عام </a:t>
            </a:r>
            <a:r>
              <a:rPr b="1" lang="ar-SA" sz="1400" spc="-1" strike="noStrike">
                <a:solidFill>
                  <a:srgbClr val="000000"/>
                </a:solidFill>
                <a:latin typeface="Arial"/>
              </a:rPr>
              <a:t>1993</a:t>
            </a:r>
            <a:r>
              <a:rPr b="1" lang="ar-SA" sz="1400" spc="-1" strike="noStrike">
                <a:solidFill>
                  <a:srgbClr val="000000"/>
                </a:solidFill>
                <a:latin typeface="Arial"/>
              </a:rPr>
              <a:t>م حول العلاقة بين التوتر والمرض، لاحظ مجموعة كبيرة من التأثيرات.. وجد أن وظيفة المناعة قد تغيرت إلى درجة يتسارع فيها العامل المسبب للسرطان، وزادت سرعة التأثر بالعدوى الفيروسية كما تفاقم تكون الصفائح المسببة لتصلب الشرايين وتجلط الدم المؤدي إلى الذبحة الصدرية. كما عجل القلق أيضاً ببداية مرض السكر وأثر في نتيجة علاجه، وزاد من نوبات الربو.. وقد يؤدي التوتر أيضا إلى حدوث قرحة في المعدة، ويفاقم أعراض التهاب غشاء القولون المخاطي، والتهاب الأمعاء.. ويتعرض المخ ذاته نتيجة لتأثير التوتر المستمر، للإجهاد الشديد الذي يضر (قرن آمون) وبالتالي يضر الذاكرة نفسه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كلمة الأخيرة التي جاءت ختاما لهذا الكتاب الرائع يقول المؤلف</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بينما كنت على وشك الانتهاء من هذا الكتاب، لفت انتباهي بعض الأخبار الصحافية المثيرة للقلق، تعلن أن الأسلحة أصبحت أول أسباب الموت في أمريك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ما الخبر الثاني فقد جاء فيه أن معدل الجريمة في العام الماضي ارتفع إلى </a:t>
            </a:r>
            <a:r>
              <a:rPr b="1" lang="ar-SA" sz="1400" spc="-1" strike="noStrike">
                <a:solidFill>
                  <a:srgbClr val="000000"/>
                </a:solidFill>
                <a:latin typeface="Arial"/>
              </a:rPr>
              <a:t>3</a:t>
            </a:r>
            <a:r>
              <a:rPr b="1" lang="ar-SA" sz="1400" spc="-1" strike="noStrike">
                <a:solidFill>
                  <a:srgbClr val="000000"/>
                </a:solidFill>
                <a:latin typeface="Arial"/>
              </a:rPr>
              <a:t>% أما مصدر الانزعاج الأكبر فقد أورده الخبر الذي تنبأ على لسان أحد علماء الجريمة، بأننا نعيش الآن فترة هجوع تسبق عاصفة إجرامية ستهب علينا في العقد القادم.. والسبب في رأيه أن الجرائم التي يرتكبها المراهقون في سن الرابعة عشرة والخامسة عشرة في تصاعد مستمر.. هذه المجموعة السنية ستبلغ من العمر في العقد القادم الثامنة عشرة إلى الرابعة والعشرين، أي العمر الذي تصل فيه جرائم العنف إلى الذروة لدى المنخرط في العمل الإجرامي</a:t>
            </a:r>
            <a:r>
              <a:rPr b="1" lang="ar-SA"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7F29301-99EB-424D-A529-DDE1F105D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6840"/>
            <a:ext cx="6172200" cy="1180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ذكاء الوجداني </a:t>
            </a:r>
            <a:br>
              <a:rPr sz="2800"/>
            </a:br>
            <a:r>
              <a:rPr b="1" lang="ar-SA" sz="4000" spc="-1" strike="noStrike">
                <a:solidFill>
                  <a:srgbClr val="000000"/>
                </a:solidFill>
                <a:latin typeface="Arial"/>
              </a:rPr>
              <a:t>مصطلحات</a:t>
            </a:r>
            <a:endParaRPr b="0" lang="en-US" sz="4000" spc="-1" strike="noStrike">
              <a:solidFill>
                <a:srgbClr val="000000"/>
              </a:solidFill>
              <a:latin typeface="Arial"/>
            </a:endParaRPr>
          </a:p>
        </p:txBody>
      </p:sp>
      <p:sp>
        <p:nvSpPr>
          <p:cNvPr id="82" name="PlaceHolder 2"/>
          <p:cNvSpPr>
            <a:spLocks noGrp="1"/>
          </p:cNvSpPr>
          <p:nvPr>
            <p:ph/>
          </p:nvPr>
        </p:nvSpPr>
        <p:spPr>
          <a:xfrm>
            <a:off x="404280" y="1692360"/>
            <a:ext cx="6193080" cy="6912000"/>
          </a:xfrm>
          <a:prstGeom prst="rect">
            <a:avLst/>
          </a:prstGeom>
          <a:noFill/>
          <a:ln w="9360">
            <a:solidFill>
              <a:srgbClr val="000000"/>
            </a:solidFill>
            <a:miter/>
          </a:ln>
        </p:spPr>
        <p:txBody>
          <a:bodyPr lIns="90000" rIns="90000" tIns="46800" bIns="46800" anchor="t">
            <a:normAutofit fontScale="84000"/>
          </a:bodyPr>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الذكاء هو مجموعة من القدرات العقلية التي تمكن من اكتساب المعرفة و التعلم و حل المشكلات.  أما الانفعال </a:t>
            </a:r>
            <a:r>
              <a:rPr b="1" lang="en-US" sz="1300" spc="-1" strike="noStrike">
                <a:solidFill>
                  <a:srgbClr val="000000"/>
                </a:solidFill>
                <a:latin typeface="Arial"/>
              </a:rPr>
              <a:t>Emotion</a:t>
            </a:r>
            <a:r>
              <a:rPr b="1" lang="ar-SA" sz="1300" spc="-1" strike="noStrike">
                <a:solidFill>
                  <a:srgbClr val="000000"/>
                </a:solidFill>
                <a:latin typeface="Arial"/>
              </a:rPr>
              <a:t>، فيعرفها معجم السمات الوجدانية بأنه "حالة وجدانية حادة و فجائية، مضطربة و غير منظمة، تختلف عن الحالة الاعتيادية للفرد، تتسم بالاستثارة و التنبيه و التوتر و الرغبة في القيام بعمل ما، و للانفعال مكونات داخلية (فيزيولوجية و شعورية و معرفية)، و خارجية (سلوكية مثل تعبيرات الوجه)، و تعتمد هذه الحالة على مواقف معينة، و تستثير ردود أفعال الفرد المتطرفة و التي توجه عادة نحو مصدر الانفعال، و يشمل الانفعال بوجه عام مشاعر قوية أو حالات وجدانية إيجابية أو سلبية". و الانفعالات تساعد الفرد على التكيف أمام مواقف الحياة ذات الصلة بالبقاء.</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Andalus"/>
              </a:rPr>
              <a:t>أما الذكاء الانفعالي</a:t>
            </a:r>
            <a:r>
              <a:rPr b="1" lang="ar-SA" sz="1300" spc="-1" strike="noStrike">
                <a:solidFill>
                  <a:srgbClr val="000000"/>
                </a:solidFill>
                <a:latin typeface="Arial"/>
              </a:rPr>
              <a:t> فهو يجمع بين الجانب العقلي و الجانب الانفعالي للفرد، </a:t>
            </a:r>
            <a:r>
              <a:rPr b="1" lang="ar-KW" sz="1300" spc="-1" strike="noStrike">
                <a:solidFill>
                  <a:srgbClr val="000000"/>
                </a:solidFill>
                <a:latin typeface="Arial"/>
              </a:rPr>
              <a:t>و يقدم "ماير و سالوفي "  (</a:t>
            </a:r>
            <a:r>
              <a:rPr b="1" lang="ar-KW" sz="1300" spc="-1" strike="noStrike">
                <a:solidFill>
                  <a:srgbClr val="000000"/>
                </a:solidFill>
                <a:latin typeface="Arial"/>
              </a:rPr>
              <a:t>1997</a:t>
            </a:r>
            <a:r>
              <a:rPr b="1" lang="ar-KW" sz="1300" spc="-1" strike="noStrike">
                <a:solidFill>
                  <a:srgbClr val="000000"/>
                </a:solidFill>
                <a:latin typeface="Arial"/>
              </a:rPr>
              <a:t>)</a:t>
            </a:r>
            <a:r>
              <a:rPr b="1" lang="en-US" sz="1300" spc="-1" strike="noStrike">
                <a:solidFill>
                  <a:srgbClr val="000000"/>
                </a:solidFill>
                <a:latin typeface="Arial"/>
              </a:rPr>
              <a:t> </a:t>
            </a:r>
            <a:r>
              <a:rPr b="1" lang="ar-KW" sz="1300" spc="-1" strike="noStrike">
                <a:solidFill>
                  <a:srgbClr val="000000"/>
                </a:solidFill>
                <a:latin typeface="Arial"/>
              </a:rPr>
              <a:t>تعريفاً للذكاء الوجداني، يجمع بين فكرة أن الانفعال يجعل تفكيرنا أكثر ذكاءً، و فكرة التفكير بشكل ذكي نحو حالاتنا الانفعالية، و يركز على القدرة على إدراك و تنظيم الانفعالات، و التفكير فيها، و هو أن "</a:t>
            </a:r>
            <a:r>
              <a:rPr b="1" i="1" lang="ar-KW" sz="1300" spc="-1" strike="noStrike">
                <a:solidFill>
                  <a:srgbClr val="000000"/>
                </a:solidFill>
                <a:latin typeface="Arial"/>
              </a:rPr>
              <a:t>الذكاء الوجادني يشمل القدرة على إدراك الانفعالات بدقة، و تقييمها، و التعبير عنها، و القدرة على توليد الانفعالات، أو الوصول إليها عندما تيسر عملية التفكير، و القدرة على فهم الانفعال و المعرفة الوجدانية،  و القدرة على تنظيم الانفعالات بما يعزز النمو الوجداني و العقلي</a:t>
            </a:r>
            <a:r>
              <a:rPr b="1" lang="ar-KW" sz="1300" spc="-1" strike="noStrike">
                <a:solidFill>
                  <a:srgbClr val="000000"/>
                </a:solidFill>
                <a:latin typeface="Arial"/>
              </a:rPr>
              <a:t>".</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التعريف المشار إليه يعرف الذكاء الوجد</a:t>
            </a:r>
            <a:r>
              <a:rPr b="1" lang="ar-SA" sz="1300" spc="-1" strike="noStrike">
                <a:solidFill>
                  <a:srgbClr val="000000"/>
                </a:solidFill>
                <a:latin typeface="Arial"/>
              </a:rPr>
              <a:t>ا</a:t>
            </a:r>
            <a:r>
              <a:rPr b="1" lang="ar-KW" sz="1300" spc="-1" strike="noStrike">
                <a:solidFill>
                  <a:srgbClr val="000000"/>
                </a:solidFill>
                <a:latin typeface="Arial"/>
              </a:rPr>
              <a:t>ني من خلال مجموعة من القدرات المنفصلة، و لكنها متجانسة مع بعضها، بمعنى أن الفرد قد يكون عالي القدرة في فهم انفعالات الآخرين من خلال حساسيته في قراءة إشارات الوجه غير اللغوية، و التمييز بين التعابير الصادقة و غير الصادقة مثلاً، و لكنه منخفض القدرة في تنظيم انفعالاته و التعبير عنها. و مفهوم القدرة يشير إلى توقع انتشار الأفراد إعتدالياً على طرفي منحنى القدرة.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لعله من المناسب هنا أن تقوم بتحديد ما نعنيه هنا بجملة من المصطلحات النفسية ذات الصلة بمفهوم الانفعال الذي عرفناه سابقاً، و تحديداً المزاج، و المشاعر، و العواطف، و الوجدان، و الأحاسيس.</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المزاج </a:t>
            </a:r>
            <a:r>
              <a:rPr b="1" lang="en-US" sz="1300" spc="-1" strike="noStrike">
                <a:solidFill>
                  <a:srgbClr val="000000"/>
                </a:solidFill>
                <a:latin typeface="Arial"/>
              </a:rPr>
              <a:t>Mood</a:t>
            </a:r>
            <a:r>
              <a:rPr b="1" lang="en-US" sz="1300" spc="-1" strike="noStrike">
                <a:solidFill>
                  <a:srgbClr val="000000"/>
                </a:solidFill>
                <a:latin typeface="Arial"/>
              </a:rPr>
              <a:t>  </a:t>
            </a:r>
            <a:r>
              <a:rPr b="1" lang="ar-SA" sz="1300" spc="-1" strike="noStrike">
                <a:solidFill>
                  <a:srgbClr val="000000"/>
                </a:solidFill>
                <a:latin typeface="Arial"/>
              </a:rPr>
              <a:t>أو الحالة المزاجية، فهي حالة انفعالية أقل حدة نسبياً في شدتها من الانفعال، تحدث لسبب مجهول، </a:t>
            </a:r>
            <a:r>
              <a:rPr b="1" lang="ar-KW" sz="1300" spc="-1" strike="noStrike">
                <a:solidFill>
                  <a:srgbClr val="000000"/>
                </a:solidFill>
                <a:latin typeface="Arial"/>
              </a:rPr>
              <a:t>و غالباً ما يكون مصدرها هرمونات الجسم، في حين أن الانفعال</a:t>
            </a:r>
            <a:r>
              <a:rPr b="1" lang="ar-SA" sz="1300" spc="-1" strike="noStrike">
                <a:solidFill>
                  <a:srgbClr val="000000"/>
                </a:solidFill>
                <a:latin typeface="Arial"/>
              </a:rPr>
              <a:t> غالباً ما يكون معلوم المصدر، و يستمر المزاج مدة أطول نسبياً من الإنفعال</a:t>
            </a:r>
            <a:r>
              <a:rPr b="1" lang="ar-KW" sz="1300" spc="-1" strike="noStrike">
                <a:solidFill>
                  <a:srgbClr val="000000"/>
                </a:solidFill>
                <a:latin typeface="Arial"/>
              </a:rPr>
              <a:t>، الذي يحدث و يختفي بصورة أسرع من المزاج.  و من الممكن أن ينشأ المزاج بعد الانفعال، كما في تحول انفعال الحزن، إذا استمر مدة طويلة و انخفضت حدته، إلى أسى</a:t>
            </a:r>
            <a:r>
              <a:rPr b="1" lang="ar-SA" sz="1300" spc="-1" strike="noStrike">
                <a:solidFill>
                  <a:srgbClr val="000000"/>
                </a:solidFill>
                <a:latin typeface="Arial"/>
              </a:rPr>
              <a:t>.</a:t>
            </a:r>
            <a:r>
              <a:rPr b="1" lang="ar-KW" sz="1300" spc="-1" strike="noStrike">
                <a:solidFill>
                  <a:srgbClr val="000000"/>
                </a:solidFill>
                <a:latin typeface="Arial"/>
              </a:rPr>
              <a:t> و يفضل عبدالخالق هنا استخدام مصطلح الحالة الانفعالية الممتدة بدلاً من المزاج، و يرى أن المزاج يقابله مصطلح </a:t>
            </a:r>
            <a:r>
              <a:rPr b="1" lang="en-US" sz="1300" spc="-1" strike="noStrike">
                <a:solidFill>
                  <a:srgbClr val="000000"/>
                </a:solidFill>
                <a:latin typeface="Arial"/>
              </a:rPr>
              <a:t>Temperament</a:t>
            </a:r>
            <a:r>
              <a:rPr b="1" lang="ar-KW" sz="1300" spc="-1" strike="noStrike">
                <a:solidFill>
                  <a:srgbClr val="000000"/>
                </a:solidFill>
                <a:latin typeface="Arial"/>
              </a:rPr>
              <a:t> بالإنجليزية، و الذي هو قابلية أو تهيؤ أو ميل  الفرد للاستجابة الإنفعالية بطريق معينة مع مواقف الحياة المختلفة، كميل البعض للحساسية و التهيج، أو للهدوء و السكينة، و يبدو أن الوراثة لها تأثيرها في مثل هذا الاستعداد.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أما المشاعر</a:t>
            </a:r>
            <a:r>
              <a:rPr b="1" lang="en-US" sz="1300" spc="-1" strike="noStrike">
                <a:solidFill>
                  <a:srgbClr val="000000"/>
                </a:solidFill>
                <a:latin typeface="Arial"/>
              </a:rPr>
              <a:t>Feelings</a:t>
            </a:r>
            <a:r>
              <a:rPr b="1" lang="ar-KW" sz="1300" spc="-1" strike="noStrike">
                <a:solidFill>
                  <a:srgbClr val="000000"/>
                </a:solidFill>
                <a:latin typeface="Arial"/>
              </a:rPr>
              <a:t>، فتشير إلى الجانب الحسي من الخبرة الإنفعالية، كالشعور بالدفء أو الراحة، و بذلك يمكن إعتبارها المكون الحسي للإنفعال. كما يمكن اعتبار المشاعر، بهذا المعني، كلمة مرادفة للاحساس. </a:t>
            </a:r>
            <a:r>
              <a:rPr b="1" lang="ar-SA" sz="1300" spc="-1" strike="noStrike">
                <a:solidFill>
                  <a:srgbClr val="000000"/>
                </a:solidFill>
                <a:latin typeface="Arial"/>
              </a:rPr>
              <a:t>العاطفة </a:t>
            </a:r>
            <a:r>
              <a:rPr b="1" lang="en-US" sz="1300" spc="-1" strike="noStrike">
                <a:solidFill>
                  <a:srgbClr val="000000"/>
                </a:solidFill>
                <a:latin typeface="Arial"/>
              </a:rPr>
              <a:t>Sentiment</a:t>
            </a:r>
            <a:r>
              <a:rPr b="1" lang="en-US" sz="1300" spc="-1" strike="noStrike">
                <a:solidFill>
                  <a:srgbClr val="000000"/>
                </a:solidFill>
                <a:latin typeface="Arial"/>
              </a:rPr>
              <a:t>  </a:t>
            </a:r>
            <a:r>
              <a:rPr b="1" lang="ar-KW" sz="1300" spc="-1" strike="noStrike">
                <a:solidFill>
                  <a:srgbClr val="000000"/>
                </a:solidFill>
                <a:latin typeface="Arial"/>
              </a:rPr>
              <a:t>، من جانب آخر، تعني </a:t>
            </a:r>
            <a:r>
              <a:rPr b="1" lang="ar-SA" sz="1300" spc="-1" strike="noStrike">
                <a:solidFill>
                  <a:srgbClr val="000000"/>
                </a:solidFill>
                <a:latin typeface="Arial"/>
              </a:rPr>
              <a:t>استعداداً كامناً نسبياً و مركبا ًمن عدة انفعالات حول موضوع معين.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يمكن اعتبار الوجدان </a:t>
            </a:r>
            <a:r>
              <a:rPr b="1" lang="en-US" sz="1300" spc="-1" strike="noStrike">
                <a:solidFill>
                  <a:srgbClr val="000000"/>
                </a:solidFill>
                <a:latin typeface="Arial"/>
              </a:rPr>
              <a:t>Affect</a:t>
            </a:r>
            <a:r>
              <a:rPr b="1" lang="ar-KW" sz="1300" spc="-1" strike="noStrike">
                <a:solidFill>
                  <a:srgbClr val="000000"/>
                </a:solidFill>
                <a:latin typeface="Arial"/>
              </a:rPr>
              <a:t> مصطلح عام جامع يشمل على الانفعال، و المشاعر، و المزاج، رغم أن بعض الباحثين يرادف بينها. و يمكن القول بأن الوجدان أعم من الإنفعال.</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لقد </a:t>
            </a:r>
            <a:r>
              <a:rPr b="1" lang="ar-SA" sz="1300" spc="-1" strike="noStrike">
                <a:solidFill>
                  <a:srgbClr val="000000"/>
                </a:solidFill>
                <a:latin typeface="Arial"/>
              </a:rPr>
              <a:t>لاحظ الباحث عدة ترجمات عربية لإصطلاح </a:t>
            </a:r>
            <a:r>
              <a:rPr b="1" lang="en-US" sz="1300" spc="-1" strike="noStrike">
                <a:solidFill>
                  <a:srgbClr val="000000"/>
                </a:solidFill>
                <a:latin typeface="Arial"/>
              </a:rPr>
              <a:t>Emotional Intelligence</a:t>
            </a:r>
            <a:r>
              <a:rPr b="1" lang="ar-SA" sz="1300" spc="-1" strike="noStrike">
                <a:solidFill>
                  <a:srgbClr val="000000"/>
                </a:solidFill>
                <a:latin typeface="Arial"/>
              </a:rPr>
              <a:t>، فإلى جانب "الذكاء الانفعالي"، هناك "الذكاء الوجداني"، و "الذكاء الوجداني "، و "ذكاء  المشاعر". و رغم أن الترجمة الحرفية للمفهوم هي الذكاء الإنفعالي، إلا أن هذه الترجمة قد يساء فهمها لدى الذين يميلون إلى حصر  اصطلاح "انفعال" في جوانبه غير السارة أو المرضية، كالخوف و الحزن و الغضب ،</a:t>
            </a:r>
            <a:r>
              <a:rPr b="1" lang="ar-KW" sz="1300" spc="-1" strike="noStrike">
                <a:solidFill>
                  <a:srgbClr val="000000"/>
                </a:solidFill>
                <a:latin typeface="Arial"/>
              </a:rPr>
              <a:t> و حصر </a:t>
            </a:r>
            <a:r>
              <a:rPr b="1" lang="ar-SA" sz="1300" spc="-1" strike="noStrike">
                <a:solidFill>
                  <a:srgbClr val="000000"/>
                </a:solidFill>
                <a:latin typeface="Arial"/>
              </a:rPr>
              <a:t>اصطلاح "العواطف"  في جوانب الانفعالات السارة، كالسرور و الحب. لذا قد يكون استخدام مصطلح "الذكاء الوجداني" أكثر شمولية لجوانب المفهوم السارة و غير السارة و أكثر  تقبلاً لدى أوساط العامة.  </a:t>
            </a:r>
            <a:endParaRPr b="0" lang="en-US" sz="1300" spc="-1" strike="noStrike">
              <a:solidFill>
                <a:srgbClr val="000000"/>
              </a:solidFill>
              <a:latin typeface="Arial"/>
            </a:endParaRPr>
          </a:p>
        </p:txBody>
      </p:sp>
      <p:pic>
        <p:nvPicPr>
          <p:cNvPr id="83" name="" descr="">
            <a:hlinkClick r:id="rId1"/>
          </p:cNvPr>
          <p:cNvPicPr/>
          <p:nvPr/>
        </p:nvPicPr>
        <p:blipFill>
          <a:blip r:embed="rId2"/>
          <a:stretch/>
        </p:blipFill>
        <p:spPr>
          <a:xfrm>
            <a:off x="5894280" y="457200"/>
            <a:ext cx="414360" cy="490680"/>
          </a:xfrm>
          <a:prstGeom prst="rect">
            <a:avLst/>
          </a:prstGeom>
          <a:ln w="0">
            <a:noFill/>
          </a:ln>
        </p:spPr>
      </p:pic>
      <p:pic>
        <p:nvPicPr>
          <p:cNvPr id="84" name="" descr="">
            <a:hlinkClick r:id="rId3"/>
          </p:cNvPr>
          <p:cNvPicPr/>
          <p:nvPr/>
        </p:nvPicPr>
        <p:blipFill>
          <a:blip r:embed="rId4"/>
          <a:stretch/>
        </p:blipFill>
        <p:spPr>
          <a:xfrm>
            <a:off x="533520" y="457200"/>
            <a:ext cx="414360" cy="490680"/>
          </a:xfrm>
          <a:prstGeom prst="rect">
            <a:avLst/>
          </a:prstGeom>
          <a:ln w="0">
            <a:noFill/>
          </a:ln>
        </p:spPr>
      </p:pic>
      <p:pic>
        <p:nvPicPr>
          <p:cNvPr id="85" name="" descr=""/>
          <p:cNvPicPr/>
          <p:nvPr/>
        </p:nvPicPr>
        <p:blipFill>
          <a:blip r:embed="rId5"/>
          <a:stretch/>
        </p:blipFill>
        <p:spPr>
          <a:xfrm>
            <a:off x="4979880" y="395280"/>
            <a:ext cx="825480" cy="1092240"/>
          </a:xfrm>
          <a:prstGeom prst="rect">
            <a:avLst/>
          </a:prstGeom>
          <a:ln w="0">
            <a:noFill/>
          </a:ln>
        </p:spPr>
      </p:pic>
      <p:sp>
        <p:nvSpPr>
          <p:cNvPr id="4" name="PlaceHolder 3"/>
          <p:cNvSpPr>
            <a:spLocks noGrp="1"/>
          </p:cNvSpPr>
          <p:nvPr>
            <p:ph type="sldNum" idx="3"/>
          </p:nvPr>
        </p:nvSpPr>
        <p:spPr/>
        <p:txBody>
          <a:bodyPr/>
          <a:p>
            <a:fld id="{FD0C2194-8FE8-4AD2-9B75-6216FB2FDF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304920"/>
            <a:ext cx="5829480" cy="379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وتر , قلق أكثر من اللازم و في غير محله  :</a:t>
            </a:r>
            <a:endParaRPr b="0" lang="en-US" sz="2000" spc="-1" strike="noStrike">
              <a:solidFill>
                <a:srgbClr val="000000"/>
              </a:solidFill>
              <a:latin typeface="Arial"/>
            </a:endParaRPr>
          </a:p>
        </p:txBody>
      </p:sp>
      <p:sp>
        <p:nvSpPr>
          <p:cNvPr id="225" name="PlaceHolder 2"/>
          <p:cNvSpPr>
            <a:spLocks noGrp="1"/>
          </p:cNvSpPr>
          <p:nvPr>
            <p:ph type="subTitle"/>
          </p:nvPr>
        </p:nvSpPr>
        <p:spPr>
          <a:xfrm>
            <a:off x="333360" y="826920"/>
            <a:ext cx="5867280" cy="266544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بدو نذر الشر في مقال ثالث، وفقاً لأرقام وزارة العدل الأمريكية التي تبين نسبة الأحداث المتهمين بارتكاب جرائم القتل، والهجوم الخطر والسطو، والاغتصاب، حيث أوضحت أن هذه النسبة قفزت في الفترة من العام </a:t>
            </a:r>
            <a:r>
              <a:rPr b="1" lang="ar-SA" sz="1400" spc="-1" strike="noStrike">
                <a:solidFill>
                  <a:srgbClr val="000000"/>
                </a:solidFill>
                <a:latin typeface="Arial"/>
              </a:rPr>
              <a:t>1988</a:t>
            </a:r>
            <a:r>
              <a:rPr b="1" lang="ar-SA" sz="1400" spc="-1" strike="noStrike">
                <a:solidFill>
                  <a:srgbClr val="000000"/>
                </a:solidFill>
                <a:latin typeface="Arial"/>
              </a:rPr>
              <a:t>م إلى العام </a:t>
            </a:r>
            <a:r>
              <a:rPr b="1" lang="ar-SA" sz="1400" spc="-1" strike="noStrike">
                <a:solidFill>
                  <a:srgbClr val="000000"/>
                </a:solidFill>
                <a:latin typeface="Arial"/>
              </a:rPr>
              <a:t>1992</a:t>
            </a:r>
            <a:r>
              <a:rPr b="1" lang="ar-SA" sz="1400" spc="-1" strike="noStrike">
                <a:solidFill>
                  <a:srgbClr val="000000"/>
                </a:solidFill>
                <a:latin typeface="Arial"/>
              </a:rPr>
              <a:t>م من </a:t>
            </a:r>
            <a:r>
              <a:rPr b="1" lang="ar-SA" sz="1400" spc="-1" strike="noStrike">
                <a:solidFill>
                  <a:srgbClr val="000000"/>
                </a:solidFill>
                <a:latin typeface="Arial"/>
              </a:rPr>
              <a:t>68</a:t>
            </a:r>
            <a:r>
              <a:rPr b="1" lang="ar-SA" sz="1400" spc="-1" strike="noStrike">
                <a:solidFill>
                  <a:srgbClr val="000000"/>
                </a:solidFill>
                <a:latin typeface="Arial"/>
              </a:rPr>
              <a:t>% إلى </a:t>
            </a:r>
            <a:r>
              <a:rPr b="1" lang="ar-SA" sz="1400" spc="-1" strike="noStrike">
                <a:solidFill>
                  <a:srgbClr val="000000"/>
                </a:solidFill>
                <a:latin typeface="Arial"/>
              </a:rPr>
              <a:t>80</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ؤلاء المراهقون هم أول جيل لا يملك فقط المسدسات، بل من السهل عليه الحصول على الأسلحة الأوتوماتيكية، تماماً كما كان من السهل على جيل آبائهم الحصول على المخدرات.. هذا الكم من الأسلحة التي في حوزة المراهقين، يعني أن الخلافات التي كانت في الماضي تؤدي إلى القتال بالأيدي، يمكن اليوم أن تؤدي بالفعل إلى استخدام الرصاص. وكما أشار خبير آخر إلى أن هؤلاء المراهقين ليسوا بالأخلاق التي تدفعهم إلى تجنب المشاجرات..</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من الأسباب التي تجعل هؤلاء المراهقين يفتقرون إلى المهارات الأساسية في الحياة، أننا مجتمع لم يعبأ بالتأكد من أن كل طفل أمريكي قد تعلم الأساسيات في التعامل مع الغضب، أو حل الصراعات حلاً إيجابياً، كما أننا لم نعبأ بتعليمهم التعاطف الوجداني مع الآخرين، والسيطرة على الاندفاع، أو أية كفاءة عاطفية من الكفاءات الجوهرية.. ومع إهمالنا تعليم أطفالنا الدروس الوجداني ة وتركها للمصادفات، فقد خاطرنا بفقدنا الفرص المتاحة التي تقدمها عملية نضج المخ المادي البطيء، لمساعدة الأطفال على تنمية مخزون عاطفي سليم وصحي..</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6" name=""/>
          <p:cNvSpPr/>
          <p:nvPr/>
        </p:nvSpPr>
        <p:spPr>
          <a:xfrm>
            <a:off x="333360" y="3564000"/>
            <a:ext cx="582948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بعـــــد  :</a:t>
            </a:r>
            <a:endParaRPr b="0" lang="en-US" sz="2000" spc="-1" strike="noStrike">
              <a:solidFill>
                <a:srgbClr val="000000"/>
              </a:solidFill>
              <a:latin typeface="Arial"/>
            </a:endParaRPr>
          </a:p>
        </p:txBody>
      </p:sp>
      <p:sp>
        <p:nvSpPr>
          <p:cNvPr id="227" name=""/>
          <p:cNvSpPr/>
          <p:nvPr/>
        </p:nvSpPr>
        <p:spPr>
          <a:xfrm>
            <a:off x="333360" y="3995640"/>
            <a:ext cx="5791320" cy="115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كتاب بأقسامه الخمسة تلك قدم رحلة رائعة وشيقة داخل النفس الإنسانية مستفيداً من أحدث الدراسات والنتائج العلمية</a:t>
            </a:r>
            <a:r>
              <a:rPr b="1" lang="ar-SA" sz="1600" spc="-1" strike="noStrike">
                <a:solidFill>
                  <a:srgbClr val="000000"/>
                </a:solidFill>
                <a:latin typeface="Arial"/>
              </a:rPr>
              <a:t>..</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هو كتاب جدير بالقراءة، ومحاولة الإستفادة مما ورد فيه على مدار </a:t>
            </a:r>
            <a:r>
              <a:rPr b="1" lang="ar-SA" sz="1600" spc="-1" strike="noStrike">
                <a:solidFill>
                  <a:srgbClr val="000000"/>
                </a:solidFill>
                <a:latin typeface="Arial"/>
              </a:rPr>
              <a:t>365</a:t>
            </a:r>
            <a:r>
              <a:rPr b="1" lang="ar-SA" sz="1600" spc="-1" strike="noStrike">
                <a:solidFill>
                  <a:srgbClr val="000000"/>
                </a:solidFill>
                <a:latin typeface="Arial"/>
              </a:rPr>
              <a:t> صفحة من القطع الوسط</a:t>
            </a:r>
            <a:r>
              <a:rPr b="1" lang="ar-SA"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28" name=""/>
          <p:cNvGraphicFramePr/>
          <p:nvPr/>
        </p:nvGraphicFramePr>
        <p:xfrm>
          <a:off x="3645000" y="5148360"/>
          <a:ext cx="2481120" cy="3078000"/>
        </p:xfrm>
        <a:graphic>
          <a:graphicData uri="http://schemas.openxmlformats.org/presentationml/2006/ole">
            <p:oleObj r:id="rId1" spid="">
              <p:embed/>
              <p:pic>
                <p:nvPicPr>
                  <p:cNvPr id="229" name="" descr=""/>
                  <p:cNvPicPr/>
                  <p:nvPr/>
                </p:nvPicPr>
                <p:blipFill>
                  <a:blip r:embed="rId2"/>
                  <a:stretch/>
                </p:blipFill>
                <p:spPr>
                  <a:xfrm>
                    <a:off x="3645000" y="5148360"/>
                    <a:ext cx="2481120" cy="3078000"/>
                  </a:xfrm>
                  <a:prstGeom prst="rect">
                    <a:avLst/>
                  </a:prstGeom>
                  <a:ln w="0">
                    <a:noFill/>
                  </a:ln>
                </p:spPr>
              </p:pic>
            </p:oleObj>
          </a:graphicData>
        </a:graphic>
      </p:graphicFrame>
      <p:sp>
        <p:nvSpPr>
          <p:cNvPr id="230" name=""/>
          <p:cNvSpPr/>
          <p:nvPr/>
        </p:nvSpPr>
        <p:spPr>
          <a:xfrm>
            <a:off x="4221000" y="5689440"/>
            <a:ext cx="13971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Monotype Koufi"/>
              </a:rPr>
              <a:t>والآن أشكر الله سبحانه وتعالى</a:t>
            </a:r>
            <a:endParaRPr b="0" lang="en-US" sz="2400" spc="-1" strike="noStrike">
              <a:solidFill>
                <a:srgbClr val="000000"/>
              </a:solidFill>
              <a:latin typeface="Arial"/>
            </a:endParaRPr>
          </a:p>
        </p:txBody>
      </p:sp>
      <p:grpSp>
        <p:nvGrpSpPr>
          <p:cNvPr id="231" name=""/>
          <p:cNvGrpSpPr/>
          <p:nvPr/>
        </p:nvGrpSpPr>
        <p:grpSpPr>
          <a:xfrm>
            <a:off x="641520" y="5219640"/>
            <a:ext cx="3363480" cy="2503440"/>
            <a:chOff x="641520" y="5219640"/>
            <a:chExt cx="3363480" cy="2503440"/>
          </a:xfrm>
        </p:grpSpPr>
        <p:sp>
          <p:nvSpPr>
            <p:cNvPr id="232" name=""/>
            <p:cNvSpPr/>
            <p:nvPr/>
          </p:nvSpPr>
          <p:spPr>
            <a:xfrm>
              <a:off x="641520" y="5219640"/>
              <a:ext cx="2794320" cy="2503440"/>
            </a:xfrm>
            <a:prstGeom prst="rect">
              <a:avLst/>
            </a:prstGeom>
            <a:solidFill>
              <a:srgbClr val="ffffff"/>
            </a:solidFill>
            <a:ln w="9360">
              <a:solidFill>
                <a:srgbClr val="000000"/>
              </a:solidFill>
              <a:miter/>
            </a:ln>
            <a:effectLst>
              <a:outerShdw dist="89808" dir="483908"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3"/>
            <a:stretch/>
          </p:blipFill>
          <p:spPr>
            <a:xfrm>
              <a:off x="2911680" y="6184080"/>
              <a:ext cx="1093320" cy="1408320"/>
            </a:xfrm>
            <a:prstGeom prst="rect">
              <a:avLst/>
            </a:prstGeom>
            <a:ln w="0">
              <a:noFill/>
            </a:ln>
          </p:spPr>
        </p:pic>
      </p:grpSp>
      <p:sp>
        <p:nvSpPr>
          <p:cNvPr id="234" name=""/>
          <p:cNvSpPr/>
          <p:nvPr/>
        </p:nvSpPr>
        <p:spPr>
          <a:xfrm>
            <a:off x="765000" y="5508720"/>
            <a:ext cx="2308320" cy="25743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cs typeface="Monotype Koufi"/>
              </a:rPr>
              <a:t>مع تحيات </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00"/>
                </a:solidFill>
                <a:latin typeface="Arial"/>
                <a:cs typeface="Diwani Simple Outline"/>
              </a:rPr>
              <a:t>د.مصطفى أبوسعد</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38832B0-FDA8-4056-868F-3E2856FE8B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04560"/>
            <a:ext cx="5829480" cy="5331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نشأة الذكاء الوجداني</a:t>
            </a:r>
            <a:r>
              <a:rPr b="1" lang="ar-SA" sz="3600" spc="-1" strike="noStrike">
                <a:solidFill>
                  <a:srgbClr val="000000"/>
                </a:solidFill>
                <a:latin typeface="Arial"/>
              </a:rPr>
              <a:t> </a:t>
            </a:r>
            <a:endParaRPr b="0" lang="en-US" sz="3600" spc="-1" strike="noStrike">
              <a:solidFill>
                <a:srgbClr val="000000"/>
              </a:solidFill>
              <a:latin typeface="Arial"/>
            </a:endParaRPr>
          </a:p>
        </p:txBody>
      </p:sp>
      <p:sp>
        <p:nvSpPr>
          <p:cNvPr id="87" name="PlaceHolder 2"/>
          <p:cNvSpPr>
            <a:spLocks noGrp="1"/>
          </p:cNvSpPr>
          <p:nvPr>
            <p:ph type="subTitle"/>
          </p:nvPr>
        </p:nvSpPr>
        <p:spPr>
          <a:xfrm>
            <a:off x="304560" y="1066680"/>
            <a:ext cx="6095880" cy="14479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لد مصطلح الذكاء الوجداني في الولايات المتحدة في التسعينيات إذ لاحظ الباحثون هناك  من خلال أبحاث ودراسات شملت عشرات الألوف من الأشخاص أن نجاح الإنسان وسعادته في الحياة لا يتوقفان فقط على شهاداته وتحصيله العلمي والتي تعبر عن ذكائه العقلي </a:t>
            </a:r>
            <a:r>
              <a:rPr b="1" lang="en-US" sz="2000" spc="-1" strike="noStrike">
                <a:solidFill>
                  <a:srgbClr val="000000"/>
                </a:solidFill>
                <a:latin typeface="Arial"/>
              </a:rPr>
              <a:t>  </a:t>
            </a:r>
            <a:r>
              <a:rPr b="1" lang="en-US" sz="2000" spc="-1" strike="noStrike">
                <a:solidFill>
                  <a:srgbClr val="000000"/>
                </a:solidFill>
                <a:latin typeface="Arial"/>
              </a:rPr>
              <a:t>IQ</a:t>
            </a:r>
            <a:r>
              <a:rPr b="1" lang="en-US" sz="2000" spc="-1" strike="noStrike">
                <a:solidFill>
                  <a:srgbClr val="000000"/>
                </a:solidFill>
                <a:latin typeface="Arial"/>
              </a:rPr>
              <a:t> </a:t>
            </a:r>
            <a:r>
              <a:rPr b="1" lang="ar-SA" sz="2000" spc="-1" strike="noStrike">
                <a:solidFill>
                  <a:srgbClr val="000000"/>
                </a:solidFill>
                <a:latin typeface="Arial"/>
              </a:rPr>
              <a:t>وإنما يحتاجان إلى نوع آخر من الذكاء سموه الذكاء الوجداني </a:t>
            </a:r>
            <a:r>
              <a:rPr b="1" lang="en-US" sz="2000" spc="-1" strike="noStrike">
                <a:solidFill>
                  <a:srgbClr val="000000"/>
                </a:solidFill>
                <a:latin typeface="Arial"/>
              </a:rPr>
              <a:t> </a:t>
            </a:r>
            <a:r>
              <a:rPr b="1" lang="en-US" sz="2000" spc="-1" strike="noStrike">
                <a:solidFill>
                  <a:srgbClr val="000000"/>
                </a:solidFill>
                <a:latin typeface="Arial"/>
              </a:rPr>
              <a:t>EQ</a:t>
            </a:r>
            <a:r>
              <a:rPr b="1" lang="en-US"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88" name=""/>
          <p:cNvSpPr/>
          <p:nvPr/>
        </p:nvSpPr>
        <p:spPr>
          <a:xfrm>
            <a:off x="457200" y="2666880"/>
            <a:ext cx="582948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ذكاء الوجداني يمكن تعلمه واكتسابه</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89" name=""/>
          <p:cNvSpPr/>
          <p:nvPr/>
        </p:nvSpPr>
        <p:spPr>
          <a:xfrm>
            <a:off x="380880" y="3505320"/>
            <a:ext cx="6096240" cy="265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لعل من أهم جوانب التطور إثارة في موضوع الذكاء الوجداني، ما يتعلق بتدريبه وزيادته في السلوك. فالذكاء الوجداني-  بعكس الذكاء العقلي  ونسبة الذكاء التقليدية- لا يخضع للوراثة ويمكن اكتسابه وتعلمه. وقد كشفت بحوث العلماء في هذا الصدد أن الذكاء الوجداني خاصية أو مجموعة من الخصائص يمكن تدريبها وتنميتها من خلال  كثير من الأساليب التي تساعد علي تنميته وتقويته في الشخصية</a:t>
            </a:r>
            <a:r>
              <a:rPr b="1" lang="ar-SA" sz="1600" spc="-1" strike="noStrike">
                <a:solidFill>
                  <a:srgbClr val="000000"/>
                </a:solidFill>
                <a:latin typeface="Arial"/>
              </a:rPr>
              <a:t>. </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نصائح التي ينصح بها العلماء في هذا الصدد لمساعدتنا فى الحصول على معدل عال من الذكاء الوجداني،  أن نحافظ دائما على مشاعر طيبة عند التعامل مع الآخرين، وأن ندرب أنفسنا جيدا على مواجهة الأزمات بهدوء، وأن نتصدى لحل الخلافات خاصة تلك التي تثور عندما نواجه مختلف التأثيرات السلبية لبيئة اجتماعية تعوق قدراتنا علي النمو السليم والصحة النفسية</a:t>
            </a:r>
            <a:r>
              <a:rPr b="1" lang="ar-SA" sz="1600" spc="-1" strike="noStrike">
                <a:solidFill>
                  <a:srgbClr val="000000"/>
                </a:solidFill>
                <a:latin typeface="Arial"/>
              </a:rPr>
              <a:t>.</a:t>
            </a:r>
            <a:endParaRPr b="0" lang="en-US" sz="1600" spc="-1" strike="noStrike">
              <a:solidFill>
                <a:srgbClr val="000000"/>
              </a:solidFill>
              <a:latin typeface="Arial"/>
            </a:endParaRPr>
          </a:p>
        </p:txBody>
      </p:sp>
      <p:pic>
        <p:nvPicPr>
          <p:cNvPr id="90" name="" descr=""/>
          <p:cNvPicPr/>
          <p:nvPr/>
        </p:nvPicPr>
        <p:blipFill>
          <a:blip r:embed="rId1"/>
          <a:stretch/>
        </p:blipFill>
        <p:spPr>
          <a:xfrm>
            <a:off x="44280" y="6300720"/>
            <a:ext cx="2438640" cy="2308320"/>
          </a:xfrm>
          <a:prstGeom prst="rect">
            <a:avLst/>
          </a:prstGeom>
          <a:ln w="0">
            <a:noFill/>
          </a:ln>
        </p:spPr>
      </p:pic>
      <p:sp>
        <p:nvSpPr>
          <p:cNvPr id="91" name=""/>
          <p:cNvSpPr/>
          <p:nvPr/>
        </p:nvSpPr>
        <p:spPr>
          <a:xfrm>
            <a:off x="2565360" y="7093080"/>
            <a:ext cx="3959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00280" indent="-34308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هامش التطوير في الذكاء الوجداني أوسع بكثير من هامش التطوير في الذكاء العقلي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a:t>
            </a:r>
            <a:r>
              <a:rPr b="1" lang="ar-SA" sz="1800" spc="-1" strike="noStrike">
                <a:solidFill>
                  <a:srgbClr val="000000"/>
                </a:solidFill>
                <a:latin typeface="Arial"/>
              </a:rPr>
              <a:t>تأثير الذكاء الوجداني على نجاح الإنسان أكبر بكثير من تأثير الذكاء العقلي</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2205000" y="6300720"/>
            <a:ext cx="439272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ميزتان تميزان الذكاء الوجداني عن الذكاء العقلي</a:t>
            </a:r>
            <a:r>
              <a:rPr b="1" lang="ar-SA"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0A339E-F134-4FBA-92B6-71FCBE41F2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عمل</a:t>
            </a:r>
            <a:r>
              <a:rPr b="1" lang="ar-SA" sz="4000" spc="-1" strike="noStrike">
                <a:solidFill>
                  <a:srgbClr val="000000"/>
                </a:solidFill>
                <a:latin typeface="Arial"/>
              </a:rPr>
              <a:t> </a:t>
            </a:r>
            <a:r>
              <a:rPr b="0" lang="ar-KW" sz="4000" spc="-1" strike="noStrike">
                <a:solidFill>
                  <a:srgbClr val="000000"/>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304560" y="1295280"/>
            <a:ext cx="6095880" cy="990720"/>
          </a:xfrm>
          <a:prstGeom prst="rect">
            <a:avLst/>
          </a:prstGeom>
          <a:noFill/>
          <a:ln w="9360">
            <a:solidFill>
              <a:srgbClr val="000000"/>
            </a:solidFill>
            <a:miter/>
          </a:ln>
        </p:spPr>
        <p:txBody>
          <a:bodyPr lIns="90000" rIns="90000" tIns="46800" bIns="46800" anchor="t">
            <a:noAutofit/>
          </a:bodyPr>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يوم أصبح الذكاء الوجداني جزء مهم من فلسفة أي مؤسسة في اختيار وتدريب أفرادها لأن الذكاء الوجداني يعلم الناس كيف يعملون معاً للوصول إلى هدف مشترك .</a:t>
            </a:r>
            <a:endParaRPr b="0" lang="en-US" sz="2000" spc="-1" strike="noStrike">
              <a:solidFill>
                <a:srgbClr val="000000"/>
              </a:solidFill>
              <a:latin typeface="Arial"/>
            </a:endParaRPr>
          </a:p>
        </p:txBody>
      </p:sp>
      <p:sp>
        <p:nvSpPr>
          <p:cNvPr id="95" name=""/>
          <p:cNvSpPr/>
          <p:nvPr/>
        </p:nvSpPr>
        <p:spPr>
          <a:xfrm>
            <a:off x="152280" y="5486400"/>
            <a:ext cx="3429000" cy="2743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     </a:t>
            </a:r>
            <a:r>
              <a:rPr b="1" i="1" lang="ar-SA" sz="2400" spc="-1" strike="noStrike">
                <a:solidFill>
                  <a:srgbClr val="000000"/>
                </a:solidFill>
                <a:latin typeface="Arial"/>
              </a:rPr>
              <a:t>إن استخدام مبادئ الذكاء الوجداني   يساعد الوالدين على إنشاء علاقات قوية مع أبنائهم</a:t>
            </a:r>
            <a:r>
              <a:rPr b="1" i="1" lang="ar-KW" sz="2400" spc="-1" strike="noStrike">
                <a:solidFill>
                  <a:srgbClr val="000000"/>
                </a:solidFill>
                <a:latin typeface="Arial"/>
              </a:rPr>
              <a:t>ا</a:t>
            </a:r>
            <a:r>
              <a:rPr b="1" i="1" lang="ar-SA" sz="2400" spc="-1" strike="noStrike">
                <a:solidFill>
                  <a:srgbClr val="000000"/>
                </a:solidFill>
                <a:latin typeface="Arial"/>
              </a:rPr>
              <a:t> كما يساهم في تنمية الذكاء الوجداني عند الأبناء</a:t>
            </a:r>
            <a:r>
              <a:rPr b="1" i="1" lang="ar-SA" sz="2400" spc="-1" strike="noStrike">
                <a:solidFill>
                  <a:srgbClr val="000000"/>
                </a:solidFill>
                <a:latin typeface="Arial"/>
              </a:rPr>
              <a:t>   </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457200" y="2666880"/>
            <a:ext cx="5829480" cy="68580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أسرة</a:t>
            </a:r>
            <a:r>
              <a:rPr b="1" lang="ar-SA" sz="4000" spc="-1" strike="noStrike">
                <a:solidFill>
                  <a:srgbClr val="000000"/>
                </a:solidFill>
                <a:latin typeface="Arial"/>
              </a:rPr>
              <a:t>  </a:t>
            </a:r>
            <a:r>
              <a:rPr b="0" lang="ar-SA"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7" name=""/>
          <p:cNvSpPr/>
          <p:nvPr/>
        </p:nvSpPr>
        <p:spPr>
          <a:xfrm>
            <a:off x="380880" y="3657600"/>
            <a:ext cx="60962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 </a:t>
            </a:r>
            <a:r>
              <a:rPr b="1" lang="ar-SA" sz="2000" spc="-1" strike="noStrike">
                <a:solidFill>
                  <a:srgbClr val="000000"/>
                </a:solidFill>
                <a:latin typeface="Arial"/>
              </a:rPr>
              <a:t>في دراسة قام بها عالم النفس الأمريكي غوتمان على تأثير الذكاء الوجداني في نجاح العلاقة الزوجية استطاع من خلال مراقبة الطريقة التي يتحدث بها الزوجان أثناء الخلاف أن يتنبأ باحتمال الطلاق بينهما خلال ثلاث سنوات بنسبة من الدقة وصلت إلى </a:t>
            </a:r>
            <a:r>
              <a:rPr b="1" lang="ar-SA" sz="2000" spc="-1" strike="noStrike">
                <a:solidFill>
                  <a:srgbClr val="000000"/>
                </a:solidFill>
                <a:latin typeface="Arial"/>
              </a:rPr>
              <a:t>97</a:t>
            </a:r>
            <a:r>
              <a:rPr b="1" lang="ar-SA" sz="2000" spc="-1" strike="noStrike">
                <a:solidFill>
                  <a:srgbClr val="000000"/>
                </a:solidFill>
                <a:latin typeface="Arial"/>
              </a:rPr>
              <a:t>% .</a:t>
            </a:r>
            <a:endParaRPr b="0" lang="en-US" sz="2000" spc="-1" strike="noStrike">
              <a:solidFill>
                <a:srgbClr val="000000"/>
              </a:solidFill>
              <a:latin typeface="Arial"/>
            </a:endParaRPr>
          </a:p>
        </p:txBody>
      </p:sp>
      <p:pic>
        <p:nvPicPr>
          <p:cNvPr id="98" name="" descr=""/>
          <p:cNvPicPr/>
          <p:nvPr/>
        </p:nvPicPr>
        <p:blipFill>
          <a:blip r:embed="rId1"/>
          <a:stretch/>
        </p:blipFill>
        <p:spPr>
          <a:xfrm>
            <a:off x="3789360" y="5364000"/>
            <a:ext cx="2817720" cy="2880000"/>
          </a:xfrm>
          <a:prstGeom prst="rect">
            <a:avLst/>
          </a:prstGeom>
          <a:ln w="0">
            <a:noFill/>
          </a:ln>
        </p:spPr>
      </p:pic>
      <p:sp>
        <p:nvSpPr>
          <p:cNvPr id="4" name="PlaceHolder 3"/>
          <p:cNvSpPr>
            <a:spLocks noGrp="1"/>
          </p:cNvSpPr>
          <p:nvPr>
            <p:ph type="sldNum" idx="3"/>
          </p:nvPr>
        </p:nvSpPr>
        <p:spPr/>
        <p:txBody>
          <a:bodyPr/>
          <a:p>
            <a:fld id="{FA5B5026-F7F1-473F-B404-65A36A8EAD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304560"/>
            <a:ext cx="541044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الذكاء الوجداني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type="subTitle"/>
          </p:nvPr>
        </p:nvSpPr>
        <p:spPr>
          <a:xfrm>
            <a:off x="304560" y="1142640"/>
            <a:ext cx="5562360" cy="48006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a:solidFill>
                  <a:srgbClr val="000000"/>
                </a:solidFill>
                <a:latin typeface="Arial"/>
              </a:rPr>
              <a:t>-</a:t>
            </a:r>
            <a:r>
              <a:rPr b="1" i="1" lang="ar-SA" sz="2000" spc="-1" strike="noStrike">
                <a:solidFill>
                  <a:srgbClr val="000000"/>
                </a:solidFill>
                <a:latin typeface="Arial"/>
              </a:rPr>
              <a:t> يلعب الذكاء الوجداني دوراً هاماً في توافق الطفل مع والديه وإخوته وأقرانه وبيئته بحيث ينمو سوياً ومنسجماً مع الحياة، كما أنه يؤدي إلى تحسين ورفع كفاءة التحصيل الدراسي.</a:t>
            </a:r>
            <a:br>
              <a:rPr sz="2000"/>
            </a:br>
            <a:r>
              <a:rPr b="1" i="1" lang="en-US" sz="2000" spc="-1" strike="noStrike">
                <a:solidFill>
                  <a:srgbClr val="000000"/>
                </a:solidFill>
                <a:latin typeface="Arial"/>
              </a:rPr>
              <a:t>2</a:t>
            </a:r>
            <a:r>
              <a:rPr b="1" i="1" lang="en-US" sz="2000" spc="-1" strike="noStrike">
                <a:solidFill>
                  <a:srgbClr val="000000"/>
                </a:solidFill>
                <a:latin typeface="Arial"/>
              </a:rPr>
              <a:t>- </a:t>
            </a:r>
            <a:r>
              <a:rPr b="1" i="1" lang="ar-SA" sz="2000" spc="-1" strike="noStrike">
                <a:solidFill>
                  <a:srgbClr val="000000"/>
                </a:solidFill>
                <a:latin typeface="Arial"/>
              </a:rPr>
              <a:t>يساعد الذكاء الوجداني على تجاوز أزمة المراهقة وسائر الأزمات بعد ذلك مثل أزمة منتصف العمر بسلام.</a:t>
            </a:r>
            <a:br>
              <a:rPr sz="2000"/>
            </a:br>
            <a:r>
              <a:rPr b="1" i="1" lang="en-US" sz="2000" spc="-1" strike="noStrike">
                <a:solidFill>
                  <a:srgbClr val="000000"/>
                </a:solidFill>
                <a:latin typeface="Arial"/>
              </a:rPr>
              <a:t>3</a:t>
            </a:r>
            <a:r>
              <a:rPr b="1" i="1" lang="en-US" sz="2000" spc="-1" strike="noStrike">
                <a:solidFill>
                  <a:srgbClr val="000000"/>
                </a:solidFill>
                <a:latin typeface="Arial"/>
              </a:rPr>
              <a:t>- </a:t>
            </a:r>
            <a:r>
              <a:rPr b="1" i="1" lang="ar-SA" sz="2000" spc="-1" strike="noStrike">
                <a:solidFill>
                  <a:srgbClr val="000000"/>
                </a:solidFill>
                <a:latin typeface="Arial"/>
              </a:rPr>
              <a:t>يعتبر الذكاء الوجداني عاملاً مهماً في استقرار الحياة الزوجية فالتعبير الجيد عن المشاعر وتفهم مشاعر الطرف الآخر ورعايتها بشكل ناضج، كل ذلك يضمن توافقاً زواجياً رائعاً .</a:t>
            </a:r>
            <a:br>
              <a:rPr sz="2000"/>
            </a:br>
            <a:r>
              <a:rPr b="1" i="1" lang="en-US" sz="2000" spc="-1" strike="noStrike">
                <a:solidFill>
                  <a:srgbClr val="000000"/>
                </a:solidFill>
                <a:latin typeface="Arial"/>
              </a:rPr>
              <a:t>4</a:t>
            </a:r>
            <a:r>
              <a:rPr b="1" i="1" lang="en-US" sz="2000" spc="-1" strike="noStrike">
                <a:solidFill>
                  <a:srgbClr val="000000"/>
                </a:solidFill>
                <a:latin typeface="Arial"/>
              </a:rPr>
              <a:t>- </a:t>
            </a:r>
            <a:r>
              <a:rPr b="1" i="1" lang="ar-SA" sz="2000" spc="-1" strike="noStrike">
                <a:solidFill>
                  <a:srgbClr val="000000"/>
                </a:solidFill>
                <a:latin typeface="Arial"/>
              </a:rPr>
              <a:t>والذكاء الوجداني وراء النجاح في العمل والحياة، فالأكثر ذكاءاً وجدانياً محبوبون ومثابرون وتوكيديون، ومتألقون وقادرون على التواصل والقيادة ومصرون على النجاح.</a:t>
            </a:r>
            <a:br>
              <a:rPr sz="2000"/>
            </a:br>
            <a:br>
              <a:rPr sz="2000"/>
            </a:br>
            <a:r>
              <a:rPr b="1" i="1" lang="ar-SA" sz="2000" spc="-1" strike="noStrike">
                <a:solidFill>
                  <a:srgbClr val="000000"/>
                </a:solidFill>
                <a:latin typeface="Arial"/>
              </a:rPr>
              <a:t>ونظراً لتلك الأهمية البالغة للذكاء الوجداني، فقد أوصى علماء النفس بتنميته من خلال دروس تعليمية ودورات تدريبية وورش عمل بهدف الوصول إلى درجات عالية من الذكاء الوجداني، وهو ما نطلق عليه النضج الوجداني، وسوف نتحدث عنه الآن بشيء من التفصيل نظراً لأهميته.</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rot="16200000">
            <a:off x="4914720" y="1333440"/>
            <a:ext cx="2895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النضج الوجداني :</a:t>
            </a:r>
            <a:r>
              <a:rPr b="1" i="1" lang="en-US" sz="1400" spc="-1" strike="noStrike">
                <a:solidFill>
                  <a:srgbClr val="000000"/>
                </a:solidFill>
                <a:latin typeface="Arial"/>
              </a:rPr>
              <a:t> </a:t>
            </a:r>
            <a:r>
              <a:rPr b="1" i="1" lang="ar-SA" sz="1400" spc="-1" strike="noStrike">
                <a:solidFill>
                  <a:srgbClr val="000000"/>
                </a:solidFill>
                <a:latin typeface="Arial"/>
              </a:rPr>
              <a:t>دكتور محمد المهد</a:t>
            </a:r>
            <a:r>
              <a:rPr b="1" i="1" lang="ar-KW" sz="1400" spc="-1" strike="noStrike">
                <a:solidFill>
                  <a:srgbClr val="000000"/>
                </a:solidFill>
                <a:latin typeface="Arial"/>
              </a:rPr>
              <a:t>ي</a:t>
            </a:r>
            <a:r>
              <a:rPr b="1" i="1" lang="en-US" sz="1400" spc="-1" strike="noStrike">
                <a:solidFill>
                  <a:srgbClr val="000000"/>
                </a:solidFill>
                <a:latin typeface="Arial"/>
              </a:rPr>
              <a:t> </a:t>
            </a:r>
            <a:br>
              <a:rPr sz="1400"/>
            </a:br>
            <a:endParaRPr b="0" lang="en-US" sz="1400" spc="-1" strike="noStrike">
              <a:solidFill>
                <a:srgbClr val="000000"/>
              </a:solidFill>
              <a:latin typeface="Arial"/>
            </a:endParaRPr>
          </a:p>
        </p:txBody>
      </p:sp>
      <p:pic>
        <p:nvPicPr>
          <p:cNvPr id="102" name="" descr=""/>
          <p:cNvPicPr/>
          <p:nvPr/>
        </p:nvPicPr>
        <p:blipFill>
          <a:blip r:embed="rId1"/>
          <a:stretch/>
        </p:blipFill>
        <p:spPr>
          <a:xfrm>
            <a:off x="2421000" y="6084720"/>
            <a:ext cx="1123920" cy="1111320"/>
          </a:xfrm>
          <a:prstGeom prst="rect">
            <a:avLst/>
          </a:prstGeom>
          <a:ln w="0">
            <a:noFill/>
          </a:ln>
        </p:spPr>
      </p:pic>
      <p:pic>
        <p:nvPicPr>
          <p:cNvPr id="103" name="" descr=""/>
          <p:cNvPicPr/>
          <p:nvPr/>
        </p:nvPicPr>
        <p:blipFill>
          <a:blip r:embed="rId2"/>
          <a:stretch/>
        </p:blipFill>
        <p:spPr>
          <a:xfrm>
            <a:off x="4005360" y="6227640"/>
            <a:ext cx="711000" cy="660600"/>
          </a:xfrm>
          <a:prstGeom prst="rect">
            <a:avLst/>
          </a:prstGeom>
          <a:ln w="0">
            <a:noFill/>
          </a:ln>
        </p:spPr>
      </p:pic>
      <p:pic>
        <p:nvPicPr>
          <p:cNvPr id="104" name="" descr=""/>
          <p:cNvPicPr/>
          <p:nvPr/>
        </p:nvPicPr>
        <p:blipFill>
          <a:blip r:embed="rId3"/>
          <a:stretch/>
        </p:blipFill>
        <p:spPr>
          <a:xfrm>
            <a:off x="5373720" y="6227640"/>
            <a:ext cx="650880" cy="930240"/>
          </a:xfrm>
          <a:prstGeom prst="rect">
            <a:avLst/>
          </a:prstGeom>
          <a:ln w="0">
            <a:noFill/>
          </a:ln>
        </p:spPr>
      </p:pic>
      <p:pic>
        <p:nvPicPr>
          <p:cNvPr id="105" name="" descr=""/>
          <p:cNvPicPr/>
          <p:nvPr/>
        </p:nvPicPr>
        <p:blipFill>
          <a:blip r:embed="rId4"/>
          <a:stretch/>
        </p:blipFill>
        <p:spPr>
          <a:xfrm>
            <a:off x="620640" y="6156360"/>
            <a:ext cx="936720" cy="1076400"/>
          </a:xfrm>
          <a:prstGeom prst="rect">
            <a:avLst/>
          </a:prstGeom>
          <a:ln w="0">
            <a:noFill/>
          </a:ln>
        </p:spPr>
      </p:pic>
      <p:sp>
        <p:nvSpPr>
          <p:cNvPr id="4" name="PlaceHolder 3"/>
          <p:cNvSpPr>
            <a:spLocks noGrp="1"/>
          </p:cNvSpPr>
          <p:nvPr>
            <p:ph type="sldNum" idx="3"/>
          </p:nvPr>
        </p:nvSpPr>
        <p:spPr/>
        <p:txBody>
          <a:bodyPr/>
          <a:p>
            <a:fld id="{08145F29-10AB-448F-94CE-27AA79158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مقاييس المختلفة للعمر</a:t>
            </a:r>
            <a:r>
              <a:rPr b="1" i="1" lang="ar-SA" sz="3600" spc="-1" strike="noStrike">
                <a:solidFill>
                  <a:srgbClr val="000000"/>
                </a:solidFill>
                <a:latin typeface="Arial"/>
              </a:rPr>
              <a:t> </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107"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حين نسأل شخصاً ما: ما</a:t>
            </a:r>
            <a:r>
              <a:rPr b="1" i="1" lang="en-US" sz="1600" spc="-1" strike="noStrike">
                <a:solidFill>
                  <a:srgbClr val="000000"/>
                </a:solidFill>
                <a:latin typeface="Arial"/>
              </a:rPr>
              <a:t> </a:t>
            </a:r>
            <a:r>
              <a:rPr b="1" i="1" lang="ar-SA" sz="1600" spc="-1" strike="noStrike">
                <a:solidFill>
                  <a:srgbClr val="000000"/>
                </a:solidFill>
                <a:latin typeface="Arial"/>
              </a:rPr>
              <a:t>عمرك</a:t>
            </a:r>
            <a:r>
              <a:rPr b="1" i="1" lang="en-US" sz="1600" spc="-1" strike="noStrike">
                <a:solidFill>
                  <a:srgbClr val="000000"/>
                </a:solidFill>
                <a:latin typeface="Arial"/>
              </a:rPr>
              <a:t> </a:t>
            </a:r>
            <a:r>
              <a:rPr b="1" i="1" lang="ar-SA" sz="1600" spc="-1" strike="noStrike">
                <a:solidFill>
                  <a:srgbClr val="000000"/>
                </a:solidFill>
                <a:latin typeface="Arial"/>
              </a:rPr>
              <a:t>؟</a:t>
            </a:r>
            <a:r>
              <a:rPr b="1" i="1" lang="en-US" sz="1600" spc="-1" strike="noStrike">
                <a:solidFill>
                  <a:srgbClr val="000000"/>
                </a:solidFill>
                <a:latin typeface="Arial"/>
              </a:rPr>
              <a:t> </a:t>
            </a:r>
            <a:r>
              <a:rPr b="1" i="1" lang="ar-SA" sz="1600" spc="-1" strike="noStrike">
                <a:solidFill>
                  <a:srgbClr val="000000"/>
                </a:solidFill>
                <a:latin typeface="Arial"/>
              </a:rPr>
              <a:t>يجيبنا على الفور</a:t>
            </a:r>
            <a:r>
              <a:rPr b="1" i="1" lang="en-US" sz="1600" spc="-1" strike="noStrike">
                <a:solidFill>
                  <a:srgbClr val="000000"/>
                </a:solidFill>
                <a:latin typeface="Arial"/>
              </a:rPr>
              <a:t>:</a:t>
            </a:r>
            <a:r>
              <a:rPr b="1" i="1" lang="ar-SA" sz="1600" spc="-1" strike="noStrike">
                <a:solidFill>
                  <a:srgbClr val="000000"/>
                </a:solidFill>
                <a:latin typeface="Arial"/>
              </a:rPr>
              <a:t> خمسون سنة (مثلاً). هذه الإجابة قاصرة جداً لأنه هنا ذكر عمره الزمني فقط، وهذا العمر الزمني لا يفيدنا كثيراً في معرفة أبعاد شخصية من سألناه لأن هناك مقاييس وأبعاد أخرى للعمر (أحياناً تكون منسجمة مع العمر الزمني وأحياناً أخرى لا تنسجم)، نذكرها فيما يلي:</a:t>
            </a:r>
            <a:br>
              <a:rPr sz="1600"/>
            </a:br>
            <a:br>
              <a:rPr sz="1600"/>
            </a:br>
            <a:r>
              <a:rPr b="1" i="1" lang="en-US" sz="2000" spc="-1" strike="noStrike">
                <a:solidFill>
                  <a:srgbClr val="000000"/>
                </a:solidFill>
                <a:latin typeface="Arial"/>
                <a:ea typeface="Andalus"/>
              </a:rPr>
              <a:t>1</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زم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Choronological age</a:t>
            </a:r>
            <a:r>
              <a:rPr b="1" i="1" lang="en-US" sz="2000" spc="-1" strike="noStrike">
                <a:solidFill>
                  <a:srgbClr val="000000"/>
                </a:solidFill>
                <a:latin typeface="Arial"/>
                <a:ea typeface="Andalus"/>
              </a:rPr>
              <a:t> ) :</a:t>
            </a:r>
            <a:br>
              <a:rPr sz="1600"/>
            </a:br>
            <a:r>
              <a:rPr b="1" i="1" lang="ar-SA" sz="1600" spc="-1" strike="noStrike">
                <a:solidFill>
                  <a:srgbClr val="000000"/>
                </a:solidFill>
                <a:latin typeface="Arial"/>
              </a:rPr>
              <a:t>هو عدد السنوات التي عاشها الإنسان في الحياة .</a:t>
            </a:r>
            <a:br>
              <a:rPr sz="1600"/>
            </a:br>
            <a:r>
              <a:rPr b="1" i="1" lang="en-US" sz="2000" spc="-1" strike="noStrike">
                <a:solidFill>
                  <a:srgbClr val="000000"/>
                </a:solidFill>
                <a:latin typeface="Arial"/>
                <a:ea typeface="Andalus"/>
              </a:rPr>
              <a:t>2</a:t>
            </a:r>
            <a:r>
              <a:rPr b="1" i="1" lang="en-US" sz="2000" spc="-1" strike="noStrike">
                <a:solidFill>
                  <a:srgbClr val="000000"/>
                </a:solidFill>
                <a:latin typeface="Arial"/>
                <a:ea typeface="Andalus"/>
              </a:rPr>
              <a:t>-</a:t>
            </a:r>
            <a:r>
              <a:rPr b="1" i="1" lang="ar-SA" sz="2000" spc="-1" strike="noStrike">
                <a:solidFill>
                  <a:srgbClr val="000000"/>
                </a:solidFill>
                <a:latin typeface="Arial"/>
                <a:ea typeface="Andalus"/>
              </a:rPr>
              <a:t> العمر العقلي</a:t>
            </a:r>
            <a:r>
              <a:rPr b="1" i="1" lang="en-US" sz="2000" spc="-1" strike="noStrike">
                <a:solidFill>
                  <a:srgbClr val="000000"/>
                </a:solidFill>
                <a:latin typeface="Arial"/>
                <a:ea typeface="Andalus"/>
              </a:rPr>
              <a:t> ( </a:t>
            </a:r>
            <a:r>
              <a:rPr b="1" i="1" lang="en-US" sz="2000" spc="-1" strike="noStrike">
                <a:solidFill>
                  <a:srgbClr val="000000"/>
                </a:solidFill>
                <a:latin typeface="Arial"/>
                <a:ea typeface="Andalus"/>
              </a:rPr>
              <a:t>Intellectual age</a:t>
            </a:r>
            <a:r>
              <a:rPr b="1" i="1" lang="en-US" sz="2000" spc="-1" strike="noStrike">
                <a:solidFill>
                  <a:srgbClr val="000000"/>
                </a:solidFill>
                <a:latin typeface="Arial"/>
                <a:ea typeface="Andalus"/>
              </a:rPr>
              <a:t> ) :</a:t>
            </a:r>
            <a:br>
              <a:rPr sz="2000"/>
            </a:br>
            <a:r>
              <a:rPr b="1" i="1" lang="ar-SA" sz="1600" spc="-1" strike="noStrike">
                <a:solidFill>
                  <a:srgbClr val="000000"/>
                </a:solidFill>
                <a:latin typeface="Arial"/>
              </a:rPr>
              <a:t>وهو يشير إلى ما إذا كان ذكاء هذا الشخص أقل أو أكثر أو مساوي لعمره الزمني (أي الذكاء بالنسبة للعمر الزمني).</a:t>
            </a:r>
            <a:br>
              <a:rPr sz="1600"/>
            </a:br>
            <a:r>
              <a:rPr b="1" i="1" lang="en-US" sz="2000" spc="-1" strike="noStrike">
                <a:solidFill>
                  <a:srgbClr val="000000"/>
                </a:solidFill>
                <a:latin typeface="Arial"/>
                <a:ea typeface="Andalus"/>
              </a:rPr>
              <a:t>3</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اجتماع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Social age</a:t>
            </a:r>
            <a:r>
              <a:rPr b="1" i="1" lang="en-US" sz="2000" spc="-1" strike="noStrike">
                <a:solidFill>
                  <a:srgbClr val="000000"/>
                </a:solidFill>
                <a:latin typeface="Arial"/>
                <a:ea typeface="Andalus"/>
              </a:rPr>
              <a:t> ) :</a:t>
            </a:r>
            <a:r>
              <a:rPr b="1" i="1" lang="en-US" sz="1600" spc="-1" strike="noStrike">
                <a:solidFill>
                  <a:srgbClr val="000000"/>
                </a:solidFill>
                <a:latin typeface="Arial"/>
              </a:rPr>
              <a:t> </a:t>
            </a:r>
            <a:br>
              <a:rPr sz="1600"/>
            </a:br>
            <a:r>
              <a:rPr b="1" i="1" lang="ar-SA" sz="1600" spc="-1" strike="noStrike">
                <a:solidFill>
                  <a:srgbClr val="000000"/>
                </a:solidFill>
                <a:latin typeface="Arial"/>
              </a:rPr>
              <a:t>وهو يقارن النمو الاجتماعي للشخص بعمره الزمني، بمعنى: "هل هذا الشخص يتعامل مع الناس اجتماعياً كما يتوقع لمن هم في مثل عمره الزمني؟"</a:t>
            </a:r>
            <a:br>
              <a:rPr sz="1600"/>
            </a:br>
            <a:r>
              <a:rPr b="1" i="1" lang="en-US" sz="2000" spc="-1" strike="noStrike">
                <a:solidFill>
                  <a:srgbClr val="000000"/>
                </a:solidFill>
                <a:latin typeface="Arial"/>
                <a:ea typeface="Andalus"/>
              </a:rPr>
              <a:t>4</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وجدا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Emotional age</a:t>
            </a:r>
            <a:r>
              <a:rPr b="1" i="1" lang="en-US" sz="2000" spc="-1" strike="noStrike">
                <a:solidFill>
                  <a:srgbClr val="000000"/>
                </a:solidFill>
                <a:latin typeface="Arial"/>
                <a:ea typeface="Andalus"/>
              </a:rPr>
              <a:t> ) : </a:t>
            </a:r>
            <a:br>
              <a:rPr sz="2000"/>
            </a:br>
            <a:r>
              <a:rPr b="1" i="1" lang="ar-SA" sz="1600" spc="-1" strike="noStrike">
                <a:solidFill>
                  <a:srgbClr val="000000"/>
                </a:solidFill>
                <a:latin typeface="Arial"/>
              </a:rPr>
              <a:t>وهو يقارن النضج الوجداني للشخص بعمره العقلي، بمعنى: </a:t>
            </a:r>
            <a:r>
              <a:rPr b="1" i="1" lang="en-US" sz="1600" spc="-1" strike="noStrike">
                <a:solidFill>
                  <a:srgbClr val="000000"/>
                </a:solidFill>
                <a:latin typeface="Arial"/>
              </a:rPr>
              <a:t>"</a:t>
            </a:r>
            <a:r>
              <a:rPr b="1" i="1" lang="ar-SA" sz="1600" spc="-1" strike="noStrike">
                <a:solidFill>
                  <a:srgbClr val="000000"/>
                </a:solidFill>
                <a:latin typeface="Arial"/>
              </a:rPr>
              <a:t>هل</a:t>
            </a:r>
            <a:r>
              <a:rPr b="1" i="1" lang="en-US" sz="1600" spc="-1" strike="noStrike">
                <a:solidFill>
                  <a:srgbClr val="000000"/>
                </a:solidFill>
                <a:latin typeface="Arial"/>
              </a:rPr>
              <a:t> </a:t>
            </a:r>
            <a:r>
              <a:rPr b="1" i="1" lang="ar-SA" sz="1600" spc="-1" strike="noStrike">
                <a:solidFill>
                  <a:srgbClr val="000000"/>
                </a:solidFill>
                <a:latin typeface="Arial"/>
              </a:rPr>
              <a:t>هذا الشخص يتعامل مع مشاعره كما يفعل من هم في مثل عمره الزمني؟</a:t>
            </a:r>
            <a:r>
              <a:rPr b="1" i="1" lang="en-US" sz="1600" spc="-1" strike="noStrike">
                <a:solidFill>
                  <a:srgbClr val="000000"/>
                </a:solidFill>
                <a:latin typeface="Arial"/>
              </a:rPr>
              <a:t>"</a:t>
            </a:r>
            <a:br>
              <a:rPr sz="1600"/>
            </a:br>
            <a:br>
              <a:rPr sz="1600"/>
            </a:br>
            <a:r>
              <a:rPr b="1" i="1" lang="ar-SA" sz="1600" spc="-1" strike="noStrike">
                <a:solidFill>
                  <a:srgbClr val="000000"/>
                </a:solidFill>
                <a:latin typeface="Arial"/>
              </a:rPr>
              <a:t>وهذه الأنواع المختلفة من الأعمار لا تسير متوازية ومتساوية في أغلب الأحوال، فنجد بعضها يسبق الآخر، وكلما كانت المسافة كبيرة بينها كلما أدى ذلك إلى اضطراب التوافق فنجد مثلاً رجلاً قد بلغ الستين من العمر ولكن علاقاته الاجتماعية تشبه إلى حد كبير علاقات المراهقين، كما أن نضجه الوجداني لا يتعدى نضج الأطفال.</a:t>
            </a:r>
            <a:br>
              <a:rPr sz="1600"/>
            </a:br>
            <a:br>
              <a:rPr sz="1600"/>
            </a:br>
            <a:r>
              <a:rPr b="1" i="1" lang="ar-SA" sz="1600" spc="-1" strike="noStrike">
                <a:solidFill>
                  <a:srgbClr val="000000"/>
                </a:solidFill>
                <a:latin typeface="Arial"/>
              </a:rPr>
              <a:t>ونحن ليست لنا سيطرة أو تحكم في عمرنا الزمني، وبالكاد لنا سيطرة ضعيفة على عمرنا العقلي، أما عمرنا الاجتماعي وعمرنا الوجداني فيمكننا تنميتهما وتحسينهما بدرجة كبيرة وصولاً إلى النضج الاجتماعي والنضج الوجداني.</a:t>
            </a:r>
            <a:br>
              <a:rPr sz="1600"/>
            </a:br>
            <a:br>
              <a:rPr sz="1600"/>
            </a:br>
            <a:r>
              <a:rPr b="1" i="1" lang="ar-SA" sz="1600" spc="-1" strike="noStrike">
                <a:solidFill>
                  <a:srgbClr val="000000"/>
                </a:solidFill>
                <a:latin typeface="Arial"/>
              </a:rPr>
              <a:t>ولكي نفهم أنفسنا أكثر ونعرف أين نحن من مراحل النضج الوجداني فسوف نستعرض خصائص تأخر النضج ثم خصائص النضج</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8"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2DD786E-4AC2-4D2E-8E4D-3E8A79C32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كيف نحسن نضجنا الوجدان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هي رحلة طويلة تبدأ من الطفولة المبكرة وتستمر حتى آخر لحظة في الحياة إذ ليس هناك سقف للنضج الوجداني. وإليك عزيزي القارئ بعض التوصيات:</a:t>
            </a:r>
            <a:br>
              <a:rPr sz="1400"/>
            </a:br>
            <a:r>
              <a:rPr b="1" lang="en-US" sz="2000" spc="-1" strike="noStrike" u="sng">
                <a:solidFill>
                  <a:srgbClr val="000000"/>
                </a:solidFill>
                <a:uFillTx/>
                <a:latin typeface="Arial"/>
              </a:rPr>
              <a:t>1</a:t>
            </a:r>
            <a:r>
              <a:rPr b="1" lang="en-US" sz="2000" spc="-1" strike="noStrike" u="sng">
                <a:solidFill>
                  <a:srgbClr val="000000"/>
                </a:solidFill>
                <a:uFillTx/>
                <a:latin typeface="Arial"/>
              </a:rPr>
              <a:t>-</a:t>
            </a:r>
            <a:r>
              <a:rPr b="0" lang="en-US" sz="2000" spc="-1" strike="noStrike" u="sng">
                <a:solidFill>
                  <a:srgbClr val="000000"/>
                </a:solidFill>
                <a:uFillTx/>
                <a:latin typeface="Arial"/>
              </a:rPr>
              <a:t> </a:t>
            </a:r>
            <a:r>
              <a:rPr b="1" lang="ar-SA" sz="2000" spc="-1" strike="noStrike" u="sng">
                <a:solidFill>
                  <a:srgbClr val="000000"/>
                </a:solidFill>
                <a:uFillTx/>
                <a:latin typeface="Arial"/>
              </a:rPr>
              <a:t>الوعي ب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حاول أن ترى نفسك كما هي لا كما يجب أن تراها، ستواجهك بعض المصاعب حيث أن الدفاعات النفسية (مثل الكبت </a:t>
            </a:r>
            <a:r>
              <a:rPr b="0" lang="en-US" sz="1400" spc="-1" strike="noStrike">
                <a:solidFill>
                  <a:srgbClr val="000000"/>
                </a:solidFill>
                <a:latin typeface="Arial"/>
              </a:rPr>
              <a:t>Repression</a:t>
            </a:r>
            <a:r>
              <a:rPr b="0" lang="ar-SA" sz="1400" spc="-1" strike="noStrike">
                <a:solidFill>
                  <a:srgbClr val="000000"/>
                </a:solidFill>
                <a:latin typeface="Arial"/>
              </a:rPr>
              <a:t> والإسقاط </a:t>
            </a:r>
            <a:r>
              <a:rPr b="0" lang="en-US" sz="1400" spc="-1" strike="noStrike">
                <a:solidFill>
                  <a:srgbClr val="000000"/>
                </a:solidFill>
                <a:latin typeface="Arial"/>
              </a:rPr>
              <a:t>Projection</a:t>
            </a:r>
            <a:r>
              <a:rPr b="0" lang="ar-SA" sz="1400" spc="-1" strike="noStrike">
                <a:solidFill>
                  <a:srgbClr val="000000"/>
                </a:solidFill>
                <a:latin typeface="Arial"/>
              </a:rPr>
              <a:t> والإنكار </a:t>
            </a:r>
            <a:r>
              <a:rPr b="0" lang="en-US" sz="1400" spc="-1" strike="noStrike">
                <a:solidFill>
                  <a:srgbClr val="000000"/>
                </a:solidFill>
                <a:latin typeface="Arial"/>
              </a:rPr>
              <a:t>Denial</a:t>
            </a:r>
            <a:r>
              <a:rPr b="0" lang="ar-SA" sz="1400" spc="-1" strike="noStrike">
                <a:solidFill>
                  <a:srgbClr val="000000"/>
                </a:solidFill>
                <a:latin typeface="Arial"/>
              </a:rPr>
              <a:t> والتبرير </a:t>
            </a:r>
            <a:r>
              <a:rPr b="0" lang="en-US" sz="1400" spc="-1" strike="noStrike">
                <a:solidFill>
                  <a:srgbClr val="000000"/>
                </a:solidFill>
                <a:latin typeface="Arial"/>
              </a:rPr>
              <a:t>Rationalization</a:t>
            </a:r>
            <a:r>
              <a:rPr b="0" lang="ar-SA" sz="1400" spc="-1" strike="noStrike">
                <a:solidFill>
                  <a:srgbClr val="000000"/>
                </a:solidFill>
                <a:latin typeface="Arial"/>
              </a:rPr>
              <a:t>) ستحول بينك وبين هذه الرؤية الموضوعية، لذلك اسأل الناس المخلصين الصادقين من حولك أن يحدثوك عن نفسك بصراحة، وتقبل رؤيتهم حتى ولو لم تعجبك. تدرب جيداً وطويلاً على قراءة ما يدور بداخلك من أفكار وما يعتمل في نفسك من مشاعر.</a:t>
            </a:r>
            <a:br>
              <a:rPr sz="1400"/>
            </a:br>
            <a:r>
              <a:rPr b="1" lang="en-US" sz="2000" spc="-1" strike="noStrike" u="sng">
                <a:solidFill>
                  <a:srgbClr val="000000"/>
                </a:solidFill>
                <a:uFillTx/>
                <a:latin typeface="Arial"/>
              </a:rPr>
              <a:t>2</a:t>
            </a:r>
            <a:r>
              <a:rPr b="1" lang="en-US" sz="2000" spc="-1" strike="noStrike" u="sng">
                <a:solidFill>
                  <a:srgbClr val="000000"/>
                </a:solidFill>
                <a:uFillTx/>
                <a:latin typeface="Arial"/>
              </a:rPr>
              <a:t>-</a:t>
            </a:r>
            <a:r>
              <a:rPr b="1" lang="ar-SA" sz="2000" spc="-1" strike="noStrike" u="sng">
                <a:solidFill>
                  <a:srgbClr val="000000"/>
                </a:solidFill>
                <a:uFillTx/>
                <a:latin typeface="Arial"/>
              </a:rPr>
              <a:t> تقبل 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وتقبل الذات لا يعني موافقتها على ما هي عليه دائماً وإنما هي مرحلة مهمة يبدأ منها التغيير للأفضل.</a:t>
            </a:r>
            <a:br>
              <a:rPr sz="1400"/>
            </a:b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ar-SA" sz="2000" spc="-1" strike="noStrike" u="sng">
                <a:solidFill>
                  <a:srgbClr val="000000"/>
                </a:solidFill>
                <a:uFillTx/>
                <a:latin typeface="Arial"/>
              </a:rPr>
              <a:t>لا تحاول السيطرة على الآخرين:</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فبدلاً من السيطرة والتحكم في الآخرين حاول أن تتعاون معهم، وعندما يكون هناك صراع أو خلاف مع طرف آخر فحاول أن تصل إلى حل يكون الطرفان فيه رابحين، ولا تحرص على أن تكون أنت الرابح الوحيد دائماً.</a:t>
            </a:r>
            <a:br>
              <a:rPr sz="1400"/>
            </a:b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ar-SA" sz="2000" spc="-1" strike="noStrike" u="sng">
                <a:solidFill>
                  <a:srgbClr val="000000"/>
                </a:solidFill>
                <a:uFillTx/>
                <a:latin typeface="Arial"/>
              </a:rPr>
              <a:t>كن مستعداً لتغيير صلاتك الاجتماعية: </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جنب الناس والمواقف التي تخرج أسوأ ما فيك، واحرص على أن تعرض نفسك للناس وللمواقف التي تخرج أحسن ما فيك.</a:t>
            </a:r>
            <a:br>
              <a:rPr sz="1400"/>
            </a:br>
            <a:r>
              <a:rPr b="1" lang="en-US" sz="2000" spc="-1" strike="noStrike" u="sng">
                <a:solidFill>
                  <a:srgbClr val="000000"/>
                </a:solidFill>
                <a:uFillTx/>
                <a:latin typeface="Arial"/>
              </a:rPr>
              <a:t>5</a:t>
            </a:r>
            <a:r>
              <a:rPr b="1" lang="en-US" sz="2000" spc="-1" strike="noStrike" u="sng">
                <a:solidFill>
                  <a:srgbClr val="000000"/>
                </a:solidFill>
                <a:uFillTx/>
                <a:latin typeface="Arial"/>
              </a:rPr>
              <a:t>- </a:t>
            </a:r>
            <a:r>
              <a:rPr b="1" lang="ar-SA" sz="2000" spc="-1" strike="noStrike" u="sng">
                <a:solidFill>
                  <a:srgbClr val="000000"/>
                </a:solidFill>
                <a:uFillTx/>
                <a:latin typeface="Arial"/>
              </a:rPr>
              <a:t>ابحث عن معنى للحياة يتجاوز حدود ذاتك:</a:t>
            </a:r>
            <a:r>
              <a:rPr b="0" lang="ar-SA" sz="2000" spc="-1" strike="noStrike" u="sng">
                <a:solidFill>
                  <a:srgbClr val="000000"/>
                </a:solidFill>
                <a:uFillTx/>
                <a:latin typeface="Arial"/>
              </a:rPr>
              <a:t> </a:t>
            </a:r>
            <a:endParaRPr b="0" lang="en-US" sz="20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ذلك المعنى الذي يعطيك منظوراً تلسكوبياً واسعاً للحياة، وليس ذلك المعنى المحدود الضيق الذي لا يتجاوز حدود اهتمامك الذاتي. وإذا كان لديك هذا المعنى الكبير الممتد للحياة فإنك ستعمل للخلود وبالتالي ستكون أهدافك عظيمة ومحفزة لقدراتك لكي تنمو بشكل مضطرد. وعلامة نجاحك في الوصول إلى هذا المعنى هي شعور ثري وممتلئ بالحياة، ليس حياتك فقط بل أيضاً حياة الآخرين، وعمارة الكون، ذلك الشعور الجميل لا يحس به إلا من وصلوا إلى النضج الوجداني سعياً لوجه الله الذي امتدح صفات النضج الوجداني في رسوله صلى الله عليه وسلم قائلاً</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بِمَا رَحْمَةٍ مِنَ اللَّهِ لِنْتَ لَهُمْ وَلَوْ كُنْتَ فَظّاً غَلِيظَ الْقَلْبِ لَانْفَضُّوا مِنْ حَوْلِكَ فَاعْفُ عَنْهُمْ وَاسْتَغْفِرْ لَهُمْ وَشَاوِرْهُمْ فِي الْأَمْرِ فَإِذَا عَزَمْتَ فَتَوَكَّلْ عَلَى اللَّهِ إِنَّ اللَّهَ يُحِبُّ الْمُتَوَكِّلِينَ)</a:t>
            </a:r>
            <a:r>
              <a:rPr b="0" lang="en-US" sz="1400" spc="-1" strike="noStrike">
                <a:solidFill>
                  <a:srgbClr val="000000"/>
                </a:solidFill>
                <a:latin typeface="Arial"/>
              </a:rPr>
              <a:t> </a:t>
            </a:r>
            <a:r>
              <a:rPr b="1" lang="ar-SA" sz="1400" spc="-1" strike="noStrike">
                <a:solidFill>
                  <a:srgbClr val="000000"/>
                </a:solidFill>
                <a:latin typeface="Arial"/>
              </a:rPr>
              <a:t>صدق الله العظيم(آل عمران:</a:t>
            </a:r>
            <a:r>
              <a:rPr b="1" lang="ar-SA" sz="1400" spc="-1" strike="noStrike">
                <a:solidFill>
                  <a:srgbClr val="000000"/>
                </a:solidFill>
                <a:latin typeface="Arial"/>
              </a:rPr>
              <a:t>159</a:t>
            </a:r>
            <a:r>
              <a:rPr b="1" lang="ar-SA" sz="1400" spc="-1" strike="noStrike">
                <a:solidFill>
                  <a:srgbClr val="000000"/>
                </a:solidFill>
                <a:latin typeface="Arial"/>
              </a:rPr>
              <a:t>).</a:t>
            </a:r>
            <a:br>
              <a:rPr sz="1400"/>
            </a:br>
            <a:br>
              <a:rPr sz="1400"/>
            </a:br>
            <a:endParaRPr b="0" lang="en-US" sz="1400" spc="-1" strike="noStrike">
              <a:solidFill>
                <a:srgbClr val="000000"/>
              </a:solidFill>
              <a:latin typeface="Arial"/>
            </a:endParaRPr>
          </a:p>
        </p:txBody>
      </p:sp>
      <p:sp>
        <p:nvSpPr>
          <p:cNvPr id="111"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1698269-3777-4C74-AFF3-CA0169D658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ذكاء الوجداني في المدرس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type="subTitle"/>
          </p:nvPr>
        </p:nvSpPr>
        <p:spPr>
          <a:xfrm>
            <a:off x="304560" y="1219320"/>
            <a:ext cx="6095880" cy="3124080"/>
          </a:xfrm>
          <a:prstGeom prst="rect">
            <a:avLst/>
          </a:prstGeom>
          <a:noFill/>
          <a:ln w="9360">
            <a:solidFill>
              <a:srgbClr val="000000"/>
            </a:solidFill>
            <a:miter/>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في تجربة استمرت لمدة عامين أُدخلت مادة الذكاء الوجداني ضمن البرنامج الدراسي لمجموعة من الطلاب ثم تمت متابعة هؤلاء الطلاب لمدة ست سنوات بعد انتهاء التجربة فكانت النتيجة كما يلي</a:t>
            </a:r>
            <a:r>
              <a:rPr b="1" lang="ar-SA" sz="2000" spc="-1" strike="noStrike">
                <a:solidFill>
                  <a:srgbClr val="000000"/>
                </a:solidFill>
                <a:latin typeface="Arial"/>
              </a:rPr>
              <a:t> </a:t>
            </a:r>
            <a:r>
              <a:rPr b="1" lang="ar-SA" sz="2000" spc="-1" strike="noStrike">
                <a:solidFill>
                  <a:srgbClr val="000000"/>
                </a:solidFill>
                <a:latin typeface="Arial"/>
              </a:rPr>
              <a:t>: </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               </a:t>
            </a:r>
            <a:r>
              <a:rPr b="1" lang="ar-SA" sz="2000" spc="-1" strike="noStrike">
                <a:solidFill>
                  <a:srgbClr val="000000"/>
                </a:solidFill>
                <a:latin typeface="Arial"/>
              </a:rPr>
              <a:t>ازدياد قدرة الطلاب على التأقلم مع الشدة النفس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                </a:t>
            </a:r>
            <a:r>
              <a:rPr b="1" lang="ar-SA" sz="2000" spc="-1" strike="noStrike">
                <a:solidFill>
                  <a:srgbClr val="000000"/>
                </a:solidFill>
                <a:latin typeface="Arial"/>
              </a:rPr>
              <a:t>انخفاض نسبة الإدمان والعادات الغذائية السلبية</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                </a:t>
            </a:r>
            <a:r>
              <a:rPr b="1" lang="ar-SA" sz="2000" spc="-1" strike="noStrike">
                <a:solidFill>
                  <a:srgbClr val="000000"/>
                </a:solidFill>
                <a:latin typeface="Arial"/>
              </a:rPr>
              <a:t>انخفاض نسبة التصرفات العدوان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                </a:t>
            </a:r>
            <a:r>
              <a:rPr b="1" lang="ar-SA" sz="2000" spc="-1" strike="noStrike">
                <a:solidFill>
                  <a:srgbClr val="000000"/>
                </a:solidFill>
                <a:latin typeface="Arial"/>
              </a:rPr>
              <a:t>انخفاض نسبة التدخين</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ما ثبت أيضاً أن تنمية مهارات الذكاء الوجداني عند المدرسين يساعدهم على التواصل مع الطلاب بشكل أفضل</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114" name=""/>
          <p:cNvSpPr/>
          <p:nvPr/>
        </p:nvSpPr>
        <p:spPr>
          <a:xfrm>
            <a:off x="304920" y="4800600"/>
            <a:ext cx="5943600" cy="32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الفهم الجيد للذكاء العاطفى للطفل مفيد للأباء الذين يحاولوا المحافظة النظرية على ما هو مهم في تنشأة أطفالهم وبذلك فان الجينات الوراثية لنا تمدنا بنظم ونزعة اتجاة الصفات الشخصية و تجاربنا من خلال الحياة فى السنوات المبكرة للطفولة. الأطفال يطوروا جوهر شخصيتهم وحسهم بانفسهم و هم يطوروا المنظور الاجتماعي والطبيعي للعالم ومهارتهم فى قيادة السائدة والضحلة التى تتدعمهم على طول و الحافز للنجاح ينبع من الداخل و الأطفال يظهرعاطفته للأخرين و القدرة للأستجابة الوجداني ة طلوعاً ونزولاً عن الأخرين</a:t>
            </a:r>
            <a:r>
              <a:rPr b="1" i="1" lang="ar-S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96E02C3-0A8F-42AC-B737-8DA6C3ECFA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18:29:24Z</dcterms:created>
  <dc:creator>Mostafa</dc:creator>
  <dc:description/>
  <dc:language>en-US</dc:language>
  <cp:lastModifiedBy>boraq</cp:lastModifiedBy>
  <dcterms:modified xsi:type="dcterms:W3CDTF">2005-08-10T04:57:16Z</dcterms:modified>
  <cp:revision>141</cp:revision>
  <dc:subject/>
  <dc:title>الشريحة 1</dc:title>
</cp:coreProperties>
</file>