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54C-F61E-4A49-BC2B-518D36AF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BAC2-C3ED-4617-8C6B-7A3F6694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F9E-6BF1-4076-97E8-FCA462C7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1E3-A4C2-47E0-AAAF-60832DD2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C81C-74BB-40BA-84A6-5DD5C860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795C-FA8F-4077-AE50-3E4D3C95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DE6A-29E8-46C7-ABA7-5F643F5C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872A-D554-4CC8-839C-E925D0BD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E3BA-5415-4FA2-ABA7-7EDA3D0E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5BE8-E231-4B86-A577-2B308ACB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C463-0CC8-4812-A087-9C13D7B3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F0DD-5CEB-414B-BC8A-FB8AEEE0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F2CE-BFFD-40E2-A98A-20960F38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47F6-DF11-462D-A7CE-6E9599CD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12D9-0C4D-4F76-AD06-BD95DDEB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451C-3B1D-4743-B026-690A73D4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38E2-A50F-4E54-ADE5-B7E3A210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064-6222-458C-972C-ED5EC497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567-F047-42A5-9DED-800ECFE5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BFC3-85EF-43B9-950B-C16EDCB1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1D1B-694C-4686-9DF6-8555E26F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EC67-836F-4279-93CA-890E39DF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9A84-0C64-47DC-B411-B693D822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22D8-EA99-440C-A213-A158EFAF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341C-6F78-4118-B9F8-C4894A3A0C99}" type="slidenum">
              <a:rPr b="0" lang="ar-QA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ff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8C4B-DB9F-4A0D-99DD-5B6242A6DB6F}" type="slidenum">
              <a:rPr b="0" lang="ar-QA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.R.Craft@open.ac.uk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A.R.Craft@openac.uk" TargetMode="External"/><Relationship Id="rId2" Type="http://schemas.openxmlformats.org/officeDocument/2006/relationships/hyperlink" Target="mailto:A.R.Craft@openac.uk" TargetMode="External"/><Relationship Id="rId3" Type="http://schemas.openxmlformats.org/officeDocument/2006/relationships/hyperlink" Target="mailto:A.R.Craft@openac.uk" TargetMode="External"/><Relationship Id="rId4" Type="http://schemas.openxmlformats.org/officeDocument/2006/relationships/hyperlink" Target="http://opencreativity.open.ac.uk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52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 في المدارس </a:t>
            </a:r>
            <a:br>
              <a:rPr sz="5200"/>
            </a:br>
            <a:r>
              <a:rPr b="0" lang="ar-SA" sz="5200" spc="-1" strike="noStrike">
                <a:solidFill>
                  <a:srgbClr val="99ff99"/>
                </a:solidFill>
                <a:latin typeface="Garamond"/>
                <a:cs typeface="Arial"/>
              </a:rPr>
              <a:t>الفرص والتحديات</a:t>
            </a:r>
            <a:r>
              <a:rPr b="0" lang="ar-SA" sz="52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en-GB" sz="5200" spc="-1" strike="noStrike">
                <a:solidFill>
                  <a:srgbClr val="99ff99"/>
                </a:solidFill>
                <a:latin typeface="Garamond"/>
              </a:rPr>
              <a:t> </a:t>
            </a:r>
            <a:endParaRPr b="0" lang="en-US" sz="52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100" spc="-1" strike="noStrike">
                <a:solidFill>
                  <a:srgbClr val="ffffff"/>
                </a:solidFill>
                <a:latin typeface="Verdana"/>
                <a:cs typeface="Arial"/>
              </a:rPr>
              <a:t>آنا كرافت</a:t>
            </a:r>
            <a:r>
              <a:rPr b="0" lang="ar-SA" sz="21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Verdana"/>
                <a:cs typeface="Arial"/>
              </a:rPr>
              <a:t>الجامعة المفتوحة – إنجلترا</a:t>
            </a:r>
            <a:r>
              <a:rPr b="0" lang="ar-SA" sz="21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66ff"/>
                </a:solidFill>
                <a:uFillTx/>
                <a:latin typeface="Verdana"/>
                <a:hlinkClick r:id="rId1"/>
              </a:rPr>
              <a:t>ARCraft@openacuk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ملتقى السنوي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الثان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للمجلس الأعلى للتعليم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طوير التفكير الإبداعي للطلاب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15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مارس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دوحة – قطر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ُ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يمارس عالمياً في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ea typeface="Arial"/>
              </a:rPr>
              <a:t>..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سياسة التربو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بحوث / الشروح والتفاسي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طرائق وممارسات التدريس والتعل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خلفي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لقابلية للأداء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نام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التنافسية الاقتصادي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صور عالمية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ستراليا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بلجيكا، البرازيل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كندا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دنمارك، إنجلترا، فنلندا، فرنسا، هونج كون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ج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، ايسلندا، اليابان، هولندا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يرلندا الشمالية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قطر، اسكتلندا،  صربيا، سن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غ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فورة، سويسرا، تايوان،  ويلز، الولايات المتحدة الأمريك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أداء السوق كمؤشر للإبداع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ea typeface="Arial"/>
              </a:rPr>
              <a:t>*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لعام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1999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ea typeface="Arial"/>
              </a:rPr>
              <a:t>-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إنجلترا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NACCCE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تقرير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يرتبط إبداع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طالب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بتطور الثقاف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عريف: الإبداع نشاط يرتبط بالمخيلة ينتج عنه مخرجات جديدة 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بتكارية وذات قيم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كنشاط ديمقراط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734080"/>
            <a:ext cx="864216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800" spc="-1" strike="noStrike">
                <a:solidFill>
                  <a:srgbClr val="ffffff"/>
                </a:solidFill>
                <a:latin typeface="Verdana"/>
                <a:ea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ational Advisory Committee on Creative and Cultural Education</a:t>
            </a:r>
            <a:r>
              <a:rPr b="0" lang="ar-QA" sz="1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QA" sz="1800" spc="-1" strike="noStrike">
                <a:solidFill>
                  <a:srgbClr val="ffffff"/>
                </a:solidFill>
                <a:latin typeface="Verdana"/>
                <a:cs typeface="Arial"/>
              </a:rPr>
              <a:t>اللجنة الاستشارية الوطنية للتعليم الثقافي والإبداع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QCA 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 في </a:t>
            </a: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كتشف الإبداع!  طور ا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!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7440" y="1627200"/>
            <a:ext cx="705492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طرح الأسئلة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شبي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خي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شرح الأفكار وتوضيحها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فكير النقد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QC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QA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  <a:cs typeface="Arial"/>
              </a:rPr>
              <a:t>السلطة</a:t>
            </a:r>
            <a:r>
              <a:rPr b="0" lang="ar-QA" sz="1800" spc="-1" strike="noStrike">
                <a:solidFill>
                  <a:srgbClr val="ffffff"/>
                </a:solidFill>
                <a:latin typeface="Verdana"/>
                <a:ea typeface="Arial"/>
              </a:rPr>
              <a:t> المسؤولة عن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  <a:cs typeface="Arial"/>
              </a:rPr>
              <a:t>المؤهلات والمناهج الدراسية</a:t>
            </a:r>
            <a:r>
              <a:rPr b="0" lang="ar-QA" sz="1800" spc="-1" strike="noStrike">
                <a:solidFill>
                  <a:srgbClr val="ffffff"/>
                </a:solidFill>
                <a:latin typeface="Verdana"/>
                <a:ea typeface="Arial"/>
              </a:rPr>
              <a:t>-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  <a:cs typeface="Arial"/>
              </a:rPr>
              <a:t>إنجلترا</a:t>
            </a:r>
            <a:r>
              <a:rPr b="0" lang="ar-QA" sz="1800" spc="-1" strike="noStrike">
                <a:solidFill>
                  <a:srgbClr val="ffffff"/>
                </a:solidFill>
                <a:latin typeface="Verdana"/>
                <a:ea typeface="Arial"/>
              </a:rPr>
              <a:t> -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  <a:ea typeface="Arial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800600" y="4952880"/>
            <a:ext cx="259092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959360"/>
            <a:ext cx="2819160" cy="990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1773360"/>
            <a:ext cx="274320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352680"/>
            <a:ext cx="274320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188604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89cba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cs typeface="Arial"/>
              </a:rPr>
              <a:t>البحث أو التقصي الفاعل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5480" y="3398760"/>
            <a:ext cx="18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89cba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 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cs typeface="Arial"/>
              </a:rPr>
              <a:t>التعاون الواثق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41360" y="5199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cs typeface="Arial"/>
              </a:rPr>
              <a:t>الإدارة الذاتية العملية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51274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تعلم ال</a:t>
            </a:r>
            <a:r>
              <a:rPr b="1" lang="ar-QA" sz="2400" spc="-1" strike="noStrike">
                <a:solidFill>
                  <a:srgbClr val="ffffff"/>
                </a:solidFill>
                <a:latin typeface="Arial"/>
                <a:cs typeface="Arial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بتكار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3276720"/>
            <a:ext cx="2362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335268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89cba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cs typeface="Arial"/>
              </a:rPr>
              <a:t>المشاركة أو المساهمة  الخلاقة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04920"/>
            <a:ext cx="251460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533520"/>
            <a:ext cx="7848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ما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هي المهارات الشخصية، ومهارات القابلية للاستخدام، ومهارات التفكير والتعلم، التي </a:t>
            </a:r>
            <a:r>
              <a:rPr b="0" lang="ar-Q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ي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حتاجها الشباب </a:t>
            </a:r>
            <a:r>
              <a:rPr b="0" lang="ar-Q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من أجل النجاح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؟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32767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مميزات الشباب الناجح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92320" cy="28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تطوير ا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9930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دريس بصورة مبدع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دريس من أجل الإبدا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علم الإبداعي ال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بتكار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راشدون الذين يشجعون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على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64087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نهج وخبرات  ومعارف نموذجية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قديم مهام وأنشطة حقيقية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مكين الأطفال من عملية التحكم والضبط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وضيح كيفية تحمل المخاطر الحقيقية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حفيز الأطفال </a:t>
            </a:r>
            <a:r>
              <a:rPr b="0" lang="ar-QA" sz="2000" spc="-1" strike="noStrike">
                <a:solidFill>
                  <a:srgbClr val="ffffff"/>
                </a:solidFill>
                <a:latin typeface="Verdana"/>
                <a:cs typeface="Arial"/>
              </a:rPr>
              <a:t>على الإبداع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حديد مخرجات هادفة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كفالة الدراسة المتعمقة للنظم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استخدام اللغة في عملية الإثارة والتحفيز والتقيي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ffffff"/>
                </a:solidFill>
                <a:latin typeface="Verdana"/>
                <a:cs typeface="Arial"/>
              </a:rPr>
              <a:t>تحفيز الأطفال لإنجاز أكثر مما هو متوقع منهم</a:t>
            </a:r>
            <a:r>
              <a:rPr b="0" lang="ar-Q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صلة القيم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نمذجة وتشجيع وجود البدائل والخيارات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حدي الأطفال و</a:t>
            </a:r>
            <a:r>
              <a:rPr b="0" lang="ar-QA" sz="2000" spc="-1" strike="noStrike">
                <a:solidFill>
                  <a:srgbClr val="ffffff"/>
                </a:solidFill>
                <a:latin typeface="Verdana"/>
                <a:cs typeface="Arial"/>
              </a:rPr>
              <a:t>ت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حف</a:t>
            </a:r>
            <a:r>
              <a:rPr b="0" lang="ar-QA" sz="2000" spc="-1" strike="noStrike">
                <a:solidFill>
                  <a:srgbClr val="ffffff"/>
                </a:solidFill>
                <a:latin typeface="Verdana"/>
                <a:cs typeface="Arial"/>
              </a:rPr>
              <a:t>ي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زهم لأن يفكروا بصورة مختلفة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–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إعطاء الأطفال الوقت الكافي للتفكير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على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مستوى المدرسة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ea typeface="Arial"/>
              </a:rPr>
              <a:t>: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قدير وتثمين أفكار الأطفال والاحتفاء به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وفير بيئة مادية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مشجعة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معرفة ما يناسب المتعلمين على المستوى الفردي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حل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بالمرونة والخيا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رصد الواعي للممارسات والطرائق المعمول بها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هيئة  الفرص والخيارات اللازمة لحصص دراسية تتميز بالهدوء والتفكير التأمل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بتعاد عن ال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أ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نشطة التي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فتقر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ل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لتنظيم والتنسيق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شجيع المجازفة وتحمل المخاطر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على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مستوى المدرسة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عمل بصورة تعاونية داخل المدرسة وخارجه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دعم ورعاية التقدير والكرامة الذاتية للأطفال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إثارة الأسئلة، النزوع أو الميل إلى التأكيد ، تقديم الرؤى التحليلية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شجيع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طرح المناظرات والقضايا التي تحتمل أكثر من رأ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إجراء الحوار والتفاوض مع الطلا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النموذج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إدارة الوقت بفعال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، الثقافة، التقاليد: </a:t>
            </a:r>
            <a:br>
              <a:rPr sz="4000"/>
            </a:b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العول</a:t>
            </a:r>
            <a:r>
              <a:rPr b="0" lang="ar-QA" sz="4000" spc="-1" strike="noStrike">
                <a:solidFill>
                  <a:srgbClr val="99ff99"/>
                </a:solidFill>
                <a:latin typeface="Garamond"/>
                <a:cs typeface="Arial"/>
              </a:rPr>
              <a:t>ــ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مة كإشكالي</a:t>
            </a:r>
            <a:r>
              <a:rPr b="0" lang="ar-QA" sz="4000" spc="-1" strike="noStrike">
                <a:solidFill>
                  <a:srgbClr val="99ff99"/>
                </a:solidFill>
                <a:latin typeface="Garamond"/>
                <a:cs typeface="Arial"/>
              </a:rPr>
              <a:t>ـــــــــــــ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ة</a:t>
            </a:r>
            <a:r>
              <a:rPr b="0" lang="en-GB" sz="4000" spc="-1" strike="noStrike">
                <a:solidFill>
                  <a:srgbClr val="99ff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olicy discourse saturated with assumption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والقطاع الثقاف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بتكار والسوق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علم والمناصرين للنظرية البنيوية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-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دلالات  كل من معايير المناهج، التعلم، طرائق التدريس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سياق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عالمي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ل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قتصاد العالمي القائم  على المعرف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زدياد أهمية الإبداع والابتكار بالنسبة للاقتصاد الحديث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نظام  تعليمي يعكس هذه المتغيرات ويستوعبه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أجند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معايير (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كو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عادة على المستوى الفردي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(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كو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أحياناً على المستوى التعاوني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ثقافة: الشرق/ الشرق الأوسط/ الغرب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ثقافة عالمية أم خصوصية ثقافي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نموذج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للخصوصية الثقافي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0" y="0"/>
          <a:ext cx="9144000" cy="9418680"/>
        </p:xfrm>
        <a:graphic>
          <a:graphicData uri="http://schemas.openxmlformats.org/drawingml/2006/table">
            <a:tbl>
              <a:tblPr/>
              <a:tblGrid>
                <a:gridCol w="4488840"/>
                <a:gridCol w="216000"/>
                <a:gridCol w="4439160"/>
              </a:tblGrid>
              <a:tr h="61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شرق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غرب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131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ظيم محكم في ظل  وجود معايير وقواعد اجتماعية لتنظيم السلوك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ظيم غير محكم في ظل 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ضع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معايير وقواعد اجتماعية تنظم السلوك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1008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نزوع للجماعية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التركيز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على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جماع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الاجتماعي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نزوع للفردية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ركيز على الفرد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814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راتبي مع التمايز في الرتب والأدوار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يل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للمساواة مع تم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ز أقل بين الطبقات العليا والطبقات الدني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1277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أكيد  على النظام الاجتماعي و التناغم والانسجام  في الأسرة والمجتمع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أكيد على  التبادل الحر والديمقراطي للأفكار بين الأفراد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1435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هتمام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كبر بالرأ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والاستحسان والقبول الاجتماعي للجماعة ( العقل الجمعي)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كثر اهتماماً بإعمال القدرات الإبداعية للفرد  في الحياة العامة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Q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2801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-23760" y="302436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 والتطور الثقافي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6868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فكير الإبداعي متجذر ثقافيا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ينبغي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أ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ن تعكس المناهج الدراسية وطرائق التدريس والتعلم  هذا المكون الثقاف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ينبغي  تنمية  الإبداع والتطوير الثقافي ف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99ff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 الصف الدراسي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99ff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مدرسة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99ff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مؤسسات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99ff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مجتمع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عناوين  ختامية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معايير المناهج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يعملان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جنباً إلى جن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ستراتيجيات العملية للمع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ل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مين/ المدارس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في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سياق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الثقافة والتقالي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للاتصال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آنا كرافت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محاضرة  في الجامعة المفتوحة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ff"/>
                </a:solidFill>
                <a:uFillTx/>
                <a:latin typeface="Verdana"/>
                <a:hlinkClick r:id="rId1"/>
              </a:rPr>
              <a:t>A.R.Craft@openac</a:t>
            </a:r>
            <a:r>
              <a:rPr b="0" lang="en-US" sz="2400" spc="-1" strike="noStrike" u="sng">
                <a:solidFill>
                  <a:srgbClr val="0066ff"/>
                </a:solidFill>
                <a:uFillTx/>
                <a:latin typeface="Verdana"/>
                <a:hlinkClick r:id="rId2"/>
              </a:rPr>
              <a:t>.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Verdana"/>
                <a:hlinkClick r:id="rId3"/>
              </a:rPr>
              <a:t>uk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Verdana"/>
                <a:hlinkClick r:id="rId4"/>
              </a:rPr>
              <a:t>http://opencreativity.open.ac.uk/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399"/>
                </a:solidFill>
                <a:latin typeface="Verdana"/>
                <a:cs typeface="Arial"/>
              </a:rPr>
              <a:t>اعتمد هذا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  <a:ea typeface="Arial"/>
              </a:rPr>
              <a:t> العرض على كتاب: الإبداع في المدارس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ffffff"/>
                </a:solidFill>
                <a:latin typeface="Verdana"/>
                <a:cs typeface="Arial"/>
              </a:rPr>
              <a:t>تأليف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  <a:ea typeface="Arial"/>
              </a:rPr>
              <a:t> آنا كرافت، لندن روتليدج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 (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2005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)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عرض المداخلة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عولمة الإبدا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والمعايي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ستراتيجيات العمل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لإبداع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الثقافة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قالي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257040" y="2048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 في التعليم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27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ستجابة لاقتصاد السوق العالم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سياق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م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غي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ير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ت الاقتصادية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جتماعية والتقنية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سياق الاقتصادي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”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معرفة هي المصدر الأساسي للإنتاجية الاقتصادي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ة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(Seltzer and Bentley, 1999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Verdana"/>
                <a:cs typeface="Arial"/>
              </a:rPr>
              <a:t>الإنجاز الأكاديمي = التفوق والإبداع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دافع الاجتماعي ل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ضعف الثق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زدياد الضغوط على الشباب لعمل شيء مفيد ووضع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  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خيارات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هديد التقالي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ff99"/>
                </a:solidFill>
                <a:latin typeface="Garamond"/>
              </a:rPr>
              <a:t>   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تقنية المعلومات والاتصالات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981080"/>
            <a:ext cx="7392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الكام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المطلو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4292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 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سياق </a:t>
            </a:r>
            <a:r>
              <a:rPr b="0" lang="ar-SA" sz="4400" spc="-1" strike="noStrike">
                <a:solidFill>
                  <a:srgbClr val="ff3399"/>
                </a:solidFill>
                <a:latin typeface="Garamond"/>
                <a:cs typeface="Arial"/>
              </a:rPr>
              <a:t>المفاهيمي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ل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2205000"/>
            <a:ext cx="6553440" cy="38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سياق العالمي للإبد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لد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ى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كل شخص القابلية لأن يصبح  مبدعاً إذا ما تو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فرت له البيئة المناس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عالم مدفوع  باعتبارات الاختي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3:12:44Z</dcterms:created>
  <dc:creator>arc3</dc:creator>
  <dc:description/>
  <dc:language>en-US</dc:language>
  <cp:lastModifiedBy>hosam</cp:lastModifiedBy>
  <dcterms:modified xsi:type="dcterms:W3CDTF">2006-03-21T05:58:49Z</dcterms:modified>
  <cp:revision>142</cp:revision>
  <dc:subject/>
  <dc:title>Slide 1</dc:title>
</cp:coreProperties>
</file>