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2809-571E-494A-B97E-A5C84434F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C9A6-7D94-4494-B659-6BC79557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ACDD-E1A4-4CE4-A0C9-1902C6C19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8EBC-D95F-4A71-89A7-3725EEDFB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54B2-B742-46B6-B8A8-32292BD47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8C7B-A367-4EB2-894B-F699B1AE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2E8D-B559-45BA-9A88-DEE416FB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3DCC-0BA3-4B45-97AB-995B3F3A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FB44-C2A7-4C16-8EB8-EC4C8A2F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0B7A-8D2A-45DE-8305-8AC89983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2A21-AC31-4BA6-8A26-6A4F64A5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0E0C-2523-4469-B3C9-7E980A33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BE34-5177-4EE2-820E-096E3FC6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877D-0C75-4CF1-A13F-228136AF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23C6-6CD9-4F1E-BF36-35181B30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CFBB-CFC1-430C-89BF-86B5A9F5E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5DE6-E9F7-4574-ABD6-00A50F1A5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6317-CED5-455C-868A-07727281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B8D9-120F-4FBB-B7FF-EFC551AC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4767-8836-45F9-BB52-27CBCA81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BDE4-A0F9-44DC-9E64-EE69D96C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6D1D-703D-4F32-BBE0-E2F8F6C4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0AD6-CD61-493F-AD7A-CFBC248B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B612-3A30-41D8-B9EC-ED1331DC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cc99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QA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1324-7C22-4972-B60A-FE4A152B6F20}" type="slidenum">
              <a:rPr b="0" lang="ar-QA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ff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QA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7829-7510-479C-8440-E4FC9AA12508}" type="slidenum">
              <a:rPr b="0" lang="ar-QA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cc99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.R.Craft@open.ac.uk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A.R.Craft@openac.uk" TargetMode="External"/><Relationship Id="rId2" Type="http://schemas.openxmlformats.org/officeDocument/2006/relationships/hyperlink" Target="mailto:A.R.Craft@openac.uk" TargetMode="External"/><Relationship Id="rId3" Type="http://schemas.openxmlformats.org/officeDocument/2006/relationships/hyperlink" Target="mailto:A.R.Craft@openac.uk" TargetMode="External"/><Relationship Id="rId4" Type="http://schemas.openxmlformats.org/officeDocument/2006/relationships/hyperlink" Target="http://opencreativity.open.ac.uk/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5200" spc="-1" strike="noStrike">
                <a:solidFill>
                  <a:srgbClr val="99ff99"/>
                </a:solidFill>
                <a:latin typeface="Garamond"/>
                <a:cs typeface="Arial"/>
              </a:rPr>
              <a:t>الإبداع في المدارس </a:t>
            </a:r>
            <a:br>
              <a:rPr sz="5200"/>
            </a:br>
            <a:r>
              <a:rPr b="0" lang="ar-SA" sz="5200" spc="-1" strike="noStrike">
                <a:solidFill>
                  <a:srgbClr val="99ff99"/>
                </a:solidFill>
                <a:latin typeface="Garamond"/>
                <a:cs typeface="Arial"/>
              </a:rPr>
              <a:t>الفرص والتحديات</a:t>
            </a:r>
            <a:r>
              <a:rPr b="0" lang="ar-SA" sz="52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en-GB" sz="5200" spc="-1" strike="noStrike">
                <a:solidFill>
                  <a:srgbClr val="99ff99"/>
                </a:solidFill>
                <a:latin typeface="Garamond"/>
              </a:rPr>
              <a:t> </a:t>
            </a:r>
            <a:endParaRPr b="0" lang="en-US" sz="52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100" spc="-1" strike="noStrike">
                <a:solidFill>
                  <a:srgbClr val="ffffff"/>
                </a:solidFill>
                <a:latin typeface="Verdana"/>
                <a:cs typeface="Arial"/>
              </a:rPr>
              <a:t>آنا كرافت</a:t>
            </a:r>
            <a:r>
              <a:rPr b="0" lang="ar-SA" sz="21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ff"/>
                </a:solidFill>
                <a:latin typeface="Verdana"/>
                <a:cs typeface="Arial"/>
              </a:rPr>
              <a:t>الجامعة المفتوحة – إنجلترا</a:t>
            </a:r>
            <a:r>
              <a:rPr b="0" lang="ar-SA" sz="21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0066ff"/>
                </a:solidFill>
                <a:uFillTx/>
                <a:latin typeface="Verdana"/>
                <a:hlinkClick r:id="rId1"/>
              </a:rPr>
              <a:t>ARCraft@openacuk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ملتقى السنوي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ea typeface="Arial"/>
              </a:rPr>
              <a:t> الثاني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للمجلس الأعلى للتعليم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تطوير التفكير الإبداعي للطلاب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15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مارس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دوحة – قطر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ar-QA" sz="4400" spc="-1" strike="noStrike">
                <a:solidFill>
                  <a:srgbClr val="99ff99"/>
                </a:solidFill>
                <a:latin typeface="Garamond"/>
                <a:cs typeface="Arial"/>
              </a:rPr>
              <a:t>ُ</a:t>
            </a:r>
            <a:r>
              <a:rPr b="0" lang="ar-QA" sz="4400" spc="-1" strike="noStrike">
                <a:solidFill>
                  <a:srgbClr val="99ff99"/>
                </a:solidFill>
                <a:latin typeface="Garamond"/>
                <a:cs typeface="Arial"/>
              </a:rPr>
              <a:t>يمارس عالمياً في</a:t>
            </a:r>
            <a:r>
              <a:rPr b="0" lang="ar-QA" sz="4400" spc="-1" strike="noStrike">
                <a:solidFill>
                  <a:srgbClr val="99ff99"/>
                </a:solidFill>
                <a:latin typeface="Garamond"/>
                <a:ea typeface="Arial"/>
              </a:rPr>
              <a:t>..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سياسة التربوي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بحوث / الشروح والتفاسير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طرائق وممارسات التدريس والتعل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خلفية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القابلية للأداء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تنامي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التنافسية الاقتصادية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صور عالمية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ستراليا،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بلجيكا، البرازيل،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كندا،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دنمارك، إنجلترا، فنلندا، فرنسا، هونج كون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ج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، ايسلندا، اليابان، هولندا،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ea typeface="Arial"/>
              </a:rPr>
              <a:t> ا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يرلندا الشمالية،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قطر، اسكتلندا،  صربيا، سن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غ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فورة، سويسرا، تايوان،  ويلز، الولايات المتحدة الأمريكي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أداء السوق كمؤشر للإبداع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QA" sz="4400" spc="-1" strike="noStrike">
                <a:solidFill>
                  <a:srgbClr val="99ff99"/>
                </a:solidFill>
                <a:latin typeface="Garamond"/>
                <a:ea typeface="Arial"/>
              </a:rPr>
              <a:t>*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لعام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1999</a:t>
            </a:r>
            <a:r>
              <a:rPr b="0" lang="ar-QA" sz="4400" spc="-1" strike="noStrike">
                <a:solidFill>
                  <a:srgbClr val="99ff99"/>
                </a:solidFill>
                <a:latin typeface="Garamond"/>
                <a:ea typeface="Arial"/>
              </a:rPr>
              <a:t>-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إنجلترا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NACCCE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تقرير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يرتبط إبداع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طالب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بتطور الثقاف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تعريف: الإبداع نشاط يرتبط بالمخيلة ينتج عنه مخرجات جديدة 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ا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بتكارية وذات قيم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إبداع كنشاط ديمقراطي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5734080"/>
            <a:ext cx="8642160" cy="11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800" spc="-1" strike="noStrike">
                <a:solidFill>
                  <a:srgbClr val="ffffff"/>
                </a:solidFill>
                <a:latin typeface="Verdana"/>
                <a:ea typeface="Arial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National Advisory Committee on Creative and Cultural Education</a:t>
            </a:r>
            <a:r>
              <a:rPr b="0" lang="ar-QA" sz="1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QA" sz="1800" spc="-1" strike="noStrike">
                <a:solidFill>
                  <a:srgbClr val="ffffff"/>
                </a:solidFill>
                <a:latin typeface="Verdana"/>
                <a:cs typeface="Arial"/>
              </a:rPr>
              <a:t>اللجنة الاستشارية الوطنية للتعليم الثقافي والإبداع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QCA 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إبداع في </a:t>
            </a: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كتشف الإبداع!  طور الإبداع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!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77440" y="1627200"/>
            <a:ext cx="7054920" cy="45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طرح الأسئلة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شبي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خي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شرح الأفكار وتوضيحها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فكير النقدي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QCA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QA" sz="2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  <a:cs typeface="Arial"/>
              </a:rPr>
              <a:t>السلطة</a:t>
            </a:r>
            <a:r>
              <a:rPr b="0" lang="ar-QA" sz="1800" spc="-1" strike="noStrike">
                <a:solidFill>
                  <a:srgbClr val="ffffff"/>
                </a:solidFill>
                <a:latin typeface="Verdana"/>
                <a:ea typeface="Arial"/>
              </a:rPr>
              <a:t> المسؤولة عن 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  <a:cs typeface="Arial"/>
              </a:rPr>
              <a:t>المؤهلات والمناهج الدراسية</a:t>
            </a:r>
            <a:r>
              <a:rPr b="0" lang="ar-QA" sz="1800" spc="-1" strike="noStrike">
                <a:solidFill>
                  <a:srgbClr val="ffffff"/>
                </a:solidFill>
                <a:latin typeface="Verdana"/>
                <a:ea typeface="Arial"/>
              </a:rPr>
              <a:t>-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  <a:cs typeface="Arial"/>
              </a:rPr>
              <a:t>إنجلترا</a:t>
            </a:r>
            <a:r>
              <a:rPr b="0" lang="ar-QA" sz="1800" spc="-1" strike="noStrike">
                <a:solidFill>
                  <a:srgbClr val="ffffff"/>
                </a:solidFill>
                <a:latin typeface="Verdana"/>
                <a:ea typeface="Arial"/>
              </a:rPr>
              <a:t> -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  <a:ea typeface="Arial"/>
              </a:rPr>
              <a:t>200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800600" y="4952880"/>
            <a:ext cx="2590920" cy="990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4959360"/>
            <a:ext cx="2819160" cy="990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32000" y="1773360"/>
            <a:ext cx="274320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3352680"/>
            <a:ext cx="274320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188604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89cba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989cba"/>
                </a:solidFill>
                <a:latin typeface="Arial"/>
                <a:cs typeface="Arial"/>
              </a:rPr>
              <a:t>البحث أو التقصي الفاعل</a:t>
            </a:r>
            <a:r>
              <a:rPr b="1" lang="ar-SA" sz="2400" spc="-1" strike="noStrike">
                <a:solidFill>
                  <a:srgbClr val="989cba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5480" y="3398760"/>
            <a:ext cx="18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89cba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989cba"/>
                </a:solidFill>
                <a:latin typeface="Arial"/>
                <a:ea typeface="Arial"/>
              </a:rPr>
              <a:t>   </a:t>
            </a:r>
            <a:r>
              <a:rPr b="1" lang="ar-SA" sz="2400" spc="-1" strike="noStrike">
                <a:solidFill>
                  <a:srgbClr val="989cba"/>
                </a:solidFill>
                <a:latin typeface="Arial"/>
                <a:cs typeface="Arial"/>
              </a:rPr>
              <a:t>التعاون الواثق</a:t>
            </a:r>
            <a:r>
              <a:rPr b="1" lang="ar-SA" sz="2400" spc="-1" strike="noStrike">
                <a:solidFill>
                  <a:srgbClr val="989cba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41360" y="5199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89cba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989cba"/>
                </a:solidFill>
                <a:latin typeface="Arial"/>
                <a:cs typeface="Arial"/>
              </a:rPr>
              <a:t>الإدارة الذاتية العملية</a:t>
            </a:r>
            <a:r>
              <a:rPr b="1" lang="ar-SA" sz="2400" spc="-1" strike="noStrike">
                <a:solidFill>
                  <a:srgbClr val="989cba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76720" y="51274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Arial"/>
              </a:rPr>
              <a:t>التعلم ال</a:t>
            </a:r>
            <a:r>
              <a:rPr b="1" lang="ar-QA" sz="2400" spc="-1" strike="noStrike">
                <a:solidFill>
                  <a:srgbClr val="ffffff"/>
                </a:solidFill>
                <a:latin typeface="Arial"/>
                <a:cs typeface="Arial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Arial"/>
              </a:rPr>
              <a:t>بتكاري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00800" y="3276720"/>
            <a:ext cx="2362320" cy="1066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16720" y="335268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89cba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989cba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989cba"/>
                </a:solidFill>
                <a:latin typeface="Arial"/>
                <a:cs typeface="Arial"/>
              </a:rPr>
              <a:t>المشاركة أو المساهمة  الخلاقة</a:t>
            </a:r>
            <a:r>
              <a:rPr b="1" lang="ar-SA" sz="2400" spc="-1" strike="noStrike">
                <a:solidFill>
                  <a:srgbClr val="989cba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304920"/>
            <a:ext cx="2514600" cy="101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533520"/>
            <a:ext cx="7848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ما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هي المهارات الشخصية، ومهارات القابلية للاستخدام، ومهارات التفكير والتعلم، التي </a:t>
            </a:r>
            <a:r>
              <a:rPr b="0" lang="ar-Q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ي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حتاجها الشباب </a:t>
            </a:r>
            <a:r>
              <a:rPr b="0" lang="ar-Q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من أجل النجاح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؟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32767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Arial"/>
              </a:rPr>
              <a:t>مميزات الشباب الناجح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543800" y="228600"/>
            <a:ext cx="1192320" cy="289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تطوير الإبداع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9930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دريس بصورة مبدع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دريس من أجل الإبدا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علم الإبداعي ال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ا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بتكاري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راشدون الذين يشجعون </a:t>
            </a:r>
            <a:r>
              <a:rPr b="0" lang="ar-QA" sz="4400" spc="-1" strike="noStrike">
                <a:solidFill>
                  <a:srgbClr val="99ff99"/>
                </a:solidFill>
                <a:latin typeface="Garamond"/>
                <a:cs typeface="Arial"/>
              </a:rPr>
              <a:t>على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إبداع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58920" y="1699920"/>
            <a:ext cx="640872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نهج وخبرات  ومعارف نموذجية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تقديم مهام وأنشطة حقيقية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تمكين الأطفال من عملية التحكم والضبط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توضيح كيفية تحمل المخاطر الحقيقية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تحفيز الأطفال </a:t>
            </a:r>
            <a:r>
              <a:rPr b="0" lang="ar-QA" sz="2000" spc="-1" strike="noStrike">
                <a:solidFill>
                  <a:srgbClr val="ffffff"/>
                </a:solidFill>
                <a:latin typeface="Verdana"/>
                <a:cs typeface="Arial"/>
              </a:rPr>
              <a:t>على الإبداع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تحديد مخرجات هادفة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كفالة الدراسة المتعمقة للنظم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استخدام اللغة في عملية الإثارة والتحفيز والتقييم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000" spc="-1" strike="noStrike">
                <a:solidFill>
                  <a:srgbClr val="ffffff"/>
                </a:solidFill>
                <a:latin typeface="Verdana"/>
                <a:cs typeface="Arial"/>
              </a:rPr>
              <a:t>تحفيز الأطفال لإنجاز أكثر مما هو متوقع منهم</a:t>
            </a:r>
            <a:r>
              <a:rPr b="0" lang="ar-Q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صلة القيم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نمذجة وتشجيع وجود البدائل والخيارات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تحدي الأطفال و</a:t>
            </a:r>
            <a:r>
              <a:rPr b="0" lang="ar-QA" sz="2000" spc="-1" strike="noStrike">
                <a:solidFill>
                  <a:srgbClr val="ffffff"/>
                </a:solidFill>
                <a:latin typeface="Verdana"/>
                <a:cs typeface="Arial"/>
              </a:rPr>
              <a:t>ت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حف</a:t>
            </a:r>
            <a:r>
              <a:rPr b="0" lang="ar-QA" sz="2000" spc="-1" strike="noStrike">
                <a:solidFill>
                  <a:srgbClr val="ffffff"/>
                </a:solidFill>
                <a:latin typeface="Verdana"/>
                <a:cs typeface="Arial"/>
              </a:rPr>
              <a:t>ي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زهم لأن يفكروا بصورة مختلفة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–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إعطاء الأطفال الوقت الكافي للتفكير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ar-QA" sz="4400" spc="-1" strike="noStrike">
                <a:solidFill>
                  <a:srgbClr val="99ff99"/>
                </a:solidFill>
                <a:latin typeface="Garamond"/>
                <a:cs typeface="Arial"/>
              </a:rPr>
              <a:t>على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مستوى المدرسة</a:t>
            </a:r>
            <a:r>
              <a:rPr b="0" lang="ar-QA" sz="4400" spc="-1" strike="noStrike">
                <a:solidFill>
                  <a:srgbClr val="99ff99"/>
                </a:solidFill>
                <a:latin typeface="Garamond"/>
                <a:ea typeface="Arial"/>
              </a:rPr>
              <a:t>: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تقدير وتثمين أفكار الأطفال والاحتفاء بها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توفير بيئة مادية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مشجعة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معرفة ما يناسب المتعلمين على المستوى الفردي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حل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ي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بالمرونة والخيا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رصد الواعي للممارسات والطرائق المعمول بها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تهيئة  الفرص والخيارات اللازمة لحصص دراسية تتميز بالهدوء والتفكير التأملي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ابتعاد عن ال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أ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نشطة التي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تفتقر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ل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لتنظيم والتنسيق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تشجيع المجازفة وتحمل المخاطر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QA" sz="4400" spc="-1" strike="noStrike">
                <a:solidFill>
                  <a:srgbClr val="99ff99"/>
                </a:solidFill>
                <a:latin typeface="Garamond"/>
                <a:cs typeface="Arial"/>
              </a:rPr>
              <a:t>على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مستوى المدرسة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عمل بصورة تعاونية داخل المدرسة وخارجها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دعم ورعاية التقدير والكرامة الذاتية للأطفال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إثارة الأسئلة، النزوع أو الميل إلى التأكيد ، تقديم الرؤى التحليلية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تشجيع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طرح المناظرات والقضايا التي تحتمل أكثر من رأ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ي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إجراء الحوار والتفاوض مع الطلا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إبداع النموذجي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إدارة الوقت بفعالي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000" spc="-1" strike="noStrike">
                <a:solidFill>
                  <a:srgbClr val="99ff99"/>
                </a:solidFill>
                <a:latin typeface="Garamond"/>
                <a:cs typeface="Arial"/>
              </a:rPr>
              <a:t>الإبداع، الثقافة، التقاليد: </a:t>
            </a:r>
            <a:br>
              <a:rPr sz="4000"/>
            </a:br>
            <a:r>
              <a:rPr b="0" lang="ar-SA" sz="4000" spc="-1" strike="noStrike">
                <a:solidFill>
                  <a:srgbClr val="99ff99"/>
                </a:solidFill>
                <a:latin typeface="Garamond"/>
                <a:cs typeface="Arial"/>
              </a:rPr>
              <a:t>العول</a:t>
            </a:r>
            <a:r>
              <a:rPr b="0" lang="ar-QA" sz="4000" spc="-1" strike="noStrike">
                <a:solidFill>
                  <a:srgbClr val="99ff99"/>
                </a:solidFill>
                <a:latin typeface="Garamond"/>
                <a:cs typeface="Arial"/>
              </a:rPr>
              <a:t>ــ</a:t>
            </a:r>
            <a:r>
              <a:rPr b="0" lang="ar-SA" sz="4000" spc="-1" strike="noStrike">
                <a:solidFill>
                  <a:srgbClr val="99ff99"/>
                </a:solidFill>
                <a:latin typeface="Garamond"/>
                <a:cs typeface="Arial"/>
              </a:rPr>
              <a:t>مة كإشكالي</a:t>
            </a:r>
            <a:r>
              <a:rPr b="0" lang="ar-QA" sz="4000" spc="-1" strike="noStrike">
                <a:solidFill>
                  <a:srgbClr val="99ff99"/>
                </a:solidFill>
                <a:latin typeface="Garamond"/>
                <a:cs typeface="Arial"/>
              </a:rPr>
              <a:t>ـــــــــــــ</a:t>
            </a:r>
            <a:r>
              <a:rPr b="0" lang="ar-SA" sz="4000" spc="-1" strike="noStrike">
                <a:solidFill>
                  <a:srgbClr val="99ff99"/>
                </a:solidFill>
                <a:latin typeface="Garamond"/>
                <a:cs typeface="Arial"/>
              </a:rPr>
              <a:t>ة</a:t>
            </a:r>
            <a:r>
              <a:rPr b="0" lang="en-GB" sz="4000" spc="-1" strike="noStrike">
                <a:solidFill>
                  <a:srgbClr val="99ff99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olicy discourse saturated with assumption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إبداع والقطاع الثقافي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ابتكار والسوق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علم والمناصرين للنظرية البنيوية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-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دلالات  كل من معايير المناهج، التعلم، طرائق التدريس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سياق </a:t>
            </a:r>
            <a:r>
              <a:rPr b="0" lang="ar-Q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عالمي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للإبداع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اقتصاد العالمي القائم  على المعرف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زدياد أهمية الإبداع والابتكار بالنسبة للاقتصاد الحديث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نظام  تعليمي يعكس هذه المتغيرات ويستوعبها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أجندة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معايير (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تكون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عادة على المستوى الفردي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إبداع (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تكون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أحياناً على المستوى التعاوني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ثقافة: الشرق/ الشرق الأوسط/ الغرب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ثقافة عالمية أم خصوصية ثقافية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؟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نموذج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للخصوصية الثقافية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: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0" y="0"/>
          <a:ext cx="9144000" cy="9418680"/>
        </p:xfrm>
        <a:graphic>
          <a:graphicData uri="http://schemas.openxmlformats.org/drawingml/2006/table">
            <a:tbl>
              <a:tblPr/>
              <a:tblGrid>
                <a:gridCol w="4488840"/>
                <a:gridCol w="216000"/>
                <a:gridCol w="4439160"/>
              </a:tblGrid>
              <a:tr h="61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شرق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غرب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1131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ظيم محكم في ظل  وجود معايير وقواعد اجتماعية لتنظيم السلوك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ظيم غير محكم في ظل  </a:t>
                      </a:r>
                      <a:r>
                        <a:rPr b="0" lang="ar-Q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بضعة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معايير وقواعد اجتماعية تنظم السلوك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33"/>
                    </a:solidFill>
                  </a:tcPr>
                </a:tc>
              </a:tr>
              <a:tr h="1008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نزوع للجماعية </a:t>
                      </a:r>
                      <a:r>
                        <a:rPr b="0" lang="ar-Q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والتركيز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على </a:t>
                      </a:r>
                      <a:r>
                        <a:rPr b="0" lang="ar-Q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جماعة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الاجتماعية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نزوع للفردية </a:t>
                      </a:r>
                      <a:r>
                        <a:rPr b="0" lang="ar-Q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و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تركيز على الفرد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33"/>
                    </a:solidFill>
                  </a:tcPr>
                </a:tc>
              </a:tr>
              <a:tr h="814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راتبي مع التمايز في الرتب والأدوار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ar-Q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ميل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للمساواة مع تم</a:t>
                      </a:r>
                      <a:r>
                        <a:rPr b="0" lang="ar-Q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ز أقل بين الطبقات العليا والطبقات الدنيا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33"/>
                    </a:solidFill>
                  </a:tcPr>
                </a:tc>
              </a:tr>
              <a:tr h="1277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تأكيد  على النظام الاجتماعي و التناغم والانسجام  في الأسرة والمجتمع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تأكيد على  التبادل الحر والديمقراطي للأفكار بين الأفراد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33"/>
                    </a:solidFill>
                  </a:tcPr>
                </a:tc>
              </a:tr>
              <a:tr h="1435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هتمام </a:t>
                      </a:r>
                      <a:r>
                        <a:rPr b="0" lang="ar-Q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كبر بالرأ</a:t>
                      </a:r>
                      <a:r>
                        <a:rPr b="0" lang="ar-Q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والاستحسان والقبول الاجتماعي للجماعة ( العقل الجمعي)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كثر اهتماماً بإعمال القدرات الإبداعية للفرد  في الحياة العامة</a:t>
                      </a:r>
                      <a:r>
                        <a:rPr b="0" lang="ar-Q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ar-Q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33"/>
                    </a:solidFill>
                  </a:tcPr>
                </a:tc>
              </a:tr>
              <a:tr h="28015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-23760" y="3024360"/>
            <a:ext cx="85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إبداع والتطور الثقافي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68680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فكير الإبداعي متجذر ثقافيا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ينبغي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أ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ن تعكس المناهج الدراسية وطرائق التدريس والتعلم  هذا المكون الثقافي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ينبغي  تنمية  الإبداع والتطوير الثقافي في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99ff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  <a:ea typeface="Arial"/>
              </a:rPr>
              <a:t> الصف الدراسي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99ff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  <a:cs typeface="Arial"/>
              </a:rPr>
              <a:t>المدرسة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99ff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  <a:cs typeface="Arial"/>
              </a:rPr>
              <a:t>المؤسسات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99ff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  <a:cs typeface="Arial"/>
              </a:rPr>
              <a:t>المجتمع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عناوين  ختامية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إبداع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و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معايير المناهج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يعملان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جنباً إلى جن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استراتيجيات العملية للمع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ل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مين/ المدارس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إبداع في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ea typeface="Arial"/>
              </a:rPr>
              <a:t> سياق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الثقافة والتقالي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للاتصال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  <a:cs typeface="Arial"/>
              </a:rPr>
              <a:t>آنا كرافت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  <a:cs typeface="Arial"/>
              </a:rPr>
              <a:t>محاضرة  في الجامعة المفتوحة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ff"/>
                </a:solidFill>
                <a:uFillTx/>
                <a:latin typeface="Verdana"/>
                <a:hlinkClick r:id="rId1"/>
              </a:rPr>
              <a:t>A.R.Craft@openac</a:t>
            </a:r>
            <a:r>
              <a:rPr b="0" lang="en-US" sz="2400" spc="-1" strike="noStrike" u="sng">
                <a:solidFill>
                  <a:srgbClr val="0066ff"/>
                </a:solidFill>
                <a:uFillTx/>
                <a:latin typeface="Verdana"/>
                <a:hlinkClick r:id="rId2"/>
              </a:rPr>
              <a:t>.</a:t>
            </a:r>
            <a:r>
              <a:rPr b="0" lang="en-GB" sz="2400" spc="-1" strike="noStrike" u="sng">
                <a:solidFill>
                  <a:srgbClr val="0066ff"/>
                </a:solidFill>
                <a:uFillTx/>
                <a:latin typeface="Verdana"/>
                <a:hlinkClick r:id="rId3"/>
              </a:rPr>
              <a:t>uk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ff"/>
                </a:solidFill>
                <a:uFillTx/>
                <a:latin typeface="Verdana"/>
                <a:hlinkClick r:id="rId4"/>
              </a:rPr>
              <a:t>http://opencreativity.open.ac.uk/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3399"/>
                </a:solidFill>
                <a:latin typeface="Verdana"/>
                <a:cs typeface="Arial"/>
              </a:rPr>
              <a:t>اعتمد هذا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  <a:ea typeface="Arial"/>
              </a:rPr>
              <a:t> العرض على كتاب: الإبداع في المدارس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ffffff"/>
                </a:solidFill>
                <a:latin typeface="Verdana"/>
                <a:cs typeface="Arial"/>
              </a:rPr>
              <a:t>تأليف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  <a:ea typeface="Arial"/>
              </a:rPr>
              <a:t> آنا كرافت، لندن روتليدج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 (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2005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)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عرض المداخلة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عولمة الإبدا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إبداع والمعايير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استراتيجيات العملي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ا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لإبداع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،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الثقافة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و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قالي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257040" y="20480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إبداع في التعليم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920" y="2133720"/>
            <a:ext cx="727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ستجابة لاقتصاد السوق العالمي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سياق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من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غي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ير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ت الاقتصادية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و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اجتماعية والتقنية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سياق الاقتصادي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ffffff"/>
                </a:solidFill>
                <a:latin typeface="Verdana"/>
                <a:ea typeface="Arial"/>
              </a:rPr>
              <a:t>”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معرفة هي المصدر الأساسي للإنتاجية الاقتصادي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ة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(Seltzer and Bentley, 1999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Verdana"/>
                <a:cs typeface="Arial"/>
              </a:rPr>
              <a:t>الإنجاز الأكاديمي = التفوق والإبداع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دافع الاجتماعي للإبداع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ضعف الثق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زدياد الضغوط على الشباب لعمل شيء مفيد ووضع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    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خيارات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تهديد التقالي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ff99"/>
                </a:solidFill>
                <a:latin typeface="Garamond"/>
              </a:rPr>
              <a:t>   </a:t>
            </a:r>
            <a:r>
              <a:rPr b="0" lang="ar-SA" sz="4000" spc="-1" strike="noStrike">
                <a:solidFill>
                  <a:srgbClr val="99ff99"/>
                </a:solidFill>
                <a:latin typeface="Garamond"/>
                <a:cs typeface="Arial"/>
              </a:rPr>
              <a:t>تقنية المعلومات والاتصالات</a:t>
            </a:r>
            <a:r>
              <a:rPr b="0" lang="ar-SA" sz="40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1981080"/>
            <a:ext cx="7392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  <a:cs typeface="Arial"/>
              </a:rPr>
              <a:t>الإبداع الكام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  <a:cs typeface="Arial"/>
              </a:rPr>
              <a:t>الإبداع المطلو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4292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 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سياق </a:t>
            </a:r>
            <a:r>
              <a:rPr b="0" lang="ar-SA" sz="4400" spc="-1" strike="noStrike">
                <a:solidFill>
                  <a:srgbClr val="ff3399"/>
                </a:solidFill>
                <a:latin typeface="Garamond"/>
                <a:cs typeface="Arial"/>
              </a:rPr>
              <a:t>المفاهيمي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للإبداع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63640" y="2205000"/>
            <a:ext cx="6553440" cy="38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سياق العالمي للإبدا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لد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ى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كل شخص القابلية لأن يصبح  مبدعاً إذا ما تو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ا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فرت له البيئة المناس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عالم مدفوع  باعتبارات الاختي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13:12:44Z</dcterms:created>
  <dc:creator>arc3</dc:creator>
  <dc:description/>
  <dc:language>en-US</dc:language>
  <cp:lastModifiedBy>hosam</cp:lastModifiedBy>
  <dcterms:modified xsi:type="dcterms:W3CDTF">2006-03-21T05:58:49Z</dcterms:modified>
  <cp:revision>142</cp:revision>
  <dc:subject/>
  <dc:title>Slide 1</dc:title>
</cp:coreProperties>
</file>