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8E0E-8A43-4280-B7B3-A97412C5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AEF-1FAE-45D2-BA00-43DC4BF0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2E97-6655-433A-AC48-4009E30F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9DD-54AC-458A-8A95-8ACBCFD3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61B1-5A4C-4BDB-A37A-CA039FDB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2617-AD56-4BE9-9282-21F7998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AE16-A873-4CF4-A9AF-EBC1FCBF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FBDE6-CA77-4B16-81A7-631A0B48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5488-5517-47DD-BB0B-BBF5CF7D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D36E-78E4-4FA8-853D-B2B82DE1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47BE-27C4-4C0C-A7F9-B2C8B557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D403-CD22-42E7-B47B-17878C2E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9B42-9099-4C12-B48C-405BA89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32E0-4752-4EC9-A243-A295D15D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63BA-6819-4CF3-BF3E-83BD6898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DDB5C-BCEA-4AC1-87CC-841FF1D4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C547-9BAF-42EA-985F-D1D3F49C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5453-70A8-4784-876F-2E95E543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1B4-2A4B-4672-88DC-00EE075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3A3-6FB3-46C5-9A39-03E0818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3D4-0779-432F-8B72-1ED3D14E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8B36-D8C8-4F97-8431-3A312C5C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E0E-42B2-4F97-BA40-5002ADB5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EB90-1F80-4D57-B6FE-A12185FD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9B6B-2C6D-4810-BD42-2A2D8D7E5B3B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ff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315-360A-4BEF-9CF0-89CE31188E57}" type="slidenum">
              <a:rPr b="0" lang="ar-QA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cc99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.R.Craft@open.ac.uk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A.R.Craft@openac.uk" TargetMode="External"/><Relationship Id="rId2" Type="http://schemas.openxmlformats.org/officeDocument/2006/relationships/hyperlink" Target="mailto:A.R.Craft@openac.uk" TargetMode="External"/><Relationship Id="rId3" Type="http://schemas.openxmlformats.org/officeDocument/2006/relationships/hyperlink" Target="mailto:A.R.Craft@openac.uk" TargetMode="External"/><Relationship Id="rId4" Type="http://schemas.openxmlformats.org/officeDocument/2006/relationships/hyperlink" Target="http://opencreativity.open.ac.uk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مدارس </a:t>
            </a:r>
            <a:br>
              <a:rPr sz="5200"/>
            </a:br>
            <a:r>
              <a:rPr b="0" lang="ar-SA" sz="5200" spc="-1" strike="noStrike">
                <a:solidFill>
                  <a:srgbClr val="99ff99"/>
                </a:solidFill>
                <a:latin typeface="Garamond"/>
                <a:cs typeface="Arial"/>
              </a:rPr>
              <a:t>الفرص والتحديات</a:t>
            </a:r>
            <a:r>
              <a:rPr b="0" lang="ar-SA" sz="52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52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52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100" spc="-1" strike="noStrike">
                <a:solidFill>
                  <a:srgbClr val="ffffff"/>
                </a:solidFill>
                <a:latin typeface="Verdana"/>
                <a:cs typeface="Arial"/>
              </a:rPr>
              <a:t>الجامعة المفتوحة – إنجلترا</a:t>
            </a:r>
            <a:r>
              <a:rPr b="0" lang="ar-SA" sz="21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RCraft@openacuk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لتقى السنو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ان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للمجلس الأعلى للتعليم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طوير التفكير الإبداعي للطلاب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15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ارس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وحة – قط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ُ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يمارس عالمياً في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..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سة التربو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بحوث / الشروح والتفاس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ائق وممارسات التدريس والتعل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ل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قابلية للأداء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نا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تنافسية الاقتصاد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صور عال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رالي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لجيكا، البرازيل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ك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دنمارك، إنجلترا، فنلندا، فرنسا، هونج كو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، ايسلندا، اليابان، هولندا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لندا الشمالية،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قطر، اسكتلندا،  صربيا، سن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غ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فورة، سويسرا، تايوان،  ويلز، الولايات المتحدة الأمريك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داء السوق كمؤشر للإبداع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*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عام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1999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-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إنجلترا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NACCCE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قرير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رتبط 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طالب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تطور الثقا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عريف: الإبداع نشاط يرتبط بالمخيلة ينتج عنه مخرجات جديدة 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ة وذات قيم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كنشاط ديمقراط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34080"/>
            <a:ext cx="864216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National Advisory Committee on Creative and Cultural Education</a:t>
            </a:r>
            <a:r>
              <a:rPr b="0" lang="ar-QA" sz="1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لجنة الاستشارية الوطنية للتعليم الثقافي والإبداع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QCA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كتشف الإبداع!  طو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!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7440" y="1627200"/>
            <a:ext cx="705492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أسئل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شبي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خي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شرح الأفكار وتوضيح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نقد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QCA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سلط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مسؤولة عن 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المؤهلات والمناهج الدراسية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cs typeface="Arial"/>
              </a:rPr>
              <a:t>إنجلترا</a:t>
            </a:r>
            <a:r>
              <a:rPr b="0" lang="ar-QA" sz="1800" spc="-1" strike="noStrike">
                <a:solidFill>
                  <a:srgbClr val="ffffff"/>
                </a:solidFill>
                <a:latin typeface="Verdana"/>
                <a:ea typeface="Arial"/>
              </a:rPr>
              <a:t> -</a:t>
            </a:r>
            <a:r>
              <a:rPr b="0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800600" y="4952880"/>
            <a:ext cx="2590920" cy="9907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959360"/>
            <a:ext cx="2819160" cy="9907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32000" y="1773360"/>
            <a:ext cx="274320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352680"/>
            <a:ext cx="274320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188604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بحث أو التقصي الفاعل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5480" y="3398760"/>
            <a:ext cx="18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تعاون الواثق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41360" y="5199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إدارة الذاتية العملي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51274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تعلم ال</a:t>
            </a:r>
            <a:r>
              <a:rPr b="1" lang="ar-QA" sz="2400" spc="-1" strike="noStrike">
                <a:solidFill>
                  <a:srgbClr val="ffffff"/>
                </a:solidFill>
                <a:latin typeface="Arial"/>
                <a:cs typeface="Arial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بتكار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276720"/>
            <a:ext cx="2362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3526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89cba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cs typeface="Arial"/>
              </a:rPr>
              <a:t>المشاركة أو المساهمة  الخلاقة</a:t>
            </a:r>
            <a:r>
              <a:rPr b="1" lang="ar-SA" sz="2400" spc="-1" strike="noStrike">
                <a:solidFill>
                  <a:srgbClr val="989cb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304920"/>
            <a:ext cx="2514600" cy="101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5335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ا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هي المهارات الشخصية، ومهارات القابلية للاستخدام، ومهارات التفكير والتعلم، التي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ي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حتاجها الشباب </a:t>
            </a:r>
            <a:r>
              <a:rPr b="0" lang="ar-Q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من أجل النجاح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"/>
              </a:rPr>
              <a:t>؟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32767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مميزات الشباب الناجح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92320" cy="28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تطوير 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930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بصورة مبدع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دريس من أجل الإبدا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الإبداعي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بتكار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راشدون الذين يشجعون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640872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هج وخبرات  ومعارف نموذج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قديم مهام وأنشطة حقيقي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مكين الأطفال من عملية التحكم والضبط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وضيح كيفية تحمل المخاطر الحقيقي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على الإبداع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د مخرجات هادفة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كفالة الدراسة المتعمقة للنظم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استخدام اللغة في عملية الإثارة والتحفيز والتقييم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حفيز الأطفال لإنجاز أكثر مما هو متوقع منهم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صلة القيم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نمذجة وتشجيع وجود البدائل والخيارات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تحدي الأطفال و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ت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حف</a:t>
            </a:r>
            <a:r>
              <a:rPr b="0" lang="ar-QA" sz="20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زهم لأن يفكروا بصورة مختلفة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–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Verdana"/>
                <a:cs typeface="Arial"/>
              </a:rPr>
              <a:t>إعطاء الأطفال الوقت الكافي للتفكير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ea typeface="Arial"/>
              </a:rPr>
              <a:t>: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قدير وتثمين أفكار الأطفال والاحتفاء 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وفير بيئة م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شجع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رفة ما يناسب المتعلمين على المستوى الفردي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ح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بالمرونة والخيا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رصد الواعي للممارسات والطرائق المعمول بها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يئة  الفرص والخيارات اللازمة لحصص دراسية تتميز بالهدوء والتفكير التأمل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عاد عن ال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شطة الت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فتق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تنظيم والتنسي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المجازفة وتحمل المخاطر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على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مستوى المدرس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عمل بصورة تعاونية داخل المدرسة وخارج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عم ورعاية التقدير والكرامة الذاتية للأطفا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ثارة الأسئلة، النزوع أو الميل إلى التأكيد ، تقديم الرؤى التحليل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شجيع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طرح المناظرات والقضايا التي تحتمل أكثر من رأ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جراء الحوار والتفاوض مع الطلا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نموذ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إدارة الوقت بفعا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، الثقافة، التقاليد: </a:t>
            </a:r>
            <a:br>
              <a:rPr sz="4000"/>
            </a:b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العول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مة كإشكالي</a:t>
            </a:r>
            <a:r>
              <a:rPr b="0" lang="ar-QA" sz="4000" spc="-1" strike="noStrike">
                <a:solidFill>
                  <a:srgbClr val="99ff99"/>
                </a:solidFill>
                <a:latin typeface="Garamond"/>
                <a:cs typeface="Arial"/>
              </a:rPr>
              <a:t>ـــــــــــــ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ة</a:t>
            </a: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olicy discourse saturated with assumption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قطاع الثقاف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بتكار والسو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علم والمناصرين للنظرية البنيوية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-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دلالات  كل من معايير المناهج، التعلم، طرائق التدري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Q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عال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قتصاد العالمي القائم  على المعرف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أهمية الإبداع والابتكار بالنسبة للاقتصاد الحديث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ظام  تعليمي يعكس هذه المتغيرات ويستوعبه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أجند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ايير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دة على المستوى الفرد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(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تكو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أحياناً على المستوى التعاوني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ثقافة: الشرق/ الشرق الأوسط/ الغرب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ثقافة عالمية أم خصوصية 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موذ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لخصوصية الثقافية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-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0" y="0"/>
          <a:ext cx="9144000" cy="9418680"/>
        </p:xfrm>
        <a:graphic>
          <a:graphicData uri="http://schemas.openxmlformats.org/drawingml/2006/table">
            <a:tbl>
              <a:tblPr/>
              <a:tblGrid>
                <a:gridCol w="4488840"/>
                <a:gridCol w="216000"/>
                <a:gridCol w="4439160"/>
              </a:tblGrid>
              <a:tr h="61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شرق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cs typeface="Times New Roman"/>
                        </a:rPr>
                        <a:t>الغرب</a:t>
                      </a:r>
                      <a:r>
                        <a:rPr b="1" lang="ar-S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GB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131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محكم في ظل  وجود معايير وقواعد اجتماعية لتنظي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ظيم غير محكم في ظل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بض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معايير وقواعد اجتماعية تنظم السلوك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008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جماع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التركيز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على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جماع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الاجتماعية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نزوع للفردية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ركيز على الفرد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814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اتبي مع التمايز في الرتب والأدوار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يل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للمساواة مع تم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ز أقل بين الطبقات العليا والطبقات الدني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277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 على النظام الاجتماعي و التناغم والانسجام  في الأسرة والمجتمع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أكيد على  التبادل الحر والديمقراطي للأفكار بين الأفراد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1435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هتمام 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كبر بالرأ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والاستحسان والقبول الاجتماعي للجماعة ( العقل الجمعي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كثر اهتماماً بإعمال القدرات الإبداعية للفرد  في الحياة العامة</a:t>
                      </a:r>
                      <a:r>
                        <a:rPr b="0" lang="ar-Q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Q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33"/>
                    </a:solidFill>
                  </a:tcPr>
                </a:tc>
              </a:tr>
              <a:tr h="28015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-23760" y="302436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والتطور الثقافي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68680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فكير الإبداعي متجذر ثقافيا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أ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ن تعكس المناهج الدراسية وطرائق التدريس والتعلم  هذا المكون الثقا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ينبغي  تنمية  الإبداع والتطوير الثقافي ف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الصف الدراسي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درسة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ؤسسات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99ff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مجتمع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ناوين  ختامي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عايير المناهج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عملان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جنباً إلى جن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 للم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مين/ المدارس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ف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 سياق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و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للاتصال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آنا كرافت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محاضرة  في الجامعة المفتوح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1"/>
              </a:rPr>
              <a:t>A.R.Craft@openac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2"/>
              </a:rPr>
              <a:t>.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Verdana"/>
                <a:hlinkClick r:id="rId3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ff"/>
                </a:solidFill>
                <a:uFillTx/>
                <a:latin typeface="Verdana"/>
                <a:hlinkClick r:id="rId4"/>
              </a:rPr>
              <a:t>http://opencreativity.open.ac.uk/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3399"/>
                </a:solidFill>
                <a:latin typeface="Verdana"/>
                <a:cs typeface="Arial"/>
              </a:rPr>
              <a:t>اعتمد هذا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العرض على كتاب: الإبداع في المدار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1800" spc="-1" strike="noStrike">
                <a:solidFill>
                  <a:srgbClr val="ffffff"/>
                </a:solidFill>
                <a:latin typeface="Verdana"/>
                <a:cs typeface="Arial"/>
              </a:rPr>
              <a:t>تأليف</a:t>
            </a:r>
            <a:r>
              <a:rPr b="1" lang="ar-SA" sz="1800" spc="-1" strike="noStrike">
                <a:solidFill>
                  <a:srgbClr val="ffffff"/>
                </a:solidFill>
                <a:latin typeface="Verdana"/>
                <a:ea typeface="Arial"/>
              </a:rPr>
              <a:t> آنا كرافت، لندن روتليدج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2005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)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عرض المداخلة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ولمة الإبدا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والمعايي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ستراتيجيات العمل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إبداع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،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الثقاف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257040" y="204804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إبداع في التعليم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ستجابة لاقتصاد السوق العالمي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-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سياق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تغ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ير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ت الاقتصادية 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اجتماعية والتقنية</a:t>
            </a:r>
            <a:r>
              <a:rPr b="0" lang="ar-SA" sz="2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الاقتصاد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2800" spc="-1" strike="noStrike">
                <a:solidFill>
                  <a:srgbClr val="ffffff"/>
                </a:solidFill>
                <a:latin typeface="Verdana"/>
                <a:ea typeface="Arial"/>
              </a:rPr>
              <a:t>”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معرفة هي المصدر الأساسي للإنتاجية الاقتصادي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ة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(Seltzer and Bentley, 1999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cs typeface="Arial"/>
              </a:rPr>
              <a:t>الإنجاز الأكاديمي = التفوق والإبداع</a:t>
            </a: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دافع الاجتماعي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99ff99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ضعف الثق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زدياد الضغوط على الشباب لعمل شيء مفيد ووضع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      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خيارات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6699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تهديد التقالي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ff99"/>
                </a:solidFill>
                <a:latin typeface="Garamond"/>
              </a:rPr>
              <a:t>   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cs typeface="Arial"/>
              </a:rPr>
              <a:t>تقنية المعلومات والاتصالات</a:t>
            </a:r>
            <a:r>
              <a:rPr b="0" lang="ar-SA" sz="40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981080"/>
            <a:ext cx="739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كام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Verdana"/>
                <a:cs typeface="Arial"/>
              </a:rPr>
              <a:t>الإبداع المطلو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4292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ff99"/>
                </a:solidFill>
                <a:latin typeface="Garamond"/>
              </a:rPr>
              <a:t>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  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cs typeface="Arial"/>
              </a:rPr>
              <a:t>السياق </a:t>
            </a:r>
            <a:r>
              <a:rPr b="0" lang="ar-SA" sz="4400" spc="-1" strike="noStrike">
                <a:solidFill>
                  <a:srgbClr val="ff3399"/>
                </a:solidFill>
                <a:latin typeface="Garamond"/>
                <a:cs typeface="Arial"/>
              </a:rPr>
              <a:t>المفاهيمي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للإبداع</a:t>
            </a:r>
            <a:r>
              <a:rPr b="0" lang="ar-SA" sz="4400" spc="-1" strike="noStrike">
                <a:solidFill>
                  <a:srgbClr val="99ff99"/>
                </a:solidFill>
                <a:latin typeface="Garamond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2205000"/>
            <a:ext cx="6553440" cy="38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السياق العالمي للإبدا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لد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ى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كل شخص القابلية لأن يصبح  مبدعاً إذا ما تو</a:t>
            </a:r>
            <a:r>
              <a:rPr b="0" lang="ar-QA" sz="2800" spc="-1" strike="noStrike">
                <a:solidFill>
                  <a:srgbClr val="ffffff"/>
                </a:solidFill>
                <a:latin typeface="Verdana"/>
                <a:cs typeface="Arial"/>
              </a:rPr>
              <a:t>ا</a:t>
            </a: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فرت له البيئة المناسب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  <a:cs typeface="Arial"/>
              </a:rPr>
              <a:t>عالم مدفوع  باعتبارات الاخت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4T13:12:44Z</dcterms:created>
  <dc:creator>arc3</dc:creator>
  <dc:description/>
  <dc:language>en-US</dc:language>
  <cp:lastModifiedBy>hosam</cp:lastModifiedBy>
  <dcterms:modified xsi:type="dcterms:W3CDTF">2006-03-21T05:58:49Z</dcterms:modified>
  <cp:revision>142</cp:revision>
  <dc:subject/>
  <dc:title>Slide 1</dc:title>
</cp:coreProperties>
</file>