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C6C-3782-417B-B5B0-A9AE6DE1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975-1CA9-4A9B-9F07-632EE42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2D5-E26F-4C0E-8DC5-40E6B34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6B4-A54C-45A9-9E5C-BAB229D6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9EC0-72CE-4CDE-8DD7-885928B1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0F82-BAC8-4B28-A7E0-72C2C949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3683-46E3-40A1-AB23-6C5F47F3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0AC-D2B0-4DA3-B759-CD801168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9CBC-CE84-4984-80A1-8A2EBAC4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1C5-AEB6-4B23-BE1A-BAC8872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020-CEC9-482C-8DE5-765D535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D9E-187A-4956-AEA6-0FDB97BB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9206-20F2-49FE-B614-A84E374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799B-BB1C-48C4-BD17-F192018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5DA-9CED-4073-9396-2F9BD3F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C50C-A66F-43E8-9928-A8AE3567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8BE-AF0D-4CCB-A946-2E0B002E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B7F-F180-40EF-9C94-3689620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89C-473A-409F-8523-C4C182F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394-B5C5-434C-AB09-D1654C5A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EBF-0C37-4114-9F09-381E3343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357-EDEA-4C68-A6E7-0564EC4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696-EFE8-421F-9545-12E71B2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A78-8B90-49C5-8FBD-18A07AD4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375-7378-404A-9845-C77D9255D0F7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6F6-3AA5-4940-8058-D6D2AB0379BA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R.Craft@open.ac.uk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.R.Craft@openac.uk" TargetMode="External"/><Relationship Id="rId2" Type="http://schemas.openxmlformats.org/officeDocument/2006/relationships/hyperlink" Target="mailto:A.R.Craft@openac.uk" TargetMode="External"/><Relationship Id="rId3" Type="http://schemas.openxmlformats.org/officeDocument/2006/relationships/hyperlink" Target="mailto:A.R.Craft@openac.uk" TargetMode="External"/><Relationship Id="rId4" Type="http://schemas.openxmlformats.org/officeDocument/2006/relationships/hyperlink" Target="http://opencreativity.open.ac.u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مدارس </a:t>
            </a:r>
            <a:br>
              <a:rPr sz="5200"/>
            </a:b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فرص والتحديات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الجامعة المفتوحة – إنجلترا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RCraft@openacu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لتقى السنو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ان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للمجلس الأعلى للتعليم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طوير التفكير الإبداعي للطلاب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15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ارس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وحة – قط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ُ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يمارس عالمياً في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..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سة التربو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بحوث / الشروح والتفاس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ائق وممارسات التدريس والتعل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ل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قابلية للأداء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نا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تنافسية الاقتصاد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صور عال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رالي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لجيكا، البرازيل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ك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نمارك، إنجلترا، فنلندا، فرنسا، هونج كو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، ايسلندا، اليابان، هول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لندا الشمالية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قطر، اسكتلندا،  صربيا، س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غ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فورة، سويسرا، تايوان،  ويلز، الولايات المتحدة الأمريك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داء السوق كمؤشر للإبداع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*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عام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1999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-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إنجلترا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NACCCE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قرير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تبط 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طالب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تطور الثقا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عريف: الإبداع نشاط يرتبط بالمخيلة ينتج عنه مخرجات جديدة 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ة وذات ق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كنشاط ديمقراط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864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ional Advisory Committee on Creative and Cultural Education</a:t>
            </a:r>
            <a:r>
              <a:rPr b="0" lang="ar-QA" sz="1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لجنة الاستشارية الوطنية للتعليم الثقافي والإبداع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QCA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كتشف الإبداع!  طو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!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7440" y="1627200"/>
            <a:ext cx="70549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أسئل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شبي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خي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شرح الأفكار وتوضيح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نقد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Q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سلط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مسؤولة عن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مؤهلات والمناهج الدراسي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إنجلترا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00600" y="4952880"/>
            <a:ext cx="25909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959360"/>
            <a:ext cx="281916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773360"/>
            <a:ext cx="274320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352680"/>
            <a:ext cx="27432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8860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بحث أو التقصي الفاعل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339876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تعاون الواثق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5199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إدارة الذاتية العملي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127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علم ال</a:t>
            </a:r>
            <a:r>
              <a:rPr b="1" lang="ar-QA" sz="24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بتكار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76720"/>
            <a:ext cx="2362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مشاركة أو المساهمة  الخلاق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920"/>
            <a:ext cx="2514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ا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ي المهارات الشخصية، ومهارات القابلية للاستخدام، ومهارات التفكير والتعلم، التي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تاجها الشباب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ن أجل النجاح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؟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276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ميزات الشباب الناجح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92320" cy="28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طوي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بصورة مبدع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من أجل الإبدا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الإبداعي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راشدون الذين يشجعون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408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هج وخبرات  ومعارف نموذج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قديم مهام وأنشطة حقيق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مكين الأطفال من عملية التحكم والضبط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وضيح كيفية تحمل المخاطر الحقيقي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على الإبداع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د مخرجات هادف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كفالة الدراسة المتعمقة للنظم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استخدام اللغة في عملية الإثارة والتحفيز والتقيي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لإنجاز أكثر مما هو متوقع منهم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صلة القيم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مذجة وتشجيع وجود البدائل والخيارات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 الأطفال و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حف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زهم لأن يفكروا بصورة مختلف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إعطاء الأطفال الوقت الكافي للتفكير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: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قدير وتثمين أفكار الأطفال والاحتفاء 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وفير بيئة م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شجع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رفة ما يناسب المتعلمين على المستوى الفردي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ح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المرونة والخيا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رصد الواعي للممارسات والطرائق المعمول ب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يئة  الفرص والخيارات اللازمة لحصص دراسية تتميز بالهدوء والتفكير التأمل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عاد عن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شطة الت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فتق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تنظيم والتنسي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المجازفة وتحمل المخاطر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عمل بصورة تعاونية داخل المدرسة وخارج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عم ورعاية التقدير والكرامة الذاتية للأطفا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ثارة الأسئلة، النزوع أو الميل إلى التأكيد ، تقديم الرؤى التحليل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مناظرات والقضايا التي تحتمل أكثر من رأ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جراء الحوار والتفاوض مع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نموذ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دارة الوقت بفعا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، الثقافة، التقاليد: </a:t>
            </a:r>
            <a:br>
              <a:rPr sz="4000"/>
            </a:b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عول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مة كإشكالي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ـــــــــ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ة</a:t>
            </a: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cy discourse saturated with assump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قطاع الثقاف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كار والسو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والمناصرين للنظرية البنيو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-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لالات  كل من معايير المناهج، التعلم، طرائق التدري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عال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قتصاد العالمي القائم  على المعر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أهمية الإبداع والابتكار بالنسبة للاقتصاد الحدي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ظام  تعليمي يعكس هذه المتغيرات ويستوع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أجند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ايير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دة على المستوى الفرد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حياناً على المستوى التعاون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ثقافة: الشرق/ الشرق الأوسط/ الغرب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ثقافة عالمية أم خصوصية 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موذ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لخصوصية ال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9418680"/>
        </p:xfrm>
        <a:graphic>
          <a:graphicData uri="http://schemas.openxmlformats.org/drawingml/2006/table">
            <a:tbl>
              <a:tblPr/>
              <a:tblGrid>
                <a:gridCol w="4488840"/>
                <a:gridCol w="216000"/>
                <a:gridCol w="443916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رق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ب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131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محكم في ظل  وجود معايير وقواعد اجتماعية لتنظي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غير محكم في ظل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ض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معايير وقواعد اجتماعية تنظ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00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جماع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تركيز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على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جما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الاجتماعي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فرد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كيز على الفرد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814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تبي مع التمايز في الرتب والأدوار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يل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للمساواة مع تم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ز أقل بين الطبقات العليا والطبقات الدني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2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 على النظام الاجتماعي و التناغم والانسجام  في الأسرة والمجتمع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على  التبادل الحر والديمقراطي للأفكار بين الأفراد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435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هتمام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بر بالرأ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والاستحسان والقبول الاجتماعي للجماعة ( العقل الجمعي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ثر اهتماماً بإعمال القدرات الإبداعية للفرد  في الحياة العامة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Q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280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23760" y="30243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والتطور الثقافي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إبداعي متجذر ثقافيا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 تعكس المناهج الدراسية وطرائق التدريس والتعلم  هذا المكون الثقا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 تنمية  الإبداع والتطوير الثقافي 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الصف الدراس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درس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ؤسسا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جتمع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ناوين  ختا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ايير المناه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عملان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نباً إلى جن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 للم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ين/ المدار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ف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سيا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و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لاتصال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محاضرة  في الجامعة المفتوح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.R.Craft@openac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4"/>
              </a:rPr>
              <a:t>http://opencreativity.open.ac.uk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99"/>
                </a:solidFill>
                <a:latin typeface="Verdana"/>
                <a:cs typeface="Arial"/>
              </a:rPr>
              <a:t>اعتمد هذا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عرض على كتاب: الإبداع في المدار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تأليف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آنا كرافت، لندن روتليدج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رض المداخل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ولمة الإبدا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معاي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إبدا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2048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تعليم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جابة لاقتصاد السوق العال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سياق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غ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ت الاقتص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جتماعية والتقني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الاقتصاد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”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رفة هي المصدر الأساسي للإنتاجية الاقتصاد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ة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Seltzer and Bentley, 199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rial"/>
              </a:rPr>
              <a:t>الإنجاز الأكاديمي = التفوق والإبداع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دافع الاجتماعي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ضعف الث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الضغوط على الشباب لعمل شيء مفيد ووض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يار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ديد 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 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تقنية المعلومات والاتصالات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كام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مطلو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SA" sz="4400" spc="-1" strike="noStrike">
                <a:solidFill>
                  <a:srgbClr val="ff3399"/>
                </a:solidFill>
                <a:latin typeface="Garamond"/>
                <a:cs typeface="Arial"/>
              </a:rPr>
              <a:t>المفاهي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05000"/>
            <a:ext cx="655344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ق العالمي للإب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د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ى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كل شخص القابلية لأن يصبح  مبدعاً إذا ما تو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فرت له البيئ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لم مدفوع  باعتبارات الاخت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2:44Z</dcterms:created>
  <dc:creator>arc3</dc:creator>
  <dc:description/>
  <dc:language>en-US</dc:language>
  <cp:lastModifiedBy>hosam</cp:lastModifiedBy>
  <dcterms:modified xsi:type="dcterms:W3CDTF">2006-03-21T05:58:49Z</dcterms:modified>
  <cp:revision>142</cp:revision>
  <dc:subject/>
  <dc:title>Slide 1</dc:title>
</cp:coreProperties>
</file>