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841-9848-4894-A340-5B74640A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DF8-4AAA-42B1-8D07-42E1AE5B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C48-DB50-450B-84E9-14AD6C2C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53B-ADD4-4C64-87D4-323B4442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0DD-A021-4D24-80BB-A6D04132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14A6-D0EA-4AE2-9CFD-00031F32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EA84-131F-41F4-B575-215B154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C10F-4BD1-45CE-88C8-3B361264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22D3-265C-4B57-A674-EF11D2A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8D10-2B7B-4453-8DAB-4979AFE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B600-090C-4770-87C1-4D8D9DE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DFC-5088-4396-A229-EDA2CF1D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FE7-EF3C-40E8-910F-44A42533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162F-C0AF-4468-B82C-2EA10C5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4808-C9EF-431A-931E-1CC29C1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363-0EA0-4520-8575-74A82D28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83F-C7CB-443E-8A51-B1780933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139-E4BF-402E-9B4B-B024C1F7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839-400F-4612-902C-350878AD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080-D4E3-4249-99C8-D8AC8F4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AD6-4BAF-4753-A30F-8734807A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23B-61DE-4BCA-A2DC-1925210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0ED-1A83-4390-BF28-3A76D5D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59B-93B2-475E-8EEB-10C2F21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6500-4E85-49A3-B436-B37C76EED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4AAE-5674-4A80-8DFA-692FE043CA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hyperlink" Target="http://images.google.co.uk/imgres?imgurl=www.salt.cheshire.org.uk/mfl/IMAGES/GIF/IMAGE73.GIF&amp;imgrefurl=http://www.salt.cheshire.org.uk/mfl/THEORY/MULTI.HTM&amp;h=306&amp;w=510&amp;prev=/images%3Fq%3DKinaesthetic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عقل و القدرات الكبيرة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WW.MAHARTY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خالد الجد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L_JUDAIA@HOTMAIL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أكبر خوف عند البشر –أكبر من خوفهم من الثعابين و العناكب و الأمراض و الأعداء- هو خوفهم من التحدث أمام الجماه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امؤلف القصص يتمتع بذكاء اجتماعي كبير فلكي تكتب قصة ناجحة فلا بد من تقمص الشخصيات المتنوعة التي 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جتم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راءة سيرة العظم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سع أفاقك الإجتماعية بحضور المناسبات الاجتماعية المختلف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حرص على حضور دورات تطوير الذ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اعتناء بالمظهر الخارج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علم أن تستمع ضعف ماتتحد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عود نفسك على رؤية الأشياء الجميلة في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كتشف تميز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قائق عن التعل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يتعلم الناس بشكل فعال عندما يتم وضعهم تحت تشد عصبي, الراحه و التحدي هما الحالة المثلى للتعل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سريع عندما يرغبون في التعلم, التحفيز عنصر مهم للتعلم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خ يحتاج إلى وقود , الأكسجين و الماء و البروتين و الراحة متطلبات أساسية للمخ لكي يعمل بفعال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عقل بشكل فعال عندما يشعر يشعر بقيمة شيء م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حسن عملية التعلم بشكل فعال عندما يتم إشراك المخ بالكا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ذكر الناس المشاعر و الأحداث و التجارب غير المتوقعة,  وهو مايعني أننا نتذكر الإطار العام أكثر من المحتو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ذكر عمليه دراماتيكيه يمكن تحسينها بالاكثار من استدعاء المعلومات. بدون استدعاء المعلومات تتبخر سريع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أفضل عند بداية التجربة و نهايتها أكثر من من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الناس المختلف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علم الناس بطرق مختلف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من الناس من يفضل أن يرى المعلو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منهم من يتعلم بفعالية إذا سم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منهم من يتعلم بفعالية إذا عمل أو جرب أو لم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712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789360"/>
            <a:ext cx="1219320" cy="73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943600"/>
            <a:ext cx="7772400" cy="86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بداع في التعلم هو أن نجمع بين كل هذه الطر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950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للتفكير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ahoma"/>
              </a:rPr>
              <a:t>القبعات الست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كورت في التفكير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خريطة الذهنية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02564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765360" cy="816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340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ات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حد الطرق لتطوير التفكير الإبداعي هي القبعات الس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قبعة البيضاء – معلومات و حقائق , ماهي المعلومات التي نلكها الآن و كيف يمكن الحصول عليها و من من نحصل عليها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القبعة الحمراء – المشاعر , الحد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بعة السوداء النقد , المخاوف و الحذر و إدارة المخاط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قبعة الصفراء المنافع , الفوائ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b83d"/>
                </a:solidFill>
                <a:latin typeface="Tahoma"/>
              </a:rPr>
              <a:t>القبعة الخضراء التوسع , المرونة و الخيارات و البدائل و الأفكار الجديدة و وجهات النظر الأخر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القبعة الزرقاء الإدراك , إدارة العمليات, التأكد من وضوح القواع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203480"/>
          <a:ext cx="895500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8955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ورت في التفكير كورت 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تبر هذه واحده من ست أدوات التفكير الإبداعي الهدف منها تركيز التفكير على موضوع واحد ثم إستخارج أفكار خارج إطار الفكر التقليدي للفر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V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جهة نظر الآخرين : فكر بالموضوع من وجهة نظر الآخ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MI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إيجابيات و و السلبيات و النقاط المهم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F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خذ كل العوامل بعين الإعتبار و انظر من جميع الزواي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&amp; S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ستخدم إطار زمني للتعرف على العواق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O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فكر بأهدافك و غايات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P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أولوي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C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بدائل و الاحتمالات و الخيار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رائط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3097440" cy="4105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59640" y="2205000"/>
            <a:ext cx="21603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شجرية تستخدم للتفريع و التصن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3213000"/>
            <a:ext cx="194292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المزدوجة للمقارنات و الاختلا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4292640"/>
            <a:ext cx="1871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تدفقات المتعددة لتحليل الأسباب و الأث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5516640"/>
            <a:ext cx="1871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جسور لمتابعة التمو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421000"/>
            <a:ext cx="21589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دائرية لتعريف الأطر الع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284640"/>
            <a:ext cx="20894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لشرح الموا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تدفق للترتيب و التسل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373720"/>
            <a:ext cx="2808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أقواس لتوضيح علاقة الجزء و ال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حدي رق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 تصورك للنحله قم بكتابة كل ماتعتق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ن النحلة قادرة على فعلة .... على سبيل المثال الطيرا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يك خمس دقائق للقيام بهذا التح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الوقت سوف نقوم بكتابة كل ما استخرجتموه من أعمال للنح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يف استطاعت النحله القيام بكل هذه الأعمال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بالطبع استخدمت عقل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مع هذا فالنحلة لا تملك أكثر م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9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خلية م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درات الهائلة للعق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12556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خريطة الذه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جود الفكرة الأساسية في المتصف يجعلها أكثر وضوح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كثر قابلية للتذكر بسبب شبكة الأفكار المتعلقة ببعضها و الخريطة الذهنية ترسم بهذا الأسلوب مما يسهل على العقل عملية ربط المعلومات ببعضها البعض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لمات الرئيسية تربط بصور مما يسهل تذكرها و فهمها نظرا لتفعيل كلا نصفي الدم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عنى كرتبط بالذاكرة و الخريطة الذهنية تربط المعاني ببعضها مما يسهل تذكر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67240" y="214200"/>
          <a:ext cx="5387760" cy="5994360"/>
        </p:xfrm>
        <a:graphic>
          <a:graphicData uri="http://schemas.openxmlformats.org/drawingml/2006/table">
            <a:tbl>
              <a:tblPr/>
              <a:tblGrid>
                <a:gridCol w="3597120"/>
                <a:gridCol w="17906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أيم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ايسر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شمولية – الكل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عرا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س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ط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لا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داخ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خارج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بدا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اهج والقوانين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راس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لغة المكتوب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شكال ثلاثة الأبعاد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هارات الحسا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خيل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عقل والإدرا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قبل المؤثرات الخارجية – السل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وان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ام بالكثير من الأشياء في نفس الوقت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تابع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عملي –الإجرائ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لفظ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س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فكري – ذهن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ركي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حلي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 rot="5400000">
            <a:off x="-972360" y="270900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قلك المده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قلك المذهل – الآلة القابل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زنه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.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اوند وهو مايعادل وزن دجاجه صغيره مشوي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خلايا المخ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0,000,000,0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عادل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مليار خلية ضوئ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45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 عصبية موص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تحسس للمدخ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جمع بين تخيل الصور و اللغات و الأصو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لا محدود من القدرة على التخزين و السرعة في الاسترجاع و هو مايفوق أعتى أجهزة الحاسب في العا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فاعل و ي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تقليد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وم النظرة التقليدية للذكاء على أنه ثابت و عام و منحصر في المجال الأكاديمي (ذكاء الكلمات و الأعداد) و يمكن قياسه بواسطة اختبار الذكا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. أثرت هذه النظرة التقليدية سلبا على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حجيم الذكاء إلى نوعين فقط هما ذكاء الأعداد و ذكاء الكلم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حماس و تحفز الطلا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نجاح البعض بناء على قاعدة ”ما أذكاني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قعات المعلمين و الأكاديمي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العلاقة بين الطلاب و المعلم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نظمة الدعم و المساعدةطريقة تنظيم و اعداد المدار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حديث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ذكاء غير محدود و قابل للتعلم و للزيادة مالم يكن هناك مشكلة عضوية في المخ. و أن هناك أنواع متعددة للذكاء (عشرة أنواع ) نستطيع تطويرها كلها و بعضها يؤثر على 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هناك أنواع متعددة من الذكاء تصل إلى عشرة أنوا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ثبتت هذه الأنواع من خلال دراسة البروفسور هاورد قاردنر في جامعة هارفر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شرة أنواع ل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شخص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جتم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روح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بد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ح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عد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مكا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ك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256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1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قدرة على التفكير بطرق جديد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اصر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طلاقه وهي سرعة سرد الأفكار الجديدة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رونة وهي القدرة على النظر إلى نفس الشيء من زوايا متعددة و القدرة على التفكير من وجهة النظر الأخرى و القدرة على صيغاة الأفكار القديمة بطرق مبتكر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صالة وهي القدرة على انتاج أفكار غير عاد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وسع في الأفكار وهي قدرة المفكر الإبداعي على التوسع بفكرته و تنميتها و زيادة تفصيل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عدد الأفكار التي يستطيع إطلاقها عقلك أكبر من عدد ذرات الكو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توماس أديسون و الذي ابتكر أكثر من ألف اختراع قد فصل من الدرسة عندما كان عمره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سن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بد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لعاب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برامج الحاسوب التي تطور 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ة الشعر و تعلم الرس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رد القصص و الإستماع لها و محاولة التنبؤ بأحداث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فكير في شيء مستحي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حل الألغا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حلام اليقظ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خرائط العق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درة على التعامل مع الآخرين بإيجاب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همية الذكاء الإجت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كون لديك الذكاء الإجتماعي فإنك ستفهم و تقدر الشخصيات المختلفة التي تتعامل معها كما ستفهم الدوافع المحركة لتصرفاتهم و ستفهم حاجاتهم الشخصية و ستعرف كيف يشعرون بالسرور و الارتياح عندما يكونون مع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حاجة الفطرية عند الإنسان إلى المحبة و العاط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إنسجام و التوافق م الآخرين شيء شديد الأهمية بالنسبة لنجاحن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جر العظيم من الله بسبب مخالطة الناس بالخلق الحس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18:52Z</dcterms:created>
  <dc:creator>haq</dc:creator>
  <dc:description/>
  <dc:language>en-US</dc:language>
  <cp:lastModifiedBy>zulfi</cp:lastModifiedBy>
  <dcterms:modified xsi:type="dcterms:W3CDTF">2006-05-11T13:08:35Z</dcterms:modified>
  <cp:revision>36</cp:revision>
  <dc:subject/>
  <dc:title>Slide 1</dc:title>
</cp:coreProperties>
</file>