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11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87F2-34EB-49DE-8F5F-2D7CBA7AA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8D97-0E49-4D72-A3D2-63C3EC88B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A790-8BA6-43E3-AF1E-3262BC45C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5A5D-5785-4AF5-8DAA-1A6BB9129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89160-176F-497D-9D2E-7362D4859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F1BE5-A898-406C-BB38-FDB668AFC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16333-D412-4964-9531-55F77B806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B13F2-CCF4-4B25-8952-74BDEB53B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9E3E4-4ECB-411B-ADAB-1013C00BE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4A17E-10AB-4166-A98A-543E4A7AE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87D64-C011-4D2F-A024-E0BCCCB7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A668-9C13-4BA4-BBD2-1B33DFA12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FF646-EC65-462A-9152-94E9C01F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475B0-91FA-468E-AF4C-EF190B14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032E7-5868-446C-A294-D056BE306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1DF21-22F2-47CF-BC95-308B525AD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270D8-21B7-4712-9B1D-D9DC95A71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AB85-6AC1-4B50-95BA-5BED8DB99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60D0-C2EA-41B7-8616-B7B0D533D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98B8-0756-4F78-8F15-51E38A1AF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4257-9EFB-4AB5-BAD6-A17F7DE6B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1015-EF8E-4E2A-B39A-AF0A3124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03EB-DA3C-42FB-B448-658B2A39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605C-E47D-43D2-82D6-FB9CA7A3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1E673-07C3-4168-82E0-B72FC88EF7D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97BDE-358D-4F51-A59A-28E3729BEB7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hyperlink" Target="http://images.google.co.uk/imgres?imgurl=www.salt.cheshire.org.uk/mfl/IMAGES/GIF/IMAGE73.GIF&amp;imgrefurl=http://www.salt.cheshire.org.uk/mfl/THEORY/MULTI.HTM&amp;h=306&amp;w=510&amp;prev=/images%3Fq%3DKinaesthetic%26svnum%3D10%26hl%3Den%26lr%3D%26ie%3DUTF-8%26oe%3DUTF-8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691920"/>
            <a:ext cx="7772400" cy="24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3399"/>
                </a:solidFill>
                <a:latin typeface="Tahoma"/>
              </a:rPr>
              <a:t>العقل و القدرات الكبيرة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WW.MAHARTY.CO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خالد الجدي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AL_JUDAIA@HOTMAIL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3399"/>
                </a:solidFill>
                <a:latin typeface="Tahoma"/>
              </a:rPr>
              <a:t>الذكاء الإجتماع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169992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هل تعل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 algn="r" rtl="1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أن أكبر خوف عند البشر –أكبر من خوفهم من الثعابين و العناكب و الأمراض و الأعداء- هو خوفهم من التحدث أمام الجماهير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 algn="r" rtl="1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أن امؤلف القصص يتمتع بذكاء اجتماعي كبير فلكي تكتب قصة ناجحة فلا بد من تقمص الشخصيات المتنوعة التي تصفها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طرق تنمية الذكاء الإجتماع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 algn="r" rtl="1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قراءة سيرة العظماء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 algn="r" rtl="1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وسع أفاقك الإجتماعية بحضور المناسبات الاجتماعية المختلف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 algn="r" rtl="1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حرص على حضور دورات تطوير الذات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 algn="r" rtl="1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اعتناء بالمظهر الخارج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 algn="r" rtl="1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تعلم أن تستمع ضعف ماتتحدث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 algn="r" rtl="1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عود نفسك على رؤية الأشياء الجميلة في الآخري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 algn="r" rtl="1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كتشف تميز الآخري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3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6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8" dur="5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تعل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حقائق عن التعل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 algn="r" rtl="1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لايتعلم الناس بشكل فعال عندما يتم وضعهم تحت تشد عصبي, الراحه و التحدي هما الحالة المثلى للتعل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 algn="r" rtl="1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يتعلم الناس بشكل سريع عندما يرغبون في التعلم, التحفيز عنصر مهم للتعلم الفعال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 algn="r" rtl="1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مخ يحتاج إلى وقود , الأكسجين و الماء و البروتين و الراحة متطلبات أساسية للمخ لكي يعمل بفعالية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 algn="r" rtl="1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يتعلم العقل بشكل فعال عندما يشعر يشعر بقيمة شيء ما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 algn="r" rtl="1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 algn="r" rtl="1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 algn="r" rtl="1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تتحسن عملية التعلم بشكل فعال عندما يتم إشراك المخ بالكام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يتذكر الناس المشاعر و الأحداث و التجارب غير المتوقعة,  وهو مايعني أننا نتذكر الإطار العام أكثر من المحتوى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تذكر عمليه دراماتيكيه يمكن تحسينها بالاكثار من استدعاء المعلومات. بدون استدعاء المعلومات تتبخر سريعا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يتعلم الناس بشكل أفضل عند بداية التجربة و نهايتها أكثر من منتصفها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r" rtl="1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طرق الناس المختلفة للتعل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566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يتعلم الناس بطرق مختلفة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من الناس من يفضل أن يرى المعلومة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r" rtl="1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 ومنهم من يتعلم بفعالية إذا سم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ومنهم من يتعلم بفعالية إذا عمل أو جرب أو لمس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059280" y="1916280"/>
            <a:ext cx="1150920" cy="8524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492360" y="2781360"/>
            <a:ext cx="712800" cy="9334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340000" y="3789360"/>
            <a:ext cx="1219320" cy="735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85800" y="5943600"/>
            <a:ext cx="7772400" cy="861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إبداع في التعلم هو أن نجمع بين كل هذه الطر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9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9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50720" y="950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طرق للتفكير الإبداع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Tahoma"/>
              </a:rPr>
              <a:t>القبعات الست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16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Tahoma"/>
              </a:rPr>
              <a:t>الكورت في التفكير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16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Tahoma"/>
              </a:rPr>
              <a:t>الخريطة الذهنية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851280" y="1844640"/>
            <a:ext cx="1025640" cy="971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2484360" y="3213000"/>
            <a:ext cx="765360" cy="816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684360" y="4365720"/>
            <a:ext cx="334008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9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8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قبعات الست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أحد الطرق لتطوير التفكير الإبداعي هي القبعات الست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قبعة البيضاء – معلومات و حقائق , ماهي المعلومات التي نلكها الآن و كيف يمكن الحصول عليها و من من نحصل عليها 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ahoma"/>
              </a:rPr>
              <a:t>القبعة الحمراء – المشاعر , الحد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قبعة السوداء النقد , المخاوف و الحذر و إدارة المخاط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القبعة الصفراء المنافع , الفوائ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cb83d"/>
                </a:solidFill>
                <a:latin typeface="Tahoma"/>
              </a:rPr>
              <a:t>القبعة الخضراء التوسع , المرونة و الخيارات و البدائل و الأفكار الجديدة و وجهات النظر الأخر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القبعة الزرقاء الإدراك , إدارة العمليات, التأكد من وضوح القواع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9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2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6" dur="2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2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2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8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8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8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8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0" y="1203480"/>
          <a:ext cx="8955000" cy="524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03480"/>
                    <a:ext cx="8955000" cy="524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3399"/>
                </a:solidFill>
                <a:latin typeface="Tahoma"/>
              </a:rPr>
              <a:t>الكورت في التفكير كورت </a:t>
            </a:r>
            <a:r>
              <a:rPr b="0" lang="ar-SA" sz="4400" spc="-1" strike="noStrike">
                <a:solidFill>
                  <a:srgbClr val="333399"/>
                </a:solidFill>
                <a:latin typeface="Tahoma"/>
              </a:rPr>
              <a:t>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تعتبر هذه واحده من ست أدوات التفكير الإبداعي الهدف منها تركيز التفكير على موضوع واحد ثم إستخارج أفكار خارج إطار الفكر التقليدي للفرد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V</a:t>
            </a: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 وجهة نظر الآخرين : فكر بالموضوع من وجهة نظر الآخ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MI</a:t>
            </a: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 الإيجابيات و و السلبيات و النقاط المهمة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F</a:t>
            </a: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 خذ كل العوامل بعين الإعتبار و انظر من جميع الزواي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 &amp; S</a:t>
            </a: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 استخدم إطار زمني للتعرف على العواقب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O</a:t>
            </a: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 فكر بأهدافك و غاياتك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P</a:t>
            </a: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 الأولويات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C</a:t>
            </a: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 البدائل و الاحتمالات و الخيارات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2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2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2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8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8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8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8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1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10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8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4" dur="8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8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8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خرائط التفكي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132000" y="2205000"/>
            <a:ext cx="3097440" cy="41054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659640" y="2205000"/>
            <a:ext cx="2160360" cy="916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</a:rPr>
              <a:t>الخريطة الشجرية تستخدم للتفريع و التصني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77080" y="3213000"/>
            <a:ext cx="1942920" cy="119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</a:rPr>
              <a:t>خريطة الفقاعات المزدوجة للمقارنات و الاختلاف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48360" y="4292640"/>
            <a:ext cx="1871640" cy="916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ahoma"/>
              </a:rPr>
              <a:t>خريطة التدفقات المتعددة لتحليل الأسباب و الأثا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77080" y="5516640"/>
            <a:ext cx="1871640" cy="642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ahoma"/>
              </a:rPr>
              <a:t>خريطة الجسور لمتابعة التموج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4360" y="2421000"/>
            <a:ext cx="2158920" cy="642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</a:rPr>
              <a:t>الخريطة الدائرية لتعريف الأطر العام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26920" y="3284640"/>
            <a:ext cx="2089440" cy="642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</a:rPr>
              <a:t>خريطة الفقاعات لشرح المواصف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4292640"/>
            <a:ext cx="2519280" cy="642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</a:rPr>
              <a:t>خريطة التدفق للترتيب و التسلس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5373720"/>
            <a:ext cx="2808360" cy="642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</a:rPr>
              <a:t>خريطة الأقواس لتوضيح علاقة الجزء و الك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9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9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0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1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9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0" dur="8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1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تحدي رقم 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من تصورك للنحله قم بكتابة كل ماتعتقد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أن النحلة قادرة على فعلة .... على سبيل المثال الطيرا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لديك خمس دقائق للقيام بهذا التحد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بعد الوقت سوف نقوم بكتابة كل ما استخرجتموه من أعمال للنحل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كيف استطاعت النحله القيام بكل هذه الأعمال 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r" rtl="1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بالطبع استخدمت عقلها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r" rtl="1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ومع هذا فالنحلة لا تملك أكثر من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90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 خلية مخ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قدرات الهائلة للعقل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979640" y="1557360"/>
            <a:ext cx="1255680" cy="10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فوائد الخريطة الذهنية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r" rtl="1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وجود الفكرة الأساسية في المتصف يجعلها أكثر وضوح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 algn="r" rtl="1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أكثر قابلية للتذكر بسبب شبكة الأفكار المتعلقة ببعضها و الخريطة الذهنية ترسم بهذا الأسلوب مما يسهل على العقل عملية ربط المعلومات ببعضها البعض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 algn="r" rtl="1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الكلمات الرئيسية تربط بصور مما يسهل تذكرها و فهمها نظرا لتفعيل كلا نصفي الدماغ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 algn="r" rtl="1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المعنى كرتبط بالذاكرة و الخريطة الذهنية تربط المعاني ببعضها مما يسهل تذكره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2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2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8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8" dur="8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8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8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2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8" dur="2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2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2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3567240" y="214200"/>
          <a:ext cx="5387760" cy="5994360"/>
        </p:xfrm>
        <a:graphic>
          <a:graphicData uri="http://schemas.openxmlformats.org/drawingml/2006/table">
            <a:tbl>
              <a:tblPr/>
              <a:tblGrid>
                <a:gridCol w="3597120"/>
                <a:gridCol w="1790640"/>
              </a:tblGrid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500" spc="-1" strike="noStrike">
                          <a:solidFill>
                            <a:srgbClr val="ff0000"/>
                          </a:solidFill>
                          <a:latin typeface="Times New Roman"/>
                          <a:cs typeface="Simplified Arabic"/>
                        </a:rPr>
                        <a:t>النصف الأيمن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500" spc="-1" strike="noStrike">
                          <a:solidFill>
                            <a:srgbClr val="ff0000"/>
                          </a:solidFill>
                          <a:latin typeface="Times New Roman"/>
                          <a:cs typeface="Simplified Arabic"/>
                        </a:rPr>
                        <a:t>النصف الايسر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شمولية – الكلية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إعراب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حدس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منطق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تفكير اللاواعي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تفكير الواعي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إدراك الداخلي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إدراك الخارجي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إبداع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مناهج والقوانين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فراسة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لغة المكتوبة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أشكال ثلاثة الأبعاد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مهارات الحسابية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تخيل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تعقل والإدراك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تقبل المؤثرات الخارجية – السلبية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عدوانية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قيام بالكثير من الأشياء في نفس الوقت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تتابعية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ذكاء العملي –الإجرائي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ذكاء اللفظي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حسية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فكري – ذهني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تركيب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تحليلي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"/>
          <p:cNvSpPr txBox="1"/>
          <p:nvPr/>
        </p:nvSpPr>
        <p:spPr>
          <a:xfrm rot="5400000">
            <a:off x="-972360" y="2709000"/>
            <a:ext cx="5832720" cy="1224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عقلك المده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8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عقلك المذهل – الآلة القابلة للتعل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وزنه 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3.1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 باوند وهو مايعادل وزن دجاجه صغيره مشوي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دد خلايا المخ 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1000,000,000,000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 خلي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يعادل 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 مليار خلية ضوئي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4500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 خلية عصبية موصل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متحسس للمدخلات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يجمع بين تخيل الصور و اللغات و الأصوات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دد لا محدود من القدرة على التخزين و السرعة في الاسترجاع و هو مايفوق أعتى أجهزة الحاسب في العال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يتفاعل و يتعل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بحوث الذكاء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النظرة التقليدي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تقوم النظرة التقليدية للذكاء على أنه ثابت و عام و منحصر في المجال الأكاديمي (ذكاء الكلمات و الأعداد) و يمكن قياسه بواسطة اختبار الذكاء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Q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 . أثرت هذه النظرة التقليدية سلبا على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1810440" indent="-200880" algn="r" rtl="1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تحجيم الذكاء إلى نوعين فقط هما ذكاء الأعداد و ذكاء الكلمات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10440" indent="-200880" algn="r" rtl="1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حماس و تحفز الطلاب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10440" indent="-200880" algn="r" rtl="1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نجاح البعض بناء على قاعدة ”ما أذكاني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10440" indent="-200880" algn="r" rtl="1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توقعات المعلمين و الأكاديميين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10440" indent="-200880" algn="r" rtl="1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العلاقة بين الطلاب و المعلمين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10440" indent="-200880" algn="r" rtl="1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أنظمة الدعم و المساعدةطريقة تنظيم و اعداد المدارس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بحوث الذكاء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النظرة الحديث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ذكاء غير محدود و قابل للتعلم و للزيادة مالم يكن هناك مشكلة عضوية في المخ. و أن هناك أنواع متعددة للذكاء (عشرة أنواع ) نستطيع تطويرها كلها و بعضها يؤثر على بعض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هناك أنواع متعددة من الذكاء تصل إلى عشرة أنوا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أثبتت هذه الأنواع من خلال دراسة البروفسور هاورد قاردنر في جامعة هارفر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عشرة أنواع للذكاء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ذكاء الإبداع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ذكاء الشخص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ذكاء الإجتماع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ذكاء الروح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ذكاء البدن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ذكاء الحس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ذكاء العدد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ذكاء المكان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ذكاء الكلام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5256000" cy="38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3" dur="1" fill="hold"/>
                                  <p:tgtEl>
                                    <p:spTgt spid="111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ذكاء الإبداع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تعريف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 algn="r" rtl="1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قدرة على التفكير بطرق جديد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ناصر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 algn="r" rtl="1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طلاقه وهي سرعة سرد الأفكار الجديدة الإبداعي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 algn="r" rtl="1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مرونة وهي القدرة على النظر إلى نفس الشيء من زوايا متعددة و القدرة على التفكير من وجهة النظر الأخرى و القدرة على صيغاة الأفكار القديمة بطرق مبتكرة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 algn="r" rtl="1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أصالة وهي القدرة على انتاج أفكار غير عادية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 algn="r" rtl="1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توسع في الأفكار وهي قدرة المفكر الإبداعي على التوسع بفكرته و تنميتها و زيادة تفصيلها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ذكاء الإبداع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3628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هل تعل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أن عدد الأفكار التي يستطيع إطلاقها عقلك أكبر من عدد ذرات الكون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أن توماس أديسون و الذي ابتكر أكثر من ألف اختراع قد فصل من الدرسة عندما كان عمره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12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 سنة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طرق تنمية الذكاء الإبداع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ألعاب الإبداعي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ستخدام برامج الحاسوب التي تطور الذكاء الإبداع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كتابة الشعر و تعلم الرس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سرد القصص و الإستماع لها و محاولة التنبؤ بأحداثها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فكير في شيء مستحي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حل الألغا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أحلام اليقظ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ستخدام خرائط العق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3399"/>
                </a:solidFill>
                <a:latin typeface="Tahoma"/>
              </a:rPr>
              <a:t>الذكاء الإجتماع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r" rtl="1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تعريف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 algn="r" rtl="1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قدرة على التعامل مع الآخرين بإيجابي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 algn="r" rtl="1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أهمية الذكاء الإجتماعي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 algn="r" rtl="1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ندما يكون لديك الذكاء الإجتماعي فإنك ستفهم و تقدر الشخصيات المختلفة التي تتعامل معها كما ستفهم الدوافع المحركة لتصرفاتهم و ستفهم حاجاتهم الشخصية و ستعرف كيف يشعرون بالسرور و الارتياح عندما يكونون مع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 algn="r" rtl="1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حاجة الفطرية عند الإنسان إلى المحبة و العاطف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 algn="r" rtl="1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إنسجام و التوافق م الآخرين شيء شديد الأهمية بالنسبة لنجاحن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 algn="r" rtl="1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أجر العظيم من الله بسبب مخالطة الناس بالخلق الحسن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7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4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9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4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9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6T13:18:52Z</dcterms:created>
  <dc:creator>haq</dc:creator>
  <dc:description/>
  <dc:language>en-US</dc:language>
  <cp:lastModifiedBy>zulfi</cp:lastModifiedBy>
  <dcterms:modified xsi:type="dcterms:W3CDTF">2006-05-11T13:08:35Z</dcterms:modified>
  <cp:revision>36</cp:revision>
  <dc:subject/>
  <dc:title>Slide 1</dc:title>
</cp:coreProperties>
</file>