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620-B86D-44DA-B842-658C4312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19A-4EED-4075-B175-36E641B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754-FFD8-42A9-BD2B-C03937EF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DAB-19A4-4395-AFF3-FF287668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D93-DF3F-4B3E-85DC-CA02A8E0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A48-1324-47A2-931D-43A3491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CE13-1496-4035-8530-1F1352AB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5BB-87AA-4E4A-9575-C30A5F0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7812-7BEC-4B97-BE6A-5EE5618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624C-7776-44CD-A98A-10D9A219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FAF6-AD64-425D-A46E-7E9095AA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46F-4F5D-403A-93E9-9D1D89C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F411-A3F9-428F-8F65-B65A404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A093-1A6E-4D36-A036-3E90A41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85F-BC2A-4473-A604-0DE7DFD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0389-4D71-4093-A6C0-BD4A277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5561-CD92-4524-B838-3A8722D3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63E-62A0-4B19-B65A-16CD180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10E-2643-43CD-9FB9-1E4AE1F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2D2-E8E1-436C-8259-3A7D0B6B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04B-7E12-47E3-9ECF-2ECCF255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329-1291-47ED-85C7-2F791E56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786-CA53-4100-BC5D-28BBA67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8EB-0BA3-48B2-A30E-A034BF9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83B-26D7-4860-A562-124932A2B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F52F-B798-43F9-94FB-741C3A5099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images.google.co.uk/imgres?imgurl=www.salt.cheshire.org.uk/mfl/IMAGES/GIF/IMAGE73.GIF&amp;imgrefurl=http://www.salt.cheshire.org.uk/mfl/THEORY/MULTI.HTM&amp;h=306&amp;w=510&amp;prev=/images%3Fq%3DKinaesthetic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عقل و القدرات الكبيرة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MAHARTY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خالد الجد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L_JUDAI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أكبر خوف عند البشر –أكبر من خوفهم من الثعابين و العناكب و الأمراض و الأعداء- هو خوفهم من التحدث أمام الجماه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امؤلف القصص يتمتع بذكاء اجتماعي كبير فلكي تكتب قصة ناجحة فلا بد من تقمص الشخصيات المتنوعة التي 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جتم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راءة سيرة العظم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سع أفاقك الإجتماعية بحضور المناسبات الاجتماعية المختلف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حرص على حضور دورات تطوير الذ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اعتناء بالمظهر الخارج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علم أن تستمع ضعف ماتتحد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عود نفسك على رؤية الأشياء الجميلة في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كتشف تميز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قائق عن التعل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يتعلم الناس بشكل فعال عندما يتم وضعهم تحت تشد عصبي, الراحه و التحدي هما الحالة المثلى للتعل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سريع عندما يرغبون في التعلم, التحفيز عنصر مهم للتعلم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خ يحتاج إلى وقود , الأكسجين و الماء و البروتين و الراحة متطلبات أساسية للمخ لكي يعمل بفعال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عقل بشكل فعال عندما يشعر يشعر بقيمة شيء م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حسن عملية التعلم بشكل فعال عندما يتم إشراك المخ بالك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ذكر الناس المشاعر و الأحداث و التجارب غير المتوقعة,  وهو مايعني أننا نتذكر الإطار العام أكثر من المحتو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ذكر عمليه دراماتيكيه يمكن تحسينها بالاكثار من استدعاء المعلومات. بدون استدعاء المعلومات تتبخر سريع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أفضل عند بداية التجربة و نهايتها أكثر من من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الناس المختلف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علم الناس بطرق مختلف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من الناس من يفضل أن يرى المعلو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منهم من يتعلم بفعالية إذا سم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منهم من يتعلم بفعالية إذا عمل أو جرب أو لم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712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789360"/>
            <a:ext cx="121932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943600"/>
            <a:ext cx="7772400" cy="86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في التعلم هو أن نجمع بين كل هذه الطر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950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للتفكير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ahoma"/>
              </a:rPr>
              <a:t>القبعات الست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كورت في التفكير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خريطة الذهنية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02564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765360" cy="81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340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ات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حد الطرق لتطوير التفكير الإبداعي هي القبعات الس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قبعة البيضاء – معلومات و حقائق , ماهي المعلومات التي نلكها الآن و كيف يمكن الحصول عليها و من من نحصل عليها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القبعة الحمراء – المشاعر , الحد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بعة السوداء النقد , المخاوف و الحذر و إدارة المخاط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قبعة الصفراء المنافع , الفوائ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b83d"/>
                </a:solidFill>
                <a:latin typeface="Tahoma"/>
              </a:rPr>
              <a:t>القبعة الخضراء التوسع , المرونة و الخيارات و البدائل و الأفكار الجديدة و وجهات النظر الأخر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القبعة الزرقاء الإدراك , إدارة العمليات, التأكد من وضوح القواع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203480"/>
          <a:ext cx="8955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8955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ورت في التفكير كورت 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تبر هذه واحده من ست أدوات التفكير الإبداعي الهدف منها تركيز التفكير على موضوع واحد ثم إستخارج أفكار خارج إطار الفكر التقليدي للفر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V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جهة نظر الآخرين : فكر بالموضوع من وجهة نظر الآخ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MI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إيجابيات و و السلبيات و النقاط المهم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F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خذ كل العوامل بعين الإعتبار و انظر من جميع الزواي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&amp; S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ستخدم إطار زمني للتعرف على العواق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O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فكر بأهدافك و غايات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P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أولوي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C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بدائل و الاحتمالات و الخيار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رائط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097440" cy="4105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9640" y="2205000"/>
            <a:ext cx="21603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شجرية تستخدم للتفريع و التصن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213000"/>
            <a:ext cx="19429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المزدوجة للمقارنات و الاختلا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292640"/>
            <a:ext cx="1871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تدفقات المتعددة لتحليل الأسباب و الأث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5516640"/>
            <a:ext cx="1871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جسور لمتابعة التمو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421000"/>
            <a:ext cx="21589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دائرية لتعريف الأطر الع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84640"/>
            <a:ext cx="20894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لشرح الموا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تدفق للترتيب و التسل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373720"/>
            <a:ext cx="2808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أقواس لتوضيح علاقة الجزء و ال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حدي رق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 تصورك للنحله قم بكتابة كل ماتعتق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ن النحلة قادرة على فعلة .... على سبيل المثال الطيرا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يك خمس دقائق للقيام بهذا التح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الوقت سوف نقوم بكتابة كل ما استخرجتموه من أعمال للنح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يف استطاعت النحله القيام بكل هذه الأعمال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بالطبع استخدمت عقل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مع هذا فالنحلة لا تملك أكثر م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خلية م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درات الهائلة للعق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2556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خريطة الذه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جود الفكرة الأساسية في المتصف يجعلها أكثر وضوح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كثر قابلية للتذكر بسبب شبكة الأفكار المتعلقة ببعضها و الخريطة الذهنية ترسم بهذا الأسلوب مما يسهل على العقل عملية ربط المعلومات ببعضها البعض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لمات الرئيسية تربط بصور مما يسهل تذكرها و فهمها نظرا لتفعيل كلا نصفي الدم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عنى كرتبط بالذاكرة و الخريطة الذهنية تربط المعاني ببعضها مما يسهل تذكر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67240" y="214200"/>
          <a:ext cx="5387760" cy="5994360"/>
        </p:xfrm>
        <a:graphic>
          <a:graphicData uri="http://schemas.openxmlformats.org/drawingml/2006/table">
            <a:tbl>
              <a:tblPr/>
              <a:tblGrid>
                <a:gridCol w="3597120"/>
                <a:gridCol w="1790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أيم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ايسر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شمولية – الكل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عرا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ط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لا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داخ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خارج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بدا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اهج والقوانين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راس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لغة المكتوب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شكال ثلاثة الأبعاد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هارات الحسا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خيل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عقل والإدرا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قبل المؤثرات الخارجية – السل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وان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ام بالكثير من الأشياء في نفس الوقت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تابع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عملي –الإجرائ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لفظ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س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فكري – ذهن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ركي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حلي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 rot="5400000">
            <a:off x="-972360" y="270900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قلك المده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قلك المذهل – الآلة القابل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زنه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.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اوند وهو مايعادل وزن دجاجه صغيره مشوي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خلايا المخ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0,000,000,0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عادل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مليار خلية ضوئ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45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 عصبية موص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تحسس للمدخ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جمع بين تخيل الصور و اللغات و الأصو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لا محدود من القدرة على التخزين و السرعة في الاسترجاع و هو مايفوق أعتى أجهزة الحاسب في العا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فاعل و ي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تقليد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وم النظرة التقليدية للذكاء على أنه ثابت و عام و منحصر في المجال الأكاديمي (ذكاء الكلمات و الأعداد) و يمكن قياسه بواسطة اختبار الذكا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. أثرت هذه النظرة التقليدية سلبا على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حجيم الذكاء إلى نوعين فقط هما ذكاء الأعداد و ذكاء الكلم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حماس و تحفز الطلا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نجاح البعض بناء على قاعدة ”ما أذكاني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قعات المعلمين و الأكاديمي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العلاقة بين الطلاب و المعلم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نظمة الدعم و المساعدةطريقة تنظيم و اعداد المدار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حديث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كاء غير محدود و قابل للتعلم و للزيادة مالم يكن هناك مشكلة عضوية في المخ. و أن هناك أنواع متعددة للذكاء (عشرة أنواع ) نستطيع تطويرها كلها و بعضها يؤثر على 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هناك أنواع متعددة من الذكاء تصل إلى عشرة أنوا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ثبتت هذه الأنواع من خلال دراسة البروفسور هاورد قاردنر في جامعة هارف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شرة أنواع ل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شخص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جتم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رو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بد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ح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عد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مكا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ك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256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قدرة على التفكير بطرق جديد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اصر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طلاقه وهي سرعة سرد الأفكار الجديدة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رونة وهي القدرة على النظر إلى نفس الشيء من زوايا متعددة و القدرة على التفكير من وجهة النظر الأخرى و القدرة على صيغاة الأفكار القديمة بطرق مبتكر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صالة وهي القدرة على انتاج أفكار غير عاد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وسع في الأفكار وهي قدرة المفكر الإبداعي على التوسع بفكرته و تنميتها و زيادة تفصيل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عدد الأفكار التي يستطيع إطلاقها عقلك أكبر من عدد ذرات الكو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توماس أديسون و الذي ابتكر أكثر من ألف اختراع قد فصل من الدرسة عندما كان عمره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سن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بد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لعاب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برامج الحاسوب التي تطور 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ة الشعر و تعلم الرس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رد القصص و الإستماع لها و محاولة التنبؤ بأحداث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فكير في شيء مستح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حل الألغا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حلام اليقظ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خرائط العق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درة على التعامل مع الآخرين بإيجاب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همية الذكاء الإجت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كون لديك الذكاء الإجتماعي فإنك ستفهم و تقدر الشخصيات المختلفة التي تتعامل معها كما ستفهم الدوافع المحركة لتصرفاتهم و ستفهم حاجاتهم الشخصية و ستعرف كيف يشعرون بالسرور و الارتياح عندما يكونون مع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حاجة الفطرية عند الإنسان إلى المحبة و العاط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إنسجام و التوافق م الآخرين شيء شديد الأهمية بالنسبة لنجاحن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جر العظيم من الله بسبب مخالطة الناس بالخلق الحس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18:52Z</dcterms:created>
  <dc:creator>haq</dc:creator>
  <dc:description/>
  <dc:language>en-US</dc:language>
  <cp:lastModifiedBy>zulfi</cp:lastModifiedBy>
  <dcterms:modified xsi:type="dcterms:W3CDTF">2006-05-11T13:08:35Z</dcterms:modified>
  <cp:revision>36</cp:revision>
  <dc:subject/>
  <dc:title>Slide 1</dc:title>
</cp:coreProperties>
</file>