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990-142B-4D18-AEF9-7C41BCA8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41C-2CB8-40C9-A232-5389E05F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2B7-A423-42D8-9610-D29C8C48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937-8B29-429F-AB7B-20836E8D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79B9-7296-4A01-A266-A1692286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9D6F-0411-4977-B22D-E605B21E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EFC3-6474-4E44-B4F2-905E2B8D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70E8-21C4-4D74-B363-86D1515E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D129-FE09-4002-849D-D29F0326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FC6C-5E39-478F-B804-AFD0E300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6896-D699-41F8-A7F9-BAB3DB0B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9B1-03C7-4B1A-9947-E1ABABF5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FCA7-F607-4F2F-8226-FAEBCAB1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FED4-3E24-4F3B-A321-080F9F38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666B-B0A0-45F7-8048-E29CCD10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0885-CF74-432F-9ED2-3E213287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F22E-B226-4867-A1CB-8D37D4C4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310-5874-4D10-9E99-D0A08A9D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DC92-DA46-4BDA-BE9C-A0881A1F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9C4-7967-492A-B96D-5F78899D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88A-67EA-4600-912E-F021F9FF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48E-DF71-4BD1-987A-4D0D4E37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13B-130D-4BFE-90F7-025ECEE5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C55-4CBC-424B-90CE-29DA9F54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5212-05B2-4B4D-9DA4-016BAB2585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CD2F-4130-4BEB-8A40-071683A44D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hyperlink" Target="http://images.google.co.uk/imgres?imgurl=www.salt.cheshire.org.uk/mfl/IMAGES/GIF/IMAGE73.GIF&amp;imgrefurl=http://www.salt.cheshire.org.uk/mfl/THEORY/MULTI.HTM&amp;h=306&amp;w=510&amp;prev=/images%3Fq%3DKinaesthetic%26svnum%3D10%26hl%3Den%26lr%3D%26ie%3DUTF-8%26oe%3DUTF-8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691920"/>
            <a:ext cx="777240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عقل و القدرات الكبيرة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WW.MAHARTY.C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خالد الجدي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L_JUDAIA@HOTMAIL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ذكاء الإجتم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هل تع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أكبر خوف عند البشر –أكبر من خوفهم من الثعابين و العناكب و الأمراض و الأعداء- هو خوفهم من التحدث أمام الجماهي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امؤلف القصص يتمتع بذكاء اجتماعي كبير فلكي تكتب قصة ناجحة فلا بد من تقمص الشخصيات المتنوعة التي تصف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طرق تنمية الذكاء الإجتماع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قراءة سيرة العظما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وسع أفاقك الإجتماعية بحضور المناسبات الاجتماعية المختلف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حرص على حضور دورات تطوير الذا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اعتناء بالمظهر الخارج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علم أن تستمع ضعف ماتتحدث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عود نفسك على رؤية الأشياء الجميلة في الآخري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كتشف تميز الآخري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تعل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حقائق عن التعل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لايتعلم الناس بشكل فعال عندما يتم وضعهم تحت تشد عصبي, الراحه و التحدي هما الحالة المثلى للتعل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علم الناس بشكل سريع عندما يرغبون في التعلم, التحفيز عنصر مهم للتعلم الفعا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خ يحتاج إلى وقود , الأكسجين و الماء و البروتين و الراحة متطلبات أساسية للمخ لكي يعمل بفعال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علم العقل بشكل فعال عندما يشعر يشعر بقيمة شيء م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r" rtl="1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r" rtl="1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تحسن عملية التعلم بشكل فعال عندما يتم إشراك المخ بالكام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ذكر الناس المشاعر و الأحداث و التجارب غير المتوقعة,  وهو مايعني أننا نتذكر الإطار العام أكثر من المحتوى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تذكر عمليه دراماتيكيه يمكن تحسينها بالاكثار من استدعاء المعلومات. بدون استدعاء المعلومات تتبخر سريع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تعلم الناس بشكل أفضل عند بداية التجربة و نهايتها أكثر من منتصف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r" rtl="1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طرق الناس المختلفة للتعل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تعلم الناس بطرق مختلفة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من الناس من يفضل أن يرى المعلوم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r" rtl="1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ومنهم من يتعلم بفعالية إذا سم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ومنهم من يتعلم بفعالية إذا عمل أو جرب أو لم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1150920" cy="852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492360" y="2781360"/>
            <a:ext cx="712800" cy="933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3789360"/>
            <a:ext cx="1219320" cy="73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5943600"/>
            <a:ext cx="7772400" cy="861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بداع في التعلم هو أن نجمع بين كل هذه الطر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0720" y="950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طرق للتفكير الإبد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ahoma"/>
              </a:rPr>
              <a:t>القبعات الست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ahoma"/>
              </a:rPr>
              <a:t>الكورت في التفكير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ahoma"/>
              </a:rPr>
              <a:t>الخريطة الذهنية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51280" y="1844640"/>
            <a:ext cx="1025640" cy="97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765360" cy="816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33400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ات الس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حد الطرق لتطوير التفكير الإبداعي هي القبعات الست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قبعة البيضاء – معلومات و حقائق , ماهي المعلومات التي نلكها الآن و كيف يمكن الحصول عليها و من من نحصل عليها 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القبعة الحمراء – المشاعر , الحد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قبعة السوداء النقد , المخاوف و الحذر و إدارة المخاط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القبعة الصفراء المنافع , الفوائ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cb83d"/>
                </a:solidFill>
                <a:latin typeface="Tahoma"/>
              </a:rPr>
              <a:t>القبعة الخضراء التوسع , المرونة و الخيارات و البدائل و الأفكار الجديدة و وجهات النظر الأخر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القبعة الزرقاء الإدراك , إدارة العمليات, التأكد من وضوح القواع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9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8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1203480"/>
          <a:ext cx="8955000" cy="52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03480"/>
                    <a:ext cx="895500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كورت في التفكير كورت </a:t>
            </a: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عتبر هذه واحده من ست أدوات التفكير الإبداعي الهدف منها تركيز التفكير على موضوع واحد ثم إستخارج أفكار خارج إطار الفكر التقليدي للفر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V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وجهة نظر الآخرين : فكر بالموضوع من وجهة نظر الآخ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MI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لإيجابيات و و السلبيات و النقاط المهمة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F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خذ كل العوامل بعين الإعتبار و انظر من جميع الزواي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&amp; S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ستخدم إطار زمني للتعرف على العواق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O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فكر بأهدافك و غايات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P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لأولويا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C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 البدائل و الاحتمالات و الخيارا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8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8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8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خرائط التفكي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3097440" cy="4105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659640" y="2205000"/>
            <a:ext cx="216036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الخريطة الشجرية تستخدم للتفريع و التصني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3213000"/>
            <a:ext cx="194292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فقاعات المزدوجة للمقارنات و الاختلاف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4292640"/>
            <a:ext cx="187164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خريطة التدفقات المتعددة لتحليل الأسباب و الأث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7080" y="5516640"/>
            <a:ext cx="18716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خريطة الجسور لمتابعة التمو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2421000"/>
            <a:ext cx="21589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الخريطة الدائرية لتعريف الأطر العا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3284640"/>
            <a:ext cx="20894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فقاعات لشرح المواصف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تدفق للترتيب و التسلس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5373720"/>
            <a:ext cx="2808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</a:rPr>
              <a:t>خريطة الأقواس لتوضيح علاقة الجزء و الك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حدي رقم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ن تصورك للنحله قم بكتابة كل ماتعتق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ن النحلة قادرة على فعلة .... على سبيل المثال الطيرا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يك خمس دقائق للقيام بهذا التحد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بعد الوقت سوف نقوم بكتابة كل ما استخرجتموه من أعمال للنحل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يف استطاعت النحله القيام بكل هذه الأعمال 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بالطبع استخدمت عقل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ومع هذا فالنحلة لا تملك أكثر من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90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خلية م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درات الهائلة للعق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125568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فوائد الخريطة الذهن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وجود الفكرة الأساسية في المتصف يجعلها أكثر وضوح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أكثر قابلية للتذكر بسبب شبكة الأفكار المتعلقة ببعضها و الخريطة الذهنية ترسم بهذا الأسلوب مما يسهل على العقل عملية ربط المعلومات ببعضها البعض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كلمات الرئيسية تربط بصور مما يسهل تذكرها و فهمها نظرا لتفعيل كلا نصفي الدما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معنى كرتبط بالذاكرة و الخريطة الذهنية تربط المعاني ببعضها مما يسهل تذكره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8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567240" y="214200"/>
          <a:ext cx="5387760" cy="5994360"/>
        </p:xfrm>
        <a:graphic>
          <a:graphicData uri="http://schemas.openxmlformats.org/drawingml/2006/table">
            <a:tbl>
              <a:tblPr/>
              <a:tblGrid>
                <a:gridCol w="3597120"/>
                <a:gridCol w="179064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500" spc="-1" strike="noStrike">
                          <a:solidFill>
                            <a:srgbClr val="ff0000"/>
                          </a:solidFill>
                          <a:latin typeface="Times New Roman"/>
                          <a:cs typeface="Simplified Arabic"/>
                        </a:rPr>
                        <a:t>النصف الأيمن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500" spc="-1" strike="noStrike">
                          <a:solidFill>
                            <a:srgbClr val="ff0000"/>
                          </a:solidFill>
                          <a:latin typeface="Times New Roman"/>
                          <a:cs typeface="Simplified Arabic"/>
                        </a:rPr>
                        <a:t>النصف الايسر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شمولية – الكل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عراب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حدس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نطق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فكير اللاواع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فكير الواع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دراك الداخل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دراك الخارج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بداع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ناهج والقوانين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فراس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لغة المكتوب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أشكال ثلاثة الأبعاد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هارات الحساب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خيل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عقل والإدراك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تقبل المؤثرات الخارجية – السلب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عدوان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قيام بالكثير من الأشياء في نفس الوقت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تابع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ذكاء العملي –الإجرائ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ذكاء اللفظ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حسي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فكري – ذهن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ركيب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تحليلي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 txBox="1"/>
          <p:nvPr/>
        </p:nvSpPr>
        <p:spPr>
          <a:xfrm rot="5400000">
            <a:off x="-972360" y="2709000"/>
            <a:ext cx="583272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عقلك المده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عقلك المذهل – الآلة القابلة للتعل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وزنه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3.1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باوند وهو مايعادل وزن دجاجه صغيره مشوي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دد خلايا المخ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1000,000,000,0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خل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عادل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مليار خلية ضوئ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45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خلية عصبية موصل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تحسس للمدخل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جمع بين تخيل الصور و اللغات و الأصو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دد لا محدود من القدرة على التخزين و السرعة في الاسترجاع و هو مايفوق أعتى أجهزة الحاسب في العا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تفاعل و يتع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بحوث الذك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نظرة التقليد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قوم النظرة التقليدية للذكاء على أنه ثابت و عام و منحصر في المجال الأكاديمي (ذكاء الكلمات و الأعداد) و يمكن قياسه بواسطة اختبار الذكاء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Q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. أثرت هذه النظرة التقليدية سلبا على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تحجيم الذكاء إلى نوعين فقط هما ذكاء الأعداد و ذكاء الكلما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حماس و تحفز الطلا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نجاح البعض بناء على قاعدة ”ما أذكاني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توقعات المعلمين و الأكاديميي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العلاقة بين الطلاب و المعلمي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10440" indent="-20088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أنظمة الدعم و المساعدةطريقة تنظيم و اعداد المدار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بحوث الذك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نظرة الحديث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ذكاء غير محدود و قابل للتعلم و للزيادة مالم يكن هناك مشكلة عضوية في المخ. و أن هناك أنواع متعددة للذكاء (عشرة أنواع ) نستطيع تطويرها كلها و بعضها يؤثر على بعض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هناك أنواع متعددة من الذكاء تصل إلى عشرة أنوا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أثبتت هذه الأنواع من خلال دراسة البروفسور هاورد قاردنر في جامعة هارفر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عشرة أنواع للذك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إبداع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شخص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إجتماع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روح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بدن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ح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عد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مكان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ذكاء الكلا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525600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11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ذكاء الإبد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عريف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قدرة على التفكير بطرق جديد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اصر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طلاقه وهي سرعة سرد الأفكار الجديدة الإبداع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رونة وهي القدرة على النظر إلى نفس الشيء من زوايا متعددة و القدرة على التفكير من وجهة النظر الأخرى و القدرة على صيغاة الأفكار القديمة بطرق مبتكر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أصالة وهي القدرة على انتاج أفكار غير عاد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توسع في الأفكار وهي قدرة المفكر الإبداعي على التوسع بفكرته و تنميتها و زيادة تفصيل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ذكاء الإبد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هل تعل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عدد الأفكار التي يستطيع إطلاقها عقلك أكبر من عدد ذرات الكو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ن توماس أديسون و الذي ابتكر أكثر من ألف اختراع قد فصل من الدرسة عندما كان عمره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سن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طرق تنمية الذكاء الإبداع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ألعاب الإبداع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ستخدام برامج الحاسوب التي تطور الذكاء الإبداع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تابة الشعر و تعلم الرس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سرد القصص و الإستماع لها و محاولة التنبؤ بأحداث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فكير في شيء مستحي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حل الألغا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حلام اليقظ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ستخدام خرائط العق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ذكاء الإجتماع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تعريف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قدرة على التعامل مع الآخرين بإيجاب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أهمية الذكاء الإجتماع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كون لديك الذكاء الإجتماعي فإنك ستفهم و تقدر الشخصيات المختلفة التي تتعامل معها كما ستفهم الدوافع المحركة لتصرفاتهم و ستفهم حاجاتهم الشخصية و ستعرف كيف يشعرون بالسرور و الارتياح عندما يكونون مع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حاجة الفطرية عند الإنسان إلى المحبة و العاطف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إنسجام و التوافق م الآخرين شيء شديد الأهمية بالنسبة لنجاحن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أجر العظيم من الله بسبب مخالطة الناس بالخلق الحسن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3:18:52Z</dcterms:created>
  <dc:creator>haq</dc:creator>
  <dc:description/>
  <dc:language>en-US</dc:language>
  <cp:lastModifiedBy>zulfi</cp:lastModifiedBy>
  <dcterms:modified xsi:type="dcterms:W3CDTF">2006-05-11T13:08:35Z</dcterms:modified>
  <cp:revision>36</cp:revision>
  <dc:subject/>
  <dc:title>Slide 1</dc:title>
</cp:coreProperties>
</file>