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voltage.wav" ContentType="audio/x-wav"/>
  <Override PartName="/ppt/media/image37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6.jpeg" ContentType="image/jpeg"/>
  <Override PartName="/ppt/media/image16.png" ContentType="image/png"/>
  <Override PartName="/ppt/media/image49.jpeg" ContentType="image/jpeg"/>
  <Override PartName="/ppt/media/image26.wmf" ContentType="image/x-wmf"/>
  <Override PartName="/ppt/media/image15.jpeg" ContentType="image/jpeg"/>
  <Override PartName="/ppt/media/image25.wmf" ContentType="image/x-wmf"/>
  <Override PartName="/ppt/media/image14.wmf" ContentType="image/x-wmf"/>
  <Override PartName="/ppt/media/image1.jpeg" ContentType="image/jpeg"/>
  <Override PartName="/ppt/media/image3.png" ContentType="image/png"/>
  <Override PartName="/ppt/media/image4.jpeg" ContentType="image/jpeg"/>
  <Override PartName="/ppt/media/image40.png" ContentType="image/png"/>
  <Override PartName="/ppt/media/image5.jpeg" ContentType="image/jpeg"/>
  <Override PartName="/ppt/media/image50.png" ContentType="image/png"/>
  <Override PartName="/ppt/media/image30.wmf" ContentType="image/x-wmf"/>
  <Override PartName="/ppt/media/image35.wmf" ContentType="image/x-wmf"/>
  <Override PartName="/ppt/media/image42.png" ContentType="image/png"/>
  <Override PartName="/ppt/media/image34.wmf" ContentType="image/x-wmf"/>
  <Override PartName="/ppt/media/image51.png" ContentType="image/png"/>
  <Override PartName="/ppt/media/image43.gif" ContentType="image/gif"/>
  <Override PartName="/ppt/media/image46.png" ContentType="image/png"/>
  <Override PartName="/ppt/media/image52.jpeg" ContentType="image/jpeg"/>
  <Override PartName="/ppt/media/image33.wmf" ContentType="image/x-wmf"/>
  <Override PartName="/ppt/media/image12.jpeg" ContentType="image/jpeg"/>
  <Override PartName="/ppt/media/image47.gif" ContentType="image/gif"/>
  <Override PartName="/ppt/media/image53.jpeg" ContentType="image/jpeg"/>
  <Override PartName="/ppt/media/image32.jpeg" ContentType="image/jpeg"/>
  <Override PartName="/ppt/media/image48.gif" ContentType="image/gif"/>
  <Override PartName="/ppt/media/image29.wmf" ContentType="image/x-wmf"/>
  <Override PartName="/ppt/media/image31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9.png" ContentType="image/png"/>
  <Override PartName="/ppt/media/image17.wmf" ContentType="image/x-wmf"/>
  <Override PartName="/ppt/media/image28.png" ContentType="image/png"/>
  <Override PartName="/ppt/media/image38.jpeg" ContentType="image/jpeg"/>
  <Override PartName="/ppt/media/image11.jpeg" ContentType="image/jpeg"/>
  <Override PartName="/ppt/media/image8.png" ContentType="image/png"/>
  <Override PartName="/ppt/media/image45.gif" ContentType="image/gif"/>
  <Override PartName="/ppt/media/image39.jpeg" ContentType="image/jpeg"/>
  <Override PartName="/ppt/media/image41.wmf" ContentType="image/x-wmf"/>
  <Override PartName="/ppt/media/image7.wmf" ContentType="image/x-wmf"/>
  <Override PartName="/ppt/media/image10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  <p:sldId id="298" r:id="rId62"/>
    <p:sldId id="299" r:id="rId63"/>
    <p:sldId id="300" r:id="rId64"/>
    <p:sldId id="301" r:id="rId65"/>
    <p:sldId id="302" r:id="rId66"/>
    <p:sldId id="303" r:id="rId67"/>
    <p:sldId id="304" r:id="rId68"/>
    <p:sldId id="305" r:id="rId69"/>
    <p:sldId id="306" r:id="rId70"/>
    <p:sldId id="307" r:id="rId71"/>
    <p:sldId id="308" r:id="rId72"/>
    <p:sldId id="309" r:id="rId73"/>
    <p:sldId id="310" r:id="rId74"/>
    <p:sldId id="311" r:id="rId75"/>
    <p:sldId id="312" r:id="rId76"/>
    <p:sldId id="313" r:id="rId77"/>
    <p:sldId id="314" r:id="rId78"/>
    <p:sldId id="315" r:id="rId79"/>
    <p:sldId id="316" r:id="rId80"/>
    <p:sldId id="317" r:id="rId81"/>
    <p:sldId id="318" r:id="rId82"/>
    <p:sldId id="319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slide" Target="slides/slide43.xml"/><Relationship Id="rId63" Type="http://schemas.openxmlformats.org/officeDocument/2006/relationships/slide" Target="slides/slide44.xml"/><Relationship Id="rId64" Type="http://schemas.openxmlformats.org/officeDocument/2006/relationships/slide" Target="slides/slide45.xml"/><Relationship Id="rId65" Type="http://schemas.openxmlformats.org/officeDocument/2006/relationships/slide" Target="slides/slide46.xml"/><Relationship Id="rId66" Type="http://schemas.openxmlformats.org/officeDocument/2006/relationships/slide" Target="slides/slide47.xml"/><Relationship Id="rId67" Type="http://schemas.openxmlformats.org/officeDocument/2006/relationships/slide" Target="slides/slide48.xml"/><Relationship Id="rId68" Type="http://schemas.openxmlformats.org/officeDocument/2006/relationships/slide" Target="slides/slide49.xml"/><Relationship Id="rId69" Type="http://schemas.openxmlformats.org/officeDocument/2006/relationships/slide" Target="slides/slide50.xml"/><Relationship Id="rId70" Type="http://schemas.openxmlformats.org/officeDocument/2006/relationships/slide" Target="slides/slide51.xml"/><Relationship Id="rId71" Type="http://schemas.openxmlformats.org/officeDocument/2006/relationships/slide" Target="slides/slide52.xml"/><Relationship Id="rId72" Type="http://schemas.openxmlformats.org/officeDocument/2006/relationships/slide" Target="slides/slide53.xml"/><Relationship Id="rId73" Type="http://schemas.openxmlformats.org/officeDocument/2006/relationships/slide" Target="slides/slide54.xml"/><Relationship Id="rId74" Type="http://schemas.openxmlformats.org/officeDocument/2006/relationships/slide" Target="slides/slide55.xml"/><Relationship Id="rId75" Type="http://schemas.openxmlformats.org/officeDocument/2006/relationships/slide" Target="slides/slide56.xml"/><Relationship Id="rId76" Type="http://schemas.openxmlformats.org/officeDocument/2006/relationships/slide" Target="slides/slide57.xml"/><Relationship Id="rId77" Type="http://schemas.openxmlformats.org/officeDocument/2006/relationships/slide" Target="slides/slide58.xml"/><Relationship Id="rId78" Type="http://schemas.openxmlformats.org/officeDocument/2006/relationships/slide" Target="slides/slide59.xml"/><Relationship Id="rId79" Type="http://schemas.openxmlformats.org/officeDocument/2006/relationships/slide" Target="slides/slide60.xml"/><Relationship Id="rId80" Type="http://schemas.openxmlformats.org/officeDocument/2006/relationships/slide" Target="slides/slide61.xml"/><Relationship Id="rId81" Type="http://schemas.openxmlformats.org/officeDocument/2006/relationships/slide" Target="slides/slide62.xml"/><Relationship Id="rId82" Type="http://schemas.openxmlformats.org/officeDocument/2006/relationships/slide" Target="slides/slide63.xml"/><Relationship Id="rId83" Type="http://schemas.openxmlformats.org/officeDocument/2006/relationships/slide" Target="slides/slide64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9F26-FDC1-432F-8123-DD534610E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D59C-3624-44F8-8C28-7888E251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641747-EB52-454E-BA61-417FE2BC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71E38-8C47-46D5-AFBC-49B8E6D3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8AD34-6C22-4050-B647-D3E0C2DE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30116-1435-4B0C-AAED-D2E5D2ED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3061E9-6E3C-4251-A174-136DD02A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D013B-ECFC-4E88-B5C4-E909FA4A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F11828-BFB0-4489-B3E3-AE22D88A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810D5-8950-494A-BFE6-7274CE22E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8B539D-4622-4263-A264-E9549F7E4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F81C85-A2E0-4F70-B01B-6E810014A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7487-5C08-4DBF-ABC0-6BB9FE320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DBF5C0-2ED3-435E-8612-331B0E34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CAE53A-807E-4D60-8658-666305A2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C3B93E-D4AB-4914-9252-EBB8B1CF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96854F-6965-4B61-950B-D0BD0543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73C6C-FB30-47F0-BE06-640BF9DF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0F522-7D31-4C03-A062-6CA363A9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CEA905-26C2-42B8-956C-91C53E53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BABA6-09F3-4E30-9229-4AE32222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3D0B48-6667-4491-9406-5DF8EAC6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3C0680-D39F-413C-ADC4-F4E781670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0301-79C2-417F-9BE6-9AB283C31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D2D360-E9D6-47B8-877B-8DD17456D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C45F5-373D-4AE0-A8E4-8C3494862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C3B7B-422A-4C62-92F9-8DD3C35D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F875E-C1D4-4D66-B5B1-59B279C4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A782A-0036-4ABD-BE58-04177427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412B1-8CE1-4570-A071-DFFE2ED2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37684-8D65-4B05-840A-F1F9E8A9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78102-1F98-4E13-9D88-7A5D5E34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9D22B-E7BF-4F20-B991-485E14B7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A9FC1-CF8B-4AA1-96FC-2C5CADFA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DE23-F853-4AD2-9D7F-E96836343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B82D9-0C3C-4CCD-8EB0-60AF6AC7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2A8D6-9686-4138-8310-8986A52A2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232F1-5E01-4436-944F-36D63AC06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9599629-A5E1-44CA-BB7A-3BA3440C3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8BBF056-0FFB-4338-928E-A3BBD62C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F411436-A4FB-4725-9335-709A10BC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903472F-EFD2-4C40-A52C-E6F9CDCB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A484BF4-992A-4108-95F3-FE812A71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D6275C2-A00E-4520-B0D6-A801983B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DFEE3C2-4440-4597-92B5-CF47985C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E0C9-9394-406A-A255-527EF57A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740EF99-7474-4ACD-9BB2-9F0DDAB6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F1CE86D-DD22-4EBE-B91E-5C32E9B6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AEA10FB-D4B1-49AF-A153-F9DBBF86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8E17CDD-D031-4BFA-9E39-FB67D96E2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3A47CF2-2340-4D21-B5DF-4123EB227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8435B3-6171-49F4-A50C-8412571B1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89102A-47A4-484C-A80D-4AE9FEF2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52366B-6556-4665-8A61-DE08354B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D63C74-92F0-4646-A88F-334C7FF0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AF9A7D-25CA-4119-954C-689EAD83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6036-0CEC-41BE-8E76-D4C2EF4F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F35531-A7B4-4AAA-9944-84D1B9AB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6C07A1-D92E-40F6-A65B-66DD96F2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EED6A8-D7A7-4C80-9795-C45D4A36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C5B82F-F990-4BBE-AA66-7ADCDDB3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D60F05-FE54-4C1D-92BF-CCB92035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CA1005-A75D-44EC-916E-EE30414F2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8E4101-8736-4E3C-86F7-2AB79D960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F41A672-0388-4275-AC36-6041E954B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B1658A0-5C25-4D30-AC42-26894535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0D6C95B-7AD8-4AC3-B047-6DC5AB71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896D-4C6A-43F2-93B5-E9AF1FFE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6BEF19E-69B6-4B1E-B997-C4381BF9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2ACF1BB-86B4-470E-893A-EF405CD7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DEC351F-F924-46AE-A088-FCBF944B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F4F9CB5-192F-42A0-92FB-753934F4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FABA459-251D-4EC0-831E-969DF2F5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08CB24C-854E-4738-B05F-0D1CA785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845B7F5-FAD9-4A7F-96FF-B7149622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61ADA67-CAA8-4842-A525-34444523E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93F642E-4E7D-4535-AD92-BCF9DE0B0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E5B0FC-B717-4C5B-BE6D-1B6D4EB6E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47E6-D465-4270-B4B0-1C76E8CA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8F907F-5CEE-49C2-A355-B5A91D7A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D03373-F170-4FBA-B552-EAC2C579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192EE6-484D-40E9-981B-7E652FC6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21CC3F-F0E3-43FB-B72B-582A5F12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D9505C-E3F9-463A-AC14-0CFA3C10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D39BE4-ABB5-4BBC-8F12-79FFF993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FB6417-B5E6-403E-A5DC-3D799F1B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382D82-E87A-4D93-855D-90C2A9F9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29A6B1-1F9D-4187-A458-D09BB73F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2DAAAA-B802-43A4-A2F3-917C892FB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39FD-91F3-4FE6-BF00-E5D23789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642A2B-BB41-49AD-BB5F-445F20513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F5F022-5047-4264-B759-6C485278D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E9B211-3ABC-4E3D-92D2-D4495E34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F8DED5-567A-4233-BE88-6B1700B1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2467E7-28F4-491D-BD56-6D88E768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9ACFE3-4E75-4A9B-B605-DA54637A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868C00-F13B-47B6-96F7-354B7FD8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4D5A2E-FEF6-4C48-A796-BFD2608B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41D20D-0B74-4D4D-B87F-0EA8BAC7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2CDF39-9FBF-456D-BCFD-CF500F5F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0327-F74C-4D94-B6E9-84573805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B6527D-7A5D-4E52-871D-BEA6A18B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E21341-9505-4453-A02C-B3DAF32A2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319FD5-F92A-4594-BF40-30E5F7EE7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90AE58-687B-42BA-8837-8FDF7069D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D6AA74-093F-4DFD-BAC9-DBC3D3FB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40F4E3-1815-4733-8A8C-DDCEB14C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37D96F-2D61-40AB-8D35-65A6A659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05DC6C-9D9E-4D00-B7E1-D7349CBB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2ED368-8F46-4E4E-A75C-16AF2D14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9066BC-EBED-4E68-8E01-E9B5839A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E90E-EA2F-4D22-979A-530C8082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0321-8C26-4E0E-962A-D5537FF4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A831AB-727C-4C30-B145-0E9EC15D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FDDCC6-5767-4D36-9003-CE64E29E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7B52F1-E271-4E47-A6B7-0CA6DE92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AD1C21-8962-4287-BB32-CFB98745A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E086FA-FD9D-4B8A-ACE3-C4E90D1E2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1EAB13-9BD3-40AC-AFC8-565537770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478408-05A2-4609-AA47-C03AD0D4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317AA6-4C52-481E-86DF-FB7CE6CD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22CC40-4FB7-4882-9D49-789F38BC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78EAC8-35D4-4990-AB17-6A5F5247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7ACD-D479-45B6-A44D-2584CFF2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995F87-E8F0-434F-828C-87DBFB95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FDCD2A-1168-459F-BA92-F5A5CDDC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A32C6F-E505-462D-9D11-88DCA2B5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AD9BE7-B28B-402E-99DC-9A2E198C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798D25-EFBD-462F-B052-44FD72FD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A67DA7-E750-440D-89EC-C960D4EDE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CDE6E6-6008-4B9C-AB4B-441D12620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D701-3760-477B-8086-CFCD8F00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F4F2-6981-46BD-81A6-B13F9041E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3F96-C35C-4E2A-8574-F3A114248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77470D-A133-4598-A7FF-75783AD3B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F8E6F2-3DFF-40E1-A4A8-C6FE56EE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8EDB8F-A5D8-4547-8C54-BA72E4F4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7E33DD-A4C1-4F67-858A-DF0126BA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5C98A8-4539-4E5B-93D7-236A8BF4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CD58-E58C-41CC-B8F4-31B328CF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64AFDE-D853-482B-8DE1-98A98E49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666795-BE1E-4828-8170-47DEE037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50AB54-B19B-4CAA-BF06-4912B921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D716A7-F0B3-4343-9223-BB992BFE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83AFB0-6E93-4BAF-9B69-580462B4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112E24-A816-4E50-AAB8-1C03A87FE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F57FC4-60E7-431D-9371-352605A46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EC9F8-8634-4236-A175-9B1D0B88A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A6C28-567D-478C-9FF9-B3CD1B02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52B44-52C6-4F07-987E-39FB680C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06AC-1A83-4CBC-894A-A6E381B7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2AE77-3780-4007-9BF0-F95F4102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6EFA0-664E-4C24-B381-430D651B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F9B33-98F4-4B81-8601-1F7A6855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0CEEA-4CFF-4367-8324-11793C96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7FA73-3932-4FE4-BBED-52EE7A18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4F801-DB81-4AE5-9A6F-E6F7CCC6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E9ABA-B17F-461A-9FD5-918C0AC0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B3DFA-3E91-47FC-9E48-E76AFEE75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14884-B0E9-4C6F-9917-750820991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906F9-11A2-4E83-B683-15F6F5836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E2B7-D56E-4481-A5E6-3A22B78E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77103-98A6-4C23-965E-FCF43BD6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7C0B1-DB20-4496-A7F8-72CCC24D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5F260-1CF9-4FBF-A624-9F60E082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79C7B-66FB-4E81-AF41-496B2EB1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57647-C4DF-4A13-ACE4-B4315832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05F53-5CDC-47B2-8B04-9835D959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CCC63-D474-43A2-82CA-7F9B9501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31208-E0E4-4906-9FC4-381E4B2D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C0292-18CE-41B5-8CC2-EB6994A0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1E8E6-0D6E-437A-A4FB-A1D8A2BFF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AC52-02C0-4949-8EED-ACB92933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7FAC7-C003-4097-9B25-D3EBB1C62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737B4-84DD-49A5-912B-C91019B2A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C4852-1EB0-4C44-ACDE-8ADFA9E5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642ED-C421-468E-AB35-2C7049D9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F1D94-B839-4385-9ECB-30E22793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0354D-18F5-4D72-8434-5FAAEC0E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0D528-77FA-4855-824A-3FA0A634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10E49-BEEA-46FF-B7F5-6E4ED792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6C73A-F59E-4771-A22D-24B6370D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60712-A6B8-40B2-89D9-67557917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7952-C6B0-4E8B-90B3-5942DCCE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56424-5DDD-45E9-B549-27FC7905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2DBD1-AF79-4612-9D71-F88C5850A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2F864-ADEA-4ABC-A907-F46785F4D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C0550-77E5-4AB3-834F-71C297208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74FFE-10F5-4CE6-906D-F27DBE78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189CD-B40C-47E0-9443-200AD2A1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9C1F1-A66B-4CBA-A7DE-85E0CAED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AFDF4-931F-4766-8310-CFB6E44A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7B2BE-471C-4637-85F9-38EFDE0D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44A01-97F2-4746-8C2F-F3624EEF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AA23-5F0A-4FB4-BB0B-C8DD4B65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D2271-33E2-433F-A69A-13FA17BC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3E583-F4EC-496A-ABAC-4583396A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7FCDC-B432-478F-88A3-5680D84A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D0A56-E7FD-4C41-9A77-3145FFA09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BAC98-17A0-4660-9E2C-E08241D1C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41070-8953-49DA-972C-3E78798D5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56404-3617-481F-9231-AE82F54B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A202E-585B-42DB-AD43-4B027289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1C4CA-FBF7-449A-B71E-2FCADCFB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A2EB3-2C73-45B0-8558-7A2985DA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8E5C-23E1-4D50-A431-2A36614F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E5468-06E0-4A43-8828-3B560FB2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9542E-C367-4912-9D40-CA79D03F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4FBB4-8A7E-4F7E-A0DA-BCFFE52E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09989-A4CA-4427-AA4D-D0A5A24B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65EC9-A14B-43D0-A74A-B7B957FE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83DD6-68DF-45C5-A24A-D1A9FD956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5C4D9-1414-454F-B802-DBA58FAFA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1A3A9C-B5EC-4171-9186-C006EC439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47645-EF15-4EE6-B034-16BF7F09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B9827-B1C4-49AA-B722-F520E3BD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83D5-671F-4F2A-8FDA-769C60FD0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r" rtl="1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 algn="r" rtl="1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 algn="r" rtl="1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 algn="r" rtl="1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 algn="r" rtl="1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CE85-7415-44A9-AC66-AE6121227650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3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A65D-384C-4F6E-AE87-A9F5091DB108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ftr" idx="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C91D-3B65-48D9-93D2-C9B854BDCC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522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0780-A1A0-4878-9EF6-D100ED70DD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78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2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ftr" idx="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65DD-AA72-43A0-8964-8811B7448A0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dt" idx="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9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8115-A0ED-466D-A692-C0FC07606DD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 type="dt" idx="4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 type="sldNum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33F7-381D-4B10-9748-15B26B2FD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4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5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AAA3-E86C-4CF7-9318-5DDD7CE00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 type="dt" idx="5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 type="sldNum" idx="5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B144-3614-41AA-B088-C5A98810F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50CB-9126-440F-A906-7EC631965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6CBF-61C0-43A5-86F0-41288AD20E7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5CA7-7587-4959-BFAC-20253CEAC64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686D-E7C4-47A7-882F-9A45D784A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r" rtl="1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 algn="r" rtl="1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 algn="r" rtl="1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 algn="r" rtl="1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7E6A-C210-4CB3-B527-349D1DE5FFD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734C-9F0E-4712-9848-7C4E16F2A7F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3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dt" idx="2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ftr" idx="2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2D7F-2B65-4798-989B-FDD18F39E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8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dt" idx="25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ftr" idx="26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9F14-9D57-4448-BF12-3524B0902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7.wmf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24.wmf"/><Relationship Id="rId13" Type="http://schemas.openxmlformats.org/officeDocument/2006/relationships/image" Target="../media/image25.wmf"/><Relationship Id="rId14" Type="http://schemas.openxmlformats.org/officeDocument/2006/relationships/image" Target="../media/image26.wmf"/><Relationship Id="rId1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0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06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gif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6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06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gif"/><Relationship Id="rId3" Type="http://schemas.openxmlformats.org/officeDocument/2006/relationships/image" Target="../media/image47.gif"/><Relationship Id="rId4" Type="http://schemas.openxmlformats.org/officeDocument/2006/relationships/image" Target="../media/image48.gif"/><Relationship Id="rId5" Type="http://schemas.openxmlformats.org/officeDocument/2006/relationships/slideLayout" Target="../slideLayouts/slideLayout8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8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06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hyperlink" Target="file:///../4-&#1576;&#1585;&#1575;&#1605;&#1580;%20&#1575;&#1604;&#1578;&#1601;&#1603;&#1610;&#1585;/&#1575;&#1604;&#1593;&#1589;&#1601;%20&#1575;&#1604;&#1584;&#1607;&#1606;&#1610;/&#1605;&#1607;&#1575;&#1585;&#1577;%20&#1575;&#1604;&#1593;&#1589;&#1601;%20%20&#1575;&#1604;&#1584;&#1607;&#1606;&#1610;%20(%20&#1575;&#1604;&#1605;&#1576;&#1575;&#1583;&#1574;%20).ppt" TargetMode="External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20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1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1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0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6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13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06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0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8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8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8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8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8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wmf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8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0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9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8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8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8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wmf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53.jpeg"/><Relationship Id="rId8" Type="http://schemas.openxmlformats.org/officeDocument/2006/relationships/image" Target="../media/image53.jpeg"/><Relationship Id="rId9" Type="http://schemas.openxmlformats.org/officeDocument/2006/relationships/slideLayout" Target="../slideLayouts/slideLayout18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3399"/>
                </a:solidFill>
                <a:latin typeface="Arial"/>
                <a:cs typeface="AGA Juhyna Regular"/>
              </a:rPr>
              <a:t>استراتيجية حل المشكلات بطرق إبداعية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AGA Juhyna Regular"/>
              </a:rPr>
              <a:t>The Creative Problem Sol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subTitle"/>
          </p:nvPr>
        </p:nvSpPr>
        <p:spPr>
          <a:xfrm>
            <a:off x="1332000" y="357336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3300"/>
                </a:solidFill>
                <a:latin typeface="Arial"/>
                <a:cs typeface="AL-Mateen"/>
              </a:rPr>
              <a:t>تطبيق الاستراتيجية في الملتقيات الصيف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  <a:ea typeface="AL-Mateen"/>
              </a:rPr>
              <a:t>1426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  <a:ea typeface="AL-Mateen"/>
              </a:rPr>
              <a:t> ه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1"/>
          <a:stretch/>
        </p:blipFill>
        <p:spPr>
          <a:xfrm>
            <a:off x="3708360" y="115920"/>
            <a:ext cx="1079640" cy="90972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>
            <a:off x="2411280" y="1052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333399"/>
                </a:solidFill>
                <a:latin typeface="Arial"/>
                <a:cs typeface="AL-Sayf Bold"/>
              </a:rPr>
              <a:t>الإدارة العامة لرعاية الموهوب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2"/>
          <a:stretch/>
        </p:blipFill>
        <p:spPr>
          <a:xfrm>
            <a:off x="3348000" y="5372280"/>
            <a:ext cx="1800360" cy="129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" descr=""/>
          <p:cNvPicPr/>
          <p:nvPr/>
        </p:nvPicPr>
        <p:blipFill>
          <a:blip r:embed="rId2"/>
          <a:stretch/>
        </p:blipFill>
        <p:spPr>
          <a:xfrm>
            <a:off x="73080" y="115920"/>
            <a:ext cx="2843280" cy="2017800"/>
          </a:xfrm>
          <a:prstGeom prst="rect">
            <a:avLst/>
          </a:prstGeom>
          <a:ln w="0">
            <a:noFill/>
          </a:ln>
        </p:spPr>
      </p:pic>
      <p:pic>
        <p:nvPicPr>
          <p:cNvPr id="925" name="" descr=""/>
          <p:cNvPicPr/>
          <p:nvPr/>
        </p:nvPicPr>
        <p:blipFill>
          <a:blip r:embed="rId3"/>
          <a:stretch/>
        </p:blipFill>
        <p:spPr>
          <a:xfrm>
            <a:off x="0" y="6410160"/>
            <a:ext cx="611280" cy="44784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/>
          <p:nvPr/>
        </p:nvSpPr>
        <p:spPr>
          <a:xfrm>
            <a:off x="4572000" y="1268280"/>
            <a:ext cx="0" cy="64800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572000" y="1268280"/>
            <a:ext cx="2879640" cy="64800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1835280" y="1268280"/>
            <a:ext cx="2736720" cy="72072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659640" y="213372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لا توجد مشك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3637080" y="206064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تضخيم المشكل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826920" y="220500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رؤية المشك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020000" y="436572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تتراكم المشاك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3348000" y="4437000"/>
            <a:ext cx="237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يستحيل أن يكون لها حل ( لا يوجد فائدة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116000" y="458136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539640" y="458136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في حجمها الطبيعي كل مشكلة لها ح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6" name="" descr=""/>
          <p:cNvPicPr/>
          <p:nvPr/>
        </p:nvPicPr>
        <p:blipFill>
          <a:blip r:embed="rId4"/>
          <a:stretch/>
        </p:blipFill>
        <p:spPr>
          <a:xfrm>
            <a:off x="5364000" y="2133720"/>
            <a:ext cx="432000" cy="358560"/>
          </a:xfrm>
          <a:prstGeom prst="rect">
            <a:avLst/>
          </a:prstGeom>
          <a:ln w="0">
            <a:noFill/>
          </a:ln>
        </p:spPr>
      </p:pic>
      <p:pic>
        <p:nvPicPr>
          <p:cNvPr id="937" name="" descr=""/>
          <p:cNvPicPr/>
          <p:nvPr/>
        </p:nvPicPr>
        <p:blipFill>
          <a:blip r:embed="rId5"/>
          <a:stretch/>
        </p:blipFill>
        <p:spPr>
          <a:xfrm>
            <a:off x="2484360" y="2205000"/>
            <a:ext cx="395280" cy="432000"/>
          </a:xfrm>
          <a:prstGeom prst="rect">
            <a:avLst/>
          </a:prstGeom>
          <a:ln w="0">
            <a:noFill/>
          </a:ln>
        </p:spPr>
      </p:pic>
      <p:pic>
        <p:nvPicPr>
          <p:cNvPr id="938" name="" descr=""/>
          <p:cNvPicPr/>
          <p:nvPr/>
        </p:nvPicPr>
        <p:blipFill>
          <a:blip r:embed="rId6"/>
          <a:stretch/>
        </p:blipFill>
        <p:spPr>
          <a:xfrm>
            <a:off x="8308800" y="2197080"/>
            <a:ext cx="295560" cy="295200"/>
          </a:xfrm>
          <a:prstGeom prst="rect">
            <a:avLst/>
          </a:prstGeom>
          <a:ln w="0">
            <a:noFill/>
          </a:ln>
        </p:spPr>
      </p:pic>
      <p:pic>
        <p:nvPicPr>
          <p:cNvPr id="939" name="" descr=""/>
          <p:cNvPicPr/>
          <p:nvPr/>
        </p:nvPicPr>
        <p:blipFill>
          <a:blip r:embed="rId7"/>
          <a:stretch/>
        </p:blipFill>
        <p:spPr>
          <a:xfrm>
            <a:off x="4356000" y="2492280"/>
            <a:ext cx="473040" cy="1871640"/>
          </a:xfrm>
          <a:prstGeom prst="rect">
            <a:avLst/>
          </a:prstGeom>
          <a:ln w="0">
            <a:noFill/>
          </a:ln>
          <a:effectLst>
            <a:outerShdw dist="127008" dir="3183908" blurRad="0" rotWithShape="0">
              <a:srgbClr val="006600"/>
            </a:outerShdw>
          </a:effectLst>
        </p:spPr>
      </p:pic>
      <p:pic>
        <p:nvPicPr>
          <p:cNvPr id="940" name="" descr=""/>
          <p:cNvPicPr/>
          <p:nvPr/>
        </p:nvPicPr>
        <p:blipFill>
          <a:blip r:embed="rId8"/>
          <a:stretch/>
        </p:blipFill>
        <p:spPr>
          <a:xfrm>
            <a:off x="7380360" y="2708280"/>
            <a:ext cx="473040" cy="1655640"/>
          </a:xfrm>
          <a:prstGeom prst="rect">
            <a:avLst/>
          </a:prstGeom>
          <a:ln w="0">
            <a:noFill/>
          </a:ln>
          <a:effectLst>
            <a:outerShdw dist="109184" dir="3271692" blurRad="0" rotWithShape="0">
              <a:srgbClr val="006600"/>
            </a:outerShdw>
          </a:effectLst>
        </p:spPr>
      </p:pic>
      <p:pic>
        <p:nvPicPr>
          <p:cNvPr id="941" name="" descr=""/>
          <p:cNvPicPr/>
          <p:nvPr/>
        </p:nvPicPr>
        <p:blipFill>
          <a:blip r:embed="rId9"/>
          <a:stretch/>
        </p:blipFill>
        <p:spPr>
          <a:xfrm>
            <a:off x="1403280" y="2635200"/>
            <a:ext cx="473040" cy="1873440"/>
          </a:xfrm>
          <a:prstGeom prst="rect">
            <a:avLst/>
          </a:prstGeom>
          <a:ln w="0">
            <a:noFill/>
          </a:ln>
          <a:effectLst>
            <a:outerShdw dist="117181" dir="2961631" blurRad="0" rotWithShape="0">
              <a:srgbClr val="006600"/>
            </a:outerShdw>
          </a:effectLst>
        </p:spPr>
      </p:pic>
      <p:sp>
        <p:nvSpPr>
          <p:cNvPr id="942" name=""/>
          <p:cNvSpPr txBox="1"/>
          <p:nvPr/>
        </p:nvSpPr>
        <p:spPr>
          <a:xfrm rot="21363600">
            <a:off x="1402920" y="71280"/>
            <a:ext cx="600084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28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latin typeface="Arabic Transparent"/>
              </a:rPr>
              <a:t>الناس أمام المشكلة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stretch/>
              </a:blipFill>
              <a:latin typeface="Arabic Transparent"/>
              <a:ea typeface="Arabic Transparent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12"/>
          <a:stretch/>
        </p:blipFill>
        <p:spPr>
          <a:xfrm>
            <a:off x="6083280" y="3070080"/>
            <a:ext cx="1009800" cy="1295640"/>
          </a:xfrm>
          <a:prstGeom prst="rect">
            <a:avLst/>
          </a:prstGeom>
          <a:ln w="0">
            <a:noFill/>
          </a:ln>
        </p:spPr>
      </p:pic>
      <p:pic>
        <p:nvPicPr>
          <p:cNvPr id="944" name="" descr=""/>
          <p:cNvPicPr/>
          <p:nvPr/>
        </p:nvPicPr>
        <p:blipFill>
          <a:blip r:embed="rId13"/>
          <a:stretch/>
        </p:blipFill>
        <p:spPr>
          <a:xfrm>
            <a:off x="3348000" y="3068640"/>
            <a:ext cx="822240" cy="1224000"/>
          </a:xfrm>
          <a:prstGeom prst="rect">
            <a:avLst/>
          </a:prstGeom>
          <a:ln w="0">
            <a:noFill/>
          </a:ln>
        </p:spPr>
      </p:pic>
      <p:pic>
        <p:nvPicPr>
          <p:cNvPr id="945" name="" descr=""/>
          <p:cNvPicPr/>
          <p:nvPr/>
        </p:nvPicPr>
        <p:blipFill>
          <a:blip r:embed="rId14"/>
          <a:stretch/>
        </p:blipFill>
        <p:spPr>
          <a:xfrm>
            <a:off x="468360" y="3141720"/>
            <a:ext cx="790560" cy="129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8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8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8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" descr=""/>
          <p:cNvPicPr/>
          <p:nvPr/>
        </p:nvPicPr>
        <p:blipFill>
          <a:blip r:embed="rId2"/>
          <a:stretch/>
        </p:blipFill>
        <p:spPr>
          <a:xfrm>
            <a:off x="1082520" y="1341360"/>
            <a:ext cx="1895760" cy="2664000"/>
          </a:xfrm>
          <a:prstGeom prst="rect">
            <a:avLst/>
          </a:prstGeom>
          <a:ln w="0">
            <a:noFill/>
          </a:ln>
        </p:spPr>
      </p:pic>
      <p:sp>
        <p:nvSpPr>
          <p:cNvPr id="947" name=""/>
          <p:cNvSpPr/>
          <p:nvPr/>
        </p:nvSpPr>
        <p:spPr>
          <a:xfrm>
            <a:off x="3132000" y="1992240"/>
            <a:ext cx="5256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800000"/>
                </a:solidFill>
                <a:latin typeface="Arial"/>
                <a:cs typeface="Al-Mothnna"/>
              </a:rPr>
              <a:t>ما المقصود بالمشكلة في فهمك الخاص 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5076720" y="47628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0000ff"/>
                </a:solidFill>
                <a:latin typeface="Arial"/>
                <a:cs typeface="Al-Mujahed Free"/>
              </a:rPr>
              <a:t>تمرين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465 -0.20967 L 0.15365 0.32501 E">
                                      <p:cBhvr>
                                        <p:cTn id="232" dur="2000" fill="hold"/>
                                        <p:tgtEl>
                                          <p:spTgt spid="9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1187280" y="3645000"/>
            <a:ext cx="1152720" cy="2448000"/>
          </a:xfrm>
          <a:prstGeom prst="rect">
            <a:avLst/>
          </a:prstGeom>
          <a:ln w="0">
            <a:noFill/>
          </a:ln>
        </p:spPr>
      </p:pic>
      <p:sp>
        <p:nvSpPr>
          <p:cNvPr id="950" name=""/>
          <p:cNvSpPr txBox="1"/>
          <p:nvPr/>
        </p:nvSpPr>
        <p:spPr>
          <a:xfrm>
            <a:off x="3783600" y="1356480"/>
            <a:ext cx="2728800" cy="2195280"/>
          </a:xfrm>
          <a:prstGeom prst="rect">
            <a:avLst/>
          </a:prstGeom>
          <a:blipFill rotWithShape="0">
            <a:blip r:embed="rId3"/>
            <a:stretch/>
          </a:blip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700" spc="-1" strike="noStrike">
                <a:solidFill>
                  <a:srgbClr val="00918e"/>
                </a:solidFill>
                <a:latin typeface="Arial"/>
                <a:cs typeface="PT Bold Heading"/>
              </a:rPr>
              <a:t>ما هي المشكلة ؟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179280" y="115920"/>
            <a:ext cx="1800360" cy="3583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900" spc="-1" strike="noStrike">
                <a:solidFill>
                  <a:srgbClr val="e48800"/>
                </a:solidFill>
                <a:latin typeface="Arial"/>
              </a:rPr>
              <a:t>2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8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" descr=""/>
          <p:cNvPicPr/>
          <p:nvPr/>
        </p:nvPicPr>
        <p:blipFill>
          <a:blip r:embed="rId2"/>
          <a:stretch/>
        </p:blipFill>
        <p:spPr>
          <a:xfrm>
            <a:off x="7380360" y="1268280"/>
            <a:ext cx="936720" cy="1008360"/>
          </a:xfrm>
          <a:prstGeom prst="rect">
            <a:avLst/>
          </a:prstGeom>
          <a:ln w="0">
            <a:noFill/>
          </a:ln>
        </p:spPr>
      </p:pic>
      <p:sp>
        <p:nvSpPr>
          <p:cNvPr id="95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1079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59000"/>
          </a:bodyPr>
          <a:p>
            <a:pPr marL="20232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99"/>
                </a:solidFill>
                <a:latin typeface="Arial"/>
                <a:cs typeface="AL-Mateen"/>
              </a:rPr>
              <a:t>المشكلة : هي عقبة أمام تحقيق الأهداف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6300720" y="2133720"/>
            <a:ext cx="576360" cy="2665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7093080" y="2565360"/>
            <a:ext cx="1655640" cy="18716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7020000" y="3325680"/>
            <a:ext cx="143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Arial"/>
                <a:cs typeface="AL-Mateen"/>
              </a:rPr>
              <a:t>الهد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2340000" y="3284640"/>
            <a:ext cx="3887640" cy="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140360" y="3429000"/>
            <a:ext cx="2087280" cy="28728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3780000" y="3645000"/>
            <a:ext cx="2447640" cy="57456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4788000" y="2852640"/>
            <a:ext cx="1439640" cy="21600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1403280" y="2636640"/>
            <a:ext cx="4824360" cy="36036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2411280" y="1557000"/>
            <a:ext cx="4969080" cy="1584360"/>
          </a:xfrm>
          <a:prstGeom prst="line">
            <a:avLst/>
          </a:prstGeom>
          <a:ln w="7632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3" name="" descr=""/>
          <p:cNvPicPr/>
          <p:nvPr/>
        </p:nvPicPr>
        <p:blipFill>
          <a:blip r:embed="rId5"/>
          <a:stretch/>
        </p:blipFill>
        <p:spPr>
          <a:xfrm>
            <a:off x="324000" y="1341360"/>
            <a:ext cx="1223640" cy="1150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" descr=""/>
          <p:cNvPicPr/>
          <p:nvPr/>
        </p:nvPicPr>
        <p:blipFill>
          <a:blip r:embed="rId2"/>
          <a:stretch/>
        </p:blipFill>
        <p:spPr>
          <a:xfrm>
            <a:off x="684360" y="692280"/>
            <a:ext cx="5940360" cy="4311360"/>
          </a:xfrm>
          <a:prstGeom prst="rect">
            <a:avLst/>
          </a:prstGeom>
          <a:ln w="0">
            <a:noFill/>
          </a:ln>
        </p:spPr>
      </p:pic>
      <p:sp>
        <p:nvSpPr>
          <p:cNvPr id="965" name=""/>
          <p:cNvSpPr txBox="1"/>
          <p:nvPr/>
        </p:nvSpPr>
        <p:spPr>
          <a:xfrm>
            <a:off x="482760" y="3258000"/>
            <a:ext cx="2200680" cy="1134000"/>
          </a:xfrm>
          <a:prstGeom prst="rect">
            <a:avLst/>
          </a:prstGeom>
          <a:blipFill rotWithShape="0">
            <a:blip r:embed="rId3">
              <a:alphaModFix amt="15000"/>
            </a:blip>
            <a:stretch/>
          </a:blipFill>
          <a:ln w="57240">
            <a:solidFill>
              <a:srgbClr val="00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66"/>
                </a:solidFill>
                <a:latin typeface="Arial"/>
                <a:cs typeface="AL-Mateen"/>
              </a:rPr>
              <a:t>الأهداف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2987640" y="475920"/>
            <a:ext cx="5402160" cy="3887640"/>
          </a:xfrm>
          <a:prstGeom prst="rect">
            <a:avLst/>
          </a:prstGeom>
          <a:blipFill rotWithShape="0">
            <a:blip r:embed="rId4"/>
            <a:stretch/>
          </a:blipFill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456840" indent="-4568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  <a:cs typeface="AL-Mateen"/>
              </a:rPr>
              <a:t>طاعة الله تعالى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  <a:cs typeface="AL-Mateen"/>
              </a:rPr>
              <a:t>التفوق والنجاح في الدراس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  <a:cs typeface="AL-Mateen"/>
              </a:rPr>
              <a:t>حفظ القرآن الكريم والحديث الشريف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  <a:cs typeface="AL-Mateen"/>
              </a:rPr>
              <a:t>النجاح في الحيا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  <a:cs typeface="AL-Mateen"/>
              </a:rPr>
              <a:t>حل مشكلات في المنزل أو الحي أو المدرس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  <a:cs typeface="AL-Mateen"/>
              </a:rPr>
              <a:t>ارضاء الوالدي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  <a:cs typeface="AL-Mateen"/>
              </a:rPr>
              <a:t>إدارة العمل ، واستكشاف قدرات العاملي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1042920" y="4560840"/>
            <a:ext cx="7345440" cy="22467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hi-IN" sz="3200" spc="-1" strike="noStrike">
                <a:solidFill>
                  <a:srgbClr val="ffff00"/>
                </a:solidFill>
                <a:latin typeface="Arial"/>
                <a:cs typeface="AL-Mateen"/>
              </a:rPr>
              <a:t>الحلول الإبداعية لمشكلات المستقبل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  <a:cs typeface="AL-Mateen"/>
              </a:rPr>
              <a:t>تطوير الأجهزة والآلات الحديث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  <a:cs typeface="AL-Mateen"/>
              </a:rPr>
              <a:t>ابتكار مخترعات جديدة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79280" y="115920"/>
            <a:ext cx="1800360" cy="35838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900" spc="-1" strike="noStrike">
                <a:solidFill>
                  <a:srgbClr val="e48800"/>
                </a:solidFill>
                <a:latin typeface="Arial"/>
              </a:rPr>
              <a:t>3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8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800"/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800"/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800"/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800"/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800"/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800"/>
                                        <p:tgtEl>
                                          <p:spTgt spid="9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800" fill="hold"/>
                                        <p:tgtEl>
                                          <p:spTgt spid="9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00" fill="hold"/>
                                        <p:tgtEl>
                                          <p:spTgt spid="9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9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800"/>
                                        <p:tgtEl>
                                          <p:spTgt spid="9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800" fill="hold"/>
                                        <p:tgtEl>
                                          <p:spTgt spid="9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9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9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8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800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800" fill="hold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800" fill="hold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800" fill="hold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800"/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800" fill="hold"/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00" fill="hold"/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800" fill="hold"/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800"/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800" fill="hold"/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800" fill="hold"/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800" fill="hold"/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763280" y="1428480"/>
            <a:ext cx="6985080" cy="1568520"/>
          </a:xfrm>
          <a:prstGeom prst="rect">
            <a:avLst/>
          </a:prstGeom>
          <a:blipFill rotWithShape="0">
            <a:blip r:embed="rId2">
              <a:alphaModFix amt="40000"/>
            </a:blip>
            <a:stretch/>
          </a:blipFill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8000"/>
                </a:solidFill>
                <a:latin typeface="Arial"/>
                <a:cs typeface="FS_Free"/>
              </a:rPr>
              <a:t>لماذا ؟ ومن أجل ما ذا ؟ ندرس حل المشكلات 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1547280" y="4263840"/>
            <a:ext cx="547236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cc3300"/>
                </a:solidFill>
                <a:latin typeface="Arial"/>
                <a:cs typeface="AL-Mateen"/>
              </a:rPr>
              <a:t>الأهدا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79280" y="115920"/>
            <a:ext cx="1800360" cy="35838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900" spc="-1" strike="noStrike">
                <a:solidFill>
                  <a:srgbClr val="e48800"/>
                </a:solidFill>
                <a:latin typeface="Arial"/>
              </a:rPr>
              <a:t>4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800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800" fill="hold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800" fill="hold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800" fill="hold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9144000" cy="5895720"/>
          </a:xfrm>
          <a:prstGeom prst="rect">
            <a:avLst/>
          </a:prstGeom>
          <a:ln w="0">
            <a:noFill/>
          </a:ln>
        </p:spPr>
      </p:pic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6600"/>
                </a:solidFill>
                <a:latin typeface="Arial"/>
                <a:cs typeface="AL-Mateen"/>
              </a:rPr>
              <a:t>من أهدافنا في برنامج حل المشكلا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7416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456840" indent="-456840" algn="r" rtl="1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  <a:cs typeface="AL-Mateen"/>
              </a:rPr>
              <a:t>التعلم على أن هناك حلول ناجحة تتطلب الصبر في الوصول إليه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 algn="r" rtl="1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  <a:cs typeface="AL-Mateen"/>
              </a:rPr>
              <a:t>الأخذ بالأسباب في تحقق عبادة التوكل على الل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 algn="r" rtl="1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  <a:cs typeface="AL-Mateen"/>
              </a:rPr>
              <a:t>تعليم مهارة اتخاذ القرار الفعال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 algn="r" rtl="1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  <a:cs typeface="AL-Mateen"/>
              </a:rPr>
              <a:t>دراسة القضايا والمشكلات من جميع الجها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 algn="r" rtl="1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  <a:cs typeface="AL-Mateen"/>
              </a:rPr>
              <a:t>إعمال الفكر في الوصول إلى الحلول الأصيل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 algn="r" rtl="1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  <a:cs typeface="AL-Mateen"/>
              </a:rPr>
              <a:t>معالجة المشكلة في إطار مقنن بأساليب حديث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 algn="r" rtl="1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  <a:cs typeface="AL-Mateen"/>
              </a:rPr>
              <a:t>طرح وإيجاد أكثر من حل للمشكلة لاختيار أفضله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835280" y="923400"/>
            <a:ext cx="685152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cc0000"/>
                </a:solidFill>
                <a:latin typeface="Arial"/>
                <a:cs typeface="AL-Mateen Outline"/>
              </a:rPr>
              <a:t>ما هو الإبداع ؟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3212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70a78"/>
                </a:solidFill>
                <a:latin typeface="Arial"/>
                <a:ea typeface="AL-Hosam"/>
              </a:rPr>
              <a:t>       هو النظر للمألوف بطريقة أو من زاوية غير مألوفة ، ثم تطوير هذا النظر ليتحول إلى فكرة ثم تصميم ثم إبداع قابل للتطبيق والاستعم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79280" y="115920"/>
            <a:ext cx="1800360" cy="35838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900" spc="-1" strike="noStrike">
                <a:solidFill>
                  <a:srgbClr val="e48800"/>
                </a:solidFill>
                <a:latin typeface="Arial"/>
              </a:rPr>
              <a:t>5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133440" y="549360"/>
            <a:ext cx="3598920" cy="78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Arial"/>
                <a:cs typeface="AL-Mateen"/>
              </a:rPr>
              <a:t>التفكير الإبداع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250560" y="1562040"/>
            <a:ext cx="8507160" cy="4603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99680" indent="-499680" algn="r" rtl="1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170a78"/>
                </a:solidFill>
                <a:latin typeface="Arial"/>
              </a:rPr>
              <a:t>هو أن تأتي بفكرة جديدة بالنسبة لك وللآخري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 algn="r" rtl="1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170a78"/>
                </a:solidFill>
                <a:latin typeface="Arial"/>
              </a:rPr>
              <a:t>هو القدرة على توليد أفكار جديدة ومفيدة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 algn="r" rtl="1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170a78"/>
                </a:solidFill>
                <a:latin typeface="Arial"/>
              </a:rPr>
              <a:t>هو الإتيان إلى حيز الوجود بشيء لم يكن موجوداً من قب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 algn="r" rtl="1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170a78"/>
                </a:solidFill>
                <a:latin typeface="Arial"/>
              </a:rPr>
              <a:t>هو القدرة على عمل ترابط ورؤية علاقات وروابط جديد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 algn="r" rtl="1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170a78"/>
                </a:solidFill>
                <a:latin typeface="Arial"/>
              </a:rPr>
              <a:t>وهو القدرة على أن ينهل الإنسان من موارد متنوعة ويوحد بينها بشكل متكامل وجديد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 algn="r" rtl="1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170a78"/>
                </a:solidFill>
                <a:latin typeface="Arial"/>
              </a:rPr>
              <a:t>تمكن العقل من إدراك العلاقة بين شيئين بطريقة يتولد عنها ظهور شيء ثالث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2843280" y="274680"/>
            <a:ext cx="584352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660066"/>
                </a:solidFill>
                <a:latin typeface="Arial"/>
                <a:cs typeface="AL-Hor"/>
              </a:rPr>
              <a:t>نشاط :أبناؤنا والإبدا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363640" y="2204640"/>
            <a:ext cx="32403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 rtl="1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666633"/>
                </a:solidFill>
                <a:latin typeface="Arial"/>
                <a:cs typeface="AL-Hosam"/>
              </a:rPr>
              <a:t>صورة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 rtl="1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666633"/>
                </a:solidFill>
                <a:latin typeface="Arial"/>
                <a:cs typeface="AL-Hosam"/>
              </a:rPr>
              <a:t>متكررة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79280" y="115920"/>
            <a:ext cx="1800360" cy="35838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900" spc="-1" strike="noStrike">
                <a:solidFill>
                  <a:srgbClr val="e48800"/>
                </a:solidFill>
                <a:latin typeface="Arial"/>
              </a:rPr>
              <a:t>6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3" name="" descr=""/>
          <p:cNvPicPr/>
          <p:nvPr/>
        </p:nvPicPr>
        <p:blipFill>
          <a:blip r:embed="rId2"/>
          <a:stretch/>
        </p:blipFill>
        <p:spPr>
          <a:xfrm>
            <a:off x="971640" y="1773360"/>
            <a:ext cx="4032000" cy="439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1368360" cy="1654200"/>
          </a:xfrm>
          <a:prstGeom prst="rect">
            <a:avLst/>
          </a:prstGeom>
          <a:ln w="0">
            <a:noFill/>
          </a:ln>
        </p:spPr>
      </p:pic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0628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  <a:cs typeface="AL-Mateen"/>
              </a:rPr>
              <a:t>عناصر حقيبة تطبيق حل المشكلات في الملتقيات الصيفية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11280" y="1771560"/>
            <a:ext cx="807552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  <a:ea typeface="AL-Mateen"/>
              </a:rPr>
              <a:t>   المشغل التدريبي الأول :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  التفكير التباعدي والتفكير التقاربي .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AL-Mateen"/>
              </a:rPr>
              <a:t>  المشغل التدريبي الثاني :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66"/>
                </a:solidFill>
                <a:latin typeface="Arial"/>
              </a:rPr>
              <a:t>مقدمات في البرنامج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66"/>
                </a:solidFill>
                <a:latin typeface="Arial"/>
              </a:rPr>
              <a:t>تعريف عام للمراحل والخطوات مع أسلوب العمل عليها عام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  <a:ea typeface="AL-Mateen"/>
              </a:rPr>
              <a:t>  المشغل التدريبي الثالث: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 تطبيقات على خطوات حل المشكلات بطرق إبداعية .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885" name="" descr=""/>
          <p:cNvPicPr/>
          <p:nvPr/>
        </p:nvPicPr>
        <p:blipFill>
          <a:blip r:embed="rId5"/>
          <a:stretch/>
        </p:blipFill>
        <p:spPr>
          <a:xfrm>
            <a:off x="3564000" y="2637000"/>
            <a:ext cx="720720" cy="86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5219640" y="692280"/>
            <a:ext cx="2997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شكرا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  <p:pic>
        <p:nvPicPr>
          <p:cNvPr id="985" name="" descr=""/>
          <p:cNvPicPr/>
          <p:nvPr/>
        </p:nvPicPr>
        <p:blipFill>
          <a:blip r:embed="rId3"/>
          <a:stretch/>
        </p:blipFill>
        <p:spPr>
          <a:xfrm>
            <a:off x="2340000" y="2349360"/>
            <a:ext cx="3139920" cy="1917720"/>
          </a:xfrm>
          <a:prstGeom prst="rect">
            <a:avLst/>
          </a:prstGeom>
          <a:ln w="0">
            <a:noFill/>
          </a:ln>
        </p:spPr>
      </p:pic>
      <p:sp>
        <p:nvSpPr>
          <p:cNvPr id="986" name=""/>
          <p:cNvSpPr txBox="1"/>
          <p:nvPr/>
        </p:nvSpPr>
        <p:spPr>
          <a:xfrm>
            <a:off x="971640" y="4292640"/>
            <a:ext cx="4392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يا مبدعون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</p:spTree>
  </p:cSld>
  <p:transition>
    <p:fade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988" name=""/>
          <p:cNvSpPr txBox="1"/>
          <p:nvPr/>
        </p:nvSpPr>
        <p:spPr>
          <a:xfrm>
            <a:off x="468360" y="2060640"/>
            <a:ext cx="792000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11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استراتيجية حل المشكلات 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3"/>
          <a:stretch/>
        </p:blipFill>
        <p:spPr>
          <a:xfrm>
            <a:off x="755640" y="4508640"/>
            <a:ext cx="2736720" cy="216036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6156360" y="404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مر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5219640" y="40464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Farsi Simple Outline"/>
              </a:rPr>
              <a:t>مراحل وخطوات</a:t>
            </a:r>
            <a:endParaRPr b="1" lang="en-US" sz="4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Farsi Simple Outline"/>
              <a:ea typeface="Farsi Simple Outline"/>
            </a:endParaRPr>
          </a:p>
        </p:txBody>
      </p:sp>
    </p:spTree>
  </p:cSld>
  <p:transition>
    <p:fade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4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/>
          </p:nvPr>
        </p:nvSpPr>
        <p:spPr>
          <a:xfrm>
            <a:off x="457200" y="242244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 rtl="1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GA Juhyna Regular"/>
              </a:rPr>
              <a:t>     التدريس من خلال حل المشكلات إبداعياً يؤدي إلى النمو الإدراكي والانفعالي والاجتماعي على حد سواء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title"/>
          </p:nvPr>
        </p:nvSpPr>
        <p:spPr>
          <a:xfrm>
            <a:off x="2700360" y="620640"/>
            <a:ext cx="28908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Arial"/>
                <a:cs typeface="AL-Mateen Outline"/>
              </a:rPr>
              <a:t>فائد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6443640" y="3357720"/>
            <a:ext cx="1368360" cy="431640"/>
          </a:xfrm>
          <a:prstGeom prst="rect">
            <a:avLst/>
          </a:prstGeom>
          <a:solidFill>
            <a:srgbClr val="0027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769080" cy="4038480"/>
          </a:xfrm>
          <a:prstGeom prst="rect">
            <a:avLst/>
          </a:prstGeom>
          <a:ln w="0">
            <a:noFill/>
          </a:ln>
        </p:spPr>
      </p:pic>
      <p:sp>
        <p:nvSpPr>
          <p:cNvPr id="996" name=""/>
          <p:cNvSpPr/>
          <p:nvPr/>
        </p:nvSpPr>
        <p:spPr>
          <a:xfrm>
            <a:off x="4427640" y="234936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067280" y="3716280"/>
            <a:ext cx="1152360" cy="1008000"/>
          </a:xfrm>
          <a:prstGeom prst="flowChartConnector">
            <a:avLst/>
          </a:prstGeom>
          <a:solidFill>
            <a:srgbClr val="d0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4140360" y="3789360"/>
            <a:ext cx="79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  <a:cs typeface="PT Bold Heading"/>
              </a:rPr>
              <a:t>دراسة وتقييم المهم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593040" y="4006800"/>
            <a:ext cx="1074600" cy="862200"/>
          </a:xfrm>
          <a:prstGeom prst="diamond">
            <a:avLst/>
          </a:prstGeom>
          <a:solidFill>
            <a:srgbClr val="d0ea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1908000" y="3716280"/>
            <a:ext cx="1079640" cy="93672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4067280" y="2205000"/>
            <a:ext cx="1152360" cy="865080"/>
          </a:xfrm>
          <a:prstGeom prst="diamond">
            <a:avLst/>
          </a:prstGeom>
          <a:solidFill>
            <a:srgbClr val="d0eae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5724360" y="4216320"/>
            <a:ext cx="1079640" cy="868320"/>
          </a:xfrm>
          <a:prstGeom prst="diamond">
            <a:avLst/>
          </a:prstGeom>
          <a:solidFill>
            <a:srgbClr val="d0ea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067280" y="2349360"/>
            <a:ext cx="8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  <a:cs typeface="PT Bold Heading"/>
              </a:rPr>
              <a:t>إيجاد الأفكا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627280" y="4076640"/>
            <a:ext cx="1081080" cy="86508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050920" y="4508640"/>
            <a:ext cx="1081080" cy="93636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979640" y="3933720"/>
            <a:ext cx="79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Arial"/>
                <a:cs typeface="PT Bold Heading"/>
              </a:rPr>
              <a:t>الإحساس بالمشكل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979640" y="4653000"/>
            <a:ext cx="8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Arial"/>
                <a:cs typeface="PT Bold Heading"/>
              </a:rPr>
              <a:t>صياغة المشكل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2700360" y="4292640"/>
            <a:ext cx="79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Arial"/>
                <a:cs typeface="PT Bold Heading"/>
              </a:rPr>
              <a:t>جمع المعلوما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940360" y="4437000"/>
            <a:ext cx="576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Arial"/>
                <a:cs typeface="PT Bold Heading"/>
              </a:rPr>
              <a:t>تطوير الح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6732720" y="4149720"/>
            <a:ext cx="64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Arial"/>
                <a:cs typeface="PT Bold Heading"/>
              </a:rPr>
              <a:t>بناء القبول للح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 rot="668400">
            <a:off x="4709880" y="3134880"/>
            <a:ext cx="718920" cy="647640"/>
          </a:xfrm>
          <a:prstGeom prst="diamond">
            <a:avLst/>
          </a:prstGeom>
          <a:solidFill>
            <a:srgbClr val="d0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4429080" y="3341520"/>
            <a:ext cx="503280" cy="32076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Arial"/>
                <a:cs typeface="AL-Mateen"/>
              </a:rPr>
              <a:t>مراحل وخطوات الاستراتيجية المراحل الأساسية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4" name="" descr=""/>
          <p:cNvPicPr/>
          <p:nvPr/>
        </p:nvPicPr>
        <p:blipFill>
          <a:blip r:embed="rId2"/>
          <a:stretch/>
        </p:blipFill>
        <p:spPr>
          <a:xfrm>
            <a:off x="0" y="6356520"/>
            <a:ext cx="684360" cy="501480"/>
          </a:xfrm>
          <a:prstGeom prst="rect">
            <a:avLst/>
          </a:prstGeom>
          <a:ln w="0">
            <a:noFill/>
          </a:ln>
        </p:spPr>
      </p:pic>
      <p:sp>
        <p:nvSpPr>
          <p:cNvPr id="1015" name=""/>
          <p:cNvSpPr/>
          <p:nvPr/>
        </p:nvSpPr>
        <p:spPr>
          <a:xfrm>
            <a:off x="1403280" y="3141720"/>
            <a:ext cx="1368360" cy="431640"/>
          </a:xfrm>
          <a:prstGeom prst="rect">
            <a:avLst/>
          </a:prstGeom>
          <a:solidFill>
            <a:srgbClr val="0027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1403280" y="3024360"/>
            <a:ext cx="1584360" cy="554400"/>
          </a:xfrm>
          <a:prstGeom prst="rect">
            <a:avLst/>
          </a:prstGeom>
          <a:solidFill>
            <a:srgbClr val="002b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d9edef"/>
                </a:solidFill>
                <a:latin typeface="Arial"/>
                <a:cs typeface="PT Bold Heading"/>
              </a:rPr>
              <a:t>فه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d9edef"/>
                </a:solidFill>
                <a:latin typeface="Arial"/>
                <a:cs typeface="PT Bold Heading"/>
              </a:rPr>
              <a:t>المشكلة أو التحد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5435640" y="1989000"/>
            <a:ext cx="1081080" cy="358920"/>
          </a:xfrm>
          <a:prstGeom prst="rect">
            <a:avLst/>
          </a:prstGeom>
          <a:solidFill>
            <a:srgbClr val="0027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435640" y="2060640"/>
            <a:ext cx="1152360" cy="520200"/>
          </a:xfrm>
          <a:prstGeom prst="rect">
            <a:avLst/>
          </a:prstGeom>
          <a:solidFill>
            <a:srgbClr val="002b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d9edef"/>
                </a:solidFill>
                <a:latin typeface="Arial"/>
                <a:cs typeface="PT Bold Heading"/>
              </a:rPr>
              <a:t>إيجاد الأفكا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588000" y="3284640"/>
            <a:ext cx="1008360" cy="576000"/>
          </a:xfrm>
          <a:prstGeom prst="rect">
            <a:avLst/>
          </a:prstGeom>
          <a:solidFill>
            <a:srgbClr val="0027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588000" y="3357720"/>
            <a:ext cx="1079640" cy="733320"/>
          </a:xfrm>
          <a:prstGeom prst="rect">
            <a:avLst/>
          </a:prstGeom>
          <a:solidFill>
            <a:srgbClr val="002b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d9edef"/>
                </a:solidFill>
                <a:latin typeface="Arial"/>
                <a:cs typeface="PT Bold Heading"/>
              </a:rPr>
              <a:t>التحضير لتطبيق الح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3995640" y="4797360"/>
            <a:ext cx="144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924360" y="4869000"/>
            <a:ext cx="1584360" cy="43164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564000" y="4941720"/>
            <a:ext cx="2303280" cy="45900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Arial"/>
                <a:cs typeface="PT Bold Heading"/>
              </a:rPr>
              <a:t>التخطيط لاستخدام الاستراتيج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/>
          <p:nvPr/>
        </p:nvSpPr>
        <p:spPr>
          <a:xfrm>
            <a:off x="4140360" y="637524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الإبداع ، جروان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5" name="" descr=""/>
          <p:cNvPicPr/>
          <p:nvPr/>
        </p:nvPicPr>
        <p:blipFill>
          <a:blip r:embed="rId2"/>
          <a:stretch/>
        </p:blipFill>
        <p:spPr>
          <a:xfrm>
            <a:off x="3909960" y="2914560"/>
            <a:ext cx="1324080" cy="1028880"/>
          </a:xfrm>
          <a:prstGeom prst="rect">
            <a:avLst/>
          </a:prstGeom>
          <a:ln w="0">
            <a:noFill/>
          </a:ln>
        </p:spPr>
      </p:pic>
      <p:pic>
        <p:nvPicPr>
          <p:cNvPr id="1026" name="" descr=""/>
          <p:cNvPicPr/>
          <p:nvPr/>
        </p:nvPicPr>
        <p:blipFill>
          <a:blip r:embed="rId3"/>
          <a:stretch/>
        </p:blipFill>
        <p:spPr>
          <a:xfrm>
            <a:off x="611280" y="907920"/>
            <a:ext cx="7489800" cy="3168720"/>
          </a:xfrm>
          <a:prstGeom prst="rect">
            <a:avLst/>
          </a:prstGeom>
          <a:ln w="0">
            <a:noFill/>
          </a:ln>
        </p:spPr>
      </p:pic>
      <p:sp>
        <p:nvSpPr>
          <p:cNvPr id="1027" name=""/>
          <p:cNvSpPr/>
          <p:nvPr/>
        </p:nvSpPr>
        <p:spPr>
          <a:xfrm>
            <a:off x="611280" y="4221000"/>
            <a:ext cx="8064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8000"/>
                </a:solidFill>
                <a:latin typeface="Arial"/>
                <a:cs typeface="AL-Mateen"/>
              </a:rPr>
              <a:t>نموذجاً تخطيطياً تدفقياً لتلخيص مكونات البرنامج والمهمات المطلوبة في كل مرحلة ، وأكدا على ضرورة المحافظة على نوع من التوازن بين نوعين أساسيين من التفكير هما التفكير المتشعب والتفكير المتقارب في كل مرحلة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  <a:ea typeface="AL-Mateen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AL-Matee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/>
          </p:nvPr>
        </p:nvSpPr>
        <p:spPr>
          <a:xfrm>
            <a:off x="468000" y="1052280"/>
            <a:ext cx="3311640" cy="28810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Arial"/>
                <a:cs typeface="AL-Mateen"/>
              </a:rPr>
              <a:t>قدم أساكسن وترفنجر في كتابهما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100" spc="-1" strike="noStrike">
                <a:solidFill>
                  <a:srgbClr val="333399"/>
                </a:solidFill>
                <a:latin typeface="Arial"/>
                <a:cs typeface="AL-Hosam"/>
              </a:rPr>
              <a:t>تلخيص العملية التتابعية 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826920" y="2708280"/>
            <a:ext cx="684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ffff66"/>
                </a:solidFill>
                <a:latin typeface="Arial"/>
                <a:cs typeface="AL-Hosam"/>
              </a:rPr>
              <a:t>حل المشكلات الإبداع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8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8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8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00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8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8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8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8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"/>
          <p:cNvSpPr/>
          <p:nvPr/>
        </p:nvSpPr>
        <p:spPr>
          <a:xfrm>
            <a:off x="3851280" y="5394240"/>
            <a:ext cx="1800360" cy="121284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3851280" y="4572000"/>
            <a:ext cx="1800360" cy="82224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3851280" y="3749760"/>
            <a:ext cx="1800360" cy="82224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851280" y="2927520"/>
            <a:ext cx="1800360" cy="82224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851280" y="2104920"/>
            <a:ext cx="1800360" cy="82260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66560" y="5394240"/>
            <a:ext cx="3384720" cy="12128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6600"/>
                </a:solidFill>
                <a:latin typeface="Times New Roman"/>
                <a:cs typeface="AL-Mateen"/>
              </a:rPr>
              <a:t>التركيز على الحلول الواعدة ووضع خطة محددة للتنفي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651640" y="5394240"/>
            <a:ext cx="3168360" cy="12128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6600"/>
                </a:solidFill>
                <a:latin typeface="Times New Roman"/>
                <a:cs typeface="AL-Mateen"/>
              </a:rPr>
              <a:t>تطوير قائمة بمصادر الدعم والمقاومة المحتملة وتحديد خطوات التنفيذ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66560" y="4572000"/>
            <a:ext cx="3384720" cy="8222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8000"/>
                </a:solidFill>
                <a:latin typeface="Times New Roman"/>
                <a:cs typeface="AL-Mateen"/>
              </a:rPr>
              <a:t>اختيار بعض المحكات لتقييم الأفكار وتحسينها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5651640" y="4572000"/>
            <a:ext cx="3168360" cy="8222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Times New Roman"/>
                <a:cs typeface="AL-Mateen"/>
              </a:rPr>
              <a:t>تطوير قائمة محكات لمراجعة الأفكار وتقييمها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66560" y="3749760"/>
            <a:ext cx="3384720" cy="8222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33cc"/>
                </a:solidFill>
                <a:latin typeface="Times New Roman"/>
                <a:cs typeface="AL-Mateen"/>
              </a:rPr>
              <a:t>اختيار الأفكار التي تبدو مثيرة وواعد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5651640" y="3749760"/>
            <a:ext cx="3168360" cy="8222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33cc"/>
                </a:solidFill>
                <a:latin typeface="Times New Roman"/>
                <a:cs typeface="AL-Mateen"/>
              </a:rPr>
              <a:t>توليد عدة أفكار وبدائل واقتراحات لحل المشكلة وتسجيلها في قائم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466560" y="2927520"/>
            <a:ext cx="3384720" cy="8222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6600"/>
                </a:solidFill>
                <a:latin typeface="Times New Roman"/>
                <a:cs typeface="AL-Mateen"/>
              </a:rPr>
              <a:t>اختيار صياغة مناسبة للمشكل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5651640" y="2927520"/>
            <a:ext cx="3168360" cy="8222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6600"/>
                </a:solidFill>
                <a:latin typeface="Times New Roman"/>
                <a:cs typeface="AL-Mateen"/>
              </a:rPr>
              <a:t>توليد صياغات متعددة للمشكلة الأساسية والمشكلات الفرعي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66560" y="2104920"/>
            <a:ext cx="3384720" cy="8226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660033"/>
                </a:solidFill>
                <a:latin typeface="Times New Roman"/>
                <a:cs typeface="AL-Mateen"/>
              </a:rPr>
              <a:t>تحديد أهم المعلومات ذات العلاقة وتحليلها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651640" y="2104920"/>
            <a:ext cx="3168360" cy="8226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660033"/>
                </a:solidFill>
                <a:latin typeface="Times New Roman"/>
                <a:cs typeface="AL-Mateen"/>
              </a:rPr>
              <a:t>فحص الوضع من زوايا متعددة ، وتجميع المعلومات ذات العلاقة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66560" y="917640"/>
            <a:ext cx="3384720" cy="11872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AL-Mateen"/>
              </a:rPr>
              <a:t> اختيار التحدي والشروع في عمل منهجي لمواجهة الوض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851280" y="917640"/>
            <a:ext cx="1800360" cy="118728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5651640" y="917640"/>
            <a:ext cx="3168360" cy="11872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0000"/>
                </a:solidFill>
                <a:latin typeface="Times New Roman"/>
                <a:cs typeface="AL-Mateen"/>
              </a:rPr>
              <a:t>البحث عن الأوضاع المتأزمة والمختلطة من واقع الخبرات واكتشاف الفر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466560" y="333360"/>
            <a:ext cx="3384720" cy="5842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99"/>
                </a:solidFill>
                <a:latin typeface="Times New Roman"/>
                <a:cs typeface="AL-Hosam"/>
              </a:rPr>
              <a:t>ثقارب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3851280" y="333360"/>
            <a:ext cx="1800360" cy="58428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990000"/>
                </a:solidFill>
                <a:latin typeface="Times New Roman"/>
                <a:cs typeface="AL-Hosam"/>
              </a:rPr>
              <a:t>الخطو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651640" y="333360"/>
            <a:ext cx="3168360" cy="5842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99"/>
                </a:solidFill>
                <a:latin typeface="Times New Roman"/>
                <a:cs typeface="AL-Hosam"/>
              </a:rPr>
              <a:t>تباع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66560" y="333360"/>
            <a:ext cx="83534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466560" y="6607080"/>
            <a:ext cx="83534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8820000" y="333360"/>
            <a:ext cx="0" cy="62737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466560" y="333360"/>
            <a:ext cx="0" cy="62737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66560" y="917640"/>
            <a:ext cx="83534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651640" y="333360"/>
            <a:ext cx="0" cy="62737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851280" y="333360"/>
            <a:ext cx="0" cy="62737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466560" y="2104920"/>
            <a:ext cx="518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66560" y="2927520"/>
            <a:ext cx="518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466560" y="3749760"/>
            <a:ext cx="518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466560" y="4572000"/>
            <a:ext cx="518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66560" y="5394240"/>
            <a:ext cx="518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651640" y="2104920"/>
            <a:ext cx="3168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651640" y="2927520"/>
            <a:ext cx="3168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651640" y="3749760"/>
            <a:ext cx="3168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5651640" y="4572000"/>
            <a:ext cx="3168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5651640" y="5394240"/>
            <a:ext cx="3168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3995640" y="1052640"/>
            <a:ext cx="1511280" cy="936360"/>
          </a:xfrm>
          <a:prstGeom prst="flowChartDecision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rial"/>
                <a:cs typeface="AL-Mohanad Bold"/>
              </a:rPr>
              <a:t>الإحساس بالمشكل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3995640" y="2131920"/>
            <a:ext cx="1440000" cy="792360"/>
          </a:xfrm>
          <a:prstGeom prst="flowChartDecision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  <a:cs typeface="AL-Mohanad Bold"/>
              </a:rPr>
              <a:t>جمع المعلوم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3995640" y="3067200"/>
            <a:ext cx="1441440" cy="649080"/>
          </a:xfrm>
          <a:prstGeom prst="flowChartDecision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  <a:cs typeface="AL-Mohanad Bold"/>
              </a:rPr>
              <a:t>صياغة المشكل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3995640" y="3860640"/>
            <a:ext cx="1511280" cy="720720"/>
          </a:xfrm>
          <a:prstGeom prst="flowChartDecision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  <a:cs typeface="AL-Mohanad Bold"/>
              </a:rPr>
              <a:t>إيجاد الأفكا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995640" y="4653000"/>
            <a:ext cx="1513080" cy="720720"/>
          </a:xfrm>
          <a:prstGeom prst="flowChartDecision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  <a:cs typeface="AL-Mohanad Bold"/>
              </a:rPr>
              <a:t>تطوير الح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067280" y="5518080"/>
            <a:ext cx="1439640" cy="935280"/>
          </a:xfrm>
          <a:prstGeom prst="flowChartDecision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  <a:cs typeface="AL-Mohanad Bold"/>
              </a:rPr>
              <a:t>قبول الح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0" y="696960"/>
            <a:ext cx="1803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0" y="696960"/>
            <a:ext cx="1803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0" y="696960"/>
            <a:ext cx="1803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0" y="696960"/>
            <a:ext cx="1803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0" y="696960"/>
            <a:ext cx="1803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0" y="696960"/>
            <a:ext cx="1803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0" y="537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800" y="538884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8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3" dur="2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8" dur="2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3" dur="2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8" dur="2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3" dur="2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8" dur="2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1908000" y="2565360"/>
            <a:ext cx="576108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عنوان الوحدة الإثرائ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00"/>
                </a:solidFill>
                <a:latin typeface="Arial"/>
                <a:cs typeface="AL-Hosam"/>
              </a:rPr>
              <a:t>تلوث الهواء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cc"/>
                </a:solidFill>
                <a:latin typeface="Tahoma"/>
                <a:cs typeface="Al-Hadith2"/>
              </a:rPr>
              <a:t>المرحلة الأولى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324000" y="3141720"/>
            <a:ext cx="8532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ffffff"/>
                </a:solidFill>
                <a:latin typeface="Tahoma"/>
                <a:cs typeface="AL-Mateen"/>
              </a:rPr>
              <a:t>فهم المشكلة أو التحدي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6" name="" descr=""/>
          <p:cNvPicPr/>
          <p:nvPr/>
        </p:nvPicPr>
        <p:blipFill>
          <a:blip r:embed="rId1"/>
          <a:stretch/>
        </p:blipFill>
        <p:spPr>
          <a:xfrm>
            <a:off x="0" y="6356520"/>
            <a:ext cx="684360" cy="501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/>
          <p:nvPr/>
        </p:nvSpPr>
        <p:spPr>
          <a:xfrm>
            <a:off x="755640" y="907920"/>
            <a:ext cx="7273800" cy="460872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700000" y="2133360"/>
            <a:ext cx="360036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Arial"/>
                <a:cs typeface="AL-Mateen"/>
              </a:rPr>
              <a:t>الإحساس بالمشكل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5796000" y="47628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ccff"/>
                </a:solidFill>
                <a:latin typeface="Arial"/>
              </a:rPr>
              <a:t>الخطوة الأول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0" name="" descr=""/>
          <p:cNvPicPr/>
          <p:nvPr/>
        </p:nvPicPr>
        <p:blipFill>
          <a:blip r:embed="rId1"/>
          <a:stretch/>
        </p:blipFill>
        <p:spPr>
          <a:xfrm>
            <a:off x="0" y="6356520"/>
            <a:ext cx="684360" cy="501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0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331640" y="304920"/>
            <a:ext cx="72435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000000"/>
                </a:solidFill>
                <a:latin typeface="Verdana"/>
                <a:cs typeface="PT Bold Heading"/>
              </a:rPr>
              <a:t>خطوة الإحساس بالمشكلة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324000" y="2392200"/>
            <a:ext cx="8640720" cy="29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660066"/>
                </a:solidFill>
                <a:latin typeface="Verdana"/>
                <a:cs typeface="AGA Aladdin Regular"/>
              </a:rPr>
              <a:t>الهدف منها :</a:t>
            </a:r>
            <a:r>
              <a:rPr b="1" lang="en-US" sz="3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003366"/>
                </a:solidFill>
                <a:latin typeface="Verdana"/>
              </a:rPr>
              <a:t>1</a:t>
            </a:r>
            <a:r>
              <a:rPr b="1" lang="en-US" sz="3000" spc="-1" strike="noStrike">
                <a:solidFill>
                  <a:srgbClr val="003366"/>
                </a:solidFill>
                <a:latin typeface="Verdana"/>
              </a:rPr>
              <a:t> ـ </a:t>
            </a:r>
            <a:r>
              <a:rPr b="1" lang="hi-IN" sz="3000" spc="-1" strike="noStrike">
                <a:solidFill>
                  <a:srgbClr val="003366"/>
                </a:solidFill>
                <a:latin typeface="Verdana"/>
                <a:cs typeface="AL-Mateen"/>
              </a:rPr>
              <a:t>استيضاح وفهم أعمق للمشكلة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0" algn="just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Verdana"/>
                <a:ea typeface="AL-Mateen"/>
              </a:rPr>
              <a:t>   </a:t>
            </a:r>
            <a:r>
              <a:rPr b="1" lang="en-US" sz="3000" spc="-1" strike="noStrike">
                <a:solidFill>
                  <a:srgbClr val="003366"/>
                </a:solidFill>
                <a:latin typeface="Verdana"/>
                <a:ea typeface="AL-Mateen"/>
              </a:rPr>
              <a:t>2</a:t>
            </a:r>
            <a:r>
              <a:rPr b="1" lang="en-US" sz="3000" spc="-1" strike="noStrike">
                <a:solidFill>
                  <a:srgbClr val="003366"/>
                </a:solidFill>
                <a:latin typeface="Verdana"/>
                <a:ea typeface="AL-Mateen"/>
              </a:rPr>
              <a:t> ــ</a:t>
            </a:r>
            <a:r>
              <a:rPr b="1" lang="en-US" sz="3000" spc="-1" strike="noStrike">
                <a:solidFill>
                  <a:srgbClr val="003366"/>
                </a:solidFill>
                <a:latin typeface="Verdana"/>
                <a:ea typeface="Al-Mujahed Free"/>
              </a:rPr>
              <a:t> </a:t>
            </a:r>
            <a:r>
              <a:rPr b="1" lang="hi-IN" sz="3000" spc="-1" strike="noStrike">
                <a:solidFill>
                  <a:srgbClr val="003366"/>
                </a:solidFill>
                <a:latin typeface="Verdana"/>
                <a:cs typeface="AL-Mateen"/>
              </a:rPr>
              <a:t>التعرف على مجال المشكلة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Verdana"/>
                <a:ea typeface="AL-Mateen"/>
              </a:rPr>
              <a:t>  - أبعاد المشكلة واتجاهاتها واستجلاء ما يكتنفها من غموض ، عن طريق التفكير التباعدي ، ثم التقاربي 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3" name="" descr=""/>
          <p:cNvPicPr/>
          <p:nvPr/>
        </p:nvPicPr>
        <p:blipFill>
          <a:blip r:embed="rId1"/>
          <a:stretch/>
        </p:blipFill>
        <p:spPr>
          <a:xfrm>
            <a:off x="0" y="6356520"/>
            <a:ext cx="684360" cy="501480"/>
          </a:xfrm>
          <a:prstGeom prst="rect">
            <a:avLst/>
          </a:prstGeom>
          <a:ln w="0">
            <a:noFill/>
          </a:ln>
        </p:spPr>
      </p:pic>
      <p:sp>
        <p:nvSpPr>
          <p:cNvPr id="1094" name=""/>
          <p:cNvSpPr/>
          <p:nvPr/>
        </p:nvSpPr>
        <p:spPr>
          <a:xfrm>
            <a:off x="6372360" y="692280"/>
            <a:ext cx="792000" cy="64908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Mateen"/>
              </a:rPr>
              <a:t>المشغل التدريبي الأول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1484280" y="3213000"/>
            <a:ext cx="6400800" cy="23767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6600"/>
                </a:solidFill>
                <a:latin typeface="Arial"/>
                <a:cs typeface="MCS Hijon E_U normal."/>
              </a:rPr>
              <a:t>التفكير التباعدي والتفكير التقاربي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6600"/>
                </a:solidFill>
                <a:latin typeface="Arial"/>
                <a:cs typeface="MCS Hijon E_U normal."/>
              </a:rPr>
              <a:t>وطريقة استخدامها في 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6600"/>
                </a:solidFill>
                <a:latin typeface="Arial"/>
                <a:cs typeface="MCS Hijon E_U normal."/>
              </a:rPr>
              <a:t>الملتقيات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626920" y="378000"/>
            <a:ext cx="2521080" cy="7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ffff00"/>
                </a:solidFill>
                <a:latin typeface="Verdana"/>
                <a:cs typeface="AL-Mateen Outline"/>
              </a:rPr>
              <a:t>حوار المبدعي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6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1008000" cy="571320"/>
          </a:xfrm>
          <a:prstGeom prst="rect">
            <a:avLst/>
          </a:prstGeom>
          <a:ln w="0">
            <a:noFill/>
          </a:ln>
        </p:spPr>
      </p:pic>
      <p:sp>
        <p:nvSpPr>
          <p:cNvPr id="1097" name=""/>
          <p:cNvSpPr/>
          <p:nvPr/>
        </p:nvSpPr>
        <p:spPr>
          <a:xfrm>
            <a:off x="1619280" y="1484280"/>
            <a:ext cx="1225440" cy="10080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00"/>
                </a:solidFill>
                <a:latin typeface="Arial"/>
                <a:cs typeface="PT Bold Heading"/>
              </a:rPr>
              <a:t>تباعد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611280" y="1268280"/>
            <a:ext cx="79898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Verdana"/>
              </a:rPr>
              <a:t>         ما الذي تريد ه ؟     ما الذي يضايقك 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Verdana"/>
              </a:rPr>
              <a:t>        ما الأشياء التي تريد تقديمها بطريقة مختلفة 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468360" y="2997360"/>
            <a:ext cx="820728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971640" y="3068640"/>
            <a:ext cx="7129440" cy="3726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6877080" y="189000"/>
            <a:ext cx="1655640" cy="79200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AL-Mateen"/>
              </a:rPr>
              <a:t>الإحساس بالمشك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834920" y="404640"/>
            <a:ext cx="216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400" spc="-1" strike="noStrike">
                <a:solidFill>
                  <a:srgbClr val="ffff00"/>
                </a:solidFill>
                <a:latin typeface="Verdana"/>
                <a:cs typeface="AL-Mateen Outline"/>
              </a:rPr>
              <a:t>حوار المبدعين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3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609480" cy="228600"/>
          </a:xfrm>
          <a:prstGeom prst="rect">
            <a:avLst/>
          </a:prstGeom>
          <a:ln w="0">
            <a:noFill/>
          </a:ln>
        </p:spPr>
      </p:pic>
      <p:sp>
        <p:nvSpPr>
          <p:cNvPr id="1104" name=""/>
          <p:cNvSpPr/>
          <p:nvPr/>
        </p:nvSpPr>
        <p:spPr>
          <a:xfrm>
            <a:off x="468360" y="2997360"/>
            <a:ext cx="820728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468360" y="1340280"/>
            <a:ext cx="1512720" cy="10098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00"/>
                </a:solidFill>
                <a:latin typeface="Arial"/>
                <a:cs typeface="AL-Hosam"/>
              </a:rPr>
              <a:t>تقا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484360" y="1612800"/>
            <a:ext cx="532944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hi-IN" sz="1800" spc="-1" strike="noStrike">
                <a:solidFill>
                  <a:srgbClr val="003300"/>
                </a:solidFill>
                <a:latin typeface="Arial"/>
              </a:rPr>
              <a:t>اهم المعايير : 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- التأثير     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– المصلحة   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- الجدة والإبداع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7" name=""/>
          <p:cNvGraphicFramePr/>
          <p:nvPr/>
        </p:nvGraphicFramePr>
        <p:xfrm>
          <a:off x="395280" y="2430360"/>
          <a:ext cx="8353440" cy="4089600"/>
        </p:xfrm>
        <a:graphic>
          <a:graphicData uri="http://schemas.openxmlformats.org/drawingml/2006/table">
            <a:tbl>
              <a:tblPr/>
              <a:tblGrid>
                <a:gridCol w="666720"/>
                <a:gridCol w="665280"/>
                <a:gridCol w="766800"/>
                <a:gridCol w="664920"/>
                <a:gridCol w="625680"/>
                <a:gridCol w="644400"/>
                <a:gridCol w="644400"/>
                <a:gridCol w="646200"/>
                <a:gridCol w="644760"/>
                <a:gridCol w="2384280"/>
              </a:tblGrid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Times New Roman"/>
                          <a:cs typeface="AL-Mohanad Bold"/>
                        </a:rPr>
                        <a:t>القرا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Times New Roman"/>
                          <a:cs typeface="AL-Mohanad Bold"/>
                        </a:rPr>
                        <a:t>المجمو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Times New Roman"/>
                          <a:cs typeface="AL-Mohanad Bold"/>
                        </a:rPr>
                        <a:t>اكتب المعايي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Times New Roman"/>
                          <a:cs typeface="Times New Roman"/>
                        </a:rPr>
                        <a:t>الخيارات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</a:tr>
              <a:tr h="1219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Times New Roman"/>
                          <a:cs typeface="AL-Mohanad Bold"/>
                        </a:rPr>
                        <a:t>عد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Times New Roman"/>
                          <a:cs typeface="AL-Mohanad Bold"/>
                        </a:rPr>
                        <a:t>أج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Times New Roman"/>
                          <a:cs typeface="AL-Mohanad Bold"/>
                        </a:rPr>
                        <a:t>استخد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ff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ff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ff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ff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ff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8" name=""/>
          <p:cNvSpPr/>
          <p:nvPr/>
        </p:nvSpPr>
        <p:spPr>
          <a:xfrm>
            <a:off x="755640" y="88416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ccff"/>
                </a:solidFill>
                <a:latin typeface="Arial"/>
                <a:cs typeface="AL-Mateen"/>
              </a:rPr>
              <a:t>أهم الأوضاع أو المشكلات البارزة  أو الأولويات أو الأهداف والاهتمام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877080" y="189000"/>
            <a:ext cx="1655640" cy="79200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AL-Mateen"/>
              </a:rPr>
              <a:t>الإحساس بالمشك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"/>
          <p:cNvSpPr txBox="1"/>
          <p:nvPr/>
        </p:nvSpPr>
        <p:spPr>
          <a:xfrm>
            <a:off x="4788000" y="692280"/>
            <a:ext cx="3429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شكرا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  <p:pic>
        <p:nvPicPr>
          <p:cNvPr id="1111" name="" descr=""/>
          <p:cNvPicPr/>
          <p:nvPr/>
        </p:nvPicPr>
        <p:blipFill>
          <a:blip r:embed="rId3"/>
          <a:stretch/>
        </p:blipFill>
        <p:spPr>
          <a:xfrm>
            <a:off x="2340000" y="2349360"/>
            <a:ext cx="3139920" cy="1917720"/>
          </a:xfrm>
          <a:prstGeom prst="rect">
            <a:avLst/>
          </a:prstGeom>
          <a:ln w="0">
            <a:noFill/>
          </a:ln>
        </p:spPr>
      </p:pic>
      <p:sp>
        <p:nvSpPr>
          <p:cNvPr id="1112" name=""/>
          <p:cNvSpPr txBox="1"/>
          <p:nvPr/>
        </p:nvSpPr>
        <p:spPr>
          <a:xfrm>
            <a:off x="971640" y="4292640"/>
            <a:ext cx="4680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يا مبدعون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</p:spTree>
  </p:cSld>
  <p:transition>
    <p:fade/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0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cc"/>
                </a:solidFill>
                <a:latin typeface="Arial"/>
              </a:rPr>
              <a:t> الخطوة الثان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755640" y="907920"/>
            <a:ext cx="7273800" cy="460872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2700360" y="2133720"/>
            <a:ext cx="3600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Arial"/>
                <a:cs typeface="AL-Mateen"/>
              </a:rPr>
              <a:t>جمع المعلوما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6" name="" descr=""/>
          <p:cNvPicPr/>
          <p:nvPr/>
        </p:nvPicPr>
        <p:blipFill>
          <a:blip r:embed="rId1"/>
          <a:stretch/>
        </p:blipFill>
        <p:spPr>
          <a:xfrm>
            <a:off x="0" y="6410160"/>
            <a:ext cx="611280" cy="44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ffff00"/>
                </a:solidFill>
                <a:latin typeface="Arial Black"/>
              </a:rPr>
              <a:t>يقولون</a:t>
            </a:r>
            <a:endParaRPr b="1" lang="en-US" sz="117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8007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 (( تزور النحلة ملايين الزهرات ؛ لتجمع مائة جرام من العسل ))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 المعلومة = قوة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9" name="" descr=""/>
          <p:cNvPicPr/>
          <p:nvPr/>
        </p:nvPicPr>
        <p:blipFill>
          <a:blip r:embed="rId2"/>
          <a:stretch/>
        </p:blipFill>
        <p:spPr>
          <a:xfrm>
            <a:off x="1403280" y="3573360"/>
            <a:ext cx="1916280" cy="2324160"/>
          </a:xfrm>
          <a:prstGeom prst="rect">
            <a:avLst/>
          </a:prstGeom>
          <a:ln w="0">
            <a:noFill/>
          </a:ln>
        </p:spPr>
      </p:pic>
      <p:pic>
        <p:nvPicPr>
          <p:cNvPr id="1120" name="" descr=""/>
          <p:cNvPicPr/>
          <p:nvPr/>
        </p:nvPicPr>
        <p:blipFill>
          <a:blip r:embed="rId3"/>
          <a:stretch/>
        </p:blipFill>
        <p:spPr>
          <a:xfrm>
            <a:off x="1763640" y="4508640"/>
            <a:ext cx="1324080" cy="1604880"/>
          </a:xfrm>
          <a:prstGeom prst="rect">
            <a:avLst/>
          </a:prstGeom>
          <a:ln w="0">
            <a:noFill/>
          </a:ln>
        </p:spPr>
      </p:pic>
      <p:pic>
        <p:nvPicPr>
          <p:cNvPr id="1121" name="" descr=""/>
          <p:cNvPicPr/>
          <p:nvPr/>
        </p:nvPicPr>
        <p:blipFill>
          <a:blip r:embed="rId4"/>
          <a:stretch/>
        </p:blipFill>
        <p:spPr>
          <a:xfrm>
            <a:off x="7093080" y="404640"/>
            <a:ext cx="1224000" cy="151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46195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b7"/>
                </a:solidFill>
                <a:latin typeface="Arial Black"/>
                <a:cs typeface="Al-Hadith2"/>
              </a:rPr>
              <a:t>خطوة جمع المعلومات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250920" y="2249640"/>
            <a:ext cx="8642160" cy="26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الهدف : تعريف و تحديد أهم العوامل والمؤثرات في المشكل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إن المهمة الأساسية في هذه المرحلة أن تجمع أكبر قدر ممكن من المعلومات الشاملة والمتنوعة والمهمة بالنسبة للمشكل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4" name="" descr=""/>
          <p:cNvPicPr/>
          <p:nvPr/>
        </p:nvPicPr>
        <p:blipFill>
          <a:blip r:embed="rId1"/>
          <a:stretch/>
        </p:blipFill>
        <p:spPr>
          <a:xfrm>
            <a:off x="0" y="6462720"/>
            <a:ext cx="539640" cy="39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2626920" y="378000"/>
            <a:ext cx="2521080" cy="7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ffff00"/>
                </a:solidFill>
                <a:latin typeface="Verdana"/>
                <a:cs typeface="AL-Mateen Outline"/>
              </a:rPr>
              <a:t>حوار المبدعي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6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1008000" cy="571320"/>
          </a:xfrm>
          <a:prstGeom prst="rect">
            <a:avLst/>
          </a:prstGeom>
          <a:ln w="0">
            <a:noFill/>
          </a:ln>
        </p:spPr>
      </p:pic>
      <p:sp>
        <p:nvSpPr>
          <p:cNvPr id="1127" name=""/>
          <p:cNvSpPr/>
          <p:nvPr/>
        </p:nvSpPr>
        <p:spPr>
          <a:xfrm>
            <a:off x="1403280" y="1413000"/>
            <a:ext cx="1225800" cy="10080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00"/>
                </a:solidFill>
                <a:latin typeface="Arial"/>
                <a:cs typeface="PT Bold Heading"/>
              </a:rPr>
              <a:t>تباعد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1332000" y="2565360"/>
            <a:ext cx="64054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385200" indent="-38520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Verdana"/>
              </a:rPr>
              <a:t>   واستخدم أصدقاءك الستة ( من ـ ماذا ـ متى ـ أين  ـ لماذا ـ كيف ؟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468360" y="2997360"/>
            <a:ext cx="820728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971640" y="3068640"/>
            <a:ext cx="7129440" cy="3726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7236000" y="333360"/>
            <a:ext cx="1368360" cy="71928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AL-Mateen"/>
              </a:rPr>
              <a:t>جمع المعلوم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3635280" y="1484280"/>
            <a:ext cx="331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cc99ff"/>
                </a:solidFill>
                <a:latin typeface="Arial"/>
                <a:cs typeface="AL-Hosam"/>
              </a:rPr>
              <a:t>مثل دور المحقق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834920" y="404640"/>
            <a:ext cx="216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400" spc="-1" strike="noStrike">
                <a:solidFill>
                  <a:srgbClr val="ffff00"/>
                </a:solidFill>
                <a:latin typeface="Verdana"/>
                <a:cs typeface="AL-Mateen Outline"/>
              </a:rPr>
              <a:t>حوار المبدعين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4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609480" cy="228600"/>
          </a:xfrm>
          <a:prstGeom prst="rect">
            <a:avLst/>
          </a:prstGeom>
          <a:ln w="0">
            <a:noFill/>
          </a:ln>
        </p:spPr>
      </p:pic>
      <p:sp>
        <p:nvSpPr>
          <p:cNvPr id="1135" name=""/>
          <p:cNvSpPr/>
          <p:nvPr/>
        </p:nvSpPr>
        <p:spPr>
          <a:xfrm>
            <a:off x="468360" y="2997360"/>
            <a:ext cx="820728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468360" y="1340280"/>
            <a:ext cx="1512720" cy="10098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00"/>
                </a:solidFill>
                <a:latin typeface="Arial"/>
                <a:cs typeface="AL-Hosam"/>
              </a:rPr>
              <a:t>تقا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2050920" y="1413000"/>
            <a:ext cx="6408720" cy="1191240"/>
          </a:xfrm>
          <a:prstGeom prst="rect">
            <a:avLst/>
          </a:prstGeom>
          <a:solidFill>
            <a:srgbClr val="ff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أهم المعايير 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معلومات  تمثل تحدياً حقيقياً بالنسبة لنا .. معلومات  هي جوهر المشكلة  .. مسائل  حرجة ...أي اتجاه هذه المعلومات تأخذ ؟  ...   أي بعد في هذه المعلومات ينبغي دراسته أولا 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8" name=""/>
          <p:cNvGraphicFramePr/>
          <p:nvPr/>
        </p:nvGraphicFramePr>
        <p:xfrm>
          <a:off x="395280" y="2430360"/>
          <a:ext cx="8353440" cy="4089600"/>
        </p:xfrm>
        <a:graphic>
          <a:graphicData uri="http://schemas.openxmlformats.org/drawingml/2006/table">
            <a:tbl>
              <a:tblPr/>
              <a:tblGrid>
                <a:gridCol w="666720"/>
                <a:gridCol w="665280"/>
                <a:gridCol w="766800"/>
                <a:gridCol w="664920"/>
                <a:gridCol w="625680"/>
                <a:gridCol w="644400"/>
                <a:gridCol w="644400"/>
                <a:gridCol w="646200"/>
                <a:gridCol w="644760"/>
                <a:gridCol w="2384280"/>
              </a:tblGrid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Times New Roman"/>
                          <a:cs typeface="AL-Mohanad Bold"/>
                        </a:rPr>
                        <a:t>القرا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Times New Roman"/>
                          <a:cs typeface="AL-Mohanad Bold"/>
                        </a:rPr>
                        <a:t>المجمو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Times New Roman"/>
                          <a:cs typeface="AL-Mohanad Bold"/>
                        </a:rPr>
                        <a:t>اكتب المعايي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Times New Roman"/>
                          <a:cs typeface="Times New Roman"/>
                        </a:rPr>
                        <a:t>الخيارات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</a:tr>
              <a:tr h="1219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Times New Roman"/>
                          <a:cs typeface="AL-Mohanad Bold"/>
                        </a:rPr>
                        <a:t>عد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Times New Roman"/>
                          <a:cs typeface="AL-Mohanad Bold"/>
                        </a:rPr>
                        <a:t>أج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Times New Roman"/>
                          <a:cs typeface="AL-Mohanad Bold"/>
                        </a:rPr>
                        <a:t>استخد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ff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ff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ff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ff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ff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9" name=""/>
          <p:cNvSpPr/>
          <p:nvPr/>
        </p:nvSpPr>
        <p:spPr>
          <a:xfrm>
            <a:off x="755640" y="94464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ccff"/>
                </a:solidFill>
                <a:latin typeface="Arial"/>
              </a:rPr>
              <a:t>تحديد المعلومات ذات الأهمية ( تركز على الهدف ، الارتباط ، الإثارة ، الوضوح ، الفاعلية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 txBox="1"/>
          <p:nvPr/>
        </p:nvSpPr>
        <p:spPr>
          <a:xfrm>
            <a:off x="4788000" y="692280"/>
            <a:ext cx="3429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شكرا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  <p:pic>
        <p:nvPicPr>
          <p:cNvPr id="1141" name="" descr=""/>
          <p:cNvPicPr/>
          <p:nvPr/>
        </p:nvPicPr>
        <p:blipFill>
          <a:blip r:embed="rId3"/>
          <a:stretch/>
        </p:blipFill>
        <p:spPr>
          <a:xfrm>
            <a:off x="2340000" y="2349360"/>
            <a:ext cx="3139920" cy="1917720"/>
          </a:xfrm>
          <a:prstGeom prst="rect">
            <a:avLst/>
          </a:prstGeom>
          <a:ln w="0">
            <a:noFill/>
          </a:ln>
        </p:spPr>
      </p:pic>
      <p:sp>
        <p:nvSpPr>
          <p:cNvPr id="1142" name=""/>
          <p:cNvSpPr txBox="1"/>
          <p:nvPr/>
        </p:nvSpPr>
        <p:spPr>
          <a:xfrm>
            <a:off x="971640" y="4292640"/>
            <a:ext cx="4680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يا مبدعون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</p:spTree>
  </p:cSld>
  <p:transition>
    <p:fade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" descr=""/>
          <p:cNvPicPr/>
          <p:nvPr/>
        </p:nvPicPr>
        <p:blipFill>
          <a:blip r:embed="rId1"/>
          <a:stretch/>
        </p:blipFill>
        <p:spPr>
          <a:xfrm>
            <a:off x="0" y="6356520"/>
            <a:ext cx="684360" cy="501480"/>
          </a:xfrm>
          <a:prstGeom prst="rect">
            <a:avLst/>
          </a:prstGeom>
          <a:ln w="0">
            <a:noFill/>
          </a:ln>
        </p:spPr>
      </p:pic>
      <p:sp>
        <p:nvSpPr>
          <p:cNvPr id="1144" name=""/>
          <p:cNvSpPr/>
          <p:nvPr/>
        </p:nvSpPr>
        <p:spPr>
          <a:xfrm>
            <a:off x="673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cc"/>
                </a:solidFill>
                <a:latin typeface="Arial"/>
              </a:rPr>
              <a:t> الخطوة الثالثة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673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971640" y="907920"/>
            <a:ext cx="7273800" cy="460872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2916360" y="2133720"/>
            <a:ext cx="3600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  <a:cs typeface="AL-Mateen"/>
              </a:rPr>
              <a:t>تحديد وصياغة المشكل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 txBox="1"/>
          <p:nvPr/>
        </p:nvSpPr>
        <p:spPr>
          <a:xfrm>
            <a:off x="446760" y="4082400"/>
            <a:ext cx="5776200" cy="22860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algn="ct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33"/>
                </a:solidFill>
                <a:latin typeface="Arial"/>
                <a:cs typeface="AL-Mateen"/>
              </a:rPr>
              <a:t>وهو القدرة على اختيار الوضع / الفكرة / الحل الأمثل وفق الشروط والمستويات المحددة سلفا.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6372360" y="4149720"/>
            <a:ext cx="2492280" cy="1312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والتفكير التقارب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732720" y="1325520"/>
            <a:ext cx="2087280" cy="1922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التفكير التباعد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324000" y="863640"/>
            <a:ext cx="5976720" cy="2535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660033"/>
                </a:solidFill>
                <a:latin typeface="Arial"/>
                <a:cs typeface="AL-Mateen"/>
              </a:rPr>
              <a:t>وهو القدرة على الإتيان بأكبر عدد ممكن من الفِكَرٍْ  وذلك من خلال القدرة على تفحص المشكلة من زوايا متعددة و مختلفة 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>
            <a:hlinkClick r:id="rId3"/>
          </p:cNvPr>
          <p:cNvSpPr/>
          <p:nvPr/>
        </p:nvSpPr>
        <p:spPr>
          <a:xfrm>
            <a:off x="5076720" y="2565360"/>
            <a:ext cx="647640" cy="647640"/>
          </a:xfrm>
          <a:custGeom>
            <a:avLst/>
            <a:gdLst>
              <a:gd name="textAreaLeft" fmla="*/ 185760 w 647640"/>
              <a:gd name="textAreaRight" fmla="*/ 554760 w 647640"/>
              <a:gd name="textAreaTop" fmla="*/ 372960 h 647640"/>
              <a:gd name="textAreaBottom" fmla="*/ 55476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84360" y="2852640"/>
            <a:ext cx="431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6600"/>
                </a:solidFill>
                <a:latin typeface="Arial"/>
                <a:cs typeface="AGA Dimnah Regular"/>
              </a:rPr>
              <a:t>وسنستخدم له مهارة العصف الذه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076720" y="5661000"/>
            <a:ext cx="647640" cy="647640"/>
          </a:xfrm>
          <a:custGeom>
            <a:avLst/>
            <a:gdLst>
              <a:gd name="textAreaLeft" fmla="*/ 185760 w 647640"/>
              <a:gd name="textAreaRight" fmla="*/ 554760 w 647640"/>
              <a:gd name="textAreaTop" fmla="*/ 372960 h 647640"/>
              <a:gd name="textAreaBottom" fmla="*/ 55476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684360" y="5873760"/>
            <a:ext cx="431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6600"/>
                </a:solidFill>
                <a:latin typeface="Arial"/>
                <a:cs typeface="AGA Dimnah Regular"/>
              </a:rPr>
              <a:t>وسنستخدم له مصفوفة التقي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79280" y="277920"/>
            <a:ext cx="6769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200" spc="-1" strike="noStrike">
                <a:solidFill>
                  <a:srgbClr val="006633"/>
                </a:solidFill>
                <a:latin typeface="Garamond"/>
                <a:cs typeface="Al-Mothnna"/>
              </a:rPr>
              <a:t>ما هي المشكلة الحقيقية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34544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((  كان طالب وأستاذه يتنزهان في ألاسكا عندها بدأ دب بمطاردتهما عن بعد . بدأ الاثنان في الركض ، ولكن كان من الواضح أن الدب سيلحق بهما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i-IN" sz="2800" spc="-1" strike="noStrike">
                <a:solidFill>
                  <a:srgbClr val="990000"/>
                </a:solidFill>
                <a:latin typeface="Arial"/>
              </a:rPr>
              <a:t>توقف الطال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وأنزل حقيبة الظهر التي كان يحملها وأخرج منها حذاء الجري وبدأ يلبس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i-IN" sz="2800" spc="-1" strike="noStrike">
                <a:solidFill>
                  <a:srgbClr val="990000"/>
                </a:solidFill>
                <a:latin typeface="Arial"/>
              </a:rPr>
              <a:t>قال الأستاذ 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حتى بحذاء الجري ، لن تكون أسرع من الدب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990000"/>
                </a:solidFill>
                <a:latin typeface="Arial"/>
              </a:rPr>
              <a:t>أجاب الطالب 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لست بحاجة لأن أكون أسرع من الدب ، بل يكفيني أن أكون أسرع منك ! )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1476360" y="99360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3366"/>
                </a:solidFill>
                <a:latin typeface="Arial"/>
                <a:cs typeface="AL-Hosam"/>
              </a:rPr>
              <a:t>حالة الدب الجائع  ( تعريف المشكلة الحقيقية )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1332000" y="5911920"/>
            <a:ext cx="74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90000"/>
                </a:solidFill>
                <a:latin typeface="Arial"/>
                <a:cs typeface="AL-Mateen"/>
              </a:rPr>
              <a:t>بغض النظر عن أخلاقيات هذا المثال إلا أنه يوضح نقطة أساسية وهي أهمية تعريف المشكلة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1293840" cy="115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200" spc="-1" strike="noStrike">
                <a:solidFill>
                  <a:srgbClr val="006633"/>
                </a:solidFill>
                <a:latin typeface="Garamond"/>
              </a:rPr>
              <a:t>خطوة تحديد وصياغة المشكلة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spcBef>
                <a:spcPts val="10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الهدف : تعريف المشكلة في جملة محددة 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10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200" spc="-1" strike="noStrike">
                <a:solidFill>
                  <a:srgbClr val="000000"/>
                </a:solidFill>
                <a:latin typeface="Arial"/>
              </a:rPr>
              <a:t>صياغة المشكلة بشكل جيد 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10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200" spc="-1" strike="noStrike">
                <a:solidFill>
                  <a:srgbClr val="000000"/>
                </a:solidFill>
                <a:latin typeface="Arial"/>
              </a:rPr>
              <a:t>وهناك بعض الخصائص التي تميز صياغة المشكلة وتجعلها أكثر مناسبة لتطوير وإنتاج أفكار وحلول إبداعية ، وهذه الخصائص هي : 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6" name="" descr=""/>
          <p:cNvPicPr/>
          <p:nvPr/>
        </p:nvPicPr>
        <p:blipFill>
          <a:blip r:embed="rId1"/>
          <a:stretch/>
        </p:blipFill>
        <p:spPr>
          <a:xfrm>
            <a:off x="0" y="6303960"/>
            <a:ext cx="755640" cy="55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200" spc="-1" strike="noStrike">
                <a:solidFill>
                  <a:srgbClr val="006633"/>
                </a:solidFill>
                <a:latin typeface="Garamond"/>
              </a:rPr>
              <a:t>خصائص صياغة المشكلة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 algn="r" rtl="1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990000"/>
                </a:solidFill>
                <a:latin typeface="Arial"/>
                <a:cs typeface="Mudir MT"/>
              </a:rPr>
              <a:t>صياغة المشكلة يجب أن تكون بطريقة إيجابية وبعيداً عن العبارات السلبية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990000"/>
                </a:solidFill>
                <a:latin typeface="Arial"/>
                <a:cs typeface="Mudir MT"/>
              </a:rPr>
              <a:t>أن تكون المشكلة في صيغة سؤال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990000"/>
                </a:solidFill>
                <a:latin typeface="Arial"/>
                <a:cs typeface="Mudir MT"/>
              </a:rPr>
              <a:t>أن تكون صياغة المشكلة محفزة للتفكير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990000"/>
                </a:solidFill>
                <a:latin typeface="Arial"/>
                <a:cs typeface="Mudir MT"/>
              </a:rPr>
              <a:t>أن تكون صياغة المشكلة بعيدة عن القيود والشروط وأي محددات أخرى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990000"/>
                </a:solidFill>
                <a:latin typeface="Arial"/>
                <a:cs typeface="Mudir MT"/>
              </a:rPr>
              <a:t>أن تكون مفتوحة النهاية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990000"/>
                </a:solidFill>
                <a:latin typeface="Arial"/>
                <a:cs typeface="Mudir MT"/>
              </a:rPr>
              <a:t>أن تكون مختصرة وموجهة نحو الهدف وسهلة الفهم وتساعد على توليد الأفكار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200" spc="-1" strike="noStrike">
                <a:solidFill>
                  <a:srgbClr val="006633"/>
                </a:solidFill>
                <a:latin typeface="Garamond"/>
                <a:cs typeface="AL-Hor"/>
              </a:rPr>
              <a:t>عناصر صياغة المشكلة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0" name=""/>
          <p:cNvSpPr/>
          <p:nvPr/>
        </p:nvSpPr>
        <p:spPr>
          <a:xfrm>
            <a:off x="5940360" y="1125360"/>
            <a:ext cx="1944720" cy="137376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333399"/>
                </a:solidFill>
                <a:latin typeface="Arial"/>
                <a:cs typeface="AL-Mateen"/>
              </a:rPr>
              <a:t>سؤال مفتوح النها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3564000" y="1125360"/>
            <a:ext cx="1944720" cy="180036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333399"/>
                </a:solidFill>
                <a:latin typeface="Arial"/>
                <a:cs typeface="AL-Mateen"/>
              </a:rPr>
              <a:t>فعل إجرائي ضميره جماع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971640" y="1125360"/>
            <a:ext cx="1944720" cy="180036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333399"/>
                </a:solidFill>
                <a:latin typeface="Arial"/>
                <a:cs typeface="AL-Mateen"/>
              </a:rPr>
              <a:t>هدف أو غاية تسعى إلي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 rot="5400000">
            <a:off x="6442920" y="2349000"/>
            <a:ext cx="720720" cy="576000"/>
          </a:xfrm>
          <a:custGeom>
            <a:avLst/>
            <a:gdLst>
              <a:gd name="textAreaLeft" fmla="*/ 112320 w 720720"/>
              <a:gd name="textAreaRight" fmla="*/ 630720 w 72072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rot="5400000">
            <a:off x="4212000" y="2348640"/>
            <a:ext cx="720720" cy="576360"/>
          </a:xfrm>
          <a:custGeom>
            <a:avLst/>
            <a:gdLst>
              <a:gd name="textAreaLeft" fmla="*/ 112320 w 720720"/>
              <a:gd name="textAreaRight" fmla="*/ 630720 w 7207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 rot="5400000">
            <a:off x="1474920" y="2348640"/>
            <a:ext cx="720720" cy="576360"/>
          </a:xfrm>
          <a:custGeom>
            <a:avLst/>
            <a:gdLst>
              <a:gd name="textAreaLeft" fmla="*/ 112320 w 720720"/>
              <a:gd name="textAreaRight" fmla="*/ 630720 w 7207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684360" y="3141720"/>
            <a:ext cx="2592360" cy="1923480"/>
          </a:xfrm>
          <a:prstGeom prst="rect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8000"/>
                </a:solidFill>
                <a:latin typeface="Arial"/>
              </a:rPr>
              <a:t>الموارد / مخصصات / أموا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8000"/>
                </a:solidFill>
                <a:latin typeface="Arial"/>
              </a:rPr>
              <a:t>دعم المسئولين / المشارك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8000"/>
                </a:solidFill>
                <a:latin typeface="Arial"/>
              </a:rPr>
              <a:t>المدراء / العامل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8000"/>
                </a:solidFill>
                <a:latin typeface="Arial"/>
              </a:rPr>
              <a:t>برامج / وسائ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3979080" y="3141720"/>
            <a:ext cx="1191240" cy="1557000"/>
          </a:xfrm>
          <a:prstGeom prst="rect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3366"/>
                </a:solidFill>
                <a:latin typeface="Arial"/>
              </a:rPr>
              <a:t>نضم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3366"/>
                </a:solidFill>
                <a:latin typeface="Arial"/>
              </a:rPr>
              <a:t>نوس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3366"/>
                </a:solidFill>
                <a:latin typeface="Arial"/>
              </a:rPr>
              <a:t>نساع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400" spc="-1" strike="noStrike">
                <a:solidFill>
                  <a:srgbClr val="003366"/>
                </a:solidFill>
                <a:latin typeface="Arial"/>
              </a:rPr>
              <a:t>نزي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611280" y="494172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90000"/>
                </a:solidFill>
                <a:latin typeface="Arial"/>
              </a:rPr>
              <a:t>بأي الطرق يمكن أن </a:t>
            </a:r>
            <a:r>
              <a:rPr b="1" lang="hi-IN" sz="2000" spc="-1" strike="noStrike">
                <a:solidFill>
                  <a:srgbClr val="003366"/>
                </a:solidFill>
                <a:latin typeface="Arial"/>
              </a:rPr>
              <a:t>نحص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( فعل 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000" spc="-1" strike="noStrike">
                <a:solidFill>
                  <a:srgbClr val="990000"/>
                </a:solidFill>
                <a:latin typeface="Arial"/>
              </a:rPr>
              <a:t>على </a:t>
            </a:r>
            <a:r>
              <a:rPr b="1" lang="hi-IN" sz="2000" spc="-1" strike="noStrike">
                <a:solidFill>
                  <a:srgbClr val="008000"/>
                </a:solidFill>
                <a:latin typeface="Arial"/>
              </a:rPr>
              <a:t>المصادر والإمكاني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هدف 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000" spc="-1" strike="noStrike">
                <a:solidFill>
                  <a:srgbClr val="990000"/>
                </a:solidFill>
                <a:latin typeface="Arial"/>
              </a:rPr>
              <a:t>المطلوبة للبرنامج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6588000" y="5734080"/>
            <a:ext cx="792360" cy="719280"/>
          </a:xfrm>
          <a:prstGeom prst="flowChartExtract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99"/>
                </a:solidFill>
                <a:latin typeface="Arial"/>
                <a:ea typeface="AL-Matee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99"/>
                </a:solidFill>
                <a:latin typeface="Arial"/>
                <a:ea typeface="AL-Mateen"/>
              </a:rPr>
              <a:t> تباع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684360" y="5661000"/>
            <a:ext cx="561636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3366"/>
                </a:solidFill>
                <a:latin typeface="Arial"/>
                <a:cs typeface="AL-Mateen"/>
              </a:rPr>
              <a:t>قم بإيجاد عدة صياغات للمشكل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3366"/>
                </a:solidFill>
                <a:latin typeface="Arial"/>
                <a:cs typeface="AL-Mateen"/>
              </a:rPr>
              <a:t>عبر عن المشكلة بطرق مختلف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179280" y="5445000"/>
            <a:ext cx="878544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5437080" y="3141720"/>
            <a:ext cx="2880000" cy="1937880"/>
          </a:xfrm>
          <a:prstGeom prst="rect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6600"/>
                </a:solidFill>
                <a:latin typeface="Arial"/>
              </a:rPr>
              <a:t>بأي الطرق يمكن لنا ....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6600"/>
                </a:solidFill>
                <a:latin typeface="Arial"/>
              </a:rPr>
              <a:t>كيف يمكننا ...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6600"/>
                </a:solidFill>
                <a:latin typeface="Arial"/>
              </a:rPr>
              <a:t>كيف ...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1" dur="20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6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7" dur="2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2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7" dur="2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2" dur="20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7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2" dur="2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7" dur="2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006633"/>
                </a:solidFill>
                <a:latin typeface="Garamond"/>
                <a:cs typeface="AL-Hor"/>
              </a:rPr>
              <a:t>التفكير التقاربي </a:t>
            </a:r>
            <a:br>
              <a:rPr sz="3800"/>
            </a:br>
            <a:r>
              <a:rPr b="1" lang="hi-IN" sz="3800" spc="-1" strike="noStrike">
                <a:solidFill>
                  <a:srgbClr val="006633"/>
                </a:solidFill>
                <a:latin typeface="Garamond"/>
                <a:cs typeface="AL-Hor"/>
              </a:rPr>
              <a:t>في خطوة تحديد وصياغة المشكلة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90000"/>
              </a:lnSpc>
              <a:spcBef>
                <a:spcPts val="9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000000"/>
                </a:solidFill>
                <a:latin typeface="Arial"/>
                <a:cs typeface="AL-Mateen"/>
              </a:rPr>
              <a:t>إن من أهم القرارات التي ستقوم بها في استراتيجية حل المشكلات بطرق إبداعية أن تقوم بتحديد صياغة المشكلة التي تريد تركيز جهدك عليها ..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Diwani Outline Shaded"/>
              </a:rPr>
              <a:t> </a:t>
            </a:r>
            <a:r>
              <a:rPr b="1" lang="hi-IN" sz="4200" spc="-1" strike="noStrike">
                <a:solidFill>
                  <a:srgbClr val="cc6600"/>
                </a:solidFill>
                <a:latin typeface="Arial"/>
                <a:cs typeface="DecoType Naskh Special"/>
              </a:rPr>
              <a:t>ويمكنك ذلك إذا حاولت الإجابة على التساؤلات التالية 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 rot="10800000">
            <a:off x="6082920" y="333000"/>
            <a:ext cx="576360" cy="576360"/>
          </a:xfrm>
          <a:prstGeom prst="flowChartExtra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/>
          </p:nvPr>
        </p:nvSpPr>
        <p:spPr>
          <a:xfrm>
            <a:off x="323640" y="1125360"/>
            <a:ext cx="8613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Arial"/>
                <a:cs typeface="AL-Mateen"/>
              </a:rPr>
              <a:t>أي الصياغات مناسبة وأفضل لإثارة التفكير التباعدي والحلول التي نريدها 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Arial"/>
                <a:cs typeface="AL-Mateen"/>
              </a:rPr>
              <a:t>أي المشكلات تبدو أكثر أهمية من غيرها 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Arial"/>
                <a:cs typeface="AL-Mateen"/>
              </a:rPr>
              <a:t>أي الأسئلة التي يمكن البدء فيها 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Arial"/>
                <a:cs typeface="AL-Mateen"/>
              </a:rPr>
              <a:t>أي من الصياغات يمكن أن تكون مشتركة في  مشكلة واحدة 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Arial"/>
                <a:cs typeface="AL-Mateen"/>
              </a:rPr>
              <a:t>هل هذه الصياغة مفتوحة النهاية لضمان قدرته على إثارة أفكار الآخرين 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Arial"/>
                <a:cs typeface="AL-Mateen"/>
              </a:rPr>
              <a:t>هل هذه الصياغة غير محدودة بشروط أو معايير 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Arial"/>
                <a:cs typeface="AL-Mateen"/>
              </a:rPr>
              <a:t>هل هذه الصياغة تعكس  القضية الرئيسة في المشكلة 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 rot="10800000">
            <a:off x="539280" y="404280"/>
            <a:ext cx="576360" cy="576360"/>
          </a:xfrm>
          <a:prstGeom prst="flowChartExtra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"/>
          <p:cNvSpPr txBox="1"/>
          <p:nvPr/>
        </p:nvSpPr>
        <p:spPr>
          <a:xfrm>
            <a:off x="4788000" y="692280"/>
            <a:ext cx="3429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شكرا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  <p:pic>
        <p:nvPicPr>
          <p:cNvPr id="1179" name="" descr=""/>
          <p:cNvPicPr/>
          <p:nvPr/>
        </p:nvPicPr>
        <p:blipFill>
          <a:blip r:embed="rId3"/>
          <a:stretch/>
        </p:blipFill>
        <p:spPr>
          <a:xfrm>
            <a:off x="2340000" y="2349360"/>
            <a:ext cx="3139920" cy="1917720"/>
          </a:xfrm>
          <a:prstGeom prst="rect">
            <a:avLst/>
          </a:prstGeom>
          <a:ln w="0">
            <a:noFill/>
          </a:ln>
        </p:spPr>
      </p:pic>
      <p:sp>
        <p:nvSpPr>
          <p:cNvPr id="1180" name=""/>
          <p:cNvSpPr txBox="1"/>
          <p:nvPr/>
        </p:nvSpPr>
        <p:spPr>
          <a:xfrm>
            <a:off x="971640" y="4292640"/>
            <a:ext cx="4680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يا مبدعون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</p:spTree>
  </p:cSld>
  <p:transition>
    <p:fade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0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cc"/>
                </a:solidFill>
                <a:latin typeface="Tahoma"/>
              </a:rPr>
              <a:t>المرحلة الثانية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4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ffffff"/>
                </a:solidFill>
                <a:latin typeface="Tahoma"/>
              </a:rPr>
              <a:t>مرحلة إيجاد الأفكار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"/>
          <p:cNvSpPr/>
          <p:nvPr/>
        </p:nvSpPr>
        <p:spPr>
          <a:xfrm>
            <a:off x="755640" y="692280"/>
            <a:ext cx="7561440" cy="482436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rot="5400000">
            <a:off x="2774160" y="1396080"/>
            <a:ext cx="3524040" cy="3240000"/>
          </a:xfrm>
          <a:prstGeom prst="hexagon">
            <a:avLst>
              <a:gd name="adj" fmla="val 18953"/>
              <a:gd name="vf" fmla="val 11547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2700360" y="2133720"/>
            <a:ext cx="3600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Arial"/>
                <a:cs typeface="AL-Mateen"/>
              </a:rPr>
              <a:t>إيجاد الحلول والأفكا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5796000" y="47628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ccff"/>
                </a:solidFill>
                <a:latin typeface="Arial"/>
              </a:rPr>
              <a:t>الخطوة الرابع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7" name="" descr=""/>
          <p:cNvPicPr/>
          <p:nvPr/>
        </p:nvPicPr>
        <p:blipFill>
          <a:blip r:embed="rId1"/>
          <a:stretch/>
        </p:blipFill>
        <p:spPr>
          <a:xfrm>
            <a:off x="0" y="6251400"/>
            <a:ext cx="826920" cy="606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ffff"/>
                </a:solidFill>
                <a:latin typeface="Arial"/>
                <a:ea typeface="AL-Hor"/>
              </a:rPr>
              <a:t> إيجاد الأفكار 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539280" y="1981080"/>
            <a:ext cx="8147160" cy="38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 rtl="1">
              <a:spcBef>
                <a:spcPts val="11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الهدف : إيجاد العديد من الأفكار والحلول المختلفة والمتنوعة وغير العادية للمشكلة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spcBef>
                <a:spcPts val="11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إن كفاحك سينصب </a:t>
            </a:r>
            <a:r>
              <a:rPr b="1" lang="hi-IN" sz="4400" spc="-1" strike="noStrike">
                <a:solidFill>
                  <a:srgbClr val="ffff00"/>
                </a:solidFill>
                <a:latin typeface="Arial"/>
              </a:rPr>
              <a:t>على السؤال الذي اخترته ليكون مشكلتك التي ستقوم بحلها إبداعياً 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0" name="" descr=""/>
          <p:cNvPicPr/>
          <p:nvPr/>
        </p:nvPicPr>
        <p:blipFill>
          <a:blip r:embed="rId1"/>
          <a:stretch/>
        </p:blipFill>
        <p:spPr>
          <a:xfrm>
            <a:off x="0" y="6251400"/>
            <a:ext cx="826920" cy="606600"/>
          </a:xfrm>
          <a:prstGeom prst="rect">
            <a:avLst/>
          </a:prstGeom>
          <a:ln w="0">
            <a:noFill/>
          </a:ln>
        </p:spPr>
      </p:pic>
      <p:sp>
        <p:nvSpPr>
          <p:cNvPr id="1191" name=""/>
          <p:cNvSpPr/>
          <p:nvPr/>
        </p:nvSpPr>
        <p:spPr>
          <a:xfrm rot="9016800">
            <a:off x="5292000" y="836280"/>
            <a:ext cx="560520" cy="503280"/>
          </a:xfrm>
          <a:prstGeom prst="hexagon">
            <a:avLst>
              <a:gd name="adj" fmla="val 27843"/>
              <a:gd name="vf" fmla="val 11547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619280" y="691920"/>
            <a:ext cx="5400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990000"/>
                </a:solidFill>
                <a:latin typeface="Arial"/>
                <a:cs typeface="AL-Mateen Outline"/>
              </a:rPr>
              <a:t>تطبيق عمل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ubTitle"/>
          </p:nvPr>
        </p:nvSpPr>
        <p:spPr>
          <a:xfrm>
            <a:off x="1371600" y="2923920"/>
            <a:ext cx="6400800" cy="23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algn="ctr" rtl="1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الشهيد محمد الدره"/>
              </a:rPr>
              <a:t>  بأي الطرق يمكننا التقليل من مشكلة تلويث المدخنين للبيئات العامة ؟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 rot="9016800">
            <a:off x="4427280" y="549000"/>
            <a:ext cx="1008000" cy="925560"/>
          </a:xfrm>
          <a:prstGeom prst="hexagon">
            <a:avLst>
              <a:gd name="adj" fmla="val 27227"/>
              <a:gd name="vf" fmla="val 11547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5364000" y="1052640"/>
            <a:ext cx="1008360" cy="720720"/>
          </a:xfrm>
          <a:prstGeom prst="line">
            <a:avLst/>
          </a:prstGeom>
          <a:ln w="93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 flipH="1">
            <a:off x="3419280" y="1052640"/>
            <a:ext cx="1081080" cy="792000"/>
          </a:xfrm>
          <a:prstGeom prst="line">
            <a:avLst/>
          </a:prstGeom>
          <a:ln w="93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084720" y="457200"/>
            <a:ext cx="26020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100" spc="-1" strike="noStrike">
                <a:solidFill>
                  <a:srgbClr val="ccff99"/>
                </a:solidFill>
                <a:latin typeface="Arial"/>
                <a:cs typeface="AL-Mateen"/>
              </a:rPr>
              <a:t>إيجاد الأفكار 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971640" y="2122560"/>
            <a:ext cx="3557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ff"/>
                </a:solidFill>
                <a:latin typeface="Arial"/>
                <a:ea typeface="AL-Mateen"/>
              </a:rPr>
              <a:t> تقارب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58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cc00"/>
                </a:solidFill>
                <a:latin typeface="Arial"/>
                <a:cs typeface="AL-Mateen"/>
              </a:rPr>
              <a:t>أسئلة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5800" indent="-415800" algn="r" rtl="1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Arial"/>
              </a:rPr>
              <a:t>أي الأفكار والحلول أكثر تآمراً على المشكلة ومفاجئاً لها 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5800" indent="-415800" algn="r" rtl="1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Arial"/>
              </a:rPr>
              <a:t>أي الأفكار والحلول الواعدة لحل المشكلة 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5800" indent="-415800" algn="r" rtl="1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Arial"/>
              </a:rPr>
              <a:t>أي هذه الحلول يمكن أن تحسن وتطور طرقاً تساعد على التقدم نحو الحل وتطوير خطة إجرائية 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5800" indent="-415800" algn="r" rtl="1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Arial"/>
              </a:rPr>
              <a:t>أي الأفكار أفضل حقاً 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5800" indent="-415800" algn="r" rtl="1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Arial"/>
              </a:rPr>
              <a:t>أي الأفكار والحلول فاجأني واستحوذ تفكيري 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52923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ff"/>
                </a:solidFill>
                <a:latin typeface="Arial"/>
                <a:ea typeface="AL-Mateen"/>
              </a:rPr>
              <a:t>              تباعد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Arial"/>
              </a:rPr>
              <a:t>استخدم أي وسائل إبداعية تساعد في إيجاد الأفكار والحلو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Arial"/>
              </a:rPr>
              <a:t>لاستثارة التفكير التباعدي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العصف الذهني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Arial"/>
              </a:rPr>
              <a:t>طريقة العلاقات والروابط القسري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7164360" y="1916280"/>
            <a:ext cx="649440" cy="36036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 rot="10800000">
            <a:off x="3993840" y="2204640"/>
            <a:ext cx="649080" cy="36036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538200" y="5616720"/>
            <a:ext cx="244944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1231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ffff00"/>
                </a:solidFill>
                <a:latin typeface="Times New Roman"/>
              </a:rPr>
              <a:t>Scamper</a:t>
            </a:r>
            <a:endParaRPr b="1" lang="en-US" sz="5400" spc="1" strike="noStrike">
              <a:ln w="0">
                <a:noFill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5003640" y="1989000"/>
            <a:ext cx="0" cy="3961080"/>
          </a:xfrm>
          <a:prstGeom prst="line">
            <a:avLst/>
          </a:prstGeom>
          <a:ln w="7632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8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8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8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8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3" dur="500"/>
                                        <p:tgtEl>
                                          <p:spTgt spid="1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8" dur="500"/>
                                        <p:tgtEl>
                                          <p:spTgt spid="1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3" dur="500"/>
                                        <p:tgtEl>
                                          <p:spTgt spid="1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500"/>
                                        <p:tgtEl>
                                          <p:spTgt spid="1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3" dur="500"/>
                                        <p:tgtEl>
                                          <p:spTgt spid="1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8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3" dur="8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8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8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0" dur="500"/>
                                        <p:tgtEl>
                                          <p:spTgt spid="1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5" dur="500"/>
                                        <p:tgtEl>
                                          <p:spTgt spid="1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0" dur="500"/>
                                        <p:tgtEl>
                                          <p:spTgt spid="1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00"/>
                                        <p:tgtEl>
                                          <p:spTgt spid="1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0" dur="500"/>
                                        <p:tgtEl>
                                          <p:spTgt spid="1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5" dur="500"/>
                                        <p:tgtEl>
                                          <p:spTgt spid="1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0" dur="500"/>
                                        <p:tgtEl>
                                          <p:spTgt spid="1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ffff00"/>
                </a:solidFill>
                <a:latin typeface="Arial"/>
              </a:rPr>
              <a:t>( أداة سـكامبــر</a:t>
            </a:r>
            <a:r>
              <a:rPr b="1" lang="en-US" sz="35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SA" sz="35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3500"/>
            </a:br>
            <a:r>
              <a:rPr b="1" lang="en-US" sz="35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ffff00"/>
                </a:solidFill>
                <a:latin typeface="Arial"/>
              </a:rPr>
              <a:t>Scamper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606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 algn="r" rtl="1">
              <a:spcBef>
                <a:spcPts val="601"/>
              </a:spcBef>
              <a:buClr>
                <a:srgbClr val="ff99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9900"/>
                </a:solidFill>
                <a:latin typeface="Arial"/>
              </a:rPr>
              <a:t>  بدل      (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substitute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9900"/>
                </a:solidFill>
                <a:latin typeface="Arial"/>
              </a:rPr>
              <a:t>  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 algn="r" rtl="1">
              <a:spcBef>
                <a:spcPts val="601"/>
              </a:spcBef>
              <a:buClr>
                <a:srgbClr val="ff99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9900"/>
                </a:solidFill>
                <a:latin typeface="Arial"/>
              </a:rPr>
              <a:t> ادمج    (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Combine</a:t>
            </a:r>
            <a:r>
              <a:rPr b="1" lang="ar-SA" sz="2400" spc="-1" strike="noStrike">
                <a:solidFill>
                  <a:srgbClr val="ff9900"/>
                </a:solidFill>
                <a:latin typeface="Arial"/>
              </a:rPr>
              <a:t>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 algn="r" rtl="1">
              <a:spcBef>
                <a:spcPts val="601"/>
              </a:spcBef>
              <a:buClr>
                <a:srgbClr val="ff99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9900"/>
                </a:solidFill>
                <a:latin typeface="Arial"/>
              </a:rPr>
              <a:t> كيِّف     (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Adapt</a:t>
            </a:r>
            <a:r>
              <a:rPr b="1" lang="ar-SA" sz="2400" spc="-1" strike="noStrike">
                <a:solidFill>
                  <a:srgbClr val="ff9900"/>
                </a:solidFill>
                <a:latin typeface="Arial"/>
              </a:rPr>
              <a:t>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 algn="r" rtl="1">
              <a:spcBef>
                <a:spcPts val="601"/>
              </a:spcBef>
              <a:buClr>
                <a:srgbClr val="ff99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9900"/>
                </a:solidFill>
                <a:latin typeface="Arial"/>
              </a:rPr>
              <a:t>عدِّل أو كبر  (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Modify or Magnify</a:t>
            </a:r>
            <a:r>
              <a:rPr b="1" lang="ar-SA" sz="2400" spc="-1" strike="noStrike">
                <a:solidFill>
                  <a:srgbClr val="ff9900"/>
                </a:solidFill>
                <a:latin typeface="Arial"/>
              </a:rPr>
              <a:t>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 algn="r" rtl="1">
              <a:spcBef>
                <a:spcPts val="601"/>
              </a:spcBef>
              <a:buClr>
                <a:srgbClr val="ff99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9900"/>
                </a:solidFill>
                <a:latin typeface="Arial"/>
              </a:rPr>
              <a:t>ضعه في استخدامات أخرى  (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Put to other uses</a:t>
            </a:r>
            <a:r>
              <a:rPr b="1" lang="ar-SA" sz="2400" spc="-1" strike="noStrike">
                <a:solidFill>
                  <a:srgbClr val="ff9900"/>
                </a:solidFill>
                <a:latin typeface="Arial"/>
              </a:rPr>
              <a:t>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 algn="r" rtl="1">
              <a:spcBef>
                <a:spcPts val="601"/>
              </a:spcBef>
              <a:buClr>
                <a:srgbClr val="ff99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9900"/>
                </a:solidFill>
                <a:latin typeface="Arial"/>
              </a:rPr>
              <a:t>احذف أو صغر      (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Eliminate or Minify</a:t>
            </a:r>
            <a:r>
              <a:rPr b="1" lang="ar-SA" sz="2400" spc="-1" strike="noStrike">
                <a:solidFill>
                  <a:srgbClr val="ff9900"/>
                </a:solidFill>
                <a:latin typeface="Arial"/>
              </a:rPr>
              <a:t>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 algn="r" rtl="1">
              <a:spcBef>
                <a:spcPts val="601"/>
              </a:spcBef>
              <a:buClr>
                <a:srgbClr val="ff99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9900"/>
                </a:solidFill>
                <a:latin typeface="Arial"/>
              </a:rPr>
              <a:t>اعكس أو أعد الرتيب    (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Reverse or Rearrange</a:t>
            </a:r>
            <a:r>
              <a:rPr b="1" lang="ar-SA" sz="2400" spc="-1" strike="noStrike">
                <a:solidFill>
                  <a:srgbClr val="ff9900"/>
                </a:solidFill>
                <a:latin typeface="Arial"/>
              </a:rPr>
              <a:t>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5292720" y="692280"/>
            <a:ext cx="309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Arial"/>
                <a:cs typeface="AL-Mateen Outline"/>
              </a:rPr>
              <a:t>حوار التطوير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5" name="" descr=""/>
          <p:cNvPicPr/>
          <p:nvPr/>
        </p:nvPicPr>
        <p:blipFill>
          <a:blip r:embed="rId1"/>
          <a:stretch/>
        </p:blipFill>
        <p:spPr>
          <a:xfrm flipH="1">
            <a:off x="4714560" y="765000"/>
            <a:ext cx="649080" cy="44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0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9" dur="1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500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1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1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1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1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1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1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1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1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500"/>
                                        <p:tgtEl>
                                          <p:spTgt spid="1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1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1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6" dur="500"/>
                                        <p:tgtEl>
                                          <p:spTgt spid="1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1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1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3" dur="500"/>
                                        <p:tgtEl>
                                          <p:spTgt spid="1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1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1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 txBox="1"/>
          <p:nvPr/>
        </p:nvSpPr>
        <p:spPr>
          <a:xfrm>
            <a:off x="4788000" y="692280"/>
            <a:ext cx="3429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شكرا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  <p:pic>
        <p:nvPicPr>
          <p:cNvPr id="1207" name="" descr=""/>
          <p:cNvPicPr/>
          <p:nvPr/>
        </p:nvPicPr>
        <p:blipFill>
          <a:blip r:embed="rId3"/>
          <a:stretch/>
        </p:blipFill>
        <p:spPr>
          <a:xfrm>
            <a:off x="2340000" y="2349360"/>
            <a:ext cx="3139920" cy="1917720"/>
          </a:xfrm>
          <a:prstGeom prst="rect">
            <a:avLst/>
          </a:prstGeom>
          <a:ln w="0">
            <a:noFill/>
          </a:ln>
        </p:spPr>
      </p:pic>
      <p:sp>
        <p:nvSpPr>
          <p:cNvPr id="1208" name=""/>
          <p:cNvSpPr txBox="1"/>
          <p:nvPr/>
        </p:nvSpPr>
        <p:spPr>
          <a:xfrm>
            <a:off x="971640" y="4292640"/>
            <a:ext cx="4680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يا مبدعون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</p:spTree>
  </p:cSld>
  <p:transition>
    <p:fade/>
  </p:transition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0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1" dur="1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7" dur="1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9600" spc="-1" strike="noStrike">
                <a:solidFill>
                  <a:srgbClr val="ffffcc"/>
                </a:solidFill>
                <a:latin typeface="Tahoma"/>
              </a:rPr>
              <a:t>المرحلة الثالثة</a:t>
            </a:r>
            <a:endParaRPr b="0" lang="en-US" sz="9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subTitle"/>
          </p:nvPr>
        </p:nvSpPr>
        <p:spPr>
          <a:xfrm>
            <a:off x="610920" y="3789000"/>
            <a:ext cx="78483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ff"/>
                </a:solidFill>
                <a:latin typeface="Tahoma"/>
                <a:cs typeface="AL-Hosam"/>
              </a:rPr>
              <a:t>التحضير لتطبيق الحل</a:t>
            </a:r>
            <a:r>
              <a:rPr b="1" lang="en-US" sz="8000" spc="-1" strike="noStrike">
                <a:solidFill>
                  <a:srgbClr val="ffffff"/>
                </a:solidFill>
                <a:latin typeface="Tahoma"/>
                <a:ea typeface="AL-Hosam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2987280" y="27432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dvertisingExtraBold"/>
              </a:rPr>
              <a:t>هذه المرحلة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899640" y="1196640"/>
            <a:ext cx="74170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  <a:ea typeface="AL-Mateen"/>
              </a:rPr>
              <a:t>                   مرحلة جوهرية في نقل الأفكار والحلول النظرية إلى حلول إجرائية وعملية ، وترجمتها إلى واقع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  <a:ea typeface="AL-Mateen"/>
              </a:rPr>
              <a:t>                                    و تتضمن خطوتين  هما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1619280" y="2997360"/>
            <a:ext cx="5113440" cy="18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 algn="r" rtl="1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AL-Mateen"/>
              </a:rPr>
              <a:t> خطوة تطوير الحل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r" rtl="1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99"/>
                </a:solidFill>
                <a:latin typeface="Arial"/>
                <a:cs typeface="AL-Mateen"/>
              </a:rPr>
              <a:t>وخطوة بناء قبول حل المشكل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"/>
          <p:cNvSpPr/>
          <p:nvPr/>
        </p:nvSpPr>
        <p:spPr>
          <a:xfrm>
            <a:off x="755640" y="907920"/>
            <a:ext cx="7273800" cy="460872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2700360" y="2133720"/>
            <a:ext cx="3600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  <a:cs typeface="AL-Mateen"/>
              </a:rPr>
              <a:t>تطوير الح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4067280" y="620640"/>
            <a:ext cx="416232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660033"/>
                </a:solidFill>
                <a:latin typeface="Arial"/>
              </a:rPr>
              <a:t>الخطوة الخامسة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3634920" y="406080"/>
            <a:ext cx="44751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800080"/>
                </a:solidFill>
                <a:latin typeface="Arial"/>
                <a:cs typeface="AL-Hosam"/>
              </a:rPr>
              <a:t>خطوة تطوير الح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4247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96633"/>
                </a:solidFill>
                <a:latin typeface="Arial"/>
                <a:cs typeface="AL-Mateen"/>
              </a:rPr>
              <a:t>هدفها 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cc3300"/>
                </a:solidFill>
                <a:latin typeface="Arial"/>
                <a:cs typeface="AL-Mohanad Bold"/>
              </a:rPr>
              <a:t>تطوير وتحسين الأفكار والحلول الواعدة التي تم اختيارها في الخطوة السابق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L-Mateen"/>
              </a:rPr>
              <a:t> الحل هو : خيار أو فكرة أو عدة خيارات أو أفكار هي التي تحل المشكلة موضع الدراس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6600"/>
                </a:solidFill>
                <a:latin typeface="Arial"/>
                <a:cs typeface="AL-Mateen"/>
              </a:rPr>
              <a:t>الحل هو الذي يجيب على الاستفهام المطروح ، وهو الذي سيقابل التحدي القائ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 txBox="1"/>
          <p:nvPr/>
        </p:nvSpPr>
        <p:spPr>
          <a:xfrm>
            <a:off x="1387800" y="541080"/>
            <a:ext cx="60192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6600"/>
                </a:solidFill>
                <a:latin typeface="Arial"/>
                <a:cs typeface="AL-Mateen"/>
              </a:rPr>
              <a:t>أعمال هذه الخطوة تبدأ بــالمراجعات التالية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/>
          </p:nvPr>
        </p:nvSpPr>
        <p:spPr>
          <a:xfrm>
            <a:off x="971640" y="1413000"/>
            <a:ext cx="66960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-4906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تنظيم الاحتمالات والأفكار المختلفة :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AL-Mohanad Bold"/>
              </a:rPr>
              <a:t>( تحديد ودمج وتجميع الحلول الواعدة 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تحليل وتلخيص ، تحسين وتطوير الاحتمالات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AL-Mohanad Bold"/>
              </a:rPr>
              <a:t>( من خلال دراسة الإيجابيات والسلبيات المختلفة لكل حل 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اختيار من بين الحلول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AL-Mohanad Bold"/>
              </a:rPr>
              <a:t>  ( تقييم الحلول المختلفة بعناية ، وربما تحتاج إلى وضع معايير ثم يكون الاختيار من بين الخيارات والاحتمالات المطروحة 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AL-Mateen"/>
              </a:rPr>
              <a:t>التفكير التقاربي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r>
              <a:rPr b="1" lang="hi-IN" sz="1800" spc="-1" strike="noStrike">
                <a:solidFill>
                  <a:srgbClr val="3333cc"/>
                </a:solidFill>
                <a:latin typeface="Arial"/>
              </a:rPr>
              <a:t>الهدف : استخدام بعض الوسائل التي تساعد في تطوير الحلول الممكن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3300"/>
                </a:solidFill>
                <a:latin typeface="Arial"/>
                <a:cs typeface="AL-Mateen"/>
              </a:rPr>
              <a:t>وهناك طريقتين للتركيز على الأفكار والحلول في خطوة تطوير الحل وهما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r" rtl="1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AL-Mateen"/>
              </a:rPr>
              <a:t>ابتداء التعامل مع أكثر الخيارات دلالة وفاعلية :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L-Mateen"/>
              </a:rPr>
              <a:t>( ادرس الإيجابيات والسلبيات وطرق تخطي السلبيات ومدى براعة وإبداع الحل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AL-Mateen"/>
              </a:rPr>
              <a:t>ترتيب أوليات الحلول من خلال مصفوفة المعايير والحلول الواعدة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642920" y="1125000"/>
            <a:ext cx="40323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  التفكير التباعدي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L-Mateen"/>
              </a:rPr>
              <a:t>  كتابة أكبر عدد ممكن من معايير اختيار الحل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hi-IN" sz="2000" spc="-1" strike="noStrike">
                <a:solidFill>
                  <a:srgbClr val="ff3300"/>
                </a:solidFill>
                <a:latin typeface="Arial"/>
                <a:cs typeface="AGA Nada Regular"/>
              </a:rPr>
              <a:t>المعايير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99"/>
                </a:solidFill>
                <a:latin typeface="Arial"/>
              </a:rPr>
              <a:t>تسهم في تطوير الحل بطريقة موضوعية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99"/>
                </a:solidFill>
                <a:latin typeface="Arial"/>
              </a:rPr>
              <a:t>كلما كانت أكثر كلما كان اختيار الحلول أفضل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99"/>
                </a:solidFill>
                <a:latin typeface="Arial"/>
              </a:rPr>
              <a:t>ربما تحتاج أنت إلى ترتيب ، ووضع أوزان نسبية لتلك المعايير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99"/>
                </a:solidFill>
                <a:latin typeface="Arial"/>
              </a:rPr>
              <a:t>وربما تحتاج إلى معرفة معايير المستفيد من حل المشكلة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 rtl="1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99"/>
                </a:solidFill>
                <a:latin typeface="Arial"/>
              </a:rPr>
              <a:t>ومن المعايير : ( الكُلْفَة ، القبول ، الإمكانيات ، الوقت ، المكان ... الخ )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6084720" y="404640"/>
            <a:ext cx="719280" cy="50508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 rot="10800000">
            <a:off x="2627280" y="549000"/>
            <a:ext cx="719280" cy="50472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4643280" y="620640"/>
            <a:ext cx="0" cy="540072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7" dur="1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9" dur="1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"/>
          <p:cNvSpPr txBox="1"/>
          <p:nvPr/>
        </p:nvSpPr>
        <p:spPr>
          <a:xfrm>
            <a:off x="4788000" y="692280"/>
            <a:ext cx="3429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شكرا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  <p:pic>
        <p:nvPicPr>
          <p:cNvPr id="1227" name="" descr=""/>
          <p:cNvPicPr/>
          <p:nvPr/>
        </p:nvPicPr>
        <p:blipFill>
          <a:blip r:embed="rId4"/>
          <a:stretch/>
        </p:blipFill>
        <p:spPr>
          <a:xfrm>
            <a:off x="2340000" y="2349360"/>
            <a:ext cx="3139920" cy="1917720"/>
          </a:xfrm>
          <a:prstGeom prst="rect">
            <a:avLst/>
          </a:prstGeom>
          <a:ln w="0">
            <a:noFill/>
          </a:ln>
        </p:spPr>
      </p:pic>
      <p:sp>
        <p:nvSpPr>
          <p:cNvPr id="1228" name=""/>
          <p:cNvSpPr txBox="1"/>
          <p:nvPr/>
        </p:nvSpPr>
        <p:spPr>
          <a:xfrm>
            <a:off x="971640" y="4292640"/>
            <a:ext cx="4680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يا مبدعون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</p:spTree>
  </p:cSld>
  <p:transition>
    <p:fade/>
  </p:transition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0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10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 txBox="1"/>
          <p:nvPr/>
        </p:nvSpPr>
        <p:spPr>
          <a:xfrm>
            <a:off x="4788000" y="692280"/>
            <a:ext cx="3429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شكرا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3"/>
          <a:stretch/>
        </p:blipFill>
        <p:spPr>
          <a:xfrm>
            <a:off x="2340000" y="2349360"/>
            <a:ext cx="3139920" cy="19177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 txBox="1"/>
          <p:nvPr/>
        </p:nvSpPr>
        <p:spPr>
          <a:xfrm>
            <a:off x="971640" y="4292640"/>
            <a:ext cx="4680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يا مبدعون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"/>
          <p:cNvSpPr txBox="1"/>
          <p:nvPr/>
        </p:nvSpPr>
        <p:spPr>
          <a:xfrm>
            <a:off x="558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cccc"/>
                </a:solidFill>
                <a:latin typeface="Arial"/>
                <a:cs typeface="AL-Mateen"/>
              </a:rPr>
              <a:t>الخطوة السادس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755640" y="907920"/>
            <a:ext cx="7273800" cy="460872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2700360" y="2133720"/>
            <a:ext cx="3600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  <a:cs typeface="AL-Mateen"/>
              </a:rPr>
              <a:t>بناء قبول الح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4" name="" descr=""/>
          <p:cNvPicPr/>
          <p:nvPr/>
        </p:nvPicPr>
        <p:blipFill>
          <a:blip r:embed="rId2"/>
          <a:stretch/>
        </p:blipFill>
        <p:spPr>
          <a:xfrm>
            <a:off x="0" y="6251400"/>
            <a:ext cx="826920" cy="606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51280" y="274320"/>
            <a:ext cx="4835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8000"/>
                </a:solidFill>
                <a:latin typeface="Arial"/>
                <a:ea typeface="AL-Hor"/>
              </a:rPr>
              <a:t>  في هذه الخطوة 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705636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Arial"/>
                <a:cs typeface="AL-Mateen"/>
              </a:rPr>
              <a:t>قم بدراسة هذا الحل وطريقة تطبيقه وجعل الآخرين يتعاملون معه بإيجاب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Arial"/>
                <a:cs typeface="AL-Mateen"/>
              </a:rPr>
              <a:t>وجه جهدك نحو تقصي مصادر الدعم والمساندة للحل ، ومصادر الرفض وعدم القبول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Arial"/>
                <a:ea typeface="AL-Mateen"/>
              </a:rPr>
              <a:t> ثم ستتمكن من بناء قرار صائب حول خطتك في تطبيق الحل وتقويمه على المدى القريب والبعيد 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Arial"/>
                <a:ea typeface="AL-Matee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684360" y="1052640"/>
            <a:ext cx="74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Arial"/>
                <a:cs typeface="AL-Hor"/>
              </a:rPr>
              <a:t>انظر إلى مدى قبول هذا الحل من قبل الآخرين ، ومكانته في نظرهم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8" dur="80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9" dur="80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0" dur="80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800"/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800" fill="hold"/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800" fill="hold"/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800" fill="hold"/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800"/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800" fill="hold"/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800" fill="hold"/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800" fill="hold"/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800"/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800" fill="hold"/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800" fill="hold"/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800" fill="hold"/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800"/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2" dur="800" fill="hold"/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800" fill="hold"/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800" fill="hold"/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3960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351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0000"/>
                </a:solidFill>
                <a:latin typeface="Arial"/>
                <a:ea typeface="AL-Mateen"/>
              </a:rPr>
              <a:t>   ــ وجه هذا التساؤل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99"/>
                </a:solidFill>
                <a:latin typeface="Arial"/>
                <a:ea typeface="AL-Mateen"/>
              </a:rPr>
              <a:t> ـ أي هذه المصادر أكثر أهمية للتعامل معه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1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0000"/>
                </a:solidFill>
                <a:latin typeface="Arial"/>
                <a:ea typeface="AL-Mateen"/>
              </a:rPr>
              <a:t>  ــ بهذه العملية سيتضمن اختيارك تحديد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4160" indent="-301680" algn="r" rtl="1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3333cc"/>
                </a:solidFill>
                <a:latin typeface="Arial"/>
                <a:cs typeface="AL-Mateen"/>
              </a:rPr>
              <a:t>أهم الداعمين ( وكيف ستستخدمهم على نحو فعال )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4160" indent="-301680" algn="r" rtl="1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3333cc"/>
                </a:solidFill>
                <a:latin typeface="Arial"/>
                <a:cs typeface="AL-Mateen"/>
              </a:rPr>
              <a:t>وأهم المعارضين وأكثرهم خطراً على الحل ( ودراسة أفضل الطرق التي تمكنك من منعهم أو التصدي لهم )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41440" indent="-234720" algn="r" rtl="1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  <a:cs typeface="AL-Mateen"/>
              </a:rPr>
              <a:t>أسئلة مساعدة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4160" indent="-301680" algn="r" rtl="1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99"/>
                </a:solidFill>
                <a:latin typeface="Arial"/>
                <a:cs typeface="AL-Mateen"/>
              </a:rPr>
              <a:t>من المشاركون المهمون في التطبيق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160" indent="-301680" algn="r" rtl="1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99"/>
                </a:solidFill>
                <a:latin typeface="Arial"/>
                <a:cs typeface="AL-Mateen"/>
              </a:rPr>
              <a:t>كيف سيتم إشراك الداعمين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160" indent="-301680" algn="r" rtl="1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99"/>
                </a:solidFill>
                <a:latin typeface="Arial"/>
                <a:cs typeface="AL-Mateen"/>
              </a:rPr>
              <a:t>كيف سيتم التعامل مع مصادر الرفض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160" indent="-301680" algn="r" rtl="1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99"/>
                </a:solidFill>
                <a:latin typeface="Arial"/>
                <a:cs typeface="AL-Mateen"/>
              </a:rPr>
              <a:t>ما هي الخطوات الإجرائية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160" indent="-301680" algn="r" rtl="1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99"/>
                </a:solidFill>
                <a:latin typeface="Arial"/>
                <a:cs typeface="AL-Mateen"/>
              </a:rPr>
              <a:t>ما هي أهم الإمكانيات والمصادر المطلوبة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160" indent="-301680" algn="r" rtl="1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99"/>
                </a:solidFill>
                <a:latin typeface="Arial"/>
                <a:cs typeface="AL-Mateen"/>
              </a:rPr>
              <a:t>ما خطة التقييم ؟ متى وأين يجب تطبيق هذه الخطة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211640" y="1267920"/>
            <a:ext cx="4681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1212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3300"/>
                </a:solidFill>
                <a:latin typeface="Arial"/>
                <a:cs typeface="AL-Mateen"/>
              </a:rPr>
              <a:t>الهدف : التعرف على مصادر الدعم والرفض للحلول التي توصلت إليها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L-Mateen"/>
              </a:rPr>
              <a:t>وذلك من خلال الإجابة على التساؤل التالي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Arial"/>
                <a:cs typeface="AL-Mateen"/>
              </a:rPr>
              <a:t>من الأشخاص الداعمون للحل 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Arial"/>
                <a:cs typeface="AL-Mateen"/>
              </a:rPr>
              <a:t>ما الإمكانيات والمصادر المطلوبة التي تساعد في تطبيق الحل 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Arial"/>
                <a:cs typeface="AL-Mateen"/>
              </a:rPr>
              <a:t>متى الوقت المناسب لتطبيق الحل 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Arial"/>
                <a:cs typeface="AL-Mateen"/>
              </a:rPr>
              <a:t>أين المكان المناسب لتطبيق خطة الحل 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Arial"/>
                <a:ea typeface="AL-Matee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r>
              <a:rPr b="1" lang="ar-SA" sz="1800" spc="-1" strike="noStrike">
                <a:solidFill>
                  <a:srgbClr val="3333cc"/>
                </a:solidFill>
                <a:latin typeface="Arial"/>
                <a:cs typeface="AL-Mateen"/>
              </a:rPr>
              <a:t>لماذا تريد تطبيق هذا الحل دون غيره ( المبررات والمسوغات ) 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00"/>
                </a:solidFill>
                <a:latin typeface="Arial"/>
                <a:ea typeface="AL-Mateen"/>
              </a:rPr>
              <a:t>* استخدم هذه الأسئلة للتعرف على مصادر عدم القبول والرفض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-281160" algn="r" rtl="1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Arial"/>
                <a:cs typeface="AL-Mateen"/>
              </a:rPr>
              <a:t>من المعارضون والناقدون المحتمل ظهورهم 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-281160" algn="r" rtl="1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Arial"/>
                <a:cs typeface="AL-Mateen"/>
              </a:rPr>
              <a:t>ما هي المصادر والإمكانيات المهمة والتي لم يتم دراستها أو التعرض إليها 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-281160" algn="r" rtl="1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Arial"/>
                <a:cs typeface="AL-Mateen"/>
              </a:rPr>
              <a:t>متى أسوأ وقت يمكن أن يطبق فيه الحل 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-281160" algn="r" rtl="1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Arial"/>
                <a:cs typeface="AL-Mateen"/>
              </a:rPr>
              <a:t>أين أسوأ مكان لتطبيق هذا الحل 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-281160" algn="r" rtl="1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Arial"/>
                <a:cs typeface="AL-Mateen"/>
              </a:rPr>
              <a:t>لماذا هذا الحل لا يرغبه الناس ( مبررات عدم القبول )  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7596360" y="0"/>
            <a:ext cx="718920" cy="50472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 rot="10800000">
            <a:off x="2195280" y="188640"/>
            <a:ext cx="718920" cy="50472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 flipH="1">
            <a:off x="4211640" y="404640"/>
            <a:ext cx="71280" cy="590400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5991120" y="189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AL-Hosam"/>
              </a:rPr>
              <a:t>التفكير التباع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512640" y="281160"/>
            <a:ext cx="20415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AL-Hosam"/>
              </a:rPr>
              <a:t>التفكير التقارب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L-Hosam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5508720" y="62064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Mateen"/>
              </a:rPr>
              <a:t>صمم خط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1042920" y="76500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Mateen"/>
              </a:rPr>
              <a:t>صمم خط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8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4" dur="8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8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8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8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8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8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8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3" dur="20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800"/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9" dur="800" fill="hold"/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800" fill="hold"/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800" fill="hold"/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8" dur="800"/>
                                        <p:tgtEl>
                                          <p:spTgt spid="1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9" dur="800" fill="hold"/>
                                        <p:tgtEl>
                                          <p:spTgt spid="1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800" fill="hold"/>
                                        <p:tgtEl>
                                          <p:spTgt spid="1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800" fill="hold"/>
                                        <p:tgtEl>
                                          <p:spTgt spid="1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800"/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9" dur="800" fill="hold"/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800" fill="hold"/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800" fill="hold"/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800"/>
                                        <p:tgtEl>
                                          <p:spTgt spid="1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9" dur="800" fill="hold"/>
                                        <p:tgtEl>
                                          <p:spTgt spid="1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800" fill="hold"/>
                                        <p:tgtEl>
                                          <p:spTgt spid="1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800" fill="hold"/>
                                        <p:tgtEl>
                                          <p:spTgt spid="1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800"/>
                                        <p:tgtEl>
                                          <p:spTgt spid="1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9" dur="800" fill="hold"/>
                                        <p:tgtEl>
                                          <p:spTgt spid="1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800" fill="hold"/>
                                        <p:tgtEl>
                                          <p:spTgt spid="1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800" fill="hold"/>
                                        <p:tgtEl>
                                          <p:spTgt spid="1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800"/>
                                        <p:tgtEl>
                                          <p:spTgt spid="1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800" fill="hold"/>
                                        <p:tgtEl>
                                          <p:spTgt spid="1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800" fill="hold"/>
                                        <p:tgtEl>
                                          <p:spTgt spid="1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800" fill="hold"/>
                                        <p:tgtEl>
                                          <p:spTgt spid="1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8" dur="800"/>
                                        <p:tgtEl>
                                          <p:spTgt spid="1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9" dur="800" fill="hold"/>
                                        <p:tgtEl>
                                          <p:spTgt spid="1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800" fill="hold"/>
                                        <p:tgtEl>
                                          <p:spTgt spid="1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800" fill="hold"/>
                                        <p:tgtEl>
                                          <p:spTgt spid="1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800"/>
                                        <p:tgtEl>
                                          <p:spTgt spid="1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800" fill="hold"/>
                                        <p:tgtEl>
                                          <p:spTgt spid="1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800" fill="hold"/>
                                        <p:tgtEl>
                                          <p:spTgt spid="1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800" fill="hold"/>
                                        <p:tgtEl>
                                          <p:spTgt spid="1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800"/>
                                        <p:tgtEl>
                                          <p:spTgt spid="1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7" dur="800" fill="hold"/>
                                        <p:tgtEl>
                                          <p:spTgt spid="1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800" fill="hold"/>
                                        <p:tgtEl>
                                          <p:spTgt spid="1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800" fill="hold"/>
                                        <p:tgtEl>
                                          <p:spTgt spid="1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800"/>
                                        <p:tgtEl>
                                          <p:spTgt spid="1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5" dur="800" fill="hold"/>
                                        <p:tgtEl>
                                          <p:spTgt spid="1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800" fill="hold"/>
                                        <p:tgtEl>
                                          <p:spTgt spid="1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800" fill="hold"/>
                                        <p:tgtEl>
                                          <p:spTgt spid="1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2" dur="800"/>
                                        <p:tgtEl>
                                          <p:spTgt spid="1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3" dur="800" fill="hold"/>
                                        <p:tgtEl>
                                          <p:spTgt spid="1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800" fill="hold"/>
                                        <p:tgtEl>
                                          <p:spTgt spid="1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800" fill="hold"/>
                                        <p:tgtEl>
                                          <p:spTgt spid="1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0" dur="800"/>
                                        <p:tgtEl>
                                          <p:spTgt spid="1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1" dur="800" fill="hold"/>
                                        <p:tgtEl>
                                          <p:spTgt spid="1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800" fill="hold"/>
                                        <p:tgtEl>
                                          <p:spTgt spid="1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800" fill="hold"/>
                                        <p:tgtEl>
                                          <p:spTgt spid="1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800"/>
                                        <p:tgtEl>
                                          <p:spTgt spid="12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800" fill="hold"/>
                                        <p:tgtEl>
                                          <p:spTgt spid="12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800" fill="hold"/>
                                        <p:tgtEl>
                                          <p:spTgt spid="12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800" fill="hold"/>
                                        <p:tgtEl>
                                          <p:spTgt spid="12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8" dur="8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9" dur="8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8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8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8" dur="8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9" dur="8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8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8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68" dur="20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800"/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4" dur="800" fill="hold"/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800" fill="hold"/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800" fill="hold"/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3" dur="800"/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4" dur="800" fill="hold"/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800" fill="hold"/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800" fill="hold"/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3" dur="800"/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4" dur="800" fill="hold"/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800" fill="hold"/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800" fill="hold"/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1" dur="800"/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2" dur="800" fill="hold"/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800" fill="hold"/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800" fill="hold"/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800"/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0" dur="800" fill="hold"/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800" fill="hold"/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800" fill="hold"/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7" dur="800"/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8" dur="800" fill="hold"/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800" fill="hold"/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800" fill="hold"/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5" dur="800"/>
                                        <p:tgtEl>
                                          <p:spTgt spid="1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6" dur="800" fill="hold"/>
                                        <p:tgtEl>
                                          <p:spTgt spid="1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800" fill="hold"/>
                                        <p:tgtEl>
                                          <p:spTgt spid="1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800" fill="hold"/>
                                        <p:tgtEl>
                                          <p:spTgt spid="1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800"/>
                                        <p:tgtEl>
                                          <p:spTgt spid="1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4" dur="800" fill="hold"/>
                                        <p:tgtEl>
                                          <p:spTgt spid="1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800" fill="hold"/>
                                        <p:tgtEl>
                                          <p:spTgt spid="1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800" fill="hold"/>
                                        <p:tgtEl>
                                          <p:spTgt spid="1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800"/>
                                        <p:tgtEl>
                                          <p:spTgt spid="1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2" dur="800" fill="hold"/>
                                        <p:tgtEl>
                                          <p:spTgt spid="1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800" fill="hold"/>
                                        <p:tgtEl>
                                          <p:spTgt spid="1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800" fill="hold"/>
                                        <p:tgtEl>
                                          <p:spTgt spid="1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9" dur="800"/>
                                        <p:tgtEl>
                                          <p:spTgt spid="1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0" dur="800" fill="hold"/>
                                        <p:tgtEl>
                                          <p:spTgt spid="1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800" fill="hold"/>
                                        <p:tgtEl>
                                          <p:spTgt spid="1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800" fill="hold"/>
                                        <p:tgtEl>
                                          <p:spTgt spid="1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7" dur="800"/>
                                        <p:tgtEl>
                                          <p:spTgt spid="1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8" dur="800" fill="hold"/>
                                        <p:tgtEl>
                                          <p:spTgt spid="1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800" fill="hold"/>
                                        <p:tgtEl>
                                          <p:spTgt spid="1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800" fill="hold"/>
                                        <p:tgtEl>
                                          <p:spTgt spid="1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5" dur="800"/>
                                        <p:tgtEl>
                                          <p:spTgt spid="1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6" dur="800" fill="hold"/>
                                        <p:tgtEl>
                                          <p:spTgt spid="1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800" fill="hold"/>
                                        <p:tgtEl>
                                          <p:spTgt spid="1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800" fill="hold"/>
                                        <p:tgtEl>
                                          <p:spTgt spid="1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c0000"/>
                </a:solidFill>
                <a:latin typeface="Arial"/>
                <a:cs typeface="AL-Hosam"/>
              </a:rPr>
              <a:t>توجيهات العمل في حل المشكل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592200" y="1600200"/>
            <a:ext cx="772488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99"/>
                </a:solidFill>
                <a:latin typeface="Arial"/>
                <a:cs typeface="AL-Mateen"/>
              </a:rPr>
              <a:t>اعمل على مراحل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AL-Mateen"/>
              </a:rPr>
              <a:t>cps</a:t>
            </a:r>
            <a:r>
              <a:rPr b="0" lang="ar-SA" sz="3200" spc="-1" strike="noStrike">
                <a:solidFill>
                  <a:srgbClr val="000099"/>
                </a:solidFill>
                <a:latin typeface="Arial"/>
                <a:ea typeface="AL-Mateen"/>
              </a:rPr>
              <a:t> وافتح أفق التفكير فلا تكن النماذج حصراً لذهنك من التفكير خارجه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99"/>
                </a:solidFill>
                <a:latin typeface="Arial"/>
                <a:cs typeface="AL-Mateen"/>
              </a:rPr>
              <a:t>استخدم البطاقات كلما احتجت إلى تنظيم وتنويع في التفكير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99"/>
                </a:solidFill>
                <a:latin typeface="Arial"/>
                <a:cs typeface="AL-Mateen"/>
              </a:rPr>
              <a:t>كن مرناً في استخدام مهارات التفكير الأخرى داخل هذا البرنامج . ( أضف واحذف منها بحسب الحاجة ) . أ.ه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"/>
          <p:cNvSpPr txBox="1"/>
          <p:nvPr/>
        </p:nvSpPr>
        <p:spPr>
          <a:xfrm>
            <a:off x="5508720" y="765000"/>
            <a:ext cx="2232000" cy="10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شكرا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  <p:pic>
        <p:nvPicPr>
          <p:cNvPr id="1250" name="" descr=""/>
          <p:cNvPicPr/>
          <p:nvPr/>
        </p:nvPicPr>
        <p:blipFill>
          <a:blip r:embed="rId4"/>
          <a:stretch/>
        </p:blipFill>
        <p:spPr>
          <a:xfrm>
            <a:off x="3995640" y="981000"/>
            <a:ext cx="1150920" cy="703440"/>
          </a:xfrm>
          <a:prstGeom prst="rect">
            <a:avLst/>
          </a:prstGeom>
          <a:ln w="0">
            <a:noFill/>
          </a:ln>
        </p:spPr>
      </p:pic>
      <p:sp>
        <p:nvSpPr>
          <p:cNvPr id="1251" name=""/>
          <p:cNvSpPr txBox="1"/>
          <p:nvPr/>
        </p:nvSpPr>
        <p:spPr>
          <a:xfrm>
            <a:off x="684360" y="620640"/>
            <a:ext cx="3095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يا مبدعون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3348000" y="2349360"/>
            <a:ext cx="237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Diwani Simple Outline 2"/>
              </a:rPr>
              <a:t>هذا صاحبكم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Diwani Simple Outline 2"/>
              <a:ea typeface="Diwani Simple Outline 2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1908000" y="3213000"/>
            <a:ext cx="5328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SKR HEAD2"/>
              </a:rPr>
              <a:t>نبيل بن محمد البدير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SKR HEAD2"/>
              <a:ea typeface="SKR HEAD2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3132000" y="4508640"/>
            <a:ext cx="2419560" cy="97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DecoType Naskh Swashes"/>
              </a:rPr>
              <a:t>يقدم لكم أفضل تحية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DecoType Naskh Swashes"/>
              <a:ea typeface="DecoType Naskh Swashes"/>
            </a:endParaRPr>
          </a:p>
        </p:txBody>
      </p:sp>
    </p:spTree>
  </p:cSld>
  <p:transition>
    <p:fade/>
  </p:transition>
  <p:timing>
    <p:tnLst>
      <p:par>
        <p:cTn id="1471" dur="indefinite" restart="never" nodeType="tmRoot">
          <p:childTnLst>
            <p:seq>
              <p:cTn id="1472" dur="indefinite" nodeType="mainSeq">
                <p:childTnLst>
                  <p:par>
                    <p:cTn id="1473" fill="hold">
                      <p:stCondLst>
                        <p:cond delay="0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0" dur="10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6" dur="10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9" dur="1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2" dur="10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Mateen"/>
              </a:rPr>
              <a:t>المشغل التدريبي الثاني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1484280" y="3212640"/>
            <a:ext cx="6400800" cy="208764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1349"/>
              </a:spcBef>
              <a:buClr>
                <a:srgbClr val="0066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6600"/>
                </a:solidFill>
                <a:latin typeface="Arial"/>
                <a:ea typeface="MCS Hijon E_U normal."/>
              </a:rPr>
              <a:t>   ست مقدمات 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  <a:p>
            <a:pPr algn="ctr" rtl="1">
              <a:spcBef>
                <a:spcPts val="1349"/>
              </a:spcBef>
              <a:buClr>
                <a:srgbClr val="0066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6600"/>
                </a:solidFill>
                <a:latin typeface="Arial"/>
                <a:ea typeface="MCS Hijon E_U normal."/>
              </a:rPr>
              <a:t>  مراحل  </a:t>
            </a:r>
            <a:r>
              <a:rPr b="0" lang="en-US" sz="5400" spc="-1" strike="noStrike">
                <a:solidFill>
                  <a:srgbClr val="006600"/>
                </a:solidFill>
                <a:latin typeface="PageClips"/>
                <a:ea typeface="MCS Hijon E_U normal."/>
              </a:rPr>
              <a:t>cps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 txBox="1"/>
          <p:nvPr/>
        </p:nvSpPr>
        <p:spPr>
          <a:xfrm>
            <a:off x="0" y="1341360"/>
            <a:ext cx="6588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مقدمات 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468360" y="4584600"/>
            <a:ext cx="3240000" cy="194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cps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700" spc="-1" strike="noStrike">
                <a:solidFill>
                  <a:srgbClr val="990033"/>
                </a:solidFill>
                <a:latin typeface="Arial"/>
              </a:rPr>
              <a:t>هناك مشكلة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rot="16428600">
            <a:off x="1124280" y="1365840"/>
            <a:ext cx="4389480" cy="3580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006600"/>
                </a:solidFill>
                <a:latin typeface="Arial"/>
              </a:rPr>
              <a:t>لا يوجد ح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804000" y="260280"/>
            <a:ext cx="12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5076720" y="2924280"/>
            <a:ext cx="3382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993366"/>
                </a:solidFill>
                <a:latin typeface="Arial"/>
              </a:rPr>
              <a:t>ما هذه الكارث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68360" y="620640"/>
            <a:ext cx="388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ff"/>
                </a:solidFill>
                <a:latin typeface="Arial"/>
              </a:rPr>
              <a:t> مستحيل أن تحل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5867280" y="260280"/>
            <a:ext cx="2881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993366"/>
                </a:solidFill>
                <a:latin typeface="Arial"/>
              </a:rPr>
              <a:t>هناك حل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rot="3835800">
            <a:off x="3655440" y="714240"/>
            <a:ext cx="1728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6600"/>
                </a:solidFill>
                <a:latin typeface="Arial"/>
              </a:rPr>
              <a:t>حل مشكلة   حل   مشكلة  حل   لا يوجد حل  لا يوجد مشكل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95280" y="333360"/>
            <a:ext cx="1944720" cy="69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</a:rPr>
              <a:t>مستحي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</a:rPr>
              <a:t>ممك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</a:rPr>
              <a:t>ح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</a:rPr>
              <a:t>غير ممك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</a:rPr>
              <a:t>مشكلة ما  لها ح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</a:rPr>
              <a:t>الأمور مستحيل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</a:rPr>
              <a:t>معق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89080" y="5300640"/>
            <a:ext cx="86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 مشاكل مشكلات تعقدت لن تحل مستحيل أين الحل مستحيل لا يمكن لا ح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556000" y="1884240"/>
            <a:ext cx="388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</a:rPr>
              <a:t> مستحيل أن تحل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rot="5019000">
            <a:off x="-396720" y="2349360"/>
            <a:ext cx="230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993366"/>
                </a:solidFill>
                <a:latin typeface="Arial"/>
              </a:rPr>
              <a:t>هناك مشكل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763640" y="5780160"/>
            <a:ext cx="64008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993366"/>
                </a:solidFill>
                <a:latin typeface="Arial"/>
              </a:rPr>
              <a:t>هناك مشكل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019240" y="16344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663300"/>
                </a:solidFill>
                <a:latin typeface="Arial"/>
              </a:rPr>
              <a:t>هناك مشكل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7020000" y="946080"/>
            <a:ext cx="1728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3366"/>
                </a:solidFill>
                <a:latin typeface="Arial"/>
              </a:rPr>
              <a:t>حل مشكلة   حل   مشكلة  حل   لا يوجد حل  لا يوجد مشكل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0" name="" descr=""/>
          <p:cNvPicPr/>
          <p:nvPr/>
        </p:nvPicPr>
        <p:blipFill>
          <a:blip r:embed="rId2"/>
          <a:stretch/>
        </p:blipFill>
        <p:spPr>
          <a:xfrm>
            <a:off x="0" y="6462720"/>
            <a:ext cx="539640" cy="395280"/>
          </a:xfrm>
          <a:prstGeom prst="rect">
            <a:avLst/>
          </a:prstGeom>
          <a:ln w="0">
            <a:noFill/>
          </a:ln>
        </p:spPr>
      </p:pic>
      <p:sp>
        <p:nvSpPr>
          <p:cNvPr id="921" name="PlaceHolder 2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990033"/>
                </a:solidFill>
                <a:latin typeface="MS Mincho"/>
                <a:ea typeface="Times New Roman"/>
              </a:rPr>
              <a:t>No </a:t>
            </a:r>
            <a:r>
              <a:rPr b="1" lang="en-US" sz="8800" spc="-1" strike="noStrike">
                <a:solidFill>
                  <a:srgbClr val="990033"/>
                </a:solidFill>
                <a:latin typeface="MS Mincho"/>
                <a:ea typeface="Angsana New"/>
              </a:rPr>
              <a:t>Problem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79280" y="115920"/>
            <a:ext cx="1800360" cy="35838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900" spc="-1" strike="noStrike">
                <a:solidFill>
                  <a:srgbClr val="e48800"/>
                </a:solidFill>
                <a:latin typeface="Arial"/>
              </a:rPr>
              <a:t>1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1619280" y="1341360"/>
            <a:ext cx="691344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abic Transparent"/>
              </a:rPr>
              <a:t>مواجهة الناس للمشكلة ؟!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abic Transparent"/>
              <a:ea typeface="Arabic Transparent"/>
            </a:endParaRPr>
          </a:p>
        </p:txBody>
      </p: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5:22:37Z</dcterms:created>
  <dc:creator>النفيسة للحاسب</dc:creator>
  <dc:description/>
  <dc:language>en-US</dc:language>
  <cp:lastModifiedBy>النفيسة للحاسب</cp:lastModifiedBy>
  <dcterms:modified xsi:type="dcterms:W3CDTF">2005-06-19T05:08:20Z</dcterms:modified>
  <cp:revision>20</cp:revision>
  <dc:subject/>
  <dc:title>الشريحة 1</dc:title>
</cp:coreProperties>
</file>