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voltage.wav" ContentType="audio/x-wav"/>
  <Override PartName="/ppt/media/image37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16.png" ContentType="image/png"/>
  <Override PartName="/ppt/media/image49.jpeg" ContentType="image/jpeg"/>
  <Override PartName="/ppt/media/image26.wmf" ContentType="image/x-wmf"/>
  <Override PartName="/ppt/media/image15.jpeg" ContentType="image/jpeg"/>
  <Override PartName="/ppt/media/image25.wmf" ContentType="image/x-wmf"/>
  <Override PartName="/ppt/media/image14.wmf" ContentType="image/x-wmf"/>
  <Override PartName="/ppt/media/image1.jpeg" ContentType="image/jpeg"/>
  <Override PartName="/ppt/media/image3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0.wmf" ContentType="image/x-wmf"/>
  <Override PartName="/ppt/media/image35.wmf" ContentType="image/x-wmf"/>
  <Override PartName="/ppt/media/image42.png" ContentType="image/png"/>
  <Override PartName="/ppt/media/image34.wmf" ContentType="image/x-wmf"/>
  <Override PartName="/ppt/media/image51.png" ContentType="image/png"/>
  <Override PartName="/ppt/media/image43.gif" ContentType="image/gif"/>
  <Override PartName="/ppt/media/image46.png" ContentType="image/png"/>
  <Override PartName="/ppt/media/image52.jpeg" ContentType="image/jpeg"/>
  <Override PartName="/ppt/media/image33.wmf" ContentType="image/x-wmf"/>
  <Override PartName="/ppt/media/image12.jpeg" ContentType="image/jpeg"/>
  <Override PartName="/ppt/media/image47.gif" ContentType="image/gif"/>
  <Override PartName="/ppt/media/image53.jpeg" ContentType="image/jpeg"/>
  <Override PartName="/ppt/media/image32.jpeg" ContentType="image/jpeg"/>
  <Override PartName="/ppt/media/image48.gif" ContentType="image/gif"/>
  <Override PartName="/ppt/media/image29.wmf" ContentType="image/x-wmf"/>
  <Override PartName="/ppt/media/image31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9.png" ContentType="image/png"/>
  <Override PartName="/ppt/media/image17.wmf" ContentType="image/x-wmf"/>
  <Override PartName="/ppt/media/image28.png" ContentType="image/png"/>
  <Override PartName="/ppt/media/image38.jpeg" ContentType="image/jpeg"/>
  <Override PartName="/ppt/media/image11.jpeg" ContentType="image/jpeg"/>
  <Override PartName="/ppt/media/image8.png" ContentType="image/png"/>
  <Override PartName="/ppt/media/image45.gif" ContentType="image/gif"/>
  <Override PartName="/ppt/media/image39.jpeg" ContentType="image/jpeg"/>
  <Override PartName="/ppt/media/image41.wmf" ContentType="image/x-wmf"/>
  <Override PartName="/ppt/media/image7.wmf" ContentType="image/x-wmf"/>
  <Override PartName="/ppt/media/image10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2D9-5E9D-4FC8-9685-6A5FF3C7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27F6-0E28-4E75-B608-CA09A593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50AAB-9D34-4AE7-8EEC-B94F62D1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F0A14-989F-4162-83BD-E609AB71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9CFD0-8731-4D0B-A6B7-7FFE737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45DBA-486D-40D8-9D5F-BDCBCB32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C4426-3A93-4F67-8563-247D9D5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9911E-9136-4CFC-9FD0-71B84126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B0665-38A0-4DCA-B29B-8D1333C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F079A-8CDF-4230-B158-D2783598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A3DF9-309B-4D70-9235-0A50C9AD6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8E866-6227-400E-82A9-35FD9956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FD0-4BAE-409E-BAB1-2C4451D6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2978B-2395-4E34-9201-21E5D6B0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8EFE63-4DB4-4D0D-8C03-E463FAB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D1D2C-0FB5-48FB-A557-4682473A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1FFBF-F457-42C7-9CEF-5831352E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465DD-3478-4C20-9B68-4F6E56E4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2D525-B51A-45DD-A405-423704C4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A8F7F-02E8-4810-A0E7-3B910B38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E3BA0-1F39-4DFF-B489-4B359A3F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AF84C-B3F8-4460-A731-119C621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2B4DD-D232-42B2-9CB5-0701166A7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99A-89F5-4359-A8C1-AA11824BD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AC04F-84F0-4757-885A-66050D94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3D78C-33BC-4756-A6D3-547FE375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012DB-C53D-4947-A282-3E9865D6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E0BF0-7E0A-4564-A8EC-BBC5A80F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A321B-5E87-4274-9D6E-43A81AD1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A2CA6E-C458-4750-8BED-5B678ACD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F2779-B4C7-4570-8E09-BE959010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74852-4FAF-4FFF-AF58-B2663350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432E7-41E3-4146-8B6A-ABB89E6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B47A7-C432-406D-A6BF-70AA07E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4B7D-D25D-47CA-90EB-76B3D81A5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5DE38-CF64-4ED4-97CC-FC71E238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2D5FCB-95F6-4B84-8334-40A5E842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F1099-8145-49CA-85E4-B56245DD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EF3F2F-0B7F-4018-A571-2CE061A0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3CECA3D-3952-43AA-80A9-A2790773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01D177E-A27E-4744-8D21-9986DF89B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525E0B-9A04-4C18-89EC-1D0C1110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D3B725-3226-4AEC-A445-8F3F82ED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A41DA7-7037-4CA3-9F95-EDDF1CA8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20073E-2855-4F59-8210-9D3617D5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3136A-50D5-4FD9-BCF6-BB16FDB1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FF2097-0718-4FDE-A409-5DB60769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315202-BC03-4BF7-87BB-D2F72067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7B3E94-CA62-4067-9F31-620D593D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01A48C-78AB-4CF7-B9F9-4FA4822D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9F2D046-7197-4A7C-936C-412534B1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E14A2C-88C4-4591-8FDB-1AE08F90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43677-AB1C-455E-B3CD-9C19C026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04710-F9E3-4A1E-84B6-C04521D1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E61E8-CF05-4B1E-8DAA-B3F72E1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1A1E0-E035-4C27-89E4-2F17DB34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7DE2-B3AC-478E-A803-E4507D7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03128-27EE-4E16-B4C8-18D7558E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77812C-8554-4A2D-A8B4-5A574776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510D0-EC17-43F0-AB30-9F04197F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F7390-9B50-4DFD-BB7E-D98943CC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FEC0E-F4AA-4BF8-889E-72CC7033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6651F-9689-4E45-9B8E-1ECAAA6A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F9D64-3AC0-4581-93F2-38097EB1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0849EF-63B7-4CB5-8275-F38B55C0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A0B541-3AA2-45AD-A2DB-A80CE1A2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4B4976-8177-4BC6-8B5D-75CC2B53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8EC0-4267-414E-A4B7-45FD2317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29731A-98CD-48CC-8781-98FD873B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8A848C-D2CD-4D5D-A525-756404C4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6399DD-8A50-4986-BD78-9BD4C977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361272D-EE78-452B-9263-66F28228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CC2EB7-F379-4744-B4AF-42C9D2A6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F76B94-CBF1-45A4-A179-F9215F61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C1862BE-3E52-4E67-BB2C-BEF02E73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528B37-D9AB-4FE9-8320-B52F4BEA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C0A93A-58F0-491D-BCE8-2685E930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7AC863-2A83-46AA-BA1A-4527EAB6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AE3B-6219-42A7-B0CA-F399FFBA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095528-E5EE-49D2-BF0E-F28BFC3E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FB9E9C-DE8C-4488-AA01-58705C98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FB6D54-0B66-412E-8FDA-95C19DCA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EDE77-91B3-4790-B0F6-5FE8B5C2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F7D6D-05B1-44E0-A644-D039AF4D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262FCB-CAF5-4389-9616-460866DF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699FA-6CDB-4DB1-A054-BED4B50D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83B78-41E8-4F8B-80FB-9438421F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040AB-6905-48FE-ADE8-F5D5E6D5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DBF12-B725-426E-A49B-BB3FD166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98B0-432D-456D-B41E-4C3D38F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4F477-1589-4C0F-B1E5-9AE4C7DC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F6AE3B-1879-4BFA-9D39-A50353B23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2E667-A7EB-4820-82ED-2884028A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2F7E3C-BF38-499A-8A68-04773DBC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5B8DC-AC95-4A29-97A9-F677CE6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AED7A-A1F4-4D1A-8772-F078A103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E1B31-66DB-4298-ACB0-24C2BA02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80931-BE13-403D-93CB-F3E8B3EE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9B5B0-8CE7-4947-8981-3673FDD5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57A6F-D3E9-4871-A32F-0CF6CFE2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FCDA-CE4C-4309-95EA-1A4E6739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3DAA5-13FA-41B9-9316-62A0FC17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309FF-0AD5-4D6A-9794-1ED6450AF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9B304-DC1F-4BAC-A2DA-B0B7A999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BD55A-7A05-4D13-BD31-46DF0C63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BFC79B-1C8D-4CCD-8768-F9483F5A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0C1A3D-4694-40F3-8D9E-9AFFB719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F8CD15-2777-4B70-BBDE-574BE0D4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B91E75-9269-4A51-87B1-228D7191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3938D-876D-4D78-80AF-CF8D4B3D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76C832-A854-4797-A005-32732929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C3EA-0E4D-4260-9EE8-0065EEAC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FE1C-8932-4509-BC49-890C5D51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C92ED8-28D5-476D-B27D-96A53F90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8DDC1E-BC6D-4EA3-A206-1A8B531B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79FBB-72AF-4C7D-83EC-5B6EE112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C5F82-6EA1-4472-942E-FF733C97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7DA2DF-660E-47EE-A9DF-0681045B5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9F2D6F-9701-4D4C-AC6B-70754236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F35D2E-2641-44B8-A512-BFAEAD93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995682-3C07-4AA6-8EAB-BF98EF75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5157D8-544C-4888-B612-7EAAA96F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3FF4C9-A453-4F70-9A2A-D7C78A70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0E43-358D-4754-B377-3EA3F342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76B748-F2C6-4B2E-B7B5-B47CA183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D48DA-AE24-430D-BA30-93E4250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A935A-320A-4DA4-9F19-996718FC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313DA8-FA83-427A-9ACB-97187BE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D20F25-8D43-41E6-9B64-EB240F08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E5A99E-5CB2-4AFC-9951-4B0EE0E7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E33A7-D12C-4244-85A6-569D1C71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9B5F-D182-4FFF-9C98-652B72E3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5B15-444B-4A8A-9CDD-A8864232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8A5F-DE5B-4519-A6D8-E773A5E5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C4B34-92BB-417A-9679-D89DB757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64CA4-C03A-48B1-8C4C-C2959D4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6FAC6-DC51-4205-9AB8-1986A77E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E154A-94D1-4A1B-B52F-526591D5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B0D32-5061-4267-97A1-12B2AD53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6415-2E79-4487-B914-4478394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36F01-DDBB-4990-89B0-FCFB3CBD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679303-4D81-40F2-93BF-6F1BA029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72AFD-07A7-46E1-A81B-3C23E248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FE379-1540-4195-BD40-733DCEE0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9F32A-DE03-4B2E-8704-EAA8A5BF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B3C504-3E5C-4C52-ADDD-58BE525D9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68360-503E-4589-9C4C-BF974765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77407-0E83-49A9-B717-8AB00EB4B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64813-8B84-4933-9D43-B9573199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2AB3-D14E-4288-A9AE-FE4A37DE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D1C-BFE7-43B1-9560-2E5040D1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32243-0D85-4BCC-87BD-E6E104CC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F6171-A0FE-4834-B982-E5B305E5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27E5A-A749-4B38-B77A-CA3FC805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7BE77-7E6B-4E3A-AEBB-EF16584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0AD7-B256-4102-BDD9-14BD2417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7905-23B0-4FDD-9F0A-35783392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163B-7DAA-4F45-A4EE-6E176353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F863-EF32-486D-96E9-F99CDD60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9FFE-49A8-4011-9BD8-6F21EF85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BE695-DE20-4DD0-9153-FC0E824F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7BA8-E445-4E83-A1C7-3B29DD44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343BB-10D6-4C51-9E6E-651F06C3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7B07C-AA11-48F1-9DF0-EDB0CA5F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6B7EE-D83E-4DE5-9C9B-865228EE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76DF8-8478-415B-9074-1E3B0EB8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8DB5B-3098-4E52-8524-AA7C2FE3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7368A-FA29-4864-A645-6187389D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7D80-742D-483E-978E-25736586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C9937-CBA7-419A-9317-F6784B4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5ABD-FD0C-4EF4-94FE-E6EB8C6F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E5300-5828-4062-BBBF-EE3747A4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0E7-28C7-4E61-ADA8-F35FCD85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1DE75-6D31-4872-B528-FAC03F03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365B-474F-419A-8282-21AC95689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18095-CDDD-4C1B-BD9C-FDC47AB5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A22E-762B-4C3D-A3F5-FE572CC5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70485-3718-48AB-81FC-E24A0F0F0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45E1E-5B84-4E65-A469-2CD75E7F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99D5-3816-494F-A4DE-9D2C7AEC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86205-71B5-4B4B-8CFF-78A5767C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5ADF4-8340-4F09-8546-9C6BBF9F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A6A1B-1172-490E-A3FE-AF44E6D2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1C7-E813-46CB-A4CD-65613609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B14C9-F0F7-457F-9A4B-948563BD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AD7A1-AE19-4416-B16B-25A0A811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75932-5ACB-4993-8102-CA4B8DE3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85DC9-18BE-4FAD-A05C-367C08E63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94ADF-D637-4E01-A218-096B771B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28778-A253-47FE-8BAB-A6DA9C6D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7DA2C-E6E5-41E6-B339-9684B94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8E55-1EDC-46D1-9D7B-E948BF66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1B610-0D9B-48E3-8866-85D74788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AA13E-093F-4F4B-8AD2-D0A97FE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C64-F003-4545-987C-95CE8DB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CFD2-96F8-43D5-B756-3623DDAC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E9AE8-F76A-4C90-A1B4-28FCC385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CF8D3-6F20-4E49-BC9C-525E2C9C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392E2-60F5-46EF-A899-53D4EAC3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506C3-1321-434E-BC30-D60C91DF4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0927-5427-4827-A76F-99F4ACA9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57CF0-8021-4E8A-8C3F-4BEE9C78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8BB75-FB2C-461E-BE79-D3669A8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79132-1572-4DBD-8B1D-4C5B8325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4EE46-AAD7-461E-8BF1-3D11ECD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F00A-90B8-4819-BBD0-1E87DAE5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CD17A1-3EED-4376-A618-56F1BB76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06811-F122-4204-BC7C-0D226E95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B8AA7-518D-43DD-B1A6-73CEA75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C7B41-F8D6-453C-8DCC-4E703DA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0DF4-74FD-4658-8E75-2633F799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9943-92A7-486A-BBEF-ED5512A2F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C6C04-747E-4AE6-BDAB-1528D3B5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C574C-05DE-4BED-A929-4C6503EFA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E97F2-ED0B-4DA4-BC5E-5784FC2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CDC51-E02D-4969-AF7B-52637C90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6641-3521-42BB-9339-DC3C7B14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r" rtl="1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r" rtl="1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r" rtl="1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r" rtl="1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C68B-5864-4A43-B140-D9FAEF6B9F25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3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8E4-D4AB-472B-A81B-617A87691918}" type="slidenum">
              <a:rPr b="0" lang="ar-SA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E3BB-5A42-45C0-B569-4F8BC89B55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22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986F-1E78-410B-A4A6-01D6E57EF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78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2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9484-1FB1-4EC1-9EE0-527D3EC599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F90F-60F8-4C5E-AD24-CDFDF9A10E2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dt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 type="sldNum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C9C7-34BD-48FD-AB7E-BF7FF4F69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973-95F2-4C6C-9CC2-5194B491B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F55B-4523-463E-B977-C1CD16E6C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81B7-0B9C-4E1D-B594-2A8015DAB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7BD5-01C1-4D41-98BA-E51E0E8BEEC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4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E629-70E6-464A-9229-0C53A70CA0C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B85-E9F0-4BA7-8112-D6FF46A91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r" rtl="1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 algn="r" rtl="1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 algn="r" rtl="1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BAD-CC72-48C8-8CF4-18FAB86DD5E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9E8B-E6DE-486B-9E48-0E8041A49B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33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1ED2-EC9B-4EE0-9AD1-0B7B3ADB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8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349C-9859-4152-829D-9242EB00A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24.wmf"/><Relationship Id="rId13" Type="http://schemas.openxmlformats.org/officeDocument/2006/relationships/image" Target="../media/image25.wmf"/><Relationship Id="rId14" Type="http://schemas.openxmlformats.org/officeDocument/2006/relationships/image" Target="../media/image26.wmf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0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8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hyperlink" Target="file:///../4-&#1576;&#1585;&#1575;&#1605;&#1580;%20&#1575;&#1604;&#1578;&#1601;&#1603;&#1610;&#1585;/&#1575;&#1604;&#1593;&#1589;&#1601;%20&#1575;&#1604;&#1584;&#1607;&#1606;&#1610;/&#1605;&#1607;&#1575;&#1585;&#1577;%20&#1575;&#1604;&#1593;&#1589;&#1601;%20%20&#1575;&#1604;&#1584;&#1607;&#1606;&#1610;%20(%20&#1575;&#1604;&#1605;&#1576;&#1575;&#1583;&#1574;%20).ppt" TargetMode="External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0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3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0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8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8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0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9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8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8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53.jpeg"/><Relationship Id="rId8" Type="http://schemas.openxmlformats.org/officeDocument/2006/relationships/image" Target="../media/image53.jpeg"/><Relationship Id="rId9" Type="http://schemas.openxmlformats.org/officeDocument/2006/relationships/slideLayout" Target="../slideLayouts/slideLayout18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333399"/>
                </a:solidFill>
                <a:latin typeface="Arial"/>
                <a:cs typeface="AGA Juhyna Regular"/>
              </a:rPr>
              <a:t>استراتيجية حل المشكلات بطرق إبداعية</a:t>
            </a: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AGA Juhyna Regular"/>
              </a:rPr>
              <a:t>The Creative Problem Sol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1332000" y="357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00"/>
                </a:solidFill>
                <a:latin typeface="Arial"/>
                <a:cs typeface="AL-Mateen"/>
              </a:rPr>
              <a:t>تطبيق الاستراتيجية في الملتقيات الصي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1426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  <a:ea typeface="AL-Mateen"/>
              </a:rPr>
              <a:t> ه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3708360" y="115920"/>
            <a:ext cx="1079640" cy="90972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2411280" y="105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333399"/>
                </a:solidFill>
                <a:latin typeface="Arial"/>
                <a:cs typeface="AL-Sayf Bold"/>
              </a:rPr>
              <a:t>الإدارة العامة لرعاية الموهوبي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3348000" y="5372280"/>
            <a:ext cx="1800360" cy="129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73080" y="115920"/>
            <a:ext cx="2843280" cy="201780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4572000" y="1268280"/>
            <a:ext cx="0" cy="648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0" y="1268280"/>
            <a:ext cx="2879640" cy="648000"/>
          </a:xfrm>
          <a:prstGeom prst="line">
            <a:avLst/>
          </a:prstGeom>
          <a:ln w="7632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1835280" y="1268280"/>
            <a:ext cx="2736720" cy="7207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659640" y="213372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 توجد 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637080" y="2060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تضخيم المشك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26920" y="2205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رؤية المشكل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020000" y="436572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تتراكم المشاك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3348000" y="4437000"/>
            <a:ext cx="23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يستحيل أن يكون لها حل ( لا يوجد فائدة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116000" y="458136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539640" y="458136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في حجمها الطبيعي كل مشكلة لها ح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6" name="" descr=""/>
          <p:cNvPicPr/>
          <p:nvPr/>
        </p:nvPicPr>
        <p:blipFill>
          <a:blip r:embed="rId4"/>
          <a:stretch/>
        </p:blipFill>
        <p:spPr>
          <a:xfrm>
            <a:off x="5364000" y="2133720"/>
            <a:ext cx="432000" cy="358560"/>
          </a:xfrm>
          <a:prstGeom prst="rect">
            <a:avLst/>
          </a:prstGeom>
          <a:ln w="0">
            <a:noFill/>
          </a:ln>
        </p:spPr>
      </p:pic>
      <p:pic>
        <p:nvPicPr>
          <p:cNvPr id="937" name="" descr=""/>
          <p:cNvPicPr/>
          <p:nvPr/>
        </p:nvPicPr>
        <p:blipFill>
          <a:blip r:embed="rId5"/>
          <a:stretch/>
        </p:blipFill>
        <p:spPr>
          <a:xfrm>
            <a:off x="2484360" y="2205000"/>
            <a:ext cx="395280" cy="432000"/>
          </a:xfrm>
          <a:prstGeom prst="rect">
            <a:avLst/>
          </a:prstGeom>
          <a:ln w="0">
            <a:noFill/>
          </a:ln>
        </p:spPr>
      </p:pic>
      <p:pic>
        <p:nvPicPr>
          <p:cNvPr id="938" name="" descr=""/>
          <p:cNvPicPr/>
          <p:nvPr/>
        </p:nvPicPr>
        <p:blipFill>
          <a:blip r:embed="rId6"/>
          <a:stretch/>
        </p:blipFill>
        <p:spPr>
          <a:xfrm>
            <a:off x="8308800" y="2197080"/>
            <a:ext cx="295560" cy="295200"/>
          </a:xfrm>
          <a:prstGeom prst="rect">
            <a:avLst/>
          </a:prstGeom>
          <a:ln w="0">
            <a:noFill/>
          </a:ln>
        </p:spPr>
      </p:pic>
      <p:pic>
        <p:nvPicPr>
          <p:cNvPr id="939" name="" descr=""/>
          <p:cNvPicPr/>
          <p:nvPr/>
        </p:nvPicPr>
        <p:blipFill>
          <a:blip r:embed="rId7"/>
          <a:stretch/>
        </p:blipFill>
        <p:spPr>
          <a:xfrm>
            <a:off x="4356000" y="2492280"/>
            <a:ext cx="473040" cy="1871640"/>
          </a:xfrm>
          <a:prstGeom prst="rect">
            <a:avLst/>
          </a:prstGeom>
          <a:ln w="0">
            <a:noFill/>
          </a:ln>
          <a:effectLst>
            <a:outerShdw dist="127008" dir="3183908" blurRad="0" rotWithShape="0">
              <a:srgbClr val="006600"/>
            </a:outerShdw>
          </a:effectLst>
        </p:spPr>
      </p:pic>
      <p:pic>
        <p:nvPicPr>
          <p:cNvPr id="940" name="" descr=""/>
          <p:cNvPicPr/>
          <p:nvPr/>
        </p:nvPicPr>
        <p:blipFill>
          <a:blip r:embed="rId8"/>
          <a:stretch/>
        </p:blipFill>
        <p:spPr>
          <a:xfrm>
            <a:off x="7380360" y="2708280"/>
            <a:ext cx="473040" cy="1655640"/>
          </a:xfrm>
          <a:prstGeom prst="rect">
            <a:avLst/>
          </a:prstGeom>
          <a:ln w="0">
            <a:noFill/>
          </a:ln>
          <a:effectLst>
            <a:outerShdw dist="109184" dir="3271692" blurRad="0" rotWithShape="0">
              <a:srgbClr val="006600"/>
            </a:outerShdw>
          </a:effectLst>
        </p:spPr>
      </p:pic>
      <p:pic>
        <p:nvPicPr>
          <p:cNvPr id="941" name="" descr=""/>
          <p:cNvPicPr/>
          <p:nvPr/>
        </p:nvPicPr>
        <p:blipFill>
          <a:blip r:embed="rId9"/>
          <a:stretch/>
        </p:blipFill>
        <p:spPr>
          <a:xfrm>
            <a:off x="1403280" y="2635200"/>
            <a:ext cx="473040" cy="1873440"/>
          </a:xfrm>
          <a:prstGeom prst="rect">
            <a:avLst/>
          </a:prstGeom>
          <a:ln w="0">
            <a:noFill/>
          </a:ln>
          <a:effectLst>
            <a:outerShdw dist="117181" dir="2961631" blurRad="0" rotWithShape="0">
              <a:srgbClr val="006600"/>
            </a:outerShdw>
          </a:effectLst>
        </p:spPr>
      </p:pic>
      <p:sp>
        <p:nvSpPr>
          <p:cNvPr id="942" name=""/>
          <p:cNvSpPr txBox="1"/>
          <p:nvPr/>
        </p:nvSpPr>
        <p:spPr>
          <a:xfrm rot="21363600">
            <a:off x="1402920" y="71280"/>
            <a:ext cx="60008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2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abic Transparent"/>
              </a:rPr>
              <a:t>الناس أمام المشكلة</a:t>
            </a:r>
            <a:endParaRPr b="1" lang="en-US" sz="8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2"/>
          <a:stretch/>
        </p:blipFill>
        <p:spPr>
          <a:xfrm>
            <a:off x="6083280" y="3070080"/>
            <a:ext cx="1009800" cy="129564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13"/>
          <a:stretch/>
        </p:blipFill>
        <p:spPr>
          <a:xfrm>
            <a:off x="3348000" y="3068640"/>
            <a:ext cx="822240" cy="1224000"/>
          </a:xfrm>
          <a:prstGeom prst="rect">
            <a:avLst/>
          </a:prstGeom>
          <a:ln w="0">
            <a:noFill/>
          </a:ln>
        </p:spPr>
      </p:pic>
      <p:pic>
        <p:nvPicPr>
          <p:cNvPr id="945" name="" descr=""/>
          <p:cNvPicPr/>
          <p:nvPr/>
        </p:nvPicPr>
        <p:blipFill>
          <a:blip r:embed="rId14"/>
          <a:stretch/>
        </p:blipFill>
        <p:spPr>
          <a:xfrm>
            <a:off x="468360" y="314172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2"/>
          <a:stretch/>
        </p:blipFill>
        <p:spPr>
          <a:xfrm>
            <a:off x="1082520" y="1341360"/>
            <a:ext cx="1895760" cy="266400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3132000" y="1992240"/>
            <a:ext cx="525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l-Mothnna"/>
              </a:rPr>
              <a:t>ما المقصود بالمشكلة في فهمك الخاص 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076720" y="47628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0000ff"/>
                </a:solidFill>
                <a:latin typeface="Arial"/>
                <a:cs typeface="Al-Mujahed Free"/>
              </a:rPr>
              <a:t>تمري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5 -0.20967 L 0.15365 0.32501 E">
                                      <p:cBhvr>
                                        <p:cTn id="232" dur="2000" fill="hold"/>
                                        <p:tgtEl>
                                          <p:spTgt spid="9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1152720" cy="2448000"/>
          </a:xfrm>
          <a:prstGeom prst="rect">
            <a:avLst/>
          </a:prstGeom>
          <a:ln w="0">
            <a:noFill/>
          </a:ln>
        </p:spPr>
      </p:pic>
      <p:sp>
        <p:nvSpPr>
          <p:cNvPr id="950" name=""/>
          <p:cNvSpPr txBox="1"/>
          <p:nvPr/>
        </p:nvSpPr>
        <p:spPr>
          <a:xfrm>
            <a:off x="3783600" y="1356480"/>
            <a:ext cx="2728800" cy="2195280"/>
          </a:xfrm>
          <a:prstGeom prst="rect">
            <a:avLst/>
          </a:prstGeom>
          <a:blipFill rotWithShape="0">
            <a:blip r:embed="rId3"/>
            <a:stretch/>
          </a:blip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918e"/>
                </a:solidFill>
                <a:latin typeface="Arial"/>
                <a:cs typeface="PT Bold Heading"/>
              </a:rPr>
              <a:t>ما هي المشكلة ؟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2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7380360" y="1268280"/>
            <a:ext cx="936720" cy="1008360"/>
          </a:xfrm>
          <a:prstGeom prst="rect">
            <a:avLst/>
          </a:prstGeom>
          <a:ln w="0">
            <a:noFill/>
          </a:ln>
        </p:spPr>
      </p:pic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59000"/>
          </a:bodyPr>
          <a:p>
            <a:pPr marL="202320" indent="0" algn="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99"/>
                </a:solidFill>
                <a:latin typeface="Arial"/>
                <a:cs typeface="AL-Mateen"/>
              </a:rPr>
              <a:t>المشكلة : هي عقبة أمام تحقيق الأهداف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300720" y="2133720"/>
            <a:ext cx="576360" cy="2665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093080" y="2565360"/>
            <a:ext cx="1655640" cy="1871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020000" y="3325680"/>
            <a:ext cx="143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Arial"/>
                <a:cs typeface="AL-Mateen"/>
              </a:rPr>
              <a:t>الهد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340000" y="3284640"/>
            <a:ext cx="388764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140360" y="3429000"/>
            <a:ext cx="2087280" cy="287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780000" y="3645000"/>
            <a:ext cx="2447640" cy="5745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4788000" y="2852640"/>
            <a:ext cx="1439640" cy="2160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1403280" y="2636640"/>
            <a:ext cx="4824360" cy="360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2411280" y="1557000"/>
            <a:ext cx="4969080" cy="158436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" descr=""/>
          <p:cNvPicPr/>
          <p:nvPr/>
        </p:nvPicPr>
        <p:blipFill>
          <a:blip r:embed="rId5"/>
          <a:stretch/>
        </p:blipFill>
        <p:spPr>
          <a:xfrm>
            <a:off x="324000" y="1341360"/>
            <a:ext cx="122364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5940360" cy="4311360"/>
          </a:xfrm>
          <a:prstGeom prst="rect">
            <a:avLst/>
          </a:prstGeom>
          <a:ln w="0">
            <a:noFill/>
          </a:ln>
        </p:spPr>
      </p:pic>
      <p:sp>
        <p:nvSpPr>
          <p:cNvPr id="965" name=""/>
          <p:cNvSpPr txBox="1"/>
          <p:nvPr/>
        </p:nvSpPr>
        <p:spPr>
          <a:xfrm>
            <a:off x="482760" y="3258000"/>
            <a:ext cx="2200680" cy="1134000"/>
          </a:xfrm>
          <a:prstGeom prst="rect">
            <a:avLst/>
          </a:prstGeom>
          <a:blipFill rotWithShape="0">
            <a:blip r:embed="rId3">
              <a:alphaModFix amt="15000"/>
            </a:blip>
            <a:stretch/>
          </a:blipFill>
          <a:ln w="572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66"/>
                </a:solidFill>
                <a:latin typeface="Arial"/>
                <a:cs typeface="AL-Mateen"/>
              </a:rPr>
              <a:t>الأهدا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2987640" y="475920"/>
            <a:ext cx="5402160" cy="3887640"/>
          </a:xfrm>
          <a:prstGeom prst="rect">
            <a:avLst/>
          </a:prstGeom>
          <a:blipFill rotWithShape="0">
            <a:blip r:embed="rId4"/>
            <a:stretch/>
          </a:blipFill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طاعة الله تعالى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تفوق والنجاح في الدرا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فظ القرآن الكريم والحديث الشري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نجاح في الحيا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حل مشكلات في المنزل أو الحي أو المدرس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رضاء الوالد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إدارة العمل ، واستكشاف قدرات العامل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042920" y="4560840"/>
            <a:ext cx="7345440" cy="2246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لحلول الإبداعية لمشكلات المستقب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تطوير الأجهزة والآلات ال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  <a:cs typeface="AL-Mateen"/>
              </a:rPr>
              <a:t>ابتكار مخترعات جد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3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800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800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800" fill="hold"/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800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763280" y="1428480"/>
            <a:ext cx="6985080" cy="1568520"/>
          </a:xfrm>
          <a:prstGeom prst="rect">
            <a:avLst/>
          </a:prstGeom>
          <a:blipFill rotWithShape="0">
            <a:blip r:embed="rId2">
              <a:alphaModFix amt="40000"/>
            </a:blip>
            <a:stretch/>
          </a:blip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8000"/>
                </a:solidFill>
                <a:latin typeface="Arial"/>
                <a:cs typeface="FS_Free"/>
              </a:rPr>
              <a:t>لماذا ؟ ومن أجل ما ذا ؟ ندرس حل المشكلات 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47280" y="4263840"/>
            <a:ext cx="54723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cc3300"/>
                </a:solidFill>
                <a:latin typeface="Arial"/>
                <a:cs typeface="AL-Mateen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4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89572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6600"/>
                </a:solidFill>
                <a:latin typeface="Arial"/>
                <a:cs typeface="AL-Mateen"/>
              </a:rPr>
              <a:t>من أهدافنا في برنامج حل المشكل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7416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تعلم على أن هناك حلول ناجحة تتطلب الصبر في الوصول إلي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الأخذ بالأسباب في تحقق عبادة التوكل على الله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تعليم مهارة اتخاذ القرار الفعا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دراسة القضايا والمشكلات من جميع الجهات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إعمال الفكر في الوصول إلى الحلول الأصيل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معالجة المشكلة في إطار مقنن بأساليب حديث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 algn="r" rtl="1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  <a:cs typeface="AL-Mateen"/>
              </a:rPr>
              <a:t>طرح وإيجاد أكثر من حل للمشكلة لاختيار أفضل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835280" y="923400"/>
            <a:ext cx="685152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cc0000"/>
                </a:solidFill>
                <a:latin typeface="Arial"/>
                <a:cs typeface="AL-Mateen Outline"/>
              </a:rPr>
              <a:t>ما هو الإبداع ؟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170a78"/>
                </a:solidFill>
                <a:latin typeface="Arial"/>
                <a:ea typeface="AL-Hosam"/>
              </a:rPr>
              <a:t>       هو النظر للمألوف بطريقة أو من زاوية غير مألوفة ، ثم تطوير هذا النظر ليتحول إلى فكرة ثم تصميم ثم إبداع قابل للتطبيق والاستعم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5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133440" y="549360"/>
            <a:ext cx="35989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  <a:cs typeface="AL-Mateen"/>
              </a:rPr>
              <a:t>التفكير الإبداع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250560" y="1562040"/>
            <a:ext cx="8507160" cy="4603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أن تأتي بفكرة جديدة بالنسبة لك وللآخر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توليد أفكار جديدة ومفيدة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إتيان إلى حيز الوجود بشيء لم يكن موجوداً من قب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هو القدرة على عمل ترابط ورؤية علاقات وروابط جديد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وهو القدرة على أن ينهل الإنسان من موارد متنوعة ويوحد بينها بشكل متكامل وجديد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9680" indent="-499680" algn="r" rtl="1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170a78"/>
                </a:solidFill>
                <a:latin typeface="Arial"/>
              </a:rPr>
              <a:t>تمكن العقل من إدراك العلاقة بين شيئين بطريقة يتولد عنها ظهور شيء ثالث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843280" y="274680"/>
            <a:ext cx="5843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660066"/>
                </a:solidFill>
                <a:latin typeface="Arial"/>
                <a:cs typeface="AL-Hor"/>
              </a:rPr>
              <a:t>نشاط :أبناؤنا والإبدا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363640" y="2204640"/>
            <a:ext cx="3240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صورة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 rtl="1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666633"/>
                </a:solidFill>
                <a:latin typeface="Arial"/>
                <a:cs typeface="AL-Hosam"/>
              </a:rPr>
              <a:t>متكرر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6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4032000" cy="43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1368360" cy="1654200"/>
          </a:xfrm>
          <a:prstGeom prst="rect">
            <a:avLst/>
          </a:prstGeom>
          <a:ln w="0">
            <a:noFill/>
          </a:ln>
        </p:spPr>
      </p:pic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0628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Arial"/>
                <a:cs typeface="AL-Mateen"/>
              </a:rPr>
              <a:t>عناصر حقيبة تطبيق حل المشكلات في الملتقيات الصيفية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11280" y="1771560"/>
            <a:ext cx="807552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 المشغل التدريبي الأول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 التفكير التباعدي والتفكير التقاربي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ني 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مقدمات في البرنامج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66"/>
                </a:solidFill>
                <a:latin typeface="Arial"/>
              </a:rPr>
              <a:t>تعريف عام للمراحل والخطوات مع أسلوب العمل عليها عام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  <a:ea typeface="AL-Mateen"/>
              </a:rPr>
              <a:t>  المشغل التدريبي الثالث: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تطبيقات على خطوات حل المشكلات بطرق إبداعية 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5"/>
          <a:stretch/>
        </p:blipFill>
        <p:spPr>
          <a:xfrm>
            <a:off x="3564000" y="2637000"/>
            <a:ext cx="720720" cy="86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5219640" y="692280"/>
            <a:ext cx="2997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 txBox="1"/>
          <p:nvPr/>
        </p:nvSpPr>
        <p:spPr>
          <a:xfrm>
            <a:off x="971640" y="4292640"/>
            <a:ext cx="4392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 txBox="1"/>
          <p:nvPr/>
        </p:nvSpPr>
        <p:spPr>
          <a:xfrm>
            <a:off x="468360" y="2060640"/>
            <a:ext cx="79200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11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استراتيجية حل المشكلات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2736720" cy="21603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6156360" y="404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مر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5219640" y="404640"/>
            <a:ext cx="3600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arsi Simple Outline"/>
              </a:rPr>
              <a:t>مراحل وخطوات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arsi Simple Outline"/>
              <a:ea typeface="Farsi Simple Outline"/>
            </a:endParaRPr>
          </a:p>
        </p:txBody>
      </p:sp>
    </p:spTree>
  </p:cSld>
  <p:transition>
    <p:fad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/>
          </p:nvPr>
        </p:nvSpPr>
        <p:spPr>
          <a:xfrm>
            <a:off x="457200" y="24224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 rtl="1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  <a:ea typeface="AGA Juhyna Regular"/>
              </a:rPr>
              <a:t>     التدريس من خلال حل المشكلات إبداعياً يؤدي إلى النمو الإدراكي والانفعالي والاجتماعي على حد سواء 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title"/>
          </p:nvPr>
        </p:nvSpPr>
        <p:spPr>
          <a:xfrm>
            <a:off x="2700360" y="620640"/>
            <a:ext cx="2890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Arial"/>
                <a:cs typeface="AL-Mateen Outline"/>
              </a:rPr>
              <a:t>فائد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443640" y="3357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769080" cy="4038480"/>
          </a:xfrm>
          <a:prstGeom prst="rect">
            <a:avLst/>
          </a:prstGeom>
          <a:ln w="0">
            <a:noFill/>
          </a:ln>
        </p:spPr>
      </p:pic>
      <p:sp>
        <p:nvSpPr>
          <p:cNvPr id="996" name=""/>
          <p:cNvSpPr/>
          <p:nvPr/>
        </p:nvSpPr>
        <p:spPr>
          <a:xfrm>
            <a:off x="4427640" y="234936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</a:rPr>
              <a:t>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3716280"/>
            <a:ext cx="1152360" cy="1008000"/>
          </a:xfrm>
          <a:prstGeom prst="flowChartConnector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140360" y="3789360"/>
            <a:ext cx="79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دراسة وتقييم المهم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593040" y="4006800"/>
            <a:ext cx="1074600" cy="86220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908000" y="3716280"/>
            <a:ext cx="1079640" cy="936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067280" y="2205000"/>
            <a:ext cx="1152360" cy="865080"/>
          </a:xfrm>
          <a:prstGeom prst="diamond">
            <a:avLst/>
          </a:prstGeom>
          <a:solidFill>
            <a:srgbClr val="d0eae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5724360" y="4216320"/>
            <a:ext cx="1079640" cy="868320"/>
          </a:xfrm>
          <a:prstGeom prst="diamond">
            <a:avLst/>
          </a:prstGeom>
          <a:solidFill>
            <a:srgbClr val="d0ea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067280" y="234936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627280" y="4076640"/>
            <a:ext cx="1081080" cy="865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4508640"/>
            <a:ext cx="1081080" cy="936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979640" y="3933720"/>
            <a:ext cx="79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حساس ب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979640" y="46530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صياغة المشكل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700360" y="4292640"/>
            <a:ext cx="79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جمع المعلوم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940360" y="4437000"/>
            <a:ext cx="576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تطوير ا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6732720" y="4149720"/>
            <a:ext cx="6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بناء القبول للح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rot="668400">
            <a:off x="4709880" y="3134880"/>
            <a:ext cx="718920" cy="647640"/>
          </a:xfrm>
          <a:prstGeom prst="diamond">
            <a:avLst/>
          </a:prstGeom>
          <a:solidFill>
            <a:srgbClr val="d0ea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4429080" y="3341520"/>
            <a:ext cx="503280" cy="3207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مراحل وخطوات الاستراتيجية المراحل الأساسية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15" name=""/>
          <p:cNvSpPr/>
          <p:nvPr/>
        </p:nvSpPr>
        <p:spPr>
          <a:xfrm>
            <a:off x="1403280" y="3141720"/>
            <a:ext cx="1368360" cy="43164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403280" y="3024360"/>
            <a:ext cx="1584360" cy="5544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فه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d9edef"/>
                </a:solidFill>
                <a:latin typeface="Arial"/>
                <a:cs typeface="PT Bold Heading"/>
              </a:rPr>
              <a:t>المشكلة أو التحد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435640" y="1989000"/>
            <a:ext cx="1081080" cy="35892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435640" y="2060640"/>
            <a:ext cx="1152360" cy="52020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588000" y="3284640"/>
            <a:ext cx="1008360" cy="576000"/>
          </a:xfrm>
          <a:prstGeom prst="rect">
            <a:avLst/>
          </a:prstGeom>
          <a:solidFill>
            <a:srgbClr val="002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588000" y="3357720"/>
            <a:ext cx="1079640" cy="733320"/>
          </a:xfrm>
          <a:prstGeom prst="rect">
            <a:avLst/>
          </a:prstGeom>
          <a:solidFill>
            <a:srgbClr val="002b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d9edef"/>
                </a:solidFill>
                <a:latin typeface="Arial"/>
                <a:cs typeface="PT Bold Heading"/>
              </a:rPr>
              <a:t>التحضير لتطبيق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995640" y="479736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924360" y="4869000"/>
            <a:ext cx="1584360" cy="43164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564000" y="4941720"/>
            <a:ext cx="2303280" cy="459000"/>
          </a:xfrm>
          <a:prstGeom prst="rect">
            <a:avLst/>
          </a:prstGeom>
          <a:solidFill>
            <a:srgbClr val="d6e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خطيط لاستخدام الاستراتيجي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4140360" y="63752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الإبداع ، جروان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2"/>
          <a:stretch/>
        </p:blipFill>
        <p:spPr>
          <a:xfrm>
            <a:off x="3909960" y="2914560"/>
            <a:ext cx="1324080" cy="1028880"/>
          </a:xfrm>
          <a:prstGeom prst="rect">
            <a:avLst/>
          </a:prstGeom>
          <a:ln w="0">
            <a:noFill/>
          </a:ln>
        </p:spPr>
      </p:pic>
      <p:pic>
        <p:nvPicPr>
          <p:cNvPr id="1026" name="" descr=""/>
          <p:cNvPicPr/>
          <p:nvPr/>
        </p:nvPicPr>
        <p:blipFill>
          <a:blip r:embed="rId3"/>
          <a:stretch/>
        </p:blipFill>
        <p:spPr>
          <a:xfrm>
            <a:off x="611280" y="907920"/>
            <a:ext cx="7489800" cy="3168720"/>
          </a:xfrm>
          <a:prstGeom prst="rect">
            <a:avLst/>
          </a:prstGeom>
          <a:ln w="0">
            <a:noFill/>
          </a:ln>
        </p:spPr>
      </p:pic>
      <p:sp>
        <p:nvSpPr>
          <p:cNvPr id="1027" name=""/>
          <p:cNvSpPr/>
          <p:nvPr/>
        </p:nvSpPr>
        <p:spPr>
          <a:xfrm>
            <a:off x="611280" y="4221000"/>
            <a:ext cx="806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8000"/>
                </a:solidFill>
                <a:latin typeface="Arial"/>
                <a:cs typeface="AL-Mateen"/>
              </a:rPr>
              <a:t>نموذجاً تخطيطياً تدفقياً لتلخيص مكونات البرنامج والمهمات المطلوبة في كل مرحلة ، وأكدا على ضرورة المحافظة على نوع من التوازن بين نوعين أساسيين من التفكير هما التفكير المتشعب والتفكير المتقارب في كل مرحلة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  <a:ea typeface="AL-Mateen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AL-Matee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468000" y="1052280"/>
            <a:ext cx="3311640" cy="288108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Arial"/>
                <a:cs typeface="AL-Mateen"/>
              </a:rPr>
              <a:t>قدم أساكسن وترفنجر في كتابهما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100" spc="-1" strike="noStrike">
                <a:solidFill>
                  <a:srgbClr val="333399"/>
                </a:solidFill>
                <a:latin typeface="Arial"/>
                <a:cs typeface="AL-Hosam"/>
              </a:rPr>
              <a:t>تلخيص العملية التتابعية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826920" y="2708280"/>
            <a:ext cx="68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66"/>
                </a:solidFill>
                <a:latin typeface="Arial"/>
                <a:cs typeface="AL-Hosam"/>
              </a:rPr>
              <a:t>حل المشكلات الإبداع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"/>
          <p:cNvSpPr/>
          <p:nvPr/>
        </p:nvSpPr>
        <p:spPr>
          <a:xfrm>
            <a:off x="3851280" y="5394240"/>
            <a:ext cx="1800360" cy="12128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51280" y="457200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3851280" y="374976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851280" y="2927520"/>
            <a:ext cx="1800360" cy="82224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851280" y="2104920"/>
            <a:ext cx="1800360" cy="82260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66560" y="5394240"/>
            <a:ext cx="338472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التركيز على الحلول الواعدة ووضع خطة محددة للتنفي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651640" y="5394240"/>
            <a:ext cx="3168360" cy="12128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Times New Roman"/>
                <a:cs typeface="AL-Mateen"/>
              </a:rPr>
              <a:t>تطوير قائمة بمصادر الدعم والمقاومة المحتملة وتحديد خطوات التنفيذ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6560" y="457200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اختيار بعض المحكات لتقييم الأفكار وتحسين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651640" y="457200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00"/>
                </a:solidFill>
                <a:latin typeface="Times New Roman"/>
                <a:cs typeface="AL-Mateen"/>
              </a:rPr>
              <a:t>تطوير قائمة محكات لمراجعة الأفكار وتقييم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66560" y="374976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اختيار الأفكار التي تبدو مثيرة وواعد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651640" y="374976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cc"/>
                </a:solidFill>
                <a:latin typeface="Times New Roman"/>
                <a:cs typeface="AL-Mateen"/>
              </a:rPr>
              <a:t>توليد عدة أفكار وبدائل واقتراحات لحل المشكلة وتسجيلها في قائم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466560" y="2927520"/>
            <a:ext cx="338472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اختيار صياغة مناسبة للمشك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5651640" y="2927520"/>
            <a:ext cx="3168360" cy="8222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6600"/>
                </a:solidFill>
                <a:latin typeface="Times New Roman"/>
                <a:cs typeface="AL-Mateen"/>
              </a:rPr>
              <a:t>توليد صياغات متعددة للمشكلة الأساسية والمشكلات الفرعي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6560" y="2104920"/>
            <a:ext cx="338472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تحديد أهم المعلومات ذات العلاقة وتحليلها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651640" y="2104920"/>
            <a:ext cx="3168360" cy="822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660033"/>
                </a:solidFill>
                <a:latin typeface="Times New Roman"/>
                <a:cs typeface="AL-Mateen"/>
              </a:rPr>
              <a:t>فحص الوضع من زوايا متعددة ، وتجميع المعلومات ذات العلا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66560" y="917640"/>
            <a:ext cx="338472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  <a:ea typeface="AL-Mateen"/>
              </a:rPr>
              <a:t> اختيار التحدي والشروع في عمل منهجي لمواجهة الوض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851280" y="917640"/>
            <a:ext cx="1800360" cy="1187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651640" y="917640"/>
            <a:ext cx="3168360" cy="1187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90000"/>
                </a:solidFill>
                <a:latin typeface="Times New Roman"/>
                <a:cs typeface="AL-Mateen"/>
              </a:rPr>
              <a:t>البحث عن الأوضاع المتأزمة والمختلطة من واقع الخبرات واكتشاف الفر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66560" y="333360"/>
            <a:ext cx="338472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ثقارب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3851280" y="333360"/>
            <a:ext cx="1800360" cy="5842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990000"/>
                </a:solidFill>
                <a:latin typeface="Times New Roman"/>
                <a:cs typeface="AL-Hosam"/>
              </a:rPr>
              <a:t>الخطو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651640" y="333360"/>
            <a:ext cx="3168360" cy="5842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  <a:cs typeface="AL-Hosam"/>
              </a:rPr>
              <a:t>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66560" y="33336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66560" y="660708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82000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656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66560" y="917640"/>
            <a:ext cx="8353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65164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851280" y="333360"/>
            <a:ext cx="0" cy="62737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66560" y="21049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6560" y="292752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66560" y="374976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466560" y="457200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466560" y="5394240"/>
            <a:ext cx="518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651640" y="21049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651640" y="292752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651640" y="374976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651640" y="457200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651640" y="5394240"/>
            <a:ext cx="3168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995640" y="1052640"/>
            <a:ext cx="1511280" cy="936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rial"/>
                <a:cs typeface="AL-Mohanad Bold"/>
              </a:rPr>
              <a:t>الإحساس بالمشكل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995640" y="2131920"/>
            <a:ext cx="1440000" cy="79236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جمع المعلوما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95640" y="3067200"/>
            <a:ext cx="1441440" cy="6490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صياغة المشكل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995640" y="3860640"/>
            <a:ext cx="15112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إيجاد الأفكا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95640" y="4653000"/>
            <a:ext cx="1513080" cy="72072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تطوير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067280" y="5518080"/>
            <a:ext cx="1439640" cy="935280"/>
          </a:xfrm>
          <a:prstGeom prst="flowChartDecision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Arial"/>
                <a:cs typeface="AL-Mohanad Bold"/>
              </a:rPr>
              <a:t>قبول الح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696960"/>
            <a:ext cx="1803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537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00" y="538884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8" dur="2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8" dur="2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8" dur="2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1908000" y="2565360"/>
            <a:ext cx="57610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عنوان الوحدة الإثرائي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  <a:cs typeface="AL-Hosam"/>
              </a:rPr>
              <a:t>تلوث الهواء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cc"/>
                </a:solidFill>
                <a:latin typeface="Tahoma"/>
                <a:cs typeface="Al-Hadith2"/>
              </a:rPr>
              <a:t>المرحلة الأولى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324000" y="3141720"/>
            <a:ext cx="8532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800" spc="-1" strike="noStrike">
                <a:solidFill>
                  <a:srgbClr val="ffffff"/>
                </a:solidFill>
                <a:latin typeface="Tahoma"/>
                <a:cs typeface="AL-Mateen"/>
              </a:rPr>
              <a:t>فهم المشكلة أو التحدي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700000" y="2133360"/>
            <a:ext cx="360036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أول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0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331640" y="304920"/>
            <a:ext cx="7243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Verdana"/>
                <a:cs typeface="PT Bold Heading"/>
              </a:rPr>
              <a:t>خطوة الإحساس بالمشكلة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24000" y="2392200"/>
            <a:ext cx="8640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 algn="r" rtl="1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660066"/>
                </a:solidFill>
                <a:latin typeface="Verdana"/>
                <a:cs typeface="AGA Aladdin Regular"/>
              </a:rPr>
              <a:t>الهدف منها :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</a:rPr>
              <a:t> ـ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ستيضاح وفهم أعمق ل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 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2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ــ</a:t>
            </a: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ujahed Free"/>
              </a:rPr>
              <a:t> </a:t>
            </a:r>
            <a:r>
              <a:rPr b="1" lang="hi-IN" sz="3000" spc="-1" strike="noStrike">
                <a:solidFill>
                  <a:srgbClr val="003366"/>
                </a:solidFill>
                <a:latin typeface="Verdana"/>
                <a:cs typeface="AL-Mateen"/>
              </a:rPr>
              <a:t>التعرف على مجال المشكلة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Verdana"/>
                <a:ea typeface="AL-Mateen"/>
              </a:rPr>
              <a:t>  - أبعاد المشكلة واتجاهاتها واستجلاء ما يكتنفها من غموض ، عن طريق التفكير التباعدي ، ثم التقاربي  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6372360" y="692280"/>
            <a:ext cx="792000" cy="6490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أول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1484280" y="3213000"/>
            <a:ext cx="6400800" cy="2376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تفكير التباعدي والتفكير التقاربي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وطريقة استخدامها في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Arial"/>
                <a:cs typeface="MCS Hijon E_U normal."/>
              </a:rPr>
              <a:t>الملتقيات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1619280" y="1484280"/>
            <a:ext cx="122544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611280" y="1268280"/>
            <a:ext cx="79898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 ما الذي تريد ه ؟     ما الذي يضايقك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     ما الأشياء التي تريد تقديمها بطريقة مختلفة 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484360" y="1612800"/>
            <a:ext cx="5329440" cy="64260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3300"/>
                </a:solidFill>
                <a:latin typeface="Arial"/>
              </a:rPr>
              <a:t>اهم المعايير :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تأثير 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– المصلحة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- الجدة والإبداع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7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8" name=""/>
          <p:cNvSpPr/>
          <p:nvPr/>
        </p:nvSpPr>
        <p:spPr>
          <a:xfrm>
            <a:off x="755640" y="8841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cff"/>
                </a:solidFill>
                <a:latin typeface="Arial"/>
                <a:cs typeface="AL-Mateen"/>
              </a:rPr>
              <a:t>أهم الأوضاع أو المشكلات البارزة  أو الأولويات أو الأهداف والاهتمام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877080" y="189000"/>
            <a:ext cx="1655640" cy="79200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الإحساس بالمشك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1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1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0" y="6410160"/>
            <a:ext cx="611280" cy="4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1700" spc="-1" strike="noStrike">
                <a:solidFill>
                  <a:srgbClr val="ffff00"/>
                </a:solidFill>
                <a:latin typeface="Arial Black"/>
              </a:rPr>
              <a:t>يقولون</a:t>
            </a:r>
            <a:endParaRPr b="1" lang="en-US" sz="117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800712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(( تزور النحلة ملايين الزهرات ؛ لتجمع مائة جرام من العسل ))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r" rtl="1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 المعلومة = قوة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2"/>
          <a:stretch/>
        </p:blipFill>
        <p:spPr>
          <a:xfrm>
            <a:off x="1403280" y="3573360"/>
            <a:ext cx="1916280" cy="2324160"/>
          </a:xfrm>
          <a:prstGeom prst="rect">
            <a:avLst/>
          </a:prstGeom>
          <a:ln w="0">
            <a:noFill/>
          </a:ln>
        </p:spPr>
      </p:pic>
      <p:pic>
        <p:nvPicPr>
          <p:cNvPr id="1120" name="" descr=""/>
          <p:cNvPicPr/>
          <p:nvPr/>
        </p:nvPicPr>
        <p:blipFill>
          <a:blip r:embed="rId3"/>
          <a:stretch/>
        </p:blipFill>
        <p:spPr>
          <a:xfrm>
            <a:off x="1763640" y="4508640"/>
            <a:ext cx="1324080" cy="1604880"/>
          </a:xfrm>
          <a:prstGeom prst="rect">
            <a:avLst/>
          </a:prstGeom>
          <a:ln w="0">
            <a:noFill/>
          </a:ln>
        </p:spPr>
      </p:pic>
      <p:pic>
        <p:nvPicPr>
          <p:cNvPr id="1121" name="" descr=""/>
          <p:cNvPicPr/>
          <p:nvPr/>
        </p:nvPicPr>
        <p:blipFill>
          <a:blip r:embed="rId4"/>
          <a:stretch/>
        </p:blipFill>
        <p:spPr>
          <a:xfrm>
            <a:off x="7093080" y="404640"/>
            <a:ext cx="1224000" cy="151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46195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b7"/>
                </a:solidFill>
                <a:latin typeface="Arial Black"/>
                <a:cs typeface="Al-Hadith2"/>
              </a:rPr>
              <a:t>خطوة جمع المعلومات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250920" y="2249640"/>
            <a:ext cx="8642160" cy="26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الهدف : تعريف و تحديد أهم العوامل والمؤثرات في ا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AL-Mateen"/>
              </a:rPr>
              <a:t>إن المهمة الأساسية في هذه المرحلة أن تجمع أكبر قدر ممكن من المعلومات الشاملة والمتنوعة والمهمة بالنسبة للمشكلة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2626920" y="378000"/>
            <a:ext cx="2521080" cy="7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008000" cy="571320"/>
          </a:xfrm>
          <a:prstGeom prst="rect">
            <a:avLst/>
          </a:prstGeom>
          <a:ln w="0">
            <a:noFill/>
          </a:ln>
        </p:spPr>
      </p:pic>
      <p:sp>
        <p:nvSpPr>
          <p:cNvPr id="1127" name=""/>
          <p:cNvSpPr/>
          <p:nvPr/>
        </p:nvSpPr>
        <p:spPr>
          <a:xfrm>
            <a:off x="1403280" y="1413000"/>
            <a:ext cx="1225800" cy="1008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PT Bold Heading"/>
              </a:rPr>
              <a:t>تباع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1332000" y="2565360"/>
            <a:ext cx="64054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385200" indent="-385200" algn="r" rtl="1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Verdana"/>
              </a:rPr>
              <a:t>   واستخدم أصدقاءك الستة ( من ـ ماذا ـ متى ـ أين  ـ لماذا ـ كيف ؟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971640" y="3068640"/>
            <a:ext cx="7129440" cy="3726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ff"/>
                </a:solidFill>
                <a:latin typeface="Arial"/>
              </a:rPr>
              <a:t>..............................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236000" y="333360"/>
            <a:ext cx="1368360" cy="71928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Mateen"/>
              </a:rPr>
              <a:t>جمع المعلو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3635280" y="148428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cc99ff"/>
                </a:solidFill>
                <a:latin typeface="Arial"/>
                <a:cs typeface="AL-Hosam"/>
              </a:rPr>
              <a:t>مثل دور المحقق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834920" y="404640"/>
            <a:ext cx="2160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400" spc="-1" strike="noStrike">
                <a:solidFill>
                  <a:srgbClr val="ffff00"/>
                </a:solidFill>
                <a:latin typeface="Verdana"/>
                <a:cs typeface="AL-Mateen Outline"/>
              </a:rPr>
              <a:t>حوار المبدعي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1135" name=""/>
          <p:cNvSpPr/>
          <p:nvPr/>
        </p:nvSpPr>
        <p:spPr>
          <a:xfrm>
            <a:off x="468360" y="2997360"/>
            <a:ext cx="8207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468360" y="1340280"/>
            <a:ext cx="1512720" cy="1009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00"/>
                </a:solidFill>
                <a:latin typeface="Arial"/>
                <a:cs typeface="AL-Hosam"/>
              </a:rPr>
              <a:t>تقارب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050920" y="1413000"/>
            <a:ext cx="6408720" cy="1191240"/>
          </a:xfrm>
          <a:prstGeom prst="rect">
            <a:avLst/>
          </a:prstGeom>
          <a:solidFill>
            <a:srgbClr val="ffcc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أهم المعايير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علومات  تمثل تحدياً حقيقياً بالنسبة لنا .. معلومات  هي جوهر المشكلة  .. مسائل  حرجة ...أي اتجاه هذه المعلومات تأخذ ؟  ...   أي بعد في هذه المعلومات ينبغي دراسته أول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395280" y="2430360"/>
          <a:ext cx="8353440" cy="4089600"/>
        </p:xfrm>
        <a:graphic>
          <a:graphicData uri="http://schemas.openxmlformats.org/drawingml/2006/table">
            <a:tbl>
              <a:tblPr/>
              <a:tblGrid>
                <a:gridCol w="666720"/>
                <a:gridCol w="665280"/>
                <a:gridCol w="766800"/>
                <a:gridCol w="664920"/>
                <a:gridCol w="625680"/>
                <a:gridCol w="644400"/>
                <a:gridCol w="644400"/>
                <a:gridCol w="646200"/>
                <a:gridCol w="644760"/>
                <a:gridCol w="2384280"/>
              </a:tblGrid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قرا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لمجم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كتب المعاي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Times New Roman"/>
                        </a:rPr>
                        <a:t>الخيارات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121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عد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أج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Times New Roman"/>
                          <a:cs typeface="AL-Mohanad Bold"/>
                        </a:rPr>
                        <a:t>استخد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ff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ff"/>
                      </a:solidFill>
                    </a:lnL>
                    <a:lnR w="13680">
                      <a:solidFill>
                        <a:srgbClr val="ffccff"/>
                      </a:solidFill>
                    </a:lnR>
                    <a:lnT w="13680">
                      <a:solidFill>
                        <a:srgbClr val="ffccff"/>
                      </a:solidFill>
                    </a:lnT>
                    <a:lnB w="13680">
                      <a:solidFill>
                        <a:srgbClr val="ffcc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9" name=""/>
          <p:cNvSpPr/>
          <p:nvPr/>
        </p:nvSpPr>
        <p:spPr>
          <a:xfrm>
            <a:off x="755640" y="94464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ccff"/>
                </a:solidFill>
                <a:latin typeface="Arial"/>
              </a:rPr>
              <a:t>تحديد المعلومات ذات الأهمية ( تركز على الهدف ، الارتباط ، الإثارة ، الوضوح ، الفاعلية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41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42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" descr=""/>
          <p:cNvPicPr/>
          <p:nvPr/>
        </p:nvPicPr>
        <p:blipFill>
          <a:blip r:embed="rId1"/>
          <a:stretch/>
        </p:blipFill>
        <p:spPr>
          <a:xfrm>
            <a:off x="0" y="6356520"/>
            <a:ext cx="684360" cy="501480"/>
          </a:xfrm>
          <a:prstGeom prst="rect">
            <a:avLst/>
          </a:prstGeom>
          <a:ln w="0">
            <a:noFill/>
          </a:ln>
        </p:spPr>
      </p:pic>
      <p:sp>
        <p:nvSpPr>
          <p:cNvPr id="1144" name=""/>
          <p:cNvSpPr/>
          <p:nvPr/>
        </p:nvSpPr>
        <p:spPr>
          <a:xfrm>
            <a:off x="673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cc"/>
                </a:solidFill>
                <a:latin typeface="Arial"/>
              </a:rPr>
              <a:t> الخطوة الثالث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673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971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916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حديد وصياغة المشكل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46760" y="4082400"/>
            <a:ext cx="5776200" cy="22860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ختيار الوضع / الفكرة / الحل الأمثل وفق الشروط والمستويات المحددة سلفا.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372360" y="4149720"/>
            <a:ext cx="2492280" cy="1312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والتفكير التقارب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32720" y="1325520"/>
            <a:ext cx="2087280" cy="192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التفكير التباع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324000" y="863640"/>
            <a:ext cx="5976720" cy="25351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  <a:cs typeface="AL-Mateen"/>
              </a:rPr>
              <a:t>وهو القدرة على الإتيان بأكبر عدد ممكن من الفِكَرٍْ  وذلك من خلال القدرة على تفحص المشكلة من زوايا متعددة و مختلفة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>
            <a:hlinkClick r:id="rId3"/>
          </p:cNvPr>
          <p:cNvSpPr/>
          <p:nvPr/>
        </p:nvSpPr>
        <p:spPr>
          <a:xfrm>
            <a:off x="5076720" y="256536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84360" y="285264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هارة العصف الذه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076720" y="5661000"/>
            <a:ext cx="647640" cy="647640"/>
          </a:xfrm>
          <a:custGeom>
            <a:avLst/>
            <a:gdLst>
              <a:gd name="textAreaLeft" fmla="*/ 185760 w 647640"/>
              <a:gd name="textAreaRight" fmla="*/ 554760 w 647640"/>
              <a:gd name="textAreaTop" fmla="*/ 372960 h 647640"/>
              <a:gd name="textAreaBottom" fmla="*/ 5547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84360" y="5873760"/>
            <a:ext cx="431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6600"/>
                </a:solidFill>
                <a:latin typeface="Arial"/>
                <a:cs typeface="AGA Dimnah Regular"/>
              </a:rPr>
              <a:t>وسنستخدم له مصفوفة التقي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69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Mothnna"/>
              </a:rPr>
              <a:t>ما هي المشكلة الحقيقي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403280" y="1600200"/>
            <a:ext cx="734544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((  كان طالب وأستاذه يتنزهان في ألاسكا عندها بدأ دب بمطاردتهما عن بعد . بدأ الاثنان في الركض ، ولكن كان من الواضح أن الدب سيلحق بهما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توقف الطال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أنزل حقيبة الظهر التي كان يحملها وأخرج منها حذاء الجري وبدأ يلبس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قال الأستاذ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حتى بحذاء الجري ، لن تكون أسرع من الدب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990000"/>
                </a:solidFill>
                <a:latin typeface="Arial"/>
              </a:rPr>
              <a:t>أجاب الطال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لست بحاجة لأن أكون أسرع من الدب ، بل يكفيني أن أكون أسرع منك !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476360" y="9936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Hosam"/>
              </a:rPr>
              <a:t>حالة الدب الجائع  ( تعريف المشكلة الحقيقية 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1332000" y="591192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  <a:cs typeface="AL-Mateen"/>
              </a:rPr>
              <a:t>بغض النظر عن أخلاقيات هذا المثال إلا أنه يوضح نقطة أساسية وهي أهمية تعريف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293840" cy="115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طوة تحديد و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الهدف : تعريف المشكلة في جملة محددة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صياغة المشكلة بشكل جيد 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0000"/>
                </a:solidFill>
                <a:latin typeface="Arial"/>
              </a:rPr>
              <a:t>وهناك بعض الخصائص التي تميز صياغة المشكلة وتجعلها أكثر مناسبة لتطوير وإنتاج أفكار وحلول إبداعية ، وهذه الخصائص هي :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0" y="6303960"/>
            <a:ext cx="755640" cy="55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</a:rPr>
              <a:t>خصائص صياغة المشكلة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صياغة المشكلة يجب أن تكون بطريقة إيجابية وبعيداً عن العبارات السلب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المشكلة في صيغة سؤال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محفزة للتفكي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صياغة المشكلة بعيدة عن القيود والشروط وأي محددات أخرى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فتوحة النهاية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00"/>
                </a:solidFill>
                <a:latin typeface="Arial"/>
                <a:cs typeface="Mudir MT"/>
              </a:rPr>
              <a:t>أن تكون مختصرة وموجهة نحو الهدف وسهلة الفهم وتساعد على توليد الأفكار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200" spc="-1" strike="noStrike">
                <a:solidFill>
                  <a:srgbClr val="006633"/>
                </a:solidFill>
                <a:latin typeface="Garamond"/>
                <a:cs typeface="AL-Hor"/>
              </a:rPr>
              <a:t>عناصر صياغة المشكلة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0" name=""/>
          <p:cNvSpPr/>
          <p:nvPr/>
        </p:nvSpPr>
        <p:spPr>
          <a:xfrm>
            <a:off x="5940360" y="1125360"/>
            <a:ext cx="1944720" cy="13737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سؤال مفتوح النها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56400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فعل إجرائي ضميره ج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971640" y="1125360"/>
            <a:ext cx="1944720" cy="1800360"/>
          </a:xfrm>
          <a:prstGeom prst="rect">
            <a:avLst/>
          </a:prstGeom>
          <a:noFill/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  <a:cs typeface="AL-Mateen"/>
              </a:rPr>
              <a:t>هدف أو غاية تسعى إلي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rot="5400000">
            <a:off x="6442920" y="2349000"/>
            <a:ext cx="720720" cy="57600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5400000">
            <a:off x="421200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rot="5400000">
            <a:off x="1474920" y="2348640"/>
            <a:ext cx="720720" cy="576360"/>
          </a:xfrm>
          <a:custGeom>
            <a:avLst/>
            <a:gdLst>
              <a:gd name="textAreaLeft" fmla="*/ 112320 w 720720"/>
              <a:gd name="textAreaRight" fmla="*/ 630720 w 72072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84360" y="3141720"/>
            <a:ext cx="2592360" cy="19234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وارد / مخصصات / أموا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دعم المسئولين / المشاركي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دراء / العاملي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برامج / وسائ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79080" y="3141720"/>
            <a:ext cx="1191240" cy="155700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ضم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وس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ساع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400" spc="-1" strike="noStrike">
                <a:solidFill>
                  <a:srgbClr val="003366"/>
                </a:solidFill>
                <a:latin typeface="Arial"/>
              </a:rPr>
              <a:t>نزي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11280" y="4941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بأي الطرق يمكن أن </a:t>
            </a:r>
            <a:r>
              <a:rPr b="1" lang="hi-IN" sz="2000" spc="-1" strike="noStrike">
                <a:solidFill>
                  <a:srgbClr val="003366"/>
                </a:solidFill>
                <a:latin typeface="Arial"/>
              </a:rPr>
              <a:t>نحص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( فعل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على </a:t>
            </a:r>
            <a:r>
              <a:rPr b="1" lang="hi-IN" sz="2000" spc="-1" strike="noStrike">
                <a:solidFill>
                  <a:srgbClr val="008000"/>
                </a:solidFill>
                <a:latin typeface="Arial"/>
              </a:rPr>
              <a:t>المصادر والإمكانيا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(هدف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000" spc="-1" strike="noStrike">
                <a:solidFill>
                  <a:srgbClr val="990000"/>
                </a:solidFill>
                <a:latin typeface="Arial"/>
              </a:rPr>
              <a:t>المطلوبة للبرنامج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6588000" y="5734080"/>
            <a:ext cx="792360" cy="719280"/>
          </a:xfrm>
          <a:prstGeom prst="flowChartExtra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99"/>
                </a:solidFill>
                <a:latin typeface="Arial"/>
                <a:ea typeface="AL-Mateen"/>
              </a:rPr>
              <a:t> 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684360" y="5661000"/>
            <a:ext cx="561636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قم بإيجاد عدة صياغات ل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3366"/>
                </a:solidFill>
                <a:latin typeface="Arial"/>
                <a:cs typeface="AL-Mateen"/>
              </a:rPr>
              <a:t>عبر عن المشكلة بطرق مختلف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79280" y="5445000"/>
            <a:ext cx="878544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437080" y="3141720"/>
            <a:ext cx="2880000" cy="1937880"/>
          </a:xfrm>
          <a:prstGeom prst="rect">
            <a:avLst/>
          </a:prstGeom>
          <a:noFill/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بأي الطرق يمكن لنا .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يمكننا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</a:rPr>
              <a:t>كيف ...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1" dur="2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7" dur="2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2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2" dur="2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2" dur="2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7" dur="2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التفكير التقاربي </a:t>
            </a:r>
            <a:br>
              <a:rPr sz="3800"/>
            </a:br>
            <a:r>
              <a:rPr b="1" lang="hi-IN" sz="3800" spc="-1" strike="noStrike">
                <a:solidFill>
                  <a:srgbClr val="006633"/>
                </a:solidFill>
                <a:latin typeface="Garamond"/>
                <a:cs typeface="AL-Hor"/>
              </a:rPr>
              <a:t>في خطوة تحديد وصياغة المشكلة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lnSpc>
                <a:spcPct val="9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800" spc="-1" strike="noStrike">
                <a:solidFill>
                  <a:srgbClr val="000000"/>
                </a:solidFill>
                <a:latin typeface="Arial"/>
                <a:cs typeface="AL-Mateen"/>
              </a:rPr>
              <a:t>إن من أهم القرارات التي ستقوم بها في استراتيجية حل المشكلات بطرق إبداعية أن تقوم بتحديد صياغة المشكلة التي تريد تركيز جهدك عليها ..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  <a:ea typeface="Diwani Outline Shaded"/>
              </a:rPr>
              <a:t> </a:t>
            </a:r>
            <a:r>
              <a:rPr b="1" lang="hi-IN" sz="4200" spc="-1" strike="noStrike">
                <a:solidFill>
                  <a:srgbClr val="cc6600"/>
                </a:solidFill>
                <a:latin typeface="Arial"/>
                <a:cs typeface="DecoType Naskh Special"/>
              </a:rPr>
              <a:t>ويمكنك ذلك إذا حاولت الإجابة على التساؤلات التالية 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 rot="10800000">
            <a:off x="6082920" y="33300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613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صياغات مناسبة وأفضل لإثارة التفكير التباعدي والحلول التي نريد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مشكلات تبدو أكثر أهمية من غير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الأسئلة التي يمكن البدء فيها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أي من الصياغات يمكن أن تكون مشتركة في  مشكلة واحد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مفتوحة النهاية لضمان قدرته على إثارة أفكار الآخرين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غير محدودة بشروط أو معايير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Arial"/>
                <a:cs typeface="AL-Mateen"/>
              </a:rPr>
              <a:t>هل هذه الصياغة تعكس  القضية الرئيسة في المشكلة 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0800000">
            <a:off x="539280" y="404280"/>
            <a:ext cx="576360" cy="576360"/>
          </a:xfrm>
          <a:prstGeom prst="flowChartExtra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0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cc"/>
                </a:solidFill>
                <a:latin typeface="Tahoma"/>
              </a:rPr>
              <a:t>المرحلة الثانية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4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ahoma"/>
              </a:rPr>
              <a:t>مرحلة إيجاد الأفكار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755640" y="692280"/>
            <a:ext cx="7561440" cy="482436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5400000">
            <a:off x="2774160" y="1396080"/>
            <a:ext cx="3524040" cy="3240000"/>
          </a:xfrm>
          <a:prstGeom prst="hexagon">
            <a:avLst>
              <a:gd name="adj" fmla="val 18953"/>
              <a:gd name="vf" fmla="val 1154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  <a:cs typeface="AL-Mateen"/>
              </a:rPr>
              <a:t>إيجاد الحلول والأفكا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796000" y="47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ccff"/>
                </a:solidFill>
                <a:latin typeface="Arial"/>
              </a:rPr>
              <a:t>الخطوة الرابع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7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ffffff"/>
                </a:solidFill>
                <a:latin typeface="Arial"/>
                <a:ea typeface="AL-Hor"/>
              </a:rPr>
              <a:t> إيجاد الأفكار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147160" cy="38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الهدف : إيجاد العديد من الأفكار والحلول المختلفة والمتنوعة وغير العادية للمشكلة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11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إن كفاحك سينصب </a:t>
            </a: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على السؤال الذي اخترته ليكون مشكلتك التي ستقوم بحلها إبداعياً 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 rot="9016800">
            <a:off x="5292000" y="836280"/>
            <a:ext cx="560520" cy="503280"/>
          </a:xfrm>
          <a:prstGeom prst="hexagon">
            <a:avLst>
              <a:gd name="adj" fmla="val 27843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619280" y="691920"/>
            <a:ext cx="540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990000"/>
                </a:solidFill>
                <a:latin typeface="Arial"/>
                <a:cs typeface="AL-Mateen Outline"/>
              </a:rPr>
              <a:t>تطبيق عمل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371600" y="2923920"/>
            <a:ext cx="640080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الشهيد محمد الدره"/>
              </a:rPr>
              <a:t>  بأي الطرق يمكننا التقليل من مشكلة تلويث المدخنين للبيئات العامة ؟</a:t>
            </a:r>
            <a:endParaRPr b="0" lang="en-US" sz="3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 rot="9016800">
            <a:off x="4427280" y="549000"/>
            <a:ext cx="1008000" cy="925560"/>
          </a:xfrm>
          <a:prstGeom prst="hexagon">
            <a:avLst>
              <a:gd name="adj" fmla="val 27227"/>
              <a:gd name="vf" fmla="val 11547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64000" y="1052640"/>
            <a:ext cx="1008360" cy="7207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3419280" y="1052640"/>
            <a:ext cx="1081080" cy="7920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084720" y="457200"/>
            <a:ext cx="26020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100" spc="-1" strike="noStrike">
                <a:solidFill>
                  <a:srgbClr val="ccff99"/>
                </a:solidFill>
                <a:latin typeface="Arial"/>
                <a:cs typeface="AL-Mateen"/>
              </a:rPr>
              <a:t>إيجاد الأفكار 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971640" y="2122560"/>
            <a:ext cx="355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تقارب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00"/>
                </a:solidFill>
                <a:latin typeface="Arial"/>
                <a:cs typeface="AL-Mateen"/>
              </a:rPr>
              <a:t>أسئل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أكثر تآمراً على المشكلة ومفاجئاً لها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الواعدة لحل المشكل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هذه الحلول يمكن أن تحسن وتطور طرقاً تساعد على التقدم نحو الحل وتطوير خطة إجرائية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أفضل حقاً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 algn="r" rtl="1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ff"/>
                </a:solidFill>
                <a:latin typeface="Arial"/>
              </a:rPr>
              <a:t>أي الأفكار والحلول فاجأني واستحوذ تفكيري 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29236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Arial"/>
                <a:ea typeface="AL-Mateen"/>
              </a:rPr>
              <a:t>              تباعد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استخدم أي وسائل إبداعية تساعد في إيجاد الأفكار والحل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لاستثارة التفكير التباعدي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العصف الذهني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Arial"/>
              </a:rPr>
              <a:t>طريقة العلاقات والروابط القسري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164360" y="1916280"/>
            <a:ext cx="64944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0800000">
            <a:off x="3993840" y="2204640"/>
            <a:ext cx="649080" cy="360360"/>
          </a:xfrm>
          <a:prstGeom prst="triangle">
            <a:avLst>
              <a:gd name="adj" fmla="val 50000"/>
            </a:avLst>
          </a:prstGeom>
          <a:solidFill>
            <a:srgbClr val="ff99ff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538200" y="5616720"/>
            <a:ext cx="244944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123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ff00"/>
                </a:solidFill>
                <a:latin typeface="Times New Roman"/>
              </a:rPr>
              <a:t>Scamper</a:t>
            </a:r>
            <a:endParaRPr b="1" lang="en-US" sz="5400" spc="1" strike="noStrike">
              <a:ln w="0">
                <a:noFill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03640" y="1989000"/>
            <a:ext cx="0" cy="396108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8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00"/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1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3" dur="500"/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500"/>
                                        <p:tgtEl>
                                          <p:spTgt spid="1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1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8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8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1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1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1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1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0" dur="500"/>
                                        <p:tgtEl>
                                          <p:spTgt spid="1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5" dur="500"/>
                                        <p:tgtEl>
                                          <p:spTgt spid="1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0" dur="500"/>
                                        <p:tgtEl>
                                          <p:spTgt spid="1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( أداة سـكامبــر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5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3500"/>
            </a:b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00"/>
                </a:solidFill>
                <a:latin typeface="Arial"/>
              </a:rPr>
              <a:t>Scamper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06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بدل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ubstitu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 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ادمج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Combin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كيِّف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Adapt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عدِّل أو كبر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odify or Mag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ضعه في استخدامات أخرى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ut to other uses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حذف أو صغر      (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Eliminate or Minify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 algn="r" rtl="1">
              <a:spcBef>
                <a:spcPts val="601"/>
              </a:spcBef>
              <a:buClr>
                <a:srgbClr val="ff99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اعكس أو أعد الرتيب   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Reverse or Rearrange</a:t>
            </a:r>
            <a:r>
              <a:rPr b="1" lang="ar-SA" sz="2400" spc="-1" strike="noStrike">
                <a:solidFill>
                  <a:srgbClr val="ff9900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292720" y="6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00"/>
                </a:solidFill>
                <a:latin typeface="Arial"/>
                <a:cs typeface="AL-Mateen Outline"/>
              </a:rPr>
              <a:t>حوار التطوير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 flipH="1">
            <a:off x="4714560" y="765000"/>
            <a:ext cx="649080" cy="44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07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0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9600" spc="-1" strike="noStrike">
                <a:solidFill>
                  <a:srgbClr val="ffffcc"/>
                </a:solidFill>
                <a:latin typeface="Tahoma"/>
              </a:rPr>
              <a:t>المرحلة الثالثة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10920" y="378900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ahoma"/>
                <a:cs typeface="AL-Hosam"/>
              </a:rPr>
              <a:t>التحضير لتطبيق الحل</a:t>
            </a:r>
            <a:r>
              <a:rPr b="1" lang="en-US" sz="8000" spc="-1" strike="noStrike">
                <a:solidFill>
                  <a:srgbClr val="ffffff"/>
                </a:solidFill>
                <a:latin typeface="Tahoma"/>
                <a:ea typeface="AL-Hosam"/>
              </a:rPr>
              <a:t>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298728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dvertisingExtraBold"/>
              </a:rPr>
              <a:t>هذه المرح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417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مرحلة جوهرية في نقل الأفكار والحلول النظرية إلى حلول إجرائية وعملية ، وترجمتها إلى واقع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  <a:ea typeface="AL-Mateen"/>
              </a:rPr>
              <a:t>                                    و تتضمن خطوتين  هما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1619280" y="2997360"/>
            <a:ext cx="5113440" cy="18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AL-Mateen"/>
              </a:rPr>
              <a:t> خطوة تطوير الح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r" rtl="1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99"/>
                </a:solidFill>
                <a:latin typeface="Arial"/>
                <a:cs typeface="AL-Mateen"/>
              </a:rPr>
              <a:t>وخطوة بناء قبول حل المشكل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تطوير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067280" y="620640"/>
            <a:ext cx="416232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660033"/>
                </a:solidFill>
                <a:latin typeface="Arial"/>
              </a:rPr>
              <a:t>الخطوة الخامس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634920" y="406080"/>
            <a:ext cx="4475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800080"/>
                </a:solidFill>
                <a:latin typeface="Arial"/>
                <a:cs typeface="AL-Hosam"/>
              </a:rPr>
              <a:t>خطوة تطوير 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96633"/>
                </a:solidFill>
                <a:latin typeface="Arial"/>
                <a:cs typeface="AL-Mateen"/>
              </a:rPr>
              <a:t>هدفها 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cc3300"/>
                </a:solidFill>
                <a:latin typeface="Arial"/>
                <a:cs typeface="AL-Mohanad Bold"/>
              </a:rPr>
              <a:t>تطوير وتحسين الأفكار والحلول الواعدة التي تم اختيارها في الخطوة السابقة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  <a:ea typeface="AL-Mateen"/>
              </a:rPr>
              <a:t> الحل هو : خيار أو فكرة أو عدة خيارات أو أفكار هي التي تحل المشكلة موضع الدراس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6600"/>
                </a:solidFill>
                <a:latin typeface="Arial"/>
                <a:cs typeface="AL-Mateen"/>
              </a:rPr>
              <a:t>الحل هو الذي يجيب على الاستفهام المطروح ، وهو الذي سيقابل التحدي القائ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387800" y="541080"/>
            <a:ext cx="60192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6600"/>
                </a:solidFill>
                <a:latin typeface="Arial"/>
                <a:cs typeface="AL-Mateen"/>
              </a:rPr>
              <a:t>أعمال هذه الخطوة تبدأ بــالمراجعات التالية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6696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نظيم الاحتمالات والأفكار المختلفة :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تحديد ودمج وتجميع الحلول الواعدة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تحليل وتلخيص ، تحسين وتطوير الاحتمالات 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( من خلال دراسة الإيجابيات والسلبيات المختلفة لكل حل )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الاختيار من بين الحلو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  <a:ea typeface="AL-Mohanad Bold"/>
              </a:rPr>
              <a:t>  ( تقييم الحلول المختلفة بعناية ، وربما تحتاج إلى وضع معايير ثم يكون الاختيار من بين الخيارات والاحتمالات المطروحة 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لتفكير التقارب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hi-IN" sz="1800" spc="-1" strike="noStrike">
                <a:solidFill>
                  <a:srgbClr val="3333cc"/>
                </a:solidFill>
                <a:latin typeface="Arial"/>
              </a:rPr>
              <a:t>الهدف : استخدام بعض الوسائل التي تساعد في تطوير الحلول الممكنة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L-Mateen"/>
              </a:rPr>
              <a:t>وهناك طريقتين للتركيز على الأفكار والحلول في خطوة تطوير الحل وهما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ابتداء التعامل مع أكثر الخيارات دلالة وفاعلية :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  <a:ea typeface="AL-Mateen"/>
              </a:rPr>
              <a:t>( ادرس الإيجابيات والسلبيات وطرق تخطي السلبيات ومدى براعة وإبداع الحل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r" rtl="1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00"/>
                </a:solidFill>
                <a:latin typeface="Arial"/>
                <a:cs typeface="AL-Mateen"/>
              </a:rPr>
              <a:t>ترتيب أوليات الحلول من خلال مصفوفة المعايير والحلول الواعد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642920" y="1125000"/>
            <a:ext cx="4032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L-Mateen"/>
              </a:rPr>
              <a:t>  التفكير التباعد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L-Mateen"/>
              </a:rPr>
              <a:t>  كتابة أكبر عدد ممكن من معايير اختيار الحل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hi-IN" sz="2000" spc="-1" strike="noStrike">
                <a:solidFill>
                  <a:srgbClr val="ff3300"/>
                </a:solidFill>
                <a:latin typeface="Arial"/>
                <a:cs typeface="AGA Nada Regular"/>
              </a:rPr>
              <a:t>المعايير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تسهم في تطوير الحل بطريقة موضوعي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كلما كانت أكثر كلما كان اختيار الحلول أفضل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ربما تحتاج أنت إلى ترتيب ، ووضع أوزان نسبية لتلك المعايي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ربما تحتاج إلى معرفة معايير المستفيد من حل المشكلة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 rtl="1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Arial"/>
              </a:rPr>
              <a:t>ومن المعايير : ( الكُلْفَة ، القبول ، الإمكانيات ، الوقت ، المكان ... الخ 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84720" y="404640"/>
            <a:ext cx="719280" cy="5050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 rot="10800000">
            <a:off x="2627280" y="549000"/>
            <a:ext cx="71928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4643280" y="620640"/>
            <a:ext cx="0" cy="540072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1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4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1228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 txBox="1"/>
          <p:nvPr/>
        </p:nvSpPr>
        <p:spPr>
          <a:xfrm>
            <a:off x="4788000" y="692280"/>
            <a:ext cx="3429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2340000" y="2349360"/>
            <a:ext cx="3139920" cy="19177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 txBox="1"/>
          <p:nvPr/>
        </p:nvSpPr>
        <p:spPr>
          <a:xfrm>
            <a:off x="971640" y="4292640"/>
            <a:ext cx="46800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558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ccc"/>
                </a:solidFill>
                <a:latin typeface="Arial"/>
                <a:cs typeface="AL-Mateen"/>
              </a:rPr>
              <a:t>الخطوة السادس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55640" y="907920"/>
            <a:ext cx="7273800" cy="4608720"/>
          </a:xfrm>
          <a:prstGeom prst="diamond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700360" y="2133720"/>
            <a:ext cx="3600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Arial"/>
                <a:cs typeface="AL-Mateen"/>
              </a:rPr>
              <a:t>بناء قبول الح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4" name="" descr=""/>
          <p:cNvPicPr/>
          <p:nvPr/>
        </p:nvPicPr>
        <p:blipFill>
          <a:blip r:embed="rId2"/>
          <a:stretch/>
        </p:blipFill>
        <p:spPr>
          <a:xfrm>
            <a:off x="0" y="6251400"/>
            <a:ext cx="826920" cy="606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8000"/>
                </a:solidFill>
                <a:latin typeface="Arial"/>
                <a:ea typeface="AL-Hor"/>
              </a:rPr>
              <a:t>  في هذه الخطوة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705636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قم بدراسة هذا الحل وطريقة تطبيقه وجعل الآخرين يتعاملون معه بإيجاب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cs typeface="AL-Mateen"/>
              </a:rPr>
              <a:t>وجه جهدك نحو تقصي مصادر الدعم والمساندة للحل ، ومصادر الرفض وعدم القبو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ثم ستتمكن من بناء قرار صائب حول خطتك في تطبيق الحل وتقويمه على المدى القريب والبعيد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84360" y="105264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0000"/>
                </a:solidFill>
                <a:latin typeface="Arial"/>
                <a:cs typeface="AL-Hor"/>
              </a:rPr>
              <a:t>انظر إلى مدى قبول هذا الحل من قبل الآخرين ، ومكانته في نظرهم 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8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9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80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8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800" fill="hold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8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800" fill="hold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3960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 ــ وجه هذا التساؤل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99"/>
                </a:solidFill>
                <a:latin typeface="Arial"/>
                <a:ea typeface="AL-Mateen"/>
              </a:rPr>
              <a:t> ـ أي هذه المصادر أكثر أهمية للتعامل معه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0000"/>
                </a:solidFill>
                <a:latin typeface="Arial"/>
                <a:ea typeface="AL-Mateen"/>
              </a:rPr>
              <a:t>  ــ بهذه العملية سيتضمن اختيارك تحديد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أهم الداعمين ( وكيف ستستخدمهم على نحو فعال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Arial"/>
                <a:cs typeface="AL-Mateen"/>
              </a:rPr>
              <a:t>وأهم المعارضين وأكثرهم خطراً على الحل ( ودراسة أفضل الطرق التي تمكنك من منعهم أو التصدي لهم 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41440" indent="-234720" algn="r" rtl="1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  <a:cs typeface="AL-Mateen"/>
              </a:rPr>
              <a:t>أسئلة مساعدة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ن المشاركون المهمون في التطبيق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إشراك الداعمين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كيف سيتم التعامل مع مصادر الرفض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الخطوات الإجرائي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هي أهم الإمكانيات والمصادر المطلوب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160" indent="-301680" algn="r" rtl="1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99"/>
                </a:solidFill>
                <a:latin typeface="Arial"/>
                <a:cs typeface="AL-Mateen"/>
              </a:rPr>
              <a:t>ما خطة التقييم ؟ متى وأين يجب تطبيق هذه الخط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211640" y="1267920"/>
            <a:ext cx="4681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1212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3300"/>
                </a:solidFill>
                <a:latin typeface="Arial"/>
                <a:cs typeface="AL-Mateen"/>
              </a:rPr>
              <a:t>الهدف : التعرف على مصادر الدعم والرفض للحلول التي توصلت إليها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L-Mateen"/>
              </a:rPr>
              <a:t>وذلك من خلال الإجابة على التساؤل التال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أشخاص الداعمون ل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الإمكانيات والمصادر المطلوبة التي تساعد في 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الوقت المناسب لتطبيق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المكان المناسب لتطبيق خطة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ea typeface="AL-Mateen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L-Mateen"/>
              </a:rPr>
              <a:t> </a:t>
            </a: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تريد تطبيق هذا الحل دون غيره ( المبررات والمسوغات )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Arial"/>
                <a:ea typeface="AL-Mateen"/>
              </a:rPr>
              <a:t>* استخدم هذه الأسئلة للتعرف على مصادر عدم القبول والرفض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ن المعارضون والناقدون المحتمل ظهورهم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ا هي المصادر والإمكانيات المهمة والتي لم يتم دراستها أو التعرض إليها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متى أسوأ وقت يمكن أن يطبق فيه الحل 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أين أسوأ مكان لتطبيق هذا الحل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5920" indent="-281160" algn="r" rtl="1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Arial"/>
                <a:cs typeface="AL-Mateen"/>
              </a:rPr>
              <a:t>لماذا هذا الحل لا يرغبه الناس ( مبررات عدم القبول )  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7596360" y="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rot="10800000">
            <a:off x="2195280" y="188640"/>
            <a:ext cx="718920" cy="50472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 flipH="1">
            <a:off x="4211640" y="404640"/>
            <a:ext cx="71280" cy="5904000"/>
          </a:xfrm>
          <a:prstGeom prst="line">
            <a:avLst/>
          </a:prstGeom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99112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باعد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12640" y="281160"/>
            <a:ext cx="2041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  <a:cs typeface="AL-Hosam"/>
              </a:rPr>
              <a:t>التفكير التقارب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L-Hosa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5508720" y="620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1042920" y="76500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Mateen"/>
              </a:rPr>
              <a:t>صمم خ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3" dur="8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4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8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8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8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3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8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800" fill="hold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8" dur="8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8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9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8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8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8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800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800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8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800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800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2" dur="800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3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800" fill="hold"/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0" dur="800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800" fill="hold"/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800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800" fill="hold"/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8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8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800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800" fill="hold"/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3" dur="800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800" fill="hold"/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800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800" fill="hold"/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800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800" fill="hold"/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800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800" fill="hold"/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800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800" fill="hold"/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800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800" fill="hold"/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800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800" fill="hold"/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800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9" dur="800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0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800" fill="hold"/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7" dur="800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800" fill="hold"/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800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800" fill="hold"/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0000"/>
                </a:solidFill>
                <a:latin typeface="Arial"/>
                <a:cs typeface="AL-Hosam"/>
              </a:rPr>
              <a:t>توجيهات العمل في حل المشكل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92200" y="1600200"/>
            <a:ext cx="77248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عمل على مراحل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AL-Mateen"/>
              </a:rPr>
              <a:t>cps</a:t>
            </a:r>
            <a:r>
              <a:rPr b="0" lang="ar-SA" sz="3200" spc="-1" strike="noStrike">
                <a:solidFill>
                  <a:srgbClr val="000099"/>
                </a:solidFill>
                <a:latin typeface="Arial"/>
                <a:ea typeface="AL-Mateen"/>
              </a:rPr>
              <a:t> وافتح أفق التفكير فلا تكن النماذج حصراً لذهنك من التفكير خارجها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استخدم البطاقات كلما احتجت إلى تنظيم وتنويع في التفكي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99"/>
                </a:solidFill>
                <a:latin typeface="Arial"/>
                <a:cs typeface="AL-Mateen"/>
              </a:rPr>
              <a:t>كن مرناً في استخدام مهارات التفكير الأخرى داخل هذا البرنامج . ( أضف واحذف منها بحسب الحاجة ) . أ.ه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 txBox="1"/>
          <p:nvPr/>
        </p:nvSpPr>
        <p:spPr>
          <a:xfrm>
            <a:off x="5508720" y="765000"/>
            <a:ext cx="2232000" cy="10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شكرا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1250" name="" descr=""/>
          <p:cNvPicPr/>
          <p:nvPr/>
        </p:nvPicPr>
        <p:blipFill>
          <a:blip r:embed="rId4"/>
          <a:stretch/>
        </p:blipFill>
        <p:spPr>
          <a:xfrm>
            <a:off x="3995640" y="981000"/>
            <a:ext cx="1150920" cy="703440"/>
          </a:xfrm>
          <a:prstGeom prst="rect">
            <a:avLst/>
          </a:prstGeom>
          <a:ln w="0">
            <a:noFill/>
          </a:ln>
        </p:spPr>
      </p:pic>
      <p:sp>
        <p:nvSpPr>
          <p:cNvPr id="1251" name=""/>
          <p:cNvSpPr txBox="1"/>
          <p:nvPr/>
        </p:nvSpPr>
        <p:spPr>
          <a:xfrm>
            <a:off x="684360" y="620640"/>
            <a:ext cx="3095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989898"/>
                  </a:outerShdw>
                </a:effectLst>
                <a:latin typeface="PT Bold Heading"/>
              </a:rPr>
              <a:t>يا مبدعون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989898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3348000" y="2349360"/>
            <a:ext cx="2376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Diwani Simple Outline 2"/>
              </a:rPr>
              <a:t>هذا صاحبكم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Diwani Simple Outline 2"/>
              <a:ea typeface="Diwani Simple Outline 2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1908000" y="3213000"/>
            <a:ext cx="532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KR HEAD2"/>
              </a:rPr>
              <a:t>نبيل بن محمد البدير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KR HEAD2"/>
              <a:ea typeface="SKR HEAD2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132000" y="4508640"/>
            <a:ext cx="241956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DecoType Naskh Swashes"/>
              </a:rPr>
              <a:t>يقدم لكم أفضل تحية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DecoType Naskh Swashes"/>
              <a:ea typeface="DecoType Naskh Swashes"/>
            </a:endParaRPr>
          </a:p>
        </p:txBody>
      </p:sp>
    </p:spTree>
  </p:cSld>
  <p:transition>
    <p:fade/>
  </p:transition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0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Mateen"/>
              </a:rPr>
              <a:t>المشغل التدريبي الثاني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1484280" y="3212640"/>
            <a:ext cx="6400800" cy="2087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 ست مقدمات 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  <a:p>
            <a:pPr algn="ctr" rtl="1">
              <a:spcBef>
                <a:spcPts val="1349"/>
              </a:spcBef>
              <a:buClr>
                <a:srgbClr val="0066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6600"/>
                </a:solidFill>
                <a:latin typeface="Arial"/>
                <a:ea typeface="MCS Hijon E_U normal."/>
              </a:rPr>
              <a:t>  مراحل  </a:t>
            </a:r>
            <a:r>
              <a:rPr b="0" lang="en-US" sz="5400" spc="-1" strike="noStrike">
                <a:solidFill>
                  <a:srgbClr val="006600"/>
                </a:solidFill>
                <a:latin typeface="PageClips"/>
                <a:ea typeface="MCS Hijon E_U normal."/>
              </a:rPr>
              <a:t>cps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 txBox="1"/>
          <p:nvPr/>
        </p:nvSpPr>
        <p:spPr>
          <a:xfrm>
            <a:off x="0" y="1341360"/>
            <a:ext cx="658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مقدمات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68360" y="4584600"/>
            <a:ext cx="3240000" cy="194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cp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1700" spc="-1" strike="noStrike">
                <a:solidFill>
                  <a:srgbClr val="990033"/>
                </a:solidFill>
                <a:latin typeface="Arial"/>
              </a:rPr>
              <a:t>هناك مشكلة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16428600">
            <a:off x="1124280" y="1365840"/>
            <a:ext cx="4389480" cy="3580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006600"/>
                </a:solidFill>
                <a:latin typeface="Arial"/>
              </a:rPr>
              <a:t>لا يوجد ح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04000" y="26028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076720" y="2924280"/>
            <a:ext cx="338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993366"/>
                </a:solidFill>
                <a:latin typeface="Arial"/>
              </a:rPr>
              <a:t>ما هذه الكارث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68360" y="6206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ff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5867280" y="260280"/>
            <a:ext cx="288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-1" strike="noStrike">
                <a:solidFill>
                  <a:srgbClr val="993366"/>
                </a:solidFill>
                <a:latin typeface="Arial"/>
              </a:rPr>
              <a:t>هناك حل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3835800">
            <a:off x="3655440" y="71424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6600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95280" y="333360"/>
            <a:ext cx="194472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ستحي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ح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غير ممك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شكلة ما  لها ح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الأمور مستحيل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66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9080" y="530064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 مشاكل مشكلات تعقدت لن تحل مستحيل أين الحل مستحيل لا يمكن لا ح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1884240"/>
            <a:ext cx="38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مستحيل أن تح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rot="5019000">
            <a:off x="-396720" y="2349360"/>
            <a:ext cx="23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763640" y="5780160"/>
            <a:ext cx="64008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993366"/>
                </a:solidFill>
                <a:latin typeface="Arial"/>
              </a:rPr>
              <a:t>هناك مشكل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019240" y="1634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663300"/>
                </a:solidFill>
                <a:latin typeface="Arial"/>
              </a:rPr>
              <a:t>هناك مشكل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020000" y="946080"/>
            <a:ext cx="172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3366"/>
                </a:solidFill>
                <a:latin typeface="Arial"/>
              </a:rPr>
              <a:t>حل مشكلة   حل   مشكلة  حل   لا يوجد حل  لا يوجد مشك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" descr=""/>
          <p:cNvPicPr/>
          <p:nvPr/>
        </p:nvPicPr>
        <p:blipFill>
          <a:blip r:embed="rId2"/>
          <a:stretch/>
        </p:blipFill>
        <p:spPr>
          <a:xfrm>
            <a:off x="0" y="6462720"/>
            <a:ext cx="539640" cy="39528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2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Times New Roman"/>
              </a:rPr>
              <a:t>No </a:t>
            </a:r>
            <a:r>
              <a:rPr b="1" lang="en-US" sz="8800" spc="-1" strike="noStrike">
                <a:solidFill>
                  <a:srgbClr val="990033"/>
                </a:solidFill>
                <a:latin typeface="MS Mincho"/>
                <a:ea typeface="Angsana New"/>
              </a:rPr>
              <a:t>Proble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79280" y="115920"/>
            <a:ext cx="1800360" cy="35838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e48800"/>
                </a:solidFill>
                <a:latin typeface="Arial"/>
              </a:rPr>
              <a:t>1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1619280" y="1341360"/>
            <a:ext cx="6913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abic Transparent"/>
              </a:rPr>
              <a:t>مواجهة الناس للمشكلة ؟!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abic Transparent"/>
              <a:ea typeface="Arabic Transparent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5:22:37Z</dcterms:created>
  <dc:creator>النفيسة للحاسب</dc:creator>
  <dc:description/>
  <dc:language>en-US</dc:language>
  <cp:lastModifiedBy>النفيسة للحاسب</cp:lastModifiedBy>
  <dcterms:modified xsi:type="dcterms:W3CDTF">2005-06-19T05:08:20Z</dcterms:modified>
  <cp:revision>20</cp:revision>
  <dc:subject/>
  <dc:title>الشريحة 1</dc:title>
</cp:coreProperties>
</file>