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voltage.wav" ContentType="audio/x-wav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0.wmf" ContentType="image/x-wmf"/>
  <Override PartName="/ppt/media/image35.wmf" ContentType="image/x-wmf"/>
  <Override PartName="/ppt/media/image42.png" ContentType="image/png"/>
  <Override PartName="/ppt/media/image34.wmf" ContentType="image/x-wmf"/>
  <Override PartName="/ppt/media/image51.png" ContentType="image/png"/>
  <Override PartName="/ppt/media/image43.gif" ContentType="image/gif"/>
  <Override PartName="/ppt/media/image46.png" ContentType="image/png"/>
  <Override PartName="/ppt/media/image52.jpeg" ContentType="image/jpeg"/>
  <Override PartName="/ppt/media/image33.wmf" ContentType="image/x-wmf"/>
  <Override PartName="/ppt/media/image12.jpeg" ContentType="image/jpeg"/>
  <Override PartName="/ppt/media/image47.gif" ContentType="image/gif"/>
  <Override PartName="/ppt/media/image53.jpeg" ContentType="image/jpeg"/>
  <Override PartName="/ppt/media/image32.jpeg" ContentType="image/jpeg"/>
  <Override PartName="/ppt/media/image48.gif" ContentType="image/gif"/>
  <Override PartName="/ppt/media/image29.wmf" ContentType="image/x-wmf"/>
  <Override PartName="/ppt/media/image3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7.wmf" ContentType="image/x-wmf"/>
  <Override PartName="/ppt/media/image28.png" ContentType="image/png"/>
  <Override PartName="/ppt/media/image38.jpeg" ContentType="image/jpeg"/>
  <Override PartName="/ppt/media/image11.jpeg" ContentType="image/jpeg"/>
  <Override PartName="/ppt/media/image8.png" ContentType="image/png"/>
  <Override PartName="/ppt/media/image45.gif" ContentType="image/gif"/>
  <Override PartName="/ppt/media/image39.jpeg" ContentType="image/jpeg"/>
  <Override PartName="/ppt/media/image41.wmf" ContentType="image/x-wmf"/>
  <Override PartName="/ppt/media/image7.wmf" ContentType="image/x-wmf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8CF-3CA1-484C-B7CA-983AB1EC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9CC-A3A2-4853-BF92-A6004ACE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79404-5380-48EC-9AA2-8F223CAF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9B915-0BFE-4DC0-B4A8-5F4F8B2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5174-601D-471E-B586-4CA26D08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D6249-F6C8-42C1-815D-A9CD1AE3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BE970-186D-4979-9D62-08D5F14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53B3A-2279-4BD1-BF9B-952E7BFB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A2CA3-48F8-4BA0-BB5F-768D4515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7EB07-16BC-4846-B86A-40B6D0D6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CA0D2-F16D-41EA-9C67-C015DB7F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5AF80-606C-4106-985C-C57B16AE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F339-F489-4756-82AC-E2F568A0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40670-1091-4D73-AC8F-270956B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8677B-47EB-48D9-AA3C-0CCC09DE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DBB3C-70D0-409C-86FB-CC7BD92A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5C819-6CC4-4ACD-9334-5862515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1B6BD-CCF9-4A3D-9DA1-053D5E8C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366DE-C87E-4489-8285-9220B6F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9B0AF-7699-4DB9-B189-DCC1E604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9B391-4C0C-471C-A4A4-9E6C011E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6003B-C197-48BD-B166-A1BC93F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E31B1-B6A6-4A49-9ECA-CA6846B2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D2F-0159-4A13-A255-049578B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B15E8-32F2-40F8-933D-A6E7856E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F67ED-4D38-4FE2-8F73-B4BF760D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B2CC-C3DC-48CE-8D69-D7061796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E3C38-2E3D-415F-BAE3-9276C1A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8A5A1-53DE-4FDF-B90E-739AFEC6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CD0A7-9F11-4BFB-92A1-4F01B02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6A092-6F9F-4495-AF6A-30A891BC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80A43-B1AD-459D-BAC5-0BB29A5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8BF15-857D-4335-9023-9A17594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0D5C-F29A-455E-98C9-CF22E0AF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A041-131B-4F7F-B0C5-C9D92A3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BF6E9-8586-4E95-9596-C03F0703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8B6D1-EB44-43AC-8FF8-89A1E631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16231-65C0-4999-9C0D-D1F8281B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E2C736-0680-49E1-9A36-0D232711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EEEB78-F368-41BE-B79F-FC7BDA6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62D935-FD24-4AAB-96FA-F1E2571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DF675F-7B8B-4BF7-BFA5-482661C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0AE6F6-1458-4C6C-8834-01970CE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555D93-55F4-4EC8-99EA-2B37E12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652870-5E50-4644-897D-303B6D7B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B10-AB52-4221-9244-BF5A90EE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4AEDC0-6AB7-44C9-B0B9-034DC56D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529977-9CA5-4380-9535-44B20A7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CE8265-0F1B-4515-AF28-CB5C554D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8592CC-E846-4747-A6D4-2FFAD56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FFDC3-E701-4B85-B5EF-055B4C5D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CDA8D-E895-4C99-821B-7920F410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7CA36-3AC7-46B5-85B6-4CEA040C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1443E-9C88-42E1-813A-211FFE30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7ABE5-B8AB-4CAA-922D-162CBAC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49C68-4567-4DD8-9881-D0E5BFE7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6135-D712-45DC-B447-1149720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6E777-80E1-4DBA-936B-01DD3BA0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09F6B-82F8-45C3-8FF0-E99BE63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1277F-67B6-4DD6-9B2B-0048D287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13445-0642-4C81-A9AE-B6AABE6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31EE1-FE5E-4772-BE84-476785A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5F710-5F7E-4FBD-AF31-051AE114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D5873-E87F-4C51-AD2A-B4927945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25E920-EA08-4565-94F7-BF2ED314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C6D183-8E3B-41B5-9DBE-A7A2B8B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A039C3-B971-42D1-8AF9-5C8D635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DBC3-0AF5-4A77-A850-EBFF79FB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56ED36-2927-4B73-A61C-2EE7862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15C1CB-F6B7-4653-A8AD-C28A7C9E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8DCA5D-4E8E-48B8-AD43-873CF30A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017D98-CD02-4172-8E57-63D4B20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B90E54-2E12-43BB-A1EE-A6A1B970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F7C447-B2F0-451A-B0FD-BCA65FB3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59DCFC-F975-4785-A4F7-8171635A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6352D9D-5FE4-43C7-A639-6654A510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E8E0FA-95AC-4A5A-879F-DAB9DE26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48D2B-7C2C-4DE5-9313-BD8D02F3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BBB6-DAB5-4576-8D57-C345F6A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92126-0CC5-490F-B3BD-DDE25FBC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A42C6-6B17-4130-BAF1-B0DBC90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2788FF-B402-4DB8-97CA-C77A98E4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F03F9-5E4A-4CA4-B58B-8CBED2CD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E499D-DACF-46AF-AE10-1A618AB0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697EF-B355-43D5-B805-733AD701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24158-AEE8-4289-87AC-79D7168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B097E-1DC7-4D31-9792-0B2E856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7F3C4C-E3DE-4ABF-8989-FEF462DD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79E863-A489-4972-A0B1-9E1F8745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42D-F929-465F-9932-C888C287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719E24-ED14-4627-8833-457ED760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29AD8-6215-48E8-9480-16D8B80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366B2-8FC4-4235-BD18-E0C66895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060A0B-737B-44BE-89C3-64587B6D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F36CB-FF6E-44AA-B827-D97B1BE1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6643D-AB96-4D56-AC67-374CCAF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F254F-0B93-45EB-8C80-891AF7C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FBDF0A-70B3-4BF7-B360-5AAD5D88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FA52DC-1BA5-4DCC-A65E-687E8ED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CFE2EC-B640-4975-B3A0-1E758E15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041-B7AC-46A0-8A68-9F99BFA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8C4D3-D2D4-4BE9-A8EE-6E9AAA5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2AB35-7A41-4B50-8B20-203484A1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C413C-3956-4B38-B3A9-C8C67AD1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C992D-F57A-43C2-917F-B4B6595D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EB91C-B06F-430A-AE93-5D7C5CE3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D62C66-5EBE-4CD1-BEAD-C09D957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34DDC9-786F-4C52-95D5-7AA35490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C5264-2B0B-4AA1-BB9F-7A17BA7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52E8D-7E3C-415C-A748-2E5B7F3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9A21D-CDFB-4780-97CF-A58D311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4A20-DD6F-4F1D-B17F-5F491023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7F88-98B5-4D69-BB6B-DA69562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302371-D02D-4DD6-84B6-27EFFC0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5B1B1-5C23-4518-9665-C7AE320F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0D5FA-6FB5-4230-B7CB-DAA8788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781E7-1B53-4D6F-BE20-00DA9584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B13EA-67F6-4B37-B37F-448DA867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052D2F-AD74-47A5-B69D-A043F6F8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3A486-57BA-41C5-99B2-0A88AE4A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FE4E1-E202-4D2E-AF24-F734BBBE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0FAB9-23CB-4E82-BB00-0169F39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2BEC0-5336-4526-95C0-C39472A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D8C1-C498-4ACD-9EB8-0662729C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149DD-6781-4C98-B170-82935C9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5BD4C-D996-4C3B-8BEF-DD635A8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7DA80-0A26-4D88-84CA-BB8D7AB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56414-00DE-4680-8943-0D6A23E0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AEF61-74AA-434D-B2E4-30DC4BE6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F2731-04E2-419D-AB3E-5174F56F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F3F561-047B-4668-BC01-ADC11F39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EED9-0306-4C00-9D5F-B7BDD647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751C-DF42-408F-95DE-B83287BD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5F93-FC61-4D81-9C56-F9166A48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7E4EA-74FF-42DD-AE1C-C60438875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A61EE-0BCF-465E-BED7-4E84AE5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364D8-4A68-4D25-A352-2684D24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E0F31-523E-4984-BBBB-5C460AA1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8745D-16ED-474A-BB9F-396D6E68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6E1-F8E2-4A04-9F9C-51DF07FB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1EC87-DEB6-4598-A425-E5C9BC12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36960-48C0-45EB-8CA0-B8A9FBB8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988CB-AF11-45A1-B877-4D5D00D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16442-9F56-4322-BE5F-A6A78B3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209F7-2551-4937-9FC5-7555C580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53FBD-A1AC-44FF-9830-96D7B3905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95AD2-6CD1-45B5-B40D-4D0AB5DB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CB99-D7D4-4F7E-B812-72E2C509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6445-D20C-4CD5-9F22-5EF7944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0837-EF59-4D7B-955C-DE97F336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DC7-49B3-44A5-8A69-8EC6B1A7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2490-2F36-44E6-A337-844B9590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FDBB-9241-4C2B-82BC-20BF6DE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8C91-C91B-4C72-9A9F-98C55B3A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10561-A727-45BE-80DB-6D2CD0B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8669-B2F0-4DF2-BA03-0E02ADA3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D3C9-6254-4B38-90E7-9E669BCC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CA69-AAF4-4D14-B8C4-6B289308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2ECB9-D601-464F-A3DA-BE00CA9A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1564-2365-48FF-A277-8EC3F0BD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8F87C-E20B-4C80-88E8-53CF086C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63D-E21B-4067-94C3-8FA861B9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2507-6BA9-4250-A9B2-DAB58873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44AE-836D-4B32-8D6A-5D7C8982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AA3E-DE6E-4BDB-8BDC-0CFCFB1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CF64-1D29-4F33-9E94-5AD6E35A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5B33-3970-4D76-AB73-61755B1C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5B9C-F07E-47FE-92ED-145C696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148C-75FC-4BF0-999B-75B7CF8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F5980-A279-47B3-BE4F-F8A5DF7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559C-BEB6-4129-AC78-0A658D45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B5B2-89D2-4E21-A450-C0A25625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37B-4F19-4BD0-8F26-BDA9326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F192B-C766-4295-9AF2-ECB94D03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9AAE-D652-456F-B9C6-091F0B56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48DBE-81F8-4385-9672-78CC72D5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EAB5-58F9-40DC-A833-0A5CAC86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3C85-EC6F-4D6A-A0C1-805C6018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D596-64B4-4813-AB78-5D963E5D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4516A-464A-4C8D-98A6-F90165F0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0CEC5-E3BB-4B02-8CE6-FEE3C18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2890-5FBB-45CE-8971-3D8B66B5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59FFA-FB7B-4730-9369-B63F0ED7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DB0-58AD-471D-88C3-D6B42C0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9692-5603-46AD-B156-E176177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9913-0963-4028-ACF1-1F07EBC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35B3A-671B-45C6-BC68-17A0987F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61E04-AA6B-4FDB-BCB7-BF43530A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C531B-6C58-4184-8260-D27382C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576AB-676D-4999-AAAF-478E0606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A6DE-0BF3-40B3-A25F-D1AED519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4C20-83AC-4127-A293-A904BEA7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FCE7-46B7-4920-868B-092D61F9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45A03-4925-4DE7-8DC4-3123EED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915-D407-4779-A2AB-597049C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5ACC-CCF7-4D60-89E2-9CE9E7A8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09D31-E1C9-4190-9406-FF5F001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19C68-E8B4-4E49-888F-8562B62C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F6E1-8575-437B-9211-5C6CBC79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47FF-A2B4-4528-B834-A8310E7A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490F-12B1-40A8-B0DC-28D1857F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AB0BD-EFFE-4C34-B384-E4FAD99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2654E-BAC6-421E-A95A-AA944C9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FD445-26C5-4887-8B2D-B9E848F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AA52-6F85-4759-92DF-99B89BC7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D6F-CEC9-498E-9C26-12E41550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F8C1C-1B13-47E4-A074-EEEA34D6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14BCD-2CFC-4174-8D30-50DBC9C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C265-37D2-41E2-B142-41895C4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7368C-B273-4F5C-B5F9-CF78423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173A-DDA0-464C-96D0-45E19BB8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627E-565B-431F-9351-20E468EC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5BB6-408F-430F-A856-0ED880CD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D69CB-F348-4443-91A3-38D98900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89C22-D7F1-40E3-B91D-C18CAD9D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08BAE-0CEF-4CD1-A6FA-29ED3A9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6ED4-9072-4D87-B034-7E9852FC8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0675-6E1D-4141-AC9A-B35E9537046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9929-D7E1-403D-B86C-4F50AABCAEE4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595C-8A83-4F26-940C-DD5903DE52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2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54F4-43F9-4B12-85F7-312AED04A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7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4D48-5DBC-4AB6-B06B-A0AEFA127DD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FB2E-D40A-4E63-B6B2-152FE3A191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C65-764E-4A0F-8903-37353010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C98-DE74-495F-B7FA-73841519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2FB3-E7B5-44D0-930D-4F3B4BD15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C55-B9F1-4524-9E3C-18EA09467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3B09-D0F8-4205-9F87-C5888400B8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2FA7-E72E-4FE7-9443-2D737E6FEC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87E0-0393-4FF6-B723-D66D8BB7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189-13ED-4A89-A860-DA08CD8E48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5BC5-86C4-480D-B58A-0258BFA76F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B0E4-4BDA-41CD-BD7E-AAD93B93D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A37D-6291-4684-9815-777B3958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0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file:///../4-&#1576;&#1585;&#1575;&#1605;&#1580;%20&#1575;&#1604;&#1578;&#1601;&#1603;&#1610;&#1585;/&#1575;&#1604;&#1593;&#1589;&#1601;%20&#1575;&#1604;&#1584;&#1607;&#1606;&#1610;/&#1605;&#1607;&#1575;&#1585;&#1577;%20&#1575;&#1604;&#1593;&#1589;&#1601;%20%20&#1575;&#1604;&#1584;&#1607;&#1606;&#1610;%20(%20&#1575;&#1604;&#1605;&#1576;&#1575;&#1583;&#1574;%20).ppt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0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8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8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9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99"/>
                </a:solidFill>
                <a:latin typeface="Arial"/>
                <a:cs typeface="AGA Juhyna Regular"/>
              </a:rPr>
              <a:t>استراتيجية حل المشكلات بطرق إبداعية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GA Juhyna Regular"/>
              </a:rPr>
              <a:t>The Creative 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AL-Mateen"/>
              </a:rPr>
              <a:t>تطبيق الاستراتيجية في الملتقيات الص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1426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 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708360" y="115920"/>
            <a:ext cx="1079640" cy="9097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411280" y="105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99"/>
                </a:solidFill>
                <a:latin typeface="Arial"/>
                <a:cs typeface="AL-Sayf Bold"/>
              </a:rPr>
              <a:t>الإدارة العامة لرعاية الموهوب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3348000" y="5372280"/>
            <a:ext cx="1800360" cy="129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080" y="115920"/>
            <a:ext cx="2843280" cy="2017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0" y="1268280"/>
            <a:ext cx="2879640" cy="648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835280" y="1268280"/>
            <a:ext cx="273672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5964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وجد 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37080" y="2060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تضخيم المشك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2205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رؤية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20000" y="4365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تراكم المشا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48000" y="443700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يستحيل أن يكون لها حل ( لا يوجد فائ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16000" y="4581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9640" y="4581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حجمها الطبيعي كل مشكلة لها ح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484360" y="2205000"/>
            <a:ext cx="395280" cy="432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8308800" y="219708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73040" cy="18716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006600"/>
            </a:outerShdw>
          </a:effectLst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7380360" y="2708280"/>
            <a:ext cx="473040" cy="1655640"/>
          </a:xfrm>
          <a:prstGeom prst="rect">
            <a:avLst/>
          </a:prstGeom>
          <a:ln w="0">
            <a:noFill/>
          </a:ln>
          <a:effectLst>
            <a:outerShdw dist="109184" dir="3271692" blurRad="0" rotWithShape="0">
              <a:srgbClr val="006600"/>
            </a:outerShdw>
          </a:effectLst>
        </p:spPr>
      </p:pic>
      <p:pic>
        <p:nvPicPr>
          <p:cNvPr id="941" name="" descr=""/>
          <p:cNvPicPr/>
          <p:nvPr/>
        </p:nvPicPr>
        <p:blipFill>
          <a:blip r:embed="rId9"/>
          <a:stretch/>
        </p:blipFill>
        <p:spPr>
          <a:xfrm>
            <a:off x="1403280" y="2635200"/>
            <a:ext cx="473040" cy="1873440"/>
          </a:xfrm>
          <a:prstGeom prst="rect">
            <a:avLst/>
          </a:prstGeom>
          <a:ln w="0">
            <a:noFill/>
          </a:ln>
          <a:effectLst>
            <a:outerShdw dist="117181" dir="2961631" blurRad="0" rotWithShape="0">
              <a:srgbClr val="006600"/>
            </a:outerShdw>
          </a:effectLst>
        </p:spPr>
      </p:pic>
      <p:sp>
        <p:nvSpPr>
          <p:cNvPr id="942" name=""/>
          <p:cNvSpPr txBox="1"/>
          <p:nvPr/>
        </p:nvSpPr>
        <p:spPr>
          <a:xfrm rot="21363600">
            <a:off x="1402920" y="71280"/>
            <a:ext cx="60008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2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abic Transparent"/>
              </a:rPr>
              <a:t>الناس أمام المشكلة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2"/>
          <a:stretch/>
        </p:blipFill>
        <p:spPr>
          <a:xfrm>
            <a:off x="6083280" y="307008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"/>
          <a:stretch/>
        </p:blipFill>
        <p:spPr>
          <a:xfrm>
            <a:off x="3348000" y="3068640"/>
            <a:ext cx="822240" cy="1224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4"/>
          <a:stretch/>
        </p:blipFill>
        <p:spPr>
          <a:xfrm>
            <a:off x="468360" y="314172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082520" y="1341360"/>
            <a:ext cx="1895760" cy="2664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132000" y="1992240"/>
            <a:ext cx="52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l-Mothnna"/>
              </a:rPr>
              <a:t>ما المقصود بالمشكلة في فهمك الخاص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076720" y="476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ff"/>
                </a:solidFill>
                <a:latin typeface="Arial"/>
                <a:cs typeface="Al-Mujahed Free"/>
              </a:rPr>
              <a:t>تمر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-0.20967 L 0.15365 0.32501 E">
                                      <p:cBhvr>
                                        <p:cTn id="232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1152720" cy="244800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3783600" y="1356480"/>
            <a:ext cx="2728800" cy="2195280"/>
          </a:xfrm>
          <a:prstGeom prst="rect">
            <a:avLst/>
          </a:prstGeom>
          <a:blipFill rotWithShape="0">
            <a:blip r:embed="rId3"/>
            <a:stretch/>
          </a:blip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918e"/>
                </a:solidFill>
                <a:latin typeface="Arial"/>
                <a:cs typeface="PT Bold Heading"/>
              </a:rPr>
              <a:t>ما هي المشكلة 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936720" cy="100836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9000"/>
          </a:bodyPr>
          <a:p>
            <a:pPr marL="2023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99"/>
                </a:solidFill>
                <a:latin typeface="Arial"/>
                <a:cs typeface="AL-Mateen"/>
              </a:rPr>
              <a:t>المشكلة : هي عقبة أمام تحقيق الأهداف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00720" y="2133720"/>
            <a:ext cx="576360" cy="2665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93080" y="2565360"/>
            <a:ext cx="1655640" cy="1871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20000" y="332568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L-Mateen"/>
              </a:rPr>
              <a:t>الهد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40000" y="3284640"/>
            <a:ext cx="38876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140360" y="3429000"/>
            <a:ext cx="2087280" cy="287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780000" y="3645000"/>
            <a:ext cx="2447640" cy="5745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88000" y="2852640"/>
            <a:ext cx="1439640" cy="2160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403280" y="2636640"/>
            <a:ext cx="4824360" cy="36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11280" y="1557000"/>
            <a:ext cx="496908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122364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5940360" cy="43113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482760" y="3258000"/>
            <a:ext cx="2200680" cy="1134000"/>
          </a:xfrm>
          <a:prstGeom prst="rect">
            <a:avLst/>
          </a:prstGeom>
          <a:blipFill rotWithShape="0">
            <a:blip r:embed="rId3">
              <a:alphaModFix amt="15000"/>
            </a:blip>
            <a:stretch/>
          </a:blip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rial"/>
                <a:cs typeface="AL-Mateen"/>
              </a:rPr>
              <a:t>الأهدا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987640" y="475920"/>
            <a:ext cx="5402160" cy="388764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طاعة الله تعا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تفوق والنجاح في الدرا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فظ القرآن الكريم والحديث الشر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نجاح في الحيا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ل مشكلات في المنزل أو الحي أو المدر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رضاء الوالد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إدارة العمل ، واستكشاف قدرات العام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42920" y="4560840"/>
            <a:ext cx="7345440" cy="2246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حلول الإبداعية لمشكلات المستقب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تطوير الأجهزة والآلات ال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بتكار مخترعات جد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63280" y="1428480"/>
            <a:ext cx="6985080" cy="1568520"/>
          </a:xfrm>
          <a:prstGeom prst="rect">
            <a:avLst/>
          </a:prstGeom>
          <a:blipFill rotWithShape="0">
            <a:blip r:embed="rId2">
              <a:alphaModFix amt="40000"/>
            </a:blip>
            <a:stretch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Arial"/>
                <a:cs typeface="FS_Free"/>
              </a:rPr>
              <a:t>لماذا ؟ ومن أجل ما ذا ؟ ندرس حل المشكلات 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47280" y="4263840"/>
            <a:ext cx="54723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  <a:cs typeface="AL-Mateen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00"/>
                </a:solidFill>
                <a:latin typeface="Arial"/>
                <a:cs typeface="AL-Mateen"/>
              </a:rPr>
              <a:t>من أهدافنا في برنامج حل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تعلم على أن هناك حلول ناجحة تتطلب الصبر في الوصول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أخذ بالأسباب في تحقق عبادة التوكل على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تعليم مهارة اتخاذ القرار الفع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دراسة القضايا والمشكلات من جميع الجه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إعمال الفكر في الوصول إلى الحلول الأص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معالجة المشكلة في إطار مقنن بأساليب 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طرح وإيجاد أكثر من حل للمشكلة لاختيار أفض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835280" y="923400"/>
            <a:ext cx="68515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rial"/>
                <a:cs typeface="AL-Mateen Outline"/>
              </a:rPr>
              <a:t>ما هو الإبداع 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0a78"/>
                </a:solidFill>
                <a:latin typeface="Arial"/>
                <a:ea typeface="AL-Hosam"/>
              </a:rPr>
              <a:t>       هو النظر للمألوف بطريقة أو من زاوية غير مألوفة ، ثم تطوير هذا النظر ليتحول إلى فكرة ثم تصميم ثم إبداع قابل للتطبيق والاستعم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33440" y="549360"/>
            <a:ext cx="3598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AL-Mateen"/>
              </a:rPr>
              <a:t>التفكير الإبدا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07160" cy="460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أن تأتي بفكرة جديدة بالنسبة لك وللآخ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توليد أفكار جديدة ومف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إتيان إلى حيز الوجود بشيء لم يكن موجوداً من 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عمل ترابط ورؤية علاقات وروابط ج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وهو القدرة على أن ينهل الإنسان من موارد متنوعة ويوحد بينها بشكل متكامل وجديد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تمكن العقل من إدراك العلاقة بين شيئين بطريقة يتولد عنها ظهور شيء ثالث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5843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660066"/>
                </a:solidFill>
                <a:latin typeface="Arial"/>
                <a:cs typeface="AL-Hor"/>
              </a:rPr>
              <a:t>نشاط :أبناؤنا والإبدا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63640" y="2204640"/>
            <a:ext cx="32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صورة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متكرر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403200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1654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Mateen"/>
              </a:rPr>
              <a:t>عناصر حقيبة تطبيق حل المشكلات في الملتقيات الصيف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11280" y="1771560"/>
            <a:ext cx="8075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 المشغل التدريبي الأول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 التفكير التباعدي والتفكير التقاربي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ني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مقدمات في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تعريف عام للمراحل والخطوات مع أسلوب العمل عليها عا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لث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تطبيقات على خطوات حل المشكلات بطرق إبداعية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5219640" y="692280"/>
            <a:ext cx="2997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 txBox="1"/>
          <p:nvPr/>
        </p:nvSpPr>
        <p:spPr>
          <a:xfrm>
            <a:off x="971640" y="4292640"/>
            <a:ext cx="439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2060640"/>
            <a:ext cx="792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1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استراتيجية حل المشكلات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2736720" cy="21603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156360" y="40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مر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9640" y="404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arsi Simple Outline"/>
              </a:rPr>
              <a:t>مراحل وخطوات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arsi Simple Outline"/>
              <a:ea typeface="Farsi Simple Outline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57200" y="24224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 rtl="1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GA Juhyna Regular"/>
              </a:rPr>
              <a:t>     التدريس من خلال حل المشكلات إبداعياً يؤدي إلى النمو الإدراكي والانفعالي والاجتماعي على حد سواء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2700360" y="620640"/>
            <a:ext cx="2890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Arial"/>
                <a:cs typeface="AL-Mateen Outline"/>
              </a:rPr>
              <a:t>فائ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443640" y="3357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0384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427640" y="234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3716280"/>
            <a:ext cx="1152360" cy="1008000"/>
          </a:xfrm>
          <a:prstGeom prst="flowChartConnector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140360" y="378936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دراسة وتقييم المهم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93040" y="4006800"/>
            <a:ext cx="1074600" cy="86220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08000" y="3716280"/>
            <a:ext cx="1079640" cy="936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067280" y="2205000"/>
            <a:ext cx="1152360" cy="865080"/>
          </a:xfrm>
          <a:prstGeom prst="diamond">
            <a:avLst/>
          </a:prstGeom>
          <a:solidFill>
            <a:srgbClr val="d0ea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724360" y="4216320"/>
            <a:ext cx="1079640" cy="86832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349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27280" y="4076640"/>
            <a:ext cx="1081080" cy="865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4508640"/>
            <a:ext cx="1081080" cy="936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79640" y="393372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حساس ب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79640" y="46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صياغة 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00360" y="429264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جمع المعلو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940360" y="4437000"/>
            <a:ext cx="5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تطوير ا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32720" y="4149720"/>
            <a:ext cx="6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بناء القبول ل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668400">
            <a:off x="4709880" y="3134880"/>
            <a:ext cx="718920" cy="647640"/>
          </a:xfrm>
          <a:prstGeom prst="diamond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29080" y="3341520"/>
            <a:ext cx="503280" cy="3207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مراحل وخطوات الاستراتيجية المراحل الأساسية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403280" y="3141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03280" y="3024360"/>
            <a:ext cx="1584360" cy="5544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فه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المشكلة أو التحد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435640" y="1989000"/>
            <a:ext cx="1081080" cy="35892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2060640"/>
            <a:ext cx="1152360" cy="5202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88000" y="3284640"/>
            <a:ext cx="1008360" cy="57600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88000" y="3357720"/>
            <a:ext cx="1079640" cy="73332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التحضير لتطبيق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95640" y="479736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924360" y="4869000"/>
            <a:ext cx="158436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64000" y="4941720"/>
            <a:ext cx="2303280" cy="45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لاستخدام الاستراتي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140360" y="6375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إبداع ، جرو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3909960" y="291456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489800" cy="31687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611280" y="422100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rial"/>
                <a:cs typeface="AL-Mateen"/>
              </a:rPr>
              <a:t>نموذجاً تخطيطياً تدفقياً لتلخيص مكونات البرنامج والمهمات المطلوبة في كل مرحلة ، وأكدا على ضرورة المحافظة على نوع من التوازن بين نوعين أساسيين من التفكير هما التفكير المتشعب والتفكير المتقارب في كل مرحلة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L-Matee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311640" cy="28810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Arial"/>
                <a:cs typeface="AL-Mateen"/>
              </a:rPr>
              <a:t>قدم أساكسن وترفنجر في كتابهما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333399"/>
                </a:solidFill>
                <a:latin typeface="Arial"/>
                <a:cs typeface="AL-Hosam"/>
              </a:rPr>
              <a:t>تلخيص العملية التتابعية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6920" y="2708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66"/>
                </a:solidFill>
                <a:latin typeface="Arial"/>
                <a:cs typeface="AL-Hosam"/>
              </a:rPr>
              <a:t>حل المشكلات الإبداع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851280" y="5394240"/>
            <a:ext cx="1800360" cy="1212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51280" y="457200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51280" y="374976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51280" y="292752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1280" y="2104920"/>
            <a:ext cx="1800360" cy="8226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6560" y="5394240"/>
            <a:ext cx="338472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التركيز على الحلول الواعدة ووضع خطة محددة ل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651640" y="5394240"/>
            <a:ext cx="316836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تطوير قائمة بمصادر الدعم والمقاومة المحتملة وتحديد خطوات التنفي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6560" y="457200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اختيار بعض المحكات لتقييم الأفكار وتحسين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51640" y="457200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تطوير قائمة محكات لمراجعة الأفكار وتقييم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6560" y="374976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اختيار الأفكار التي تبدو مثيرة وواعد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651640" y="374976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توليد عدة أفكار وبدائل واقتراحات لحل المشكلة وتسجيلها في قائ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6560" y="292752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اختيار صياغة مناسبة للمشك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1640" y="292752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توليد صياغات متعددة للمشكلة الأساسية والمشكلات الفر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6560" y="2104920"/>
            <a:ext cx="338472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تحديد أهم المعلومات ذات العلاقة وتحلي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651640" y="2104920"/>
            <a:ext cx="316836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فحص الوضع من زوايا متعددة ، وتجميع المعلومات ذات العلا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6560" y="917640"/>
            <a:ext cx="338472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L-Mateen"/>
              </a:rPr>
              <a:t> اختيار التحدي والشروع في عمل منهجي لمواجهة الوض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51280" y="917640"/>
            <a:ext cx="1800360" cy="1187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651640" y="917640"/>
            <a:ext cx="316836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Times New Roman"/>
                <a:cs typeface="AL-Mateen"/>
              </a:rPr>
              <a:t>البحث عن الأوضاع المتأزمة والمختلطة من واقع الخبرات واكتشاف الفر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6560" y="333360"/>
            <a:ext cx="338472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ثقار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51280" y="333360"/>
            <a:ext cx="1800360" cy="584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90000"/>
                </a:solidFill>
                <a:latin typeface="Times New Roman"/>
                <a:cs typeface="AL-Hosam"/>
              </a:rPr>
              <a:t>الخط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651640" y="333360"/>
            <a:ext cx="316836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6560" y="33336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6560" y="660708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82000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656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6560" y="91764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5164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5128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6560" y="21049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6560" y="29275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6560" y="374976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66560" y="457200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" y="539424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51640" y="21049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651640" y="29275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51640" y="374976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651640" y="457200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651640" y="539424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95640" y="1052640"/>
            <a:ext cx="1511280" cy="936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حساس بالمشك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95640" y="2131920"/>
            <a:ext cx="1440000" cy="792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جمع المعلوم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95640" y="3067200"/>
            <a:ext cx="1441440" cy="6490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صياغة المشك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95640" y="3860640"/>
            <a:ext cx="15112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95640" y="4653000"/>
            <a:ext cx="15130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67280" y="5518080"/>
            <a:ext cx="1439640" cy="9352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قبول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00" y="538884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908000" y="2565360"/>
            <a:ext cx="5761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وان الوحدة الإثرائ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AL-Hosam"/>
              </a:rPr>
              <a:t>تلوث الهوا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cc"/>
                </a:solidFill>
                <a:latin typeface="Tahoma"/>
                <a:cs typeface="Al-Hadith2"/>
              </a:rPr>
              <a:t>المرحلة الأولى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324000" y="314172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ahoma"/>
                <a:cs typeface="AL-Mateen"/>
              </a:rPr>
              <a:t>فهم المشكلة أو التحدي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700000" y="2133360"/>
            <a:ext cx="36003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31640" y="304920"/>
            <a:ext cx="724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Verdana"/>
                <a:cs typeface="PT Bold Heading"/>
              </a:rPr>
              <a:t>خطوة الإحساس بالمشكلة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4000" y="2392200"/>
            <a:ext cx="8640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660066"/>
                </a:solidFill>
                <a:latin typeface="Verdana"/>
                <a:cs typeface="AGA Aladdin Regular"/>
              </a:rPr>
              <a:t>الهدف منها :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ـ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ستيضاح وفهم أعمق ل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ــ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ujahed Free"/>
              </a:rPr>
              <a:t>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لتعرف على مجال ا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- أبعاد المشكلة واتجاهاتها واستجلاء ما يكتنفها من غموض ، عن طريق التفكير التباعدي ، ثم التقاربي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6372360" y="692280"/>
            <a:ext cx="792000" cy="649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أول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484280" y="3213000"/>
            <a:ext cx="6400800" cy="2376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تفكير التباعدي والتفكير التقاربي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وطريقة استخدامها في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ملتقيات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1619280" y="1484280"/>
            <a:ext cx="122544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1268280"/>
            <a:ext cx="7989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 ما الذي تريد ه ؟     ما الذي يضايقك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ما الأشياء التي تريد تقديمها بطريقة مختلفة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484360" y="1612800"/>
            <a:ext cx="532944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3300"/>
                </a:solidFill>
                <a:latin typeface="Arial"/>
              </a:rPr>
              <a:t>اهم المعايير :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تأثير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– المصلحة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جدة والإبداع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"/>
          <p:cNvSpPr/>
          <p:nvPr/>
        </p:nvSpPr>
        <p:spPr>
          <a:xfrm>
            <a:off x="755640" y="884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ff"/>
                </a:solidFill>
                <a:latin typeface="Arial"/>
                <a:cs typeface="AL-Mateen"/>
              </a:rPr>
              <a:t>أهم الأوضاع أو المشكلات البارزة  أو الأولويات أو الأهداف والاهتم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 Black"/>
              </a:rPr>
              <a:t>يقولون</a:t>
            </a:r>
            <a:endParaRPr b="1" lang="en-US" sz="11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007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(( تزور النحلة ملايين الزهرات ؛ لتجمع مائة جرام من العسل ))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المعلومة = قو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916280" cy="23241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3"/>
          <a:stretch/>
        </p:blipFill>
        <p:spPr>
          <a:xfrm>
            <a:off x="1763640" y="4508640"/>
            <a:ext cx="1324080" cy="16048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224000" cy="15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Al-Hadith2"/>
              </a:rPr>
              <a:t>خطوة جمع المعلومات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50920" y="2249640"/>
            <a:ext cx="864216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هدف : تعريف و تحديد أهم العوامل والمؤثرات في ا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إن المهمة الأساسية في هذه المرحلة أن تجمع أكبر قدر ممكن من المعلومات الشاملة والمتنوعة والمهمة بالنسبة ل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403280" y="1413000"/>
            <a:ext cx="122580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32000" y="2565360"/>
            <a:ext cx="6405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85200" indent="-385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واستخدم أصدقاءك الستة ( من ـ ماذا ـ متى ـ أين  ـ لماذا ـ كيف ؟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236000" y="333360"/>
            <a:ext cx="1368360" cy="7192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635280" y="14842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99ff"/>
                </a:solidFill>
                <a:latin typeface="Arial"/>
                <a:cs typeface="AL-Hosam"/>
              </a:rPr>
              <a:t>مثل دور المحقق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50920" y="1413000"/>
            <a:ext cx="6408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هم المعايير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علومات  تمثل تحدياً حقيقياً بالنسبة لنا .. معلومات  هي جوهر المشكلة  .. مسائل  حرجة ...أي اتجاه هذه المعلومات تأخذ ؟  ...   أي بعد في هذه المعلومات ينبغي دراسته أول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755640" y="94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ff"/>
                </a:solidFill>
                <a:latin typeface="Arial"/>
              </a:rPr>
              <a:t>تحديد المعلومات ذات الأهمية ( تركز على الهدف ، الارتباط ، الإثارة ، الوضوح ، الفاعلي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673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لث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73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71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16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حديد وصياغة 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46760" y="4082400"/>
            <a:ext cx="5776200" cy="2286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ختيار الوضع / الفكرة / الحل الأمثل وفق الشروط والمستويات المحددة سلفا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72360" y="4149720"/>
            <a:ext cx="2492280" cy="131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والتفكير التقار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1325520"/>
            <a:ext cx="2087280" cy="192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فكير التباع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4000" y="863640"/>
            <a:ext cx="5976720" cy="2535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لإتيان بأكبر عدد ممكن من الفِكَرٍْ  وذلك من خلال القدرة على تفحص المشكلة من زوايا متعددة و مختلفة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rId3"/>
          </p:cNvPr>
          <p:cNvSpPr/>
          <p:nvPr/>
        </p:nvSpPr>
        <p:spPr>
          <a:xfrm>
            <a:off x="5076720" y="256536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4360" y="285264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هارة العصف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6720" y="566100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84360" y="587376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صفوفة التقي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Mothnna"/>
              </a:rPr>
              <a:t>ما هي المشكلة الحقيقي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34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(  كان طالب وأستاذه يتنزهان في ألاسكا عندها بدأ دب بمطاردتهما عن بعد . بدأ الاثنان في الركض ، ولكن كان من الواضح أن الدب سيلحق بهم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توقف الطال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أنزل حقيبة الظهر التي كان يحملها وأخرج منها حذاء الجري وبدأ يلب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قال الأستاذ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تى بحذاء الجري ، لن تكون أسرع من الد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أجاب الطال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لست بحاجة لأن أكون أسرع من الدب ، بل يكفيني أن أكون أسرع منك !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76360" y="9936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Hosam"/>
              </a:rPr>
              <a:t>حالة الدب الجائع  ( تعريف المشكلة الحقيقية 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32000" y="59119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  <a:cs typeface="AL-Mateen"/>
              </a:rPr>
              <a:t>بغض النظر عن أخلاقيات هذا المثال إلا أنه يوضح نقطة أساسية وهي أهمية تعريف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29384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طوة تحديد و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الهدف : تعريف المشكلة في جملة محددة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صياغة المشكلة بشكل جيد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وهناك بعض الخصائص التي تميز صياغة المشكلة وتجعلها أكثر مناسبة لتطوير وإنتاج أفكار وحلول إبداعية ، وهذه الخصائص هي :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0" y="6303960"/>
            <a:ext cx="7556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صائص صياغة المشكلة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صياغة المشكلة يجب أن تكون بطريقة إيجابية وبعيداً عن العبارات السلب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المشكلة في صيغة سؤ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محفزة للتفكي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بعيدة عن القيود والشروط وأي محددات أخرى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فتوحة النها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ختصرة وموجهة نحو الهدف وسهلة الفهم وتساعد على توليد الأفكا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Hor"/>
              </a:rPr>
              <a:t>عناصر 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"/>
          <p:cNvSpPr/>
          <p:nvPr/>
        </p:nvSpPr>
        <p:spPr>
          <a:xfrm>
            <a:off x="5940360" y="1125360"/>
            <a:ext cx="1944720" cy="13737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سؤال مفتوح ال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6400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فعل إجرائي ضميره ج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7164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هدف أو غاية تسعى إ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rot="5400000">
            <a:off x="6442920" y="2349000"/>
            <a:ext cx="720720" cy="57600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421200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5400000">
            <a:off x="147492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3141720"/>
            <a:ext cx="2592360" cy="19234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وارد / مخصصات / أمو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دعم المسئولين / المشارك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دراء / العام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برامج / وسائ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79080" y="3141720"/>
            <a:ext cx="1191240" cy="15570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ض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وس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ساع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زي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1280" y="4941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بأي الطرق يمكن أن </a:t>
            </a:r>
            <a:r>
              <a:rPr b="1" lang="hi-IN" sz="2000" spc="-1" strike="noStrike">
                <a:solidFill>
                  <a:srgbClr val="003366"/>
                </a:solidFill>
                <a:latin typeface="Arial"/>
              </a:rPr>
              <a:t>نح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 فعل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على </a:t>
            </a: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صادر والإمكان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هدف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المطلوبة للبرنام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88000" y="5734080"/>
            <a:ext cx="792360" cy="719280"/>
          </a:xfrm>
          <a:prstGeom prst="flowChartExtra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84360" y="5661000"/>
            <a:ext cx="56163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قم بإيجاد عدة صياغات ل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عبر عن المشكلة بطرق مختلف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37080" y="3141720"/>
            <a:ext cx="2880000" cy="19378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بأي الطرق يمكن لنا .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يمكننا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التفكير التقاربي </a:t>
            </a:r>
            <a:br>
              <a:rPr sz="3800"/>
            </a:b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في خطوة تحديد وصياغة المشكلة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إن من أهم القرارات التي ستقوم بها في استراتيجية حل المشكلات بطرق إبداعية أن تقوم بتحديد صياغة المشكلة التي تريد تركيز جهدك عليها 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Diwani Outline Shaded"/>
              </a:rPr>
              <a:t> </a:t>
            </a:r>
            <a:r>
              <a:rPr b="1" lang="hi-IN" sz="4200" spc="-1" strike="noStrike">
                <a:solidFill>
                  <a:srgbClr val="cc6600"/>
                </a:solidFill>
                <a:latin typeface="Arial"/>
                <a:cs typeface="DecoType Naskh Special"/>
              </a:rPr>
              <a:t>ويمكنك ذلك إذا حاولت الإجابة على التساؤلات التالية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6082920" y="33300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613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صياغات مناسبة وأفضل لإثارة التفكير التباعدي والحلول التي نريد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مشكلات تبدو أكثر أهمية من غير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أسئلة التي يمكن البدء في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من الصياغات يمكن أن تكون مشتركة في  مشكلة واحد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مفتوحة النهاية لضمان قدرته على إثارة أفكار الآخرين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غير محدودة بشروط أو معايير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تعكس  القضية الرئيسة في المشكل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539280" y="40428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Tahoma"/>
              </a:rPr>
              <a:t>المرحلة الثان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ahoma"/>
              </a:rPr>
              <a:t>مرحلة إيجاد الأفكار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55640" y="692280"/>
            <a:ext cx="7561440" cy="4824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2774160" y="1396080"/>
            <a:ext cx="3524040" cy="3240000"/>
          </a:xfrm>
          <a:prstGeom prst="hexagon">
            <a:avLst>
              <a:gd name="adj" fmla="val 18953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إيجاد الحلول والأفكا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ر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Arial"/>
                <a:ea typeface="AL-Hor"/>
              </a:rPr>
              <a:t> إيجاد الأفكار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الهدف : إيجاد العديد من الأفكار والحلول المختلفة والمتنوعة وغير العادية للمشكلة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إن كفاحك سينصب </a:t>
            </a: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على السؤال الذي اخترته ليكون مشكلتك التي ستقوم بحلها إبداعياً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 rot="9016800">
            <a:off x="5292000" y="836280"/>
            <a:ext cx="560520" cy="503280"/>
          </a:xfrm>
          <a:prstGeom prst="hexagon">
            <a:avLst>
              <a:gd name="adj" fmla="val 27843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0000"/>
                </a:solidFill>
                <a:latin typeface="Arial"/>
                <a:cs typeface="AL-Mateen Outline"/>
              </a:rPr>
              <a:t>تطبيق عم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الشهيد محمد الدره"/>
              </a:rPr>
              <a:t>  بأي الطرق يمكننا التقليل من مشكلة تلويث المدخنين للبيئات العامة 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 rot="9016800">
            <a:off x="4427280" y="549000"/>
            <a:ext cx="1008000" cy="925560"/>
          </a:xfrm>
          <a:prstGeom prst="hexagon">
            <a:avLst>
              <a:gd name="adj" fmla="val 27227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64000" y="1052640"/>
            <a:ext cx="1008360" cy="7207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419280" y="1052640"/>
            <a:ext cx="108108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84720" y="457200"/>
            <a:ext cx="2602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100" spc="-1" strike="noStrike">
                <a:solidFill>
                  <a:srgbClr val="ccff99"/>
                </a:solidFill>
                <a:latin typeface="Arial"/>
                <a:cs typeface="AL-Mateen"/>
              </a:rPr>
              <a:t>إيجاد الأفكار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2122560"/>
            <a:ext cx="355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تقارب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00"/>
                </a:solidFill>
                <a:latin typeface="Arial"/>
                <a:cs typeface="AL-Mateen"/>
              </a:rPr>
              <a:t>أسئل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أكثر تآمراً على المشكلة ومفاجئاً لها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الواعدة لحل المشكل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هذه الحلول يمكن أن تحسن وتطور طرقاً تساعد على التقدم نحو الحل وتطوير خطة إجرائي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أفضل حقاً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فاجأني واستحوذ تفكيري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29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             تباع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ستخدم أي وسائل إبداعية تساعد في إيجاد الأفكار والحل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لاستثارة التفكير التباعد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عصف الذه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طريقة العلاقات والروابط القس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64360" y="1916280"/>
            <a:ext cx="64944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3993840" y="2204640"/>
            <a:ext cx="64908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538200" y="5616720"/>
            <a:ext cx="2449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2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Scamper</a:t>
            </a:r>
            <a:endParaRPr b="1" lang="en-US" sz="5400" spc="1" strike="noStrike">
              <a:ln w="0">
                <a:noFill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03640" y="1989000"/>
            <a:ext cx="0" cy="396108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( أداة سـكامبــر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Scamp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6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بدل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bstitu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ادمج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bin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كيِّف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apt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عدِّل أو كبر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odify or Mag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ضعه في استخدامات أخرى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ut to other uses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حذف أو صغر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iminate or Mi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عكس أو أعد الرتيب   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everse or Rearrang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92720" y="6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AL-Mateen Outline"/>
              </a:rPr>
              <a:t>حوار التطوير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 flipH="1">
            <a:off x="4714560" y="765000"/>
            <a:ext cx="64908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cc"/>
                </a:solidFill>
                <a:latin typeface="Tahoma"/>
              </a:rPr>
              <a:t>المرحلة الثالثة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10920" y="378900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ahoma"/>
                <a:cs typeface="AL-Hosam"/>
              </a:rPr>
              <a:t>التحضير لتطبيق الحل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  <a:ea typeface="AL-Hosam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dvertisingExtraBold"/>
              </a:rPr>
              <a:t>هذه المرح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41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مرحلة جوهرية في نقل الأفكار والحلول النظرية إلى حلول إجرائية وعملية ، وترجمتها إلى وا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                 و تتضمن خطوتين  هم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19280" y="2997360"/>
            <a:ext cx="511344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L-Mateen"/>
              </a:rPr>
              <a:t> خطوة تطوير الح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99"/>
                </a:solidFill>
                <a:latin typeface="Arial"/>
                <a:cs typeface="AL-Mateen"/>
              </a:rPr>
              <a:t>وخطوة بناء قبول حل ا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طوير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620640"/>
            <a:ext cx="41623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</a:rPr>
              <a:t>الخطوة الخا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634920" y="406080"/>
            <a:ext cx="4475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  <a:cs typeface="AL-Hosam"/>
              </a:rPr>
              <a:t>خطوة تطوير 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6633"/>
                </a:solidFill>
                <a:latin typeface="Arial"/>
                <a:cs typeface="AL-Mateen"/>
              </a:rPr>
              <a:t>هدفها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  <a:cs typeface="AL-Mohanad Bold"/>
              </a:rPr>
              <a:t>تطوير وتحسين الأفكار والحلول الواعدة التي تم اختيارها في الخطوة الساب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L-Mateen"/>
              </a:rPr>
              <a:t> الحل هو : خيار أو فكرة أو عدة خيارات أو أفكار هي التي تحل المشكلة موضع الدراس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L-Mateen"/>
              </a:rPr>
              <a:t>الحل هو الذي يجيب على الاستفهام المطروح ، وهو الذي سيقابل التحدي القائ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387800" y="541080"/>
            <a:ext cx="6019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00"/>
                </a:solidFill>
                <a:latin typeface="Arial"/>
                <a:cs typeface="AL-Mateen"/>
              </a:rPr>
              <a:t>أعمال هذه الخطوة تبدأ بــالمراجعات التال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نظيم الاحتمالات والأفكار المختلفة :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تحديد ودمج وتجميع الحلول الواعد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حليل وتلخيص ، تحسين وتطوير الاحتمالات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من خلال دراسة الإيجابيات والسلبيات المختلفة لكل ح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ختيار من بين الحلو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  ( تقييم الحلول المختلفة بعناية ، وربما تحتاج إلى وضع معايير ثم يكون الاختيار من بين الخيارات والاحتمالات المطروحة 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تفكير التقارب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1800" spc="-1" strike="noStrike">
                <a:solidFill>
                  <a:srgbClr val="3333cc"/>
                </a:solidFill>
                <a:latin typeface="Arial"/>
              </a:rPr>
              <a:t>الهدف : استخدام بعض الوسائل التي تساعد في تطوير الحلول الممكن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L-Mateen"/>
              </a:rPr>
              <a:t>وهناك طريقتين للتركيز على الأفكار والحلول في خطوة تطوير الحل وهما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بتداء التعامل مع أكثر الخيارات دلالة وفاعلية :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L-Mateen"/>
              </a:rPr>
              <a:t>( ادرس الإيجابيات والسلبيات وطرق تخطي السلبيات ومدى براعة وإبداع الحل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ترتيب أوليات الحلول من خلال مصفوفة المعايير والحلول الواعد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 التفكير التباعد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L-Mateen"/>
              </a:rPr>
              <a:t>  كتابة أكبر عدد ممكن من معايير اختيار الحل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GA Nada Regular"/>
              </a:rPr>
              <a:t>المعايي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تسهم في تطوير الحل بطريقة موضو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كلما كانت أكثر كلما كان اختيار الحلول أفض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ربما تحتاج أنت إلى ترتيب ، ووضع أوزان نسبية لتلك المعايي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ربما تحتاج إلى معرفة معايير المستفيد من حل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من المعايير : ( الكُلْفَة ، القبول ، الإمكانيات ، الوقت ، المكان ... الخ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84720" y="404640"/>
            <a:ext cx="719280" cy="5050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rot="10800000">
            <a:off x="2627280" y="549000"/>
            <a:ext cx="71928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643280" y="620640"/>
            <a:ext cx="0" cy="540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cc"/>
                </a:solidFill>
                <a:latin typeface="Arial"/>
                <a:cs typeface="AL-Mateen"/>
              </a:rPr>
              <a:t>الخطو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بناء قبول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00"/>
                </a:solidFill>
                <a:latin typeface="Arial"/>
                <a:ea typeface="AL-Hor"/>
              </a:rPr>
              <a:t>  في هذه الخطوة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05636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قم بدراسة هذا الحل وطريقة تطبيقه وجعل الآخرين يتعاملون معه بإيجا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وجه جهدك نحو تقصي مصادر الدعم والمساندة للحل ، ومصادر الرفض وعدم القب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ثم ستتمكن من بناء قرار صائب حول خطتك في تطبيق الحل وتقويمه على المدى القريب والبعيد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1052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L-Hor"/>
              </a:rPr>
              <a:t>انظر إلى مدى قبول هذا الحل من قبل الآخرين ، ومكانته في نظرهم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8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 ــ وجه هذا التساؤ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ـ أي هذه المصادر أكثر أهمية للتعامل مع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ــ بهذه العملية سيتضمن اختيارك تحدي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أهم الداعمين ( وكيف ستستخدمهم على نحو فعال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وأهم المعارضين وأكثرهم خطراً على الحل ( ودراسة أفضل الطرق التي تمكنك من منعهم أو التصدي لهم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41440" indent="-234720" algn="r" rtl="1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L-Mateen"/>
              </a:rPr>
              <a:t>أسئلة مساعد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ن المشاركون المهمون في التطبيق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إشراك الداعمين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التعامل مع مصادر الرفض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الخطوات الإجرائ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أهم الإمكانيات والمصادر المطلوب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خطة التقييم ؟ متى وأين يجب تطبيق هذه الخط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8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121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3300"/>
                </a:solidFill>
                <a:latin typeface="Arial"/>
                <a:cs typeface="AL-Mateen"/>
              </a:rPr>
              <a:t>الهدف : التعرف على مصادر الدعم والرفض للحلول التي توصلت إلي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ذلك من خلال الإجابة على التساؤل 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أشخاص الداعمون ل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الإمكانيات والمصادر المطلوبة التي تساعد في 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الوقت المناسب ل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المكان المناسب لتطبيق خطة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تريد تطبيق هذا الحل دون غيره ( المبررات والمسوغات )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  <a:ea typeface="AL-Mateen"/>
              </a:rPr>
              <a:t>* استخدم هذه الأسئلة للتعرف على مصادر عدم القبول والرفض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معارضون والناقدون المحتمل ظهوره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هي المصادر والإمكانيات المهمة والتي لم يتم دراستها أو التعرض إليه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أسوأ وقت يمكن أن يطبق فيه الحل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أسوأ مكان لتطبيق هذا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هذا الحل لا يرغبه الناس ( مبررات عدم القبول ) 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596360" y="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0800000">
            <a:off x="2195280" y="18864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211640" y="404640"/>
            <a:ext cx="71280" cy="5904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9112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2640" y="281160"/>
            <a:ext cx="2041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قا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L-Hosa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508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042920" y="765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8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8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3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8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8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8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8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8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800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800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8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8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8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8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8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8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800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800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Arial"/>
                <a:cs typeface="AL-Hosam"/>
              </a:rPr>
              <a:t>توجيهات العمل في حل المشك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92200" y="1600200"/>
            <a:ext cx="7724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عمل على مراحل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L-Mateen"/>
              </a:rPr>
              <a:t>cps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  <a:ea typeface="AL-Mateen"/>
              </a:rPr>
              <a:t> وافتح أفق التفكير فلا تكن النماذج حصراً لذهنك من التفكير خارج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ستخدم البطاقات كلما احتجت إلى تنظيم وتنويع في التفكي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كن مرناً في استخدام مهارات التفكير الأخرى داخل هذا البرنامج . ( أضف واحذف منها بحسب الحاجة ) . أ.ه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508720" y="765000"/>
            <a:ext cx="2232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4"/>
          <a:stretch/>
        </p:blipFill>
        <p:spPr>
          <a:xfrm>
            <a:off x="3995640" y="981000"/>
            <a:ext cx="1150920" cy="70344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684360" y="62064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48000" y="234936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Diwani Simple Outline 2"/>
              </a:rPr>
              <a:t>هذا صاحبكم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Diwani Simple Outline 2"/>
              <a:ea typeface="Diwani Simple Outline 2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08000" y="3213000"/>
            <a:ext cx="53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KR HEAD2"/>
              </a:rPr>
              <a:t>نبيل بن محمد البدير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KR HEAD2"/>
              <a:ea typeface="SKR HEAD2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132000" y="4508640"/>
            <a:ext cx="24195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DecoType Naskh Swashes"/>
              </a:rPr>
              <a:t>يقدم لكم أفضل تح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DecoType Naskh Swashes"/>
              <a:ea typeface="DecoType Naskh Swashes"/>
            </a:endParaRPr>
          </a:p>
        </p:txBody>
      </p:sp>
    </p:spTree>
  </p:cSld>
  <p:transition>
    <p:fad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ثاني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84280" y="3212640"/>
            <a:ext cx="6400800" cy="2087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 ست مقدمات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مراحل  </a:t>
            </a:r>
            <a:r>
              <a:rPr b="0" lang="en-US" sz="5400" spc="-1" strike="noStrike">
                <a:solidFill>
                  <a:srgbClr val="006600"/>
                </a:solidFill>
                <a:latin typeface="PageClips"/>
                <a:ea typeface="MCS Hijon E_U normal."/>
              </a:rPr>
              <a:t>cp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 txBox="1"/>
          <p:nvPr/>
        </p:nvSpPr>
        <p:spPr>
          <a:xfrm>
            <a:off x="0" y="134136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مقدمات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68360" y="4584600"/>
            <a:ext cx="32400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p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990033"/>
                </a:solidFill>
                <a:latin typeface="Arial"/>
              </a:rPr>
              <a:t>هناك مشكل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16428600">
            <a:off x="1124280" y="1365840"/>
            <a:ext cx="4389480" cy="358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لا يوجد ح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04000" y="2602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076720" y="2924280"/>
            <a:ext cx="338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3366"/>
                </a:solidFill>
                <a:latin typeface="Arial"/>
              </a:rPr>
              <a:t>ما هذه الكارث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8360" y="620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67280" y="260280"/>
            <a:ext cx="28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993366"/>
                </a:solidFill>
                <a:latin typeface="Arial"/>
              </a:rPr>
              <a:t>هناك حل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3835800">
            <a:off x="3655440" y="71424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333360"/>
            <a:ext cx="194472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ستح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ح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غير 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شكلة ما  لها ح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الأمور مستحي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9080" y="530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مشاكل مشكلات تعقدت لن تحل مستحيل أين الحل مستحيل لا يمكن لا 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18842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5019000">
            <a:off x="-396720" y="23493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63640" y="5780160"/>
            <a:ext cx="6400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019240" y="1634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663300"/>
                </a:solidFill>
                <a:latin typeface="Arial"/>
              </a:rPr>
              <a:t>هناك مشكل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20000" y="94608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3366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Times New Roman"/>
              </a:rPr>
              <a:t>No </a:t>
            </a: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Angsana New"/>
              </a:rPr>
              <a:t>Probl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1619280" y="1341360"/>
            <a:ext cx="691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abic Transparent"/>
              </a:rPr>
              <a:t>مواجهة الناس للمشكلة ؟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5:22:37Z</dcterms:created>
  <dc:creator>النفيسة للحاسب</dc:creator>
  <dc:description/>
  <dc:language>en-US</dc:language>
  <cp:lastModifiedBy>النفيسة للحاسب</cp:lastModifiedBy>
  <dcterms:modified xsi:type="dcterms:W3CDTF">2005-06-19T05:08:20Z</dcterms:modified>
  <cp:revision>20</cp:revision>
  <dc:subject/>
  <dc:title>الشريحة 1</dc:title>
</cp:coreProperties>
</file>