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15.wmf" ContentType="image/x-wmf"/>
  <Override PartName="/ppt/media/image11.jpeg" ContentType="image/jpeg"/>
  <Override PartName="/ppt/media/image23.wmf" ContentType="image/x-wmf"/>
  <Override PartName="/ppt/media/image6.jpeg" ContentType="image/jpe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wmf" ContentType="image/x-wmf"/>
  <Override PartName="/ppt/media/image24.png" ContentType="image/png"/>
  <Override PartName="/ppt/media/image22.png" ContentType="image/png"/>
  <Override PartName="/ppt/media/image21.wmf" ContentType="image/x-wmf"/>
  <Override PartName="/ppt/media/image17.png" ContentType="image/png"/>
  <Override PartName="/ppt/media/image16.wmf" ContentType="image/x-wmf"/>
  <Override PartName="/ppt/media/image14.jpeg" ContentType="image/jpeg"/>
  <Override PartName="/ppt/media/image13.jpeg" ContentType="image/jpeg"/>
  <Override PartName="/ppt/media/image19.png" ContentType="image/png"/>
  <Override PartName="/ppt/media/REMINDER.WAV" ContentType="audio/x-wav"/>
  <Override PartName="/ppt/media/image20.wmf" ContentType="image/x-wmf"/>
  <Override PartName="/ppt/media/image18.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9F83C-17BE-49D5-A289-55F866348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ADDBF-581D-4328-87B6-FA69CBBC4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DDA3A-1816-44E0-87C8-FB124AE46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1B598-C339-4BA5-A985-F039CBA33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C2F78-5B84-45C2-8971-802EFCC0D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F7E5E-A4C2-4275-9E38-03AE5D9EE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60EEA-3A99-4670-8727-FF32AF418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D55DE-AE67-49E5-A9E6-3362DB11F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A346F-95F5-4BF0-BD20-92D2B69D0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437D7-1038-4734-B1D8-BDC3C73F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A5C43-DD09-4AEC-8E83-B37A81EA9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66129-7270-4CA6-B899-3314F8667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8A6D-E32C-4F07-965E-69441DE0B6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REMINDER.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4.jpeg"/><Relationship Id="rId6" Type="http://schemas.openxmlformats.org/officeDocument/2006/relationships/image" Target="../media/image13.jpeg"/><Relationship Id="rId7" Type="http://schemas.openxmlformats.org/officeDocument/2006/relationships/image" Target="../media/image5.jpeg"/><Relationship Id="rId8" Type="http://schemas.openxmlformats.org/officeDocument/2006/relationships/image" Target="../media/image14.jpeg"/><Relationship Id="rId9" Type="http://schemas.openxmlformats.org/officeDocument/2006/relationships/image" Target="../media/image8.jpeg"/><Relationship Id="rId10" Type="http://schemas.openxmlformats.org/officeDocument/2006/relationships/image" Target="../media/image15.wmf"/><Relationship Id="rId11" Type="http://schemas.openxmlformats.org/officeDocument/2006/relationships/audio" Target="../media/REMINDER.WAV"/><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wmf"/><Relationship Id="rId3" Type="http://schemas.openxmlformats.org/officeDocument/2006/relationships/audio" Target="../media/REMINDER.WAV"/><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audio" Target="../media/REMINDER.WAV"/><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audio" Target="../media/REMINDER.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66ff"/>
                </a:solidFill>
                <a:latin typeface="Times New Roman"/>
              </a:rPr>
              <a:t>تنمية مهارات التفكير الإبداعي لدى طلاب الصفوف الأولية </a:t>
            </a:r>
            <a:br>
              <a:rPr sz="4400"/>
            </a:br>
            <a:r>
              <a:rPr b="0" lang="ar-SA" sz="4400" spc="-1" strike="noStrike">
                <a:solidFill>
                  <a:srgbClr val="cc66ff"/>
                </a:solidFill>
                <a:latin typeface="Times New Roman"/>
              </a:rPr>
              <a:t>إعداد : مشرف التدريب التربوي </a:t>
            </a:r>
            <a:br>
              <a:rPr sz="4400"/>
            </a:br>
            <a:r>
              <a:rPr b="0" lang="ar-SA" sz="4400" spc="-1" strike="noStrike">
                <a:solidFill>
                  <a:srgbClr val="cc66ff"/>
                </a:solidFill>
                <a:latin typeface="Times New Roman"/>
              </a:rPr>
              <a:t>سعيد فازع القرني</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ff"/>
                </a:solidFill>
                <a:latin typeface="Times New Roman"/>
              </a:rPr>
              <a:t>موضوع الجلسة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ff"/>
                </a:solidFill>
                <a:latin typeface="Times New Roman"/>
              </a:rPr>
              <a:t>دور معلم الصفوف الأولية في تنمية مهارات التفكير الإبداعي لدى طلاب الصفوف الأولية</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 name="AG00013_" descr=""/>
          <p:cNvPicPr/>
          <p:nvPr/>
        </p:nvPicPr>
        <p:blipFill>
          <a:blip r:embed="rId1"/>
          <a:stretch/>
        </p:blipFill>
        <p:spPr>
          <a:xfrm>
            <a:off x="609480" y="2438280"/>
            <a:ext cx="2590920" cy="2286000"/>
          </a:xfrm>
          <a:prstGeom prst="rect">
            <a:avLst/>
          </a:prstGeom>
          <a:ln w="0">
            <a:noFill/>
          </a:ln>
        </p:spPr>
      </p:pic>
    </p:spTree>
  </p:cSld>
  <p:transition spd="med" advTm="1000">
    <p:blinds dir="vert"/>
    <p:sndAc>
      <p:stSnd>
        <p:snd r:embed="rId2" name="REMIND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6553080" y="304920"/>
            <a:ext cx="2286000" cy="1600200"/>
          </a:xfrm>
          <a:prstGeom prst="smileyFace">
            <a:avLst>
              <a:gd name="adj" fmla="val 9282"/>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علمي</a:t>
            </a:r>
            <a:endParaRPr b="0" lang="en-US" sz="2800" spc="-1" strike="noStrike">
              <a:solidFill>
                <a:srgbClr val="000000"/>
              </a:solidFill>
              <a:latin typeface="Times New Roman"/>
            </a:endParaRPr>
          </a:p>
        </p:txBody>
      </p:sp>
      <p:sp>
        <p:nvSpPr>
          <p:cNvPr id="63" name=""/>
          <p:cNvSpPr/>
          <p:nvPr/>
        </p:nvSpPr>
        <p:spPr>
          <a:xfrm>
            <a:off x="3505320" y="152280"/>
            <a:ext cx="2286000" cy="1600200"/>
          </a:xfrm>
          <a:prstGeom prst="smileyFace">
            <a:avLst>
              <a:gd name="adj" fmla="val 9282"/>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منطقي</a:t>
            </a:r>
            <a:endParaRPr b="0" lang="en-US" sz="2800" spc="-1" strike="noStrike">
              <a:solidFill>
                <a:srgbClr val="000000"/>
              </a:solidFill>
              <a:latin typeface="Times New Roman"/>
            </a:endParaRPr>
          </a:p>
        </p:txBody>
      </p:sp>
      <p:sp>
        <p:nvSpPr>
          <p:cNvPr id="64" name=""/>
          <p:cNvSpPr/>
          <p:nvPr/>
        </p:nvSpPr>
        <p:spPr>
          <a:xfrm>
            <a:off x="3581280" y="2819520"/>
            <a:ext cx="2286000" cy="1600200"/>
          </a:xfrm>
          <a:prstGeom prst="smileyFace">
            <a:avLst>
              <a:gd name="adj" fmla="val 9282"/>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أنماط التفكير السبعة </a:t>
            </a:r>
            <a:endParaRPr b="0" lang="en-US" sz="2800" spc="-1" strike="noStrike">
              <a:solidFill>
                <a:srgbClr val="000000"/>
              </a:solidFill>
              <a:latin typeface="Times New Roman"/>
            </a:endParaRPr>
          </a:p>
        </p:txBody>
      </p:sp>
      <p:sp>
        <p:nvSpPr>
          <p:cNvPr id="65" name=""/>
          <p:cNvSpPr/>
          <p:nvPr/>
        </p:nvSpPr>
        <p:spPr>
          <a:xfrm>
            <a:off x="6781680" y="2895480"/>
            <a:ext cx="2286000" cy="1600200"/>
          </a:xfrm>
          <a:prstGeom prst="smileyFace">
            <a:avLst>
              <a:gd name="adj" fmla="val 9282"/>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التفكير الإبداعي</a:t>
            </a:r>
            <a:endParaRPr b="0" lang="en-US" sz="2800" spc="-1" strike="noStrike">
              <a:solidFill>
                <a:srgbClr val="000000"/>
              </a:solidFill>
              <a:latin typeface="Times New Roman"/>
            </a:endParaRPr>
          </a:p>
        </p:txBody>
      </p:sp>
      <p:sp>
        <p:nvSpPr>
          <p:cNvPr id="66" name=""/>
          <p:cNvSpPr/>
          <p:nvPr/>
        </p:nvSpPr>
        <p:spPr>
          <a:xfrm>
            <a:off x="6629400" y="5181480"/>
            <a:ext cx="2286000" cy="1600200"/>
          </a:xfrm>
          <a:prstGeom prst="smileyFace">
            <a:avLst>
              <a:gd name="adj" fmla="val 9282"/>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ff"/>
                </a:solidFill>
                <a:latin typeface="Times New Roman"/>
              </a:rPr>
              <a:t>التفكير الخرافي </a:t>
            </a:r>
            <a:endParaRPr b="0" lang="en-US" sz="2800" spc="-1" strike="noStrike">
              <a:solidFill>
                <a:srgbClr val="000000"/>
              </a:solidFill>
              <a:latin typeface="Times New Roman"/>
            </a:endParaRPr>
          </a:p>
        </p:txBody>
      </p:sp>
      <p:sp>
        <p:nvSpPr>
          <p:cNvPr id="67" name=""/>
          <p:cNvSpPr/>
          <p:nvPr/>
        </p:nvSpPr>
        <p:spPr>
          <a:xfrm>
            <a:off x="152280" y="5181480"/>
            <a:ext cx="2286000" cy="1600200"/>
          </a:xfrm>
          <a:prstGeom prst="smileyFace">
            <a:avLst>
              <a:gd name="adj" fmla="val 9282"/>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ff"/>
                </a:solidFill>
                <a:latin typeface="Times New Roman"/>
              </a:rPr>
              <a:t>التفكير التسلطي</a:t>
            </a:r>
            <a:endParaRPr b="0" lang="en-US" sz="2800" spc="-1" strike="noStrike">
              <a:solidFill>
                <a:srgbClr val="000000"/>
              </a:solidFill>
              <a:latin typeface="Times New Roman"/>
            </a:endParaRPr>
          </a:p>
        </p:txBody>
      </p:sp>
      <p:sp>
        <p:nvSpPr>
          <p:cNvPr id="68" name=""/>
          <p:cNvSpPr/>
          <p:nvPr/>
        </p:nvSpPr>
        <p:spPr>
          <a:xfrm>
            <a:off x="76320" y="2819520"/>
            <a:ext cx="2286000" cy="1600200"/>
          </a:xfrm>
          <a:prstGeom prst="smileyFace">
            <a:avLst>
              <a:gd name="adj" fmla="val 9282"/>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Times New Roman"/>
              </a:rPr>
              <a:t>التفكير التوفيقي</a:t>
            </a:r>
            <a:endParaRPr b="0" lang="en-US" sz="2800" spc="-1" strike="noStrike">
              <a:solidFill>
                <a:srgbClr val="000000"/>
              </a:solidFill>
              <a:latin typeface="Times New Roman"/>
            </a:endParaRPr>
          </a:p>
        </p:txBody>
      </p:sp>
      <p:sp>
        <p:nvSpPr>
          <p:cNvPr id="69" name=""/>
          <p:cNvSpPr/>
          <p:nvPr/>
        </p:nvSpPr>
        <p:spPr>
          <a:xfrm>
            <a:off x="457200" y="228600"/>
            <a:ext cx="2286000" cy="1600200"/>
          </a:xfrm>
          <a:prstGeom prst="smileyFace">
            <a:avLst>
              <a:gd name="adj" fmla="val 9282"/>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ناقد</a:t>
            </a:r>
            <a:endParaRPr b="0" lang="en-US" sz="2800" spc="-1" strike="noStrike">
              <a:solidFill>
                <a:srgbClr val="000000"/>
              </a:solidFill>
              <a:latin typeface="Times New Roman"/>
            </a:endParaRPr>
          </a:p>
        </p:txBody>
      </p:sp>
      <p:pic>
        <p:nvPicPr>
          <p:cNvPr id="70" name="BD09264_" descr=""/>
          <p:cNvPicPr/>
          <p:nvPr/>
        </p:nvPicPr>
        <p:blipFill>
          <a:blip r:embed="rId10">
            <a:lum bright="24000"/>
          </a:blip>
          <a:stretch/>
        </p:blipFill>
        <p:spPr>
          <a:xfrm>
            <a:off x="3276720" y="4495680"/>
            <a:ext cx="2170080" cy="2286000"/>
          </a:xfrm>
          <a:prstGeom prst="rect">
            <a:avLst/>
          </a:prstGeom>
          <a:ln w="0">
            <a:noFill/>
          </a:ln>
        </p:spPr>
      </p:pic>
      <p:sp>
        <p:nvSpPr>
          <p:cNvPr id="71" name=""/>
          <p:cNvSpPr/>
          <p:nvPr/>
        </p:nvSpPr>
        <p:spPr>
          <a:xfrm>
            <a:off x="4419720" y="1752480"/>
            <a:ext cx="533160" cy="990720"/>
          </a:xfrm>
          <a:prstGeom prst="upArrow">
            <a:avLst>
              <a:gd name="adj1" fmla="val 50000"/>
              <a:gd name="adj2" fmla="val 4645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rot="2706600">
            <a:off x="5871960" y="1363320"/>
            <a:ext cx="533520" cy="1828800"/>
          </a:xfrm>
          <a:prstGeom prst="upArrow">
            <a:avLst>
              <a:gd name="adj1" fmla="val 50000"/>
              <a:gd name="adj2" fmla="val 8569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rot="5375400">
            <a:off x="6095880" y="3276720"/>
            <a:ext cx="533520" cy="838080"/>
          </a:xfrm>
          <a:prstGeom prst="upArrow">
            <a:avLst>
              <a:gd name="adj1" fmla="val 50000"/>
              <a:gd name="adj2" fmla="val 39271"/>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rot="18843600">
            <a:off x="2977920" y="1257120"/>
            <a:ext cx="533520" cy="2003400"/>
          </a:xfrm>
          <a:prstGeom prst="upArrow">
            <a:avLst>
              <a:gd name="adj1" fmla="val 50000"/>
              <a:gd name="adj2" fmla="val 9387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rot="16200000">
            <a:off x="2666880" y="3047760"/>
            <a:ext cx="533520" cy="1143000"/>
          </a:xfrm>
          <a:prstGeom prst="upArrow">
            <a:avLst>
              <a:gd name="adj1" fmla="val 50000"/>
              <a:gd name="adj2" fmla="val 53559"/>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rot="13813800">
            <a:off x="2685960" y="3722040"/>
            <a:ext cx="533160" cy="1981440"/>
          </a:xfrm>
          <a:prstGeom prst="upArrow">
            <a:avLst>
              <a:gd name="adj1" fmla="val 50000"/>
              <a:gd name="adj2" fmla="val 9291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rot="8141400">
            <a:off x="5854320" y="4070160"/>
            <a:ext cx="533520" cy="1676160"/>
          </a:xfrm>
          <a:prstGeom prst="upArrow">
            <a:avLst>
              <a:gd name="adj1" fmla="val 50000"/>
              <a:gd name="adj2" fmla="val 78543"/>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11" name="REMINDE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28600" y="76320"/>
            <a:ext cx="8610480" cy="100836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النشاط الأول </a:t>
            </a:r>
            <a:endParaRPr b="0" lang="en-US" sz="6000" spc="-1" strike="noStrike">
              <a:solidFill>
                <a:srgbClr val="000000"/>
              </a:solidFill>
              <a:latin typeface="Times New Roman"/>
            </a:endParaRPr>
          </a:p>
        </p:txBody>
      </p:sp>
      <p:sp>
        <p:nvSpPr>
          <p:cNvPr id="79" name=""/>
          <p:cNvSpPr/>
          <p:nvPr/>
        </p:nvSpPr>
        <p:spPr>
          <a:xfrm>
            <a:off x="-152280" y="762120"/>
            <a:ext cx="9144000" cy="72723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يمثل التفكير أعقد أنواع السلوك الإنساني ، فهو يأتي في أعلى مستويات النشاط العقلي ، كما يعد من أهم الخصائص التي تميز الإنسان عن غيره من المخلوقات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 ناقش مع بقية زملائك في المجموعة النقاط التالية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أولا : تعريف التفكير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ثانيا : من الأمور التي يحتاجها المعلم لفهم مستوى تفكير الأطفال أن يفهم أنماط تفكيرهم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ناقش هذه الأنماط معرفا بها ، ومبينا الأنماط التي تشكل خطرًا على تفكير الأطفال .</a:t>
            </a: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cc00ff"/>
                </a:solidFill>
                <a:latin typeface="Times New Roman"/>
              </a:rPr>
              <a:t>عرض المدرب</a:t>
            </a:r>
            <a:endParaRPr b="0" lang="en-US" sz="8000" spc="-1" strike="noStrike">
              <a:solidFill>
                <a:srgbClr val="000000"/>
              </a:solidFill>
              <a:latin typeface="Times New Roman"/>
            </a:endParaRPr>
          </a:p>
        </p:txBody>
      </p:sp>
      <p:pic>
        <p:nvPicPr>
          <p:cNvPr id="81" name="BD05969_" descr=""/>
          <p:cNvPicPr/>
          <p:nvPr/>
        </p:nvPicPr>
        <p:blipFill>
          <a:blip r:embed="rId2">
            <a:lum bright="30000"/>
          </a:blip>
          <a:stretch/>
        </p:blipFill>
        <p:spPr>
          <a:xfrm>
            <a:off x="2209680" y="1752480"/>
            <a:ext cx="4953240" cy="5105520"/>
          </a:xfrm>
          <a:prstGeom prst="rect">
            <a:avLst/>
          </a:prstGeom>
          <a:ln w="0">
            <a:noFill/>
          </a:ln>
        </p:spPr>
      </p:pic>
    </p:spTree>
  </p:cSld>
  <p:transition spd="med" advTm="1000">
    <p:blinds dir="vert"/>
    <p:sndAc>
      <p:stSnd>
        <p:snd r:embed="rId3" name="REMIND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أنماط</a:t>
            </a:r>
            <a:r>
              <a:rPr b="0" lang="en-US" sz="6000" spc="-1" strike="noStrike">
                <a:solidFill>
                  <a:srgbClr val="ff66ff"/>
                </a:solidFill>
                <a:latin typeface="Times New Roman"/>
              </a:rPr>
              <a:t> </a:t>
            </a:r>
            <a:r>
              <a:rPr b="0" lang="hi-IN" sz="6000" spc="-1" strike="noStrike">
                <a:solidFill>
                  <a:srgbClr val="3333cc"/>
                </a:solidFill>
                <a:latin typeface="Times New Roman"/>
              </a:rPr>
              <a:t>التفكير</a:t>
            </a:r>
            <a:r>
              <a:rPr b="0" lang="en-US" sz="6000" spc="-1" strike="noStrike">
                <a:solidFill>
                  <a:srgbClr val="ff66ff"/>
                </a:solidFill>
                <a:latin typeface="Times New Roman"/>
              </a:rPr>
              <a:t> </a:t>
            </a:r>
            <a:r>
              <a:rPr b="0" lang="hi-IN" sz="6000" spc="-1" strike="noStrike">
                <a:solidFill>
                  <a:srgbClr val="3333cc"/>
                </a:solidFill>
                <a:latin typeface="Times New Roman"/>
              </a:rPr>
              <a:t>السبعة</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
          <p:cNvSpPr/>
          <p:nvPr/>
        </p:nvSpPr>
        <p:spPr>
          <a:xfrm>
            <a:off x="0" y="801720"/>
            <a:ext cx="8915400" cy="803196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cc"/>
                </a:solidFill>
                <a:latin typeface="Times New Roman"/>
              </a:rPr>
              <a:t>أولا : التفكير العلمي :</a:t>
            </a:r>
            <a:endParaRPr b="0" lang="en-US" sz="4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ويقصد به ذلك النوع من التفكير المنظم الذي يمكن أن يستخدمه الفرد في حياته اليومية ، أو في النشاط الذي يبذله ، أو في علاقته مع العالم المحيط به ) .</a:t>
            </a:r>
            <a:r>
              <a:rPr b="0" lang="en-US" sz="2400" spc="-1" strike="noStrike">
                <a:solidFill>
                  <a:srgbClr val="0000ff"/>
                </a:solidFill>
                <a:latin typeface="Times New Roman"/>
              </a:rPr>
              <a:t> </a:t>
            </a:r>
            <a:r>
              <a:rPr b="1" lang="hi-IN" sz="2400" spc="-1" strike="noStrike">
                <a:solidFill>
                  <a:srgbClr val="0000ff"/>
                </a:solidFill>
                <a:latin typeface="Times New Roman"/>
              </a:rPr>
              <a:t>ويشترط في هذا النوع من التفكي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en-US" sz="2400" spc="-1" strike="noStrike">
                <a:solidFill>
                  <a:srgbClr val="0000ff"/>
                </a:solidFill>
                <a:latin typeface="Times New Roman"/>
              </a:rPr>
              <a:t>- أن يكون منظما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en-US" sz="2400" spc="-1" strike="noStrike">
                <a:solidFill>
                  <a:srgbClr val="0000ff"/>
                </a:solidFill>
                <a:latin typeface="Times New Roman"/>
              </a:rPr>
              <a:t>- أن يبنى على مجموعة من المبادئ التي يطبقها الفرد كل لحظة دون أن يشعر به شعورا واعيا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rPr>
              <a:t>والتفكير العلمي : هو المنهج الذي يتم بمقتضاه تفسير أية ظاهرة بالكشف عن الأسباب التي أدت إلى حدوثها على هذا النحو ، ويأتي هذا بدراسة تجريبية تاريخية للظاهرة على أن يتم الكشف عما هو أساسي ، وجوهري  ، ويقوم بدور السبب ، وعملية التفكير العلمي يغلب عليها الملاحظة ، والاستقراء ، والاستنتاج .</a:t>
            </a:r>
            <a:endParaRPr b="0" lang="en-US" sz="2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rPr>
              <a:t>ويمكن القول : إن التفكير العلمي هو التفكير الأكثر استجابة لحاجات الاستطلاع التي تبقى ملحة على تفكير الطفل طوال مرحلة نموه وتطوره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a50021"/>
                </a:solidFill>
                <a:latin typeface="Times New Roman"/>
              </a:rPr>
              <a:t>ثانيا : التفكير المنطقي</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
          <p:cNvSpPr/>
          <p:nvPr/>
        </p:nvSpPr>
        <p:spPr>
          <a:xfrm>
            <a:off x="152280" y="1143000"/>
            <a:ext cx="8839440" cy="7450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00"/>
                </a:solidFill>
                <a:latin typeface="Times New Roman"/>
              </a:rPr>
              <a:t>وهو التفكير الذي يمارس عند محاولة بيان الأسباب ، والعلل التي تكمن وراء الأشياء ، ومحاولة معرفة نتائج الأعمال ، ولكنه أكثر من مجرد تحديد الأسباب ، أو النتائج . إنه يعني الحصول على أدلة تؤيد أو تثبت وجهة النظر ، أو تنفيها . </a:t>
            </a:r>
            <a:endParaRPr b="0" lang="en-US" sz="32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00"/>
                </a:solidFill>
                <a:latin typeface="Times New Roman"/>
              </a:rPr>
              <a:t>ويبدأ الطفل اكتساب خطوات التفكير المنطقي في المرحلة الثالثة من مراحل النمو العقلي الأربع ، وهذا المرحلة تمتد ما بين سن السابعة والحادية عشرة ، حيث يميل إلى القرارات المنطقية بدلا من القرارات الإدراكية الحسية ، كما يصبح الطفل قادرا على التفكير فيما يترتب على الأفعال من نتائج ، والتنبؤ بالحوادث المستقبلية ، كما يطور الطفل مفاهيم مماثلة لمفاهيم الراشدين، فيصنف الأشياء بناء على أبعاد متعددة في الوقت نفسه .</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cc3300"/>
                </a:solidFill>
                <a:latin typeface="Times New Roman"/>
              </a:rPr>
              <a:t>ثالثا : التفـكير النـاقــد </a:t>
            </a:r>
            <a:endParaRPr b="0" lang="en-US" sz="6000" spc="-1" strike="noStrike">
              <a:solidFill>
                <a:srgbClr val="000000"/>
              </a:solidFill>
              <a:latin typeface="Times New Roman"/>
            </a:endParaRPr>
          </a:p>
        </p:txBody>
      </p:sp>
      <p:sp>
        <p:nvSpPr>
          <p:cNvPr id="87" name=""/>
          <p:cNvSpPr/>
          <p:nvPr/>
        </p:nvSpPr>
        <p:spPr>
          <a:xfrm>
            <a:off x="228600" y="1219320"/>
            <a:ext cx="8686800" cy="55803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ff"/>
                </a:solidFill>
                <a:latin typeface="Times New Roman"/>
              </a:rPr>
              <a:t>يمكن القول أن هدف التربية الأسمى هو تعليم التفكير الناقد. ويمكن تعريف التفكير الناقد بأنه عملية تقوم على توخي الدقة في ملاحظة الوقــائع التي تتصل بالموضوعات ، ومناقشــتها  وتقويمها ، والتقـيد بإطار العلاقات الصحيحة الذي ينتمي إليه هـذا الواقع ، واستــخلاص النتــائج بطــريقة منطـقية سليـمة  ومراعاة موضوعية العملية ، وبعدها عـن العــوامل الذاتــية كالتأثر بالنواحي العاطــفية ، أو الأفــكار السابقة ، أو الآراء التقليدية .</a:t>
            </a: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
          <p:cNvSpPr txBox="1"/>
          <p:nvPr/>
        </p:nvSpPr>
        <p:spPr>
          <a:xfrm>
            <a:off x="685800" y="6248520"/>
            <a:ext cx="190512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a50021"/>
                </a:solidFill>
                <a:latin typeface="Times New Roman"/>
              </a:rPr>
              <a:t>رابعا : التفكير الإبداعي </a:t>
            </a:r>
            <a:endParaRPr b="0" lang="en-US" sz="6000" spc="-1" strike="noStrike">
              <a:solidFill>
                <a:srgbClr val="000000"/>
              </a:solidFill>
              <a:latin typeface="Times New Roman"/>
            </a:endParaRPr>
          </a:p>
        </p:txBody>
      </p:sp>
      <p:sp>
        <p:nvSpPr>
          <p:cNvPr id="91" name=""/>
          <p:cNvSpPr/>
          <p:nvPr/>
        </p:nvSpPr>
        <p:spPr>
          <a:xfrm>
            <a:off x="-76320" y="1417680"/>
            <a:ext cx="9144000" cy="71164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هو أن توجد شيئا مألوفا من شيء غير مألوف ، وأن تحوِّل المألوف إلى شيء غير مألوف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العملية الإبداعية ، عملية ذهنية تتطور عبر مراحل هي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a:t>
            </a:r>
            <a:r>
              <a:rPr b="1" lang="en-US" sz="2000" spc="-1" strike="noStrike">
                <a:solidFill>
                  <a:srgbClr val="0000ff"/>
                </a:solidFill>
                <a:latin typeface="Times New Roman"/>
              </a:rPr>
              <a:t>- مرحلة الإعداد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الخلفية المعرفية الشاملة والمتعمقة في الموضوع الذي يبدع فيه الفرد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a:t>
            </a:r>
            <a:r>
              <a:rPr b="1" lang="en-US" sz="2000" spc="-1" strike="noStrike">
                <a:solidFill>
                  <a:srgbClr val="0000ff"/>
                </a:solidFill>
                <a:latin typeface="Times New Roman"/>
              </a:rPr>
              <a:t>- مرحلة التحضير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حالة من القلق ، والخوف ، والتردد بالقيام بالعمل ، والبحث عن الحلول ، وهي أصعب مراحل العملية الإبداع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3</a:t>
            </a:r>
            <a:r>
              <a:rPr b="1" lang="en-US" sz="2000" spc="-1" strike="noStrike">
                <a:solidFill>
                  <a:srgbClr val="0000ff"/>
                </a:solidFill>
                <a:latin typeface="Times New Roman"/>
              </a:rPr>
              <a:t>- مرحلة الإشراف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الحالة التي تحدث بها الومضة ، أو الشرارة التي تؤدي إلى فكرة الحل ، والخروج من المأزق ، وهذه الحالة لا يمكن تحديدها مسبقا ، فهي تحدث في وقت ما ، وفي مكان ما ، لدى الفرد دون سابق إنذا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a:t>
            </a:r>
            <a:r>
              <a:rPr b="1" lang="en-US" sz="2000" spc="-1" strike="noStrike">
                <a:solidFill>
                  <a:srgbClr val="0000ff"/>
                </a:solidFill>
                <a:latin typeface="Times New Roman"/>
              </a:rPr>
              <a:t>- مرحلة التحقق : </a:t>
            </a:r>
            <a:endParaRPr b="0" lang="en-US" sz="2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مرحلة الحصول على النتائج الأصلية المفيدة المرضية .</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996633"/>
                </a:solidFill>
                <a:latin typeface="Times New Roman"/>
              </a:rPr>
              <a:t>خامسا : التفكير التوفيقي </a:t>
            </a:r>
            <a:endParaRPr b="0" lang="en-US" sz="6000" spc="-1" strike="noStrike">
              <a:solidFill>
                <a:srgbClr val="000000"/>
              </a:solidFill>
              <a:latin typeface="Times New Roman"/>
            </a:endParaRPr>
          </a:p>
        </p:txBody>
      </p:sp>
      <p:sp>
        <p:nvSpPr>
          <p:cNvPr id="93" name=""/>
          <p:cNvSpPr/>
          <p:nvPr/>
        </p:nvSpPr>
        <p:spPr>
          <a:xfrm>
            <a:off x="76320" y="1600200"/>
            <a:ext cx="8991360" cy="667764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00ff"/>
                </a:solidFill>
                <a:latin typeface="Times New Roman"/>
              </a:rPr>
              <a:t>هو التفكير الذي يتصف صاحبه بالمرونة وعدم القدرة على استيعاب الطــرق التـي يفكر بها الآخرين ، فيظهر تقبلا لأفكارهم  ويغير من أفكـــاره ؛ ليجد طريقًا وسيــطًا يجمع بين طريقته في المعالجة ، وأسلوب الآخرين فيها .</a:t>
            </a:r>
            <a:endParaRPr b="0" lang="en-US" sz="5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ff"/>
                </a:solidFill>
                <a:latin typeface="Times New Roman"/>
              </a:rPr>
              <a:t>سادسا : التفكير الخرافي </a:t>
            </a:r>
            <a:endParaRPr b="0" lang="en-US" sz="6000" spc="-1" strike="noStrike">
              <a:solidFill>
                <a:srgbClr val="000000"/>
              </a:solidFill>
              <a:latin typeface="Times New Roman"/>
            </a:endParaRPr>
          </a:p>
        </p:txBody>
      </p:sp>
      <p:sp>
        <p:nvSpPr>
          <p:cNvPr id="95" name=""/>
          <p:cNvSpPr/>
          <p:nvPr/>
        </p:nvSpPr>
        <p:spPr>
          <a:xfrm>
            <a:off x="76320" y="1066680"/>
            <a:ext cx="8915400" cy="78166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8000"/>
                </a:solidFill>
                <a:latin typeface="Times New Roman"/>
              </a:rPr>
              <a:t>الهدف من استعراض هذا النمط من التفكير هو فهمه بهــدف تحصــين الطلبة مـن استــخدامـه  وتقــــلـيل مناسبات وظروف حدوثه .</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8000"/>
                </a:solidFill>
                <a:latin typeface="Times New Roman"/>
              </a:rPr>
              <a:t>ويمكن تعريف التفكير الخرافي بأنه ( ذلك الـذي يفسر الحوادث تفسيرات لا ترتبط بحقائق واقعية ملموسة ، بل يعزوها إلى أسباب فوق طبيــــعيـة  وعلى أساس غير عقلاني غامض فيه من الخيال نصيب ، ويعتمد على الخرافة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ff"/>
                </a:solidFill>
                <a:latin typeface="Times New Roman"/>
              </a:rPr>
              <a:t>سابعا : التفكير التسلطي </a:t>
            </a:r>
            <a:endParaRPr b="0" lang="en-US" sz="6000" spc="-1" strike="noStrike">
              <a:solidFill>
                <a:srgbClr val="000000"/>
              </a:solidFill>
              <a:latin typeface="Times New Roman"/>
            </a:endParaRPr>
          </a:p>
        </p:txBody>
      </p:sp>
      <p:sp>
        <p:nvSpPr>
          <p:cNvPr id="97" name=""/>
          <p:cNvSpPr/>
          <p:nvPr/>
        </p:nvSpPr>
        <p:spPr>
          <a:xfrm>
            <a:off x="76320" y="1295280"/>
            <a:ext cx="8991360" cy="79128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نهدف أيضا من خلال عرضه إلى فهمه ، بهدف تحصين الطالب من استخدامه ؛ لأن هذا النوع من التفكير إذا شاع فإنه تفكير مَرَضِيُّ ، وهو تفكير يقتل التلقائية ، والنقد ، والإبداع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يقصد بالتفكير التسلطي : ( التفكير المغلق الذي يصف الإنسان ، والذي يتميز به الفرد في توظيفه للمعلومات في مواقــف متنوعة ، ومتبـاينة . ويلاحـظ من خلــال التمـسك بالأحـكام المتــطرفة التي تتــصف بالثــبات ، والجــمـود  ومسايرتها ، والميل إلى القــول المطلق ، أو الرفض مع مقاومة التــغيير ، وعدم تحـمل الغموض في المـــــواقف ، أو الضغوط النفس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هذا النوع من التفكير إذا شاع نتج عنه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1</a:t>
            </a:r>
            <a:r>
              <a:rPr b="1" lang="en-US" sz="2400" spc="-1" strike="noStrike">
                <a:solidFill>
                  <a:srgbClr val="ff0000"/>
                </a:solidFill>
                <a:latin typeface="Times New Roman"/>
              </a:rPr>
              <a:t>- شخصيات ضعيفة .     </a:t>
            </a:r>
            <a:r>
              <a:rPr b="1" lang="en-US" sz="2400" spc="-1" strike="noStrike">
                <a:solidFill>
                  <a:srgbClr val="ff0000"/>
                </a:solidFill>
                <a:latin typeface="Times New Roman"/>
              </a:rPr>
              <a:t>2</a:t>
            </a:r>
            <a:r>
              <a:rPr b="1" lang="en-US" sz="2400" spc="-1" strike="noStrike">
                <a:solidFill>
                  <a:srgbClr val="ff0000"/>
                </a:solidFill>
                <a:latin typeface="Times New Roman"/>
              </a:rPr>
              <a:t>- أطفال خجولون .  </a:t>
            </a:r>
            <a:r>
              <a:rPr b="1" lang="en-US" sz="2400" spc="-1" strike="noStrike">
                <a:solidFill>
                  <a:srgbClr val="ff0000"/>
                </a:solidFill>
                <a:latin typeface="Times New Roman"/>
              </a:rPr>
              <a:t>3</a:t>
            </a:r>
            <a:r>
              <a:rPr b="1" lang="en-US" sz="2400" spc="-1" strike="noStrike">
                <a:solidFill>
                  <a:srgbClr val="ff0000"/>
                </a:solidFill>
                <a:latin typeface="Times New Roman"/>
              </a:rPr>
              <a:t>-  أفكار معادية للتفكير العلمي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 </a:t>
            </a:r>
            <a:r>
              <a:rPr b="1" lang="hi-IN" sz="2800" spc="-1" strike="noStrike">
                <a:solidFill>
                  <a:srgbClr val="ff00ff"/>
                </a:solidFill>
                <a:latin typeface="Times New Roman"/>
              </a:rPr>
              <a:t>دور المعلم في تطوير مهارات التفكير لدى الطلبة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يمكن تحديد الأدوار المهمة للمعلم في تنمية مهارات التفكير لدى طلابه في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أ-  توجيه وطرح الأسئلة المثيرة للتفكير .   ب-  تنظيم الصف .   ج-  استجابة المعلم للطلاب</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rPr>
              <a:t>     نفذ البرنامج التدريبي بالباوربوينت</a:t>
            </a:r>
            <a:br>
              <a:rPr sz="4400"/>
            </a:br>
            <a:br>
              <a:rPr sz="4400"/>
            </a:br>
            <a:r>
              <a:rPr b="0" lang="ar-SA" sz="4400" spc="-1" strike="noStrike">
                <a:solidFill>
                  <a:srgbClr val="9900cc"/>
                </a:solidFill>
                <a:latin typeface="Times New Roman"/>
              </a:rPr>
              <a:t>المشرف التربوي / محمد بن علي المسعري</a:t>
            </a:r>
            <a:br>
              <a:rPr sz="4400"/>
            </a:br>
            <a:r>
              <a:rPr b="0" lang="ar-SA" sz="4400" spc="-1" strike="noStrike">
                <a:solidFill>
                  <a:srgbClr val="9900cc"/>
                </a:solidFill>
                <a:latin typeface="Times New Roman"/>
              </a:rPr>
              <a:t>           إدارة تعليم العاصمة المقدسة </a:t>
            </a:r>
            <a:endParaRPr b="0" lang="en-US" sz="4400" spc="-1" strike="noStrike">
              <a:solidFill>
                <a:srgbClr val="000000"/>
              </a:solidFill>
              <a:latin typeface="Times New Roman"/>
            </a:endParaRPr>
          </a:p>
        </p:txBody>
      </p:sp>
      <p:pic>
        <p:nvPicPr>
          <p:cNvPr id="45" name="محمد%20المسعري" descr=""/>
          <p:cNvPicPr/>
          <p:nvPr/>
        </p:nvPicPr>
        <p:blipFill>
          <a:blip r:embed="rId1"/>
          <a:stretch/>
        </p:blipFill>
        <p:spPr>
          <a:xfrm>
            <a:off x="2971800" y="2895480"/>
            <a:ext cx="3490920" cy="3810240"/>
          </a:xfrm>
          <a:prstGeom prst="rect">
            <a:avLst/>
          </a:prstGeom>
          <a:ln w="0">
            <a:noFill/>
          </a:ln>
        </p:spPr>
      </p:pic>
    </p:spTree>
  </p:cSld>
  <p:transition spd="med" advTm="1000">
    <p:blinds dir="vert"/>
    <p:sndAc>
      <p:stSnd>
        <p:snd r:embed="rId2" name="REMINDE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imes New Roman"/>
              </a:rPr>
              <a:t>النشاط الثاني ( نشاط المجموعات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9" name="PE02106_" descr=""/>
          <p:cNvPicPr/>
          <p:nvPr/>
        </p:nvPicPr>
        <p:blipFill>
          <a:blip r:embed="rId2"/>
          <a:stretch/>
        </p:blipFill>
        <p:spPr>
          <a:xfrm>
            <a:off x="1905120" y="1693800"/>
            <a:ext cx="5753160" cy="4554720"/>
          </a:xfrm>
          <a:prstGeom prst="rect">
            <a:avLst/>
          </a:prstGeom>
          <a:ln w="0">
            <a:noFill/>
          </a:ln>
        </p:spPr>
      </p:pic>
    </p:spTree>
  </p:cSld>
  <p:transition spd="med" advTm="1000">
    <p:blinds dir="vert"/>
    <p:sndAc>
      <p:stSnd>
        <p:snd r:embed="rId3" name="REMINDE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0" name=""/>
          <p:cNvSpPr/>
          <p:nvPr/>
        </p:nvSpPr>
        <p:spPr>
          <a:xfrm>
            <a:off x="0" y="1371600"/>
            <a:ext cx="9144000" cy="76212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152280" y="75960"/>
            <a:ext cx="8839440" cy="6019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أولا : توجيه الأسئلة المثيرة للتفكير :</a:t>
            </a:r>
            <a:r>
              <a:rPr b="0" lang="ar-SA" sz="2400" spc="-1" strike="noStrike">
                <a:solidFill>
                  <a:srgbClr val="cc0099"/>
                </a:solidFill>
                <a:latin typeface="Times New Roman"/>
              </a:rPr>
              <a:t> </a:t>
            </a:r>
            <a:br>
              <a:rPr sz="2400"/>
            </a:br>
            <a:br>
              <a:rPr sz="2400"/>
            </a:br>
            <a:r>
              <a:rPr b="1" lang="ar-SA" sz="2400" spc="-1" strike="noStrike">
                <a:solidFill>
                  <a:srgbClr val="ff0000"/>
                </a:solidFill>
                <a:latin typeface="Times New Roman"/>
              </a:rPr>
              <a:t>التساؤل يساعد الطالب على جمع البيانات ، ومعالجتها بحيث يكسبها معنى ، ويتبين ما بينها من علاقة ، ثم يستخدم هذه العلاقات في مواقف جديدة ، ومختلفة . </a:t>
            </a:r>
            <a:br>
              <a:rPr sz="2400"/>
            </a:br>
            <a:r>
              <a:rPr b="1" lang="ar-SA" sz="2400" spc="-1" strike="noStrike">
                <a:solidFill>
                  <a:srgbClr val="ff0000"/>
                </a:solidFill>
                <a:latin typeface="Times New Roman"/>
              </a:rPr>
              <a:t>ومهمة المعلم الذي يتبنى الأسئلة المثيرة للتفكير لدى الطلاب ، هي استثارة الطلبة لاستخدام حواسهم لتحقيق أهداف منها : </a:t>
            </a:r>
            <a:br>
              <a:rPr sz="2400"/>
            </a:br>
            <a:r>
              <a:rPr b="1" lang="ar-SA" sz="2400" spc="-1" strike="noStrike">
                <a:solidFill>
                  <a:srgbClr val="ff0000"/>
                </a:solidFill>
                <a:latin typeface="Times New Roman"/>
              </a:rPr>
              <a:t>1</a:t>
            </a:r>
            <a:r>
              <a:rPr b="1" lang="ar-SA" sz="2400" spc="-1" strike="noStrike">
                <a:solidFill>
                  <a:srgbClr val="ff0000"/>
                </a:solidFill>
                <a:latin typeface="Times New Roman"/>
              </a:rPr>
              <a:t>- ممارسة الطلاب للعمليات الذهنية الآتية:</a:t>
            </a:r>
            <a:br>
              <a:rPr sz="2400"/>
            </a:br>
            <a:r>
              <a:rPr b="1" lang="ar-SA" sz="2400" spc="-1" strike="noStrike">
                <a:solidFill>
                  <a:srgbClr val="ff0000"/>
                </a:solidFill>
                <a:latin typeface="Times New Roman"/>
              </a:rPr>
              <a:t>التكميل ، والوصف ، والاسترجاع ، تحديد الأشياء ، التسمية ، الملاحظة ، الاختيار ، تعريف الأشياء ، العدد ، الترتيب .</a:t>
            </a:r>
            <a:br>
              <a:rPr sz="2400"/>
            </a:br>
            <a:r>
              <a:rPr b="1" lang="ar-SA" sz="2400" spc="-1" strike="noStrike">
                <a:solidFill>
                  <a:srgbClr val="ff0000"/>
                </a:solidFill>
                <a:latin typeface="Times New Roman"/>
              </a:rPr>
              <a:t>2</a:t>
            </a:r>
            <a:r>
              <a:rPr b="1" lang="ar-SA" sz="2400" spc="-1" strike="noStrike">
                <a:solidFill>
                  <a:srgbClr val="ff0000"/>
                </a:solidFill>
                <a:latin typeface="Times New Roman"/>
              </a:rPr>
              <a:t>- ممارسة الطلاب لعمليات معالجة المعلومات الآتية : </a:t>
            </a:r>
            <a:br>
              <a:rPr sz="2400"/>
            </a:br>
            <a:r>
              <a:rPr b="1" lang="ar-SA" sz="2400" spc="-1" strike="noStrike">
                <a:solidFill>
                  <a:srgbClr val="ff0000"/>
                </a:solidFill>
                <a:latin typeface="Times New Roman"/>
              </a:rPr>
              <a:t>التحليل ، التصنيف ، الشرح والتفسير ، ذكر الأسباب ، التضمين ، التوليف ، الاستدلال ، التجريب ، الاختلاف ، التمييز ، التجريب ، التتابع ، التنظيم التلخيص ، تحديد أوجه الشبه .</a:t>
            </a:r>
            <a:br>
              <a:rPr sz="2400"/>
            </a:br>
            <a:r>
              <a:rPr b="1" lang="ar-SA" sz="2400" spc="-1" strike="noStrike">
                <a:solidFill>
                  <a:srgbClr val="ff0000"/>
                </a:solidFill>
                <a:latin typeface="Times New Roman"/>
              </a:rPr>
              <a:t>3</a:t>
            </a:r>
            <a:r>
              <a:rPr b="1" lang="ar-SA" sz="2400" spc="-1" strike="noStrike">
                <a:solidFill>
                  <a:srgbClr val="ff0000"/>
                </a:solidFill>
                <a:latin typeface="Times New Roman"/>
              </a:rPr>
              <a:t>- ممارسة الطلبة لعمليات التفكير الإبداعي ، واستخدام المخيلة الآتية : </a:t>
            </a:r>
            <a:br>
              <a:rPr sz="2400"/>
            </a:br>
            <a:r>
              <a:rPr b="1" lang="ar-SA" sz="2400" spc="-1" strike="noStrike">
                <a:solidFill>
                  <a:srgbClr val="ff0000"/>
                </a:solidFill>
                <a:latin typeface="Times New Roman"/>
              </a:rPr>
              <a:t>التصميم ، بناء نموذج ، الافتراض ، الاختراع ، الاستقراء ، التنبؤ ، الحكم ، التقويم ،</a:t>
            </a:r>
            <a:r>
              <a:rPr b="0" lang="ar-SA" sz="2400" spc="-1" strike="noStrike">
                <a:solidFill>
                  <a:srgbClr val="ff0000"/>
                </a:solidFill>
                <a:latin typeface="Times New Roman"/>
              </a:rPr>
              <a:t> </a:t>
            </a:r>
            <a:r>
              <a:rPr b="1" lang="ar-SA" sz="2400" spc="-1" strike="noStrike">
                <a:solidFill>
                  <a:srgbClr val="ff0000"/>
                </a:solidFill>
                <a:latin typeface="Times New Roman"/>
              </a:rPr>
              <a:t>التخطيط  التخيل ، التعميم .</a:t>
            </a: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Times New Roman"/>
              </a:rPr>
              <a:t>ومما سبق يمكن القول أن للمعلم دورا في إشاعة الجو المناسب للتدريب على التفكير ، وإثارة عملياته ، والتدريب على تعلم الاستراتيجيات ، والعمليات الذهنية بدلا من التركيز على الحفظ ، ويمكن تحقيق أهداف التدريب على التفكير ، وممارسة العمليات الذهنية المختلفة عن طريق توفير الجو الصفي المناسب من خلال الآتي : </a:t>
            </a:r>
            <a:br>
              <a:rPr sz="2800"/>
            </a:br>
            <a:r>
              <a:rPr b="0" lang="en-US" sz="2800" spc="-1" strike="noStrike">
                <a:solidFill>
                  <a:srgbClr val="ff0000"/>
                </a:solidFill>
                <a:latin typeface="Times New Roman"/>
              </a:rPr>
              <a:t>1</a:t>
            </a:r>
            <a:r>
              <a:rPr b="0" lang="en-US" sz="2800" spc="-1" strike="noStrike">
                <a:solidFill>
                  <a:srgbClr val="ff0000"/>
                </a:solidFill>
                <a:latin typeface="Times New Roman"/>
              </a:rPr>
              <a:t>- تزويد الطلبة بالتغذية الراجعة عن أدائهم ، والبيانات المتعلقة بذلك .</a:t>
            </a:r>
            <a:br>
              <a:rPr sz="2800"/>
            </a:br>
            <a:r>
              <a:rPr b="0" lang="en-US" sz="2800" spc="-1" strike="noStrike">
                <a:solidFill>
                  <a:srgbClr val="ff0000"/>
                </a:solidFill>
                <a:latin typeface="Times New Roman"/>
              </a:rPr>
              <a:t>2</a:t>
            </a:r>
            <a:r>
              <a:rPr b="0" lang="en-US" sz="2800" spc="-1" strike="noStrike">
                <a:solidFill>
                  <a:srgbClr val="ff0000"/>
                </a:solidFill>
                <a:latin typeface="Times New Roman"/>
              </a:rPr>
              <a:t>- تزويد الطلبة بتعليقات مناسبة عن رأيه في أداء الطلبة والتحدث بعبارات واضحة عما يريده المعلم من الطلبة . </a:t>
            </a:r>
            <a:br>
              <a:rPr sz="2800"/>
            </a:br>
            <a:r>
              <a:rPr b="0" lang="en-US" sz="2800" spc="-1" strike="noStrike">
                <a:solidFill>
                  <a:srgbClr val="ff0000"/>
                </a:solidFill>
                <a:latin typeface="Times New Roman"/>
              </a:rPr>
              <a:t>3</a:t>
            </a:r>
            <a:r>
              <a:rPr b="0" lang="en-US" sz="2800" spc="-1" strike="noStrike">
                <a:solidFill>
                  <a:srgbClr val="ff0000"/>
                </a:solidFill>
                <a:latin typeface="Times New Roman"/>
              </a:rPr>
              <a:t>- تزويد الطلبة بالفرص المناسبة للتعلم المستقل والوصول إلى النتائج التي يريدونها بقيامهم بالأداء المناسب ، باستخدام الأدوات المختلفة التي وفرها المعلم .</a:t>
            </a:r>
            <a:br>
              <a:rPr sz="2800"/>
            </a:br>
            <a:r>
              <a:rPr b="0" lang="en-US" sz="2800" spc="-1" strike="noStrike">
                <a:solidFill>
                  <a:srgbClr val="ff0000"/>
                </a:solidFill>
                <a:latin typeface="Times New Roman"/>
              </a:rPr>
              <a:t>4</a:t>
            </a:r>
            <a:r>
              <a:rPr b="0" lang="en-US" sz="2800" spc="-1" strike="noStrike">
                <a:solidFill>
                  <a:srgbClr val="ff0000"/>
                </a:solidFill>
                <a:latin typeface="Times New Roman"/>
              </a:rPr>
              <a:t>- توفير طرق الحصول على المعرفة والبيانات اللازمة ، والمعلومات التي تخدم تحقيق أهداف التعلم ، من  مكتبة ، ومصادر ، ومواد ، وأدوات ، وسؤال المعلم ، وغيرها ، مما يسهم في استثارة المبادرة ، والاستقلال في التعليم</a:t>
            </a:r>
            <a:r>
              <a:rPr b="0" lang="en-US" sz="2800" spc="-1" strike="noStrike">
                <a:solidFill>
                  <a:srgbClr val="cc0099"/>
                </a:solidFill>
                <a:latin typeface="Times New Roman"/>
              </a:rPr>
              <a:t> </a:t>
            </a:r>
            <a:br>
              <a:rPr sz="2800"/>
            </a:b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03" name=""/>
          <p:cNvSpPr/>
          <p:nvPr/>
        </p:nvSpPr>
        <p:spPr>
          <a:xfrm>
            <a:off x="76320" y="243000"/>
            <a:ext cx="8915400" cy="879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raditional Arabic"/>
              </a:rPr>
              <a:t>الأسئلة التي تنمي التفكير ، والقدرة على حل المشكلات :                                                                       الأسئلة التي يجب أن يكون هدفها تنمية التفكير ، وتنمية القدرة على حل المشكلات هي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1</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مقارنة :</a:t>
            </a:r>
            <a:r>
              <a:rPr b="1" lang="ar-SA" sz="2000" spc="-1" strike="noStrike">
                <a:solidFill>
                  <a:srgbClr val="ff0000"/>
                </a:solidFill>
                <a:latin typeface="Times New Roman"/>
                <a:ea typeface="Traditional Arabic"/>
              </a:rPr>
              <a:t> وتختص بما يؤدي إلى فهم الصفات المتشابهة ، والصفات المختلفة للأشياء ، وبهذا يقترب الطلاب من التعاريف ، والفِكَر ، والتعبيرات الكم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2</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تقويم :</a:t>
            </a:r>
            <a:r>
              <a:rPr b="1" lang="ar-SA" sz="2000" spc="-1" strike="noStrike">
                <a:solidFill>
                  <a:srgbClr val="ff0000"/>
                </a:solidFill>
                <a:latin typeface="Times New Roman"/>
                <a:ea typeface="Traditional Arabic"/>
              </a:rPr>
              <a:t> وتختص بما يهدف لتقويم النتائج ، أو الأفكار نفسها ، وتشجع على الحكم ، والنقد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3</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استفسار :</a:t>
            </a:r>
            <a:r>
              <a:rPr b="1" lang="ar-SA" sz="2000" spc="-1" strike="noStrike">
                <a:solidFill>
                  <a:srgbClr val="ff0000"/>
                </a:solidFill>
                <a:latin typeface="Times New Roman"/>
                <a:ea typeface="Traditional Arabic"/>
              </a:rPr>
              <a:t> وتختص بما يهدف إلى حقائق من خلال تفسير هذه الفِكَر ، وتلك الحقائق مثل : لماذا ؟    وكيف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4</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تحليل :</a:t>
            </a:r>
            <a:r>
              <a:rPr b="1" lang="ar-SA" sz="2000" spc="-1" strike="noStrike">
                <a:solidFill>
                  <a:srgbClr val="ff0000"/>
                </a:solidFill>
                <a:latin typeface="Times New Roman"/>
                <a:ea typeface="Traditional Arabic"/>
              </a:rPr>
              <a:t> وتختص بما يهدف إلى تحليل المواقف ، والفِكَر ، وتبنى على العمليات الفكرية مثل : مم يتكون كذا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5</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إخبارية :</a:t>
            </a:r>
            <a:r>
              <a:rPr b="1" lang="ar-SA" sz="2000" spc="-1" strike="noStrike">
                <a:solidFill>
                  <a:srgbClr val="ff0000"/>
                </a:solidFill>
                <a:latin typeface="Times New Roman"/>
                <a:ea typeface="Traditional Arabic"/>
              </a:rPr>
              <a:t> وتختص بما يمكن عن طريقها ترجمة خبرة معينة تستخدم في حل مشكلة ما . مثل : ماذا       رأيت ؟ ما جرى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6</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تلخيصية :</a:t>
            </a:r>
            <a:r>
              <a:rPr b="1" lang="ar-SA" sz="2000" spc="-1" strike="noStrike">
                <a:solidFill>
                  <a:srgbClr val="ff0000"/>
                </a:solidFill>
                <a:latin typeface="Times New Roman"/>
                <a:ea typeface="Traditional Arabic"/>
              </a:rPr>
              <a:t> أي ما تختص بإبراز حقائق أساسية هامة عن طريق تلخيص أفكار وردت في الدرس ، أو في القصة مثل :      ما هي أبرز النقاط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7</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تشخيصية :</a:t>
            </a:r>
            <a:r>
              <a:rPr b="1" lang="ar-SA" sz="2000" spc="-1" strike="noStrike">
                <a:solidFill>
                  <a:srgbClr val="ff0000"/>
                </a:solidFill>
                <a:latin typeface="Times New Roman"/>
                <a:ea typeface="Traditional Arabic"/>
              </a:rPr>
              <a:t> وهي ما يختص بالأسئلة عن تحديد الصعوبات مثلا : كأن تسأل ما هي الأمور التي تسبب كذا و كذا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8</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عمومية :</a:t>
            </a:r>
            <a:r>
              <a:rPr b="1" lang="ar-SA" sz="2000" spc="-1" strike="noStrike">
                <a:solidFill>
                  <a:srgbClr val="ff0000"/>
                </a:solidFill>
                <a:latin typeface="Times New Roman"/>
                <a:ea typeface="Traditional Arabic"/>
              </a:rPr>
              <a:t> وه يما يجمع بين الأسئلة التذكرية ، والتفكيرية ، مما يساعد على استرجاع المعلومات ، وبيان مستوى الفهم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raditional Arabic"/>
              </a:rPr>
              <a:t>يرى " ستشمان " أن على المعلمين والطلاب المشاركة أينما توجد فِكَر ذات أهمية ، وأن يشجع المعلم الطلاب على استخدام طريقة التساؤل كلما أمكن ذلك على أن يعلم المعلم الطلاب " مبادئ طريقة التساؤل " وكيفية استخدام الوسائل ، وطريقة الحوار مع طلاب آخرين ، ومناقشة المعلم ، كما أن على المعلم أن يعلم الطلاب أسلوب التساؤل ، ولا يقوم بطرح الأسئلة بدلا عنهم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fd7d"/>
            </a:gs>
            <a:gs pos="100000">
              <a:srgbClr val="33c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33ff"/>
                </a:solidFill>
                <a:latin typeface="Times New Roman"/>
              </a:rPr>
              <a:t>النشاط  الثاني المجموعة ( أ )</a:t>
            </a:r>
            <a:r>
              <a:rPr b="1" lang="en-U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105" name=""/>
          <p:cNvSpPr/>
          <p:nvPr/>
        </p:nvSpPr>
        <p:spPr>
          <a:xfrm>
            <a:off x="76320" y="1219320"/>
            <a:ext cx="8915400" cy="4599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من أدوار المعلم التي يلعبها في تنمية التفكير لدى طلابه ، توجيه الأسئلة المثيرة للتفكير ، وتهدف هذه الأسئلة إلى استثارة الطلبة لاستخدام حواسهم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1</a:t>
            </a:r>
            <a:r>
              <a:rPr b="0" lang="en-US" sz="2800" spc="-1" strike="noStrike">
                <a:solidFill>
                  <a:srgbClr val="cc0099"/>
                </a:solidFill>
                <a:latin typeface="Times New Roman"/>
              </a:rPr>
              <a:t>- ممارسة الطلاب للعمليات الذهنية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التكميل ، الوصف ، الاختيار ، تعريف الأشــياء ، العدد ، الترتيب ، الاسترجاع  تحديد الأشـــياء ، التسم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 حاول مع بقية  زملائك في المجموعة صياغة أسئلة مثيرة للتفكير تساعد على ممـارسة الطلاب للعمــــليات الذهنية السابقة من واقع المقــررات الـدراســية للصفوف الأولية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النشاط الثاني المجموعة ( ب ) </a:t>
            </a:r>
            <a:endParaRPr b="0" lang="en-US" sz="6000" spc="-1" strike="noStrike">
              <a:solidFill>
                <a:srgbClr val="000000"/>
              </a:solidFill>
              <a:latin typeface="Times New Roman"/>
            </a:endParaRPr>
          </a:p>
        </p:txBody>
      </p:sp>
      <p:sp>
        <p:nvSpPr>
          <p:cNvPr id="107" name=""/>
          <p:cNvSpPr/>
          <p:nvPr/>
        </p:nvSpPr>
        <p:spPr>
          <a:xfrm>
            <a:off x="152280" y="1523880"/>
            <a:ext cx="8763120" cy="5765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ff"/>
                </a:solidFill>
                <a:latin typeface="Times New Roman"/>
              </a:rPr>
              <a:t>من أدوار المعلم التي يلعبها في تنمية التفكير لدى طلابه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 توجيه الأسئلة المثيرة للتفكير، وتهدف هذه الأسئلة إلى استثارة الطلبة لاستخدام حواسهم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2</a:t>
            </a:r>
            <a:r>
              <a:rPr b="0" lang="ar-SA" sz="2800" spc="-1" strike="noStrike">
                <a:solidFill>
                  <a:srgbClr val="cc0000"/>
                </a:solidFill>
                <a:latin typeface="Times New Roman"/>
              </a:rPr>
              <a:t>- ممارسة الطلاب لعمليات معالجة المعلومات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حليل ، التصنيف ، الشرح والتفسير ، ذكر الأسباب ، التضمين ، التوليف ، الاستدلال ، التجريب ، الاختلاف ، التمييز ، التتابع ، التنظيم ، التلخيص ، تحديد أوجه الشبه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 حاول مع بقية زملائك في  المجموعة صياغة أسئلة مثيرة للتفكير تساعد على ممارسة الطلاب للعمليات الذهنية السابقة من واقع المقررات الدراسية للصفوف الأول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87a92"/>
                </a:solidFill>
                <a:latin typeface="Times New Roman"/>
              </a:rPr>
              <a:t>النشاط الثاني المجموعة ( ج )</a:t>
            </a:r>
            <a:r>
              <a:rPr b="0" lang="en-US" sz="4400" spc="-1" strike="noStrike">
                <a:solidFill>
                  <a:srgbClr val="0000ff"/>
                </a:solidFill>
                <a:latin typeface="Times New Roman"/>
              </a:rPr>
              <a:t> </a:t>
            </a:r>
            <a:endParaRPr b="0" lang="en-US" sz="4400" spc="-1" strike="noStrike">
              <a:solidFill>
                <a:srgbClr val="000000"/>
              </a:solidFill>
              <a:latin typeface="Times New Roman"/>
            </a:endParaRPr>
          </a:p>
        </p:txBody>
      </p:sp>
      <p:sp>
        <p:nvSpPr>
          <p:cNvPr id="109" name=""/>
          <p:cNvSpPr/>
          <p:nvPr/>
        </p:nvSpPr>
        <p:spPr>
          <a:xfrm>
            <a:off x="228600" y="1700280"/>
            <a:ext cx="8686800" cy="5879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61473"/>
                </a:solidFill>
                <a:latin typeface="Times New Roman"/>
              </a:rPr>
              <a:t>من أدوار المعلم التي يلعبها في تنمية التفكير لدى طلابه ، توجيه الأسئلة المثيرة للتفكير ، وتهدف هذه الأسئلة إلى استثارة الطلبة لاستخدام حواسهم المخيلة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61473"/>
                </a:solidFill>
                <a:latin typeface="Times New Roman"/>
              </a:rPr>
              <a:t>1</a:t>
            </a:r>
            <a:r>
              <a:rPr b="0" lang="en-US" sz="2800" spc="-1" strike="noStrike">
                <a:solidFill>
                  <a:srgbClr val="861473"/>
                </a:solidFill>
                <a:latin typeface="Times New Roman"/>
              </a:rPr>
              <a:t>- تدريب الطلاب على التفكير الإبداعي ، واستخدام المخيلة ، والحكم على الأشياء من خلال العمليات الذهنية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61473"/>
                </a:solidFill>
                <a:latin typeface="Times New Roman"/>
              </a:rPr>
              <a:t>التصميم ، بناء النموذج ، الافتراض ، الاختراع ، الاستقراء ، التنبؤ ، الحكم ، التقويم ، التخطيط ، التخيل ، التعمي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61473"/>
                </a:solidFill>
                <a:latin typeface="Times New Roman"/>
              </a:rPr>
              <a:t>* حاول مع بقية زملائك في المجموعة صياغة أسئلة مثيرة للتفكير تساعد على ممارسة الطلاب للعمليات الذهنية السابقة من واقع المقررات الدراسية للصفوف الأولية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txBox="1"/>
          <p:nvPr/>
        </p:nvSpPr>
        <p:spPr>
          <a:xfrm>
            <a:off x="685800" y="6248520"/>
            <a:ext cx="190512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61473"/>
                </a:solidFill>
                <a:latin typeface="Times New Roman"/>
              </a:rPr>
              <a:t>  عرض المدرب</a:t>
            </a:r>
            <a:endParaRPr b="0" lang="en-US" sz="8000" spc="-1" strike="noStrike">
              <a:solidFill>
                <a:srgbClr val="000000"/>
              </a:solidFill>
              <a:latin typeface="Times New Roman"/>
            </a:endParaRPr>
          </a:p>
        </p:txBody>
      </p:sp>
      <p:pic>
        <p:nvPicPr>
          <p:cNvPr id="113" name="BD09251_" descr=""/>
          <p:cNvPicPr/>
          <p:nvPr/>
        </p:nvPicPr>
        <p:blipFill>
          <a:blip r:embed="rId1">
            <a:lum bright="24000"/>
          </a:blip>
          <a:stretch/>
        </p:blipFill>
        <p:spPr>
          <a:xfrm>
            <a:off x="1066680" y="1905120"/>
            <a:ext cx="7848720" cy="4495680"/>
          </a:xfrm>
          <a:prstGeom prst="rect">
            <a:avLst/>
          </a:prstGeom>
          <a:ln w="0">
            <a:noFill/>
          </a:ln>
        </p:spPr>
      </p:pic>
    </p:spTree>
  </p:cSld>
  <p:transition spd="med" advTm="1000">
    <p:blinds dir="vert"/>
    <p:sndAc>
      <p:stSnd>
        <p:snd r:embed="rId2" name="REMINDE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228600" y="0"/>
            <a:ext cx="8534520" cy="7675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نشاط الثاني المجموعة ( أ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تكميل مثل :</a:t>
            </a:r>
            <a:r>
              <a:rPr b="0" lang="ar-SA" sz="2400" spc="-1" strike="noStrike">
                <a:solidFill>
                  <a:srgbClr val="ff0000"/>
                </a:solidFill>
                <a:latin typeface="Times New Roman"/>
              </a:rPr>
              <a:t> خرجت البطة صباحا كعادتها إلى البحيرة ؛ لتصطاد السمك ، وفجأة حدث شيء غريب . اكمل القص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أضف الرقم الناقص للأعداد الآتية : </a:t>
            </a:r>
            <a:r>
              <a:rPr b="0" lang="ar-SA" sz="2400" spc="-1" strike="noStrike">
                <a:solidFill>
                  <a:srgbClr val="ff0000"/>
                </a:solidFill>
                <a:latin typeface="Times New Roman"/>
              </a:rPr>
              <a:t>2</a:t>
            </a:r>
            <a:r>
              <a:rPr b="0" lang="ar-SA" sz="2400" spc="-1" strike="noStrike">
                <a:solidFill>
                  <a:srgbClr val="ff0000"/>
                </a:solidFill>
                <a:latin typeface="Times New Roman"/>
              </a:rPr>
              <a:t>- </a:t>
            </a:r>
            <a:r>
              <a:rPr b="0" lang="ar-SA" sz="2400" spc="-1" strike="noStrike">
                <a:solidFill>
                  <a:srgbClr val="ff0000"/>
                </a:solidFill>
                <a:latin typeface="Times New Roman"/>
              </a:rPr>
              <a:t>5</a:t>
            </a:r>
            <a:r>
              <a:rPr b="0" lang="ar-SA" sz="2400" spc="-1" strike="noStrike">
                <a:solidFill>
                  <a:srgbClr val="ff0000"/>
                </a:solidFill>
                <a:latin typeface="Times New Roman"/>
              </a:rPr>
              <a:t>- </a:t>
            </a:r>
            <a:r>
              <a:rPr b="0" lang="ar-SA" sz="2400" spc="-1" strike="noStrike">
                <a:solidFill>
                  <a:srgbClr val="ff0000"/>
                </a:solidFill>
                <a:latin typeface="Times New Roman"/>
              </a:rPr>
              <a:t>8</a:t>
            </a:r>
            <a:r>
              <a:rPr b="0" lang="ar-SA" sz="2400" spc="-1" strike="noStrike">
                <a:solidFill>
                  <a:srgbClr val="ff0000"/>
                </a:solidFill>
                <a:latin typeface="Times New Roman"/>
              </a:rPr>
              <a:t>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وصف مثل :</a:t>
            </a:r>
            <a:r>
              <a:rPr b="0" lang="ar-SA" sz="2400" spc="-1" strike="noStrike">
                <a:solidFill>
                  <a:srgbClr val="ff0000"/>
                </a:solidFill>
                <a:latin typeface="Times New Roman"/>
              </a:rPr>
              <a:t> اكتب الصفات التي تحبها ، أو لا تحبها في صديقك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استرجاع مثل :</a:t>
            </a:r>
            <a:r>
              <a:rPr b="0" lang="ar-SA" sz="2400" spc="-1" strike="noStrike">
                <a:solidFill>
                  <a:srgbClr val="ff0000"/>
                </a:solidFill>
                <a:latin typeface="Times New Roman"/>
              </a:rPr>
              <a:t> اذكر الكلمات التي تبدأ بحرف ( أ ) ، أوحرف ( د ) ، أوحرف ( ز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a:t>
            </a:r>
            <a:r>
              <a:rPr b="1" lang="ar-SA" sz="2400" spc="-1" strike="noStrike">
                <a:solidFill>
                  <a:srgbClr val="ff0000"/>
                </a:solidFill>
                <a:latin typeface="Times New Roman"/>
              </a:rPr>
              <a:t>تحديد الأشياء مثل :</a:t>
            </a:r>
            <a:r>
              <a:rPr b="0" lang="ar-SA" sz="2400" spc="-1" strike="noStrike">
                <a:solidFill>
                  <a:srgbClr val="ff0000"/>
                </a:solidFill>
                <a:latin typeface="Times New Roman"/>
              </a:rPr>
              <a:t> حدد الأشياء الموجودة في غرفة الص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تسمية مثل :</a:t>
            </a:r>
            <a:r>
              <a:rPr b="0" lang="ar-SA" sz="2400" spc="-1" strike="noStrike">
                <a:solidFill>
                  <a:srgbClr val="ff0000"/>
                </a:solidFill>
                <a:latin typeface="Times New Roman"/>
              </a:rPr>
              <a:t> ذهبت إلى شاطئ البحر في رحلة مع زملائ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سم الأشياء التي تستطيع أن تجمعها . ما الأصوات التي تسمع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ما الأعمال التي تحب ممارس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ذهبت إلى حديقة الحيوان في نزهة مع والديك . سم الحيوانات التي شاهد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سم الأصوات التي سمعتها ، ما الرائحة التي شمم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
          <p:cNvSpPr/>
          <p:nvPr/>
        </p:nvSpPr>
        <p:spPr>
          <a:xfrm>
            <a:off x="76320" y="76320"/>
            <a:ext cx="8839080" cy="65628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ابع النشاط الثاني المجموعة ( أ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لاحظة مثل : حدد المختلف بين كل زوجين من العناصر في المجموعات التال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اختيار مثل : صل بين الأشياء التي لها </a:t>
            </a:r>
            <a:r>
              <a:rPr b="1" lang="ar-SA" sz="2400" spc="-1" strike="noStrike">
                <a:solidFill>
                  <a:srgbClr val="3333cc"/>
                </a:solidFill>
                <a:latin typeface="Times New Roman"/>
              </a:rPr>
              <a:t>1</a:t>
            </a:r>
            <a:r>
              <a:rPr b="1" lang="ar-SA" sz="2400" spc="-1" strike="noStrike">
                <a:solidFill>
                  <a:srgbClr val="3333cc"/>
                </a:solidFill>
                <a:latin typeface="Times New Roman"/>
              </a:rPr>
              <a:t>- الشكل نفسه          </a:t>
            </a:r>
            <a:r>
              <a:rPr b="1" lang="ar-SA" sz="2400" spc="-1" strike="noStrike">
                <a:solidFill>
                  <a:srgbClr val="3333cc"/>
                </a:solidFill>
                <a:latin typeface="Times New Roman"/>
              </a:rPr>
              <a:t>2</a:t>
            </a:r>
            <a:r>
              <a:rPr b="1" lang="ar-SA" sz="2400" spc="-1" strike="noStrike">
                <a:solidFill>
                  <a:srgbClr val="3333cc"/>
                </a:solidFill>
                <a:latin typeface="Times New Roman"/>
              </a:rPr>
              <a:t>- الحجم نفسه </a:t>
            </a:r>
            <a:r>
              <a:rPr b="1" lang="ar-SA" sz="2400" spc="-1" strike="noStrike">
                <a:solidFill>
                  <a:srgbClr val="3333cc"/>
                </a:solidFill>
                <a:latin typeface="Times New Roman"/>
              </a:rPr>
              <a:t>3</a:t>
            </a:r>
            <a:r>
              <a:rPr b="1" lang="ar-SA" sz="2400" spc="-1" strike="noStrike">
                <a:solidFill>
                  <a:srgbClr val="3333cc"/>
                </a:solidFill>
                <a:latin typeface="Times New Roman"/>
              </a:rPr>
              <a:t>- الطول نفسه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عريف الأشياء مثل : ما الأشياء الموجودة في غرفة الص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عدد مثل : عد من </a:t>
            </a:r>
            <a:r>
              <a:rPr b="1" lang="ar-SA" sz="2400" spc="-1" strike="noStrike">
                <a:solidFill>
                  <a:srgbClr val="3333cc"/>
                </a:solidFill>
                <a:latin typeface="Times New Roman"/>
              </a:rPr>
              <a:t>57</a:t>
            </a:r>
            <a:r>
              <a:rPr b="1" lang="ar-SA" sz="2400" spc="-1" strike="noStrike">
                <a:solidFill>
                  <a:srgbClr val="3333cc"/>
                </a:solidFill>
                <a:latin typeface="Times New Roman"/>
              </a:rPr>
              <a:t> ـ </a:t>
            </a:r>
            <a:r>
              <a:rPr b="1" lang="ar-SA" sz="2400" spc="-1" strike="noStrike">
                <a:solidFill>
                  <a:srgbClr val="3333cc"/>
                </a:solidFill>
                <a:latin typeface="Times New Roman"/>
              </a:rPr>
              <a:t>69</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كتب العدد المناسب تحت كل مجموعة من المجموعات التال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ترتيب مثل : رتب الحروف التالية بحيث تكون كلمة مفيد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 ر ، ن ، أ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رتب الكلمات التالية لتكون جملة مفي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محمد ، المدرسة ، إلى ، ذهب )</a:t>
            </a: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00ff"/>
                </a:solidFill>
                <a:latin typeface="Times New Roman"/>
              </a:rPr>
              <a:t>أهداف البرنامج</a:t>
            </a:r>
            <a:endParaRPr b="0" lang="en-US" sz="7200" spc="-1" strike="noStrike">
              <a:solidFill>
                <a:srgbClr val="000000"/>
              </a:solidFill>
              <a:latin typeface="Times New Roman"/>
            </a:endParaRPr>
          </a:p>
        </p:txBody>
      </p:sp>
      <p:sp>
        <p:nvSpPr>
          <p:cNvPr id="47" name=""/>
          <p:cNvSpPr/>
          <p:nvPr/>
        </p:nvSpPr>
        <p:spPr>
          <a:xfrm>
            <a:off x="609480" y="1523880"/>
            <a:ext cx="8077320" cy="596520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9933ff"/>
                </a:solidFill>
                <a:latin typeface="Times New Roman"/>
              </a:rPr>
              <a:t>الهدف العام : </a:t>
            </a:r>
            <a:endParaRPr b="0" lang="en-US" sz="54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يتوقع من المتدرب في نهاية الجلسة التدريبية أن يكون قادرا على تنمية مهارات التفكير لدى طلابه .</a:t>
            </a:r>
            <a:endParaRPr b="0" lang="en-US" sz="6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52280" y="228600"/>
            <a:ext cx="8991720" cy="10455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نشاط الثاني المجموعة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حليل مثل :</a:t>
            </a:r>
            <a:r>
              <a:rPr b="0" lang="ar-SA" sz="2400" spc="-1" strike="noStrike">
                <a:solidFill>
                  <a:srgbClr val="cc0000"/>
                </a:solidFill>
                <a:latin typeface="Times New Roman"/>
              </a:rPr>
              <a:t> حلل الكلمات التالية إلى حرو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كتب = (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صنيف مثل :</a:t>
            </a:r>
            <a:r>
              <a:rPr b="0" lang="ar-SA" sz="2400" spc="-1" strike="noStrike">
                <a:solidFill>
                  <a:srgbClr val="cc0000"/>
                </a:solidFill>
                <a:latin typeface="Times New Roman"/>
              </a:rPr>
              <a:t> صيف الأشياء التالية حس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a:t>
            </a:r>
            <a:r>
              <a:rPr b="0" lang="ar-SA" sz="2400" spc="-1" strike="noStrike">
                <a:solidFill>
                  <a:srgbClr val="cc0000"/>
                </a:solidFill>
                <a:latin typeface="Times New Roman"/>
              </a:rPr>
              <a:t>1</a:t>
            </a:r>
            <a:r>
              <a:rPr b="0" lang="ar-SA" sz="2400" spc="-1" strike="noStrike">
                <a:solidFill>
                  <a:srgbClr val="cc0000"/>
                </a:solidFill>
                <a:latin typeface="Times New Roman"/>
              </a:rPr>
              <a:t>- الشكل                </a:t>
            </a:r>
            <a:r>
              <a:rPr b="0" lang="ar-SA" sz="2400" spc="-1" strike="noStrike">
                <a:solidFill>
                  <a:srgbClr val="cc0000"/>
                </a:solidFill>
                <a:latin typeface="Times New Roman"/>
              </a:rPr>
              <a:t>2</a:t>
            </a:r>
            <a:r>
              <a:rPr b="0" lang="ar-SA" sz="2400" spc="-1" strike="noStrike">
                <a:solidFill>
                  <a:srgbClr val="cc0000"/>
                </a:solidFill>
                <a:latin typeface="Times New Roman"/>
              </a:rPr>
              <a:t>- اللون                  </a:t>
            </a:r>
            <a:r>
              <a:rPr b="0" lang="ar-SA" sz="2400" spc="-1" strike="noStrike">
                <a:solidFill>
                  <a:srgbClr val="cc0000"/>
                </a:solidFill>
                <a:latin typeface="Times New Roman"/>
              </a:rPr>
              <a:t>3</a:t>
            </a:r>
            <a:r>
              <a:rPr b="0" lang="ar-SA" sz="2400" spc="-1" strike="noStrike">
                <a:solidFill>
                  <a:srgbClr val="cc0000"/>
                </a:solidFill>
                <a:latin typeface="Times New Roman"/>
              </a:rPr>
              <a:t>- الحج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شرح والتفسير مثل :</a:t>
            </a:r>
            <a:r>
              <a:rPr b="0" lang="ar-SA" sz="2400" spc="-1" strike="noStrike">
                <a:solidFill>
                  <a:srgbClr val="cc0000"/>
                </a:solidFill>
                <a:latin typeface="Times New Roman"/>
              </a:rPr>
              <a:t> ذهبت في رحلة خلوية إلى الصحراء . ماذا حدث في رحلتك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ذكر الأسباب مثل :</a:t>
            </a:r>
            <a:r>
              <a:rPr b="0" lang="ar-SA" sz="2400" spc="-1" strike="noStrike">
                <a:solidFill>
                  <a:srgbClr val="cc0000"/>
                </a:solidFill>
                <a:latin typeface="Times New Roman"/>
              </a:rPr>
              <a:t> لماذا يحتاج كل من الإنسان ، والحيوان ، والنبات إلى الماء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ضمين مثل :</a:t>
            </a:r>
            <a:r>
              <a:rPr b="0" lang="ar-SA" sz="2400" spc="-1" strike="noStrike">
                <a:solidFill>
                  <a:srgbClr val="cc0000"/>
                </a:solidFill>
                <a:latin typeface="Times New Roman"/>
              </a:rPr>
              <a:t> اكتب ثلاث جمل مفيدة ،  بحيث تتضمن كل جملة كلمة ( قرأ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وليف مثل :</a:t>
            </a:r>
            <a:r>
              <a:rPr b="0" lang="ar-SA" sz="2400" spc="-1" strike="noStrike">
                <a:solidFill>
                  <a:srgbClr val="cc0000"/>
                </a:solidFill>
                <a:latin typeface="Times New Roman"/>
              </a:rPr>
              <a:t> كون من الأحرف التالية كلمات مفي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 ط ، ب  ، ا  ، 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كون من الكلمات التالية جملا مفيد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 علي ، درسه ، كتب ،  في  ، المدرسة )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7" name=""/>
          <p:cNvGraphicFramePr/>
          <p:nvPr/>
        </p:nvGraphicFramePr>
        <p:xfrm>
          <a:off x="1287360" y="2133720"/>
          <a:ext cx="4551480" cy="3863880"/>
        </p:xfrm>
        <a:graphic>
          <a:graphicData uri="http://schemas.openxmlformats.org/presentationml/2006/ole">
            <p:oleObj progId="Word.Document.12" r:id="rId2" spid="">
              <p:embed/>
              <p:pic>
                <p:nvPicPr>
                  <p:cNvPr id="118" name="" descr=""/>
                  <p:cNvPicPr/>
                  <p:nvPr/>
                </p:nvPicPr>
                <p:blipFill>
                  <a:blip r:embed="rId3"/>
                  <a:stretch/>
                </p:blipFill>
                <p:spPr>
                  <a:xfrm>
                    <a:off x="1287360" y="2133720"/>
                    <a:ext cx="4551480" cy="3863880"/>
                  </a:xfrm>
                  <a:prstGeom prst="rect">
                    <a:avLst/>
                  </a:prstGeom>
                  <a:ln w="0">
                    <a:noFill/>
                  </a:ln>
                </p:spPr>
              </p:pic>
            </p:oleObj>
          </a:graphicData>
        </a:graphic>
      </p:graphicFrame>
    </p:spTree>
  </p:cSld>
  <p:transition spd="med" advTm="1000">
    <p:blinds dir="vert"/>
    <p:sndAc>
      <p:stSnd>
        <p:snd r:embed="rId4" name="REMIND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228600"/>
            <a:ext cx="8991720" cy="6763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تابع النشاط الثاني المجموعة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وليف مثل :</a:t>
            </a:r>
            <a:r>
              <a:rPr b="0" lang="ar-SA" sz="2400" spc="-1" strike="noStrike">
                <a:solidFill>
                  <a:srgbClr val="ff66ff"/>
                </a:solidFill>
                <a:latin typeface="Times New Roman"/>
              </a:rPr>
              <a:t>  (سلك ، لمبة ، بطارية ) ماذا تصنع من هذه الأشياء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استدلال مثل :</a:t>
            </a:r>
            <a:r>
              <a:rPr b="0" lang="ar-SA" sz="2400" spc="-1" strike="noStrike">
                <a:solidFill>
                  <a:srgbClr val="ff66ff"/>
                </a:solidFill>
                <a:latin typeface="Times New Roman"/>
              </a:rPr>
              <a:t> بم نستدل على عظمة الخال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كيف تتعرف على الأشياء المختلف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تجريب مثل :</a:t>
            </a:r>
            <a:r>
              <a:rPr b="0" lang="ar-SA" sz="2400" spc="-1" strike="noStrike">
                <a:solidFill>
                  <a:srgbClr val="ff66ff"/>
                </a:solidFill>
                <a:latin typeface="Times New Roman"/>
              </a:rPr>
              <a:t> هل تنبت البذور في كأس به ماء ؟  سجل مشاهدت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هل تنبت  البذور في القطن ، وسجل مشاهدت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اختلاف مثل :</a:t>
            </a:r>
            <a:r>
              <a:rPr b="0" lang="ar-SA" sz="2400" spc="-1" strike="noStrike">
                <a:solidFill>
                  <a:srgbClr val="ff66ff"/>
                </a:solidFill>
                <a:latin typeface="Times New Roman"/>
              </a:rPr>
              <a:t> بين أوجه التشابه ، والاختلاف في الشكلين التاليين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التمييز مثل : ضع خطا تحت الأشكال الرباعية فيما يلي</a:t>
            </a:r>
            <a:r>
              <a:rPr b="0" lang="ar-SA" sz="3200" spc="-1" strike="noStrike">
                <a:solidFill>
                  <a:srgbClr val="ff66ff"/>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
          <p:cNvSpPr/>
          <p:nvPr/>
        </p:nvSpPr>
        <p:spPr>
          <a:xfrm>
            <a:off x="7238880" y="5715000"/>
            <a:ext cx="1295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486400" y="5486400"/>
            <a:ext cx="129528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048120" y="5410080"/>
            <a:ext cx="1066680" cy="9144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04920" y="5486400"/>
            <a:ext cx="1295280" cy="10666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267080" y="5410080"/>
            <a:ext cx="1067040" cy="11430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057400" y="5715000"/>
            <a:ext cx="6094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457200" y="457200"/>
            <a:ext cx="8305920" cy="8899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تابع النشاط الثاني المجموعة ( 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تابع مثل : اكتب الأرقام التي تسبق ، والتي تلي الرقم التالي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a:t>
            </a:r>
            <a:r>
              <a:rPr b="0" lang="ar-SA" sz="3200" spc="-1" strike="noStrike">
                <a:solidFill>
                  <a:srgbClr val="3333cc"/>
                </a:solidFill>
                <a:latin typeface="Times New Roman"/>
              </a:rPr>
              <a:t>(    ،       ،         ،  </a:t>
            </a:r>
            <a:r>
              <a:rPr b="0" lang="ar-SA" sz="3200" spc="-1" strike="noStrike">
                <a:solidFill>
                  <a:srgbClr val="3333cc"/>
                </a:solidFill>
                <a:latin typeface="Times New Roman"/>
              </a:rPr>
              <a:t>53</a:t>
            </a:r>
            <a:r>
              <a:rPr b="0" lang="ar-SA" sz="3200" spc="-1" strike="noStrike">
                <a:solidFill>
                  <a:srgbClr val="3333cc"/>
                </a:solidFill>
                <a:latin typeface="Times New Roman"/>
              </a:rPr>
              <a:t> ،       ،         ،        ،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نظيم مثل : كيف تنظم وقتك ؟ كيف تنظم صفك الدراسي ؟ كيف تنظم رحلة مع زملائك إلى أحد المصانع القريبة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لخيص مثل : قرأت درس “ القرد الطبيب “ . لخص القصة في حدود سطرين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تحديد أوجه التشابه مثل : ما أوجه التشابه بين الإنسان والحيوان في مقومات الحياة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ما أوجه التشابه بين صغار الحيوانات ، وأمهاتها ؟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3333cc"/>
            </a:gs>
          </a:gsLst>
          <a:lin ang="5400000"/>
        </a:gradFill>
      </p:bgPr>
    </p:bg>
    <p:spTree>
      <p:nvGrpSpPr>
        <p:cNvPr id="1" name=""/>
        <p:cNvGrpSpPr/>
        <p:nvPr/>
      </p:nvGrpSpPr>
      <p:grpSpPr>
        <a:xfrm>
          <a:off x="0" y="0"/>
          <a:ext cx="0" cy="0"/>
          <a:chOff x="0" y="0"/>
          <a:chExt cx="0" cy="0"/>
        </a:xfrm>
      </p:grpSpPr>
      <p:sp>
        <p:nvSpPr>
          <p:cNvPr id="127" name=""/>
          <p:cNvSpPr/>
          <p:nvPr/>
        </p:nvSpPr>
        <p:spPr>
          <a:xfrm>
            <a:off x="457200" y="533520"/>
            <a:ext cx="83059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57200" y="152280"/>
            <a:ext cx="8229600" cy="84920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نشاط الثاني المجموعة ( ج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صميم مثل : صمم نموذجا للجهازالتنفسي ، وجهاز الإخراج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بناء النموذج مثل : ما الأشياء التي يمكن أن تصنع منها جهازا هضمي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فتراض مثل : ما الافتراضات التي تضعها لتحقيق هدفك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ختراع مثل : اخترع آلة تبين كيف تتكون الصورة في العين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خترع كرسيا أكثر راحة لك في الصف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خترع آلة تبين كيف يتم سمع الأصوات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ستقراء مثل : كيف تتعرف على نجاح تعاملك مع زملائك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نبؤ مثل : كيف تتنبأ بنزول المطر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كيف تتنبأ بحدوث الحريق ؟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29" name=""/>
          <p:cNvSpPr/>
          <p:nvPr/>
        </p:nvSpPr>
        <p:spPr>
          <a:xfrm>
            <a:off x="533520" y="457200"/>
            <a:ext cx="81532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80880" y="457200"/>
            <a:ext cx="8382240" cy="6493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تابع النشاط الثاني المجموعة ( ج )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قييم مثل : كيف تقوم تفوقك الدراسي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كيف تقوم نجاح تجربتك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خطيط مثل : ما الأشياء التي يمكن أن تصنع منها مصباح كهربائي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خيل مثل : تخيل نفسك فراشة . ما الألوان التي تحب أن تتلون بها أجنحتك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تخيل الصف حديقة . صف هذه الحديقة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عميم مثل : ما الصفات التي تحب أن تتوفر في أستاذك ؟ .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861473"/>
                </a:solidFill>
                <a:latin typeface="Times New Roman"/>
              </a:rPr>
              <a:t>تنظيم الفصل من أجل تنمية التفكير</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132" name=""/>
          <p:cNvSpPr/>
          <p:nvPr/>
        </p:nvSpPr>
        <p:spPr>
          <a:xfrm>
            <a:off x="380880" y="2133720"/>
            <a:ext cx="8610840" cy="3352680"/>
          </a:xfrm>
          <a:prstGeom prst="cloudCallout">
            <a:avLst>
              <a:gd name="adj1" fmla="val -26805"/>
              <a:gd name="adj2" fmla="val 79166"/>
            </a:avLst>
          </a:prstGeom>
          <a:gradFill rotWithShape="0">
            <a:gsLst>
              <a:gs pos="0">
                <a:srgbClr val="00cc99"/>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Times New Roman"/>
              </a:rPr>
              <a:t>هناك تنظيمات مختلفة لغرفة الصف لكل منها فوائدها ومحدداتها</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Times New Roman"/>
              </a:rPr>
              <a:t>النشاط الثالث ( نشاط المجموعات )</a:t>
            </a:r>
            <a:endParaRPr b="0" lang="en-US" sz="4400" spc="-1" strike="noStrike">
              <a:solidFill>
                <a:srgbClr val="000000"/>
              </a:solidFill>
              <a:latin typeface="Times New Roman"/>
            </a:endParaRPr>
          </a:p>
        </p:txBody>
      </p:sp>
      <p:pic>
        <p:nvPicPr>
          <p:cNvPr id="134" name="PE02106_" descr=""/>
          <p:cNvPicPr/>
          <p:nvPr/>
        </p:nvPicPr>
        <p:blipFill>
          <a:blip r:embed="rId1"/>
          <a:stretch/>
        </p:blipFill>
        <p:spPr>
          <a:xfrm>
            <a:off x="2133720" y="1693800"/>
            <a:ext cx="5295960" cy="4630680"/>
          </a:xfrm>
          <a:prstGeom prst="rect">
            <a:avLst/>
          </a:prstGeom>
          <a:ln w="0">
            <a:noFill/>
          </a:ln>
        </p:spPr>
      </p:pic>
    </p:spTree>
  </p:cSld>
  <p:transition spd="med" advTm="1000">
    <p:blinds dir="vert"/>
    <p:sndAc>
      <p:stSnd>
        <p:snd r:embed="rId2" name="REMINDE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cc66ff"/>
                </a:solidFill>
                <a:latin typeface="Times New Roman"/>
              </a:rPr>
              <a:t>النشاط الثالث المجموعة ( أ )</a:t>
            </a:r>
            <a:endParaRPr b="0" lang="en-US" sz="6000" spc="-1" strike="noStrike">
              <a:solidFill>
                <a:srgbClr val="000000"/>
              </a:solidFill>
              <a:latin typeface="Times New Roman"/>
            </a:endParaRPr>
          </a:p>
        </p:txBody>
      </p:sp>
      <p:sp>
        <p:nvSpPr>
          <p:cNvPr id="136" name=""/>
          <p:cNvSpPr/>
          <p:nvPr/>
        </p:nvSpPr>
        <p:spPr>
          <a:xfrm>
            <a:off x="228600" y="1676520"/>
            <a:ext cx="868680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العمل مع الصف كك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9307"/>
                </a:solidFill>
                <a:latin typeface="Times New Roman"/>
              </a:rPr>
              <a:t>* ناقش مع بقية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61473"/>
                </a:solidFill>
                <a:latin typeface="Times New Roman"/>
              </a:rPr>
              <a:t>النشاط الثالث المجموعة ( ب )</a:t>
            </a:r>
            <a:endParaRPr b="0" lang="en-US" sz="6000" spc="-1" strike="noStrike">
              <a:solidFill>
                <a:srgbClr val="000000"/>
              </a:solidFill>
              <a:latin typeface="Times New Roman"/>
            </a:endParaRPr>
          </a:p>
        </p:txBody>
      </p:sp>
      <p:sp>
        <p:nvSpPr>
          <p:cNvPr id="138" name=""/>
          <p:cNvSpPr/>
          <p:nvPr/>
        </p:nvSpPr>
        <p:spPr>
          <a:xfrm>
            <a:off x="228600" y="1676520"/>
            <a:ext cx="868680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فصل للعمل في مجموعات صغيرة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 ناقش مع بقية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00"/>
                </a:solidFill>
                <a:latin typeface="Times New Roman"/>
              </a:rPr>
              <a:t>النشاط الثالث المجموعة ( ج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
          <p:cNvSpPr/>
          <p:nvPr/>
        </p:nvSpPr>
        <p:spPr>
          <a:xfrm>
            <a:off x="304920" y="1447920"/>
            <a:ext cx="8534160" cy="702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صف للعمل مع كل مجموعة بمفرد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 ناقش مع </a:t>
            </a:r>
            <a:r>
              <a:rPr b="0" lang="hi-IN" sz="3600" spc="-1" strike="noStrike">
                <a:solidFill>
                  <a:srgbClr val="3333ff"/>
                </a:solidFill>
                <a:latin typeface="Times New Roman"/>
              </a:rPr>
              <a:t>بقية</a:t>
            </a:r>
            <a:r>
              <a:rPr b="0" lang="en-US" sz="3200" spc="-1" strike="noStrike">
                <a:solidFill>
                  <a:srgbClr val="3333ff"/>
                </a:solidFill>
                <a:latin typeface="Times New Roman"/>
              </a:rPr>
              <a:t>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الأهداف الخاصة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28600" y="1752120"/>
            <a:ext cx="8610480" cy="487692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1</a:t>
            </a:r>
            <a:r>
              <a:rPr b="0" lang="en-US" sz="3200" spc="-1" strike="noStrike">
                <a:solidFill>
                  <a:srgbClr val="cc66ff"/>
                </a:solidFill>
                <a:latin typeface="Times New Roman"/>
              </a:rPr>
              <a:t>- يتوقع من المتدرب في نهاية الجلسة أن يلم بالأنماط الشائعة للتفكير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2</a:t>
            </a:r>
            <a:r>
              <a:rPr b="0" lang="en-US" sz="3200" spc="-1" strike="noStrike">
                <a:solidFill>
                  <a:srgbClr val="cc66ff"/>
                </a:solidFill>
                <a:latin typeface="Times New Roman"/>
              </a:rPr>
              <a:t>- يتوقع من المتدرب في نهاية الجلسة أن يكون قادرا على صياغة الأسئلة المثيرة للتفكير لدى طلابه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3</a:t>
            </a:r>
            <a:r>
              <a:rPr b="0" lang="en-US" sz="3200" spc="-1" strike="noStrike">
                <a:solidFill>
                  <a:srgbClr val="cc66ff"/>
                </a:solidFill>
                <a:latin typeface="Times New Roman"/>
              </a:rPr>
              <a:t>- يتوقع من المتدرب في نهاية الجلسة أن يكون قادرا على تنظيم فصله الدراسي بالطريقة التي تسهل عملية تنمية التفكير لدى   طلابه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4</a:t>
            </a:r>
            <a:r>
              <a:rPr b="0" lang="en-US" sz="3200" spc="-1" strike="noStrike">
                <a:solidFill>
                  <a:srgbClr val="cc66ff"/>
                </a:solidFill>
                <a:latin typeface="Times New Roman"/>
              </a:rPr>
              <a:t>- يتوقع من المتدرب في نهاية الجلسة أن يكون</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789307"/>
                </a:solidFill>
                <a:latin typeface="Times New Roman"/>
              </a:rPr>
              <a:t>النشاط الثالث المجموعة ( د )</a:t>
            </a:r>
            <a:endParaRPr b="0" lang="en-US" sz="6000" spc="-1" strike="noStrike">
              <a:solidFill>
                <a:srgbClr val="000000"/>
              </a:solidFill>
              <a:latin typeface="Times New Roman"/>
            </a:endParaRPr>
          </a:p>
        </p:txBody>
      </p:sp>
      <p:sp>
        <p:nvSpPr>
          <p:cNvPr id="142" name=""/>
          <p:cNvSpPr/>
          <p:nvPr/>
        </p:nvSpPr>
        <p:spPr>
          <a:xfrm>
            <a:off x="228600" y="2035080"/>
            <a:ext cx="8610480" cy="5656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من الأدوار التي تساهم في تنمية مهارات التفكير لدى الطلا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تنظيم المعلم للفصل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ومن التنظيمات الشائعة في هذا الجانب أربع تنظيمات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تنظيم المعلم للصف للعمل مع الطلبة بشكل فردي .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ناقش مع بقية زملائك في المجموعة هذا التنظيم من حيث : دوره في تنمية التفكير ، ومحدداته ، وسلبياته ، وإيجابياته ، مع وصف مفصل لكيفية تنظيم الفصل بهذه الطريقة ، وتعامل المعلم مع هذا التنظيم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cc0066"/>
                </a:solidFill>
                <a:latin typeface="Times New Roman"/>
              </a:rPr>
              <a:t>عرض المدرب </a:t>
            </a:r>
            <a:endParaRPr b="0" lang="en-US" sz="8000" spc="-1" strike="noStrike">
              <a:solidFill>
                <a:srgbClr val="000000"/>
              </a:solidFill>
              <a:latin typeface="Times New Roman"/>
            </a:endParaRPr>
          </a:p>
        </p:txBody>
      </p:sp>
      <p:pic>
        <p:nvPicPr>
          <p:cNvPr id="144" name="PE01922_" descr=""/>
          <p:cNvPicPr/>
          <p:nvPr/>
        </p:nvPicPr>
        <p:blipFill>
          <a:blip r:embed="rId1"/>
          <a:stretch/>
        </p:blipFill>
        <p:spPr>
          <a:xfrm>
            <a:off x="1523880" y="1855800"/>
            <a:ext cx="6096240" cy="5002200"/>
          </a:xfrm>
          <a:prstGeom prst="rect">
            <a:avLst/>
          </a:prstGeom>
          <a:ln w="0">
            <a:noFill/>
          </a:ln>
        </p:spPr>
      </p:pic>
    </p:spTree>
  </p:cSld>
  <p:transition spd="med" advTm="1000">
    <p:blinds dir="vert"/>
    <p:sndAc>
      <p:stSnd>
        <p:snd r:embed="rId2" name="REMINDE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ff"/>
                </a:solidFill>
                <a:latin typeface="Times New Roman"/>
              </a:rPr>
              <a:t>1</a:t>
            </a:r>
            <a:r>
              <a:rPr b="0" lang="en-US" sz="6000" spc="-1" strike="noStrike">
                <a:solidFill>
                  <a:srgbClr val="ff66ff"/>
                </a:solidFill>
                <a:latin typeface="Times New Roman"/>
              </a:rPr>
              <a:t>- العمل مع الصف ككل </a:t>
            </a:r>
            <a:endParaRPr b="0" lang="en-US" sz="6000" spc="-1" strike="noStrike">
              <a:solidFill>
                <a:srgbClr val="000000"/>
              </a:solidFill>
              <a:latin typeface="Times New Roman"/>
            </a:endParaRPr>
          </a:p>
        </p:txBody>
      </p:sp>
      <p:sp>
        <p:nvSpPr>
          <p:cNvPr id="146" name=""/>
          <p:cNvSpPr/>
          <p:nvPr/>
        </p:nvSpPr>
        <p:spPr>
          <a:xfrm>
            <a:off x="76320" y="1600200"/>
            <a:ext cx="9067680" cy="7341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cc"/>
                </a:solidFill>
                <a:latin typeface="Times New Roman"/>
              </a:rPr>
              <a:t>إذا كانت أغـلب النشاطات الصـفية تنـفذ ضمن الصف كل، فقد يكون في البـداية من الأفضل استخدام اتجاه الصف الكامـل في تدريس التفكير ، ذلك أنه أكثر قدرة على الضبط من قبل المعلم  ولهـذا الاتجـاه منـافع واضحة ، إضافة إلى محددات ممــيزة  ويتـطلب الـتدريس على هذا الـنوع من التنـظيم درجة أقـل مـن إعـادة تنظيم الغرفة الصفية ، ومن العيـوب الواضحة في هـــذا التنظيم ،النقص في التفـاعلات الفردية ما بين المتعلم والطـالب . </a:t>
            </a:r>
            <a:endParaRPr b="0" lang="en-US" sz="36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80880" y="304920"/>
            <a:ext cx="8458200" cy="7918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وعند تبني هذا النوع من التنظيم نجب اتباع الإجراءات التالية لتسهيل عملية التنفيذ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1</a:t>
            </a:r>
            <a:r>
              <a:rPr b="0" lang="ar-SA" sz="2800" spc="-1" strike="noStrike">
                <a:solidFill>
                  <a:srgbClr val="ff0000"/>
                </a:solidFill>
                <a:latin typeface="Times New Roman"/>
              </a:rPr>
              <a:t>- ابدأ بتقديم عملية التفكير إلى الطالب ، والتي سيقام عل أساسها التمرين  أو النشاط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2</a:t>
            </a:r>
            <a:r>
              <a:rPr b="0" lang="ar-SA" sz="2800" spc="-1" strike="noStrike">
                <a:solidFill>
                  <a:srgbClr val="ff0000"/>
                </a:solidFill>
                <a:latin typeface="Times New Roman"/>
              </a:rPr>
              <a:t>- حينما يمتلك الطلبة فهما واضحا عما تحويه العملية ، قم باختيار النشاط اللازم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3</a:t>
            </a:r>
            <a:r>
              <a:rPr b="0" lang="ar-SA" sz="2800" spc="-1" strike="noStrike">
                <a:solidFill>
                  <a:srgbClr val="ff0000"/>
                </a:solidFill>
                <a:latin typeface="Times New Roman"/>
              </a:rPr>
              <a:t>- خذ قرارا بخصوص كيفية إعطاء الاستجابات ، هل هي لفظية / شفوية  أو كتاب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4</a:t>
            </a:r>
            <a:r>
              <a:rPr b="0" lang="ar-SA" sz="2800" spc="-1" strike="noStrike">
                <a:solidFill>
                  <a:srgbClr val="ff0000"/>
                </a:solidFill>
                <a:latin typeface="Times New Roman"/>
              </a:rPr>
              <a:t>- قدم النشاط للصف ، إذا كنت تريد استخدام مواد ، ومعالجتها ، أما إذا كنت تريد استخدام الصور والشروحات ، فتأكد من أن جميع الأطفال يمكن أو يروا البيانات ، أو المعلومات بوضوح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5</a:t>
            </a:r>
            <a:r>
              <a:rPr b="0" lang="ar-SA" sz="2800" spc="-1" strike="noStrike">
                <a:solidFill>
                  <a:srgbClr val="ff0000"/>
                </a:solidFill>
                <a:latin typeface="Times New Roman"/>
              </a:rPr>
              <a:t>- امنح الطلبة وقتا محددا لدراسة متطلبات النشاط ، والتفكير فيها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في مجموعات صغيرة</a:t>
            </a:r>
            <a:r>
              <a:rPr b="0" lang="en-US" sz="6000" spc="-1" strike="noStrike">
                <a:solidFill>
                  <a:srgbClr val="cc0066"/>
                </a:solidFill>
                <a:latin typeface="Times New Roman"/>
              </a:rPr>
              <a:t> </a:t>
            </a:r>
            <a:endParaRPr b="0" lang="en-US" sz="6000" spc="-1" strike="noStrike">
              <a:solidFill>
                <a:srgbClr val="000000"/>
              </a:solidFill>
              <a:latin typeface="Times New Roman"/>
            </a:endParaRPr>
          </a:p>
        </p:txBody>
      </p:sp>
      <p:sp>
        <p:nvSpPr>
          <p:cNvPr id="149" name=""/>
          <p:cNvSpPr/>
          <p:nvPr/>
        </p:nvSpPr>
        <p:spPr>
          <a:xfrm>
            <a:off x="228600" y="762120"/>
            <a:ext cx="8915400" cy="8735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على عكس من وضع اتجاه الصف ككل إلى المقدمة ، فإن العمل لضمن مجموعات صغيرة يتفاعل أكبر عدد من الأطفال ، وأنه يساعد في البحث الاستشاري حيث أن التفكير في مجموعة صغيرة يمكن أن يكون طريقة استحثاثية في عصف الأفكار ، أو العصف الذهني للأفكار ، كما أن الطلبة الذين يمتلكون صعوبات في التحدث ضمن مجموعات كبيرة قد يتطوعون في طرح أفكارهم في المواقف التعليمية التي تطرح ضمن مجموعات صغير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وعند اختيار المعلم لهذا النوع من التنظيم فلا بد من اتباع الإجراءات التا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1</a:t>
            </a:r>
            <a:r>
              <a:rPr b="0" lang="ar-SA" sz="2800" spc="-1" strike="noStrike">
                <a:solidFill>
                  <a:srgbClr val="ff3300"/>
                </a:solidFill>
                <a:latin typeface="Times New Roman"/>
              </a:rPr>
              <a:t>- البدء بتقديم عملية التفكير إلى الطالب والتي سيقوم على أساسها التمرين ، أو النشاط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2</a:t>
            </a:r>
            <a:r>
              <a:rPr b="0" lang="ar-SA" sz="2800" spc="-1" strike="noStrike">
                <a:solidFill>
                  <a:srgbClr val="ff3300"/>
                </a:solidFill>
                <a:latin typeface="Times New Roman"/>
              </a:rPr>
              <a:t>- قم باختيار النشاط اللازم بعد أن يتملك الطلاب فهما واضحا لما تنويه من العم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3</a:t>
            </a:r>
            <a:r>
              <a:rPr b="0" lang="ar-SA" sz="2800" spc="-1" strike="noStrike">
                <a:solidFill>
                  <a:srgbClr val="ff3300"/>
                </a:solidFill>
                <a:latin typeface="Times New Roman"/>
              </a:rPr>
              <a:t>- حدد نوع الاستجابة من الطالب ، هل هي لفظية / شفوية ، أم كتابية .</a:t>
            </a:r>
            <a:endParaRPr b="0" lang="en-US" sz="28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85800" y="228600"/>
            <a:ext cx="7848720" cy="8234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قم بإعداد وتحضير نسخ عن النشاط الـتفكيـري من أجل توزيعه على كل مجموع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5</a:t>
            </a:r>
            <a:r>
              <a:rPr b="0" lang="ar-SA" sz="2800" spc="-1" strike="noStrike">
                <a:solidFill>
                  <a:srgbClr val="000000"/>
                </a:solidFill>
                <a:latin typeface="Times New Roman"/>
              </a:rPr>
              <a:t>- قسم الفصل إلى مجموعات تتألف من أربعة إلى خمسة أعضاء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6</a:t>
            </a:r>
            <a:r>
              <a:rPr b="0" lang="ar-SA" sz="2800" spc="-1" strike="noStrike">
                <a:solidFill>
                  <a:srgbClr val="000000"/>
                </a:solidFill>
                <a:latin typeface="Times New Roman"/>
              </a:rPr>
              <a:t>- تأكد من أن المجموعات تفهم متطلبات عملية التفكي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a:t>
            </a:r>
            <a:r>
              <a:rPr b="0" lang="ar-SA" sz="2800" spc="-1" strike="noStrike">
                <a:solidFill>
                  <a:srgbClr val="000000"/>
                </a:solidFill>
                <a:latin typeface="Times New Roman"/>
              </a:rPr>
              <a:t>- وزع نسخ على كل مجموعة . اطلب من الأطفال أن يتحدثوا مع بعضهم البعض بشأن الأفكار والعمل مع بعضهم البعض من أجل إنهاء النشاط ، وأطلب من كل مجموعة أن تختار مقررا من أجل أن يكون مسئولا عن تسجيل أفكار المجموع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ندما تنهي المجموعات هذا العمل ، أطلب من كل مقرر أن يقدم استجابات المجموعة أمام باقي طلاب الصف . وقد ينقلها إلى السبورة ، ثم ادع الصف إلى المناقشة بشأن الاختلافات ، التباينات في استجابات كل مجموعة ، وتجنب إطلاق الأحكام بشأن قيمة الاستجابات التي تصدر عنهم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ضمن مجموعة فردية </a:t>
            </a:r>
            <a:endParaRPr b="0" lang="en-US" sz="6000" spc="-1" strike="noStrike">
              <a:solidFill>
                <a:srgbClr val="000000"/>
              </a:solidFill>
              <a:latin typeface="Times New Roman"/>
            </a:endParaRPr>
          </a:p>
        </p:txBody>
      </p:sp>
      <p:sp>
        <p:nvSpPr>
          <p:cNvPr id="152" name=""/>
          <p:cNvSpPr/>
          <p:nvPr/>
        </p:nvSpPr>
        <p:spPr>
          <a:xfrm>
            <a:off x="304920" y="1295280"/>
            <a:ext cx="8762760" cy="66211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يمكن استخدام مثل هذا التنظيم مع الصف الذي يتألف من عدد قليل من الطلاب  وممثل هذا التنظيم يعزز تأثير تفاعلات التدريس من أجل التفكير ،ولكن يجب عند استخدام مثل هذا لاتنظيم مراعاة أن يكون باقي أعضاء الصف منشغلين بعمل مثمر عند تعامل المعلم مع المجموعة صغيرة منه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وإليك بعض الخطوات التي يتوجب عليك اخذها بالاعتبار عند تنفيذ هذا التنظيم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1</a:t>
            </a:r>
            <a:r>
              <a:rPr b="0" lang="ar-SA" sz="2800" spc="-1" strike="noStrike">
                <a:solidFill>
                  <a:srgbClr val="ff0000"/>
                </a:solidFill>
                <a:latin typeface="Times New Roman"/>
              </a:rPr>
              <a:t>- قرر مسبقا من هم الطلبة الذين سوف تعمل معه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2</a:t>
            </a:r>
            <a:r>
              <a:rPr b="0" lang="ar-SA" sz="2800" spc="-1" strike="noStrike">
                <a:solidFill>
                  <a:srgbClr val="ff0000"/>
                </a:solidFill>
                <a:latin typeface="Times New Roman"/>
              </a:rPr>
              <a:t>- قرر مسبقا ما الذي سيقوم به باقي الأعضاء في الصف . ولا بد أن يكون ذلك مفيدا لهم . فقد يعملون ضمن مجموعات صغيرة في النشاط التفكيري ،أو قد يقرءون ، أو يكتبون ، أو يعملون على أداء واجب .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76320" y="0"/>
            <a:ext cx="8839080" cy="86612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3</a:t>
            </a:r>
            <a:r>
              <a:rPr b="0" lang="ar-SA" sz="2800" spc="-1" strike="noStrike">
                <a:solidFill>
                  <a:srgbClr val="000000"/>
                </a:solidFill>
                <a:latin typeface="Times New Roman"/>
              </a:rPr>
              <a:t>- قم باختيار النشاط التفكيري المناسب مع المجموعة ، وتأكد من أن الطلبة يمتلكون فهما جيدا وواضحا عما تحتويه العم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بعد تقديم النشاط إلى المجموعة أعطهم وقتا كافيا لتفحص النشاط ،والتحدث مع بعضهم البعض بأن الاستجابات الخاصة بالمهمة . وتجنب التفاعلات حتى تتأكد أن المجموعة قد استهلكت البحث الموجه ذاتي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5</a:t>
            </a:r>
            <a:r>
              <a:rPr b="0" lang="ar-SA" sz="2800" spc="-1" strike="noStrike">
                <a:solidFill>
                  <a:srgbClr val="000000"/>
                </a:solidFill>
                <a:latin typeface="Times New Roman"/>
              </a:rPr>
              <a:t>- ادع الطلبة لمناقشة أفكارهم معك . ماذا وجدوا ؟ وعندما يستجيبون إليك استمع باهتمام لكل فكرة ، وتأمل ، أو فكر بالمعنى الذي تتضمنه فكر الطفل المقدمة من قبله ، واستمر في هذه التفاعلية التأملية التفكرية لمدة خمس دقائق ، أو حسبما ترى أنه مناسبا ، ومفيد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6</a:t>
            </a:r>
            <a:r>
              <a:rPr b="0" lang="ar-SA" sz="2800" spc="-1" strike="noStrike">
                <a:solidFill>
                  <a:srgbClr val="000000"/>
                </a:solidFill>
                <a:latin typeface="Times New Roman"/>
              </a:rPr>
              <a:t>- تجنب التعليق على أفكار الطلبة كأن تقول لهم “ جيد “ أو ” مقنع “ أو      “ مفيد “ واشكرهم بعد انتهاء الجلسة على مشاركتك الأفكا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a:t>
            </a:r>
            <a:r>
              <a:rPr b="0" lang="ar-SA" sz="2800" spc="-1" strike="noStrike">
                <a:solidFill>
                  <a:srgbClr val="000000"/>
                </a:solidFill>
                <a:latin typeface="Times New Roman"/>
              </a:rPr>
              <a:t>- ضع جدولا بشأن تدوير المجموعات بحيث تضمن أن كافة الطلاب قد توافرت لهم فرصة العمل معك بالتساوي ضمن مجموعة صغيرة في جلسة تفكيرية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7a92"/>
            </a:gs>
            <a:gs pos="100000">
              <a:srgbClr val="00cc99"/>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مع الطلبة بشكل فردي</a:t>
            </a:r>
            <a:endParaRPr b="0" lang="en-US" sz="6000" spc="-1" strike="noStrike">
              <a:solidFill>
                <a:srgbClr val="000000"/>
              </a:solidFill>
              <a:latin typeface="Times New Roman"/>
            </a:endParaRPr>
          </a:p>
        </p:txBody>
      </p:sp>
      <p:sp>
        <p:nvSpPr>
          <p:cNvPr id="155" name=""/>
          <p:cNvSpPr/>
          <p:nvPr/>
        </p:nvSpPr>
        <p:spPr>
          <a:xfrm>
            <a:off x="152280" y="1371600"/>
            <a:ext cx="8763120" cy="5169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قد تحتاج إلى تنظيم تدريسك من أجل التفكير في برامج فردية ، وسيكون هذا الوضع مختلفا جذريا عن برامج القراءة الفردية فبدلا من اختيار الكتب ، يقوم الطلبة باختيار الماد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وإليك بعض الإجراءات التي توضح هذا الاتجاه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1</a:t>
            </a:r>
            <a:r>
              <a:rPr b="0" lang="ar-SA" sz="2000" spc="-1" strike="noStrike">
                <a:solidFill>
                  <a:srgbClr val="9900cc"/>
                </a:solidFill>
                <a:latin typeface="Times New Roman"/>
              </a:rPr>
              <a:t>- اختر أنشطة تعتقد بأنها ملائمة لطلبة صفك وحدد التعليمات بوضوح إلى الطلبة ، وخاصة ما يتعلق بالنشاط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2</a:t>
            </a:r>
            <a:r>
              <a:rPr b="0" lang="ar-SA" sz="2000" spc="-1" strike="noStrike">
                <a:solidFill>
                  <a:srgbClr val="9900cc"/>
                </a:solidFill>
                <a:latin typeface="Times New Roman"/>
              </a:rPr>
              <a:t>- حدد لكل طالب نشاط معين يلائم موضوع الدرس ، ويسهم في تنمية التفك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مثال : كتاب العلوم للصف الثاني الابتدائي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أين يذهب ماء المط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تحتاج إلى عدد من أكواب الماء ، وأنواع متعددة من التربة ، وماء … تابع ما يحدث مع كل نوع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3</a:t>
            </a:r>
            <a:r>
              <a:rPr b="0" lang="ar-SA" sz="2000" spc="-1" strike="noStrike">
                <a:solidFill>
                  <a:srgbClr val="9900cc"/>
                </a:solidFill>
                <a:latin typeface="Times New Roman"/>
              </a:rPr>
              <a:t>- يقوم المعلم في النهاية بالتعليق على كل النشاطات بطريقة تسهل تفكير ، وتأمل الطلبة .</a:t>
            </a: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cc"/>
                </a:solidFill>
                <a:latin typeface="Times New Roman"/>
              </a:rPr>
              <a:t>النشاط الرابع ( نشاط المجموعات )</a:t>
            </a:r>
            <a:endParaRPr b="0" lang="en-US" sz="4400" spc="-1" strike="noStrike">
              <a:solidFill>
                <a:srgbClr val="000000"/>
              </a:solidFill>
              <a:latin typeface="Times New Roman"/>
            </a:endParaRPr>
          </a:p>
        </p:txBody>
      </p:sp>
      <p:pic>
        <p:nvPicPr>
          <p:cNvPr id="157" name="PE02106_" descr=""/>
          <p:cNvPicPr/>
          <p:nvPr/>
        </p:nvPicPr>
        <p:blipFill>
          <a:blip r:embed="rId1"/>
          <a:stretch/>
        </p:blipFill>
        <p:spPr>
          <a:xfrm>
            <a:off x="1981080" y="1770120"/>
            <a:ext cx="5372280" cy="4402080"/>
          </a:xfrm>
          <a:prstGeom prst="rect">
            <a:avLst/>
          </a:prstGeom>
          <a:ln w="0">
            <a:noFill/>
          </a:ln>
        </p:spPr>
      </p:pic>
    </p:spTree>
  </p:cSld>
  <p:transition spd="med" advTm="1000">
    <p:blinds dir="vert"/>
    <p:sndAc>
      <p:stSnd>
        <p:snd r:embed="rId2" name="REMIND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0" name=""/>
          <p:cNvSpPr/>
          <p:nvPr/>
        </p:nvSpPr>
        <p:spPr>
          <a:xfrm>
            <a:off x="0" y="76320"/>
            <a:ext cx="8915400" cy="908028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cs typeface="Traditional Arabic"/>
              </a:rPr>
              <a:t>مقدمة</a:t>
            </a:r>
            <a:r>
              <a:rPr b="0" lang="en-US" sz="6000" spc="-1" strike="noStrike">
                <a:solidFill>
                  <a:srgbClr val="9933ff"/>
                </a:solidFill>
                <a:latin typeface="Times New Roman"/>
              </a:rPr>
              <a:t> : </a:t>
            </a:r>
            <a:endParaRPr b="0" lang="en-US" sz="60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cs typeface="Traditional Arabic"/>
              </a:rPr>
              <a:t>يمثل التفكير أعقد أنواع السلوك الإنساني ، فهو يأتي في أعلى مستويات النشاط العقلي ، كما يعتبر من أهم الخصائص التي تميز الإنسان عن غيره من المخلوقات ، وهذا السلوك ناتـج عن تركيب الدماغ لديه ، وتعقيده مقارنة مع تركيبه البسيط عند الحيوان واستطاع الإنسان من خـلاله أن يتـميز عن الحيوان بقدرته على تحديد الهدف من سلوكه .</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996633"/>
                </a:solidFill>
                <a:latin typeface="Times New Roman"/>
              </a:rPr>
              <a:t>النشاط الرابع </a:t>
            </a:r>
            <a:endParaRPr b="0" lang="en-US" sz="8000" spc="-1" strike="noStrike">
              <a:solidFill>
                <a:srgbClr val="000000"/>
              </a:solidFill>
              <a:latin typeface="Times New Roman"/>
            </a:endParaRPr>
          </a:p>
        </p:txBody>
      </p:sp>
      <p:sp>
        <p:nvSpPr>
          <p:cNvPr id="159" name=""/>
          <p:cNvSpPr/>
          <p:nvPr/>
        </p:nvSpPr>
        <p:spPr>
          <a:xfrm>
            <a:off x="457200" y="1447920"/>
            <a:ext cx="8381880" cy="5985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من الأدوار التي يلعبها المعلم ، وتسهم في تنمية مهارات التفكير لدى الطلا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استجابة المعلم لطلابه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 ناقش مع زملائك في المجموعة كيف يمكن أن تكون استجابات المعلم عاملا مهما في تنمية مهارات التفكير لدى الطلا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 مع ذكر: </a:t>
            </a:r>
            <a:r>
              <a:rPr b="0" lang="ar-SA" sz="3200" spc="-1" strike="noStrike">
                <a:solidFill>
                  <a:srgbClr val="ff3300"/>
                </a:solidFill>
                <a:latin typeface="Times New Roman"/>
              </a:rPr>
              <a:t>1</a:t>
            </a:r>
            <a:r>
              <a:rPr b="0" lang="ar-SA" sz="3200" spc="-1" strike="noStrike">
                <a:solidFill>
                  <a:srgbClr val="ff3300"/>
                </a:solidFill>
                <a:latin typeface="Times New Roman"/>
              </a:rPr>
              <a:t>- الاستجابات التي تنهي ، وتلغي أي فرصة للتفكير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2</a:t>
            </a:r>
            <a:r>
              <a:rPr b="0" lang="ar-SA" sz="3200" spc="-1" strike="noStrike">
                <a:solidFill>
                  <a:srgbClr val="ff3300"/>
                </a:solidFill>
                <a:latin typeface="Times New Roman"/>
              </a:rPr>
              <a:t>-  الاستجابات التي تحافظ على التفكير  وتشجعه ، وتنميه .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9900cc"/>
                </a:solidFill>
                <a:latin typeface="Times New Roman"/>
              </a:rPr>
              <a:t>عرض المدرب</a:t>
            </a:r>
            <a:endParaRPr b="0" lang="en-US" sz="8000" spc="-1" strike="noStrike">
              <a:solidFill>
                <a:srgbClr val="000000"/>
              </a:solidFill>
              <a:latin typeface="Times New Roman"/>
            </a:endParaRPr>
          </a:p>
        </p:txBody>
      </p:sp>
      <p:pic>
        <p:nvPicPr>
          <p:cNvPr id="161" name="PE01902_" descr=""/>
          <p:cNvPicPr/>
          <p:nvPr/>
        </p:nvPicPr>
        <p:blipFill>
          <a:blip r:embed="rId1"/>
          <a:stretch/>
        </p:blipFill>
        <p:spPr>
          <a:xfrm>
            <a:off x="1905120" y="1981080"/>
            <a:ext cx="5362560" cy="4496040"/>
          </a:xfrm>
          <a:prstGeom prst="rect">
            <a:avLst/>
          </a:prstGeom>
          <a:ln w="0">
            <a:noFill/>
          </a:ln>
        </p:spPr>
      </p:pic>
    </p:spTree>
  </p:cSld>
  <p:transition spd="med" advTm="1000">
    <p:blinds dir="vert"/>
    <p:sndAc>
      <p:stSnd>
        <p:snd r:embed="rId2" name="REMINDE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00cc"/>
                </a:solidFill>
                <a:latin typeface="Times New Roman"/>
              </a:rPr>
              <a:t>استجابة المعلم للطلاب</a:t>
            </a:r>
            <a:endParaRPr b="0" lang="en-US" sz="6000" spc="-1" strike="noStrike">
              <a:solidFill>
                <a:srgbClr val="000000"/>
              </a:solidFill>
              <a:latin typeface="Times New Roman"/>
            </a:endParaRPr>
          </a:p>
        </p:txBody>
      </p:sp>
      <p:sp>
        <p:nvSpPr>
          <p:cNvPr id="163" name=""/>
          <p:cNvSpPr/>
          <p:nvPr/>
        </p:nvSpPr>
        <p:spPr>
          <a:xfrm>
            <a:off x="152280" y="1676520"/>
            <a:ext cx="8763120" cy="6684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0000"/>
                </a:solidFill>
                <a:latin typeface="Times New Roman"/>
              </a:rPr>
              <a:t>يساعد أسلوب المعلم في الاستجابة للطلاب على تنمية الوعي لديهم بعمليات التفكير ، وكيفية اكتسابها ن وتنميتها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0000"/>
                </a:solidFill>
                <a:latin typeface="Times New Roman"/>
              </a:rPr>
              <a:t>ويستطيع المعلم أن يخلق مناخا يشجع التفكير ، فالمناخ هو أسلوب التفاعل بين المعلم ، والطالب الذي يوفر ، الثقة المخاطرة ، مستوى التفكير ، وأسلوب الاستجابة جزء هام من هذا التفاعل ، والسلوك الذي يقوم به المعلم بعد أن يستمع لإجابة الطالب على سؤال ، أو استجابة الطالب لما قاله المعلم . حيث إن المعلم يبدأ سلوكا ما ، وذلك بأن يوجه سؤالا للطالب ، أو يقدم معلومة ، ثم يقوم الطالب بسلوك ما استجابة لما قاله المعلم ن ثم يقوم المعلم استجابة لأداء الطالب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76320" y="228600"/>
            <a:ext cx="8915400" cy="8918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وقد وجد الباحثون أن أسلوب استجابة المعلم يؤثر في سلوك الطالب أكثر من السؤال الذي وجه ، أو التعليمات التي طلب من الطالب تنفيذها ، وذلك لأن الطالب شديد الحرص عل معرفة استجابة المعلم له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كما وجدوا أن استجابات المعلمين للطلاب تؤثر على مفهوم الذات لديهم ، واتجاهاتهم نحو التعلم ، وعلى تحصيلهم ، وعلاقاتهم بالفصل بشكل عام . ويمكن أن تصنف استجابة المعلم تبعا لتأثيرها على الطلاب إلى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1</a:t>
            </a:r>
            <a:r>
              <a:rPr b="0" lang="ar-SA" sz="3600" spc="-1" strike="noStrike">
                <a:solidFill>
                  <a:srgbClr val="000000"/>
                </a:solidFill>
                <a:latin typeface="Times New Roman"/>
              </a:rPr>
              <a:t>- استجابات تنهي ، وتلغي أي فرصة للتفكير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2</a:t>
            </a:r>
            <a:r>
              <a:rPr b="0" lang="ar-SA" sz="3600" spc="-1" strike="noStrike">
                <a:solidFill>
                  <a:srgbClr val="000000"/>
                </a:solidFill>
                <a:latin typeface="Times New Roman"/>
              </a:rPr>
              <a:t>- استجابات تحافظ على التفكير ، وتشجعه ، وتنميه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304920" y="304920"/>
            <a:ext cx="8458200" cy="7868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أولا : الاستجابات التي تنهي وتلغي أي فرصة للتفكير .</a:t>
            </a:r>
            <a:endParaRPr b="0" lang="en-US" sz="36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    </a:t>
            </a:r>
            <a:r>
              <a:rPr b="0" lang="ar-SA" sz="2800" spc="-1" strike="noStrike">
                <a:solidFill>
                  <a:srgbClr val="9900cc"/>
                </a:solidFill>
                <a:latin typeface="Times New Roman"/>
              </a:rPr>
              <a:t>* النقد                      * المديح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كل ما يقلل من شأن الطالب مثل الاستجابات غير اللفظية التي تظهر في تعبيرات الوجه ، أو نبرات الصوت التي توحي بالتهكم والرفض .</a:t>
            </a:r>
            <a:endParaRPr b="0" lang="en-US" sz="28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ثانيا: الاستجابات التي تفتح الطريق للتفكير وتشجعه . </a:t>
            </a:r>
            <a:endParaRPr b="0" lang="en-US" sz="36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صمت ( فترة من الزمن للانتظار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تقبل الحيادي     * التقبل الإيحائي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تقبل والتعاطف * طلب التوضيح لكل من المفهوم والعملية من قبل الطال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تيسير جمع المادة ، أو الحصول على البيانات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5867280" y="1066680"/>
            <a:ext cx="2590920" cy="45720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a:t>
            </a:r>
            <a:r>
              <a:rPr b="0" lang="en-US" sz="2000" spc="-1" strike="noStrike">
                <a:solidFill>
                  <a:srgbClr val="ff0000"/>
                </a:solidFill>
                <a:latin typeface="Times New Roman"/>
              </a:rPr>
              <a:t>- أن يكون التفكير مفيدا</a:t>
            </a:r>
            <a:endParaRPr b="0" lang="en-US" sz="2000" spc="-1" strike="noStrike">
              <a:solidFill>
                <a:srgbClr val="000000"/>
              </a:solidFill>
              <a:latin typeface="Times New Roman"/>
            </a:endParaRPr>
          </a:p>
        </p:txBody>
      </p:sp>
      <p:sp>
        <p:nvSpPr>
          <p:cNvPr id="52" name=""/>
          <p:cNvSpPr/>
          <p:nvPr/>
        </p:nvSpPr>
        <p:spPr>
          <a:xfrm>
            <a:off x="3886200" y="76320"/>
            <a:ext cx="5029200" cy="91440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Times New Roman"/>
              </a:rPr>
              <a:t>أمور يجب على المعلم مراعاتها عند تعليم التفكير :</a:t>
            </a:r>
            <a:endParaRPr b="0" lang="en-US" sz="2400" spc="-1" strike="noStrike">
              <a:solidFill>
                <a:srgbClr val="000000"/>
              </a:solidFill>
              <a:latin typeface="Times New Roman"/>
            </a:endParaRPr>
          </a:p>
        </p:txBody>
      </p:sp>
      <p:sp>
        <p:nvSpPr>
          <p:cNvPr id="53" name=""/>
          <p:cNvSpPr/>
          <p:nvPr/>
        </p:nvSpPr>
        <p:spPr>
          <a:xfrm>
            <a:off x="1600200" y="1676520"/>
            <a:ext cx="7162920" cy="3400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ويكون ذلك حينما يبدأ فيه تعليم الأطفال الانطلاق من قضية مفيدة مث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أ- لماذا الحديد لا يتفتت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ب - ما سبب انجذاب الأوراق إلى الجسم المدلوك بالصوف ؟ ويترتب على هــذا الفــهم أن يكون هــادفا ، ويـدرب الأطــفال على البــحث عن هــدف والانطلاق من هدف لكي يكون التفكير وظيفة ذهنية بناءة ، والبعد عن التفكير العبثي الذي يسود تفكير المراهقين أحيانا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p:nvPr/>
        </p:nvSpPr>
        <p:spPr>
          <a:xfrm>
            <a:off x="380880" y="4191120"/>
            <a:ext cx="8763120" cy="60948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2</a:t>
            </a:r>
            <a:r>
              <a:rPr b="0" lang="ar-SA" sz="2000" spc="-1" strike="noStrike">
                <a:solidFill>
                  <a:srgbClr val="ff0000"/>
                </a:solidFill>
                <a:latin typeface="Times New Roman"/>
              </a:rPr>
              <a:t>- أن يدرك أ، أداء الطفل هو نتاج تفاعل مجموعة من المتغيرات منها الدافعية، والاستعداد الذهني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 name=""/>
          <p:cNvSpPr/>
          <p:nvPr/>
        </p:nvSpPr>
        <p:spPr>
          <a:xfrm>
            <a:off x="533520" y="4572000"/>
            <a:ext cx="8229600" cy="2433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وليتسنى للمعلم فهم مستوى تفكير الأطفال يج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أ- أن يعلم المعلم أن استعداد الأطفال للتفكير يختلف من طفل لآخ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ب - يفهم المعلم أنماط تفكير طلابه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cc33"/>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ff0000"/>
                </a:solidFill>
                <a:latin typeface="Curlz MT"/>
                <a:cs typeface="Traditional Arabic Backslanted"/>
              </a:rPr>
              <a:t>النشاط الأول</a:t>
            </a:r>
            <a:endParaRPr b="0" lang="en-US" sz="8000" spc="-1" strike="noStrike">
              <a:solidFill>
                <a:srgbClr val="000000"/>
              </a:solidFill>
              <a:latin typeface="Times New Roman"/>
            </a:endParaRPr>
          </a:p>
        </p:txBody>
      </p:sp>
      <p:pic>
        <p:nvPicPr>
          <p:cNvPr id="57" name="BD09250_" descr=""/>
          <p:cNvPicPr/>
          <p:nvPr/>
        </p:nvPicPr>
        <p:blipFill>
          <a:blip r:embed="rId1"/>
          <a:stretch/>
        </p:blipFill>
        <p:spPr>
          <a:xfrm>
            <a:off x="2895480" y="3352680"/>
            <a:ext cx="3594240" cy="3276720"/>
          </a:xfrm>
          <a:prstGeom prst="rect">
            <a:avLst/>
          </a:prstGeom>
          <a:ln w="0">
            <a:noFill/>
          </a:ln>
        </p:spPr>
      </p:pic>
      <p:sp>
        <p:nvSpPr>
          <p:cNvPr id="58" name=""/>
          <p:cNvSpPr/>
          <p:nvPr/>
        </p:nvSpPr>
        <p:spPr>
          <a:xfrm>
            <a:off x="990720" y="2057400"/>
            <a:ext cx="7848360" cy="10083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ff"/>
                </a:solidFill>
                <a:latin typeface="Times New Roman"/>
              </a:rPr>
              <a:t> أولاً : تعريف التفكير :</a:t>
            </a:r>
            <a:endParaRPr b="0" lang="en-US" sz="6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685800"/>
            <a:ext cx="8839080" cy="640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ar-SA" sz="8000" spc="-1" strike="noStrike">
                <a:solidFill>
                  <a:srgbClr val="cc00ff"/>
                </a:solidFill>
                <a:latin typeface="Times New Roman"/>
              </a:rPr>
              <a:t>التفكير:</a:t>
            </a:r>
            <a:br>
              <a:rPr sz="6600"/>
            </a:br>
            <a:r>
              <a:rPr b="0" lang="ar-SA" sz="6600" spc="-1" strike="noStrike">
                <a:solidFill>
                  <a:srgbClr val="3333cc"/>
                </a:solidFill>
                <a:latin typeface="Times New Roman"/>
              </a:rPr>
              <a:t>هو إشغــال الذهــن باســـــــتخدام المخزون المعرفي والنفسي لــدى الفـــرد لمــــعرفة مــا لا يــعرفـه.</a:t>
            </a:r>
            <a:br>
              <a:rPr sz="7200"/>
            </a:br>
            <a:br>
              <a:rPr sz="7200"/>
            </a:br>
            <a:r>
              <a:rPr b="0" lang="ar-SA" sz="4400" spc="-1" strike="noStrike">
                <a:solidFill>
                  <a:srgbClr val="3333cc"/>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880"/>
            <a:ext cx="7772400" cy="1828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a50021"/>
                </a:solidFill>
                <a:latin typeface="Times New Roman"/>
              </a:rPr>
              <a:t> ثانيًا : أنمــــاط التـفـــكير</a:t>
            </a:r>
            <a:r>
              <a:rPr b="0" lang="en-US" sz="4400" spc="-1" strike="noStrike">
                <a:solidFill>
                  <a:srgbClr val="a50021"/>
                </a:solidFill>
                <a:latin typeface="Times New Roman"/>
              </a:rPr>
              <a:t> </a:t>
            </a:r>
            <a:endParaRPr b="0" lang="en-US" sz="4400" spc="-1" strike="noStrike">
              <a:solidFill>
                <a:srgbClr val="000000"/>
              </a:solidFill>
              <a:latin typeface="Times New Roman"/>
            </a:endParaRPr>
          </a:p>
        </p:txBody>
      </p:sp>
      <p:pic>
        <p:nvPicPr>
          <p:cNvPr id="61" name="BD09264_" descr=""/>
          <p:cNvPicPr/>
          <p:nvPr/>
        </p:nvPicPr>
        <p:blipFill>
          <a:blip r:embed="rId1"/>
          <a:stretch/>
        </p:blipFill>
        <p:spPr>
          <a:xfrm>
            <a:off x="2438280" y="2057400"/>
            <a:ext cx="4724640" cy="4495680"/>
          </a:xfrm>
          <a:prstGeom prst="rect">
            <a:avLst/>
          </a:prstGeom>
          <a:ln w="0">
            <a:noFill/>
          </a:ln>
        </p:spPr>
      </p:pic>
    </p:spTree>
  </p:cSld>
  <p:transition spd="med" advTm="1000">
    <p:blinds dir="vert"/>
    <p:sndAc>
      <p:stSnd>
        <p:snd r:embed="rId2" name="REMIND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9T08:13:54Z</dcterms:created>
  <dc:creator>bin sagran</dc:creator>
  <dc:description/>
  <dc:language>en-US</dc:language>
  <cp:lastModifiedBy>bin sagran</cp:lastModifiedBy>
  <cp:lastPrinted>2001-10-26T17:42:25Z</cp:lastPrinted>
  <dcterms:modified xsi:type="dcterms:W3CDTF">2001-10-29T14:56:58Z</dcterms:modified>
  <cp:revision>100</cp:revision>
  <dc:subject/>
  <dc:title>تنمية مهارات التفكير الإبداعي لدى طلاب الصفوف الأولية  إعداد : مشرف التدريب التربوي  سعيد فازع القرني</dc:title>
</cp:coreProperties>
</file>