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3EA-22AF-43D7-973D-E0A34620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0AF-5CF7-43D1-8C99-3B2C4494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9567-DBFB-40F0-B143-02111195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5E57-F70B-4E8E-87EF-6A868CEE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BDA5-73C2-45D1-99CE-D0532C21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6B2F-27B1-47D5-8E83-7344F39B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7F5-9DC5-4B5F-B446-A5D44CE5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17A-9962-4D92-9A3A-61BD4126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381-A9F3-4980-A067-32F8302B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0B85-A1E9-48E3-AF82-B53DA9F5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2A4-4CE3-48CA-865B-E1889C5C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5449-0AC5-4843-B844-40D13C37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18F9-37C3-4584-98F5-9CEA4C54C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19320"/>
            <a:ext cx="91440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ضغط العمل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وأثرة على العلاقات الأسرية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D027-327E-4D11-9F2B-AE617536A24C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990720" y="228600"/>
          <a:ext cx="7086600" cy="25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"/>
                    <a:ext cx="7086600" cy="25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537640" y="1054080"/>
            <a:ext cx="39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أشكال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لضغو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617220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حما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زائ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342900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لا فرا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45684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لا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ea typeface="Monotype Kouf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سترخ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A7C8-5C78-410D-B9CF-64361CCFE116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03680" y="255600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43800" y="380880"/>
            <a:ext cx="1371600" cy="4800600"/>
          </a:xfrm>
          <a:prstGeom prst="downArrowCallout">
            <a:avLst>
              <a:gd name="adj1" fmla="val 36114"/>
              <a:gd name="adj2" fmla="val 45644"/>
              <a:gd name="adj3" fmla="val 58917"/>
              <a:gd name="adj4" fmla="val 74565"/>
            </a:avLst>
          </a:prstGeom>
          <a:gradFill rotWithShape="0">
            <a:gsLst>
              <a:gs pos="0">
                <a:srgbClr val="009900"/>
              </a:gs>
              <a:gs pos="100000">
                <a:srgbClr val="ffff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اضطرا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334120"/>
            <a:ext cx="7010280" cy="1143000"/>
          </a:xfrm>
          <a:prstGeom prst="leftArrowCallout">
            <a:avLst>
              <a:gd name="adj1" fmla="val 38337"/>
              <a:gd name="adj2" fmla="val 48148"/>
              <a:gd name="adj3" fmla="val 90550"/>
              <a:gd name="adj4" fmla="val 78896"/>
            </a:avLst>
          </a:prstGeom>
          <a:gradFill rotWithShape="0">
            <a:gsLst>
              <a:gs pos="0">
                <a:srgbClr val="009900"/>
              </a:gs>
              <a:gs pos="100000">
                <a:srgbClr val="ffff99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ضغط العمل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1523880" cy="4953240"/>
          </a:xfrm>
          <a:prstGeom prst="upArrowCallout">
            <a:avLst>
              <a:gd name="adj1" fmla="val 36253"/>
              <a:gd name="adj2" fmla="val 50000"/>
              <a:gd name="adj3" fmla="val 54174"/>
              <a:gd name="adj4" fmla="val 50491"/>
            </a:avLst>
          </a:prstGeom>
          <a:gradFill rotWithShape="0">
            <a:gsLst>
              <a:gs pos="0">
                <a:srgbClr val="ffff99"/>
              </a:gs>
              <a:gs pos="100000">
                <a:srgbClr val="009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لإجها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80880"/>
            <a:ext cx="7086600" cy="914400"/>
          </a:xfrm>
          <a:prstGeom prst="rightArrowCallout">
            <a:avLst>
              <a:gd name="adj1" fmla="val 50005"/>
              <a:gd name="adj2" fmla="val 50000"/>
              <a:gd name="adj3" fmla="val 98454"/>
              <a:gd name="adj4" fmla="val 82481"/>
            </a:avLst>
          </a:prstGeom>
          <a:gradFill rotWithShape="0">
            <a:gsLst>
              <a:gs pos="0">
                <a:srgbClr val="ffff99"/>
              </a:gs>
              <a:gs pos="100000">
                <a:srgbClr val="0099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لــقــلـــ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905120" y="1676520"/>
          <a:ext cx="541008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676520"/>
                    <a:ext cx="54100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CEA8-4DB4-423F-A354-3DB03C7972B5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581280"/>
            <a:ext cx="8305560" cy="3048120"/>
          </a:xfrm>
          <a:prstGeom prst="downArrowCallout">
            <a:avLst>
              <a:gd name="adj1" fmla="val -58700"/>
              <a:gd name="adj2" fmla="val 135193"/>
              <a:gd name="adj3" fmla="val 21440"/>
              <a:gd name="adj4" fmla="val 69727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وهنا يتحدث الجسد ليشارك العقل 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فتعبر أجسادنا عن قلق عقول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بواحد أو أكثر من الاضطرابات التالية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447920"/>
            <a:ext cx="4038480" cy="1981080"/>
          </a:xfrm>
          <a:prstGeom prst="leftArrowCallout">
            <a:avLst>
              <a:gd name="adj1" fmla="val 25002"/>
              <a:gd name="adj2" fmla="val 50000"/>
              <a:gd name="adj3" fmla="val 35174"/>
              <a:gd name="adj4" fmla="val 75438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عندما يعجز العق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يتحدث الجس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447920"/>
            <a:ext cx="4190760" cy="1981080"/>
          </a:xfrm>
          <a:prstGeom prst="rightArrowCallout">
            <a:avLst>
              <a:gd name="adj1" fmla="val 25002"/>
              <a:gd name="adj2" fmla="val 50000"/>
              <a:gd name="adj3" fmla="val 35257"/>
              <a:gd name="adj4" fmla="val 7666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أكثر الأجواء مناسب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لعجز  العقل هي ت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التي  يسود فيها القل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20" y="0"/>
            <a:ext cx="87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ؤشرات اختراق الضغوط للدفاع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على مستوى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Tahoma (Arabic)"/>
              </a:rPr>
              <a:t>أجسادن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AC4-98D1-4F69-A178-F9CDDA7A6391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365760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شن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قولو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2819520"/>
            <a:ext cx="1676520" cy="1600200"/>
          </a:xfrm>
          <a:custGeom>
            <a:avLst/>
            <a:gdLst>
              <a:gd name="textAreaLeft" fmla="*/ 330840 w 1676520"/>
              <a:gd name="textAreaRight" fmla="*/ 1345680 w 167652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ضغ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د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0492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رح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معد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50532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ها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مفاص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342900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مراض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قلب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198108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حساسية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جلدية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2819520"/>
            <a:ext cx="1676520" cy="1600200"/>
          </a:xfrm>
          <a:custGeom>
            <a:avLst/>
            <a:gdLst>
              <a:gd name="textAreaLeft" fmla="*/ 330840 w 1676520"/>
              <a:gd name="textAreaRight" fmla="*/ 1345680 w 167652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قو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شع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525780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بول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سكر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990720"/>
            <a:ext cx="2895480" cy="1828800"/>
          </a:xfrm>
          <a:custGeom>
            <a:avLst/>
            <a:gdLst>
              <a:gd name="textAreaLeft" fmla="*/ 571320 w 2895480"/>
              <a:gd name="textAreaRight" fmla="*/ 2324160 w 2895480"/>
              <a:gd name="textAreaTop" fmla="*/ 360720 h 1828800"/>
              <a:gd name="textAreaBottom" fmla="*/ 14680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آلام الأسن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تلفه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990720"/>
            <a:ext cx="2895480" cy="1828800"/>
          </a:xfrm>
          <a:custGeom>
            <a:avLst/>
            <a:gdLst>
              <a:gd name="textAreaLeft" fmla="*/ 571320 w 2895480"/>
              <a:gd name="textAreaRight" fmla="*/ 2324160 w 2895480"/>
              <a:gd name="textAreaTop" fmla="*/ 360720 h 1828800"/>
              <a:gd name="textAreaBottom" fmla="*/ 14680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ضطرابات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غدة الدرق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605A-6B3D-447B-8EF0-9F1E79D56376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893040" y="1149480"/>
            <a:ext cx="1357560" cy="2438640"/>
          </a:xfrm>
          <a:prstGeom prst="leftArrow">
            <a:avLst>
              <a:gd name="adj1" fmla="val 45444"/>
              <a:gd name="adj2" fmla="val 29704"/>
            </a:avLst>
          </a:prstGeom>
          <a:solidFill>
            <a:srgbClr val="99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يعطله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2666880"/>
            <a:ext cx="3810240" cy="1552680"/>
          </a:xfrm>
          <a:prstGeom prst="leftArrow">
            <a:avLst>
              <a:gd name="adj1" fmla="val 50000"/>
              <a:gd name="adj2" fmla="val 61349"/>
            </a:avLst>
          </a:prstGeom>
          <a:solidFill>
            <a:srgbClr val="99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ahoma"/>
              </a:rPr>
              <a:t>يشوش</a:t>
            </a:r>
            <a:r>
              <a:rPr b="1" lang="ar-SA" sz="48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ahoma"/>
              </a:rPr>
              <a:t>التفك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2666880"/>
            <a:ext cx="3810240" cy="1524240"/>
          </a:xfrm>
          <a:prstGeom prst="rightArrow">
            <a:avLst>
              <a:gd name="adj1" fmla="val 50000"/>
              <a:gd name="adj2" fmla="val 62494"/>
            </a:avLst>
          </a:prstGeom>
          <a:solidFill>
            <a:srgbClr val="99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ahoma"/>
              </a:rPr>
              <a:t>يضعف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ahoma"/>
              </a:rPr>
              <a:t>الذاك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809880"/>
            <a:ext cx="7315200" cy="2667240"/>
          </a:xfrm>
          <a:prstGeom prst="upArrowCallout">
            <a:avLst>
              <a:gd name="adj1" fmla="val 47035"/>
              <a:gd name="adj2" fmla="val 51246"/>
              <a:gd name="adj3" fmla="val 22181"/>
              <a:gd name="adj4" fmla="val 66660"/>
            </a:avLst>
          </a:prstGeom>
          <a:solidFill>
            <a:srgbClr val="99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يضعف القدرة على اتخاذ القرار السل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وتزيد في ظله القرارات الرعناء التعسف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2286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431640" y="-98280"/>
            <a:ext cx="967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ؤشرات اختراق الضغوط للدفاع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على مستوى 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ahoma (Arabic)"/>
              </a:rPr>
              <a:t>عقولنا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1B9-3335-46A8-86B8-13BFE8177618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2514600"/>
            <a:ext cx="3810240" cy="2467080"/>
          </a:xfrm>
          <a:prstGeom prst="leftArrow">
            <a:avLst>
              <a:gd name="adj1" fmla="val 50000"/>
              <a:gd name="adj2" fmla="val 38611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تزيد حساسيتن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فنثور لأتفه الأسبا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514600"/>
            <a:ext cx="3657600" cy="2438280"/>
          </a:xfrm>
          <a:prstGeom prst="rightArrow">
            <a:avLst>
              <a:gd name="adj1" fmla="val 50000"/>
              <a:gd name="adj2" fmla="val 37502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يميل بنا نحو العزل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والابتعاد عن النا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4648320"/>
            <a:ext cx="8382240" cy="1828800"/>
          </a:xfrm>
          <a:prstGeom prst="upArrowCallout">
            <a:avLst>
              <a:gd name="adj1" fmla="val -66390"/>
              <a:gd name="adj2" fmla="val 85643"/>
              <a:gd name="adj3" fmla="val 22181"/>
              <a:gd name="adj4" fmla="val 66660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تزداد قابلية السلوك لأن يكون عدوانيا سواء بالكلام أو بالأفع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فنصبح عرضة للوقوع في الخطأ بحق الآخرين بسهولة أكب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1447920"/>
            <a:ext cx="4038480" cy="1371600"/>
          </a:xfrm>
          <a:prstGeom prst="downArrowCallout">
            <a:avLst>
              <a:gd name="adj1" fmla="val 73616"/>
              <a:gd name="adj2" fmla="val 98840"/>
              <a:gd name="adj3" fmla="val 21440"/>
              <a:gd name="adj4" fmla="val 61894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نندم على ما نفع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20" y="-49320"/>
            <a:ext cx="87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ؤشرات اختراق الضغوط للدفاع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على مستوى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Tahoma (Arabic)"/>
              </a:rPr>
              <a:t>سلوكن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774-64F1-435A-A1BF-A564123C2CCF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2514600"/>
            <a:ext cx="3810240" cy="2467080"/>
          </a:xfrm>
          <a:prstGeom prst="leftArrow">
            <a:avLst>
              <a:gd name="adj1" fmla="val 50000"/>
              <a:gd name="adj2" fmla="val 38611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نتبادل الحديث معه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بشكل مبه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514600"/>
            <a:ext cx="3657600" cy="2438280"/>
          </a:xfrm>
          <a:prstGeom prst="rightArrow">
            <a:avLst>
              <a:gd name="adj1" fmla="val 50000"/>
              <a:gd name="adj2" fmla="val 37502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نرد على طلباتهم بانفع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648320"/>
            <a:ext cx="8382240" cy="1828800"/>
          </a:xfrm>
          <a:prstGeom prst="upArrowCallout">
            <a:avLst>
              <a:gd name="adj1" fmla="val -66390"/>
              <a:gd name="adj2" fmla="val 85643"/>
              <a:gd name="adj3" fmla="val 22181"/>
              <a:gd name="adj4" fmla="val 66660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نبحث عن سلة المهملات وهي بالقرب منا ، وننسى المواع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والارتباطات الخاصة بهم ، ونضيع الأشي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1447920"/>
            <a:ext cx="4038480" cy="1371600"/>
          </a:xfrm>
          <a:prstGeom prst="downArrowCallout">
            <a:avLst>
              <a:gd name="adj1" fmla="val 73616"/>
              <a:gd name="adj2" fmla="val 98840"/>
              <a:gd name="adj3" fmla="val 21440"/>
              <a:gd name="adj4" fmla="val 61894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لانستمع لأولادنا وزوجات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20" y="-49320"/>
            <a:ext cx="87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ؤشرات اختراق الضغوط للدفاع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على مستوى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Tahoma (Arabic)"/>
              </a:rPr>
              <a:t>علاقتنا بأسرن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7071-B7C9-4D5C-B510-36A436CD88D2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743200" cy="2482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80120" y="1066680"/>
            <a:ext cx="51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مشي على الجم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28520" y="5638680"/>
            <a:ext cx="613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مشي على المسام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436400">
            <a:off x="1143000" y="2742840"/>
            <a:ext cx="6757920" cy="1714680"/>
          </a:xfrm>
          <a:custGeom>
            <a:avLst/>
            <a:gdLst>
              <a:gd name="textAreaLeft" fmla="*/ 0 w 6757920"/>
              <a:gd name="textAreaRight" fmla="*/ 6758280 w 6757920"/>
              <a:gd name="textAreaTop" fmla="*/ 707760 h 1714680"/>
              <a:gd name="textAreaBottom" fmla="*/ 100692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112000">
            <a:off x="1406160" y="3138840"/>
            <a:ext cx="57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آثار على العلاقات الأسر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83C1-DDF1-463F-94DF-82B2F8735D41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96280" y="12952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3480" y="1295280"/>
            <a:ext cx="49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شوش الأهداف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57800" y="2133720"/>
            <a:ext cx="267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ركزي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68480" y="3124080"/>
            <a:ext cx="80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دمن اجتماعات وتنبيهات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95560" y="4038480"/>
            <a:ext cx="251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حابي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96280" y="3124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96280" y="22096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96280" y="4114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96280" y="49528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38560" y="5029200"/>
            <a:ext cx="653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ينكر الحياة الخاصة لغير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خصائص المدير السي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3581280" cy="5715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396280" y="58672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37560" y="5791320"/>
            <a:ext cx="867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لا يؤمن بأهمية تدريب الآخرين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511-D430-49BD-91E9-E8852FA65A8C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96280" y="1219320"/>
            <a:ext cx="747720" cy="76176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90800" y="1219320"/>
            <a:ext cx="909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لا يثيب ولكنه يعاتب ويلوم كثيرا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26080" y="2209680"/>
            <a:ext cx="24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حرفي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19120" y="3200400"/>
            <a:ext cx="314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ظهري 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92520" y="4114800"/>
            <a:ext cx="1078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بابه مقفل ولا يقبل نقد ولا نصيحة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96280" y="3200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96280" y="22096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96280" y="4114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96280" y="50292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87840" y="5029200"/>
            <a:ext cx="827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يفرض التغييرات من أعلى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خصائص المدير السي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3200400" cy="5715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396280" y="58672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9440" y="5791320"/>
            <a:ext cx="996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يدفع غيره ليصبحوا مدمني عمل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7F87-FF38-42BC-AE37-0EB95156CF57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228600" y="228600"/>
            <a:ext cx="998208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الدكتور : ميسرة طاه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أستاذ الصحة النفسية والعلاج النفسي بجامعة الملك عبد العزيز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خبير العلاقات الأسرية وتربية الأبناء في مركز استشار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ممارس في البرمجة اللغوية العصبية من المركز الكند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ممارس البرمجة اللغوية العصبية من الاتحاد العالمي للبرمجة اللغو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رئيس لجنة الدراسات العليا بالجام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مستشار في مدارس الثغر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عضو الهيئة الاستشارية بمركز رعاية الموهوبين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عضو الهيئة الاستشارية بمستشفى الأمل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عضو جمعية قلق الاختبار العالمية ، وجمعية الابتكار العالمي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درب أكثر من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30.000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شخص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له أكثر من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28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عمل علمي بين كتاب وبحث ومقياس نفس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له أكثر من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140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حلقة إذاعية وتلفزيونية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يقدم حاليا العديد من الدورات في التربية بالحب ، تربية ثواب أم عقاب 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فن الإقناع ، البرمجة اللغوية العصبية ، الإعداد للزواج 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فن التعامل مع المراهقين ، سيكولوجية الأطفال وحل مشكلاتهم 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جدد حياتك ،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37D0-E7C1-4592-9DA0-537BC942FE28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70720" y="2022480"/>
            <a:ext cx="299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كن طالباً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95400" y="2971800"/>
            <a:ext cx="33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كن معلماً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680" y="3962520"/>
            <a:ext cx="10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قدم حوافز للمجد أمام الموظفين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9040" y="4800600"/>
            <a:ext cx="995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شجع على اتخاذ المبادرة والقرار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38862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2971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53280" y="48006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53280" y="5715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21120" y="5715000"/>
            <a:ext cx="531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اختلط بالعاملين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0"/>
            <a:ext cx="883908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تصبح مديراً جيداً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3EB-7387-47E2-8FB4-626908CB4EA9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90840" y="1981080"/>
            <a:ext cx="454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جهز بديلا لك 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5120" y="2911320"/>
            <a:ext cx="842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اعقد اجتماعات منتظمة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1320" y="3962520"/>
            <a:ext cx="944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سهل أمور التدريب لموظفيك 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53280" y="38862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53280" y="2971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0"/>
            <a:ext cx="883908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تصبح مديراً جيداً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E26-95AC-417E-9BFB-C512BB4DA997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04680" y="2022480"/>
            <a:ext cx="564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كون فلسفة للحياة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484200" y="4267080"/>
            <a:ext cx="109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خاطب نفسك والآخرين بلغة إيجابية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419720"/>
            <a:ext cx="747720" cy="76176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371600"/>
          <a:ext cx="220968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2209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نخفف الضغوط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76C3-34F5-4E91-91EE-2967639A9D64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0880" y="228600"/>
            <a:ext cx="8458200" cy="167652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صبحنا وأصبح الملك لله 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حمد لله الذي أحيانا بعد أن أماتنا وإليه النشور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4876920"/>
            <a:ext cx="8458200" cy="167616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لهم إني أصبحت منك في نعمة وعافية وست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أتمم نعمتك علي وعافيتك وسترك في الدنيا والآخر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981080"/>
            <a:ext cx="8534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333300"/>
                  </a:solidFill>
                  <a:miter/>
                </a:ln>
                <a:solidFill>
                  <a:srgbClr val="ffff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Koufi"/>
              </a:rPr>
              <a:t>الـبـدايـة</a:t>
            </a:r>
            <a:endParaRPr b="0" lang="en-US" sz="2400" spc="1" strike="noStrike">
              <a:ln w="12600">
                <a:solidFill>
                  <a:srgbClr val="333300"/>
                </a:solidFill>
                <a:miter/>
              </a:ln>
              <a:solidFill>
                <a:srgbClr val="ffff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Koufi"/>
              <a:ea typeface="Monotype Kouf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67A1-D384-42DE-A95F-8D291039C891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4419720"/>
            <a:ext cx="8458200" cy="213336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جلس في سريرك وعدد نعم الله عليك ابتداء من نعمة اليقظ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مرورا بنعمة النطق والبصر والسمع والشم وسلامة كافة البد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80880"/>
            <a:ext cx="8458200" cy="350532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لهم أنت ربي لا إله إلا أنت خلقتني وأنا عبدك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أنا على عهدك ووعدك ما استطع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عوذ بك من شر ما صنعت أبوء لك بنعمتك عل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أبوء بذنبي ، فاغفر لي فإنه لا يغفر الذنوب إلا أن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3C5E-6514-4EF6-A840-4DE09C0B2A19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1143000"/>
            <a:ext cx="8458200" cy="5715000"/>
          </a:xfrm>
          <a:prstGeom prst="bevel">
            <a:avLst>
              <a:gd name="adj" fmla="val 48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بيني وبين الملوك يوم واحد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ما أمس فلا يجدون لذته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أنا وهم من غد في وجل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إنما هو اليوم ، فما عسى أن يكون اليوم 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إنـه الـذي يـعـيـش العقلاء في حدود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في نطاقه يتحول كل فرد يملك نفسه ويبصر هدفه إلى مل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ليس اليوم إلا حياة جديدة لقوم يعقلو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8920" y="0"/>
            <a:ext cx="68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تذكر قول أبي حازم 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237-ADF5-4AAC-9649-B6AF7B92D6C5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0066ff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-1828800" y="0"/>
          <a:ext cx="11506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8800" y="0"/>
                    <a:ext cx="11506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 rot="21225000">
            <a:off x="-2187360" y="333000"/>
            <a:ext cx="1280232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زم بهذه القاعد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غلق الأبواب على الماضي والمستقبل وعش في حدو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ومك كيلا تسمح لمشكلات الماضي واهتمامات المستقبل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بالسيطرة على يومك فتفسد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30A-4516-4A55-8682-8E7F5ED9E99F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ن نشغل أنفسنا ونغتم لمستقبل لا سلطان لنا عليه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ن نقلق على ما مضى وانكسر وليس بمقدورنا إصلاحه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يوم هو الزمن الوحيد الذي نملكه وما نصنعه فيه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هو بداية للغد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ولا نملك من هذه الأزمنة إلا هو لذا تقتضي الحكم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أن لا نعيش إلا في اليوم .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1240" y="0"/>
            <a:ext cx="570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أيــن الـحـكـمـة 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711A-9FED-4424-A49B-F24926D4D571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هل يمكن أن يفلت زمام العالم من يد الل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إن الإيمان بان زمام العالم بيد الله يبعث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قدرا هائلا من الطمأنينة في قلب الفرد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الله غالب على أمره ولكن أكثر الناس لا يعلمون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92800" y="0"/>
            <a:ext cx="426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زمام العالم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4C6-188A-416B-8D84-4133CBAAB985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ركون قبل أداء الواجب  </a:t>
            </a:r>
            <a:r>
              <a:rPr b="1" i="1" lang="ar-SA" sz="5400" spc="-1" strike="noStrike">
                <a:solidFill>
                  <a:srgbClr val="ff5050"/>
                </a:solidFill>
                <a:latin typeface="Times New Roman"/>
                <a:cs typeface="Traditional Arabic"/>
              </a:rPr>
              <a:t>تواكل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بعد أدائه </a:t>
            </a:r>
            <a:r>
              <a:rPr b="1" lang="ar-SA" sz="4800" spc="-1" strike="noStrike">
                <a:solidFill>
                  <a:srgbClr val="3333cc"/>
                </a:solidFill>
                <a:latin typeface="Tahoma"/>
                <a:cs typeface="Traditional Arabic"/>
              </a:rPr>
              <a:t>توكل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راحة ولا مجال للندم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ركون إلى القدر هو الالتزام العملي بقوله عز وجل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{ </a:t>
            </a:r>
            <a:r>
              <a:rPr b="1" i="1" lang="ar-SA" sz="40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قل لن يصيبنا إلا ما كتب الله ل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هو مولانا وعلى الله فليتوكل المؤمنون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 قل هل تربصون بنا إلا إحدى الحسنين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}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89680" y="0"/>
            <a:ext cx="523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الركون إلى الل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840-CCA3-4450-94CE-DDA82FED5BFB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05120"/>
            <a:ext cx="839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40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مليون أمريكي يعانون من أمراض القلب .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533520" y="350532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60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ألف أمريكي يتوفون كل عام بأمراض القلب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96280" y="5410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838080" y="5562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88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من أمراض القلب سببها الشرايين الإكليل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9BDD-0CB5-450D-B26D-25F3BBDF6F46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منحنا </a:t>
            </a: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بصير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التعقل للأخذ بالأسباب وفقا لإمكانياتن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منحنا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شجاع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في الإقدام وعدم التردد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منحنا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حسن الظن بالله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فقا لقانون الجاذب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جعل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ظروف نجاح العمل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أعل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جعلنا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نقبل النتائج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أيا كان شكله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1613520" y="0"/>
            <a:ext cx="12680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imes New Roman"/>
              </a:rPr>
              <a:t>دور القضاء والقدر في إقدامنا على العمل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ED3C-336C-4DA9-B055-98E73222BB60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وقوف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لمعرفة مواطن الخطأ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بغية تفاديه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يخرجنا من دوامة لوم الذات والشعور بالذنب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إيماننا بأنه ما أصابنا ما كان ليخطئ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ما أخطأنا ما كان ليصي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-1267920" y="0"/>
            <a:ext cx="11444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imes New Roman"/>
              </a:rPr>
              <a:t>دور القضاء والقدر في رؤيتنا للماضي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B1FA-3591-41AB-85A8-3496BAC8FC40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يسكن انفعالاتن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سواء كانت حزنا أم غضب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يغسل القلوب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يكسبها برد الرضى وطلب المثوبة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لما بأن دائرة الاستكانة والتسليم تبدأ بما يغلب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رادتنا المعتادة ، وبما يخرج عن حدود الاختيار الح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ن </a:t>
            </a:r>
            <a:r>
              <a:rPr b="1" i="1" lang="ar-SA" sz="40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المكرو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ذي يصيبنا واحد من اثنين 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ما أنه </a:t>
            </a:r>
            <a:r>
              <a:rPr b="1" i="1" lang="ar-SA" sz="40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قابل للتغيير والصبر عليه بلادة</a:t>
            </a:r>
            <a:r>
              <a:rPr b="1" lang="ar-SA" sz="40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، </a:t>
            </a:r>
            <a:r>
              <a:rPr b="1" i="1" lang="ar-SA" sz="40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والرضا به حمق</a:t>
            </a:r>
            <a:r>
              <a:rPr b="1" lang="ar-SA" sz="40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و أنه غير قابل للتغيير والرضا عندئذ بقضاء الله وقدر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مسكن الانفعالات ومجلبة للراحة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879480" y="0"/>
            <a:ext cx="1094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دور القضاء والقدر في تعاملنا مع الحاض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01E-A463-40F9-AA4A-B8A5237ABBD9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َال الوليد بن عبادة لابنه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َا بُنَيَّ إِنَّكَ لَنْ تَطْعَمَ طَعْمَ الْإِيمَانِ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َلَنْ تَبْلُغْ حَقَّ حَقِيقَةِ الْعِلْمِ بِاللَّهِ تَبَارَكَ وَتَعَالَ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حَتَّى </a:t>
            </a:r>
            <a:r>
              <a:rPr b="1" lang="ar-SA" sz="40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تُؤْمِنَ بِالْقَدَرِ خَيْرِهِ وَشَرِّهِ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َالَ قُلْتُ يَا أَبَتَاهُ فَكَيْفَ لِي أَنْ أَعْلَمَ مَا خَيْرُ الْقَدَرِ وَشَرُّه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َالَ تَعْلَمُ أَنَّ </a:t>
            </a:r>
            <a:r>
              <a:rPr b="1" i="1" lang="ar-SA" sz="40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مَا أَخْطَأَكَ لَمْ يَكُنْ لِيُصِيبَك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وَمَا أَصَابَكَ لَمْ يَكُنْ لِيُخْطِئَك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1267920" y="0"/>
            <a:ext cx="11444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imes New Roman"/>
              </a:rPr>
              <a:t>دور القضاء والقدر في رؤيتنا للماضي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3E3-880D-4F39-B5A7-14D61B846659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-996120" y="0"/>
            <a:ext cx="104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</a:rPr>
              <a:t>عند مواجهة المشكلات والأزم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838080"/>
            <a:ext cx="8458200" cy="1371600"/>
          </a:xfrm>
          <a:custGeom>
            <a:avLst/>
            <a:gdLst>
              <a:gd name="textAreaLeft" fmla="*/ 484920 w 8458200"/>
              <a:gd name="textAreaRight" fmla="*/ 7973280 w 8458200"/>
              <a:gd name="textAreaTop" fmla="*/ 484920 h 1371600"/>
              <a:gd name="textAreaBottom" fmla="*/ 886680 h 1371600"/>
            </a:gdLst>
            <a:ahLst/>
            <a:rect l="textAreaLeft" t="textAreaTop" r="textAreaRight" b="textAreaBottom"/>
            <a:pathLst>
              <a:path w="133171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22371" y="21600"/>
                </a:lnTo>
                <a:arcTo wR="10800" hR="10800" stAng="10800000" swAng="5400000"/>
                <a:lnTo>
                  <a:pt x="133171" y="10800"/>
                </a:lnTo>
                <a:arcTo wR="10800" hR="108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من الحكمة الانحناء لها حتى تمر بسلا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438280"/>
            <a:ext cx="8458200" cy="3962520"/>
          </a:xfrm>
          <a:custGeom>
            <a:avLst/>
            <a:gdLst>
              <a:gd name="textAreaLeft" fmla="*/ 466920 w 8458200"/>
              <a:gd name="textAreaRight" fmla="*/ 7991280 w 8458200"/>
              <a:gd name="textAreaTop" fmla="*/ 466920 h 3962520"/>
              <a:gd name="textAreaBottom" fmla="*/ 3495600 h 3962520"/>
            </a:gdLst>
            <a:ahLst/>
            <a:rect l="textAreaLeft" t="textAreaTop" r="textAreaRight" b="textAreaBottom"/>
            <a:pathLst>
              <a:path w="4610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2504" y="21600"/>
                </a:lnTo>
                <a:arcTo wR="3600" hR="3600" stAng="10800000" swAng="5400000"/>
                <a:lnTo>
                  <a:pt x="46104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َ مَثَلُ الْمُؤْمِنِ كَمَثَلِ خَامَةِ الزَّرْع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يَفِيءُ وَرَقُهُ مِنْ حَيْثُ أَتَتْهَا الرِّيحُ تُكَفِّئُهَ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فَإِذَا سَكَنَتِ اعْتَدَلَت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وَكَذَلِكَ الْمُؤْمِنُ يُكَفَّأُ بِالْبَلَاءِ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وَمَثَلُ الْكَافِرِ كَمَثَلِ الْأَرْزَة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صَمَّاءَ مُعْتَدِلَةً حَتَّى يَقْصِمَهَا اللَّهُ إِذَا شَاءَ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47F-0393-49A1-AEC6-0895668A8253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-1053360" y="228600"/>
            <a:ext cx="11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</a:rPr>
              <a:t>كيف نحقق المرونة في مواجهة الشدائد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990720"/>
            <a:ext cx="8458200" cy="1218960"/>
          </a:xfrm>
          <a:custGeom>
            <a:avLst/>
            <a:gdLst>
              <a:gd name="textAreaLeft" fmla="*/ 143640 w 8458200"/>
              <a:gd name="textAreaRight" fmla="*/ 8314560 w 845820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1498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242" y="21600"/>
                </a:lnTo>
                <a:arcTo wR="3600" hR="3600" stAng="10800000" swAng="5400000"/>
                <a:lnTo>
                  <a:pt x="149842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ن المرونة في مقابلة الشدائد مظهر من مظاهر التأدب مع الل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2362320"/>
            <a:ext cx="8458200" cy="1218960"/>
          </a:xfrm>
          <a:custGeom>
            <a:avLst/>
            <a:gdLst>
              <a:gd name="textAreaLeft" fmla="*/ 143640 w 8458200"/>
              <a:gd name="textAreaRight" fmla="*/ 8314560 w 845820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1498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242" y="21600"/>
                </a:lnTo>
                <a:arcTo wR="3600" hR="3600" stAng="10800000" swAng="5400000"/>
                <a:lnTo>
                  <a:pt x="149842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بتسم ، أو اجبر نفسك على الابتسام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733920"/>
            <a:ext cx="8458200" cy="1218960"/>
          </a:xfrm>
          <a:custGeom>
            <a:avLst/>
            <a:gdLst>
              <a:gd name="textAreaLeft" fmla="*/ 143640 w 8458200"/>
              <a:gd name="textAreaRight" fmla="*/ 8314560 w 845820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1498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242" y="21600"/>
                </a:lnTo>
                <a:arcTo wR="3600" hR="3600" stAng="10800000" swAng="5400000"/>
                <a:lnTo>
                  <a:pt x="149842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خذ نفسا عميقا وارفع كتفيك إلى الأعل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قل بصوت عال صبر جميل والله المستعان وإنا لله وإنا إليه راجعو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5105520"/>
            <a:ext cx="8458200" cy="1218960"/>
          </a:xfrm>
          <a:custGeom>
            <a:avLst/>
            <a:gdLst>
              <a:gd name="textAreaLeft" fmla="*/ 143640 w 8458200"/>
              <a:gd name="textAreaRight" fmla="*/ 8314560 w 845820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1498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242" y="21600"/>
                </a:lnTo>
                <a:arcTo wR="3600" hR="3600" stAng="10800000" swAng="5400000"/>
                <a:lnTo>
                  <a:pt x="149842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بل الأمر الذي لم يكن منه بد 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تذكر أنه كلما أسرعت بالرضا أسرع نسيان الواقعة إليك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88CA-00AB-4C14-AB50-5AE1EEB86BCF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3520" y="2895480"/>
            <a:ext cx="8153280" cy="3962520"/>
          </a:xfrm>
          <a:custGeom>
            <a:avLst/>
            <a:gdLst>
              <a:gd name="textAreaLeft" fmla="*/ 1861200 w 8153280"/>
              <a:gd name="textAreaRight" fmla="*/ 6292080 w 8153280"/>
              <a:gd name="textAreaTop" fmla="*/ 904320 h 3962520"/>
              <a:gd name="textAreaBottom" fmla="*/ 3058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ذكر قوله عليه السلام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رض بما قسم الله لك تكن أغنى الناس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0"/>
            <a:ext cx="5181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17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ارض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FB9-4026-4574-A15A-1945E01FE734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33520" y="2895480"/>
            <a:ext cx="8153280" cy="3962520"/>
          </a:xfrm>
          <a:custGeom>
            <a:avLst/>
            <a:gdLst>
              <a:gd name="textAreaLeft" fmla="*/ 1861200 w 8153280"/>
              <a:gd name="textAreaRight" fmla="*/ 6292080 w 8153280"/>
              <a:gd name="textAreaTop" fmla="*/ 904320 h 3962520"/>
              <a:gd name="textAreaBottom" fmla="*/ 3058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إن الظروف ليست هي الت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منحنا السعادة أو تسلبنا إياها 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إنما كيفية استجابتنا لهذه الظرو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ي التي تقرر مصيرنا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45720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عل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416A-83EB-4139-8331-BD34A2E9A234}" type="slidenum">
              <a:t>3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055480" y="1752480"/>
            <a:ext cx="39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نظم وقتك 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96280" y="1676520"/>
            <a:ext cx="747720" cy="76176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96280" y="35812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96280" y="5334120"/>
            <a:ext cx="747720" cy="76176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83920" y="5181480"/>
            <a:ext cx="206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تمط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1371600"/>
          <a:ext cx="220968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2209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نخفف الضغوط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99360" y="3581280"/>
            <a:ext cx="249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استرخ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9BB-4752-409A-AA64-A5FDC59AE4E7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17280" y="202248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تنفس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5400" y="3352680"/>
            <a:ext cx="1066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نشط الجزء الأيسر من المخ بالتذكر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153280" y="48006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96280" y="33526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0" y="914400"/>
          <a:ext cx="220968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2209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نخفف الضغوط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1998360" y="4800600"/>
            <a:ext cx="1299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نشط الجزء الأيمن من المخ بالتخيل والإبدا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A43C-7E86-473E-B9A5-D927A25A65C5}" type="slidenum">
              <a:t>3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96280" y="5410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838080" y="556272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تشنج الشرايين الإكليلية والتصاق الصفيح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أهم أسباب الوفيات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981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  <a:ea typeface="Tahoma"/>
              </a:rPr>
              <a:t>50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  <a:ea typeface="Tahoma"/>
              </a:rPr>
              <a:t> بليون دولار تكاليف العلاج الطبي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733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. من عام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1975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حتى عام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2000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 تم إجراء أكثر من مليون وربع عملية قلب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9D2-6931-4C27-AAE4-7877B7ACC9A3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53040" y="2022480"/>
            <a:ext cx="497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مارسة الرياضة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07640" y="2971800"/>
            <a:ext cx="228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المرح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43040" y="3962520"/>
            <a:ext cx="759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حدد موعد ثابت لأولادك 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153280" y="38862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153280" y="2971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153280" y="48006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53280" y="5715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080" y="5715000"/>
            <a:ext cx="804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حدد موعد ثابت لأصدقائك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0" y="1371600"/>
          <a:ext cx="220968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2209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نخفف الضغوط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46000" y="4800600"/>
            <a:ext cx="746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حدد موعد ثابت لزوجتك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C81-1386-4F52-B303-073537B39510}" type="slidenum">
              <a:t>4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05120"/>
            <a:ext cx="83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10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بليون دولار حتى عام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200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تكاليف العملي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505320"/>
            <a:ext cx="8153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ahoma"/>
              </a:rPr>
              <a:t>خسارة أمريكا الشمالية بسبب الضغوط أكثر م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20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بليون سنوي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396280" y="5410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838080" y="5562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الاجهاد النفسي وراء التشنج وفرط الالتصاق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9FC-A269-4C2F-BC43-3F68EE4E5169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905120"/>
            <a:ext cx="839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50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من الوفيات في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29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دولة بسبب أمراض جهاز الدوران الناتجة عن الإجهاد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505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22.3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بسبب أمراض القلب .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من كل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396280" y="5410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838080" y="5562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السرطان مسئول عن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17.7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والحوادث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6.4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F194-4944-46E9-88D3-C72138DE1C33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905120"/>
            <a:ext cx="839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في أمريكا كل دقيقة يموت شخص بسبب الموت المفاجئ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3505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تسبب الضغوط نسبة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80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من مجموع الأمراض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التي يعاني منها الناس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C0E8-A27D-4B16-8D72-A1D5104760F5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cc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2743200" y="0"/>
          <a:ext cx="380988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0"/>
                    <a:ext cx="38098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172200" y="0"/>
            <a:ext cx="29718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427080" y="3043080"/>
            <a:ext cx="196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000000"/>
                </a:solidFill>
                <a:latin typeface="Times New Roman"/>
                <a:cs typeface="Tahoma"/>
              </a:rPr>
              <a:t>ضغ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27160" y="247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360" y="3043080"/>
            <a:ext cx="213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000000"/>
                </a:solidFill>
                <a:latin typeface="Times New Roman"/>
                <a:cs typeface="Tahoma"/>
              </a:rPr>
              <a:t>العم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5867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مدى توافق أجسامنا وعقولنا مع التغيي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D176-47A4-4C64-93CF-6F836D7323B0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990720" y="228600"/>
          <a:ext cx="7086600" cy="25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"/>
                    <a:ext cx="7086600" cy="25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666880" y="1066680"/>
            <a:ext cx="37450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أشكال الضغو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617220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كث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عم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وإدمان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42900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قل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عم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5684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سو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ea typeface="Monotype Koufi"/>
              </a:rPr>
              <a:t> 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توجي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3A97-D6D0-43EB-9206-9427E99A385F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5T02:48:52Z</dcterms:created>
  <dc:creator>BA-HAWI MO</dc:creator>
  <dc:description/>
  <dc:language>en-US</dc:language>
  <cp:lastModifiedBy>H2RAU</cp:lastModifiedBy>
  <cp:lastPrinted>2000-06-09T23:51:24Z</cp:lastPrinted>
  <dcterms:modified xsi:type="dcterms:W3CDTF">2001-04-24T08:11:54Z</dcterms:modified>
  <cp:revision>114</cp:revision>
  <dc:subject/>
  <dc:title>لا يوجد عنوان للشريحة</dc:title>
</cp:coreProperties>
</file>