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02E-874C-4EFD-A09D-A9C8BC9C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4D6-B973-4B73-9C07-3063095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CEF-4444-4C51-9695-A2BE1706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C58-28A3-4ED3-A8BD-55E8FDD6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B5C-1911-4352-BEE4-8D5A222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004-3C04-42F0-BD96-FC614390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565-1695-4BFC-B4FA-5ABF767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B53-4659-4572-8CD0-85C3B2E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A28-841E-4579-95B9-D65C063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0BC-19D5-401B-95B5-5001CC43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DE5-6544-4898-B5CE-9FDA25E6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C28-F583-4B11-9C9F-8EC3615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0A8F-66E0-4822-A6C5-89687674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ضغط العمل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وأثرة على العلاقات الأسرية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CF7-5ACA-45C1-8318-C6F541291EE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37640" y="105408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حما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ائ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فرا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سترخ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EB5-930B-4474-B8D0-604F0E419F3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03680" y="255600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80880"/>
            <a:ext cx="1371600" cy="4800600"/>
          </a:xfrm>
          <a:prstGeom prst="downArrowCallout">
            <a:avLst>
              <a:gd name="adj1" fmla="val 36114"/>
              <a:gd name="adj2" fmla="val 45644"/>
              <a:gd name="adj3" fmla="val 58917"/>
              <a:gd name="adj4" fmla="val 74565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ضطر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010280" cy="1143000"/>
          </a:xfrm>
          <a:prstGeom prst="leftArrowCallout">
            <a:avLst>
              <a:gd name="adj1" fmla="val 38337"/>
              <a:gd name="adj2" fmla="val 48148"/>
              <a:gd name="adj3" fmla="val 90550"/>
              <a:gd name="adj4" fmla="val 78896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ضغط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523880" cy="4953240"/>
          </a:xfrm>
          <a:prstGeom prst="upArrowCallout">
            <a:avLst>
              <a:gd name="adj1" fmla="val 36253"/>
              <a:gd name="adj2" fmla="val 50000"/>
              <a:gd name="adj3" fmla="val 54174"/>
              <a:gd name="adj4" fmla="val 5049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إجه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086600" cy="914400"/>
          </a:xfrm>
          <a:prstGeom prst="rightArrowCallout">
            <a:avLst>
              <a:gd name="adj1" fmla="val 50005"/>
              <a:gd name="adj2" fmla="val 50000"/>
              <a:gd name="adj3" fmla="val 98454"/>
              <a:gd name="adj4" fmla="val 8248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ــقــلـــ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54100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54100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FD7-41FE-47A0-B444-2BE0A6B9433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305560" cy="3048120"/>
          </a:xfrm>
          <a:prstGeom prst="downArrowCallout">
            <a:avLst>
              <a:gd name="adj1" fmla="val -58700"/>
              <a:gd name="adj2" fmla="val 135193"/>
              <a:gd name="adj3" fmla="val 21440"/>
              <a:gd name="adj4" fmla="val 69727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هنا يتحدث الجسد ليشارك العقل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تعبر أجسادنا عن قلق عق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بواحد أو أكثر من الاضطرابات التالية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447920"/>
            <a:ext cx="4038480" cy="1981080"/>
          </a:xfrm>
          <a:prstGeom prst="leftArrowCallout">
            <a:avLst>
              <a:gd name="adj1" fmla="val 25002"/>
              <a:gd name="adj2" fmla="val 50000"/>
              <a:gd name="adj3" fmla="val 35174"/>
              <a:gd name="adj4" fmla="val 75438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عندما يعجز العق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يتحدث الجس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447920"/>
            <a:ext cx="4190760" cy="1981080"/>
          </a:xfrm>
          <a:prstGeom prst="rightArrowCallout">
            <a:avLst>
              <a:gd name="adj1" fmla="val 25002"/>
              <a:gd name="adj2" fmla="val 50000"/>
              <a:gd name="adj3" fmla="val 35257"/>
              <a:gd name="adj4" fmla="val 7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أكثر الأجواء مناس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لعجز  العقل هي 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التي  يسود فيها الق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20" y="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أجساد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989-109C-4646-9B31-48723A75214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6576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شن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قول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ضغ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9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ر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ع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ه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فاص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4290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راض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ل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98108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ساسية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لدي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ق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شع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2578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و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سكر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آلام الأسن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لفه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ضطرابا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دة الدرق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98C-B3AD-4CD4-8E33-7B5FB52E243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893040" y="1149480"/>
            <a:ext cx="1357560" cy="2438640"/>
          </a:xfrm>
          <a:prstGeom prst="leftArrow">
            <a:avLst>
              <a:gd name="adj1" fmla="val 45444"/>
              <a:gd name="adj2" fmla="val 2970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عطل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3810240" cy="1552680"/>
          </a:xfrm>
          <a:prstGeom prst="leftArrow">
            <a:avLst>
              <a:gd name="adj1" fmla="val 50000"/>
              <a:gd name="adj2" fmla="val 61349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يشوش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التفك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3810240" cy="152424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يضعف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ذاك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7315200" cy="2667240"/>
          </a:xfrm>
          <a:prstGeom prst="upArrowCallout">
            <a:avLst>
              <a:gd name="adj1" fmla="val 47035"/>
              <a:gd name="adj2" fmla="val 51246"/>
              <a:gd name="adj3" fmla="val 22181"/>
              <a:gd name="adj4" fmla="val 66660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يضعف القدرة على اتخاذ القرار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وتزيد في ظله القرارات الرعناء التعس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31640" y="-98280"/>
            <a:ext cx="96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قولن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D7C-17F1-4FD5-8A0D-E15BC8EAD64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يد حساسيت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فنثور لأتفه الأسب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ميل بنا نحو العز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بتعاد عن الن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داد قابلية السلوك لأن يكون عدوانيا سواء بالكلام أو بالأف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نصبح عرضة للوقوع في الخطأ بحق الآخرين بسهولة أك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ندم على ما نفع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سلوك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DCD-A3A6-4BB2-BB22-A2538DDC4CE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تبادل الحديث مع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بشكل مب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رد على طلباتهم بان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بحث عن سلة المهملات وهي بالقرب منا ، وننسى الموا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رتباطات الخاصة بهم ، ونضيع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لانستمع لأولادنا وزوجات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لاقتنا بأسر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4B-2919-40CB-8EA6-BEE206C1792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0120" y="106668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جم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8520" y="5638680"/>
            <a:ext cx="61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مسام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6400">
            <a:off x="1143000" y="2742840"/>
            <a:ext cx="6757920" cy="1714680"/>
          </a:xfrm>
          <a:custGeom>
            <a:avLst/>
            <a:gdLst>
              <a:gd name="textAreaLeft" fmla="*/ 0 w 6757920"/>
              <a:gd name="textAreaRight" fmla="*/ 6758280 w 6757920"/>
              <a:gd name="textAreaTop" fmla="*/ 707760 h 1714680"/>
              <a:gd name="textAreaBottom" fmla="*/ 100692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12000">
            <a:off x="1406160" y="313884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آثار على العلاقات الأس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D9B-E05C-4460-B6F7-F1621EE1B40F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96280" y="1295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3480" y="129528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شوش الأهداف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2133720"/>
            <a:ext cx="26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ركز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68480" y="3124080"/>
            <a:ext cx="80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دمن اجتماعات وتنبيهات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560" y="40384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حاب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6280" y="3124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6280" y="49528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5029200"/>
            <a:ext cx="65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نكر الحياة الخاصة لغي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7560" y="579132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ؤمن بأهمية تدريب الآخري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604-B3EA-4E1B-816E-364CFC213C2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96280" y="12193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1219320"/>
            <a:ext cx="90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ثيب ولكنه يعاتب ويلوم كثير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2209680"/>
            <a:ext cx="24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رف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9120" y="320040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ظهري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2520" y="4114800"/>
            <a:ext cx="107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بابه مقفل ولا يقبل نقد ولا نصيح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6280" y="3200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6280" y="5029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502920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فرض التغييرات من أعلى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440" y="5791320"/>
            <a:ext cx="996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دفع غيره ليصبحوا مدمني عمل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31E-C30D-4A6B-95DB-D609BF6FE6FA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28600" y="228600"/>
            <a:ext cx="9982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لدكتور : ميسرة طاه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أستاذ الصحة النفسية والعلاج النفسي بجامعة الملك عبد العزيز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بير العلاقات الأسرية وتربية الأبناء في مركز استشا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في البرمجة اللغوية العصبية من المركز الكن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البرمجة اللغوية العصبية من الاتحاد العالمي للبرمجة اللغو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رئيس لجنة الدراسات العليا بالجام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ستشار في مدارس الثغ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ركز رعاية الموهوب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ستشفى الأم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جمعية قلق الاختبار العالمية ، وجمعية الابتكار العالم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درب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30.00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شخ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28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عمل علمي بين كتاب وبحث ومقياس نفس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14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حلقة إذاعية وتلفزيو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يقدم حاليا العديد من الدورات في التربية بالحب ، تربية ثواب أم عقاب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فن الإقناع ، البرمجة اللغوية العصبية ، الإعداد للزواج 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فن التعامل مع المراهقين ، سيكولوجية الأطفال وحل مشكلاتهم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جدد حياتك 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8CA-13BA-4923-A88A-5FAE8F952A3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0720" y="2022480"/>
            <a:ext cx="29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طالبا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5400" y="2971800"/>
            <a:ext cx="33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معلماً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80" y="3962520"/>
            <a:ext cx="10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قدم حوافز للمجد أمام الموظفي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9040" y="4800600"/>
            <a:ext cx="99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شجع على اتخاذ المبادرة والقرا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1120" y="5715000"/>
            <a:ext cx="53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ختلط بالعاملين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AF0-89B2-4586-9D60-597313445C7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90840" y="1981080"/>
            <a:ext cx="45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جهز بديلا لك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5120" y="2911320"/>
            <a:ext cx="84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عقد اجتماعات منتظمة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320" y="3962520"/>
            <a:ext cx="94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سهل أمور التدريب لموظفي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105-E85A-423A-8CB6-3E61260CBD2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4680" y="202248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ون فلسفة للحيا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84200" y="4267080"/>
            <a:ext cx="109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خاطب نفسك والآخرين بلغة إيجابي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4197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2A0-51E7-4FA1-AF75-B69193A5A26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228600"/>
            <a:ext cx="8458200" cy="16765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صبحنا وأصبح الملك لله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مد لله الذي أحيانا بعد أن أماتنا وإليه النشو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76920"/>
            <a:ext cx="8458200" cy="1676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إني أصبحت منك في نعمة وعافية وست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أتمم نعمتك علي وعافيتك وسترك في الدنيا والآخ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981080"/>
            <a:ext cx="8534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Koufi"/>
              </a:rPr>
              <a:t>الـبـدايـة</a:t>
            </a:r>
            <a:endParaRPr b="0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7F1-3B5D-4FD4-B03D-017BD290F37D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4419720"/>
            <a:ext cx="8458200" cy="2133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لس في سريرك وعدد نعم الله عليك ابتداء من نعمة اليقظ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رورا بنعمة النطق والبصر والسمع والشم وسلامة كافة البد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8458200" cy="3505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أنت ربي لا إله إلا أنت خلقتني وأنا عبدك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ا على عهدك ووعدك ما استطع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عوذ بك من شر ما صنعت أبوء لك بنعمتك 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بوء بذنبي ، فاغفر لي فإنه لا يغفر الذنوب إلا أن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519-97F8-477D-83AD-DE96F14FF862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43000"/>
            <a:ext cx="8458200" cy="5715000"/>
          </a:xfrm>
          <a:prstGeom prst="bevel">
            <a:avLst>
              <a:gd name="adj" fmla="val 4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يني وبين الملوك يوم واح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ما أمس فلا يجدون لذته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نا وهم من غد في وج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نما هو اليوم ، فما عسى أن يكون اليوم 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ـه الـذي يـعـيـش العقلاء في حدو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ي نطاقه يتحول كل فرد يملك نفسه ويبصر هدفه إلى م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يس اليوم إلا حياة جديدة لقوم يعقل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8920" y="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ذكر قول أبي حازم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9C7-1506-451E-8A28-634B8002C53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66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-1828800" y="0"/>
          <a:ext cx="1150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0"/>
                    <a:ext cx="1150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21225000">
            <a:off x="-2187360" y="333000"/>
            <a:ext cx="12802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زم بهذه القاع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غلق الأبواب على الماضي والمستقبل وعش في حد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ومك كيلا تسمح لمشكلات الماضي واهتمامات المستقب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السيطرة على يومك فتفس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66C-4849-447B-97F4-FE6B0DF3BDE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شغل أنفسنا ونغتم لمستقبل لا سلطان لنا علي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قلق على ما مضى وانكسر وليس بمقدورنا إصلاح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يوم هو الزمن الوحيد الذي نملكه وما نصنعه ف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هو بداية للغد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ولا نملك من هذه الأزمنة إلا هو لذا تقتضي الحكم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أن لا نعيش إلا في اليوم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1240" y="0"/>
            <a:ext cx="57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يــن الـحـكـمـة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37D-C74B-403A-8572-2847EDFAD738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ل يمكن أن يفلت زمام العالم من يد الل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الإيمان بان زمام العالم بيد الله يبع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قدرا هائلا من الطمأنينة في قلب الفرد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له غالب على أمره ولكن أكثر الناس لا يعلمو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2800" y="0"/>
            <a:ext cx="42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زمام العالم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1BC-E3AD-4E25-9C98-39A4829F5A34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قبل أداء الواجب  </a:t>
            </a:r>
            <a:r>
              <a:rPr b="1" i="1" lang="ar-SA" sz="5400" spc="-1" strike="noStrike">
                <a:solidFill>
                  <a:srgbClr val="ff5050"/>
                </a:solidFill>
                <a:latin typeface="Times New Roman"/>
                <a:cs typeface="Traditional Arabic"/>
              </a:rPr>
              <a:t>توا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بعد أدائه </a:t>
            </a:r>
            <a:r>
              <a:rPr b="1" lang="ar-SA" sz="4800" spc="-1" strike="noStrike">
                <a:solidFill>
                  <a:srgbClr val="3333cc"/>
                </a:solidFill>
                <a:latin typeface="Tahoma"/>
                <a:cs typeface="Traditional Arabic"/>
              </a:rPr>
              <a:t>تو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راحة ولا مجال للند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إلى القدر هو الالتزام العملي بقوله عز وجل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قل لن يصيبنا إلا ما كتب الله ل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و مولانا وعلى الله فليتوكل المؤمنون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قل هل تربصون بنا إلا إحدى الحسني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}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9680" y="0"/>
            <a:ext cx="52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ركون إلى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8A3-5815-48F3-A117-20E30334B00A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ليون أمريكي يعانون من أمراض القلب .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3520" y="3505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6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لف أمريكي يتوفون كل عام بأمراض القل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3808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8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أمراض القلب سببها الشرايين الإكلي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B12-A174-4BB3-B1A5-54608540EFF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صير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تعقل للأخذ بالأسباب وفقا لإمكانيات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شجاع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 الإقدام وعدم الترد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سن الظن بالل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قا لقانون الجاذب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ظروف نجاح العمل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ل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نقبل النتائج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ا كان شكل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613520" y="0"/>
            <a:ext cx="1268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إقدامنا على العم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F0F-1019-4A4E-BEFD-818E8DC6F1FB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قوف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لمعرفة مواطن الخطأ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غية تفاد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خرجنا من دوامة لوم الذات والشعور بالذن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إيماننا بأنه ما أصابنا ما كان ليخطئ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أخطأنا ما كان ليصي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099-A013-4CBA-B0E7-83EB04B4D8AF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سكن انفعال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واء كانت حزنا أم غض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غسل القلو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كسبها برد الرضى وطلب المثوب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ا بأن دائرة الاستكانة والتسليم تبدأ بما يغل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رادتنا المعتادة ، وبما يخرج عن حدود الاختيار الح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كرو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ذي يصيبنا واحد من اثنين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ما أنه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قابل للتغيير والصبر عليه بلادة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،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الرضا به حمق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 أنه غير قابل للتغيير والرضا عندئذ بقضاء الله وقدر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مسكن الانفعالات ومجلبة للراح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79480" y="0"/>
            <a:ext cx="109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دور القضاء والقدر في تعاملنا مع الحاض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E9A-0972-4FD1-A307-29A79489F38A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 الوليد بن عبادة لابنه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َا بُنَيَّ إِنَّكَ لَنْ تَطْعَمَ طَعْمَ الْإِيمَان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َلَنْ تَبْلُغْ حَقَّ حَقِيقَةِ الْعِلْمِ بِاللَّهِ تَبَارَكَ وَتَعَالَ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تَّى </a:t>
            </a:r>
            <a:r>
              <a:rPr b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تُؤْمِنَ بِالْقَدَرِ خَيْرِهِ وَشَرِّهِ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قُلْتُ يَا أَبَتَاهُ فَكَيْفَ لِي أَنْ أَعْلَمَ مَا خَيْرُ الْقَدَرِ وَشَرُّه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تَعْلَمُ أَنَّ </a:t>
            </a: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َا أَخْطَأَكَ لَمْ يَكُنْ لِيُصِيبَ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وَمَا أَصَابَكَ لَمْ يَكُنْ لِيُخْطِئَ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E88-264B-4905-813F-DC5228D4187D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996120" y="0"/>
            <a:ext cx="10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</a:rPr>
              <a:t>عند مواجهة المشكلات والأزم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8080"/>
            <a:ext cx="8458200" cy="1371600"/>
          </a:xfrm>
          <a:custGeom>
            <a:avLst/>
            <a:gdLst>
              <a:gd name="textAreaLeft" fmla="*/ 484920 w 8458200"/>
              <a:gd name="textAreaRight" fmla="*/ 7973280 w 8458200"/>
              <a:gd name="textAreaTop" fmla="*/ 484920 h 1371600"/>
              <a:gd name="textAreaBottom" fmla="*/ 886680 h 1371600"/>
            </a:gdLst>
            <a:ahLst/>
            <a:rect l="textAreaLeft" t="textAreaTop" r="textAreaRight" b="textAreaBottom"/>
            <a:pathLst>
              <a:path w="133171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22371" y="21600"/>
                </a:lnTo>
                <a:arcTo wR="10800" hR="10800" stAng="10800000" swAng="5400000"/>
                <a:lnTo>
                  <a:pt x="133171" y="10800"/>
                </a:lnTo>
                <a:arcTo wR="10800" hR="108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ن الحكمة الانحناء لها حتى تمر ب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438280"/>
            <a:ext cx="8458200" cy="3962520"/>
          </a:xfrm>
          <a:custGeom>
            <a:avLst/>
            <a:gdLst>
              <a:gd name="textAreaLeft" fmla="*/ 466920 w 8458200"/>
              <a:gd name="textAreaRight" fmla="*/ 7991280 w 845820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61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504" y="21600"/>
                </a:lnTo>
                <a:arcTo wR="3600" hR="3600" stAng="10800000" swAng="5400000"/>
                <a:lnTo>
                  <a:pt x="46104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َ مَثَلُ الْمُؤْمِنِ كَمَثَلِ خَامَةِ الزَّرْع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يَفِيءُ وَرَقُهُ مِنْ حَيْثُ أَتَتْهَا الرِّيحُ تُكَفِّئُهَ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فَإِذَا سَكَنَتِ اعْتَدَلَ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وَكَذَلِكَ الْمُؤْمِنُ يُكَفَّأُ بِالْبَلَاء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َمَثَلُ الْكَافِرِ كَمَثَلِ الْأَرْزَة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صَمَّاءَ مُعْتَدِلَةً حَتَّى يَقْصِمَهَا اللَّهُ إِذَا شَاءَ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5FC-1E13-4A56-A1A8-9DB7C2D53CFA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1053360" y="228600"/>
            <a:ext cx="11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كيف نحقق المرونة في مواجهة الشدائد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907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مرونة في مقابلة الشدائد مظهر من مظاهر التأدب مع ال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3623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تسم ، أو اجبر نفسك على الابتسا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7339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ذ نفسا عميقا وارفع كتفيك إلى الأ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قل بصوت عال صبر جميل والله المستعان وإنا لله وإنا إليه راجع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1055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بل الأمر الذي لم يكن منه بد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ذكر أنه كلما أسرعت بالرضا أسرع نسيان الواقعة إلي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B54-7DEB-40D8-8535-035423A8CE27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ذكر قوله عليه السلام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رض بما قسم الله لك تكن أغنى النا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0"/>
            <a:ext cx="5181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17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رض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AA3-F724-4EEE-AF6F-B709B3A497E2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ن الظروف ليست هي الت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نحنا السعادة أو تسلبنا إياها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إنما كيفية استجابتنا لهذه الظرو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تي تقرر مصيرنا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5720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ع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39C-8F8D-4BBA-BC5F-73C4FEE6E87F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055480" y="175248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ظم وقت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6280" y="16765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96280" y="3581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96280" y="53341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920" y="51814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مط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9360" y="358128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سترخ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056-86AF-4BA7-A13B-4D68F8601653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7280" y="202248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نف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5400" y="3352680"/>
            <a:ext cx="1066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سر من المخ بالتذك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6280" y="3352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998360" y="4800600"/>
            <a:ext cx="129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من من المخ بالتخيل والإبد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C2E-02F0-4875-8343-D180B7793F90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838080" y="5562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شنج الشرايين الإكليلية والتصاق الصفيح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هم أسباب الوفيات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بليون دولار تكاليف العلاج الطب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من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975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تى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م إجراء أكثر من مليون وربع عملية ق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C2B-E280-41FC-9908-9059592CED2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3040" y="2022480"/>
            <a:ext cx="49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مارسة الرياض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7640" y="2971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لمرح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43040" y="3962520"/>
            <a:ext cx="759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ولاد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080" y="5715000"/>
            <a:ext cx="80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صدقائ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46000" y="4800600"/>
            <a:ext cx="74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زوجت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356-EEE1-48A4-A598-E2A1D6FD6699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0512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دولار حتى 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كاليف العمل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ahoma"/>
              </a:rPr>
              <a:t>خسارة أمريكا الشمالية بسبب الضغوط أكثر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سنو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اجهاد النفسي وراء التشنج وفرط الالتصا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9D4-F75F-4CBF-B1BD-D0110A9A7D3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الوفيات ف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دولة بسبب أمراض جهاز الدوران الناتجة عن الإجهاد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2.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بسبب أمراض القلب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ك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سرطان مسئول ع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7.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والحوادث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.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3A7-D5FC-4C3C-8D7E-273835687D4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في أمريكا كل دقيقة يموت شخص بسبب الموت المفاج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تسبب الضغوط نسب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8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مجموع الأمراض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تي يعاني منها الناس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C32-C984-4DA2-93B4-B358FA631AE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cc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743200" y="0"/>
          <a:ext cx="38098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3809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27080" y="30430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ضغ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247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360" y="304308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مدى توافق أجسامنا وعقولنا مع التغي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746-BE7A-4571-ACFB-869E6D351A2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066680"/>
            <a:ext cx="374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 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كث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وإدمان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ق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سو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9FA-66A2-45DD-B9F9-CF76BC53EE9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2:48:52Z</dcterms:created>
  <dc:creator>BA-HAWI MO</dc:creator>
  <dc:description/>
  <dc:language>en-US</dc:language>
  <cp:lastModifiedBy>H2RAU</cp:lastModifiedBy>
  <cp:lastPrinted>2000-06-09T23:51:24Z</cp:lastPrinted>
  <dcterms:modified xsi:type="dcterms:W3CDTF">2001-04-24T08:11:54Z</dcterms:modified>
  <cp:revision>114</cp:revision>
  <dc:subject/>
  <dc:title>لا يوجد عنوان للشريحة</dc:title>
</cp:coreProperties>
</file>