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64F-3110-4520-9696-CC1B1D42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2A5-69A7-49AF-9451-96762A61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D2F-51FB-4834-B559-AD53D8AA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908-337B-48C1-8967-B87A7A13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D4C-831C-4DA6-AB6E-21DE23DA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DFB-A730-40FA-AF77-A7C9EA75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D1B-DA7A-4200-A5A4-DB3A1518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787-CFC8-4C63-86FB-AF8B63F1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049-3346-4611-80E5-3C6CCD75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7A9-EAFA-43F6-945D-94506D30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401-7753-4A5C-A25C-1D86262D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542-33C2-4C7E-9516-AA573654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93CD-B96D-4B7C-9886-8DEA0C064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9320"/>
            <a:ext cx="91440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ضغط العمل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وأثرة على العلاقات الأسرية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B2F-61D4-47F1-9131-3D94D654F3F6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990720" y="228600"/>
          <a:ext cx="7086600" cy="25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08660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537640" y="1054080"/>
            <a:ext cx="39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أشكال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ضغو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61722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حما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زائ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34290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لا فرا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5684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لا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Monotype Kouf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سترخ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344-F53A-476F-B3D0-04EEDE1C5FA7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03680" y="255600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380880"/>
            <a:ext cx="1371600" cy="4800600"/>
          </a:xfrm>
          <a:prstGeom prst="downArrowCallout">
            <a:avLst>
              <a:gd name="adj1" fmla="val 36114"/>
              <a:gd name="adj2" fmla="val 45644"/>
              <a:gd name="adj3" fmla="val 58917"/>
              <a:gd name="adj4" fmla="val 74565"/>
            </a:avLst>
          </a:prstGeom>
          <a:gradFill rotWithShape="0">
            <a:gsLst>
              <a:gs pos="0">
                <a:srgbClr val="009900"/>
              </a:gs>
              <a:gs pos="100000">
                <a:srgbClr val="ffff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اضطرا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334120"/>
            <a:ext cx="7010280" cy="1143000"/>
          </a:xfrm>
          <a:prstGeom prst="leftArrowCallout">
            <a:avLst>
              <a:gd name="adj1" fmla="val 38337"/>
              <a:gd name="adj2" fmla="val 48148"/>
              <a:gd name="adj3" fmla="val 90550"/>
              <a:gd name="adj4" fmla="val 78896"/>
            </a:avLst>
          </a:prstGeom>
          <a:gradFill rotWithShape="0">
            <a:gsLst>
              <a:gs pos="0">
                <a:srgbClr val="009900"/>
              </a:gs>
              <a:gs pos="100000">
                <a:srgbClr val="ffff9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ضغط العمل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1523880" cy="4953240"/>
          </a:xfrm>
          <a:prstGeom prst="upArrowCallout">
            <a:avLst>
              <a:gd name="adj1" fmla="val 36253"/>
              <a:gd name="adj2" fmla="val 50000"/>
              <a:gd name="adj3" fmla="val 54174"/>
              <a:gd name="adj4" fmla="val 50491"/>
            </a:avLst>
          </a:prstGeom>
          <a:gradFill rotWithShape="0">
            <a:gsLst>
              <a:gs pos="0">
                <a:srgbClr val="ffff99"/>
              </a:gs>
              <a:gs pos="100000">
                <a:srgbClr val="009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إجها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80880"/>
            <a:ext cx="7086600" cy="914400"/>
          </a:xfrm>
          <a:prstGeom prst="rightArrowCallout">
            <a:avLst>
              <a:gd name="adj1" fmla="val 50005"/>
              <a:gd name="adj2" fmla="val 50000"/>
              <a:gd name="adj3" fmla="val 98454"/>
              <a:gd name="adj4" fmla="val 82481"/>
            </a:avLst>
          </a:prstGeom>
          <a:gradFill rotWithShape="0">
            <a:gsLst>
              <a:gs pos="0">
                <a:srgbClr val="ffff99"/>
              </a:gs>
              <a:gs pos="100000">
                <a:srgbClr val="0099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ــقــلـــ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05120" y="1676520"/>
          <a:ext cx="541008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676520"/>
                    <a:ext cx="54100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3D2-9761-41B3-99DA-86F352C297AA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581280"/>
            <a:ext cx="8305560" cy="3048120"/>
          </a:xfrm>
          <a:prstGeom prst="downArrowCallout">
            <a:avLst>
              <a:gd name="adj1" fmla="val -58700"/>
              <a:gd name="adj2" fmla="val 135193"/>
              <a:gd name="adj3" fmla="val 21440"/>
              <a:gd name="adj4" fmla="val 69727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وهنا يتحدث الجسد ليشارك العقل 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فتعبر أجسادنا عن قلق عقول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بواحد أو أكثر من الاضطرابات التالية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447920"/>
            <a:ext cx="4038480" cy="1981080"/>
          </a:xfrm>
          <a:prstGeom prst="leftArrowCallout">
            <a:avLst>
              <a:gd name="adj1" fmla="val 25002"/>
              <a:gd name="adj2" fmla="val 50000"/>
              <a:gd name="adj3" fmla="val 35174"/>
              <a:gd name="adj4" fmla="val 75438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عندما يعجز العق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يتحدث الجس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447920"/>
            <a:ext cx="4190760" cy="1981080"/>
          </a:xfrm>
          <a:prstGeom prst="rightArrowCallout">
            <a:avLst>
              <a:gd name="adj1" fmla="val 25002"/>
              <a:gd name="adj2" fmla="val 50000"/>
              <a:gd name="adj3" fmla="val 35257"/>
              <a:gd name="adj4" fmla="val 7666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أكثر الأجواء مناسب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لعجز  العقل هي ت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التي  يسود فيها القل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20" y="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أجسادن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5F2-47B1-401C-9B35-79C7D5517A7C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65760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شن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قولو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2819520"/>
            <a:ext cx="1676520" cy="1600200"/>
          </a:xfrm>
          <a:custGeom>
            <a:avLst/>
            <a:gdLst>
              <a:gd name="textAreaLeft" fmla="*/ 330840 w 1676520"/>
              <a:gd name="textAreaRight" fmla="*/ 1345680 w 167652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ضغ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د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0492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رح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مع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50532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ها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مفاص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342900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مراض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قلب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198108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ساسية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جلدية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2819520"/>
            <a:ext cx="1676520" cy="1600200"/>
          </a:xfrm>
          <a:custGeom>
            <a:avLst/>
            <a:gdLst>
              <a:gd name="textAreaLeft" fmla="*/ 330840 w 1676520"/>
              <a:gd name="textAreaRight" fmla="*/ 1345680 w 167652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قو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شع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257800"/>
            <a:ext cx="1676160" cy="1600200"/>
          </a:xfrm>
          <a:custGeom>
            <a:avLst/>
            <a:gdLst>
              <a:gd name="textAreaLeft" fmla="*/ 330840 w 1676160"/>
              <a:gd name="textAreaRight" fmla="*/ 1345320 w 1676160"/>
              <a:gd name="textAreaTop" fmla="*/ 315720 h 1600200"/>
              <a:gd name="textAreaBottom" fmla="*/ 1284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بول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سكر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990720"/>
            <a:ext cx="2895480" cy="1828800"/>
          </a:xfrm>
          <a:custGeom>
            <a:avLst/>
            <a:gdLst>
              <a:gd name="textAreaLeft" fmla="*/ 571320 w 2895480"/>
              <a:gd name="textAreaRight" fmla="*/ 2324160 w 2895480"/>
              <a:gd name="textAreaTop" fmla="*/ 360720 h 1828800"/>
              <a:gd name="textAreaBottom" fmla="*/ 14680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آلام الأسن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تلفه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990720"/>
            <a:ext cx="2895480" cy="1828800"/>
          </a:xfrm>
          <a:custGeom>
            <a:avLst/>
            <a:gdLst>
              <a:gd name="textAreaLeft" fmla="*/ 571320 w 2895480"/>
              <a:gd name="textAreaRight" fmla="*/ 2324160 w 2895480"/>
              <a:gd name="textAreaTop" fmla="*/ 360720 h 1828800"/>
              <a:gd name="textAreaBottom" fmla="*/ 14680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4263"/>
                </a:lnTo>
                <a:lnTo>
                  <a:pt x="3163" y="18437"/>
                </a:lnTo>
                <a:lnTo>
                  <a:pt x="7188" y="19310"/>
                </a:lnTo>
                <a:lnTo>
                  <a:pt x="10800" y="21600"/>
                </a:lnTo>
                <a:lnTo>
                  <a:pt x="14263" y="19372"/>
                </a:lnTo>
                <a:lnTo>
                  <a:pt x="18437" y="18437"/>
                </a:lnTo>
                <a:lnTo>
                  <a:pt x="19310" y="14412"/>
                </a:lnTo>
                <a:lnTo>
                  <a:pt x="21600" y="10800"/>
                </a:lnTo>
                <a:lnTo>
                  <a:pt x="19372" y="7337"/>
                </a:lnTo>
                <a:lnTo>
                  <a:pt x="18437" y="3163"/>
                </a:lnTo>
                <a:lnTo>
                  <a:pt x="14412" y="2290"/>
                </a:lnTo>
                <a:lnTo>
                  <a:pt x="10800" y="0"/>
                </a:lnTo>
                <a:lnTo>
                  <a:pt x="7337" y="2228"/>
                </a:lnTo>
                <a:lnTo>
                  <a:pt x="3163" y="3163"/>
                </a:lnTo>
                <a:lnTo>
                  <a:pt x="2290" y="718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ضطرابا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غدة الدرق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9B1-DC64-4A8D-9E82-5EE46E2D98FA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893040" y="1149480"/>
            <a:ext cx="1357560" cy="2438640"/>
          </a:xfrm>
          <a:prstGeom prst="leftArrow">
            <a:avLst>
              <a:gd name="adj1" fmla="val 45444"/>
              <a:gd name="adj2" fmla="val 29704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يعطله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2666880"/>
            <a:ext cx="3810240" cy="1552680"/>
          </a:xfrm>
          <a:prstGeom prst="leftArrow">
            <a:avLst>
              <a:gd name="adj1" fmla="val 50000"/>
              <a:gd name="adj2" fmla="val 61349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ahoma"/>
              </a:rPr>
              <a:t>يشوش</a:t>
            </a: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ahoma"/>
              </a:rPr>
              <a:t>التفك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666880"/>
            <a:ext cx="3810240" cy="1524240"/>
          </a:xfrm>
          <a:prstGeom prst="rightArrow">
            <a:avLst>
              <a:gd name="adj1" fmla="val 50000"/>
              <a:gd name="adj2" fmla="val 62494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ahoma"/>
              </a:rPr>
              <a:t>يضعف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ذاك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809880"/>
            <a:ext cx="7315200" cy="2667240"/>
          </a:xfrm>
          <a:prstGeom prst="upArrowCallout">
            <a:avLst>
              <a:gd name="adj1" fmla="val 47035"/>
              <a:gd name="adj2" fmla="val 51246"/>
              <a:gd name="adj3" fmla="val 22181"/>
              <a:gd name="adj4" fmla="val 66660"/>
            </a:avLst>
          </a:prstGeom>
          <a:solidFill>
            <a:srgbClr val="99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يضعف القدرة على اتخاذ القرار السل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وتزيد في ظله القرارات الرعناء التعسف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2286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431640" y="-98280"/>
            <a:ext cx="967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عقولنا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E26-151E-4991-85A2-2E5BFABA9469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2514600"/>
            <a:ext cx="3810240" cy="2467080"/>
          </a:xfrm>
          <a:prstGeom prst="leftArrow">
            <a:avLst>
              <a:gd name="adj1" fmla="val 50000"/>
              <a:gd name="adj2" fmla="val 38611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تزيد حساسيتن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فنثور لأتفه الأسبا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514600"/>
            <a:ext cx="3657600" cy="2438280"/>
          </a:xfrm>
          <a:prstGeom prst="rightArrow">
            <a:avLst>
              <a:gd name="adj1" fmla="val 50000"/>
              <a:gd name="adj2" fmla="val 37502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يميل بنا نحو العزل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والابتعاد عن النا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648320"/>
            <a:ext cx="8382240" cy="1828800"/>
          </a:xfrm>
          <a:prstGeom prst="upArrowCallout">
            <a:avLst>
              <a:gd name="adj1" fmla="val -66390"/>
              <a:gd name="adj2" fmla="val 85643"/>
              <a:gd name="adj3" fmla="val 22181"/>
              <a:gd name="adj4" fmla="val 66660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تزداد قابلية السلوك لأن يكون عدوانيا سواء بالكلام أو بالأف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ea typeface="Traditional Arabic"/>
              </a:rPr>
              <a:t> فنصبح عرضة للوقوع في الخطأ بحق الآخرين بسهولة أكب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1447920"/>
            <a:ext cx="4038480" cy="1371600"/>
          </a:xfrm>
          <a:prstGeom prst="downArrowCallout">
            <a:avLst>
              <a:gd name="adj1" fmla="val 73616"/>
              <a:gd name="adj2" fmla="val 98840"/>
              <a:gd name="adj3" fmla="val 21440"/>
              <a:gd name="adj4" fmla="val 61894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ندم على ما نفع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20" y="-4932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سلوكن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5F9-2104-406D-B1D8-8968A7816FC8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229480" y="4575240"/>
            <a:ext cx="3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514600"/>
            <a:ext cx="3810240" cy="2467080"/>
          </a:xfrm>
          <a:prstGeom prst="leftArrow">
            <a:avLst>
              <a:gd name="adj1" fmla="val 50000"/>
              <a:gd name="adj2" fmla="val 38611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تبادل الحديث معه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بشكل مبه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14600"/>
            <a:ext cx="3657600" cy="2438280"/>
          </a:xfrm>
          <a:prstGeom prst="rightArrow">
            <a:avLst>
              <a:gd name="adj1" fmla="val 50000"/>
              <a:gd name="adj2" fmla="val 37502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رد على طلباتهم بان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648320"/>
            <a:ext cx="8382240" cy="1828800"/>
          </a:xfrm>
          <a:prstGeom prst="upArrowCallout">
            <a:avLst>
              <a:gd name="adj1" fmla="val -66390"/>
              <a:gd name="adj2" fmla="val 85643"/>
              <a:gd name="adj3" fmla="val 22181"/>
              <a:gd name="adj4" fmla="val 66660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نبحث عن سلة المهملات وهي بالقرب منا ، وننسى المواع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والارتباطات الخاصة بهم ، ونضيع الأشي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1447920"/>
            <a:ext cx="4038480" cy="1371600"/>
          </a:xfrm>
          <a:prstGeom prst="downArrowCallout">
            <a:avLst>
              <a:gd name="adj1" fmla="val 73616"/>
              <a:gd name="adj2" fmla="val 98840"/>
              <a:gd name="adj3" fmla="val 21440"/>
              <a:gd name="adj4" fmla="val 61894"/>
            </a:avLst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raditional Arabic"/>
              </a:rPr>
              <a:t>لانستمع لأولادنا وزوجات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20" y="-4932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ؤشرات اختراق الضغوط للدف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على مستوى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ahoma (Arabic)"/>
              </a:rPr>
              <a:t>علاقتنا بأسرن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ahoma (Arabic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660-30C9-4D4D-A734-7CFB625DA96C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457200"/>
            <a:ext cx="2743200" cy="2482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80120" y="1066680"/>
            <a:ext cx="51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مشي على الجم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28520" y="5638680"/>
            <a:ext cx="613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مشي على المسام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436400">
            <a:off x="1143000" y="2742840"/>
            <a:ext cx="6757920" cy="1714680"/>
          </a:xfrm>
          <a:custGeom>
            <a:avLst/>
            <a:gdLst>
              <a:gd name="textAreaLeft" fmla="*/ 0 w 6757920"/>
              <a:gd name="textAreaRight" fmla="*/ 6758280 w 6757920"/>
              <a:gd name="textAreaTop" fmla="*/ 707760 h 1714680"/>
              <a:gd name="textAreaBottom" fmla="*/ 100692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112000">
            <a:off x="1406160" y="3138840"/>
            <a:ext cx="57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آثار على العلاقات الأسر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6FB-F347-4D6D-B0A4-7A6E9FC83E9D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96280" y="1295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3480" y="1295280"/>
            <a:ext cx="49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شوش الأهداف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57800" y="2133720"/>
            <a:ext cx="267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ركزي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68480" y="3124080"/>
            <a:ext cx="80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دمن اجتماعات وتنبيهات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95560" y="4038480"/>
            <a:ext cx="251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حابي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96280" y="3124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96280" y="22096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96280" y="4114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96280" y="49528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38560" y="5029200"/>
            <a:ext cx="653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ينكر الحياة الخاصة لغير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خصائص المدير السي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581280" cy="5715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396280" y="5867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37560" y="5791320"/>
            <a:ext cx="86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لا يؤمن بأهمية تدريب الآخرين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46D-0CC8-492C-B292-0AFED1CF07D9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96280" y="12193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90800" y="1219320"/>
            <a:ext cx="909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لا يثيب ولكنه يعاتب ويلوم كثيرا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26080" y="2209680"/>
            <a:ext cx="24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رفي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19120" y="3200400"/>
            <a:ext cx="314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ظهري 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92520" y="4114800"/>
            <a:ext cx="107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بابه مقفل ولا يقبل نقد ولا نصيحة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96280" y="3200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96280" y="22096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96280" y="4114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96280" y="5029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87840" y="5029200"/>
            <a:ext cx="827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يفرض التغييرات من أعلى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خصائص المدير السي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20040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396280" y="5867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9440" y="5791320"/>
            <a:ext cx="996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يدفع غيره ليصبحوا مدمني عمل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846-CACC-4224-860A-35F9AAEBFF10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28600" y="228600"/>
            <a:ext cx="99820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الدكتور : ميسرة طاه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أستاذ الصحة النفسية والعلاج النفسي بجامعة الملك عبد العزيز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خبير العلاقات الأسرية وتربية الأبناء في مركز استشار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ممارس في البرمجة اللغوية العصبية من المركز الكند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ممارس البرمجة اللغوية العصبية من الاتحاد العالمي للبرمجة اللغو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رئيس لجنة الدراسات العليا بالجام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مستشار في مدارس الثغر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عضو الهيئة الاستشارية بمركز رعاية الموهوبي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عضو الهيئة الاستشارية بمستشفى الأمل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عضو جمعية قلق الاختبار العالمية ، وجمعية الابتكار العالمي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درب أكثر من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30.000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شخص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له أكثر من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28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عمل علمي بين كتاب وبحث ومقياس نفس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له أكثر من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140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حلقة إذاعية وتلفزيونية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يقدم حاليا العديد من الدورات في التربية بالحب ، تربية ثواب أم عقاب 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فن الإقناع ، البرمجة اللغوية العصبية ، الإعداد للزواج 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ahoma (Arabic)"/>
              </a:rPr>
              <a:t> فن التعامل مع المراهقين ، سيكولوجية الأطفال وحل مشكلاتهم 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جدد حياتك ،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102-58E2-41BC-ACD1-19E572CFE7E3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70720" y="2022480"/>
            <a:ext cx="299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كن طالباً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95400" y="2971800"/>
            <a:ext cx="33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كن معلماً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680" y="3962520"/>
            <a:ext cx="10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قدم حوافز للمجد أمام الموظفين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9040" y="4800600"/>
            <a:ext cx="995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شجع على اتخاذ المبادرة والقرار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3886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2971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53280" y="48006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53280" y="5715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21120" y="5715000"/>
            <a:ext cx="531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ختلط بالعاملين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0"/>
            <a:ext cx="883908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تصبح مديراً جيداً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248-933D-4DFB-9479-578A501846E6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90840" y="1981080"/>
            <a:ext cx="454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جهز بديلا لك 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5120" y="2911320"/>
            <a:ext cx="842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عقد اجتماعات منتظمة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1320" y="3962520"/>
            <a:ext cx="944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سهل أمور التدريب لموظفيك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53280" y="3886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2971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0"/>
            <a:ext cx="883908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تصبح مديراً جيداً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7A2-6BAB-4BA1-AE8B-02AC8BB80ED4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04680" y="2022480"/>
            <a:ext cx="564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كون فلسفة للحيا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484200" y="4267080"/>
            <a:ext cx="109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خاطب نفسك والآخرين بلغة إيجابية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4197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3716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66D-D3AC-492F-9AE1-66995017821E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0880" y="228600"/>
            <a:ext cx="8458200" cy="167652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صبحنا وأصبح الملك لله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حمد لله الذي أحيانا بعد أن أماتنا وإليه النشو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4876920"/>
            <a:ext cx="8458200" cy="16761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لهم إني أصبحت منك في نعمة وعافية وست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أتمم نعمتك علي وعافيتك وسترك في الدنيا والآخر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981080"/>
            <a:ext cx="8534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333300"/>
                  </a:solidFill>
                  <a:miter/>
                </a:ln>
                <a:solidFill>
                  <a:srgbClr val="ffff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Koufi"/>
              </a:rPr>
              <a:t>الـبـدايـة</a:t>
            </a:r>
            <a:endParaRPr b="0" lang="en-US" sz="2400" spc="1" strike="noStrike">
              <a:ln w="12600">
                <a:solidFill>
                  <a:srgbClr val="333300"/>
                </a:solidFill>
                <a:miter/>
              </a:ln>
              <a:solidFill>
                <a:srgbClr val="ffff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Koufi"/>
              <a:ea typeface="Monotype Kouf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8F9-D576-4F54-A225-B1E3FAD1644C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4419720"/>
            <a:ext cx="8458200" cy="21333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جلس في سريرك وعدد نعم الله عليك ابتداء من نعمة اليقظ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رورا بنعمة النطق والبصر والسمع والشم وسلامة كافة البد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8458200" cy="350532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لهم أنت ربي لا إله إلا أنت خلقتني وأنا عبدك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أنا على عهدك ووعدك ما استطع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عوذ بك من شر ما صنعت أبوء لك بنعمتك ع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أبوء بذنبي ، فاغفر لي فإنه لا يغفر الذنوب إلا أن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5AF-00FC-4BE6-BDEE-04464EA60E39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143000"/>
            <a:ext cx="8458200" cy="5715000"/>
          </a:xfrm>
          <a:prstGeom prst="bevel">
            <a:avLst>
              <a:gd name="adj" fmla="val 4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بيني وبين الملوك يوم واحد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ما أمس فلا يجدون لذته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أنا وهم من غد في وجل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إنما هو اليوم ، فما عسى أن يكون اليوم 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نـه الـذي يـعـيـش العقلاء في حدود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في نطاقه يتحول كل فرد يملك نفسه ويبصر هدفه إلى مل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ليس اليوم إلا حياة جديدة لقوم يعقل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8920" y="0"/>
            <a:ext cx="68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تذكر قول أبي حازم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327-DE6D-47D4-B5FF-DCE580702DD7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0066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-1828800" y="0"/>
          <a:ext cx="11506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0"/>
                    <a:ext cx="1150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 rot="21225000">
            <a:off x="-2187360" y="333000"/>
            <a:ext cx="128023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زم بهذه القاعد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غلق الأبواب على الماضي والمستقبل وعش في حدو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ومك كيلا تسمح لمشكلات الماضي واهتمامات المستقبل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بالسيطرة على يومك فتفسد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0F4-70E5-4325-91B3-17EEF03DE92E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ن نشغل أنفسنا ونغتم لمستقبل لا سلطان لنا عليه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ن نقلق على ما مضى وانكسر وليس بمقدورنا إصلاحه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يوم هو الزمن الوحيد الذي نملكه وما نصنعه في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هو بداية للغد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ولا نملك من هذه الأزمنة إلا هو لذا تقتضي الحكم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أن لا نعيش إلا في اليوم .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1240" y="0"/>
            <a:ext cx="57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يــن الـحـكـمـة 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74B-EF15-4C58-9D60-F43CF7F0CA49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هل يمكن أن يفلت زمام العالم من يد الل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ن الإيمان بان زمام العالم بيد الله يبعث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قدرا هائلا من الطمأنينة في قلب الفرد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الله غالب على أمره ولكن أكثر الناس لا يعلمون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92800" y="0"/>
            <a:ext cx="426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زمام العالم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963D-6A9B-4E46-85A8-C2DBCEF10395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ركون قبل أداء الواجب  </a:t>
            </a:r>
            <a:r>
              <a:rPr b="1" i="1" lang="ar-SA" sz="5400" spc="-1" strike="noStrike">
                <a:solidFill>
                  <a:srgbClr val="ff5050"/>
                </a:solidFill>
                <a:latin typeface="Times New Roman"/>
                <a:cs typeface="Traditional Arabic"/>
              </a:rPr>
              <a:t>تواكل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بعد أدائه </a:t>
            </a:r>
            <a:r>
              <a:rPr b="1" lang="ar-SA" sz="4800" spc="-1" strike="noStrike">
                <a:solidFill>
                  <a:srgbClr val="3333cc"/>
                </a:solidFill>
                <a:latin typeface="Tahoma"/>
                <a:cs typeface="Traditional Arabic"/>
              </a:rPr>
              <a:t>توكل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راحة ولا مجال للندم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ركون إلى القدر هو الالتزام العملي بقوله عز وجل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{ </a:t>
            </a: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قل لن يصيبنا إلا ما كتب الله ل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هو مولانا وعلى الله فليتوكل المؤمنون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ea typeface="Traditional Arabic"/>
              </a:rPr>
              <a:t> قل هل تربصون بنا إلا إحدى الحسنين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}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89680" y="0"/>
            <a:ext cx="523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الركون إلى الل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B5B-7216-4456-A167-98A360F1D0C6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05120"/>
            <a:ext cx="839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4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ليون أمريكي يعانون من أمراض القلب .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533520" y="35053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6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ألف أمريكي يتوفون كل عام بأمراض القلب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838080" y="5562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88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أمراض القلب سببها الشرايين الإكلي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75A-B0C6-4CA9-9996-96856AE71E3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منحنا </a:t>
            </a:r>
            <a:r>
              <a:rPr b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بصير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التعقل للأخذ بالأسباب وفقا لإمكانياتن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منحنا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شجاع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في الإقدام وعدم التردد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منحنا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حسن الظن بالله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فقا لقانون الجاذب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جعل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ظروف نجاح العمل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عل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جعلنا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نقبل النتائج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يا كان شكل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1613520" y="0"/>
            <a:ext cx="12680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imes New Roman"/>
              </a:rPr>
              <a:t>دور القضاء والقدر في إقدامنا على العمل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214-AD93-4D66-A39A-43FBB7C99832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وقوف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لمعرفة مواطن الخطأ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بغية تفاد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يخرجنا من دوامة لوم الذات والشعور بالذنب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إيماننا بأنه ما أصابنا ما كان ليخطئ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ما أخطأنا ما كان ليصي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1267920" y="0"/>
            <a:ext cx="11444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imes New Roman"/>
              </a:rPr>
              <a:t>دور القضاء والقدر في رؤيتنا للماضي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0D8-F63B-459F-BD37-8255F3305795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يسكن انفعالاتن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سواء كانت حزنا أم غضب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يغسل القلوب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يكسبها برد الرضى وطلب المثوبة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لما بأن دائرة الاستكانة والتسليم تبدأ بما يغلب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رادتنا المعتادة ، وبما يخرج عن حدود الاختيار الح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</a:t>
            </a:r>
            <a:r>
              <a:rPr b="1" i="1" lang="ar-SA" sz="4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المكرو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ذي يصيبنا واحد من اثنين 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ما أنه </a:t>
            </a:r>
            <a:r>
              <a:rPr b="1" i="1" lang="ar-SA" sz="40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قابل للتغيير والصبر عليه بلادة</a:t>
            </a:r>
            <a:r>
              <a:rPr b="1" lang="ar-SA" sz="40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، </a:t>
            </a:r>
            <a:r>
              <a:rPr b="1" i="1" lang="ar-SA" sz="40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والرضا به حمق</a:t>
            </a:r>
            <a:r>
              <a:rPr b="1" lang="ar-SA" sz="40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و أنه غير قابل للتغيير والرضا عندئذ بقضاء الله وقدر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مسكن الانفعالات ومجلبة للراحة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879480" y="0"/>
            <a:ext cx="1094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دور القضاء والقدر في تعاملنا مع الحاض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44C-AFA6-4F7C-A4FD-C3D5689EECF8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2280" y="838080"/>
            <a:ext cx="8839440" cy="6019920"/>
          </a:xfrm>
          <a:prstGeom prst="bevel">
            <a:avLst>
              <a:gd name="adj" fmla="val 4861"/>
            </a:avLst>
          </a:prstGeom>
          <a:gradFill rotWithShape="0">
            <a:gsLst>
              <a:gs pos="0">
                <a:srgbClr val="ffffcc"/>
              </a:gs>
              <a:gs pos="50000">
                <a:srgbClr val="99cc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َال الوليد بن عبادة لابنه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َا بُنَيَّ إِنَّكَ لَنْ تَطْعَمَ طَعْمَ الْإِيمَان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َلَنْ تَبْلُغْ حَقَّ حَقِيقَةِ الْعِلْمِ بِاللَّهِ تَبَارَكَ وَتَعَالَ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َتَّى </a:t>
            </a:r>
            <a:r>
              <a:rPr b="1" lang="ar-SA" sz="4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تُؤْمِنَ بِالْقَدَرِ خَيْرِهِ وَشَرِّهِ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َالَ قُلْتُ يَا أَبَتَاهُ فَكَيْفَ لِي أَنْ أَعْلَمَ مَا خَيْرُ الْقَدَرِ وَشَرُّه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َالَ تَعْلَمُ أَنَّ </a:t>
            </a:r>
            <a:r>
              <a:rPr b="1" i="1" lang="ar-SA" sz="4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مَا أَخْطَأَكَ لَمْ يَكُنْ لِيُصِيبَ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وَمَا أَصَابَكَ لَمْ يَكُنْ لِيُخْطِئَك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267920" y="0"/>
            <a:ext cx="11444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imes New Roman"/>
              </a:rPr>
              <a:t>دور القضاء والقدر في رؤيتنا للماضي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431-4078-4EF4-B504-76E37582B2B2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-996120" y="0"/>
            <a:ext cx="104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</a:rPr>
              <a:t>عند مواجهة المشكلات والأزم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838080"/>
            <a:ext cx="8458200" cy="1371600"/>
          </a:xfrm>
          <a:custGeom>
            <a:avLst/>
            <a:gdLst>
              <a:gd name="textAreaLeft" fmla="*/ 484920 w 8458200"/>
              <a:gd name="textAreaRight" fmla="*/ 7973280 w 8458200"/>
              <a:gd name="textAreaTop" fmla="*/ 484920 h 1371600"/>
              <a:gd name="textAreaBottom" fmla="*/ 886680 h 1371600"/>
            </a:gdLst>
            <a:ahLst/>
            <a:rect l="textAreaLeft" t="textAreaTop" r="textAreaRight" b="textAreaBottom"/>
            <a:pathLst>
              <a:path w="133171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122371" y="21600"/>
                </a:lnTo>
                <a:arcTo wR="10800" hR="10800" stAng="10800000" swAng="5400000"/>
                <a:lnTo>
                  <a:pt x="133171" y="10800"/>
                </a:lnTo>
                <a:arcTo wR="10800" hR="108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من الحكمة الانحناء لها حتى تمر بس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438280"/>
            <a:ext cx="8458200" cy="3962520"/>
          </a:xfrm>
          <a:custGeom>
            <a:avLst/>
            <a:gdLst>
              <a:gd name="textAreaLeft" fmla="*/ 466920 w 8458200"/>
              <a:gd name="textAreaRight" fmla="*/ 7991280 w 8458200"/>
              <a:gd name="textAreaTop" fmla="*/ 466920 h 3962520"/>
              <a:gd name="textAreaBottom" fmla="*/ 3495600 h 3962520"/>
            </a:gdLst>
            <a:ahLst/>
            <a:rect l="textAreaLeft" t="textAreaTop" r="textAreaRight" b="textAreaBottom"/>
            <a:pathLst>
              <a:path w="4610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504" y="21600"/>
                </a:lnTo>
                <a:arcTo wR="3600" hR="3600" stAng="10800000" swAng="5400000"/>
                <a:lnTo>
                  <a:pt x="46104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َ مَثَلُ الْمُؤْمِنِ كَمَثَلِ خَامَةِ الزَّرْع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يَفِيءُ وَرَقُهُ مِنْ حَيْثُ أَتَتْهَا الرِّيحُ تُكَفِّئُهَ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فَإِذَا سَكَنَتِ اعْتَدَلَت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وَكَذَلِكَ الْمُؤْمِنُ يُكَفَّأُ بِالْبَلَاءِ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cs typeface="Traditional Arabic"/>
              </a:rPr>
              <a:t>وَمَثَلُ الْكَافِرِ كَمَثَلِ الْأَرْزَة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ff"/>
                </a:solidFill>
                <a:latin typeface="Times New Roman"/>
                <a:ea typeface="Traditional Arabic"/>
              </a:rPr>
              <a:t> صَمَّاءَ مُعْتَدِلَةً حَتَّى يَقْصِمَهَا اللَّهُ إِذَا شَاءَ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5C7-4065-4860-851D-789C3164159A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-1053360" y="228600"/>
            <a:ext cx="11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</a:rPr>
              <a:t>كيف نحقق المرونة في مواجهة الشدائد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9907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ن المرونة في مقابلة الشدائد مظهر من مظاهر التأدب مع الل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3623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بتسم ، أو اجبر نفسك على الابتسام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7339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ذ نفسا عميقا وارفع كتفيك إلى الأع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قل بصوت عال صبر جميل والله المستعان وإنا لله وإنا إليه راجع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5105520"/>
            <a:ext cx="8458200" cy="121896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1498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242" y="21600"/>
                </a:lnTo>
                <a:arcTo wR="3600" hR="3600" stAng="10800000" swAng="5400000"/>
                <a:lnTo>
                  <a:pt x="149842" y="3600"/>
                </a:lnTo>
                <a:arcTo wR="3600" hR="3600" stAng="5400000" swAng="5400000"/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بل الأمر الذي لم يكن منه بد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تذكر أنه كلما أسرعت بالرضا أسرع نسيان الواقعة إليك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825C-FF40-4C85-9FD4-B990CB213D41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2895480"/>
            <a:ext cx="8153280" cy="3962520"/>
          </a:xfrm>
          <a:custGeom>
            <a:avLst/>
            <a:gdLst>
              <a:gd name="textAreaLeft" fmla="*/ 1861200 w 8153280"/>
              <a:gd name="textAreaRight" fmla="*/ 6292080 w 8153280"/>
              <a:gd name="textAreaTop" fmla="*/ 904320 h 3962520"/>
              <a:gd name="textAreaBottom" fmla="*/ 3058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ذكر قوله عليه السلام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رض بما قسم الله لك تكن أغنى الناس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0"/>
            <a:ext cx="5181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17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ارض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A24-4932-427E-BCF6-F20F75C2E015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33520" y="2895480"/>
            <a:ext cx="8153280" cy="3962520"/>
          </a:xfrm>
          <a:custGeom>
            <a:avLst/>
            <a:gdLst>
              <a:gd name="textAreaLeft" fmla="*/ 1861200 w 8153280"/>
              <a:gd name="textAreaRight" fmla="*/ 6292080 w 8153280"/>
              <a:gd name="textAreaTop" fmla="*/ 904320 h 3962520"/>
              <a:gd name="textAreaBottom" fmla="*/ 3058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ن الظروف ليست هي الت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منحنا السعادة أو تسلبنا إياها 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إنما كيفية استجابتنا لهذه الظرو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التي تقرر مصيرنا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45720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عل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1DD-FA26-4666-B5C4-549FEB126F2B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cover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055480" y="1752480"/>
            <a:ext cx="39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نظم وقتك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96280" y="16765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96280" y="35812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96280" y="5334120"/>
            <a:ext cx="747720" cy="76176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83920" y="5181480"/>
            <a:ext cx="206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تمط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13716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99360" y="3581280"/>
            <a:ext cx="24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سترخ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59C-E50C-4D5F-8E88-D08B404BA47E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17280" y="202248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تنفس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5400" y="3352680"/>
            <a:ext cx="1066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نشط الجزء الأيسر من المخ بالتذكر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53280" y="48006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96280" y="33526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0" y="9144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1998360" y="4800600"/>
            <a:ext cx="129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نشط الجزء الأيمن من المخ بالتخيل والإبدا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B31-37F2-4E64-84AD-9B0A32DCD8FA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838080" y="556272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تشنج الشرايين الإكليلية والتصاق الصفيح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أهم أسباب الوفيات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81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50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بليون دولار تكاليف العلاج الطبي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733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. من عام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1975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حتى عام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2000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تم إجراء أكثر من مليون وربع عملية قلب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094-BF67-4FE0-BE5B-F4DDA7CCD851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153280" y="20574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53040" y="2022480"/>
            <a:ext cx="497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ممارسة الرياض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07640" y="2971800"/>
            <a:ext cx="228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المرح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43040" y="3962520"/>
            <a:ext cx="759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دد موعد ثابت لأولادك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153280" y="38862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53280" y="2971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153280" y="48006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53280" y="5715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080" y="5715000"/>
            <a:ext cx="804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دد موعد ثابت لأصدقائك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0" y="1371600"/>
          <a:ext cx="22096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2209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كيف نخفف الضغوط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46000" y="4800600"/>
            <a:ext cx="746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raditional Arabic"/>
              </a:rPr>
              <a:t>حدد موعد ثابت لزوجتك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3AA-934C-41D3-86D4-12291CD9E080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05120"/>
            <a:ext cx="83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1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بليون دولار حتى عام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20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تكاليف العملي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505320"/>
            <a:ext cx="815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ahoma"/>
              </a:rPr>
              <a:t>خسارة أمريكا الشمالية بسبب الضغوط أكثر م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20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بليون سنوي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838080" y="5562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الاجهاد النفسي وراء التشنج وفرط الالتصاق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860-55E7-4FD9-A989-1815C81F3AE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05120"/>
            <a:ext cx="839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5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الوفيات في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29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دولة بسبب أمراض جهاز الدوران الناتجة عن الإجهاد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505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22.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بسبب أمراض القلب .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كل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96280" y="541008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838080" y="5562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سرطان مسئول عن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17.7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والحوادث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6.4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590-97D0-4F29-8DD7-9D2F94A8BB44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96280" y="34290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905120"/>
            <a:ext cx="839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في أمريكا كل دقيقة يموت شخص بسبب الموت المفاجئ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04920"/>
            <a:ext cx="4496040" cy="1739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ahoma (Arabic)"/>
              </a:rPr>
              <a:t>حقائق وأرق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96280" y="1828800"/>
            <a:ext cx="747720" cy="762120"/>
          </a:xfrm>
          <a:prstGeom prst="leftArrow">
            <a:avLst>
              <a:gd name="adj1" fmla="val 46426"/>
              <a:gd name="adj2" fmla="val 40648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505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تسبب الضغوط نسب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8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%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من مجموع الأمراض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تي يعاني منها الناس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970440"/>
            <a:ext cx="1905120" cy="288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EEC-C49C-4836-A43E-4FEECACECA3D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cc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743200" y="0"/>
          <a:ext cx="380988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0"/>
                    <a:ext cx="38098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172200" y="0"/>
            <a:ext cx="29718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427080" y="3043080"/>
            <a:ext cx="196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000000"/>
                </a:solidFill>
                <a:latin typeface="Times New Roman"/>
                <a:cs typeface="Tahoma"/>
              </a:rPr>
              <a:t>ضغ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27160" y="247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360" y="3043080"/>
            <a:ext cx="213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000000"/>
                </a:solidFill>
                <a:latin typeface="Times New Roman"/>
                <a:cs typeface="Tahoma"/>
              </a:rPr>
              <a:t>العم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867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ahoma"/>
              </a:rPr>
              <a:t>مدى توافق أجسامنا وعقولنا مع التغيي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A86-C0F5-4C92-901A-28FC59F1A262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990720" y="228600"/>
          <a:ext cx="7086600" cy="25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08660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666880" y="1066680"/>
            <a:ext cx="3745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أشكال الضغو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61722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كث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عم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وإدمان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42900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ق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عم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56840" y="3505320"/>
            <a:ext cx="3200400" cy="22860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2286000"/>
              <a:gd name="textAreaBottom" fmla="*/ 2000520 h 2286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سو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ea typeface="Monotype Koufi"/>
              </a:rPr>
              <a:t> 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توجي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D7F-2DAB-4BB7-89CE-A52101F351AB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د . ميسرة طاهر</a:t>
            </a: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5T02:48:52Z</dcterms:created>
  <dc:creator>BA-HAWI MO</dc:creator>
  <dc:description/>
  <dc:language>en-US</dc:language>
  <cp:lastModifiedBy>H2RAU</cp:lastModifiedBy>
  <cp:lastPrinted>2000-06-09T23:51:24Z</cp:lastPrinted>
  <dcterms:modified xsi:type="dcterms:W3CDTF">2001-04-24T08:11:54Z</dcterms:modified>
  <cp:revision>114</cp:revision>
  <dc:subject/>
  <dc:title>لا يوجد عنوان للشريحة</dc:title>
</cp:coreProperties>
</file>