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4D8-0419-467D-8A36-5AB030B4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DAD-D5E8-41A0-BDC3-332460E4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C43-2292-4E65-B02B-22678E91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477-FC34-4355-B8A4-A1A14D8B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739-D964-4235-AB94-B52070C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16C-1198-4E5D-87EF-9BF17585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7EB-823E-44EE-9A91-3537BB86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CD6-27C0-492C-8E26-3182E152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4D2-2701-4E2D-910B-9A56BD5D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86F-C9C5-4A9B-96A6-C856347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5CA-D002-47DC-9829-FECCB1DE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67E-8BB8-4E96-97AD-F65D3719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B7D4-EE52-43A7-B7C3-BBC86A720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914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ضغط العمل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وأثرة على العلاقات الأسرية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54D-540B-4432-A893-72ED10D6C9AD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37640" y="105408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حما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زائ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فرا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سترخ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DAF-6C54-47FB-AC1B-CA1E74C3AE72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03680" y="255600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380880"/>
            <a:ext cx="1371600" cy="4800600"/>
          </a:xfrm>
          <a:prstGeom prst="downArrowCallout">
            <a:avLst>
              <a:gd name="adj1" fmla="val 36114"/>
              <a:gd name="adj2" fmla="val 45644"/>
              <a:gd name="adj3" fmla="val 58917"/>
              <a:gd name="adj4" fmla="val 74565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ضطر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334120"/>
            <a:ext cx="7010280" cy="1143000"/>
          </a:xfrm>
          <a:prstGeom prst="leftArrowCallout">
            <a:avLst>
              <a:gd name="adj1" fmla="val 38337"/>
              <a:gd name="adj2" fmla="val 48148"/>
              <a:gd name="adj3" fmla="val 90550"/>
              <a:gd name="adj4" fmla="val 78896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ضغط العم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523880" cy="4953240"/>
          </a:xfrm>
          <a:prstGeom prst="upArrowCallout">
            <a:avLst>
              <a:gd name="adj1" fmla="val 36253"/>
              <a:gd name="adj2" fmla="val 50000"/>
              <a:gd name="adj3" fmla="val 54174"/>
              <a:gd name="adj4" fmla="val 5049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إجها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7086600" cy="914400"/>
          </a:xfrm>
          <a:prstGeom prst="rightArrowCallout">
            <a:avLst>
              <a:gd name="adj1" fmla="val 50005"/>
              <a:gd name="adj2" fmla="val 50000"/>
              <a:gd name="adj3" fmla="val 98454"/>
              <a:gd name="adj4" fmla="val 8248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ــقــلـــ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1676520"/>
          <a:ext cx="541008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676520"/>
                    <a:ext cx="54100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640-C1C7-449D-838C-B497E0A3F14B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581280"/>
            <a:ext cx="8305560" cy="3048120"/>
          </a:xfrm>
          <a:prstGeom prst="downArrowCallout">
            <a:avLst>
              <a:gd name="adj1" fmla="val -58700"/>
              <a:gd name="adj2" fmla="val 135193"/>
              <a:gd name="adj3" fmla="val 21440"/>
              <a:gd name="adj4" fmla="val 69727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هنا يتحدث الجسد ليشارك العقل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تعبر أجسادنا عن قلق عقو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بواحد أو أكثر من الاضطرابات التالية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447920"/>
            <a:ext cx="4038480" cy="1981080"/>
          </a:xfrm>
          <a:prstGeom prst="leftArrowCallout">
            <a:avLst>
              <a:gd name="adj1" fmla="val 25002"/>
              <a:gd name="adj2" fmla="val 50000"/>
              <a:gd name="adj3" fmla="val 35174"/>
              <a:gd name="adj4" fmla="val 75438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عندما يعجز العق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يتحدث الجس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447920"/>
            <a:ext cx="4190760" cy="1981080"/>
          </a:xfrm>
          <a:prstGeom prst="rightArrowCallout">
            <a:avLst>
              <a:gd name="adj1" fmla="val 25002"/>
              <a:gd name="adj2" fmla="val 50000"/>
              <a:gd name="adj3" fmla="val 35257"/>
              <a:gd name="adj4" fmla="val 7666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أكثر الأجواء مناسب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لعجز  العقل هي ت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التي  يسود فيها القل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20" y="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أجساد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CC7-6CC5-4D69-B389-B5E178385BD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6576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شن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قول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ضغ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049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رح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ع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053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ه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فاص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4290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مراض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لب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98108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ساسية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جلدية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ق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شع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2578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بول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سكر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آلام الأسن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لفه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ضطرابا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دة الدرق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F22-1DFF-4B73-93D3-AC00179D7E06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893040" y="1149480"/>
            <a:ext cx="1357560" cy="2438640"/>
          </a:xfrm>
          <a:prstGeom prst="leftArrow">
            <a:avLst>
              <a:gd name="adj1" fmla="val 45444"/>
              <a:gd name="adj2" fmla="val 2970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عطل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666880"/>
            <a:ext cx="3810240" cy="1552680"/>
          </a:xfrm>
          <a:prstGeom prst="leftArrow">
            <a:avLst>
              <a:gd name="adj1" fmla="val 50000"/>
              <a:gd name="adj2" fmla="val 61349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يشوش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التفك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666880"/>
            <a:ext cx="3810240" cy="1524240"/>
          </a:xfrm>
          <a:prstGeom prst="rightArrow">
            <a:avLst>
              <a:gd name="adj1" fmla="val 50000"/>
              <a:gd name="adj2" fmla="val 6249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يضعف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ذاك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809880"/>
            <a:ext cx="7315200" cy="2667240"/>
          </a:xfrm>
          <a:prstGeom prst="upArrowCallout">
            <a:avLst>
              <a:gd name="adj1" fmla="val 47035"/>
              <a:gd name="adj2" fmla="val 51246"/>
              <a:gd name="adj3" fmla="val 22181"/>
              <a:gd name="adj4" fmla="val 66660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يضعف القدرة على اتخاذ القرار السل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وتزيد في ظله القرارات الرعناء التعس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28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31640" y="-98280"/>
            <a:ext cx="967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قولن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580-4DC6-4BA8-B33B-983F360AEDA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يد حساسيت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فنثور لأتفه الأسب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ميل بنا نحو العز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بتعاد عن الن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داد قابلية السلوك لأن يكون عدوانيا سواء بالكلام أو بالأف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نصبح عرضة للوقوع في الخطأ بحق الآخرين بسهولة أك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ندم على ما نفع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سلوك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DE7-AAED-4584-BDEE-D1C468EE76E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تبادل الحديث مع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بشكل مب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رد على طلباتهم بان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بحث عن سلة المهملات وهي بالقرب منا ، وننسى الموا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رتباطات الخاصة بهم ، ونضيع الأشي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لانستمع لأولادنا وزوجات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لاقتنا بأسر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D2A-639A-4A1D-842D-F3D0A1986FB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743200" cy="2482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0120" y="1066680"/>
            <a:ext cx="51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جم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28520" y="5638680"/>
            <a:ext cx="61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مسام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36400">
            <a:off x="1143000" y="2742840"/>
            <a:ext cx="6757920" cy="1714680"/>
          </a:xfrm>
          <a:custGeom>
            <a:avLst/>
            <a:gdLst>
              <a:gd name="textAreaLeft" fmla="*/ 0 w 6757920"/>
              <a:gd name="textAreaRight" fmla="*/ 6758280 w 6757920"/>
              <a:gd name="textAreaTop" fmla="*/ 707760 h 1714680"/>
              <a:gd name="textAreaBottom" fmla="*/ 100692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112000">
            <a:off x="1406160" y="3138840"/>
            <a:ext cx="57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آثار على العلاقات الأسر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47C-56AE-41E5-B7DA-D5F3A792D76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96280" y="1295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3480" y="1295280"/>
            <a:ext cx="49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شوش الأهداف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7800" y="2133720"/>
            <a:ext cx="26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ركز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68480" y="3124080"/>
            <a:ext cx="80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دمن اجتماعات وتنبيهات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95560" y="4038480"/>
            <a:ext cx="251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حاب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6280" y="3124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96280" y="49528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5029200"/>
            <a:ext cx="65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نكر الحياة الخاصة لغير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37560" y="579132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ؤمن بأهمية تدريب الآخري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7D1-4E0E-4663-BBC7-CBB52B1C79A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96280" y="12193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0800" y="1219320"/>
            <a:ext cx="909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ثيب ولكنه يعاتب ويلوم كثيرا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26080" y="2209680"/>
            <a:ext cx="24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رف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19120" y="3200400"/>
            <a:ext cx="31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ظهري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92520" y="4114800"/>
            <a:ext cx="107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بابه مقفل ولا يقبل نقد ولا نصيح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96280" y="3200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96280" y="5029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7840" y="5029200"/>
            <a:ext cx="827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فرض التغييرات من أعلى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20040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440" y="5791320"/>
            <a:ext cx="996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دفع غيره ليصبحوا مدمني عمل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358-865F-4AC4-A640-77F18A12E7E1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28600" y="228600"/>
            <a:ext cx="9982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لدكتور : ميسرة طاه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أستاذ الصحة النفسية والعلاج النفسي بجامعة الملك عبد العزيز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بير العلاقات الأسرية وتربية الأبناء في مركز استشا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في البرمجة اللغوية العصبية من المركز الكن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البرمجة اللغوية العصبية من الاتحاد العالمي للبرمجة اللغو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رئيس لجنة الدراسات العليا بالجام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ستشار في مدارس الثغ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ركز رعاية الموهوب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ستشفى الأم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جمعية قلق الاختبار العالمية ، وجمعية الابتكار العالم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درب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30.00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شخ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28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عمل علمي بين كتاب وبحث ومقياس نفس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14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حلقة إذاعية وتلفزيونية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يقدم حاليا العديد من الدورات في التربية بالحب ، تربية ثواب أم عقاب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فن الإقناع ، البرمجة اللغوية العصبية ، الإعداد للزواج 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فن التعامل مع المراهقين ، سيكولوجية الأطفال وحل مشكلاتهم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جدد حياتك ،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D0F-EA49-4350-B00C-0B072C35611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70720" y="2022480"/>
            <a:ext cx="29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طالباً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95400" y="2971800"/>
            <a:ext cx="33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معلماً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680" y="3962520"/>
            <a:ext cx="10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قدم حوافز للمجد أمام الموظفين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9040" y="4800600"/>
            <a:ext cx="99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شجع على اتخاذ المبادرة والقرا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1120" y="5715000"/>
            <a:ext cx="531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ختلط بالعاملين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895-5AB2-4470-A7B5-E18A71CADE6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90840" y="1981080"/>
            <a:ext cx="454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جهز بديلا لك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5120" y="2911320"/>
            <a:ext cx="84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عقد اجتماعات منتظمة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1320" y="3962520"/>
            <a:ext cx="944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سهل أمور التدريب لموظفي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013-2D26-4B45-8E82-05B57DD300A1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04680" y="2022480"/>
            <a:ext cx="564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ون فلسفة للحيا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84200" y="4267080"/>
            <a:ext cx="109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خاطب نفسك والآخرين بلغة إيجابي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4197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B2A-3C50-4CAE-8167-EA96FD0A33D5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228600"/>
            <a:ext cx="8458200" cy="16765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صبحنا وأصبح الملك لله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حمد لله الذي أحيانا بعد أن أماتنا وإليه النشو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876920"/>
            <a:ext cx="8458200" cy="16761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إني أصبحت منك في نعمة وعافية وست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أتمم نعمتك علي وعافيتك وسترك في الدنيا والآخر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981080"/>
            <a:ext cx="8534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ffff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Koufi"/>
              </a:rPr>
              <a:t>الـبـدايـة</a:t>
            </a:r>
            <a:endParaRPr b="0" lang="en-US" sz="2400" spc="1" strike="noStrike">
              <a:ln w="12600">
                <a:solidFill>
                  <a:srgbClr val="333300"/>
                </a:solidFill>
                <a:miter/>
              </a:ln>
              <a:solidFill>
                <a:srgbClr val="ffff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Koufi"/>
              <a:ea typeface="Monotype Kouf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955-30CC-4FFB-B7D4-7DA63B6CA893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4419720"/>
            <a:ext cx="8458200" cy="2133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جلس في سريرك وعدد نعم الله عليك ابتداء من نعمة اليقظ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رورا بنعمة النطق والبصر والسمع والشم وسلامة كافة البد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8458200" cy="35053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أنت ربي لا إله إلا أنت خلقتني وأنا عبدك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أنا على عهدك ووعدك ما استطع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عوذ بك من شر ما صنعت أبوء لك بنعمتك 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بوء بذنبي ، فاغفر لي فإنه لا يغفر الذنوب إلا أن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B37-4CCD-44B1-9CAE-E48622459FF4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143000"/>
            <a:ext cx="8458200" cy="5715000"/>
          </a:xfrm>
          <a:prstGeom prst="bevel">
            <a:avLst>
              <a:gd name="adj" fmla="val 4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يني وبين الملوك يوم واح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ما أمس فلا يجدون لذته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نا وهم من غد في وج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إنما هو اليوم ، فما عسى أن يكون اليوم 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ـه الـذي يـعـيـش العقلاء في حدو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ي نطاقه يتحول كل فرد يملك نفسه ويبصر هدفه إلى م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يس اليوم إلا حياة جديدة لقوم يعقل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8920" y="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تذكر قول أبي حازم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002-60BF-483E-B6A2-50E1F6B6F133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0066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-1828800" y="0"/>
          <a:ext cx="11506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0"/>
                    <a:ext cx="1150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 rot="21225000">
            <a:off x="-2187360" y="333000"/>
            <a:ext cx="128023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زم بهذه القاع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غلق الأبواب على الماضي والمستقبل وعش في حد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ومك كيلا تسمح لمشكلات الماضي واهتمامات المستقب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السيطرة على يومك فتفس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1E9-CB55-4F55-A830-47DB58EC48A5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شغل أنفسنا ونغتم لمستقبل لا سلطان لنا علي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قلق على ما مضى وانكسر وليس بمقدورنا إصلاح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يوم هو الزمن الوحيد الذي نملكه وما نصنعه في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هو بداية للغد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ولا نملك من هذه الأزمنة إلا هو لذا تقتضي الحكم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أن لا نعيش إلا في اليوم 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1240" y="0"/>
            <a:ext cx="57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يــن الـحـكـمـة 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F11-8070-449F-BCE1-CF8A978CD55E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هل يمكن أن يفلت زمام العالم من يد الل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 الإيمان بان زمام العالم بيد الله يبعث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قدرا هائلا من الطمأنينة في قلب الفرد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له غالب على أمره ولكن أكثر الناس لا يعلمو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92800" y="0"/>
            <a:ext cx="42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زمام العالم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7CB-3DC1-4301-9E07-99C9D602D0D6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قبل أداء الواجب  </a:t>
            </a:r>
            <a:r>
              <a:rPr b="1" i="1" lang="ar-SA" sz="5400" spc="-1" strike="noStrike">
                <a:solidFill>
                  <a:srgbClr val="ff5050"/>
                </a:solidFill>
                <a:latin typeface="Times New Roman"/>
                <a:cs typeface="Traditional Arabic"/>
              </a:rPr>
              <a:t>توا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بعد أدائه </a:t>
            </a:r>
            <a:r>
              <a:rPr b="1" lang="ar-SA" sz="4800" spc="-1" strike="noStrike">
                <a:solidFill>
                  <a:srgbClr val="3333cc"/>
                </a:solidFill>
                <a:latin typeface="Tahoma"/>
                <a:cs typeface="Traditional Arabic"/>
              </a:rPr>
              <a:t>تو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راحة ولا مجال للند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إلى القدر هو الالتزام العملي بقوله عز وجل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{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قل لن يصيبنا إلا ما كتب الله ل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هو مولانا وعلى الله فليتوكل المؤمنون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قل هل تربصون بنا إلا إحدى الحسني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}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89680" y="0"/>
            <a:ext cx="52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لركون إلى الل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E9E-F4B0-4231-B594-675EEAB6C67E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ليون أمريكي يعانون من أمراض القلب .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33520" y="35053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6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لف أمريكي يتوفون كل عام بأمراض القلب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838080" y="5562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8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أمراض القلب سببها الشرايين الإكلي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B0E-3560-4A57-8854-958776CF39CE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بصير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تعقل للأخذ بالأسباب وفقا لإمكانياتن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شجاع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ي الإقدام وعدم التردد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سن الظن بالله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قا لقانون الجاذب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ظروف نجاح العمل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عل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نقبل النتائج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يا كان شكل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613520" y="0"/>
            <a:ext cx="1268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إقدامنا على العمل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CF4-5A1A-42EE-8A1E-3E0E22C91045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وقوف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لمعرفة مواطن الخطأ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غية تفاد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خرجنا من دوامة لوم الذات والشعور بالذن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إيماننا بأنه ما أصابنا ما كان ليخطئ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ما أخطأنا ما كان ليصي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C31-A961-4891-9944-A91B13263B09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سكن انفعال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سواء كانت حزنا أم غضب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غسل القلو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يكسبها برد الرضى وطلب المثوبة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ما بأن دائرة الاستكانة والتسليم تبدأ بما يغل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رادتنا المعتادة ، وبما يخرج عن حدود الاختيار الح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المكرو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ذي يصيبنا واحد من اثنين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ما أنه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قابل للتغيير والصبر عليه بلادة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،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الرضا به حمق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و أنه غير قابل للتغيير والرضا عندئذ بقضاء الله وقدر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مسكن الانفعالات ومجلبة للراحة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879480" y="0"/>
            <a:ext cx="109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دور القضاء والقدر في تعاملنا مع الحاض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511-9AF0-486F-BB3E-917D383AE028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 الوليد بن عبادة لابنه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َا بُنَيَّ إِنَّكَ لَنْ تَطْعَمَ طَعْمَ الْإِيمَان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َلَنْ تَبْلُغْ حَقَّ حَقِيقَةِ الْعِلْمِ بِاللَّهِ تَبَارَكَ وَتَعَالَ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َتَّى </a:t>
            </a:r>
            <a:r>
              <a:rPr b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تُؤْمِنَ بِالْقَدَرِ خَيْرِهِ وَشَرِّهِ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قُلْتُ يَا أَبَتَاهُ فَكَيْفَ لِي أَنْ أَعْلَمَ مَا خَيْرُ الْقَدَرِ وَشَرُّه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تَعْلَمُ أَنَّ </a:t>
            </a: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َا أَخْطَأَكَ لَمْ يَكُنْ لِيُصِيبَ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وَمَا أَصَابَكَ لَمْ يَكُنْ لِيُخْطِئَك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EBF-9332-4DE4-AFAE-9303B9D036EC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996120" y="0"/>
            <a:ext cx="104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</a:rPr>
              <a:t>عند مواجهة المشكلات والأزم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838080"/>
            <a:ext cx="8458200" cy="1371600"/>
          </a:xfrm>
          <a:custGeom>
            <a:avLst/>
            <a:gdLst>
              <a:gd name="textAreaLeft" fmla="*/ 484920 w 8458200"/>
              <a:gd name="textAreaRight" fmla="*/ 7973280 w 8458200"/>
              <a:gd name="textAreaTop" fmla="*/ 484920 h 1371600"/>
              <a:gd name="textAreaBottom" fmla="*/ 886680 h 1371600"/>
            </a:gdLst>
            <a:ahLst/>
            <a:rect l="textAreaLeft" t="textAreaTop" r="textAreaRight" b="textAreaBottom"/>
            <a:pathLst>
              <a:path w="133171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22371" y="21600"/>
                </a:lnTo>
                <a:arcTo wR="10800" hR="10800" stAng="10800000" swAng="5400000"/>
                <a:lnTo>
                  <a:pt x="133171" y="10800"/>
                </a:lnTo>
                <a:arcTo wR="10800" hR="108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ن الحكمة الانحناء لها حتى تمر ب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438280"/>
            <a:ext cx="8458200" cy="3962520"/>
          </a:xfrm>
          <a:custGeom>
            <a:avLst/>
            <a:gdLst>
              <a:gd name="textAreaLeft" fmla="*/ 466920 w 8458200"/>
              <a:gd name="textAreaRight" fmla="*/ 7991280 w 8458200"/>
              <a:gd name="textAreaTop" fmla="*/ 466920 h 3962520"/>
              <a:gd name="textAreaBottom" fmla="*/ 3495600 h 3962520"/>
            </a:gdLst>
            <a:ahLst/>
            <a:rect l="textAreaLeft" t="textAreaTop" r="textAreaRight" b="textAreaBottom"/>
            <a:pathLst>
              <a:path w="4610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504" y="21600"/>
                </a:lnTo>
                <a:arcTo wR="3600" hR="3600" stAng="10800000" swAng="5400000"/>
                <a:lnTo>
                  <a:pt x="46104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َ مَثَلُ الْمُؤْمِنِ كَمَثَلِ خَامَةِ الزَّرْع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يَفِيءُ وَرَقُهُ مِنْ حَيْثُ أَتَتْهَا الرِّيحُ تُكَفِّئُهَ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فَإِذَا سَكَنَتِ اعْتَدَلَت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وَكَذَلِكَ الْمُؤْمِنُ يُكَفَّأُ بِالْبَلَاءِ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َمَثَلُ الْكَافِرِ كَمَثَلِ الْأَرْزَة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صَمَّاءَ مُعْتَدِلَةً حَتَّى يَقْصِمَهَا اللَّهُ إِذَا شَاءَ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5CD-1DE9-454A-83E4-FBD04F82EF37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-1053360" y="228600"/>
            <a:ext cx="11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</a:rPr>
              <a:t>كيف نحقق المرونة في مواجهة الشدائد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9907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مرونة في مقابلة الشدائد مظهر من مظاهر التأدب مع الل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3623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تسم ، أو اجبر نفسك على الابتسا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7339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ذ نفسا عميقا وارفع كتفيك إلى الأ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قل بصوت عال صبر جميل والله المستعان وإنا لله وإنا إليه راجع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1055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بل الأمر الذي لم يكن منه بد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ذكر أنه كلما أسرعت بالرضا أسرع نسيان الواقعة إلي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D71-94FA-4A50-9493-A71EF2D1C954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ذكر قوله عليه السلام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رض بما قسم الله لك تكن أغنى النا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0"/>
            <a:ext cx="5181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17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رض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469-8372-40D8-8198-F76FCEA2AA6A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ن الظروف ليست هي الت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نحنا السعادة أو تسلبنا إياها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إنما كيفية استجابتنا لهذه الظرو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التي تقرر مصيرنا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5720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عل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993-E446-4C1E-B4F1-463F62FBE366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055480" y="1752480"/>
            <a:ext cx="39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ظم وقت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6280" y="16765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96280" y="3581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96280" y="53341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920" y="5181480"/>
            <a:ext cx="20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مط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99360" y="358128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سترخ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563-365C-43B2-A9F8-97F14597E656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17280" y="202248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نف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5400" y="3352680"/>
            <a:ext cx="1066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سر من المخ بالتذك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96280" y="3352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0" y="9144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998360" y="4800600"/>
            <a:ext cx="129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من من المخ بالتخيل والإبدا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6AD-7EA3-4BC7-BA77-47A12E5CF756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838080" y="556272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شنج الشرايين الإكليلية والتصاق الصفيح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هم أسباب الوفيات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بليون دولار تكاليف العلاج الطب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من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1975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حتى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تم إجراء أكثر من مليون وربع عملية قل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80C-034C-4351-A6E7-0D26B2897C1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53040" y="2022480"/>
            <a:ext cx="49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مارسة الرياض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7640" y="297180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لمرح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43040" y="3962520"/>
            <a:ext cx="759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ولاد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080" y="5715000"/>
            <a:ext cx="80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صدقائ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46000" y="4800600"/>
            <a:ext cx="74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زوجت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8E1-C055-4D88-9973-B0051EAE914A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05120"/>
            <a:ext cx="83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1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دولار حتى عام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كاليف العملي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50532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ahoma"/>
              </a:rPr>
              <a:t>خسارة أمريكا الشمالية بسبب الضغوط أكثر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سنو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اجهاد النفسي وراء التشنج وفرط الالتصا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073-3F3C-44DF-AFDC-D939368448E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05120"/>
            <a:ext cx="839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5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الوفيات ف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9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دولة بسبب أمراض جهاز الدوران الناتجة عن الإجهاد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2.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بسبب أمراض القلب 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كل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سرطان مسئول ع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7.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والحوادث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6.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68F-945D-4BD1-A935-2E03CA1D741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في أمريكا كل دقيقة يموت شخص بسبب الموت المفاجئ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تسبب الضغوط نسب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8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مجموع الأمراض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تي يعاني منها الناس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228-8441-4CFF-852B-E402D21AB05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cc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743200" y="0"/>
          <a:ext cx="38098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0"/>
                    <a:ext cx="3809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27080" y="3043080"/>
            <a:ext cx="19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ضغ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7160" y="247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360" y="304308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867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مدى توافق أجسامنا وعقولنا مع التغي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FA2-8A38-4D5A-8C7A-A2CB755E482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666880" y="1066680"/>
            <a:ext cx="3745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 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كث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وإدمان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ق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سو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توجي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A31-8B7F-4A72-A882-9693DB870D5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02:48:52Z</dcterms:created>
  <dc:creator>BA-HAWI MO</dc:creator>
  <dc:description/>
  <dc:language>en-US</dc:language>
  <cp:lastModifiedBy>H2RAU</cp:lastModifiedBy>
  <cp:lastPrinted>2000-06-09T23:51:24Z</cp:lastPrinted>
  <dcterms:modified xsi:type="dcterms:W3CDTF">2001-04-24T08:11:54Z</dcterms:modified>
  <cp:revision>114</cp:revision>
  <dc:subject/>
  <dc:title>لا يوجد عنوان للشريحة</dc:title>
</cp:coreProperties>
</file>