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  <p:sldId id="325" r:id="rId93"/>
    <p:sldId id="326" r:id="rId94"/>
    <p:sldId id="327" r:id="rId95"/>
    <p:sldId id="328" r:id="rId96"/>
    <p:sldId id="329" r:id="rId97"/>
    <p:sldId id="330" r:id="rId98"/>
    <p:sldId id="331" r:id="rId99"/>
    <p:sldId id="332" r:id="rId100"/>
    <p:sldId id="333" r:id="rId101"/>
    <p:sldId id="334" r:id="rId102"/>
    <p:sldId id="335" r:id="rId103"/>
    <p:sldId id="336" r:id="rId104"/>
    <p:sldId id="337" r:id="rId105"/>
    <p:sldId id="338" r:id="rId106"/>
    <p:sldId id="339" r:id="rId107"/>
    <p:sldId id="340" r:id="rId108"/>
    <p:sldId id="341" r:id="rId109"/>
    <p:sldId id="342" r:id="rId110"/>
    <p:sldId id="343" r:id="rId111"/>
    <p:sldId id="344" r:id="rId112"/>
    <p:sldId id="345" r:id="rId113"/>
    <p:sldId id="346" r:id="rId114"/>
    <p:sldId id="347" r:id="rId115"/>
    <p:sldId id="34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slide" Target="slides/slide70.xml"/><Relationship Id="rId94" Type="http://schemas.openxmlformats.org/officeDocument/2006/relationships/slide" Target="slides/slide71.xml"/><Relationship Id="rId95" Type="http://schemas.openxmlformats.org/officeDocument/2006/relationships/slide" Target="slides/slide72.xml"/><Relationship Id="rId96" Type="http://schemas.openxmlformats.org/officeDocument/2006/relationships/slide" Target="slides/slide73.xml"/><Relationship Id="rId97" Type="http://schemas.openxmlformats.org/officeDocument/2006/relationships/slide" Target="slides/slide74.xml"/><Relationship Id="rId98" Type="http://schemas.openxmlformats.org/officeDocument/2006/relationships/slide" Target="slides/slide75.xml"/><Relationship Id="rId99" Type="http://schemas.openxmlformats.org/officeDocument/2006/relationships/slide" Target="slides/slide76.xml"/><Relationship Id="rId100" Type="http://schemas.openxmlformats.org/officeDocument/2006/relationships/slide" Target="slides/slide77.xml"/><Relationship Id="rId101" Type="http://schemas.openxmlformats.org/officeDocument/2006/relationships/slide" Target="slides/slide78.xml"/><Relationship Id="rId102" Type="http://schemas.openxmlformats.org/officeDocument/2006/relationships/slide" Target="slides/slide79.xml"/><Relationship Id="rId103" Type="http://schemas.openxmlformats.org/officeDocument/2006/relationships/slide" Target="slides/slide80.xml"/><Relationship Id="rId104" Type="http://schemas.openxmlformats.org/officeDocument/2006/relationships/slide" Target="slides/slide81.xml"/><Relationship Id="rId105" Type="http://schemas.openxmlformats.org/officeDocument/2006/relationships/slide" Target="slides/slide82.xml"/><Relationship Id="rId106" Type="http://schemas.openxmlformats.org/officeDocument/2006/relationships/slide" Target="slides/slide83.xml"/><Relationship Id="rId107" Type="http://schemas.openxmlformats.org/officeDocument/2006/relationships/slide" Target="slides/slide84.xml"/><Relationship Id="rId108" Type="http://schemas.openxmlformats.org/officeDocument/2006/relationships/slide" Target="slides/slide85.xml"/><Relationship Id="rId109" Type="http://schemas.openxmlformats.org/officeDocument/2006/relationships/slide" Target="slides/slide86.xml"/><Relationship Id="rId110" Type="http://schemas.openxmlformats.org/officeDocument/2006/relationships/slide" Target="slides/slide87.xml"/><Relationship Id="rId111" Type="http://schemas.openxmlformats.org/officeDocument/2006/relationships/slide" Target="slides/slide88.xml"/><Relationship Id="rId112" Type="http://schemas.openxmlformats.org/officeDocument/2006/relationships/slide" Target="slides/slide89.xml"/><Relationship Id="rId113" Type="http://schemas.openxmlformats.org/officeDocument/2006/relationships/slide" Target="slides/slide90.xml"/><Relationship Id="rId114" Type="http://schemas.openxmlformats.org/officeDocument/2006/relationships/slide" Target="slides/slide91.xml"/><Relationship Id="rId115" Type="http://schemas.openxmlformats.org/officeDocument/2006/relationships/slide" Target="slides/slide92.xml"/><Relationship Id="rId116" Type="http://schemas.openxmlformats.org/officeDocument/2006/relationships/slide" Target="slides/slide9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8AF-816D-43FB-AF8D-68CB17D1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5F3-DAE5-4593-8085-8133BBD3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A36B-9D6F-464E-84C0-B9ACA55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CDC2-B7C9-4E56-99FD-8AD09F3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D30D-7F49-4276-9CA7-03FD0CD6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AC34-9FC2-4DEE-AC37-3DF6AAA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B322-0128-46A6-8F17-83BD26C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F20A-9FF5-460B-B412-77B4C7D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85B1-D789-4B12-80C1-7F252C3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D4E8-870D-4E7D-B8B2-CB34A533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36BB-719D-4B6F-BCBC-11EB1792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B81-368B-482A-AC67-339F5FFA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412-091E-43C9-BEC0-3C7FEFC0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348A-06CF-4050-AEE9-2C4DAFFE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DD62F-46AC-47F6-8AE2-339D5A60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E7B8-DAC4-4568-A7A5-0C73E7D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4950-C384-4730-A1A8-A5021A7A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AF87-3314-477B-8B4F-7914FD28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F387-82EF-40B0-9155-8428AE9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E503-407F-4F5E-BD96-DE3DEC2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46EF1-336E-4C9D-9858-9B29B36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6B8B-8BDE-464E-966F-00EE81A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E68C-79F5-4B28-95F2-E5CC40B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4F067-9FF3-4300-8C7E-ED7530BF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2167-00E8-4CFB-BAED-791DCE8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A6C6-5CC0-4257-AE94-AF23400A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BAD9-BCF4-40B2-81C7-3AF5846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9BDA-DAE0-491A-B552-25F16358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C16D-C4A1-4224-9248-BEDA51D1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79F5E-583E-4F60-AECD-737709FD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F0E67-851D-4D5C-928C-63F4461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D232-8CB7-4DA7-A094-7AA8BFD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C580-B863-40A7-8C16-C6A453A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7B452-43DD-423E-842D-3C9F211B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56543-02A1-4C49-B35D-ECED041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73C0-95FD-48D3-8721-78461530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015F-50F1-4202-A340-F52EA550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E3D-81CD-4498-9CB5-0A1D12C8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F69-A4E0-4718-B51C-17F90DE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333-683D-491B-914B-A8B78D2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4C2-2F81-49A5-906F-D06CD019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63C-AAE5-4943-BB12-7C64E55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6E6-4782-47C9-ADE5-34BA971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424-66FE-4477-A81E-7F1C980D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8C44-4593-4C40-B640-354C2146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5A4D-4F0B-4CD1-BF50-3761E08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1B2-1BD1-4E6C-8258-39ED32C8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246-B36F-4300-B8D6-2AAC5E0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362-D5EE-44A8-8F9F-291100BF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60D5-C628-4430-8CCD-BCB38AF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172-861A-4C71-B086-9ED0807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F467-EC43-45A3-A5AC-60DA16D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3419-F4D6-49E8-95ED-78EB3A0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7F5C-1681-480D-A82D-86B13B83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E8CA-DD34-4D63-BC7C-9F0E7A1B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5DD-553A-4C08-A354-74D4E0C2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4ABB-9FD7-4034-BA95-7DA6795C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BB8B-A633-4D7D-8722-F72CD51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1248-0DDD-4D3E-BC74-FC4C95C4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7A1E-E3C1-4D77-AE1C-8FDA041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C25D-DF62-40F3-AAB6-909C033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5F1-F565-405D-BC12-CA4197B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2854-2A99-4D0D-B24E-E537D04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2AE4-3E50-43BA-8EA2-1219AB1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25F1-1972-4C3F-9878-740AE09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F839-01DA-472B-B7C5-24EFF23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394B-2458-45B8-8828-B8AA6D59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4AC5-36D0-414C-B965-E373FAAC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EC03-D35D-4DD8-99D4-2D2713AF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51C1-FE4B-411D-94F6-E7E3C980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656D-CBDB-4101-8129-BA2CE2C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219A-A7C6-46D7-9013-A3E5EA0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C16-E5EB-4344-8906-4438D9F02D1B}" type="slidenum">
              <a: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Times New Roman (Arabic)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576-D914-48C4-A111-05CCDF5F887D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7753-9D98-44ED-AF46-ACDA470280A1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7C2-5103-4C0D-A488-F76DC7689D91}" type="slidenum">
              <a:rPr b="0" lang="ar-A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29FB-94C9-42D0-974E-9F239C6BCE50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D62E-9D6E-4453-AA9F-6D5DF8653F46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6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16000" y="1988640"/>
            <a:ext cx="66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000000"/>
                </a:solidFill>
                <a:latin typeface="AL-Hor"/>
                <a:cs typeface="PT Bold Heading"/>
              </a:rPr>
              <a:t>إلى كل زوجين قبل فوات الأوان.</a:t>
            </a:r>
            <a:endParaRPr b="1" lang="en-US" sz="6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ff99">
              <a:alpha val="70000"/>
            </a:srgbClr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 الطلاق في بعض دول الخليج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179388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م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793880"/>
            <a:ext cx="2035080" cy="143460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40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59280" y="273060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ط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59280" y="3666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وي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5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59280" y="460224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ح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5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4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5538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عود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04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900" spc="-1" strike="noStrike">
                <a:solidFill>
                  <a:srgbClr val="ff0000"/>
                </a:solidFill>
                <a:latin typeface="Times New Roman"/>
                <a:ea typeface="Traditional Arabic Backslanted"/>
              </a:rPr>
              <a:t>14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الة طلاق يوميا في الريا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250920" y="228600"/>
          <a:ext cx="8642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642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ثر الطلاق سيكون على كل من 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30640" y="1793880"/>
            <a:ext cx="3610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ولا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179388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أولاً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32440" y="273060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ن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32440" y="366696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لث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32440" y="460224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71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رابع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68800" y="5538960"/>
            <a:ext cx="353844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568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خامس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184464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3640" y="278136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32000" y="371628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32000" y="465300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32000" y="558972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8280" cy="6480000"/>
          </a:xfrm>
          <a:prstGeom prst="rect">
            <a:avLst/>
          </a:prstGeom>
          <a:gradFill rotWithShape="0">
            <a:gsLst>
              <a:gs pos="0">
                <a:srgbClr val="e1c11f"/>
              </a:gs>
              <a:gs pos="50000">
                <a:srgbClr val="ffffff"/>
              </a:gs>
              <a:gs pos="100000">
                <a:srgbClr val="e1c1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إن ابليس يضع عرشه على الماء ثُمَّ يبعث سراياه فأدناهم منزلة اعظمهم فتنة ، يجيء احدهم فيقول: فعلت كذا وكذا فيقول الشيطان له: ما صنعت شيئا ثُمَّ يجيء أخر فيقول: ما تركته حتى فرقت بينه وبين امراته، قال: فيدنيه الشيطان منه ويلتزمه ويقول: أنت أنت. 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PT Bold Heading"/>
              </a:rPr>
              <a:t>رواه مسلم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142920" y="549360"/>
            <a:ext cx="75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66"/>
                </a:solidFill>
                <a:latin typeface="Hitteen"/>
                <a:cs typeface="PT Bold Heading"/>
              </a:rPr>
              <a:t>الطلاق العاط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16720" cy="4752720"/>
          </a:xfrm>
          <a:prstGeom prst="rect">
            <a:avLst/>
          </a:prstGeom>
          <a:ln w="76320">
            <a:solidFill>
              <a:srgbClr val="ffffcc"/>
            </a:solidFill>
            <a:prstDash val="sysDot"/>
            <a:miter/>
          </a:ln>
        </p:spPr>
      </p:pic>
      <p:sp>
        <p:nvSpPr>
          <p:cNvPr id="1034" name=""/>
          <p:cNvSpPr/>
          <p:nvPr/>
        </p:nvSpPr>
        <p:spPr>
          <a:xfrm>
            <a:off x="7020000" y="241920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1042560" y="2420640"/>
            <a:ext cx="1297080" cy="6476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3280" y="1773360"/>
            <a:ext cx="0" cy="5084640"/>
          </a:xfrm>
          <a:prstGeom prst="line">
            <a:avLst/>
          </a:prstGeom>
          <a:ln w="1872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88000" y="115920"/>
            <a:ext cx="2448000" cy="57636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000066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10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1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042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062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082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102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122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142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16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184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204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038480" y="2057040"/>
            <a:ext cx="414360" cy="307800"/>
            <a:chOff x="4038480" y="2057040"/>
            <a:chExt cx="414360" cy="307800"/>
          </a:xfrm>
        </p:grpSpPr>
        <p:sp>
          <p:nvSpPr>
            <p:cNvPr id="1224" name=""/>
            <p:cNvSpPr/>
            <p:nvPr/>
          </p:nvSpPr>
          <p:spPr>
            <a:xfrm rot="16200000">
              <a:off x="4151160" y="214560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4257720" y="216972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4222800" y="218052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200000">
              <a:off x="4153680" y="205920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200000">
              <a:off x="4253760" y="220680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308480" y="219996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4303440" y="22028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4228920" y="219492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200000">
              <a:off x="4228920" y="211536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200000">
              <a:off x="4166280" y="214956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4180680" y="204804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4280040" y="214884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rot="16200000">
            <a:off x="3596400" y="196596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3091320" y="178452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2730600" y="206964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241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057400" y="2361960"/>
            <a:ext cx="1219320" cy="1600560"/>
            <a:chOff x="2057400" y="2361960"/>
            <a:chExt cx="1219320" cy="1600560"/>
          </a:xfrm>
        </p:grpSpPr>
        <p:sp>
          <p:nvSpPr>
            <p:cNvPr id="1260" name=""/>
            <p:cNvSpPr/>
            <p:nvPr/>
          </p:nvSpPr>
          <p:spPr>
            <a:xfrm>
              <a:off x="2209680" y="3875040"/>
              <a:ext cx="438120" cy="87480"/>
            </a:xfrm>
            <a:prstGeom prst="ellips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2286000" y="3548160"/>
              <a:ext cx="307800" cy="414360"/>
              <a:chOff x="2286000" y="3548160"/>
              <a:chExt cx="307800" cy="414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354400" y="3679920"/>
                <a:ext cx="169560" cy="131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286000" y="3880080"/>
                <a:ext cx="307800" cy="82440"/>
              </a:xfrm>
              <a:prstGeom prst="ellipse">
                <a:avLst/>
              </a:prstGeom>
              <a:solidFill>
                <a:srgbClr val="e07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89240" y="3853080"/>
                <a:ext cx="301680" cy="6048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38" y="0"/>
                    </a:lnTo>
                    <a:lnTo>
                      <a:pt x="248" y="0"/>
                    </a:lnTo>
                    <a:lnTo>
                      <a:pt x="381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7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03360" y="3548160"/>
                <a:ext cx="73080" cy="303480"/>
              </a:xfrm>
              <a:prstGeom prst="rect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289240" y="3907080"/>
                <a:ext cx="298440" cy="11160"/>
              </a:xfrm>
              <a:custGeom>
                <a:avLst/>
                <a:gdLst/>
                <a:ahLst/>
                <a:rect l="l" t="t" r="r" b="b"/>
                <a:pathLst>
                  <a:path w="377" h="14">
                    <a:moveTo>
                      <a:pt x="23" y="0"/>
                    </a:moveTo>
                    <a:lnTo>
                      <a:pt x="0" y="14"/>
                    </a:lnTo>
                    <a:lnTo>
                      <a:pt x="377" y="14"/>
                    </a:lnTo>
                    <a:lnTo>
                      <a:pt x="3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00120" y="3845160"/>
                <a:ext cx="77760" cy="23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03360" y="3840480"/>
                <a:ext cx="71640" cy="17280"/>
              </a:xfrm>
              <a:prstGeom prst="rect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92200" y="3687840"/>
                <a:ext cx="12960" cy="11448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11"/>
                    </a:moveTo>
                    <a:lnTo>
                      <a:pt x="16" y="0"/>
                    </a:lnTo>
                    <a:lnTo>
                      <a:pt x="16" y="144"/>
                    </a:lnTo>
                    <a:lnTo>
                      <a:pt x="0" y="13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71760" y="368784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17" y="11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7" y="13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76360" y="3691080"/>
                <a:ext cx="139680" cy="109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432160" y="3554640"/>
                <a:ext cx="34920" cy="306360"/>
              </a:xfrm>
              <a:custGeom>
                <a:avLst/>
                <a:gdLst/>
                <a:ahLst/>
                <a:rect l="l" t="t" r="r" b="b"/>
                <a:pathLst>
                  <a:path w="45" h="386">
                    <a:moveTo>
                      <a:pt x="45" y="0"/>
                    </a:moveTo>
                    <a:lnTo>
                      <a:pt x="0" y="0"/>
                    </a:lnTo>
                    <a:lnTo>
                      <a:pt x="0" y="385"/>
                    </a:lnTo>
                    <a:lnTo>
                      <a:pt x="17" y="386"/>
                    </a:lnTo>
                    <a:lnTo>
                      <a:pt x="35" y="382"/>
                    </a:lnTo>
                    <a:lnTo>
                      <a:pt x="45" y="37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51160" y="3864240"/>
                <a:ext cx="225360" cy="76320"/>
              </a:xfrm>
              <a:custGeom>
                <a:avLst/>
                <a:gdLst/>
                <a:ahLst/>
                <a:rect l="l" t="t" r="r" b="b"/>
                <a:pathLst>
                  <a:path w="284" h="97">
                    <a:moveTo>
                      <a:pt x="82" y="12"/>
                    </a:moveTo>
                    <a:lnTo>
                      <a:pt x="104" y="15"/>
                    </a:lnTo>
                    <a:lnTo>
                      <a:pt x="123" y="16"/>
                    </a:lnTo>
                    <a:lnTo>
                      <a:pt x="144" y="14"/>
                    </a:lnTo>
                    <a:lnTo>
                      <a:pt x="159" y="8"/>
                    </a:lnTo>
                    <a:lnTo>
                      <a:pt x="169" y="0"/>
                    </a:lnTo>
                    <a:lnTo>
                      <a:pt x="284" y="63"/>
                    </a:lnTo>
                    <a:lnTo>
                      <a:pt x="273" y="73"/>
                    </a:lnTo>
                    <a:lnTo>
                      <a:pt x="252" y="84"/>
                    </a:lnTo>
                    <a:lnTo>
                      <a:pt x="235" y="88"/>
                    </a:lnTo>
                    <a:lnTo>
                      <a:pt x="214" y="93"/>
                    </a:lnTo>
                    <a:lnTo>
                      <a:pt x="183" y="96"/>
                    </a:lnTo>
                    <a:lnTo>
                      <a:pt x="143" y="97"/>
                    </a:lnTo>
                    <a:lnTo>
                      <a:pt x="104" y="97"/>
                    </a:lnTo>
                    <a:lnTo>
                      <a:pt x="64" y="96"/>
                    </a:lnTo>
                    <a:lnTo>
                      <a:pt x="30" y="91"/>
                    </a:lnTo>
                    <a:lnTo>
                      <a:pt x="0" y="7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2209680" y="3222360"/>
              <a:ext cx="480960" cy="358560"/>
            </a:xfrm>
            <a:prstGeom prst="ellipse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57400" y="2717280"/>
              <a:ext cx="776160" cy="711360"/>
            </a:xfrm>
            <a:custGeom>
              <a:avLst/>
              <a:gdLst/>
              <a:ahLst/>
              <a:rect l="l" t="t" r="r" b="b"/>
              <a:pathLst>
                <a:path w="978" h="895">
                  <a:moveTo>
                    <a:pt x="0" y="0"/>
                  </a:moveTo>
                  <a:lnTo>
                    <a:pt x="198" y="895"/>
                  </a:lnTo>
                  <a:lnTo>
                    <a:pt x="783" y="895"/>
                  </a:lnTo>
                  <a:lnTo>
                    <a:pt x="9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7400" y="2688840"/>
              <a:ext cx="777960" cy="130320"/>
            </a:xfrm>
            <a:prstGeom prst="ellipse">
              <a:avLst/>
            </a:prstGeom>
            <a:solidFill>
              <a:srgbClr val="ffa04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14600" y="2743200"/>
              <a:ext cx="330120" cy="762120"/>
            </a:xfrm>
            <a:custGeom>
              <a:avLst/>
              <a:gdLst/>
              <a:ahLst/>
              <a:rect l="l" t="t" r="r" b="b"/>
              <a:pathLst>
                <a:path w="415" h="961">
                  <a:moveTo>
                    <a:pt x="0" y="961"/>
                  </a:moveTo>
                  <a:lnTo>
                    <a:pt x="51" y="954"/>
                  </a:lnTo>
                  <a:lnTo>
                    <a:pt x="103" y="940"/>
                  </a:lnTo>
                  <a:lnTo>
                    <a:pt x="151" y="913"/>
                  </a:lnTo>
                  <a:lnTo>
                    <a:pt x="199" y="879"/>
                  </a:lnTo>
                  <a:lnTo>
                    <a:pt x="223" y="837"/>
                  </a:lnTo>
                  <a:lnTo>
                    <a:pt x="243" y="779"/>
                  </a:lnTo>
                  <a:lnTo>
                    <a:pt x="261" y="721"/>
                  </a:lnTo>
                  <a:lnTo>
                    <a:pt x="274" y="669"/>
                  </a:lnTo>
                  <a:lnTo>
                    <a:pt x="292" y="604"/>
                  </a:lnTo>
                  <a:lnTo>
                    <a:pt x="415" y="0"/>
                  </a:lnTo>
                  <a:lnTo>
                    <a:pt x="364" y="18"/>
                  </a:lnTo>
                  <a:lnTo>
                    <a:pt x="312" y="28"/>
                  </a:lnTo>
                  <a:lnTo>
                    <a:pt x="216" y="38"/>
                  </a:lnTo>
                  <a:lnTo>
                    <a:pt x="106" y="45"/>
                  </a:lnTo>
                  <a:lnTo>
                    <a:pt x="110" y="680"/>
                  </a:lnTo>
                  <a:lnTo>
                    <a:pt x="106" y="762"/>
                  </a:lnTo>
                  <a:lnTo>
                    <a:pt x="99" y="824"/>
                  </a:lnTo>
                  <a:lnTo>
                    <a:pt x="86" y="879"/>
                  </a:lnTo>
                  <a:lnTo>
                    <a:pt x="58" y="920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57400" y="2706840"/>
              <a:ext cx="747720" cy="11268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e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 rot="16200000">
              <a:off x="2933640" y="2247120"/>
              <a:ext cx="228600" cy="457200"/>
            </a:xfrm>
            <a:custGeom>
              <a:avLst/>
              <a:gdLst>
                <a:gd name="textAreaLeft" fmla="*/ 53640 w 228600"/>
                <a:gd name="textAreaRight" fmla="*/ 174960 w 2286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28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303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323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343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363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383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403280" y="404640"/>
          <a:ext cx="6408720" cy="6120000"/>
        </p:xfrm>
        <a:graphic>
          <a:graphicData uri="http://schemas.openxmlformats.org/drawingml/2006/table">
            <a:tbl>
              <a:tblPr/>
              <a:tblGrid>
                <a:gridCol w="1602000"/>
                <a:gridCol w="1603080"/>
                <a:gridCol w="1602000"/>
                <a:gridCol w="1601640"/>
              </a:tblGrid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AL-Mateen"/>
              </a:rPr>
              <a:t>حركة يسيرة قد تعيد ترتيب حياتنا بشكل أفضل 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2920" y="1046160"/>
            <a:ext cx="8893080" cy="213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آثار                 المشاكل الزوج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788000" y="522360"/>
            <a:ext cx="302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6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760"/>
                            </p:stCondLst>
                            <p:childTnLst>
                              <p:par>
                                <p:cTn id="35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250" autoRev="1" fill="hold"/>
                                        <p:tgtEl>
                                          <p:spTgt spid="1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 rtl="1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600" spc="-1" strike="noStrike">
                <a:solidFill>
                  <a:srgbClr val="800080"/>
                </a:solidFill>
                <a:latin typeface="Traditional Arabic Backslanted"/>
                <a:cs typeface="Traditional Arabic Backslanted"/>
              </a:rPr>
              <a:t>انعدام السكن</a:t>
            </a:r>
            <a:endParaRPr b="0" lang="en-US" sz="15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6910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كمو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ستثار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صطدا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تشار النزا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بحث عن حلفا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هاء المشكلة أو الزواج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title"/>
          </p:nvPr>
        </p:nvSpPr>
        <p:spPr>
          <a:xfrm>
            <a:off x="94104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0066"/>
                </a:solidFill>
                <a:uFillTx/>
                <a:latin typeface="Comic Sans MS"/>
                <a:cs typeface="PT Bold Heading"/>
              </a:rPr>
              <a:t>مراحل المشكلة الاسرية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136440"/>
            <a:ext cx="7921440" cy="11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66"/>
                </a:solidFill>
                <a:uFillTx/>
                <a:latin typeface="Traditional Arabic Backslanted"/>
                <a:cs typeface="PT Bold Heading"/>
              </a:rPr>
              <a:t>اصناف الأزواج تجاه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799308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حديد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وصول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لى حل المشكلة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وضع آلي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نفيذ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قواعد ومنطلقات  للتعامل </a:t>
            </a:r>
            <a:br>
              <a:rPr sz="7000"/>
            </a:b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مع المشكلات الأسري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66 0.01574 C 0.00486 0.00972 0.01667 0.00278 0.03021 -0.00787 C 0.06806 -0.03842 0.09375 -0.07824 0.08542 -0.09491 C 0.07761 -0.11319 0.03959 -0.10185 0.00174 -0.07129 C -0.01823 -0.05532 -0.0342 -0.0375 -0.04427 -0.02222 C -0.0533 -0.01088 -0.06076 0.00162 -0.0684 0.01713 C -0.09323 0.06736 -0.10278 0.11806 -0.0901 0.12917 C -0.07778 0.14005 -0.04653 0.10857 -0.0217 0.05834 C -0.01007 0.03496 -0.00156 0.01042 0.00191 -0.00856 C 0.00677 -0.02361 0.00972 -0.04166 0.01198 -0.06041 C 0.01806 -0.12083 0.01094 -0.17199 -0.00486 -0.1743 C -0.02014 -0.17685 -0.03698 -0.13078 -0.04288 -0.0706 C -0.0467 -0.04352 -0.04635 -0.01759 -0.04323 0.00255 C -0.04201 0.01968 -0.03941 0.03634 -0.03437 0.05509 C -0.02031 0.11366 0.00243 0.15463 0.01754 0.14861 C 0.0316 0.1419 0.03316 0.09051 0.0184 0.03287 C 0.0125 0.00857 0.00417 -0.01319 -0.0033 -0.0294 C -0.01007 -0.04491 -0.01996 -0.06157 -0.0316 -0.07662 C -0.06267 -0.11991 -0.096 -0.14467 -0.10729 -0.12893 C -0.11892 -0.11504 -0.10243 -0.06875 -0.07135 -0.02523 C -0.05694 -0.00602 -0.04201 0.00996 -0.02899 0.01991 C -0.01805 0.0294 -0.00538 0.0375 0.00868 0.04537 C 0.05087 0.06644 0.09011 0.06736 0.09497 0.04769 C 0.10087 0.02871 0.07136 -0.0037 0.029 -0.02477 C 0.00886 -0.03449 -0.01094 -0.04097 -0.02604 -0.04143 C -0.03871 -0.04282 -0.05173 -0.04305 -0.06666 -0.0419 C -0.11198 -0.03541 -0.14705 -0.01528 -0.14514 0.00533 C -0.14427 0.02547 -0.10625 0.03797 -0.0618 0.03264 C -0.03993 0.02963 -0.02048 0.02431 -0.0066 0.01574 Z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806472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0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كلة ليس في وجود المشكلة وإنما في إدارتها والتعامل معها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993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1000"/>
          </a:bodyPr>
          <a:p>
            <a:pPr marL="209160" indent="0" algn="ctr" rtl="1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اكل درجات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11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كل مرحلة في الزواج مشاكلها الخاصة بها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684360" y="1630440"/>
            <a:ext cx="8316720" cy="40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على مستوى قدرتك واستطاعتك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24000" y="1916280"/>
            <a:ext cx="4680000" cy="21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Times New Roman"/>
                <a:cs typeface="DecoType Naskh Swashes"/>
              </a:rPr>
              <a:t>مدخل</a:t>
            </a:r>
            <a:endParaRPr b="0" i="1" lang="en-US" sz="1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5257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209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6000"/>
          </a:bodyPr>
          <a:p>
            <a:pPr marL="226080" indent="0" algn="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ا تتوقع الحل الفوري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56144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0000"/>
          </a:bodyPr>
          <a:p>
            <a:pPr marL="274320" indent="0" algn="ctr" rtl="1">
              <a:lnSpc>
                <a:spcPct val="80000"/>
              </a:lnSpc>
              <a:spcBef>
                <a:spcPts val="30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2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لك خير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87280" y="4797360"/>
            <a:ext cx="75614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 rtl="1">
              <a:lnSpc>
                <a:spcPct val="80000"/>
              </a:lnSpc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ولكن بشرط ...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6443640" y="115920"/>
            <a:ext cx="2664000" cy="1655640"/>
          </a:xfrm>
          <a:prstGeom prst="wedgeEllipseCallout">
            <a:avLst>
              <a:gd name="adj1" fmla="val 37606"/>
              <a:gd name="adj2" fmla="val 138592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قد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0000" y="189000"/>
            <a:ext cx="2664000" cy="1655640"/>
          </a:xfrm>
          <a:prstGeom prst="wedgeEllipseCallout">
            <a:avLst>
              <a:gd name="adj1" fmla="val -180"/>
              <a:gd name="adj2" fmla="val 89884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مح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360" y="115920"/>
            <a:ext cx="2664000" cy="1655640"/>
          </a:xfrm>
          <a:prstGeom prst="wedgeEllipseCallout">
            <a:avLst>
              <a:gd name="adj1" fmla="val -37902"/>
              <a:gd name="adj2" fmla="val 13418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خبرة وبناء ل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360" y="5086440"/>
            <a:ext cx="2664000" cy="1655640"/>
          </a:xfrm>
          <a:prstGeom prst="wedgeEllipseCallout">
            <a:avLst>
              <a:gd name="adj1" fmla="val -34268"/>
              <a:gd name="adj2" fmla="val -13562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ؤقت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43640" y="5086440"/>
            <a:ext cx="2664000" cy="1655640"/>
          </a:xfrm>
          <a:prstGeom prst="wedgeEllipseCallout">
            <a:avLst>
              <a:gd name="adj1" fmla="val 37782"/>
              <a:gd name="adj2" fmla="val -139069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ذكر النع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40000" y="5013360"/>
            <a:ext cx="2664000" cy="1655640"/>
          </a:xfrm>
          <a:prstGeom prst="wedgeEllipseCallout">
            <a:avLst>
              <a:gd name="adj1" fmla="val -180"/>
              <a:gd name="adj2" fmla="val -91037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تعرف على ا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7280" y="2532240"/>
            <a:ext cx="8569440" cy="180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نظرة للمشكل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7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32000" y="404640"/>
            <a:ext cx="640872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قواعد التعامل مع المشكل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بادرة لحل المشاك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احتو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مسك عليك لسا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عالج المرض وليس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تواصل اللفظ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 u="sng">
                <a:solidFill>
                  <a:srgbClr val="400040"/>
                </a:solidFill>
                <a:uFillTx/>
                <a:latin typeface="SYMBOLS A"/>
                <a:cs typeface="PT Bold Heading"/>
              </a:rPr>
              <a:t>ماذا نتوقع أن نتعرف عليه ؟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طبيعة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راحل المشكلات الزوجية.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نطلقات في التعامل مع المشاكل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اصناف الأزواج تجاه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قواعد في التعامل مع المشكلات الزوجية.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608960" cy="17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Tahoma"/>
                <a:ea typeface="PT Bold Heading"/>
              </a:rPr>
              <a:t>  تمرين طي الورق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9371000">
            <a:off x="1315800" y="4079520"/>
            <a:ext cx="1152360" cy="29512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96080 h 2951280"/>
              <a:gd name="textAreaBottom" fmla="*/ 210888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2" stAng="-5400000" swAng="-5400000"/>
                <a:lnTo>
                  <a:pt x="0" y="11803"/>
                </a:lnTo>
                <a:arcTo wR="21600" hR="7262" stAng="10800000" swAng="-3059605"/>
                <a:lnTo>
                  <a:pt x="15925" y="21345"/>
                </a:lnTo>
                <a:lnTo>
                  <a:pt x="21600" y="16794"/>
                </a:lnTo>
                <a:lnTo>
                  <a:pt x="15925" y="11732"/>
                </a:lnTo>
                <a:lnTo>
                  <a:pt x="15925" y="14268"/>
                </a:lnTo>
                <a:arcTo wR="21600" hR="7262" stAng="7740395" swAng="2680710"/>
                <a:lnTo>
                  <a:pt x="1083" y="9532"/>
                </a:lnTo>
                <a:arcTo wR="21600" hR="7262" stAng="-10421105" swAng="5021105"/>
                <a:close/>
              </a:path>
              <a:path fill="darkenLess" w="21600" h="21600">
                <a:moveTo>
                  <a:pt x="21600" y="0"/>
                </a:moveTo>
                <a:arcTo wR="21600" hR="7262" stAng="-5400000" swAng="-5400000"/>
                <a:lnTo>
                  <a:pt x="0" y="7262"/>
                </a:lnTo>
                <a:arcTo wR="21600" hR="7262" stAng="10800000" swAng="-378895"/>
                <a:lnTo>
                  <a:pt x="1083" y="9532"/>
                </a:lnTo>
                <a:arcTo wR="21600" hR="7262" stAng="-10421105" swAng="502110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404640"/>
            <a:ext cx="3456000" cy="35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أكد من العبارات وتحديد معناها بدقة بين الزوجي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5280" y="404640"/>
            <a:ext cx="5472000" cy="17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جزئي أو السريع قد يض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3560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Hitteen"/>
                <a:cs typeface="AL-Mateen"/>
              </a:rPr>
              <a:t>الحذر من تضخيم المشكلة الحذر من تهوين المشكل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بحث عن الدواف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ذر من الفهم الخاط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1444320"/>
            <a:ext cx="36003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Hitteen"/>
                <a:cs typeface="AL-Mateen"/>
              </a:rPr>
              <a:t>مراعاة التباين في ترتيب أوليات كل طرف</a:t>
            </a:r>
            <a:r>
              <a:rPr b="1" lang="ar-SA" sz="7200" spc="-1" strike="noStrike">
                <a:solidFill>
                  <a:srgbClr val="800000"/>
                </a:solidFill>
                <a:latin typeface="Hitteen"/>
                <a:ea typeface="AL-Matee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44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عذار الطرف الآخ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بدأ بحل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9760" y="264960"/>
            <a:ext cx="873756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طُرق جديدة اعجبتني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5690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179280" y="219240"/>
            <a:ext cx="8785440" cy="644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000066"/>
                </a:solidFill>
                <a:latin typeface="Traditional Arabic Backslanted"/>
                <a:cs typeface="Traditional Arabic"/>
              </a:rPr>
              <a:t>تمرين قطعة الارض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3" name=""/>
          <p:cNvGraphicFramePr/>
          <p:nvPr/>
        </p:nvGraphicFramePr>
        <p:xfrm>
          <a:off x="2124000" y="69228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94" name=""/>
          <p:cNvSpPr/>
          <p:nvPr/>
        </p:nvSpPr>
        <p:spPr>
          <a:xfrm>
            <a:off x="250920" y="3789360"/>
            <a:ext cx="4537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سم قطعة الأرض إلى أربعة اقسام متشابهة في الشكل متساوية في المسا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40360" y="18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0960" y="3313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26920" y="17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0" name=""/>
          <p:cNvSpPr/>
          <p:nvPr/>
        </p:nvSpPr>
        <p:spPr>
          <a:xfrm flipH="1">
            <a:off x="2123640" y="620640"/>
            <a:ext cx="5543640" cy="26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5003640" y="620640"/>
            <a:ext cx="2664000" cy="55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858920" y="62064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H="1">
            <a:off x="4932000" y="54936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24000" y="549360"/>
            <a:ext cx="5616720" cy="554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1440000"/>
              </a:tblGrid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5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 flipH="1">
            <a:off x="4859280" y="549360"/>
            <a:ext cx="2881440" cy="28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8" name=""/>
          <p:cNvGraphicFramePr/>
          <p:nvPr/>
        </p:nvGraphicFramePr>
        <p:xfrm>
          <a:off x="1619280" y="549360"/>
          <a:ext cx="6121440" cy="597528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9" name=""/>
          <p:cNvGraphicFramePr/>
          <p:nvPr/>
        </p:nvGraphicFramePr>
        <p:xfrm>
          <a:off x="1619280" y="476280"/>
          <a:ext cx="6048360" cy="590544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8360" y="549360"/>
            <a:ext cx="5327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تجنب حل كل المشاكل دفعة واحدة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تحديد محل الخلا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68000" y="3213000"/>
            <a:ext cx="331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Hitteen"/>
                <a:cs typeface="AL-Mateen"/>
              </a:rPr>
              <a:t>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ثُمَّ 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       ثُمَّ  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الرف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1331640" y="11592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r" rtl="1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لماذا هذا الموضوع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"/>
          <p:cNvSpPr/>
          <p:nvPr/>
        </p:nvSpPr>
        <p:spPr>
          <a:xfrm>
            <a:off x="1547640" y="1268280"/>
            <a:ext cx="727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 rtl="1">
              <a:lnSpc>
                <a:spcPct val="90000"/>
              </a:lnSpc>
              <a:spcBef>
                <a:spcPts val="10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9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؟</a:t>
            </a:r>
            <a:endParaRPr b="0" lang="en-US" sz="4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240000" cy="30974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688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Tahoma"/>
                <a:cs typeface="AL-Mateen"/>
              </a:rPr>
              <a:t>النظرة المتوازنة للمشكلة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-541440" y="476280"/>
            <a:ext cx="58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ضرورة الموازنة بين </a:t>
            </a:r>
            <a:br>
              <a:rPr sz="4600"/>
            </a:b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السلبيات والايجابيات</a:t>
            </a:r>
            <a:br>
              <a:rPr sz="4600"/>
            </a:b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6836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Hitteen"/>
                <a:cs typeface="AL-Mateen"/>
              </a:rPr>
              <a:t>انتقد الفعل وليس الفاع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2560" y="983880"/>
            <a:ext cx="450036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ahoma"/>
                <a:cs typeface="AL-Mateen"/>
              </a:rPr>
              <a:t>عدم عزل الآخر عن بيئته التي تعلم منها الحياة الزواجية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18472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تمرين عملي  ( 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صورة للقسمين</a:t>
            </a:r>
            <a:r>
              <a:rPr b="1" lang="ar-SA" sz="5400" spc="-1" strike="noStrike">
                <a:solidFill>
                  <a:srgbClr val="000000"/>
                </a:solidFill>
                <a:latin typeface="Hitteen"/>
                <a:ea typeface="Traditional Arabic"/>
              </a:rPr>
              <a:t> 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5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1280" y="404640"/>
            <a:ext cx="5400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نظر للمشكلة من جميع الزوايا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فهم نفسية الآخ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مارسة التنفي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411280" y="342900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منازل الثلاث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768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768" fill="hold"/>
                                        <p:tgtEl>
                                          <p:spTgt spid="1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5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7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998"/>
                            </p:stCondLst>
                            <p:childTnLst>
                              <p:par>
                                <p:cTn id="8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435280" y="456840"/>
            <a:ext cx="3384360" cy="73980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362800" cy="28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 rtl="1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طلاق الشرعي</a:t>
            </a:r>
            <a:endParaRPr b="0" lang="en-US" sz="1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HOUSE_04" descr=""/>
          <p:cNvPicPr/>
          <p:nvPr/>
        </p:nvPicPr>
        <p:blipFill>
          <a:blip r:embed="rId1"/>
          <a:stretch/>
        </p:blipFill>
        <p:spPr>
          <a:xfrm>
            <a:off x="1619280" y="2706840"/>
            <a:ext cx="789120" cy="691920"/>
          </a:xfrm>
          <a:prstGeom prst="rect">
            <a:avLst/>
          </a:prstGeom>
          <a:ln w="0">
            <a:noFill/>
          </a:ln>
        </p:spPr>
      </p:pic>
      <p:pic>
        <p:nvPicPr>
          <p:cNvPr id="1556" name="HOUSE_04" descr=""/>
          <p:cNvPicPr/>
          <p:nvPr/>
        </p:nvPicPr>
        <p:blipFill>
          <a:blip r:embed="rId2"/>
          <a:stretch/>
        </p:blipFill>
        <p:spPr>
          <a:xfrm>
            <a:off x="7164360" y="2741760"/>
            <a:ext cx="863640" cy="758520"/>
          </a:xfrm>
          <a:prstGeom prst="rect">
            <a:avLst/>
          </a:prstGeom>
          <a:ln w="0">
            <a:noFill/>
          </a:ln>
        </p:spPr>
      </p:pic>
      <p:pic>
        <p:nvPicPr>
          <p:cNvPr id="1557" name="HOUSE_04" descr=""/>
          <p:cNvPicPr/>
          <p:nvPr/>
        </p:nvPicPr>
        <p:blipFill>
          <a:blip r:embed="rId3"/>
          <a:stretch/>
        </p:blipFill>
        <p:spPr>
          <a:xfrm>
            <a:off x="4211640" y="267012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58" name="LGHTBLB2" descr=""/>
          <p:cNvPicPr/>
          <p:nvPr/>
        </p:nvPicPr>
        <p:blipFill>
          <a:blip r:embed="rId4"/>
          <a:stretch/>
        </p:blipFill>
        <p:spPr>
          <a:xfrm>
            <a:off x="7164360" y="4849920"/>
            <a:ext cx="936720" cy="728640"/>
          </a:xfrm>
          <a:prstGeom prst="rect">
            <a:avLst/>
          </a:prstGeom>
          <a:ln w="0">
            <a:noFill/>
          </a:ln>
        </p:spPr>
      </p:pic>
      <p:pic>
        <p:nvPicPr>
          <p:cNvPr id="1559" name="FAUCET_2" descr=""/>
          <p:cNvPicPr/>
          <p:nvPr/>
        </p:nvPicPr>
        <p:blipFill>
          <a:blip r:embed="rId5"/>
          <a:stretch/>
        </p:blipFill>
        <p:spPr>
          <a:xfrm>
            <a:off x="4284720" y="4870440"/>
            <a:ext cx="1114200" cy="790560"/>
          </a:xfrm>
          <a:prstGeom prst="rect">
            <a:avLst/>
          </a:prstGeom>
          <a:ln w="0">
            <a:noFill/>
          </a:ln>
        </p:spPr>
      </p:pic>
      <p:pic>
        <p:nvPicPr>
          <p:cNvPr id="1560" name="DUP00655" descr=""/>
          <p:cNvPicPr/>
          <p:nvPr/>
        </p:nvPicPr>
        <p:blipFill>
          <a:blip r:embed="rId6"/>
          <a:stretch/>
        </p:blipFill>
        <p:spPr>
          <a:xfrm>
            <a:off x="1547640" y="4908600"/>
            <a:ext cx="1060560" cy="646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95968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4000" y="-683280"/>
            <a:ext cx="85690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ahoma"/>
                <a:cs typeface="AL-Mateen"/>
              </a:rPr>
              <a:t>أمامك ثلاثة منازل مطلوب أن تصلها الخدمات: كهرباء - ماء - هاتف وكل خدمة في خط مستقل من المصدر مباشرة، ودون أن تتقاطع خطوط الخدمات، ودون حفر أنفاق أو إنشاء جسو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-594000"/>
            <a:ext cx="5508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ليس بالضرورة حل كل المشكلات</a:t>
            </a:r>
            <a:br>
              <a:rPr sz="4800"/>
            </a:b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بشكل جذري وبخاصة الكبير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36360" y="692280"/>
            <a:ext cx="662436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يسير قد يمهد لحل أكب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خلع النظارة السو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5680" y="733320"/>
            <a:ext cx="6264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ن أراد الحقوق فليقم بالواجب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وازنة بين الخطأ والعقا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نهي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4720" y="234936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411280" y="378936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شما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7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768" fill="hold"/>
                                        <p:tgtEl>
                                          <p:spTgt spid="1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998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1116000" y="4122720"/>
            <a:ext cx="1584360" cy="2735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9280" y="404640"/>
            <a:ext cx="4248360" cy="302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لا بد أن نتذكر نحن نتعامل مع البش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66560" y="320400"/>
            <a:ext cx="7058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800000"/>
                </a:solidFill>
                <a:latin typeface="Arial"/>
                <a:cs typeface="PT Bold Heading"/>
              </a:rPr>
              <a:t>الدعاء</a:t>
            </a:r>
            <a:endParaRPr b="0" lang="en-US" sz="129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527560" cy="338472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6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50920" y="4076280"/>
            <a:ext cx="858816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المملك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612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Hitteen"/>
                <a:cs typeface="AL-Mateen"/>
              </a:rPr>
              <a:t>ماذا تفعل إذا لم تنجح القواعد السابقة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258920" y="3789360"/>
            <a:ext cx="1979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800000"/>
                </a:solidFill>
                <a:latin typeface="Hitteen"/>
                <a:cs typeface="Arial"/>
              </a:rPr>
              <a:t>؟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4720" y="907560"/>
            <a:ext cx="863928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 u="sng">
                <a:solidFill>
                  <a:srgbClr val="006666"/>
                </a:solidFill>
                <a:uFillTx/>
                <a:latin typeface="Tahoma"/>
                <a:cs typeface="PT Bold Heading"/>
              </a:rPr>
              <a:t>الاستشارة: 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55454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انترنت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هاتف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مقابلة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768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5" dur="768" fill="hold"/>
                                        <p:tgtEl>
                                          <p:spTgt spid="1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7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9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84360" y="2492280"/>
            <a:ext cx="4752720" cy="4032360"/>
          </a:xfrm>
          <a:prstGeom prst="ellipse">
            <a:avLst/>
          </a:prstGeom>
          <a:solidFill>
            <a:srgbClr val="ff99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20720" y="333360"/>
            <a:ext cx="4753080" cy="4390920"/>
          </a:xfrm>
          <a:prstGeom prst="ellipse">
            <a:avLst/>
          </a:prstGeom>
          <a:solidFill>
            <a:srgbClr val="ff00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05080" y="2421000"/>
            <a:ext cx="4680000" cy="4032360"/>
          </a:xfrm>
          <a:prstGeom prst="ellipse">
            <a:avLst/>
          </a:prstGeom>
          <a:solidFill>
            <a:srgbClr val="ffff00">
              <a:alpha val="2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29080" y="692280"/>
            <a:ext cx="2592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ساخن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900000" y="4575240"/>
            <a:ext cx="2376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داف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21440" y="4575240"/>
            <a:ext cx="230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بار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205080" y="3833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شكل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372360" y="189000"/>
            <a:ext cx="259236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عامل مع المشك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61636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وماذا بعد ؟</a:t>
            </a:r>
            <a:endParaRPr b="0" lang="en-US" sz="1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648000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7000"/>
          </a:bodyPr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زالة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المشكلة تماما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خفيف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ن المشكلة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عايش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ع المشكلة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68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68" fill="hold"/>
                                        <p:tgtEl>
                                          <p:spTgt spid="1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عايش مع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1280" y="620640"/>
            <a:ext cx="5327640" cy="1368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حاولة قبول كل طرف للطرف الآخر كما ه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8000" y="620640"/>
            <a:ext cx="67690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إمساك بمعروف أو تسريح بإحسا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533520" y="259920"/>
            <a:ext cx="80769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000056"/>
                </a:solidFill>
                <a:latin typeface="Traditional Arabic Backslanted"/>
                <a:cs typeface="Traditional Arabic"/>
              </a:rPr>
              <a:t>تمرين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 rot="20247600">
            <a:off x="2387520" y="1941480"/>
            <a:ext cx="4083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55280" y="409320"/>
            <a:ext cx="676908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300" spc="-1" strike="noStrike" u="sng">
                <a:solidFill>
                  <a:srgbClr val="330066"/>
                </a:solidFill>
                <a:uFillTx/>
                <a:latin typeface="Arial"/>
                <a:cs typeface="PT Bold Heading"/>
              </a:rPr>
              <a:t>الذي يثبُت في الذهن: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25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قرأ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3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سمع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3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990000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50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–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75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% مما يسمعونه و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768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8" dur="768" fill="hold"/>
                                        <p:tgtEl>
                                          <p:spTgt spid="1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0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2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24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58816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مص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معنى : مطلقة كل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دقائ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ترك أفعالك تتحدث ع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0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جرب ولن تند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0084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7480" y="24573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7480" y="36910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7480" y="3691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7480" y="404172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7480" y="439416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7480" y="43941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7480" y="474660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7480" y="509904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7480" y="509904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7480" y="54514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7480" y="545148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7480" y="580392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0920" y="2133720"/>
            <a:ext cx="8640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وآخر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دعوانا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أن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حمد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لله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رب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عالم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095640" y="260280"/>
            <a:ext cx="2952720" cy="10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شكرا لكم  واستودعكم  الله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692360" y="1700280"/>
          <a:ext cx="63356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3356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92720" y="4552920"/>
            <a:ext cx="38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31:17Z</dcterms:created>
  <dc:creator>عبدالله بن ناصر السدحان</dc:creator>
  <dc:description/>
  <dc:language>en-US</dc:language>
  <cp:lastModifiedBy>omar</cp:lastModifiedBy>
  <dcterms:modified xsi:type="dcterms:W3CDTF">2009-03-23T11:03:18Z</dcterms:modified>
  <cp:revision>96</cp:revision>
  <dc:subject/>
  <dc:title>بسم           الله               الرحمن                       الرحيم </dc:title>
</cp:coreProperties>
</file>