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  <p:sldId id="296" r:id="rId64"/>
    <p:sldId id="297" r:id="rId65"/>
    <p:sldId id="298" r:id="rId66"/>
    <p:sldId id="299" r:id="rId67"/>
    <p:sldId id="300" r:id="rId68"/>
    <p:sldId id="301" r:id="rId69"/>
    <p:sldId id="302" r:id="rId70"/>
    <p:sldId id="303" r:id="rId71"/>
    <p:sldId id="304" r:id="rId72"/>
    <p:sldId id="305" r:id="rId73"/>
    <p:sldId id="306" r:id="rId74"/>
    <p:sldId id="307" r:id="rId75"/>
    <p:sldId id="308" r:id="rId76"/>
    <p:sldId id="309" r:id="rId77"/>
    <p:sldId id="310" r:id="rId78"/>
    <p:sldId id="311" r:id="rId79"/>
    <p:sldId id="312" r:id="rId80"/>
    <p:sldId id="313" r:id="rId81"/>
    <p:sldId id="314" r:id="rId82"/>
    <p:sldId id="315" r:id="rId83"/>
    <p:sldId id="316" r:id="rId84"/>
    <p:sldId id="317" r:id="rId85"/>
    <p:sldId id="318" r:id="rId86"/>
    <p:sldId id="319" r:id="rId87"/>
    <p:sldId id="320" r:id="rId88"/>
    <p:sldId id="321" r:id="rId89"/>
    <p:sldId id="322" r:id="rId90"/>
    <p:sldId id="323" r:id="rId91"/>
    <p:sldId id="324" r:id="rId92"/>
    <p:sldId id="325" r:id="rId93"/>
    <p:sldId id="326" r:id="rId94"/>
    <p:sldId id="327" r:id="rId95"/>
    <p:sldId id="328" r:id="rId96"/>
    <p:sldId id="329" r:id="rId97"/>
    <p:sldId id="330" r:id="rId98"/>
    <p:sldId id="331" r:id="rId99"/>
    <p:sldId id="332" r:id="rId100"/>
    <p:sldId id="333" r:id="rId101"/>
    <p:sldId id="334" r:id="rId102"/>
    <p:sldId id="335" r:id="rId103"/>
    <p:sldId id="336" r:id="rId104"/>
    <p:sldId id="337" r:id="rId105"/>
    <p:sldId id="338" r:id="rId106"/>
    <p:sldId id="339" r:id="rId107"/>
    <p:sldId id="340" r:id="rId108"/>
    <p:sldId id="341" r:id="rId109"/>
    <p:sldId id="342" r:id="rId110"/>
    <p:sldId id="343" r:id="rId111"/>
    <p:sldId id="344" r:id="rId112"/>
    <p:sldId id="345" r:id="rId113"/>
    <p:sldId id="346" r:id="rId114"/>
    <p:sldId id="347" r:id="rId115"/>
    <p:sldId id="348" r:id="rId1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slide" Target="slides/slide41.xml"/><Relationship Id="rId65" Type="http://schemas.openxmlformats.org/officeDocument/2006/relationships/slide" Target="slides/slide42.xml"/><Relationship Id="rId66" Type="http://schemas.openxmlformats.org/officeDocument/2006/relationships/slide" Target="slides/slide43.xml"/><Relationship Id="rId67" Type="http://schemas.openxmlformats.org/officeDocument/2006/relationships/slide" Target="slides/slide44.xml"/><Relationship Id="rId68" Type="http://schemas.openxmlformats.org/officeDocument/2006/relationships/slide" Target="slides/slide45.xml"/><Relationship Id="rId69" Type="http://schemas.openxmlformats.org/officeDocument/2006/relationships/slide" Target="slides/slide46.xml"/><Relationship Id="rId70" Type="http://schemas.openxmlformats.org/officeDocument/2006/relationships/slide" Target="slides/slide47.xml"/><Relationship Id="rId71" Type="http://schemas.openxmlformats.org/officeDocument/2006/relationships/slide" Target="slides/slide48.xml"/><Relationship Id="rId72" Type="http://schemas.openxmlformats.org/officeDocument/2006/relationships/slide" Target="slides/slide49.xml"/><Relationship Id="rId73" Type="http://schemas.openxmlformats.org/officeDocument/2006/relationships/slide" Target="slides/slide50.xml"/><Relationship Id="rId74" Type="http://schemas.openxmlformats.org/officeDocument/2006/relationships/slide" Target="slides/slide51.xml"/><Relationship Id="rId75" Type="http://schemas.openxmlformats.org/officeDocument/2006/relationships/slide" Target="slides/slide52.xml"/><Relationship Id="rId76" Type="http://schemas.openxmlformats.org/officeDocument/2006/relationships/slide" Target="slides/slide53.xml"/><Relationship Id="rId77" Type="http://schemas.openxmlformats.org/officeDocument/2006/relationships/slide" Target="slides/slide54.xml"/><Relationship Id="rId78" Type="http://schemas.openxmlformats.org/officeDocument/2006/relationships/slide" Target="slides/slide55.xml"/><Relationship Id="rId79" Type="http://schemas.openxmlformats.org/officeDocument/2006/relationships/slide" Target="slides/slide56.xml"/><Relationship Id="rId80" Type="http://schemas.openxmlformats.org/officeDocument/2006/relationships/slide" Target="slides/slide57.xml"/><Relationship Id="rId81" Type="http://schemas.openxmlformats.org/officeDocument/2006/relationships/slide" Target="slides/slide58.xml"/><Relationship Id="rId82" Type="http://schemas.openxmlformats.org/officeDocument/2006/relationships/slide" Target="slides/slide59.xml"/><Relationship Id="rId83" Type="http://schemas.openxmlformats.org/officeDocument/2006/relationships/slide" Target="slides/slide60.xml"/><Relationship Id="rId84" Type="http://schemas.openxmlformats.org/officeDocument/2006/relationships/slide" Target="slides/slide61.xml"/><Relationship Id="rId85" Type="http://schemas.openxmlformats.org/officeDocument/2006/relationships/slide" Target="slides/slide62.xml"/><Relationship Id="rId86" Type="http://schemas.openxmlformats.org/officeDocument/2006/relationships/slide" Target="slides/slide63.xml"/><Relationship Id="rId87" Type="http://schemas.openxmlformats.org/officeDocument/2006/relationships/slide" Target="slides/slide64.xml"/><Relationship Id="rId88" Type="http://schemas.openxmlformats.org/officeDocument/2006/relationships/slide" Target="slides/slide65.xml"/><Relationship Id="rId89" Type="http://schemas.openxmlformats.org/officeDocument/2006/relationships/slide" Target="slides/slide66.xml"/><Relationship Id="rId90" Type="http://schemas.openxmlformats.org/officeDocument/2006/relationships/slide" Target="slides/slide67.xml"/><Relationship Id="rId91" Type="http://schemas.openxmlformats.org/officeDocument/2006/relationships/slide" Target="slides/slide68.xml"/><Relationship Id="rId92" Type="http://schemas.openxmlformats.org/officeDocument/2006/relationships/slide" Target="slides/slide69.xml"/><Relationship Id="rId93" Type="http://schemas.openxmlformats.org/officeDocument/2006/relationships/slide" Target="slides/slide70.xml"/><Relationship Id="rId94" Type="http://schemas.openxmlformats.org/officeDocument/2006/relationships/slide" Target="slides/slide71.xml"/><Relationship Id="rId95" Type="http://schemas.openxmlformats.org/officeDocument/2006/relationships/slide" Target="slides/slide72.xml"/><Relationship Id="rId96" Type="http://schemas.openxmlformats.org/officeDocument/2006/relationships/slide" Target="slides/slide73.xml"/><Relationship Id="rId97" Type="http://schemas.openxmlformats.org/officeDocument/2006/relationships/slide" Target="slides/slide74.xml"/><Relationship Id="rId98" Type="http://schemas.openxmlformats.org/officeDocument/2006/relationships/slide" Target="slides/slide75.xml"/><Relationship Id="rId99" Type="http://schemas.openxmlformats.org/officeDocument/2006/relationships/slide" Target="slides/slide76.xml"/><Relationship Id="rId100" Type="http://schemas.openxmlformats.org/officeDocument/2006/relationships/slide" Target="slides/slide77.xml"/><Relationship Id="rId101" Type="http://schemas.openxmlformats.org/officeDocument/2006/relationships/slide" Target="slides/slide78.xml"/><Relationship Id="rId102" Type="http://schemas.openxmlformats.org/officeDocument/2006/relationships/slide" Target="slides/slide79.xml"/><Relationship Id="rId103" Type="http://schemas.openxmlformats.org/officeDocument/2006/relationships/slide" Target="slides/slide80.xml"/><Relationship Id="rId104" Type="http://schemas.openxmlformats.org/officeDocument/2006/relationships/slide" Target="slides/slide81.xml"/><Relationship Id="rId105" Type="http://schemas.openxmlformats.org/officeDocument/2006/relationships/slide" Target="slides/slide82.xml"/><Relationship Id="rId106" Type="http://schemas.openxmlformats.org/officeDocument/2006/relationships/slide" Target="slides/slide83.xml"/><Relationship Id="rId107" Type="http://schemas.openxmlformats.org/officeDocument/2006/relationships/slide" Target="slides/slide84.xml"/><Relationship Id="rId108" Type="http://schemas.openxmlformats.org/officeDocument/2006/relationships/slide" Target="slides/slide85.xml"/><Relationship Id="rId109" Type="http://schemas.openxmlformats.org/officeDocument/2006/relationships/slide" Target="slides/slide86.xml"/><Relationship Id="rId110" Type="http://schemas.openxmlformats.org/officeDocument/2006/relationships/slide" Target="slides/slide87.xml"/><Relationship Id="rId111" Type="http://schemas.openxmlformats.org/officeDocument/2006/relationships/slide" Target="slides/slide88.xml"/><Relationship Id="rId112" Type="http://schemas.openxmlformats.org/officeDocument/2006/relationships/slide" Target="slides/slide89.xml"/><Relationship Id="rId113" Type="http://schemas.openxmlformats.org/officeDocument/2006/relationships/slide" Target="slides/slide90.xml"/><Relationship Id="rId114" Type="http://schemas.openxmlformats.org/officeDocument/2006/relationships/slide" Target="slides/slide91.xml"/><Relationship Id="rId115" Type="http://schemas.openxmlformats.org/officeDocument/2006/relationships/slide" Target="slides/slide92.xml"/><Relationship Id="rId116" Type="http://schemas.openxmlformats.org/officeDocument/2006/relationships/slide" Target="slides/slide93.xml"/><Relationship Id="rId1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59A-3FEF-45BE-BF96-24F46C75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0F2-9A8B-461F-B202-9C0EEFC3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493BC-8BDB-417E-846C-A691844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9A59-C7EA-4B0D-9207-899858D1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DCC93-9DB6-48A3-B4F4-08456EBC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29552-DE2E-4527-A5D7-F75F68AA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E6E8-A537-4B0F-B359-B6726C3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5E79E-7B72-4DD4-9598-4D28F8D1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302EF-9DD5-4D06-96C3-C582528B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F71DE-2B70-432A-A9F2-8E6BF6D4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A99DC-8791-4808-A3F3-649F1607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69F-9EC0-4E46-B5EF-7F706482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3C4-56CB-451A-B569-5308202A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2A251-5AE1-449E-984B-B9FB1821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CF23-211E-49B6-8C5A-4BDAD5C9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9EA32-F9EF-48A0-8983-70D88BB7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DA745-76F0-48D6-99F2-1067744D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AE422-D5AF-4069-9882-C9F1C8AE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61A35-DB42-488D-B240-59F062D4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39D7-6695-4017-BCCD-0712FA0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E4EB6-8441-4288-A96B-5B3F6DC3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7FAA-C971-4CC4-A1FC-3560EF4B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2C6B-7D81-4A56-9DB9-AB52F8B7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A3F3-B653-4682-90C0-B4DF3810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27A7-7BDA-4551-A069-73457353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1FEDD-93A4-48B0-8515-92701D20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9F290-97A4-4CB3-BC57-6B48363A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09038-6979-4324-A36F-F742A51D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45ADE-FDB1-41C1-AF90-F12BFE03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B2BB8-6745-417A-A2DB-EAB713B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3E2F-25D2-4106-A846-06D755E8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AF46-582E-4232-8948-DA272B26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0ACBF-201D-4C24-AC9F-6459ADE0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01F1C-56E2-4170-9550-B2497CDD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9197-6D52-4FCD-95E5-A5595BE6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8C64F-5045-405B-AF11-52D6C82D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3AB54-E9C2-41B4-AC4A-7E8317F2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83C-183B-4311-B6EE-00423B62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2EA-1854-4E33-A1CF-7B46259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F62-50F0-4A91-9C92-2D67C8E8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5D4-8098-4193-A9E3-4FFD38DA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44F-4D79-4B48-BBEC-8BF780D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3DC-8896-496F-B0FF-B7757ED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89E4-5053-4379-8955-0EC067C2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5991-0EF1-4EE1-A5A0-6A0B3834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8B73-644C-4B96-B40D-B918CE42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F421-CAA2-4321-964C-71DFF73F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C62B-5418-4D61-99DB-360C941C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858B-2A32-4778-89BF-54CBEE8E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0CEB-27CB-46AC-BA2F-6321D5BC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249-4B52-4574-9141-963E1C3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D626-F68D-4115-A860-08C7F7F4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F95F-78A5-4DEA-8E3B-7CA7102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2566-A41C-4BC6-9BD2-FFF4248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DE54-E117-4992-9BCA-F6965E27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CA12-8BDB-4B37-B178-8694A1D2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5773D-EB1B-4AB7-978B-440F6D16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BA16-955D-42A4-AACF-20A87DF9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5D873-FB78-4BD0-AAEA-20683991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2E4C-7211-48C1-AC15-4AEBBE6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9CFB0-AB59-475D-8C4C-3DFEF570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C8B-97BC-4054-BAD2-A4DAEAC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554C-9ED2-4880-BB86-5A346FC5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C07B-6CC5-4824-BAC3-71A6DF5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41F0C-8764-480D-8BC2-E6D0C5C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983C-D0D7-46DF-A6EC-D1D77B55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A20B-DAE2-49C6-ADA8-E73F5B0A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AF0D-D314-4BA4-99C2-CEA0FE7A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2E0D-6E91-4707-840E-5588B4EB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5624-BE09-46B9-BE57-8DFFB562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D80A-32F5-4F7E-A0FA-0D89F28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95393-EF53-42BA-96A2-7EE1AD5D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FE39-9398-423D-96A0-52B9E69C3BBE}" type="slidenum">
              <a:rPr b="0" lang="ar-AE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 (Arabic)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 (Arabic)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(Arabic)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Times New Roman (Arabic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Times New Roman (Arabic)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9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CA2E-1499-4C16-80FA-8F008ABA4C56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4732-D55C-4CD9-8239-2247D804E914}" type="slidenum">
              <a:rPr b="0" lang="ar-AE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r" rtl="1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 algn="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 algn="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 rtl="1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 rtl="1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 rtl="1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8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r" rtl="1">
              <a:spcBef>
                <a:spcPts val="550"/>
              </a:spcBef>
              <a:buClr>
                <a:srgbClr val="0080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800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A1ED-4373-433F-8A7B-0D5C3624C996}" type="slidenum">
              <a:rPr b="0" lang="ar-A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5013-9EF4-4247-B033-371243F086CE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7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0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0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0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0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400" spc="-1" strike="noStrike">
                <a:solidFill>
                  <a:srgbClr val="ffffff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7E03-6C4D-4CF5-B916-D48D378EA9EB}" type="slidenum">
              <a:rPr b="0" lang="ar-AE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7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7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0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0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6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116000" y="1988640"/>
            <a:ext cx="662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900" spc="-1" strike="noStrike">
                <a:solidFill>
                  <a:srgbClr val="000000"/>
                </a:solidFill>
                <a:latin typeface="AL-Hor"/>
                <a:cs typeface="PT Bold Heading"/>
              </a:rPr>
              <a:t>إلى كل زوجين قبل فوات الأوان.</a:t>
            </a:r>
            <a:endParaRPr b="1" lang="en-US" sz="69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ff99">
              <a:alpha val="70000"/>
            </a:srgbClr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نسب الطلاق في بعض دول الخليج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59280" y="179388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م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5640" y="1793880"/>
            <a:ext cx="2035080" cy="143460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40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59280" y="273060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قط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55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8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059280" y="3666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كوي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55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5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59280" y="460224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بحر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5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34%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59280" y="5538960"/>
            <a:ext cx="4968720" cy="764280"/>
          </a:xfrm>
          <a:prstGeom prst="rect">
            <a:avLst/>
          </a:prstGeom>
          <a:solidFill>
            <a:srgbClr val="ffff99">
              <a:alpha val="70000"/>
            </a:srgbClr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عود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004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21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3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3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3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36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900" spc="-1" strike="noStrike">
                <a:solidFill>
                  <a:srgbClr val="ff0000"/>
                </a:solidFill>
                <a:latin typeface="Times New Roman"/>
                <a:ea typeface="Traditional Arabic Backslanted"/>
              </a:rPr>
              <a:t>14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الة طلاق يوميا في الريا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"/>
          <p:cNvGraphicFramePr/>
          <p:nvPr/>
        </p:nvGraphicFramePr>
        <p:xfrm>
          <a:off x="250920" y="228600"/>
          <a:ext cx="86421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6421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324000" y="458640"/>
            <a:ext cx="8259480" cy="2868840"/>
          </a:xfrm>
          <a:prstGeom prst="horizontalScroll">
            <a:avLst>
              <a:gd name="adj" fmla="val 25000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ثر الطلاق سيكون على كل من 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838840" y="2890800"/>
            <a:ext cx="138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30640" y="1793880"/>
            <a:ext cx="3610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ولاد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971640" y="179388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أولاً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132440" y="273060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71640" y="273060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ني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132440" y="366696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71640" y="36669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ثالث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132440" y="4602240"/>
            <a:ext cx="357480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71640" y="4622760"/>
            <a:ext cx="203508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رابع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68800" y="5538960"/>
            <a:ext cx="353844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أهل الزو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985680" y="5610240"/>
            <a:ext cx="2041560" cy="764280"/>
          </a:xfrm>
          <a:prstGeom prst="rect">
            <a:avLst/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خامس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203640" y="184464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203640" y="2781360"/>
            <a:ext cx="792000" cy="720720"/>
          </a:xfrm>
          <a:prstGeom prst="leftArrow">
            <a:avLst>
              <a:gd name="adj1" fmla="val 50000"/>
              <a:gd name="adj2" fmla="val 27473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32000" y="371628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32000" y="465300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32000" y="5589720"/>
            <a:ext cx="792360" cy="720720"/>
          </a:xfrm>
          <a:prstGeom prst="leftArrow">
            <a:avLst>
              <a:gd name="adj1" fmla="val 50000"/>
              <a:gd name="adj2" fmla="val 27485"/>
            </a:avLst>
          </a:prstGeom>
          <a:solidFill>
            <a:srgbClr val="ff505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3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3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3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3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3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3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28280" cy="6480000"/>
          </a:xfrm>
          <a:prstGeom prst="rect">
            <a:avLst/>
          </a:prstGeom>
          <a:gradFill rotWithShape="0">
            <a:gsLst>
              <a:gs pos="0">
                <a:srgbClr val="e1c11f"/>
              </a:gs>
              <a:gs pos="50000">
                <a:srgbClr val="ffffff"/>
              </a:gs>
              <a:gs pos="100000">
                <a:srgbClr val="e1c11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2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إن ابليس يضع عرشه على الماء ثُمَّ يبعث سراياه فأدناهم منزلة اعظمهم فتنة ، يجيء احدهم فيقول: فعلت كذا وكذا فيقول الشيطان له: ما صنعت شيئا ثُمَّ يجيء أخر فيقول: ما تركته حتى فرقت بينه وبين امراته، قال: فيدنيه الشيطان منه ويلتزمه ويقول: أنت أنت. 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(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PT Bold Heading"/>
              </a:rPr>
              <a:t>رواه مسلم</a:t>
            </a:r>
            <a:r>
              <a:rPr b="1" lang="ar-SA" sz="1800" spc="-1" strike="noStrike">
                <a:solidFill>
                  <a:srgbClr val="000000"/>
                </a:solidFill>
                <a:latin typeface="Hittee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Hitte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/>
          </p:nvPr>
        </p:nvSpPr>
        <p:spPr>
          <a:xfrm>
            <a:off x="142920" y="549360"/>
            <a:ext cx="75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66"/>
                </a:solidFill>
                <a:latin typeface="Hitteen"/>
                <a:cs typeface="PT Bold Heading"/>
              </a:rPr>
              <a:t>الطلاق العاطفي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416720" cy="4752720"/>
          </a:xfrm>
          <a:prstGeom prst="rect">
            <a:avLst/>
          </a:prstGeom>
          <a:ln w="76320">
            <a:solidFill>
              <a:srgbClr val="ffffcc"/>
            </a:solidFill>
            <a:prstDash val="sysDot"/>
            <a:miter/>
          </a:ln>
        </p:spPr>
      </p:pic>
      <p:sp>
        <p:nvSpPr>
          <p:cNvPr id="1034" name=""/>
          <p:cNvSpPr/>
          <p:nvPr/>
        </p:nvSpPr>
        <p:spPr>
          <a:xfrm>
            <a:off x="7020000" y="2419200"/>
            <a:ext cx="1297080" cy="649440"/>
          </a:xfrm>
          <a:prstGeom prst="rightArrow">
            <a:avLst>
              <a:gd name="adj1" fmla="val 50000"/>
              <a:gd name="adj2" fmla="val 4993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800000">
            <a:off x="1042560" y="2420640"/>
            <a:ext cx="1297080" cy="6476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43280" y="1773360"/>
            <a:ext cx="0" cy="5084640"/>
          </a:xfrm>
          <a:prstGeom prst="line">
            <a:avLst/>
          </a:prstGeom>
          <a:ln w="1872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588000" y="115920"/>
            <a:ext cx="2448000" cy="57636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 u="sng">
                <a:solidFill>
                  <a:srgbClr val="000066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100"/>
                            </p:stCondLst>
                            <p:childTnLst>
                              <p:par>
                                <p:cTn id="3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00"/>
                            </p:stCondLst>
                            <p:childTnLst>
                              <p:par>
                                <p:cTn id="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042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062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082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102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122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142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16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184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204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4038480" y="2057040"/>
            <a:ext cx="414360" cy="307800"/>
            <a:chOff x="4038480" y="2057040"/>
            <a:chExt cx="414360" cy="307800"/>
          </a:xfrm>
        </p:grpSpPr>
        <p:sp>
          <p:nvSpPr>
            <p:cNvPr id="1224" name=""/>
            <p:cNvSpPr/>
            <p:nvPr/>
          </p:nvSpPr>
          <p:spPr>
            <a:xfrm rot="16200000">
              <a:off x="4151160" y="214560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6200000">
              <a:off x="4257720" y="216972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16200000">
              <a:off x="4222800" y="218052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16200000">
              <a:off x="4153680" y="205920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16200000">
              <a:off x="4253760" y="220680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16200000">
              <a:off x="4308480" y="219996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16200000">
              <a:off x="4303440" y="22028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16200000">
              <a:off x="4228920" y="219492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16200000">
              <a:off x="4228920" y="211536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6200000">
              <a:off x="4166280" y="214956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16200000">
              <a:off x="4180680" y="204804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16200000">
              <a:off x="4280040" y="214884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 rot="16200000">
            <a:off x="3596400" y="196596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6200000">
            <a:off x="3091320" y="178452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6200000">
            <a:off x="2730600" y="206964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241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057400" y="2361960"/>
            <a:ext cx="1219320" cy="1600560"/>
            <a:chOff x="2057400" y="2361960"/>
            <a:chExt cx="1219320" cy="1600560"/>
          </a:xfrm>
        </p:grpSpPr>
        <p:sp>
          <p:nvSpPr>
            <p:cNvPr id="1260" name=""/>
            <p:cNvSpPr/>
            <p:nvPr/>
          </p:nvSpPr>
          <p:spPr>
            <a:xfrm>
              <a:off x="2209680" y="3875040"/>
              <a:ext cx="438120" cy="87480"/>
            </a:xfrm>
            <a:prstGeom prst="ellipse">
              <a:avLst/>
            </a:prstGeom>
            <a:solidFill>
              <a:srgbClr val="2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2286000" y="3548160"/>
              <a:ext cx="307800" cy="414360"/>
              <a:chOff x="2286000" y="3548160"/>
              <a:chExt cx="307800" cy="414360"/>
            </a:xfrm>
          </p:grpSpPr>
          <p:sp>
            <p:nvSpPr>
              <p:cNvPr id="1262" name=""/>
              <p:cNvSpPr/>
              <p:nvPr/>
            </p:nvSpPr>
            <p:spPr>
              <a:xfrm>
                <a:off x="2354400" y="3679920"/>
                <a:ext cx="169560" cy="131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286000" y="3880080"/>
                <a:ext cx="307800" cy="82440"/>
              </a:xfrm>
              <a:prstGeom prst="ellipse">
                <a:avLst/>
              </a:prstGeom>
              <a:solidFill>
                <a:srgbClr val="e07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89240" y="3853080"/>
                <a:ext cx="301680" cy="60480"/>
              </a:xfrm>
              <a:custGeom>
                <a:avLst/>
                <a:gdLst/>
                <a:ahLst/>
                <a:rect l="l" t="t" r="r" b="b"/>
                <a:pathLst>
                  <a:path w="381" h="76">
                    <a:moveTo>
                      <a:pt x="0" y="76"/>
                    </a:moveTo>
                    <a:lnTo>
                      <a:pt x="138" y="0"/>
                    </a:lnTo>
                    <a:lnTo>
                      <a:pt x="248" y="0"/>
                    </a:lnTo>
                    <a:lnTo>
                      <a:pt x="381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7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03360" y="3548160"/>
                <a:ext cx="73080" cy="303480"/>
              </a:xfrm>
              <a:prstGeom prst="rect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289240" y="3907080"/>
                <a:ext cx="298440" cy="11160"/>
              </a:xfrm>
              <a:custGeom>
                <a:avLst/>
                <a:gdLst/>
                <a:ahLst/>
                <a:rect l="l" t="t" r="r" b="b"/>
                <a:pathLst>
                  <a:path w="377" h="14">
                    <a:moveTo>
                      <a:pt x="23" y="0"/>
                    </a:moveTo>
                    <a:lnTo>
                      <a:pt x="0" y="14"/>
                    </a:lnTo>
                    <a:lnTo>
                      <a:pt x="377" y="14"/>
                    </a:lnTo>
                    <a:lnTo>
                      <a:pt x="358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0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00120" y="3845160"/>
                <a:ext cx="77760" cy="23760"/>
              </a:xfrm>
              <a:prstGeom prst="ellipse">
                <a:avLst/>
              </a:prstGeom>
              <a:solidFill>
                <a:srgbClr val="c06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403360" y="3840480"/>
                <a:ext cx="71640" cy="17280"/>
              </a:xfrm>
              <a:prstGeom prst="rect">
                <a:avLst/>
              </a:pr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392200" y="3687840"/>
                <a:ext cx="12960" cy="11448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11"/>
                    </a:moveTo>
                    <a:lnTo>
                      <a:pt x="16" y="0"/>
                    </a:lnTo>
                    <a:lnTo>
                      <a:pt x="16" y="144"/>
                    </a:lnTo>
                    <a:lnTo>
                      <a:pt x="0" y="13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471760" y="3687840"/>
                <a:ext cx="12600" cy="114480"/>
              </a:xfrm>
              <a:custGeom>
                <a:avLst/>
                <a:gdLst/>
                <a:ahLst/>
                <a:rect l="l" t="t" r="r" b="b"/>
                <a:pathLst>
                  <a:path w="17" h="144">
                    <a:moveTo>
                      <a:pt x="17" y="11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17" y="136"/>
                    </a:lnTo>
                    <a:lnTo>
                      <a:pt x="17" y="11"/>
                    </a:lnTo>
                    <a:close/>
                  </a:path>
                </a:pathLst>
              </a:custGeom>
              <a:solidFill>
                <a:srgbClr val="c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376360" y="3691080"/>
                <a:ext cx="139680" cy="109800"/>
              </a:xfrm>
              <a:prstGeom prst="ellipse">
                <a:avLst/>
              </a:pr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432160" y="3554640"/>
                <a:ext cx="34920" cy="306360"/>
              </a:xfrm>
              <a:custGeom>
                <a:avLst/>
                <a:gdLst/>
                <a:ahLst/>
                <a:rect l="l" t="t" r="r" b="b"/>
                <a:pathLst>
                  <a:path w="45" h="386">
                    <a:moveTo>
                      <a:pt x="45" y="0"/>
                    </a:moveTo>
                    <a:lnTo>
                      <a:pt x="0" y="0"/>
                    </a:lnTo>
                    <a:lnTo>
                      <a:pt x="0" y="385"/>
                    </a:lnTo>
                    <a:lnTo>
                      <a:pt x="17" y="386"/>
                    </a:lnTo>
                    <a:lnTo>
                      <a:pt x="35" y="382"/>
                    </a:lnTo>
                    <a:lnTo>
                      <a:pt x="45" y="37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351160" y="3864240"/>
                <a:ext cx="225360" cy="76320"/>
              </a:xfrm>
              <a:custGeom>
                <a:avLst/>
                <a:gdLst/>
                <a:ahLst/>
                <a:rect l="l" t="t" r="r" b="b"/>
                <a:pathLst>
                  <a:path w="284" h="97">
                    <a:moveTo>
                      <a:pt x="82" y="12"/>
                    </a:moveTo>
                    <a:lnTo>
                      <a:pt x="104" y="15"/>
                    </a:lnTo>
                    <a:lnTo>
                      <a:pt x="123" y="16"/>
                    </a:lnTo>
                    <a:lnTo>
                      <a:pt x="144" y="14"/>
                    </a:lnTo>
                    <a:lnTo>
                      <a:pt x="159" y="8"/>
                    </a:lnTo>
                    <a:lnTo>
                      <a:pt x="169" y="0"/>
                    </a:lnTo>
                    <a:lnTo>
                      <a:pt x="284" y="63"/>
                    </a:lnTo>
                    <a:lnTo>
                      <a:pt x="273" y="73"/>
                    </a:lnTo>
                    <a:lnTo>
                      <a:pt x="252" y="84"/>
                    </a:lnTo>
                    <a:lnTo>
                      <a:pt x="235" y="88"/>
                    </a:lnTo>
                    <a:lnTo>
                      <a:pt x="214" y="93"/>
                    </a:lnTo>
                    <a:lnTo>
                      <a:pt x="183" y="96"/>
                    </a:lnTo>
                    <a:lnTo>
                      <a:pt x="143" y="97"/>
                    </a:lnTo>
                    <a:lnTo>
                      <a:pt x="104" y="97"/>
                    </a:lnTo>
                    <a:lnTo>
                      <a:pt x="64" y="96"/>
                    </a:lnTo>
                    <a:lnTo>
                      <a:pt x="30" y="91"/>
                    </a:lnTo>
                    <a:lnTo>
                      <a:pt x="0" y="78"/>
                    </a:lnTo>
                    <a:lnTo>
                      <a:pt x="82" y="12"/>
                    </a:lnTo>
                    <a:close/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"/>
            <p:cNvSpPr/>
            <p:nvPr/>
          </p:nvSpPr>
          <p:spPr>
            <a:xfrm>
              <a:off x="2209680" y="3222360"/>
              <a:ext cx="480960" cy="358560"/>
            </a:xfrm>
            <a:prstGeom prst="ellipse">
              <a:avLst/>
            </a:prstGeom>
            <a:solidFill>
              <a:srgbClr val="ff99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057400" y="2717280"/>
              <a:ext cx="776160" cy="711360"/>
            </a:xfrm>
            <a:custGeom>
              <a:avLst/>
              <a:gdLst/>
              <a:ahLst/>
              <a:rect l="l" t="t" r="r" b="b"/>
              <a:pathLst>
                <a:path w="978" h="895">
                  <a:moveTo>
                    <a:pt x="0" y="0"/>
                  </a:moveTo>
                  <a:lnTo>
                    <a:pt x="198" y="895"/>
                  </a:lnTo>
                  <a:lnTo>
                    <a:pt x="783" y="895"/>
                  </a:lnTo>
                  <a:lnTo>
                    <a:pt x="9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57400" y="2688840"/>
              <a:ext cx="777960" cy="130320"/>
            </a:xfrm>
            <a:prstGeom prst="ellipse">
              <a:avLst/>
            </a:prstGeom>
            <a:solidFill>
              <a:srgbClr val="ffa04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514600" y="2743200"/>
              <a:ext cx="330120" cy="762120"/>
            </a:xfrm>
            <a:custGeom>
              <a:avLst/>
              <a:gdLst/>
              <a:ahLst/>
              <a:rect l="l" t="t" r="r" b="b"/>
              <a:pathLst>
                <a:path w="415" h="961">
                  <a:moveTo>
                    <a:pt x="0" y="961"/>
                  </a:moveTo>
                  <a:lnTo>
                    <a:pt x="51" y="954"/>
                  </a:lnTo>
                  <a:lnTo>
                    <a:pt x="103" y="940"/>
                  </a:lnTo>
                  <a:lnTo>
                    <a:pt x="151" y="913"/>
                  </a:lnTo>
                  <a:lnTo>
                    <a:pt x="199" y="879"/>
                  </a:lnTo>
                  <a:lnTo>
                    <a:pt x="223" y="837"/>
                  </a:lnTo>
                  <a:lnTo>
                    <a:pt x="243" y="779"/>
                  </a:lnTo>
                  <a:lnTo>
                    <a:pt x="261" y="721"/>
                  </a:lnTo>
                  <a:lnTo>
                    <a:pt x="274" y="669"/>
                  </a:lnTo>
                  <a:lnTo>
                    <a:pt x="292" y="604"/>
                  </a:lnTo>
                  <a:lnTo>
                    <a:pt x="415" y="0"/>
                  </a:lnTo>
                  <a:lnTo>
                    <a:pt x="364" y="18"/>
                  </a:lnTo>
                  <a:lnTo>
                    <a:pt x="312" y="28"/>
                  </a:lnTo>
                  <a:lnTo>
                    <a:pt x="216" y="38"/>
                  </a:lnTo>
                  <a:lnTo>
                    <a:pt x="106" y="45"/>
                  </a:lnTo>
                  <a:lnTo>
                    <a:pt x="110" y="680"/>
                  </a:lnTo>
                  <a:lnTo>
                    <a:pt x="106" y="762"/>
                  </a:lnTo>
                  <a:lnTo>
                    <a:pt x="99" y="824"/>
                  </a:lnTo>
                  <a:lnTo>
                    <a:pt x="86" y="879"/>
                  </a:lnTo>
                  <a:lnTo>
                    <a:pt x="58" y="920"/>
                  </a:lnTo>
                  <a:lnTo>
                    <a:pt x="0" y="961"/>
                  </a:lnTo>
                  <a:close/>
                </a:path>
              </a:pathLst>
            </a:custGeom>
            <a:solidFill>
              <a:srgbClr val="ff99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57400" y="2706840"/>
              <a:ext cx="747720" cy="11268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e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 rot="16200000">
              <a:off x="2933640" y="2247120"/>
              <a:ext cx="228600" cy="457200"/>
            </a:xfrm>
            <a:custGeom>
              <a:avLst/>
              <a:gdLst>
                <a:gd name="textAreaLeft" fmla="*/ 53640 w 228600"/>
                <a:gd name="textAreaRight" fmla="*/ 174960 w 228600"/>
                <a:gd name="textAreaTop" fmla="*/ 53640 h 457200"/>
                <a:gd name="textAreaBottom" fmla="*/ 286920 h 4572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380880" y="3962520"/>
            <a:ext cx="8382240" cy="3333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936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1004760" y="3478320"/>
            <a:ext cx="307800" cy="414360"/>
            <a:chOff x="1004760" y="3478320"/>
            <a:chExt cx="307800" cy="414360"/>
          </a:xfrm>
        </p:grpSpPr>
        <p:sp>
          <p:nvSpPr>
            <p:cNvPr id="1283" name=""/>
            <p:cNvSpPr/>
            <p:nvPr/>
          </p:nvSpPr>
          <p:spPr>
            <a:xfrm>
              <a:off x="10731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0047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0080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1221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080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188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1221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109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905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951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1509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0699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9111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21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9223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621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1541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47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3652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2376360" y="3478320"/>
            <a:ext cx="307800" cy="414360"/>
            <a:chOff x="2376360" y="3478320"/>
            <a:chExt cx="307800" cy="414360"/>
          </a:xfrm>
        </p:grpSpPr>
        <p:sp>
          <p:nvSpPr>
            <p:cNvPr id="1303" name=""/>
            <p:cNvSpPr/>
            <p:nvPr/>
          </p:nvSpPr>
          <p:spPr>
            <a:xfrm>
              <a:off x="24447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3763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796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4937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796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4904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937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4825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621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667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5225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4415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2827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1337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2939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1337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257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1463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736800" y="3813120"/>
            <a:ext cx="43848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747960" y="3478320"/>
            <a:ext cx="307800" cy="414360"/>
            <a:chOff x="3747960" y="3478320"/>
            <a:chExt cx="307800" cy="414360"/>
          </a:xfrm>
        </p:grpSpPr>
        <p:sp>
          <p:nvSpPr>
            <p:cNvPr id="1323" name=""/>
            <p:cNvSpPr/>
            <p:nvPr/>
          </p:nvSpPr>
          <p:spPr>
            <a:xfrm>
              <a:off x="381636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4796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5120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86532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5120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86208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86532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85416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3372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3832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9412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1312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3654360" y="3154320"/>
            <a:ext cx="480960" cy="358920"/>
          </a:xfrm>
          <a:prstGeom prst="ellipse">
            <a:avLst/>
          </a:prstGeom>
          <a:solidFill>
            <a:srgbClr val="000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505320" y="2666880"/>
            <a:ext cx="77616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66552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505320" y="2597040"/>
            <a:ext cx="77760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89736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1792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1847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5195880" y="3478320"/>
            <a:ext cx="307800" cy="414360"/>
            <a:chOff x="5195880" y="3478320"/>
            <a:chExt cx="307800" cy="414360"/>
          </a:xfrm>
        </p:grpSpPr>
        <p:sp>
          <p:nvSpPr>
            <p:cNvPr id="1343" name=""/>
            <p:cNvSpPr/>
            <p:nvPr/>
          </p:nvSpPr>
          <p:spPr>
            <a:xfrm>
              <a:off x="52642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958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991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132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991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100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132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20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816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2862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420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2610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51022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528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134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3452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9658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5563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6567480" y="3478320"/>
            <a:ext cx="307800" cy="414360"/>
            <a:chOff x="6567480" y="3478320"/>
            <a:chExt cx="307800" cy="414360"/>
          </a:xfrm>
        </p:grpSpPr>
        <p:sp>
          <p:nvSpPr>
            <p:cNvPr id="1363" name=""/>
            <p:cNvSpPr/>
            <p:nvPr/>
          </p:nvSpPr>
          <p:spPr>
            <a:xfrm>
              <a:off x="66358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674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5707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6848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707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6816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6848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736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7532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6578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7136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6326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64738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3244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850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244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168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3374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927920" y="3813120"/>
            <a:ext cx="438120" cy="87480"/>
          </a:xfrm>
          <a:prstGeom prst="ellipse">
            <a:avLst/>
          </a:prstGeom>
          <a:solidFill>
            <a:srgbClr val="201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7939080" y="3478320"/>
            <a:ext cx="307800" cy="414360"/>
            <a:chOff x="7939080" y="3478320"/>
            <a:chExt cx="307800" cy="414360"/>
          </a:xfrm>
        </p:grpSpPr>
        <p:sp>
          <p:nvSpPr>
            <p:cNvPr id="1383" name=""/>
            <p:cNvSpPr/>
            <p:nvPr/>
          </p:nvSpPr>
          <p:spPr>
            <a:xfrm>
              <a:off x="8007480" y="3610080"/>
              <a:ext cx="169560" cy="131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39080" y="3810240"/>
              <a:ext cx="307800" cy="82440"/>
            </a:xfrm>
            <a:prstGeom prst="ellipse">
              <a:avLst/>
            </a:prstGeom>
            <a:solidFill>
              <a:srgbClr val="e07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42320" y="3783240"/>
              <a:ext cx="301680" cy="60480"/>
            </a:xfrm>
            <a:custGeom>
              <a:avLst/>
              <a:gdLst/>
              <a:ahLst/>
              <a:rect l="l" t="t" r="r" b="b"/>
              <a:pathLst>
                <a:path w="381" h="76">
                  <a:moveTo>
                    <a:pt x="0" y="76"/>
                  </a:moveTo>
                  <a:lnTo>
                    <a:pt x="138" y="0"/>
                  </a:lnTo>
                  <a:lnTo>
                    <a:pt x="248" y="0"/>
                  </a:lnTo>
                  <a:lnTo>
                    <a:pt x="381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0700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056440" y="3478320"/>
              <a:ext cx="73080" cy="303480"/>
            </a:xfrm>
            <a:prstGeom prst="rect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942320" y="3837240"/>
              <a:ext cx="298440" cy="11160"/>
            </a:xfrm>
            <a:custGeom>
              <a:avLst/>
              <a:gdLst/>
              <a:ahLst/>
              <a:rect l="l" t="t" r="r" b="b"/>
              <a:pathLst>
                <a:path w="377" h="14">
                  <a:moveTo>
                    <a:pt x="23" y="0"/>
                  </a:moveTo>
                  <a:lnTo>
                    <a:pt x="0" y="14"/>
                  </a:lnTo>
                  <a:lnTo>
                    <a:pt x="377" y="14"/>
                  </a:lnTo>
                  <a:lnTo>
                    <a:pt x="358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0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53200" y="3775320"/>
              <a:ext cx="77760" cy="23760"/>
            </a:xfrm>
            <a:prstGeom prst="ellipse">
              <a:avLst/>
            </a:prstGeom>
            <a:solidFill>
              <a:srgbClr val="c06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056440" y="3770640"/>
              <a:ext cx="71640" cy="17280"/>
            </a:xfrm>
            <a:prstGeom prst="rect">
              <a:avLst/>
            </a:pr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045280" y="3618000"/>
              <a:ext cx="12960" cy="114480"/>
            </a:xfrm>
            <a:custGeom>
              <a:avLst/>
              <a:gdLst/>
              <a:ahLst/>
              <a:rect l="l" t="t" r="r" b="b"/>
              <a:pathLst>
                <a:path w="16" h="144">
                  <a:moveTo>
                    <a:pt x="0" y="11"/>
                  </a:moveTo>
                  <a:lnTo>
                    <a:pt x="16" y="0"/>
                  </a:lnTo>
                  <a:lnTo>
                    <a:pt x="16" y="144"/>
                  </a:lnTo>
                  <a:lnTo>
                    <a:pt x="0" y="13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124840" y="3618000"/>
              <a:ext cx="12600" cy="114480"/>
            </a:xfrm>
            <a:custGeom>
              <a:avLst/>
              <a:gdLst/>
              <a:ahLst/>
              <a:rect l="l" t="t" r="r" b="b"/>
              <a:pathLst>
                <a:path w="17" h="144">
                  <a:moveTo>
                    <a:pt x="17" y="11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7" y="136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029440" y="3621240"/>
              <a:ext cx="139680" cy="10980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085240" y="3484800"/>
              <a:ext cx="34920" cy="306360"/>
            </a:xfrm>
            <a:custGeom>
              <a:avLst/>
              <a:gdLst/>
              <a:ahLst/>
              <a:rect l="l" t="t" r="r" b="b"/>
              <a:pathLst>
                <a:path w="45" h="386">
                  <a:moveTo>
                    <a:pt x="45" y="0"/>
                  </a:moveTo>
                  <a:lnTo>
                    <a:pt x="0" y="0"/>
                  </a:lnTo>
                  <a:lnTo>
                    <a:pt x="0" y="385"/>
                  </a:lnTo>
                  <a:lnTo>
                    <a:pt x="17" y="386"/>
                  </a:lnTo>
                  <a:lnTo>
                    <a:pt x="35" y="382"/>
                  </a:lnTo>
                  <a:lnTo>
                    <a:pt x="45" y="37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004240" y="3794400"/>
              <a:ext cx="225360" cy="76320"/>
            </a:xfrm>
            <a:custGeom>
              <a:avLst/>
              <a:gdLst/>
              <a:ahLst/>
              <a:rect l="l" t="t" r="r" b="b"/>
              <a:pathLst>
                <a:path w="284" h="97">
                  <a:moveTo>
                    <a:pt x="82" y="12"/>
                  </a:moveTo>
                  <a:lnTo>
                    <a:pt x="104" y="15"/>
                  </a:lnTo>
                  <a:lnTo>
                    <a:pt x="123" y="16"/>
                  </a:lnTo>
                  <a:lnTo>
                    <a:pt x="144" y="14"/>
                  </a:lnTo>
                  <a:lnTo>
                    <a:pt x="159" y="8"/>
                  </a:lnTo>
                  <a:lnTo>
                    <a:pt x="169" y="0"/>
                  </a:lnTo>
                  <a:lnTo>
                    <a:pt x="284" y="63"/>
                  </a:lnTo>
                  <a:lnTo>
                    <a:pt x="273" y="73"/>
                  </a:lnTo>
                  <a:lnTo>
                    <a:pt x="252" y="84"/>
                  </a:lnTo>
                  <a:lnTo>
                    <a:pt x="235" y="88"/>
                  </a:lnTo>
                  <a:lnTo>
                    <a:pt x="214" y="93"/>
                  </a:lnTo>
                  <a:lnTo>
                    <a:pt x="183" y="96"/>
                  </a:lnTo>
                  <a:lnTo>
                    <a:pt x="143" y="97"/>
                  </a:lnTo>
                  <a:lnTo>
                    <a:pt x="104" y="97"/>
                  </a:lnTo>
                  <a:lnTo>
                    <a:pt x="64" y="96"/>
                  </a:lnTo>
                  <a:lnTo>
                    <a:pt x="30" y="91"/>
                  </a:lnTo>
                  <a:lnTo>
                    <a:pt x="0" y="78"/>
                  </a:lnTo>
                  <a:lnTo>
                    <a:pt x="82" y="12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7845480" y="3154320"/>
            <a:ext cx="480960" cy="358920"/>
          </a:xfrm>
          <a:prstGeom prst="ellipse">
            <a:avLst/>
          </a:prstGeom>
          <a:solidFill>
            <a:srgbClr val="ff80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696080" y="2666880"/>
            <a:ext cx="776520" cy="711360"/>
          </a:xfrm>
          <a:custGeom>
            <a:avLst/>
            <a:gdLst/>
            <a:ahLst/>
            <a:rect l="l" t="t" r="r" b="b"/>
            <a:pathLst>
              <a:path w="978" h="895">
                <a:moveTo>
                  <a:pt x="0" y="0"/>
                </a:moveTo>
                <a:lnTo>
                  <a:pt x="198" y="895"/>
                </a:lnTo>
                <a:lnTo>
                  <a:pt x="783" y="895"/>
                </a:lnTo>
                <a:lnTo>
                  <a:pt x="97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856640" y="3370320"/>
            <a:ext cx="461880" cy="14400"/>
          </a:xfrm>
          <a:custGeom>
            <a:avLst/>
            <a:gdLst/>
            <a:ahLst/>
            <a:rect l="l" t="t" r="r" b="b"/>
            <a:pathLst>
              <a:path w="581" h="18">
                <a:moveTo>
                  <a:pt x="0" y="0"/>
                </a:moveTo>
                <a:lnTo>
                  <a:pt x="2" y="18"/>
                </a:lnTo>
                <a:lnTo>
                  <a:pt x="575" y="18"/>
                </a:lnTo>
                <a:lnTo>
                  <a:pt x="58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696080" y="2597040"/>
            <a:ext cx="777960" cy="130320"/>
          </a:xfrm>
          <a:prstGeom prst="ellipse">
            <a:avLst/>
          </a:prstGeom>
          <a:solidFill>
            <a:srgbClr val="ffa04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8088480" y="2712960"/>
            <a:ext cx="330120" cy="762120"/>
          </a:xfrm>
          <a:custGeom>
            <a:avLst/>
            <a:gdLst/>
            <a:ahLst/>
            <a:rect l="l" t="t" r="r" b="b"/>
            <a:pathLst>
              <a:path w="415" h="961">
                <a:moveTo>
                  <a:pt x="0" y="961"/>
                </a:moveTo>
                <a:lnTo>
                  <a:pt x="51" y="954"/>
                </a:lnTo>
                <a:lnTo>
                  <a:pt x="103" y="940"/>
                </a:lnTo>
                <a:lnTo>
                  <a:pt x="151" y="913"/>
                </a:lnTo>
                <a:lnTo>
                  <a:pt x="199" y="879"/>
                </a:lnTo>
                <a:lnTo>
                  <a:pt x="223" y="837"/>
                </a:lnTo>
                <a:lnTo>
                  <a:pt x="243" y="779"/>
                </a:lnTo>
                <a:lnTo>
                  <a:pt x="261" y="721"/>
                </a:lnTo>
                <a:lnTo>
                  <a:pt x="274" y="669"/>
                </a:lnTo>
                <a:lnTo>
                  <a:pt x="292" y="604"/>
                </a:lnTo>
                <a:lnTo>
                  <a:pt x="415" y="0"/>
                </a:lnTo>
                <a:lnTo>
                  <a:pt x="364" y="18"/>
                </a:lnTo>
                <a:lnTo>
                  <a:pt x="312" y="28"/>
                </a:lnTo>
                <a:lnTo>
                  <a:pt x="216" y="38"/>
                </a:lnTo>
                <a:lnTo>
                  <a:pt x="106" y="45"/>
                </a:lnTo>
                <a:lnTo>
                  <a:pt x="110" y="680"/>
                </a:lnTo>
                <a:lnTo>
                  <a:pt x="106" y="762"/>
                </a:lnTo>
                <a:lnTo>
                  <a:pt x="99" y="824"/>
                </a:lnTo>
                <a:lnTo>
                  <a:pt x="86" y="879"/>
                </a:lnTo>
                <a:lnTo>
                  <a:pt x="58" y="920"/>
                </a:lnTo>
                <a:lnTo>
                  <a:pt x="0" y="961"/>
                </a:lnTo>
                <a:close/>
              </a:path>
            </a:pathLst>
          </a:custGeom>
          <a:solidFill>
            <a:srgbClr val="ffa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709040" y="2606760"/>
            <a:ext cx="747720" cy="112680"/>
          </a:xfrm>
          <a:prstGeom prst="ellipse">
            <a:avLst/>
          </a:prstGeom>
          <a:solidFill>
            <a:srgbClr val="c06000"/>
          </a:solidFill>
          <a:ln w="7920">
            <a:solidFill>
              <a:srgbClr val="e07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0" name=""/>
          <p:cNvGraphicFramePr/>
          <p:nvPr/>
        </p:nvGraphicFramePr>
        <p:xfrm>
          <a:off x="1403280" y="404640"/>
          <a:ext cx="6408720" cy="6120000"/>
        </p:xfrm>
        <a:graphic>
          <a:graphicData uri="http://schemas.openxmlformats.org/drawingml/2006/table">
            <a:tbl>
              <a:tblPr/>
              <a:tblGrid>
                <a:gridCol w="1602000"/>
                <a:gridCol w="1603080"/>
                <a:gridCol w="1602000"/>
                <a:gridCol w="1601640"/>
              </a:tblGrid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AL-Mateen"/>
              </a:rPr>
              <a:t>حركة يسيرة قد تعيد ترتيب حياتنا بشكل أفضل 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42920" y="1046160"/>
            <a:ext cx="8893080" cy="2130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fb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آثار                 المشاكل الزوج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4788000" y="522360"/>
            <a:ext cx="302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6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760"/>
                            </p:stCondLst>
                            <p:childTnLst>
                              <p:par>
                                <p:cTn id="37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250" autoRev="1" fill="hold"/>
                                        <p:tgtEl>
                                          <p:spTgt spid="14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 rtl="1">
              <a:lnSpc>
                <a:spcPct val="10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600" spc="-1" strike="noStrike">
                <a:solidFill>
                  <a:srgbClr val="800080"/>
                </a:solidFill>
                <a:latin typeface="Traditional Arabic Backslanted"/>
                <a:cs typeface="Traditional Arabic Backslanted"/>
              </a:rPr>
              <a:t>انعدام السكن</a:t>
            </a:r>
            <a:endParaRPr b="0" lang="en-US" sz="15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69105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كمون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ستثارة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اصطدا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تشار النزا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لبحث عن حلفاء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 rtl="1">
              <a:lnSpc>
                <a:spcPct val="145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Comic Sans MS"/>
                <a:cs typeface="PT Bold Heading"/>
              </a:rPr>
              <a:t>مرحلة انهاء المشكلة أو الزواج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title"/>
          </p:nvPr>
        </p:nvSpPr>
        <p:spPr>
          <a:xfrm>
            <a:off x="941040" y="260280"/>
            <a:ext cx="6870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0066"/>
                </a:solidFill>
                <a:uFillTx/>
                <a:latin typeface="Comic Sans MS"/>
                <a:cs typeface="PT Bold Heading"/>
              </a:rPr>
              <a:t>مراحل المشكلة الاسرية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98" fill="hold"/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98" fill="hold"/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98" fill="hold"/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98" fill="hold"/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98" fill="hold"/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98" fill="hold"/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11280" y="136440"/>
            <a:ext cx="7921440" cy="11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66"/>
                </a:solidFill>
                <a:uFillTx/>
                <a:latin typeface="Traditional Arabic Backslanted"/>
                <a:cs typeface="PT Bold Heading"/>
              </a:rPr>
              <a:t>اصناف الأزواج تجاه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799308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حديد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الوصول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إلى حل المشكلة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وضع آلية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ل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just" rtl="1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صعوبة في 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  <a:cs typeface="Traditional Arabic"/>
              </a:rPr>
              <a:t>تنفيذ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Traditional Arabic"/>
              </a:rPr>
              <a:t> حل المشكلة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قواعد ومنطلقات  للتعامل </a:t>
            </a:r>
            <a:br>
              <a:rPr sz="7000"/>
            </a:br>
            <a:r>
              <a:rPr b="1" lang="ar-SA" sz="7000" spc="-1" strike="noStrike">
                <a:solidFill>
                  <a:srgbClr val="000000"/>
                </a:solidFill>
                <a:latin typeface="Hitteen"/>
                <a:cs typeface="PT Bold Heading"/>
              </a:rPr>
              <a:t>مع المشكلات الأسري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66 0.01574 C 0.00486 0.00972 0.01667 0.00278 0.03021 -0.00787 C 0.06806 -0.03842 0.09375 -0.07824 0.08542 -0.09491 C 0.07761 -0.11319 0.03959 -0.10185 0.00174 -0.07129 C -0.01823 -0.05532 -0.0342 -0.0375 -0.04427 -0.02222 C -0.0533 -0.01088 -0.06076 0.00162 -0.0684 0.01713 C -0.09323 0.06736 -0.10278 0.11806 -0.0901 0.12917 C -0.07778 0.14005 -0.04653 0.10857 -0.0217 0.05834 C -0.01007 0.03496 -0.00156 0.01042 0.00191 -0.00856 C 0.00677 -0.02361 0.00972 -0.04166 0.01198 -0.06041 C 0.01806 -0.12083 0.01094 -0.17199 -0.00486 -0.1743 C -0.02014 -0.17685 -0.03698 -0.13078 -0.04288 -0.0706 C -0.0467 -0.04352 -0.04635 -0.01759 -0.04323 0.00255 C -0.04201 0.01968 -0.03941 0.03634 -0.03437 0.05509 C -0.02031 0.11366 0.00243 0.15463 0.01754 0.14861 C 0.0316 0.1419 0.03316 0.09051 0.0184 0.03287 C 0.0125 0.00857 0.00417 -0.01319 -0.0033 -0.0294 C -0.01007 -0.04491 -0.01996 -0.06157 -0.0316 -0.07662 C -0.06267 -0.11991 -0.096 -0.14467 -0.10729 -0.12893 C -0.11892 -0.11504 -0.10243 -0.06875 -0.07135 -0.02523 C -0.05694 -0.00602 -0.04201 0.00996 -0.02899 0.01991 C -0.01805 0.0294 -0.00538 0.0375 0.00868 0.04537 C 0.05087 0.06644 0.09011 0.06736 0.09497 0.04769 C 0.10087 0.02871 0.07136 -0.0037 0.029 -0.02477 C 0.00886 -0.03449 -0.01094 -0.04097 -0.02604 -0.04143 C -0.03871 -0.04282 -0.05173 -0.04305 -0.06666 -0.0419 C -0.11198 -0.03541 -0.14705 -0.01528 -0.14514 0.00533 C -0.14427 0.02547 -0.10625 0.03797 -0.0618 0.03264 C -0.03993 0.02963 -0.02048 0.02431 -0.0066 0.01574 Z">
                                      <p:cBhvr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806472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0000"/>
          </a:bodyPr>
          <a:p>
            <a:pPr indent="0" algn="ctr" rtl="1">
              <a:lnSpc>
                <a:spcPct val="90000"/>
              </a:lnSpc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3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كلة ليس في وجود المشكلة وإنما في إدارتها والتعامل معها</a:t>
            </a:r>
            <a:endParaRPr b="0" lang="en-US" sz="7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7993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1000"/>
          </a:bodyPr>
          <a:p>
            <a:pPr marL="209160" indent="0" algn="ctr" rtl="1">
              <a:lnSpc>
                <a:spcPct val="90000"/>
              </a:lnSpc>
              <a:spcBef>
                <a:spcPts val="32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1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شاكل درجات</a:t>
            </a:r>
            <a:endParaRPr b="0" lang="en-US" sz="1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993080" cy="40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lnSpc>
                <a:spcPct val="11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كل مرحلة في الزواج مشاكلها الخاصة بها</a:t>
            </a:r>
            <a:endParaRPr b="0" lang="en-US" sz="9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/>
          </p:nvPr>
        </p:nvSpPr>
        <p:spPr>
          <a:xfrm>
            <a:off x="684360" y="1630440"/>
            <a:ext cx="8316720" cy="403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78000"/>
          </a:bodyPr>
          <a:p>
            <a:pPr marL="267480" indent="0" algn="ct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على مستوى قدرتك واستطاعتك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2124000" y="1916280"/>
            <a:ext cx="4680000" cy="21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Times New Roman"/>
                <a:cs typeface="DecoType Naskh Swashes"/>
              </a:rPr>
              <a:t>مدخل</a:t>
            </a:r>
            <a:endParaRPr b="0" i="1" lang="en-US" sz="1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5257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4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5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52)"/>
                                      </p:to>
                                    </p:set>
                                    <p:set>
                                      <p:cBhvr>
                                        <p:cTn id="16" dur="1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8209080" cy="23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66000"/>
          </a:bodyPr>
          <a:p>
            <a:pPr marL="226080" indent="0" algn="r" rtl="1">
              <a:lnSpc>
                <a:spcPct val="10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لا تتوقع الحل الفوري</a:t>
            </a:r>
            <a:endParaRPr b="0" lang="en-US" sz="10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561440" cy="20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0000"/>
          </a:bodyPr>
          <a:p>
            <a:pPr marL="274320" indent="0" algn="ctr" rtl="1">
              <a:lnSpc>
                <a:spcPct val="80000"/>
              </a:lnSpc>
              <a:spcBef>
                <a:spcPts val="30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2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هي لك خير</a:t>
            </a:r>
            <a:endParaRPr b="0" lang="en-US" sz="1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"/>
          <p:cNvSpPr/>
          <p:nvPr/>
        </p:nvSpPr>
        <p:spPr>
          <a:xfrm>
            <a:off x="7451640" y="189000"/>
            <a:ext cx="151128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r" rtl="1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المنطلقات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187280" y="4797360"/>
            <a:ext cx="75614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 rtl="1">
              <a:lnSpc>
                <a:spcPct val="80000"/>
              </a:lnSpc>
              <a:spcBef>
                <a:spcPts val="29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800" spc="-1" strike="noStrike">
                <a:solidFill>
                  <a:srgbClr val="000000"/>
                </a:solidFill>
                <a:latin typeface="Traditional Arabic Backslanted"/>
                <a:cs typeface="Traditional Arabic"/>
              </a:rPr>
              <a:t>ولكن بشرط ...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6443640" y="115920"/>
            <a:ext cx="2664000" cy="1655640"/>
          </a:xfrm>
          <a:prstGeom prst="wedgeEllipseCallout">
            <a:avLst>
              <a:gd name="adj1" fmla="val 37606"/>
              <a:gd name="adj2" fmla="val 138592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قد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240000" y="189000"/>
            <a:ext cx="2664000" cy="1655640"/>
          </a:xfrm>
          <a:prstGeom prst="wedgeEllipseCallout">
            <a:avLst>
              <a:gd name="adj1" fmla="val -180"/>
              <a:gd name="adj2" fmla="val 89884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مح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6360" y="115920"/>
            <a:ext cx="2664000" cy="1655640"/>
          </a:xfrm>
          <a:prstGeom prst="wedgeEllipseCallout">
            <a:avLst>
              <a:gd name="adj1" fmla="val -37902"/>
              <a:gd name="adj2" fmla="val 13418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خبرة وبناء ل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360" y="5086440"/>
            <a:ext cx="2664000" cy="1655640"/>
          </a:xfrm>
          <a:prstGeom prst="wedgeEllipseCallout">
            <a:avLst>
              <a:gd name="adj1" fmla="val -34268"/>
              <a:gd name="adj2" fmla="val -135620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مؤقت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443640" y="5086440"/>
            <a:ext cx="2664000" cy="1655640"/>
          </a:xfrm>
          <a:prstGeom prst="wedgeEllipseCallout">
            <a:avLst>
              <a:gd name="adj1" fmla="val 37782"/>
              <a:gd name="adj2" fmla="val -139069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تذكر النع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40000" y="5013360"/>
            <a:ext cx="2664000" cy="1655640"/>
          </a:xfrm>
          <a:prstGeom prst="wedgeEllipseCallout">
            <a:avLst>
              <a:gd name="adj1" fmla="val -180"/>
              <a:gd name="adj2" fmla="val -91037"/>
            </a:avLst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تعرف على ال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7280" y="2532240"/>
            <a:ext cx="8569440" cy="1800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66"/>
                </a:solidFill>
                <a:latin typeface="Times New Roman"/>
                <a:cs typeface="PT Bold Heading"/>
              </a:rPr>
              <a:t>النظرة للمشكل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5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5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32000" y="404640"/>
            <a:ext cx="6408720" cy="1297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قواعد التعامل مع المشكل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بادرة لحل المشاك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احتو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مسك عليك لسا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عالج المرض وليس العر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التواصل اللفظ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632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 u="sng">
                <a:solidFill>
                  <a:srgbClr val="400040"/>
                </a:solidFill>
                <a:uFillTx/>
                <a:latin typeface="SYMBOLS A"/>
                <a:cs typeface="PT Bold Heading"/>
              </a:rPr>
              <a:t>ماذا نتوقع أن نتعرف عليه ؟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طبيعة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راحل المشكلات الزوجية.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منطلقات في التعامل مع المشاكل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اصناف الأزواج تجاه المشكلات الزوجية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267480" indent="-267480" algn="r" rtl="1">
              <a:lnSpc>
                <a:spcPct val="130000"/>
              </a:lnSpc>
              <a:spcBef>
                <a:spcPts val="1001"/>
              </a:spcBef>
              <a:buClr>
                <a:srgbClr val="ff66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00040"/>
                </a:solidFill>
                <a:latin typeface="Arial"/>
                <a:ea typeface="PT Bold Heading"/>
              </a:rPr>
              <a:t>  قواعد في التعامل مع المشكلات الزوجية.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9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998"/>
                            </p:stCondLst>
                            <p:childTnLst>
                              <p:par>
                                <p:cTn id="3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9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7608960" cy="17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000000"/>
                </a:solidFill>
                <a:uFillTx/>
                <a:latin typeface="Tahoma"/>
                <a:ea typeface="PT Bold Heading"/>
              </a:rPr>
              <a:t>  تمرين طي الورق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rot="19371000">
            <a:off x="1315800" y="4079520"/>
            <a:ext cx="1152360" cy="295128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96080 h 2951280"/>
              <a:gd name="textAreaBottom" fmla="*/ 210888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62" stAng="-5400000" swAng="-5400000"/>
                <a:lnTo>
                  <a:pt x="0" y="11803"/>
                </a:lnTo>
                <a:arcTo wR="21600" hR="7262" stAng="10800000" swAng="-3059605"/>
                <a:lnTo>
                  <a:pt x="15925" y="21345"/>
                </a:lnTo>
                <a:lnTo>
                  <a:pt x="21600" y="16794"/>
                </a:lnTo>
                <a:lnTo>
                  <a:pt x="15925" y="11732"/>
                </a:lnTo>
                <a:lnTo>
                  <a:pt x="15925" y="14268"/>
                </a:lnTo>
                <a:arcTo wR="21600" hR="7262" stAng="7740395" swAng="2680710"/>
                <a:lnTo>
                  <a:pt x="1083" y="9532"/>
                </a:lnTo>
                <a:arcTo wR="21600" hR="7262" stAng="-10421105" swAng="5021105"/>
                <a:close/>
              </a:path>
              <a:path fill="darkenLess" w="21600" h="21600">
                <a:moveTo>
                  <a:pt x="21600" y="0"/>
                </a:moveTo>
                <a:arcTo wR="21600" hR="7262" stAng="-5400000" swAng="-5400000"/>
                <a:lnTo>
                  <a:pt x="0" y="7262"/>
                </a:lnTo>
                <a:arcTo wR="21600" hR="7262" stAng="10800000" swAng="-378895"/>
                <a:lnTo>
                  <a:pt x="1083" y="9532"/>
                </a:lnTo>
                <a:arcTo wR="21600" hR="7262" stAng="-10421105" swAng="5021105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95280" y="404640"/>
            <a:ext cx="3456000" cy="35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أكد من العبارات وتحديد معناها بدقة بين الزوجي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95280" y="404640"/>
            <a:ext cx="5472000" cy="172908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جزئي أو السريع قد يض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43560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Hitteen"/>
                <a:cs typeface="AL-Mateen"/>
              </a:rPr>
              <a:t>الحذر من تضخيم المشكلة الحذر من تهوين المشكل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بحث عن الدواف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ذر من الفهم الخاط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23640" y="1444320"/>
            <a:ext cx="360036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Hitteen"/>
                <a:cs typeface="AL-Mateen"/>
              </a:rPr>
              <a:t>مراعاة التباين في ترتيب أوليات كل طرف</a:t>
            </a:r>
            <a:r>
              <a:rPr b="1" lang="ar-SA" sz="7200" spc="-1" strike="noStrike">
                <a:solidFill>
                  <a:srgbClr val="800000"/>
                </a:solidFill>
                <a:latin typeface="Hitteen"/>
                <a:ea typeface="AL-Mateen"/>
              </a:rPr>
              <a:t> </a:t>
            </a:r>
            <a:br>
              <a:rPr sz="7200"/>
            </a:b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449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عذار الطرف الآخ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0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بدأ بحل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144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39760" y="264960"/>
            <a:ext cx="8737560" cy="1015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طُرق جديدة اعجبتني</a:t>
            </a:r>
            <a:r>
              <a:rPr b="1" lang="ar-SA" sz="5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324000" y="1271520"/>
            <a:ext cx="856908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3,5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179280" y="219240"/>
            <a:ext cx="8785440" cy="6449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700" spc="-1" strike="noStrike">
                <a:solidFill>
                  <a:srgbClr val="000066"/>
                </a:solidFill>
                <a:latin typeface="Traditional Arabic Backslanted"/>
                <a:cs typeface="Traditional Arabic"/>
              </a:rPr>
              <a:t>تمرين قطعة الارض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3" name=""/>
          <p:cNvGraphicFramePr/>
          <p:nvPr/>
        </p:nvGraphicFramePr>
        <p:xfrm>
          <a:off x="2124000" y="69228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94" name=""/>
          <p:cNvSpPr/>
          <p:nvPr/>
        </p:nvSpPr>
        <p:spPr>
          <a:xfrm>
            <a:off x="250920" y="3789360"/>
            <a:ext cx="4537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سم قطعة الأرض إلى أربعة اقسام متشابهة في الشكل متساوية في المسا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40360" y="189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770960" y="33130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796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826920" y="1700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9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0" name=""/>
          <p:cNvSpPr/>
          <p:nvPr/>
        </p:nvSpPr>
        <p:spPr>
          <a:xfrm flipH="1">
            <a:off x="2123640" y="620640"/>
            <a:ext cx="5543640" cy="266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5003640" y="620640"/>
            <a:ext cx="2664000" cy="554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4858920" y="62064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3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</a:tblGrid>
              <a:tr h="2808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04" name=""/>
          <p:cNvSpPr/>
          <p:nvPr/>
        </p:nvSpPr>
        <p:spPr>
          <a:xfrm flipH="1">
            <a:off x="4932000" y="549360"/>
            <a:ext cx="2808360" cy="28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24000" y="549360"/>
            <a:ext cx="5616720" cy="554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6" name=""/>
          <p:cNvGraphicFramePr/>
          <p:nvPr/>
        </p:nvGraphicFramePr>
        <p:xfrm>
          <a:off x="2124000" y="549360"/>
          <a:ext cx="5616720" cy="5616360"/>
        </p:xfrm>
        <a:graphic>
          <a:graphicData uri="http://schemas.openxmlformats.org/drawingml/2006/table">
            <a:tbl>
              <a:tblPr/>
              <a:tblGrid>
                <a:gridCol w="2808360"/>
                <a:gridCol w="1368360"/>
                <a:gridCol w="1440000"/>
              </a:tblGrid>
              <a:tr h="129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513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 flipH="1">
            <a:off x="4859280" y="549360"/>
            <a:ext cx="2881440" cy="2879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8" name=""/>
          <p:cNvGraphicFramePr/>
          <p:nvPr/>
        </p:nvGraphicFramePr>
        <p:xfrm>
          <a:off x="1619280" y="549360"/>
          <a:ext cx="6121440" cy="5975280"/>
        </p:xfrm>
        <a:graphic>
          <a:graphicData uri="http://schemas.openxmlformats.org/drawingml/2006/table">
            <a:tbl>
              <a:tblPr/>
              <a:tblGrid>
                <a:gridCol w="1530360"/>
                <a:gridCol w="1530360"/>
                <a:gridCol w="1530360"/>
                <a:gridCol w="1530360"/>
              </a:tblGrid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9" name=""/>
          <p:cNvGraphicFramePr/>
          <p:nvPr/>
        </p:nvGraphicFramePr>
        <p:xfrm>
          <a:off x="1619280" y="476280"/>
          <a:ext cx="6048360" cy="590544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511280"/>
                <a:gridCol w="1513080"/>
              </a:tblGrid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8360" y="549360"/>
            <a:ext cx="5327640" cy="14396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تجنب حل كل المشاكل دفعة واحدة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تحديد محل الخلا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68000" y="3213000"/>
            <a:ext cx="331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Hitteen"/>
                <a:cs typeface="AL-Mateen"/>
              </a:rPr>
              <a:t>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ثُمَّ الرفق . .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           ثُمَّ   </a:t>
            </a:r>
            <a:br>
              <a:rPr sz="4400"/>
            </a:br>
            <a:r>
              <a:rPr b="1" lang="ar-SA" sz="4400" spc="-1" strike="noStrike">
                <a:solidFill>
                  <a:srgbClr val="800000"/>
                </a:solidFill>
                <a:latin typeface="Hitteen"/>
                <a:ea typeface="AL-Mateen"/>
              </a:rPr>
              <a:t> الرف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/>
          </p:nvPr>
        </p:nvSpPr>
        <p:spPr>
          <a:xfrm>
            <a:off x="1331640" y="115920"/>
            <a:ext cx="7272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 algn="r" rtl="1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لماذا هذا الموضوع</a:t>
            </a:r>
            <a:endParaRPr b="0" lang="en-US" sz="9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"/>
          <p:cNvSpPr/>
          <p:nvPr/>
        </p:nvSpPr>
        <p:spPr>
          <a:xfrm>
            <a:off x="1547640" y="1268280"/>
            <a:ext cx="7272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 rtl="1">
              <a:lnSpc>
                <a:spcPct val="90000"/>
              </a:lnSpc>
              <a:spcBef>
                <a:spcPts val="10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900" spc="-1" strike="noStrike">
                <a:solidFill>
                  <a:srgbClr val="000000"/>
                </a:solidFill>
                <a:latin typeface="Traditional Arabic Backslanted"/>
                <a:cs typeface="PT Bold Heading"/>
              </a:rPr>
              <a:t>؟</a:t>
            </a:r>
            <a:endParaRPr b="0" lang="en-US" sz="40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3240000" cy="3097440"/>
          </a:xfrm>
          <a:prstGeom prst="rect">
            <a:avLst/>
          </a:prstGeom>
          <a:ln w="0">
            <a:noFill/>
          </a:ln>
        </p:spPr>
      </p:pic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5688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800000"/>
                </a:solidFill>
                <a:latin typeface="Tahoma"/>
                <a:cs typeface="AL-Mateen"/>
              </a:rPr>
              <a:t>النظرة المتوازنة للمشكلة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-541440" y="476280"/>
            <a:ext cx="583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ضرورة الموازنة بين </a:t>
            </a:r>
            <a:br>
              <a:rPr sz="4600"/>
            </a:br>
            <a:r>
              <a:rPr b="1" lang="ar-SA" sz="4600" spc="-1" strike="noStrike">
                <a:solidFill>
                  <a:srgbClr val="800000"/>
                </a:solidFill>
                <a:latin typeface="Hitteen"/>
                <a:cs typeface="AL-Mateen"/>
              </a:rPr>
              <a:t>السلبيات والايجابيات</a:t>
            </a:r>
            <a:br>
              <a:rPr sz="4600"/>
            </a:b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800000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6836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Hitteen"/>
                <a:cs typeface="AL-Mateen"/>
              </a:rPr>
              <a:t>انتقد الفعل وليس الفاع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2560" y="983880"/>
            <a:ext cx="450036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ahoma"/>
                <a:cs typeface="AL-Mateen"/>
              </a:rPr>
              <a:t>عدم عزل الآخر عن بيئته التي تعلم منها الحياة الزواجية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4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5184720" cy="9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تمرين عملي  ( </a:t>
            </a:r>
            <a:r>
              <a:rPr b="1" lang="ar-SA" sz="20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صورة للقسمين</a:t>
            </a:r>
            <a:r>
              <a:rPr b="1" lang="ar-SA" sz="5400" spc="-1" strike="noStrike">
                <a:solidFill>
                  <a:srgbClr val="000000"/>
                </a:solidFill>
                <a:latin typeface="Hitteen"/>
                <a:ea typeface="Traditional Arabic"/>
              </a:rPr>
              <a:t> 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1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11280" y="404640"/>
            <a:ext cx="5400720" cy="158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نظر للمشكلة من جميع الزوايا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ضرورة فهم نفسية الآخ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84360" y="83664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مارسة التنفي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284360" y="198900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1" lang="en-US" sz="8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411280" y="342900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منازل الثلاث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768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9" dur="768" fill="hold"/>
                                        <p:tgtEl>
                                          <p:spTgt spid="1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1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3" dur="768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998"/>
                            </p:stCondLst>
                            <p:childTnLst>
                              <p:par>
                                <p:cTn id="9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435280" y="456840"/>
            <a:ext cx="3384360" cy="739800"/>
          </a:xfrm>
          <a:prstGeom prst="rect">
            <a:avLst/>
          </a:prstGeom>
          <a:gradFill rotWithShape="0">
            <a:gsLst>
              <a:gs pos="0">
                <a:srgbClr val="a8a843"/>
              </a:gs>
              <a:gs pos="50000">
                <a:srgbClr val="ffff66"/>
              </a:gs>
              <a:gs pos="100000">
                <a:srgbClr val="a8a843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لماذا هذا الموضوع؟ 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24000" y="2997000"/>
            <a:ext cx="8362800" cy="28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2000"/>
          </a:bodyPr>
          <a:p>
            <a:pPr marL="212400" indent="0" algn="ctr" rtl="1">
              <a:lnSpc>
                <a:spcPct val="100000"/>
              </a:lnSpc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200" spc="-1" strike="noStrike">
                <a:solidFill>
                  <a:srgbClr val="000000"/>
                </a:solidFill>
                <a:latin typeface="Hitteen"/>
                <a:cs typeface="Traditional Arabic"/>
              </a:rPr>
              <a:t>الطلاق الشرعي</a:t>
            </a:r>
            <a:endParaRPr b="0" lang="en-US" sz="1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5" name="HOUSE_04" descr=""/>
          <p:cNvPicPr/>
          <p:nvPr/>
        </p:nvPicPr>
        <p:blipFill>
          <a:blip r:embed="rId1"/>
          <a:stretch/>
        </p:blipFill>
        <p:spPr>
          <a:xfrm>
            <a:off x="1619280" y="2706840"/>
            <a:ext cx="789120" cy="691920"/>
          </a:xfrm>
          <a:prstGeom prst="rect">
            <a:avLst/>
          </a:prstGeom>
          <a:ln w="0">
            <a:noFill/>
          </a:ln>
        </p:spPr>
      </p:pic>
      <p:pic>
        <p:nvPicPr>
          <p:cNvPr id="1556" name="HOUSE_04" descr=""/>
          <p:cNvPicPr/>
          <p:nvPr/>
        </p:nvPicPr>
        <p:blipFill>
          <a:blip r:embed="rId2"/>
          <a:stretch/>
        </p:blipFill>
        <p:spPr>
          <a:xfrm>
            <a:off x="7164360" y="2741760"/>
            <a:ext cx="863640" cy="758520"/>
          </a:xfrm>
          <a:prstGeom prst="rect">
            <a:avLst/>
          </a:prstGeom>
          <a:ln w="0">
            <a:noFill/>
          </a:ln>
        </p:spPr>
      </p:pic>
      <p:pic>
        <p:nvPicPr>
          <p:cNvPr id="1557" name="HOUSE_04" descr=""/>
          <p:cNvPicPr/>
          <p:nvPr/>
        </p:nvPicPr>
        <p:blipFill>
          <a:blip r:embed="rId3"/>
          <a:stretch/>
        </p:blipFill>
        <p:spPr>
          <a:xfrm>
            <a:off x="4211640" y="2670120"/>
            <a:ext cx="863640" cy="758880"/>
          </a:xfrm>
          <a:prstGeom prst="rect">
            <a:avLst/>
          </a:prstGeom>
          <a:ln w="0">
            <a:noFill/>
          </a:ln>
        </p:spPr>
      </p:pic>
      <p:pic>
        <p:nvPicPr>
          <p:cNvPr id="1558" name="LGHTBLB2" descr=""/>
          <p:cNvPicPr/>
          <p:nvPr/>
        </p:nvPicPr>
        <p:blipFill>
          <a:blip r:embed="rId4"/>
          <a:stretch/>
        </p:blipFill>
        <p:spPr>
          <a:xfrm>
            <a:off x="7164360" y="4849920"/>
            <a:ext cx="936720" cy="728640"/>
          </a:xfrm>
          <a:prstGeom prst="rect">
            <a:avLst/>
          </a:prstGeom>
          <a:ln w="0">
            <a:noFill/>
          </a:ln>
        </p:spPr>
      </p:pic>
      <p:pic>
        <p:nvPicPr>
          <p:cNvPr id="1559" name="FAUCET_2" descr=""/>
          <p:cNvPicPr/>
          <p:nvPr/>
        </p:nvPicPr>
        <p:blipFill>
          <a:blip r:embed="rId5"/>
          <a:stretch/>
        </p:blipFill>
        <p:spPr>
          <a:xfrm>
            <a:off x="4284720" y="4870440"/>
            <a:ext cx="1114200" cy="790560"/>
          </a:xfrm>
          <a:prstGeom prst="rect">
            <a:avLst/>
          </a:prstGeom>
          <a:ln w="0">
            <a:noFill/>
          </a:ln>
        </p:spPr>
      </p:pic>
      <p:pic>
        <p:nvPicPr>
          <p:cNvPr id="1560" name="DUP00655" descr=""/>
          <p:cNvPicPr/>
          <p:nvPr/>
        </p:nvPicPr>
        <p:blipFill>
          <a:blip r:embed="rId6"/>
          <a:stretch/>
        </p:blipFill>
        <p:spPr>
          <a:xfrm>
            <a:off x="1547640" y="4908600"/>
            <a:ext cx="1060560" cy="64620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8959680" y="-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0"/>
            <a:ext cx="1227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24000" y="-683280"/>
            <a:ext cx="856908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Tahoma"/>
                <a:cs typeface="AL-Mateen"/>
              </a:rPr>
              <a:t>أمامك ثلاثة منازل مطلوب أن تصلها الخدمات: كهرباء - ماء - هاتف وكل خدمة في خط مستقل من المصدر مباشرة، ودون أن تتقاطع خطوط الخدمات، ودون حفر أنفاق أو إنشاء جسو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0" y="-594000"/>
            <a:ext cx="5508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ليس بالضرورة حل كل المشكلات</a:t>
            </a:r>
            <a:br>
              <a:rPr sz="4800"/>
            </a:br>
            <a:r>
              <a:rPr b="1" lang="ar-SA" sz="4800" spc="-1" strike="noStrike">
                <a:solidFill>
                  <a:srgbClr val="800000"/>
                </a:solidFill>
                <a:latin typeface="Tahoma"/>
                <a:cs typeface="AL-Mateen"/>
              </a:rPr>
              <a:t>بشكل جذري وبخاصة الكبيرة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-36360" y="692280"/>
            <a:ext cx="662436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حل اليسير قد يمهد لحل أكب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خلع النظارة السود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5680" y="733320"/>
            <a:ext cx="626436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ن أراد الحقوق فليقم بالواجب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684360" y="692280"/>
            <a:ext cx="5327640" cy="1152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موازنة بين الخطأ والعقا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9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كيف ننهي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"/>
          <p:cNvSpPr/>
          <p:nvPr/>
        </p:nvSpPr>
        <p:spPr>
          <a:xfrm>
            <a:off x="4284720" y="2349360"/>
            <a:ext cx="3963960" cy="232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تمري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411280" y="3789360"/>
            <a:ext cx="47498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000000"/>
                </a:solidFill>
                <a:latin typeface="Arial"/>
                <a:cs typeface="AL-Mateen"/>
              </a:rPr>
              <a:t>الشما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768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7" dur="768" fill="hold"/>
                                        <p:tgtEl>
                                          <p:spTgt spid="15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9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1" dur="768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998"/>
                            </p:stCondLst>
                            <p:childTnLst>
                              <p:par>
                                <p:cTn id="1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7" name="" descr=""/>
          <p:cNvPicPr/>
          <p:nvPr/>
        </p:nvPicPr>
        <p:blipFill>
          <a:blip r:embed="rId1"/>
          <a:stretch/>
        </p:blipFill>
        <p:spPr>
          <a:xfrm>
            <a:off x="1116000" y="4122720"/>
            <a:ext cx="1584360" cy="273528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79280" y="404640"/>
            <a:ext cx="4248360" cy="3024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لا بد أن نتذكر نحن نتعامل مع البشر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66560" y="320400"/>
            <a:ext cx="7058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>
                <a:solidFill>
                  <a:srgbClr val="800000"/>
                </a:solidFill>
                <a:latin typeface="Arial"/>
                <a:cs typeface="PT Bold Heading"/>
              </a:rPr>
              <a:t>الدعاء</a:t>
            </a:r>
            <a:endParaRPr b="0" lang="en-US" sz="129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527560" cy="338472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6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250920" y="4076280"/>
            <a:ext cx="8588160" cy="20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المملك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324000" y="189000"/>
            <a:ext cx="8569080" cy="6480000"/>
          </a:xfrm>
          <a:custGeom>
            <a:avLst/>
            <a:gdLst>
              <a:gd name="textAreaLeft" fmla="*/ 2242440 w 8569080"/>
              <a:gd name="textAreaRight" fmla="*/ 6326640 w 8569080"/>
              <a:gd name="textAreaTop" fmla="*/ 1695960 h 6480000"/>
              <a:gd name="textAreaBottom" fmla="*/ 4784040 h 648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655" y="12189"/>
                </a:lnTo>
                <a:lnTo>
                  <a:pt x="786" y="14846"/>
                </a:lnTo>
                <a:lnTo>
                  <a:pt x="4695" y="14764"/>
                </a:lnTo>
                <a:lnTo>
                  <a:pt x="3163" y="18437"/>
                </a:lnTo>
                <a:lnTo>
                  <a:pt x="6730" y="16835"/>
                </a:lnTo>
                <a:lnTo>
                  <a:pt x="6580" y="20741"/>
                </a:lnTo>
                <a:lnTo>
                  <a:pt x="9287" y="17920"/>
                </a:lnTo>
                <a:lnTo>
                  <a:pt x="10800" y="21600"/>
                </a:lnTo>
                <a:lnTo>
                  <a:pt x="12189" y="17945"/>
                </a:lnTo>
                <a:lnTo>
                  <a:pt x="14846" y="20814"/>
                </a:lnTo>
                <a:lnTo>
                  <a:pt x="14764" y="16905"/>
                </a:lnTo>
                <a:lnTo>
                  <a:pt x="18437" y="18437"/>
                </a:lnTo>
                <a:lnTo>
                  <a:pt x="16835" y="14870"/>
                </a:lnTo>
                <a:lnTo>
                  <a:pt x="20741" y="15020"/>
                </a:lnTo>
                <a:lnTo>
                  <a:pt x="17920" y="12313"/>
                </a:lnTo>
                <a:lnTo>
                  <a:pt x="21600" y="10800"/>
                </a:lnTo>
                <a:lnTo>
                  <a:pt x="17945" y="9411"/>
                </a:lnTo>
                <a:lnTo>
                  <a:pt x="20814" y="6754"/>
                </a:lnTo>
                <a:lnTo>
                  <a:pt x="16905" y="6836"/>
                </a:lnTo>
                <a:lnTo>
                  <a:pt x="18437" y="3163"/>
                </a:lnTo>
                <a:lnTo>
                  <a:pt x="14870" y="4765"/>
                </a:lnTo>
                <a:lnTo>
                  <a:pt x="15020" y="859"/>
                </a:lnTo>
                <a:lnTo>
                  <a:pt x="12313" y="3680"/>
                </a:lnTo>
                <a:lnTo>
                  <a:pt x="10800" y="0"/>
                </a:lnTo>
                <a:lnTo>
                  <a:pt x="9411" y="3655"/>
                </a:lnTo>
                <a:lnTo>
                  <a:pt x="6754" y="786"/>
                </a:lnTo>
                <a:lnTo>
                  <a:pt x="6836" y="4695"/>
                </a:lnTo>
                <a:lnTo>
                  <a:pt x="3163" y="3163"/>
                </a:lnTo>
                <a:lnTo>
                  <a:pt x="4765" y="6730"/>
                </a:lnTo>
                <a:lnTo>
                  <a:pt x="859" y="6580"/>
                </a:lnTo>
                <a:lnTo>
                  <a:pt x="3680" y="9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19a9a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اش مفتو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-324000" y="260280"/>
            <a:ext cx="6121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00000"/>
                </a:solidFill>
                <a:latin typeface="Hitteen"/>
                <a:cs typeface="AL-Mateen"/>
              </a:rPr>
              <a:t>ماذا تفعل إذا لم تنجح القواعد السابقة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1258920" y="3789360"/>
            <a:ext cx="19796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800000"/>
                </a:solidFill>
                <a:latin typeface="Hitteen"/>
                <a:cs typeface="Arial"/>
              </a:rPr>
              <a:t>؟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8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8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5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504720" y="907560"/>
            <a:ext cx="8639280" cy="28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 u="sng">
                <a:solidFill>
                  <a:srgbClr val="006666"/>
                </a:solidFill>
                <a:uFillTx/>
                <a:latin typeface="Tahoma"/>
                <a:cs typeface="PT Bold Heading"/>
              </a:rPr>
              <a:t>الاستشارة: 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55454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انترنت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هاتف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243360" indent="-243360" algn="just" rtl="1">
              <a:lnSpc>
                <a:spcPct val="180000"/>
              </a:lnSpc>
              <a:spcBef>
                <a:spcPts val="12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6666"/>
                </a:solidFill>
                <a:latin typeface="Tahoma"/>
                <a:ea typeface="PT Bold Heading"/>
              </a:rPr>
              <a:t>  الاستشارة بالمقابلة.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768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1" dur="768" fill="hold"/>
                                        <p:tgtEl>
                                          <p:spTgt spid="16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3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5" dur="768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1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1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"/>
          <p:cNvSpPr/>
          <p:nvPr/>
        </p:nvSpPr>
        <p:spPr>
          <a:xfrm>
            <a:off x="684360" y="2492280"/>
            <a:ext cx="4752720" cy="4032360"/>
          </a:xfrm>
          <a:prstGeom prst="ellipse">
            <a:avLst/>
          </a:prstGeom>
          <a:solidFill>
            <a:srgbClr val="ff99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20720" y="333360"/>
            <a:ext cx="4753080" cy="4390920"/>
          </a:xfrm>
          <a:prstGeom prst="ellipse">
            <a:avLst/>
          </a:prstGeom>
          <a:solidFill>
            <a:srgbClr val="ff0000">
              <a:alpha val="4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05080" y="2421000"/>
            <a:ext cx="4680000" cy="4032360"/>
          </a:xfrm>
          <a:prstGeom prst="ellipse">
            <a:avLst/>
          </a:prstGeom>
          <a:solidFill>
            <a:srgbClr val="ffff00">
              <a:alpha val="2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629080" y="692280"/>
            <a:ext cx="25923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ساخنة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900000" y="4575240"/>
            <a:ext cx="237672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داف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221440" y="4575240"/>
            <a:ext cx="23032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سائط بار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205080" y="3833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شكل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372360" y="189000"/>
            <a:ext cx="2592360" cy="192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عامل مع المشك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4" dur="2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7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5" dur="1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9" dur="1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7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2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276360" y="260280"/>
            <a:ext cx="561636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9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وماذا بعد ؟</a:t>
            </a:r>
            <a:endParaRPr b="0" lang="en-US" sz="129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08000" y="2421000"/>
            <a:ext cx="6480000" cy="42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57000"/>
          </a:bodyPr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زالة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المشكلة تماما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خفيف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ن المشكلة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195480" indent="-195480" algn="just" rtl="1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000066"/>
                </a:solidFill>
                <a:uFillTx/>
                <a:latin typeface="Tahoma"/>
                <a:cs typeface="Traditional Arabic"/>
              </a:rPr>
              <a:t>التعايش</a:t>
            </a:r>
            <a:r>
              <a:rPr b="1" lang="ar-SA" sz="8000" spc="-1" strike="noStrike">
                <a:solidFill>
                  <a:srgbClr val="000066"/>
                </a:solidFill>
                <a:latin typeface="Tahoma"/>
                <a:ea typeface="Traditional Arabic"/>
              </a:rPr>
              <a:t> مع المشكلة.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768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0" dur="768" fill="hold"/>
                                        <p:tgtEl>
                                          <p:spTgt spid="16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2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4" dur="768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1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1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1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التعايش مع المشكل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0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1280" y="620640"/>
            <a:ext cx="5327640" cy="13683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محاولة قبول كل طرف للطرف الآخر كما ه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0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3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8000" y="620640"/>
            <a:ext cx="676908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إمساك بمعروف أو تسريح بإحسان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533520" y="259920"/>
            <a:ext cx="807696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800" spc="-1" strike="noStrike">
                <a:solidFill>
                  <a:srgbClr val="000056"/>
                </a:solidFill>
                <a:latin typeface="Traditional Arabic Backslanted"/>
                <a:cs typeface="Traditional Arabic"/>
              </a:rPr>
              <a:t>تمرين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" descr=""/>
          <p:cNvPicPr/>
          <p:nvPr/>
        </p:nvPicPr>
        <p:blipFill>
          <a:blip r:embed="rId1"/>
          <a:stretch/>
        </p:blipFill>
        <p:spPr>
          <a:xfrm rot="20247600">
            <a:off x="2387520" y="1941480"/>
            <a:ext cx="40831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755280" y="409320"/>
            <a:ext cx="676908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300" spc="-1" strike="noStrike" u="sng">
                <a:solidFill>
                  <a:srgbClr val="330066"/>
                </a:solidFill>
                <a:uFillTx/>
                <a:latin typeface="Arial"/>
                <a:cs typeface="PT Bold Heading"/>
              </a:rPr>
              <a:t>الذي يثبُت في الذهن:</a:t>
            </a:r>
            <a:endParaRPr b="1" lang="en-US" sz="6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425080" cy="43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قرأ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13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0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سمع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66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2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- 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35</a:t>
            </a:r>
            <a:r>
              <a:rPr b="1" lang="ar-SA" sz="4600" spc="-1" strike="noStrike">
                <a:solidFill>
                  <a:srgbClr val="000066"/>
                </a:solidFill>
                <a:latin typeface="Arial"/>
                <a:ea typeface="PT Bold Heading"/>
              </a:rPr>
              <a:t> % مما 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30000"/>
              </a:lnSpc>
              <a:spcBef>
                <a:spcPts val="11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990000"/>
                </a:solidFill>
                <a:latin typeface="Arial"/>
                <a:cs typeface="PT Bold Heading"/>
              </a:rPr>
              <a:t>من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50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– 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75</a:t>
            </a:r>
            <a:r>
              <a:rPr b="1" lang="ar-SA" sz="4600" spc="-1" strike="noStrike">
                <a:solidFill>
                  <a:srgbClr val="990000"/>
                </a:solidFill>
                <a:latin typeface="Arial"/>
                <a:ea typeface="PT Bold Heading"/>
              </a:rPr>
              <a:t> % مما يسمعونه ويرونه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768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768" fill="hold"/>
                                        <p:tgtEl>
                                          <p:spTgt spid="16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6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8" dur="768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1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460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56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7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240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50920" y="3645000"/>
            <a:ext cx="8588160" cy="25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حالة طلاق يوميا في مص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معنى : مطلقة كل 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cc0000"/>
                </a:solidFill>
                <a:latin typeface="Times New Roman"/>
                <a:ea typeface="Traditional Arabic"/>
              </a:rPr>
              <a:t> دقائ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أترك أفعالك تتحدث عن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0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 txBox="1"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408720" y="115920"/>
            <a:ext cx="2627280" cy="503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Hitteen"/>
                <a:cs typeface="Arial"/>
              </a:rPr>
              <a:t>قواعد للتعامل مع المشكل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11280" y="620640"/>
            <a:ext cx="532764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Hitteen"/>
                <a:cs typeface="AL-Mateen"/>
              </a:rPr>
              <a:t>جرب ولن تند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4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90084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87480" y="24573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87480" y="36910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87480" y="3691080"/>
            <a:ext cx="792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87480" y="404172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7480" y="4394160"/>
            <a:ext cx="7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7480" y="4394160"/>
            <a:ext cx="7920" cy="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87480" y="474660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7480" y="509904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7480" y="509904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7480" y="545148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87480" y="5451480"/>
            <a:ext cx="7920" cy="9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87480" y="5803920"/>
            <a:ext cx="792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50920" y="2133720"/>
            <a:ext cx="86407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وآخر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دعوانا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أن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حمد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لله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رب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ea typeface="AGA Arabesque"/>
              </a:rPr>
              <a:t></a:t>
            </a:r>
            <a:r>
              <a:rPr b="1" lang="ar-SA" sz="8200" spc="-1" strike="noStrike">
                <a:solidFill>
                  <a:srgbClr val="000066"/>
                </a:solidFill>
                <a:latin typeface="AGA Arabesque"/>
                <a:cs typeface="AGA Arabesque"/>
              </a:rPr>
              <a:t>العالمين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2"/>
          <a:stretch/>
        </p:blipFill>
        <p:spPr>
          <a:xfrm>
            <a:off x="3095640" y="260280"/>
            <a:ext cx="2952720" cy="108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Traditional Arabic"/>
              </a:rPr>
              <a:t>شكرا لكم  واستودعكم  الله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63" name=""/>
          <p:cNvGraphicFramePr/>
          <p:nvPr/>
        </p:nvGraphicFramePr>
        <p:xfrm>
          <a:off x="1692360" y="1700280"/>
          <a:ext cx="6335640" cy="34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633564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5" name="" descr="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292720" y="4552920"/>
            <a:ext cx="3851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0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300" fill="hold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19:31:17Z</dcterms:created>
  <dc:creator>عبدالله بن ناصر السدحان</dc:creator>
  <dc:description/>
  <dc:language>en-US</dc:language>
  <cp:lastModifiedBy>omar</cp:lastModifiedBy>
  <dcterms:modified xsi:type="dcterms:W3CDTF">2009-03-23T11:03:18Z</dcterms:modified>
  <cp:revision>96</cp:revision>
  <dc:subject/>
  <dc:title>بسم           الله               الرحمن                       الرحيم </dc:title>
</cp:coreProperties>
</file>