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6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wmf" ContentType="image/x-wmf"/>
  <Override PartName="/ppt/media/image5.png" ContentType="image/pn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  <p:sldId id="271" r:id="rId39"/>
    <p:sldId id="272" r:id="rId40"/>
    <p:sldId id="273" r:id="rId41"/>
    <p:sldId id="274" r:id="rId42"/>
    <p:sldId id="275" r:id="rId43"/>
    <p:sldId id="276" r:id="rId44"/>
    <p:sldId id="277" r:id="rId45"/>
    <p:sldId id="278" r:id="rId46"/>
    <p:sldId id="279" r:id="rId47"/>
    <p:sldId id="280" r:id="rId48"/>
    <p:sldId id="281" r:id="rId49"/>
    <p:sldId id="282" r:id="rId50"/>
    <p:sldId id="283" r:id="rId51"/>
    <p:sldId id="284" r:id="rId52"/>
    <p:sldId id="285" r:id="rId53"/>
    <p:sldId id="286" r:id="rId54"/>
    <p:sldId id="287" r:id="rId55"/>
    <p:sldId id="288" r:id="rId56"/>
    <p:sldId id="289" r:id="rId57"/>
    <p:sldId id="290" r:id="rId58"/>
    <p:sldId id="291" r:id="rId59"/>
    <p:sldId id="292" r:id="rId60"/>
    <p:sldId id="293" r:id="rId61"/>
    <p:sldId id="294" r:id="rId62"/>
    <p:sldId id="295" r:id="rId63"/>
    <p:sldId id="296" r:id="rId64"/>
    <p:sldId id="297" r:id="rId65"/>
    <p:sldId id="298" r:id="rId66"/>
    <p:sldId id="299" r:id="rId67"/>
    <p:sldId id="300" r:id="rId68"/>
    <p:sldId id="301" r:id="rId69"/>
    <p:sldId id="302" r:id="rId70"/>
    <p:sldId id="303" r:id="rId71"/>
    <p:sldId id="304" r:id="rId72"/>
    <p:sldId id="305" r:id="rId73"/>
    <p:sldId id="306" r:id="rId74"/>
    <p:sldId id="307" r:id="rId75"/>
    <p:sldId id="308" r:id="rId76"/>
    <p:sldId id="309" r:id="rId77"/>
    <p:sldId id="310" r:id="rId78"/>
    <p:sldId id="311" r:id="rId79"/>
    <p:sldId id="312" r:id="rId80"/>
    <p:sldId id="313" r:id="rId81"/>
    <p:sldId id="314" r:id="rId82"/>
    <p:sldId id="315" r:id="rId83"/>
    <p:sldId id="316" r:id="rId84"/>
    <p:sldId id="317" r:id="rId85"/>
    <p:sldId id="318" r:id="rId86"/>
    <p:sldId id="319" r:id="rId87"/>
    <p:sldId id="320" r:id="rId88"/>
    <p:sldId id="321" r:id="rId89"/>
    <p:sldId id="322" r:id="rId90"/>
    <p:sldId id="323" r:id="rId91"/>
    <p:sldId id="324" r:id="rId92"/>
    <p:sldId id="325" r:id="rId93"/>
    <p:sldId id="326" r:id="rId94"/>
    <p:sldId id="327" r:id="rId95"/>
    <p:sldId id="328" r:id="rId96"/>
    <p:sldId id="329" r:id="rId97"/>
    <p:sldId id="330" r:id="rId98"/>
    <p:sldId id="331" r:id="rId99"/>
    <p:sldId id="332" r:id="rId100"/>
    <p:sldId id="333" r:id="rId101"/>
    <p:sldId id="334" r:id="rId102"/>
    <p:sldId id="335" r:id="rId103"/>
    <p:sldId id="336" r:id="rId104"/>
    <p:sldId id="337" r:id="rId105"/>
    <p:sldId id="338" r:id="rId106"/>
    <p:sldId id="339" r:id="rId107"/>
    <p:sldId id="340" r:id="rId108"/>
    <p:sldId id="341" r:id="rId109"/>
    <p:sldId id="342" r:id="rId110"/>
    <p:sldId id="343" r:id="rId111"/>
    <p:sldId id="344" r:id="rId112"/>
    <p:sldId id="345" r:id="rId113"/>
    <p:sldId id="346" r:id="rId114"/>
    <p:sldId id="347" r:id="rId115"/>
    <p:sldId id="348" r:id="rId1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slide" Target="slides/slide16.xml"/><Relationship Id="rId40" Type="http://schemas.openxmlformats.org/officeDocument/2006/relationships/slide" Target="slides/slide17.xml"/><Relationship Id="rId41" Type="http://schemas.openxmlformats.org/officeDocument/2006/relationships/slide" Target="slides/slide18.xml"/><Relationship Id="rId42" Type="http://schemas.openxmlformats.org/officeDocument/2006/relationships/slide" Target="slides/slide19.xml"/><Relationship Id="rId43" Type="http://schemas.openxmlformats.org/officeDocument/2006/relationships/slide" Target="slides/slide20.xml"/><Relationship Id="rId44" Type="http://schemas.openxmlformats.org/officeDocument/2006/relationships/slide" Target="slides/slide21.xml"/><Relationship Id="rId45" Type="http://schemas.openxmlformats.org/officeDocument/2006/relationships/slide" Target="slides/slide22.xml"/><Relationship Id="rId46" Type="http://schemas.openxmlformats.org/officeDocument/2006/relationships/slide" Target="slides/slide23.xml"/><Relationship Id="rId47" Type="http://schemas.openxmlformats.org/officeDocument/2006/relationships/slide" Target="slides/slide24.xml"/><Relationship Id="rId48" Type="http://schemas.openxmlformats.org/officeDocument/2006/relationships/slide" Target="slides/slide25.xml"/><Relationship Id="rId49" Type="http://schemas.openxmlformats.org/officeDocument/2006/relationships/slide" Target="slides/slide26.xml"/><Relationship Id="rId50" Type="http://schemas.openxmlformats.org/officeDocument/2006/relationships/slide" Target="slides/slide27.xml"/><Relationship Id="rId51" Type="http://schemas.openxmlformats.org/officeDocument/2006/relationships/slide" Target="slides/slide28.xml"/><Relationship Id="rId52" Type="http://schemas.openxmlformats.org/officeDocument/2006/relationships/slide" Target="slides/slide29.xml"/><Relationship Id="rId53" Type="http://schemas.openxmlformats.org/officeDocument/2006/relationships/slide" Target="slides/slide30.xml"/><Relationship Id="rId54" Type="http://schemas.openxmlformats.org/officeDocument/2006/relationships/slide" Target="slides/slide31.xml"/><Relationship Id="rId55" Type="http://schemas.openxmlformats.org/officeDocument/2006/relationships/slide" Target="slides/slide32.xml"/><Relationship Id="rId56" Type="http://schemas.openxmlformats.org/officeDocument/2006/relationships/slide" Target="slides/slide33.xml"/><Relationship Id="rId57" Type="http://schemas.openxmlformats.org/officeDocument/2006/relationships/slide" Target="slides/slide34.xml"/><Relationship Id="rId58" Type="http://schemas.openxmlformats.org/officeDocument/2006/relationships/slide" Target="slides/slide35.xml"/><Relationship Id="rId59" Type="http://schemas.openxmlformats.org/officeDocument/2006/relationships/slide" Target="slides/slide36.xml"/><Relationship Id="rId60" Type="http://schemas.openxmlformats.org/officeDocument/2006/relationships/slide" Target="slides/slide37.xml"/><Relationship Id="rId61" Type="http://schemas.openxmlformats.org/officeDocument/2006/relationships/slide" Target="slides/slide38.xml"/><Relationship Id="rId62" Type="http://schemas.openxmlformats.org/officeDocument/2006/relationships/slide" Target="slides/slide39.xml"/><Relationship Id="rId63" Type="http://schemas.openxmlformats.org/officeDocument/2006/relationships/slide" Target="slides/slide40.xml"/><Relationship Id="rId64" Type="http://schemas.openxmlformats.org/officeDocument/2006/relationships/slide" Target="slides/slide41.xml"/><Relationship Id="rId65" Type="http://schemas.openxmlformats.org/officeDocument/2006/relationships/slide" Target="slides/slide42.xml"/><Relationship Id="rId66" Type="http://schemas.openxmlformats.org/officeDocument/2006/relationships/slide" Target="slides/slide43.xml"/><Relationship Id="rId67" Type="http://schemas.openxmlformats.org/officeDocument/2006/relationships/slide" Target="slides/slide44.xml"/><Relationship Id="rId68" Type="http://schemas.openxmlformats.org/officeDocument/2006/relationships/slide" Target="slides/slide45.xml"/><Relationship Id="rId69" Type="http://schemas.openxmlformats.org/officeDocument/2006/relationships/slide" Target="slides/slide46.xml"/><Relationship Id="rId70" Type="http://schemas.openxmlformats.org/officeDocument/2006/relationships/slide" Target="slides/slide47.xml"/><Relationship Id="rId71" Type="http://schemas.openxmlformats.org/officeDocument/2006/relationships/slide" Target="slides/slide48.xml"/><Relationship Id="rId72" Type="http://schemas.openxmlformats.org/officeDocument/2006/relationships/slide" Target="slides/slide49.xml"/><Relationship Id="rId73" Type="http://schemas.openxmlformats.org/officeDocument/2006/relationships/slide" Target="slides/slide50.xml"/><Relationship Id="rId74" Type="http://schemas.openxmlformats.org/officeDocument/2006/relationships/slide" Target="slides/slide51.xml"/><Relationship Id="rId75" Type="http://schemas.openxmlformats.org/officeDocument/2006/relationships/slide" Target="slides/slide52.xml"/><Relationship Id="rId76" Type="http://schemas.openxmlformats.org/officeDocument/2006/relationships/slide" Target="slides/slide53.xml"/><Relationship Id="rId77" Type="http://schemas.openxmlformats.org/officeDocument/2006/relationships/slide" Target="slides/slide54.xml"/><Relationship Id="rId78" Type="http://schemas.openxmlformats.org/officeDocument/2006/relationships/slide" Target="slides/slide55.xml"/><Relationship Id="rId79" Type="http://schemas.openxmlformats.org/officeDocument/2006/relationships/slide" Target="slides/slide56.xml"/><Relationship Id="rId80" Type="http://schemas.openxmlformats.org/officeDocument/2006/relationships/slide" Target="slides/slide57.xml"/><Relationship Id="rId81" Type="http://schemas.openxmlformats.org/officeDocument/2006/relationships/slide" Target="slides/slide58.xml"/><Relationship Id="rId82" Type="http://schemas.openxmlformats.org/officeDocument/2006/relationships/slide" Target="slides/slide59.xml"/><Relationship Id="rId83" Type="http://schemas.openxmlformats.org/officeDocument/2006/relationships/slide" Target="slides/slide60.xml"/><Relationship Id="rId84" Type="http://schemas.openxmlformats.org/officeDocument/2006/relationships/slide" Target="slides/slide61.xml"/><Relationship Id="rId85" Type="http://schemas.openxmlformats.org/officeDocument/2006/relationships/slide" Target="slides/slide62.xml"/><Relationship Id="rId86" Type="http://schemas.openxmlformats.org/officeDocument/2006/relationships/slide" Target="slides/slide63.xml"/><Relationship Id="rId87" Type="http://schemas.openxmlformats.org/officeDocument/2006/relationships/slide" Target="slides/slide64.xml"/><Relationship Id="rId88" Type="http://schemas.openxmlformats.org/officeDocument/2006/relationships/slide" Target="slides/slide65.xml"/><Relationship Id="rId89" Type="http://schemas.openxmlformats.org/officeDocument/2006/relationships/slide" Target="slides/slide66.xml"/><Relationship Id="rId90" Type="http://schemas.openxmlformats.org/officeDocument/2006/relationships/slide" Target="slides/slide67.xml"/><Relationship Id="rId91" Type="http://schemas.openxmlformats.org/officeDocument/2006/relationships/slide" Target="slides/slide68.xml"/><Relationship Id="rId92" Type="http://schemas.openxmlformats.org/officeDocument/2006/relationships/slide" Target="slides/slide69.xml"/><Relationship Id="rId93" Type="http://schemas.openxmlformats.org/officeDocument/2006/relationships/slide" Target="slides/slide70.xml"/><Relationship Id="rId94" Type="http://schemas.openxmlformats.org/officeDocument/2006/relationships/slide" Target="slides/slide71.xml"/><Relationship Id="rId95" Type="http://schemas.openxmlformats.org/officeDocument/2006/relationships/slide" Target="slides/slide72.xml"/><Relationship Id="rId96" Type="http://schemas.openxmlformats.org/officeDocument/2006/relationships/slide" Target="slides/slide73.xml"/><Relationship Id="rId97" Type="http://schemas.openxmlformats.org/officeDocument/2006/relationships/slide" Target="slides/slide74.xml"/><Relationship Id="rId98" Type="http://schemas.openxmlformats.org/officeDocument/2006/relationships/slide" Target="slides/slide75.xml"/><Relationship Id="rId99" Type="http://schemas.openxmlformats.org/officeDocument/2006/relationships/slide" Target="slides/slide76.xml"/><Relationship Id="rId100" Type="http://schemas.openxmlformats.org/officeDocument/2006/relationships/slide" Target="slides/slide77.xml"/><Relationship Id="rId101" Type="http://schemas.openxmlformats.org/officeDocument/2006/relationships/slide" Target="slides/slide78.xml"/><Relationship Id="rId102" Type="http://schemas.openxmlformats.org/officeDocument/2006/relationships/slide" Target="slides/slide79.xml"/><Relationship Id="rId103" Type="http://schemas.openxmlformats.org/officeDocument/2006/relationships/slide" Target="slides/slide80.xml"/><Relationship Id="rId104" Type="http://schemas.openxmlformats.org/officeDocument/2006/relationships/slide" Target="slides/slide81.xml"/><Relationship Id="rId105" Type="http://schemas.openxmlformats.org/officeDocument/2006/relationships/slide" Target="slides/slide82.xml"/><Relationship Id="rId106" Type="http://schemas.openxmlformats.org/officeDocument/2006/relationships/slide" Target="slides/slide83.xml"/><Relationship Id="rId107" Type="http://schemas.openxmlformats.org/officeDocument/2006/relationships/slide" Target="slides/slide84.xml"/><Relationship Id="rId108" Type="http://schemas.openxmlformats.org/officeDocument/2006/relationships/slide" Target="slides/slide85.xml"/><Relationship Id="rId109" Type="http://schemas.openxmlformats.org/officeDocument/2006/relationships/slide" Target="slides/slide86.xml"/><Relationship Id="rId110" Type="http://schemas.openxmlformats.org/officeDocument/2006/relationships/slide" Target="slides/slide87.xml"/><Relationship Id="rId111" Type="http://schemas.openxmlformats.org/officeDocument/2006/relationships/slide" Target="slides/slide88.xml"/><Relationship Id="rId112" Type="http://schemas.openxmlformats.org/officeDocument/2006/relationships/slide" Target="slides/slide89.xml"/><Relationship Id="rId113" Type="http://schemas.openxmlformats.org/officeDocument/2006/relationships/slide" Target="slides/slide90.xml"/><Relationship Id="rId114" Type="http://schemas.openxmlformats.org/officeDocument/2006/relationships/slide" Target="slides/slide91.xml"/><Relationship Id="rId115" Type="http://schemas.openxmlformats.org/officeDocument/2006/relationships/slide" Target="slides/slide92.xml"/><Relationship Id="rId116" Type="http://schemas.openxmlformats.org/officeDocument/2006/relationships/slide" Target="slides/slide93.xml"/><Relationship Id="rId1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6044-19A5-47E2-A6AE-0E6C5DF11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577F-9585-42FC-9780-0C31D5C7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1FD85-A9D2-4FC6-9549-D96AD69D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AD6F4-30FF-4939-A767-39DC7854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FA725-9F08-4D3B-B7BA-3FB5D83F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476F9-14D0-4AA2-851D-BEF9F4AC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F9DC7-7519-4A7F-AD15-710ED5B2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C65AB-2FF0-4674-A994-D76F3890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CE68B-4558-4A8C-94D7-0771C799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CD6F2-B8C0-448A-BEEC-8734F10C5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797CB-D696-4770-9F5B-87F6075BE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1A4B-F8D0-4DD7-8A1F-D0A8525B0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297B-D14A-4E8E-814E-9D96325FE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A94DF-C71E-4F58-AD6D-BDD219692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50787-2A26-4392-BB02-FDFB0EAA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D76A2-A7AA-481F-9EA4-DF90C064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0091C-79F7-4FEE-AD8D-A95CDCF7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989C5-F2EB-488B-912C-27A9DD00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807FB-E21C-4800-A26D-5A63CE63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0E4E4-61D9-478A-AA97-E6122AAE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93CA6-3391-46A4-9CAE-294542FD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21F9E-AD50-4FEC-9A95-9D05D693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77DCE-5CEA-4B39-9925-EC5E7198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9FDA7-EF51-42D2-9C0A-E081977F9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4F031-AAB3-46BB-B484-235D6B237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1B6D4-7498-41FD-B3F3-4A79039DF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6697E-7E9F-4E58-809F-14A485C5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E4D9C-66C1-41DE-B7E6-2E376421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75530-1BEB-440B-AD70-258F99D7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D04FE-9272-4D6A-98C4-2CABE62B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2EFDD-FD27-4C09-86B0-4B4DFD62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EB09B-BFE6-4763-BA1D-9FCAA72F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38C6D-4D76-4B85-9278-3E0EC9A4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F238D-59AC-4DB7-8036-42F5FBAD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8AA9B-6A76-40EB-BBEA-9204C7FB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A5938-FF51-4726-8640-C4EF86D27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E88C7-6515-486B-A776-EAB688132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6060-ADD7-4D58-8546-3F7D1651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1FF0-595A-487A-A868-3A28E1BF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CDC8-4433-459C-8D96-15EEDFF5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772F-BD6F-4710-8353-B17CD2DB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6A45-43AC-43C9-8E5B-E6B57F42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088C-AF0E-458A-8947-D5FEDF54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E952-FB4A-45E9-9B7C-F3C393E9A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4327-746B-48CD-9AD7-F927BEFC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95AF-A049-4325-A3D1-1F6855AE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F9F4-BCB9-4964-8D1B-A0D3317F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E81C-9EAD-44B4-8B85-4155FE4B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C2EE-FCED-40A9-9758-0A3DE7E4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72C1-FCAF-44D9-A262-49D3BF99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A138-EA99-4725-97DE-3550188C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A729-1926-4D47-BF5D-A77FFB2F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7132-879D-4263-8B4E-93528AB6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7B66-57AC-4781-A415-2F6BC4F5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5790-2918-4ECA-9324-D58C8A426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33FB-7547-4899-87A9-E2B6EA9E9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EAC3D-22C2-44A2-A6C8-3262FF00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75B7E-F492-44E9-9A5A-F7C82C97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8D8BE-2CA5-4DB0-BD4B-C896070F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D2B21-E7F7-4836-B406-AC74A359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F366A-CA75-4289-AC01-98FCF65B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BF1D-5E7E-4054-9F7D-42C0AE39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1D247-58D7-49CC-B638-61BABC0F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78E9F-2733-4DB7-A26A-23E1FB56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9D65E-C209-4C19-A4ED-8D3D89B5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3926F-0421-498C-8012-BA87ACFA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AB520-4B18-4A84-B93A-E65D826D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412D4-3C92-4D1D-B42B-8278C22F5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4407F-3756-4917-A179-746062686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F9743-ECA8-4BE9-9AD3-17ED57877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0ECE8-7DA9-4CEC-9E04-4201C4BE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B471F-8D74-449D-8D91-6FDFB582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91E7-BDD6-4AEE-A835-FD7E70010FE5}" type="slidenum">
              <a:rPr b="0" lang="ar-AE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(Arabic)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 (Arabic)"/>
            </a:endParaRPr>
          </a:p>
          <a:p>
            <a:pPr lvl="1" marL="457200" indent="0"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 (Arabic)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 (Arabic)"/>
            </a:endParaRPr>
          </a:p>
          <a:p>
            <a:pPr lvl="2" marL="914400" algn="ctr" rtl="1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(Arabic)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 (Arabic)"/>
            </a:endParaRPr>
          </a:p>
          <a:p>
            <a:pPr lvl="3" marL="1371600" algn="ctr" rtl="1">
              <a:spcBef>
                <a:spcPts val="499"/>
              </a:spcBef>
              <a:buClr>
                <a:srgbClr val="ffffcc"/>
              </a:buClr>
              <a:buFont typeface="Times New Roman (Arabic)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(Arabic)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 (Arabic)"/>
            </a:endParaRPr>
          </a:p>
          <a:p>
            <a:pPr lvl="4" marL="1828800" algn="ctr" rtl="1">
              <a:spcBef>
                <a:spcPts val="499"/>
              </a:spcBef>
              <a:buClr>
                <a:srgbClr val="800000"/>
              </a:buClr>
              <a:buFont typeface="Times New Roman (Arabic)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(Arabic)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 (Arabic)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 (Arabic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(Arabic)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 (Arabic)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 (Arabic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(Arabic)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 (Arabic)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9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A42E-EA62-4E1E-90F9-7FC8F047EFC4}" type="slidenum">
              <a:rPr b="0" lang="ar-AE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6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PlaceHolder 1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07DF-D210-4CE8-A8C3-4EEBF0830D0F}" type="slidenum">
              <a:rPr b="0" lang="ar-AE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 algn="r" rtl="1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 algn="r" rtl="1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 algn="r" rtl="1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 rtl="1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 rtl="1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 rtl="1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r" rtl="1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r" rtl="1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 algn="r" rtl="1">
              <a:spcBef>
                <a:spcPts val="6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 algn="r" rtl="1">
              <a:spcBef>
                <a:spcPts val="550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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5284-D3A5-4078-BF1F-4587436A9822}" type="slidenum">
              <a:rPr b="0" lang="ar-AE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Comic Sans MS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400" spc="-1" strike="noStrike">
                <a:solidFill>
                  <a:srgbClr val="ffffff"/>
                </a:solidFill>
                <a:latin typeface="Comic Sans MS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C805-C86F-4B2E-A2BC-3E16D0A4F47C}" type="slidenum">
              <a:rPr b="0" lang="ar-AE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76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0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3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02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03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06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07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8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09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7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Comic Sans MS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400" spc="-1" strike="noStrike">
                <a:solidFill>
                  <a:srgbClr val="ffffff"/>
                </a:solidFill>
                <a:latin typeface="Comic Sans MS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8A88-9733-404C-8433-212A23B35210}" type="slidenum">
              <a:rPr b="0" lang="ar-AE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60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64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9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70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74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9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0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0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0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0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9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46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116000" y="1988640"/>
            <a:ext cx="6624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900" spc="-1" strike="noStrike">
                <a:solidFill>
                  <a:srgbClr val="000000"/>
                </a:solidFill>
                <a:latin typeface="AL-Hor"/>
                <a:cs typeface="PT Bold Heading"/>
              </a:rPr>
              <a:t>إلى كل زوجين قبل فوات الأوان.</a:t>
            </a:r>
            <a:endParaRPr b="1" lang="en-US" sz="69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324000" y="458640"/>
            <a:ext cx="8259480" cy="2868840"/>
          </a:xfrm>
          <a:prstGeom prst="horizontalScroll">
            <a:avLst>
              <a:gd name="adj" fmla="val 25000"/>
            </a:avLst>
          </a:prstGeom>
          <a:solidFill>
            <a:srgbClr val="ffff99">
              <a:alpha val="70000"/>
            </a:srgbClr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نسب الطلاق في بعض دول الخليج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838840" y="2890800"/>
            <a:ext cx="138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059280" y="1793880"/>
            <a:ext cx="4968720" cy="764280"/>
          </a:xfrm>
          <a:prstGeom prst="rect">
            <a:avLst/>
          </a:prstGeom>
          <a:solidFill>
            <a:srgbClr val="ffff99">
              <a:alpha val="70000"/>
            </a:srgbClr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إم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55640" y="1793880"/>
            <a:ext cx="2035080" cy="143460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40%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059280" y="2730600"/>
            <a:ext cx="4968720" cy="764280"/>
          </a:xfrm>
          <a:prstGeom prst="rect">
            <a:avLst/>
          </a:prstGeom>
          <a:solidFill>
            <a:srgbClr val="ffff99">
              <a:alpha val="70000"/>
            </a:srgbClr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قط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55640" y="2730600"/>
            <a:ext cx="203508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38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059280" y="3666960"/>
            <a:ext cx="4968720" cy="764280"/>
          </a:xfrm>
          <a:prstGeom prst="rect">
            <a:avLst/>
          </a:prstGeom>
          <a:solidFill>
            <a:srgbClr val="ffff99">
              <a:alpha val="70000"/>
            </a:srgbClr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كوي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55640" y="3666960"/>
            <a:ext cx="203508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35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059280" y="4602240"/>
            <a:ext cx="4968720" cy="764280"/>
          </a:xfrm>
          <a:prstGeom prst="rect">
            <a:avLst/>
          </a:prstGeom>
          <a:solidFill>
            <a:srgbClr val="ffff99">
              <a:alpha val="70000"/>
            </a:srgbClr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بحري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55640" y="4622760"/>
            <a:ext cx="203508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34%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059280" y="5538960"/>
            <a:ext cx="4968720" cy="764280"/>
          </a:xfrm>
          <a:prstGeom prst="rect">
            <a:avLst/>
          </a:prstGeom>
          <a:solidFill>
            <a:srgbClr val="ffff99">
              <a:alpha val="70000"/>
            </a:srgbClr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سعود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70040" y="5610240"/>
            <a:ext cx="204156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21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8" dur="2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3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3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5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3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95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3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3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3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85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3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15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3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450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3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367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900" spc="-1" strike="noStrike">
                <a:solidFill>
                  <a:srgbClr val="ff0000"/>
                </a:solidFill>
                <a:latin typeface="Times New Roman"/>
                <a:ea typeface="Traditional Arabic Backslanted"/>
              </a:rPr>
              <a:t>14</a:t>
            </a:r>
            <a:endParaRPr b="0" lang="en-US" sz="2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3581280"/>
            <a:ext cx="77724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حالة طلاق يوميا في الرياض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0" name=""/>
          <p:cNvGraphicFramePr/>
          <p:nvPr/>
        </p:nvGraphicFramePr>
        <p:xfrm>
          <a:off x="250920" y="228600"/>
          <a:ext cx="864216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28600"/>
                    <a:ext cx="864216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"/>
          <p:cNvSpPr/>
          <p:nvPr/>
        </p:nvSpPr>
        <p:spPr>
          <a:xfrm>
            <a:off x="324000" y="458640"/>
            <a:ext cx="8259480" cy="2868840"/>
          </a:xfrm>
          <a:prstGeom prst="horizontalScroll">
            <a:avLst>
              <a:gd name="adj" fmla="val 25000"/>
            </a:avLst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ثر الطلاق سيكون على كل من 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5838840" y="2890800"/>
            <a:ext cx="138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130640" y="1793880"/>
            <a:ext cx="361008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اولاد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971640" y="1793880"/>
            <a:ext cx="203508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 أولاً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132440" y="2730600"/>
            <a:ext cx="357480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زوج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971640" y="2730600"/>
            <a:ext cx="203508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 ثاني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132440" y="3666960"/>
            <a:ext cx="357480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زو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971640" y="3666960"/>
            <a:ext cx="203508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 ثالث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132440" y="4602240"/>
            <a:ext cx="357480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أهل الزوج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971640" y="4622760"/>
            <a:ext cx="203508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 رابعا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168800" y="5538960"/>
            <a:ext cx="353844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أهل الزو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985680" y="5610240"/>
            <a:ext cx="204156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خامس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203640" y="1844640"/>
            <a:ext cx="792000" cy="720720"/>
          </a:xfrm>
          <a:prstGeom prst="leftArrow">
            <a:avLst>
              <a:gd name="adj1" fmla="val 50000"/>
              <a:gd name="adj2" fmla="val 27473"/>
            </a:avLst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203640" y="2781360"/>
            <a:ext cx="792000" cy="720720"/>
          </a:xfrm>
          <a:prstGeom prst="leftArrow">
            <a:avLst>
              <a:gd name="adj1" fmla="val 50000"/>
              <a:gd name="adj2" fmla="val 27473"/>
            </a:avLst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132000" y="3716280"/>
            <a:ext cx="792360" cy="720720"/>
          </a:xfrm>
          <a:prstGeom prst="leftArrow">
            <a:avLst>
              <a:gd name="adj1" fmla="val 50000"/>
              <a:gd name="adj2" fmla="val 27485"/>
            </a:avLst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132000" y="4653000"/>
            <a:ext cx="792360" cy="720720"/>
          </a:xfrm>
          <a:prstGeom prst="leftArrow">
            <a:avLst>
              <a:gd name="adj1" fmla="val 50000"/>
              <a:gd name="adj2" fmla="val 27485"/>
            </a:avLst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132000" y="5589720"/>
            <a:ext cx="792360" cy="720720"/>
          </a:xfrm>
          <a:prstGeom prst="leftArrow">
            <a:avLst>
              <a:gd name="adj1" fmla="val 50000"/>
              <a:gd name="adj2" fmla="val 27485"/>
            </a:avLst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3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8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3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3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3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3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3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2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3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3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8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3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828280" cy="6480000"/>
          </a:xfrm>
          <a:prstGeom prst="rect">
            <a:avLst/>
          </a:prstGeom>
          <a:gradFill rotWithShape="0">
            <a:gsLst>
              <a:gs pos="0">
                <a:srgbClr val="e1c11f"/>
              </a:gs>
              <a:gs pos="50000">
                <a:srgbClr val="ffffff"/>
              </a:gs>
              <a:gs pos="100000">
                <a:srgbClr val="e1c11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2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Hitteen"/>
              </a:rPr>
              <a:t>إن ابليس يضع عرشه على الماء ثُمَّ يبعث سراياه فأدناهم منزلة اعظمهم فتنة ، يجيء احدهم فيقول: فعلت كذا وكذا فيقول الشيطان له: ما صنعت شيئا ثُمَّ يجيء أخر فيقول: ما تركته حتى فرقت بينه وبين امراته، قال: فيدنيه الشيطان منه ويلتزمه ويقول: أنت أنت. </a:t>
            </a:r>
            <a:r>
              <a:rPr b="1" lang="ar-SA" sz="1800" spc="-1" strike="noStrike">
                <a:solidFill>
                  <a:srgbClr val="000000"/>
                </a:solidFill>
                <a:latin typeface="Hitteen"/>
              </a:rPr>
              <a:t>(</a:t>
            </a:r>
            <a:r>
              <a:rPr b="1" lang="ar-SA" sz="2000" spc="-1" strike="noStrike">
                <a:solidFill>
                  <a:srgbClr val="000000"/>
                </a:solidFill>
                <a:latin typeface="Hitteen"/>
                <a:cs typeface="PT Bold Heading"/>
              </a:rPr>
              <a:t>رواه مسلم</a:t>
            </a:r>
            <a:r>
              <a:rPr b="1" lang="ar-SA" sz="1800" spc="-1" strike="noStrike">
                <a:solidFill>
                  <a:srgbClr val="000000"/>
                </a:solidFill>
                <a:latin typeface="Hitteen"/>
              </a:rPr>
              <a:t>)</a:t>
            </a:r>
            <a:r>
              <a:rPr b="1" lang="ar-SA" sz="3200" spc="-1" strike="noStrike">
                <a:solidFill>
                  <a:srgbClr val="000000"/>
                </a:solidFill>
                <a:latin typeface="Hittee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/>
          </p:nvPr>
        </p:nvSpPr>
        <p:spPr>
          <a:xfrm>
            <a:off x="142920" y="549360"/>
            <a:ext cx="7524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ct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66"/>
                </a:solidFill>
                <a:latin typeface="Hitteen"/>
                <a:cs typeface="PT Bold Heading"/>
              </a:rPr>
              <a:t>الطلاق العاطفي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3" name="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7416720" cy="4752720"/>
          </a:xfrm>
          <a:prstGeom prst="rect">
            <a:avLst/>
          </a:prstGeom>
          <a:ln w="76320">
            <a:solidFill>
              <a:srgbClr val="ffffcc"/>
            </a:solidFill>
            <a:prstDash val="sysDot"/>
            <a:miter/>
          </a:ln>
        </p:spPr>
      </p:pic>
      <p:sp>
        <p:nvSpPr>
          <p:cNvPr id="1034" name=""/>
          <p:cNvSpPr/>
          <p:nvPr/>
        </p:nvSpPr>
        <p:spPr>
          <a:xfrm>
            <a:off x="7020000" y="2419200"/>
            <a:ext cx="1297080" cy="649440"/>
          </a:xfrm>
          <a:prstGeom prst="rightArrow">
            <a:avLst>
              <a:gd name="adj1" fmla="val 50000"/>
              <a:gd name="adj2" fmla="val 49931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rot="10800000">
            <a:off x="1042560" y="2420640"/>
            <a:ext cx="1297080" cy="647640"/>
          </a:xfrm>
          <a:prstGeom prst="rightArrow">
            <a:avLst>
              <a:gd name="adj1" fmla="val 50000"/>
              <a:gd name="adj2" fmla="val 5006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643280" y="1773360"/>
            <a:ext cx="0" cy="5084640"/>
          </a:xfrm>
          <a:prstGeom prst="line">
            <a:avLst/>
          </a:prstGeom>
          <a:ln w="1872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588000" y="115920"/>
            <a:ext cx="2448000" cy="576360"/>
          </a:xfrm>
          <a:prstGeom prst="rect">
            <a:avLst/>
          </a:prstGeom>
          <a:gradFill rotWithShape="0">
            <a:gsLst>
              <a:gs pos="0">
                <a:srgbClr val="a8a843"/>
              </a:gs>
              <a:gs pos="50000">
                <a:srgbClr val="ffff66"/>
              </a:gs>
              <a:gs pos="100000">
                <a:srgbClr val="a8a843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 u="sng">
                <a:solidFill>
                  <a:srgbClr val="000066"/>
                </a:solidFill>
                <a:uFillTx/>
                <a:latin typeface="Arial"/>
                <a:cs typeface="PT Bold Heading"/>
              </a:rPr>
              <a:t>لماذا هذا الموضوع؟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mph" presetID="34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2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100"/>
                            </p:stCondLst>
                            <p:childTnLst>
                              <p:par>
                                <p:cTn id="3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100"/>
                            </p:stCondLst>
                            <p:childTnLst>
                              <p:par>
                                <p:cTn id="3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324000" y="189000"/>
            <a:ext cx="8569080" cy="6480000"/>
          </a:xfrm>
          <a:custGeom>
            <a:avLst/>
            <a:gdLst>
              <a:gd name="textAreaLeft" fmla="*/ 2242440 w 8569080"/>
              <a:gd name="textAreaRight" fmla="*/ 6326640 w 8569080"/>
              <a:gd name="textAreaTop" fmla="*/ 1695960 h 6480000"/>
              <a:gd name="textAreaBottom" fmla="*/ 4784040 h 648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655" y="12189"/>
                </a:lnTo>
                <a:lnTo>
                  <a:pt x="786" y="14846"/>
                </a:lnTo>
                <a:lnTo>
                  <a:pt x="4695" y="14764"/>
                </a:lnTo>
                <a:lnTo>
                  <a:pt x="3163" y="18437"/>
                </a:lnTo>
                <a:lnTo>
                  <a:pt x="6730" y="16835"/>
                </a:lnTo>
                <a:lnTo>
                  <a:pt x="6580" y="20741"/>
                </a:lnTo>
                <a:lnTo>
                  <a:pt x="9287" y="17920"/>
                </a:lnTo>
                <a:lnTo>
                  <a:pt x="10800" y="21600"/>
                </a:lnTo>
                <a:lnTo>
                  <a:pt x="12189" y="17945"/>
                </a:lnTo>
                <a:lnTo>
                  <a:pt x="14846" y="20814"/>
                </a:lnTo>
                <a:lnTo>
                  <a:pt x="14764" y="16905"/>
                </a:lnTo>
                <a:lnTo>
                  <a:pt x="18437" y="18437"/>
                </a:lnTo>
                <a:lnTo>
                  <a:pt x="16835" y="14870"/>
                </a:lnTo>
                <a:lnTo>
                  <a:pt x="20741" y="15020"/>
                </a:lnTo>
                <a:lnTo>
                  <a:pt x="17920" y="12313"/>
                </a:lnTo>
                <a:lnTo>
                  <a:pt x="21600" y="10800"/>
                </a:lnTo>
                <a:lnTo>
                  <a:pt x="17945" y="9411"/>
                </a:lnTo>
                <a:lnTo>
                  <a:pt x="20814" y="6754"/>
                </a:lnTo>
                <a:lnTo>
                  <a:pt x="16905" y="6836"/>
                </a:lnTo>
                <a:lnTo>
                  <a:pt x="18437" y="3163"/>
                </a:lnTo>
                <a:lnTo>
                  <a:pt x="14870" y="4765"/>
                </a:lnTo>
                <a:lnTo>
                  <a:pt x="15020" y="859"/>
                </a:lnTo>
                <a:lnTo>
                  <a:pt x="12313" y="3680"/>
                </a:lnTo>
                <a:lnTo>
                  <a:pt x="10800" y="0"/>
                </a:lnTo>
                <a:lnTo>
                  <a:pt x="9411" y="3655"/>
                </a:lnTo>
                <a:lnTo>
                  <a:pt x="6754" y="786"/>
                </a:lnTo>
                <a:lnTo>
                  <a:pt x="6836" y="4695"/>
                </a:lnTo>
                <a:lnTo>
                  <a:pt x="3163" y="3163"/>
                </a:lnTo>
                <a:lnTo>
                  <a:pt x="4765" y="6730"/>
                </a:lnTo>
                <a:lnTo>
                  <a:pt x="859" y="6580"/>
                </a:lnTo>
                <a:lnTo>
                  <a:pt x="3680" y="928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19a9a"/>
              </a:gs>
              <a:gs pos="100000">
                <a:srgbClr val="ff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قاش مفتوح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380880" y="3962520"/>
            <a:ext cx="8382240" cy="3333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993600" y="3813120"/>
            <a:ext cx="43848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1004760" y="3478320"/>
            <a:ext cx="307800" cy="414360"/>
            <a:chOff x="1004760" y="3478320"/>
            <a:chExt cx="307800" cy="414360"/>
          </a:xfrm>
        </p:grpSpPr>
        <p:sp>
          <p:nvSpPr>
            <p:cNvPr id="1042" name=""/>
            <p:cNvSpPr/>
            <p:nvPr/>
          </p:nvSpPr>
          <p:spPr>
            <a:xfrm>
              <a:off x="107316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00476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00800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12212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00800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11888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12212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11096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19052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09512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15092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06992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4" name=""/>
          <p:cNvSpPr/>
          <p:nvPr/>
        </p:nvSpPr>
        <p:spPr>
          <a:xfrm>
            <a:off x="911160" y="3154320"/>
            <a:ext cx="480960" cy="35892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62120" y="2666880"/>
            <a:ext cx="77616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92232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62120" y="2597040"/>
            <a:ext cx="77760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15416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7472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556320" y="3813120"/>
            <a:ext cx="43812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1" name=""/>
          <p:cNvGrpSpPr/>
          <p:nvPr/>
        </p:nvGrpSpPr>
        <p:grpSpPr>
          <a:xfrm>
            <a:off x="6567480" y="3478320"/>
            <a:ext cx="307800" cy="414360"/>
            <a:chOff x="6567480" y="3478320"/>
            <a:chExt cx="307800" cy="414360"/>
          </a:xfrm>
        </p:grpSpPr>
        <p:sp>
          <p:nvSpPr>
            <p:cNvPr id="1062" name=""/>
            <p:cNvSpPr/>
            <p:nvPr/>
          </p:nvSpPr>
          <p:spPr>
            <a:xfrm>
              <a:off x="663588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56748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57072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68484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57072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68160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68484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67368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75324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65784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71364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63264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6473880" y="3154320"/>
            <a:ext cx="480960" cy="35892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324480" y="2666880"/>
            <a:ext cx="77652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48504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324480" y="2597040"/>
            <a:ext cx="77796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71688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33744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736800" y="3813120"/>
            <a:ext cx="43848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1" name=""/>
          <p:cNvGrpSpPr/>
          <p:nvPr/>
        </p:nvGrpSpPr>
        <p:grpSpPr>
          <a:xfrm>
            <a:off x="3747960" y="3478320"/>
            <a:ext cx="307800" cy="414360"/>
            <a:chOff x="3747960" y="3478320"/>
            <a:chExt cx="307800" cy="414360"/>
          </a:xfrm>
        </p:grpSpPr>
        <p:sp>
          <p:nvSpPr>
            <p:cNvPr id="1082" name=""/>
            <p:cNvSpPr/>
            <p:nvPr/>
          </p:nvSpPr>
          <p:spPr>
            <a:xfrm>
              <a:off x="381636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74796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75120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86532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75120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86208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86532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85416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93372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83832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89412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81312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4" name=""/>
          <p:cNvSpPr/>
          <p:nvPr/>
        </p:nvSpPr>
        <p:spPr>
          <a:xfrm>
            <a:off x="3654360" y="3154320"/>
            <a:ext cx="480960" cy="35892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505320" y="2666880"/>
            <a:ext cx="77616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66552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505320" y="2597040"/>
            <a:ext cx="77760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89736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51792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184720" y="3813120"/>
            <a:ext cx="43812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1" name=""/>
          <p:cNvGrpSpPr/>
          <p:nvPr/>
        </p:nvGrpSpPr>
        <p:grpSpPr>
          <a:xfrm>
            <a:off x="5195880" y="3478320"/>
            <a:ext cx="307800" cy="414360"/>
            <a:chOff x="5195880" y="3478320"/>
            <a:chExt cx="307800" cy="414360"/>
          </a:xfrm>
        </p:grpSpPr>
        <p:sp>
          <p:nvSpPr>
            <p:cNvPr id="1102" name=""/>
            <p:cNvSpPr/>
            <p:nvPr/>
          </p:nvSpPr>
          <p:spPr>
            <a:xfrm>
              <a:off x="526428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19588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19912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31324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19912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31000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31324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30208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38164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28624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34204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26104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4" name=""/>
          <p:cNvSpPr/>
          <p:nvPr/>
        </p:nvSpPr>
        <p:spPr>
          <a:xfrm>
            <a:off x="5102280" y="3154320"/>
            <a:ext cx="480960" cy="358920"/>
          </a:xfrm>
          <a:prstGeom prst="ellipse">
            <a:avLst/>
          </a:prstGeom>
          <a:solidFill>
            <a:srgbClr val="ff8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952880" y="2666880"/>
            <a:ext cx="77652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11344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952880" y="2597040"/>
            <a:ext cx="77796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534528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ffa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96584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365200" y="3813120"/>
            <a:ext cx="43848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1" name=""/>
          <p:cNvGrpSpPr/>
          <p:nvPr/>
        </p:nvGrpSpPr>
        <p:grpSpPr>
          <a:xfrm>
            <a:off x="2376360" y="3478320"/>
            <a:ext cx="307800" cy="414360"/>
            <a:chOff x="2376360" y="3478320"/>
            <a:chExt cx="307800" cy="414360"/>
          </a:xfrm>
        </p:grpSpPr>
        <p:sp>
          <p:nvSpPr>
            <p:cNvPr id="1122" name=""/>
            <p:cNvSpPr/>
            <p:nvPr/>
          </p:nvSpPr>
          <p:spPr>
            <a:xfrm>
              <a:off x="244476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37636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37960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49372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37960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49048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49372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48256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56212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46672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52252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44152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2282760" y="3154320"/>
            <a:ext cx="480960" cy="358920"/>
          </a:xfrm>
          <a:prstGeom prst="ellipse">
            <a:avLst/>
          </a:prstGeom>
          <a:solidFill>
            <a:srgbClr val="ff8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133720" y="2666880"/>
            <a:ext cx="77616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29392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133720" y="2597040"/>
            <a:ext cx="77760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52576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ffa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14632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927920" y="3813120"/>
            <a:ext cx="43812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1" name=""/>
          <p:cNvGrpSpPr/>
          <p:nvPr/>
        </p:nvGrpSpPr>
        <p:grpSpPr>
          <a:xfrm>
            <a:off x="7939080" y="3478320"/>
            <a:ext cx="307800" cy="414360"/>
            <a:chOff x="7939080" y="3478320"/>
            <a:chExt cx="307800" cy="414360"/>
          </a:xfrm>
        </p:grpSpPr>
        <p:sp>
          <p:nvSpPr>
            <p:cNvPr id="1142" name=""/>
            <p:cNvSpPr/>
            <p:nvPr/>
          </p:nvSpPr>
          <p:spPr>
            <a:xfrm>
              <a:off x="800748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93908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94232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805644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94232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805320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805644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04528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12484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802944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08524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00424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4" name=""/>
          <p:cNvSpPr/>
          <p:nvPr/>
        </p:nvSpPr>
        <p:spPr>
          <a:xfrm>
            <a:off x="7845480" y="3154320"/>
            <a:ext cx="480960" cy="358920"/>
          </a:xfrm>
          <a:prstGeom prst="ellipse">
            <a:avLst/>
          </a:prstGeom>
          <a:solidFill>
            <a:srgbClr val="ff8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696080" y="2666880"/>
            <a:ext cx="77652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85664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696080" y="2597040"/>
            <a:ext cx="77796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808848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ffa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70904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380880" y="3962520"/>
            <a:ext cx="8382240" cy="3333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993600" y="3813120"/>
            <a:ext cx="43848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1004760" y="3478320"/>
            <a:ext cx="307800" cy="414360"/>
            <a:chOff x="1004760" y="3478320"/>
            <a:chExt cx="307800" cy="414360"/>
          </a:xfrm>
        </p:grpSpPr>
        <p:sp>
          <p:nvSpPr>
            <p:cNvPr id="1163" name=""/>
            <p:cNvSpPr/>
            <p:nvPr/>
          </p:nvSpPr>
          <p:spPr>
            <a:xfrm>
              <a:off x="107316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00476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00800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12212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00800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11888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12212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11096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19052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09512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15092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06992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5" name=""/>
          <p:cNvSpPr/>
          <p:nvPr/>
        </p:nvSpPr>
        <p:spPr>
          <a:xfrm>
            <a:off x="911160" y="3154320"/>
            <a:ext cx="480960" cy="35892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762120" y="2666880"/>
            <a:ext cx="77616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92232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762120" y="2597040"/>
            <a:ext cx="77760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15416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77472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29392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736800" y="3813120"/>
            <a:ext cx="43848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3" name=""/>
          <p:cNvGrpSpPr/>
          <p:nvPr/>
        </p:nvGrpSpPr>
        <p:grpSpPr>
          <a:xfrm>
            <a:off x="3747960" y="3478320"/>
            <a:ext cx="307800" cy="414360"/>
            <a:chOff x="3747960" y="3478320"/>
            <a:chExt cx="307800" cy="414360"/>
          </a:xfrm>
        </p:grpSpPr>
        <p:sp>
          <p:nvSpPr>
            <p:cNvPr id="1184" name=""/>
            <p:cNvSpPr/>
            <p:nvPr/>
          </p:nvSpPr>
          <p:spPr>
            <a:xfrm>
              <a:off x="381636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74796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75120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86532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75120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86208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86532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85416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93372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83832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89412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81312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6" name=""/>
          <p:cNvSpPr/>
          <p:nvPr/>
        </p:nvSpPr>
        <p:spPr>
          <a:xfrm>
            <a:off x="3654360" y="3154320"/>
            <a:ext cx="480960" cy="35892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3505320" y="2666880"/>
            <a:ext cx="77616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66552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3505320" y="2597040"/>
            <a:ext cx="77760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89736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51792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184720" y="3813120"/>
            <a:ext cx="43812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3" name=""/>
          <p:cNvGrpSpPr/>
          <p:nvPr/>
        </p:nvGrpSpPr>
        <p:grpSpPr>
          <a:xfrm>
            <a:off x="5195880" y="3478320"/>
            <a:ext cx="307800" cy="414360"/>
            <a:chOff x="5195880" y="3478320"/>
            <a:chExt cx="307800" cy="414360"/>
          </a:xfrm>
        </p:grpSpPr>
        <p:sp>
          <p:nvSpPr>
            <p:cNvPr id="1204" name=""/>
            <p:cNvSpPr/>
            <p:nvPr/>
          </p:nvSpPr>
          <p:spPr>
            <a:xfrm>
              <a:off x="526428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19588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19912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31324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19912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31000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31324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30208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38164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28624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34204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26104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6" name=""/>
          <p:cNvSpPr/>
          <p:nvPr/>
        </p:nvSpPr>
        <p:spPr>
          <a:xfrm>
            <a:off x="5102280" y="3154320"/>
            <a:ext cx="480960" cy="358920"/>
          </a:xfrm>
          <a:prstGeom prst="ellipse">
            <a:avLst/>
          </a:prstGeom>
          <a:solidFill>
            <a:srgbClr val="ff8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952880" y="2666880"/>
            <a:ext cx="77652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11344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952880" y="2597040"/>
            <a:ext cx="77796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34528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ffa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96584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556320" y="3813120"/>
            <a:ext cx="43812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3" name=""/>
          <p:cNvGrpSpPr/>
          <p:nvPr/>
        </p:nvGrpSpPr>
        <p:grpSpPr>
          <a:xfrm>
            <a:off x="4038480" y="2057040"/>
            <a:ext cx="414360" cy="307800"/>
            <a:chOff x="4038480" y="2057040"/>
            <a:chExt cx="414360" cy="307800"/>
          </a:xfrm>
        </p:grpSpPr>
        <p:sp>
          <p:nvSpPr>
            <p:cNvPr id="1224" name=""/>
            <p:cNvSpPr/>
            <p:nvPr/>
          </p:nvSpPr>
          <p:spPr>
            <a:xfrm rot="16200000">
              <a:off x="4151160" y="214560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rot="16200000">
              <a:off x="4257720" y="216972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rot="16200000">
              <a:off x="4222800" y="218052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 rot="16200000">
              <a:off x="4153680" y="205920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rot="16200000">
              <a:off x="4253760" y="220680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rot="16200000">
              <a:off x="4308480" y="219996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rot="16200000">
              <a:off x="4303440" y="22028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rot="16200000">
              <a:off x="4228920" y="219492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rot="16200000">
              <a:off x="4228920" y="211536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rot="16200000">
              <a:off x="4166280" y="214956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rot="16200000">
              <a:off x="4180680" y="204804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rot="16200000">
              <a:off x="4280040" y="214884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6" name=""/>
          <p:cNvSpPr/>
          <p:nvPr/>
        </p:nvSpPr>
        <p:spPr>
          <a:xfrm rot="16200000">
            <a:off x="3596400" y="1965960"/>
            <a:ext cx="480960" cy="35892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rot="16200000">
            <a:off x="3091320" y="1784520"/>
            <a:ext cx="77652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rot="16200000">
            <a:off x="2730600" y="206964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7927920" y="3813120"/>
            <a:ext cx="43812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0" name=""/>
          <p:cNvGrpSpPr/>
          <p:nvPr/>
        </p:nvGrpSpPr>
        <p:grpSpPr>
          <a:xfrm>
            <a:off x="7939080" y="3478320"/>
            <a:ext cx="307800" cy="414360"/>
            <a:chOff x="7939080" y="3478320"/>
            <a:chExt cx="307800" cy="414360"/>
          </a:xfrm>
        </p:grpSpPr>
        <p:sp>
          <p:nvSpPr>
            <p:cNvPr id="1241" name=""/>
            <p:cNvSpPr/>
            <p:nvPr/>
          </p:nvSpPr>
          <p:spPr>
            <a:xfrm>
              <a:off x="800748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93908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94232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805644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94232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805320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805644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804528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812484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802944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808524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800424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3" name=""/>
          <p:cNvSpPr/>
          <p:nvPr/>
        </p:nvSpPr>
        <p:spPr>
          <a:xfrm>
            <a:off x="7845480" y="3154320"/>
            <a:ext cx="480960" cy="358920"/>
          </a:xfrm>
          <a:prstGeom prst="ellipse">
            <a:avLst/>
          </a:prstGeom>
          <a:solidFill>
            <a:srgbClr val="ff8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696080" y="2666880"/>
            <a:ext cx="77652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785664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696080" y="2597040"/>
            <a:ext cx="77796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808848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ffa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70904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9" name=""/>
          <p:cNvGrpSpPr/>
          <p:nvPr/>
        </p:nvGrpSpPr>
        <p:grpSpPr>
          <a:xfrm>
            <a:off x="2057400" y="2361960"/>
            <a:ext cx="1219320" cy="1600560"/>
            <a:chOff x="2057400" y="2361960"/>
            <a:chExt cx="1219320" cy="1600560"/>
          </a:xfrm>
        </p:grpSpPr>
        <p:sp>
          <p:nvSpPr>
            <p:cNvPr id="1260" name=""/>
            <p:cNvSpPr/>
            <p:nvPr/>
          </p:nvSpPr>
          <p:spPr>
            <a:xfrm>
              <a:off x="2209680" y="3875040"/>
              <a:ext cx="438120" cy="87480"/>
            </a:xfrm>
            <a:prstGeom prst="ellipse">
              <a:avLst/>
            </a:prstGeom>
            <a:solidFill>
              <a:srgbClr val="2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1" name=""/>
            <p:cNvGrpSpPr/>
            <p:nvPr/>
          </p:nvGrpSpPr>
          <p:grpSpPr>
            <a:xfrm>
              <a:off x="2286000" y="3548160"/>
              <a:ext cx="307800" cy="414360"/>
              <a:chOff x="2286000" y="3548160"/>
              <a:chExt cx="307800" cy="414360"/>
            </a:xfrm>
          </p:grpSpPr>
          <p:sp>
            <p:nvSpPr>
              <p:cNvPr id="1262" name=""/>
              <p:cNvSpPr/>
              <p:nvPr/>
            </p:nvSpPr>
            <p:spPr>
              <a:xfrm>
                <a:off x="2354400" y="3679920"/>
                <a:ext cx="169560" cy="131760"/>
              </a:xfrm>
              <a:prstGeom prst="ellipse">
                <a:avLst/>
              </a:prstGeom>
              <a:solidFill>
                <a:srgbClr val="c06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2286000" y="3880080"/>
                <a:ext cx="307800" cy="82440"/>
              </a:xfrm>
              <a:prstGeom prst="ellipse">
                <a:avLst/>
              </a:prstGeom>
              <a:solidFill>
                <a:srgbClr val="e07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89240" y="3853080"/>
                <a:ext cx="301680" cy="60480"/>
              </a:xfrm>
              <a:custGeom>
                <a:avLst/>
                <a:gdLst/>
                <a:ahLst/>
                <a:rect l="l" t="t" r="r" b="b"/>
                <a:pathLst>
                  <a:path w="381" h="76">
                    <a:moveTo>
                      <a:pt x="0" y="76"/>
                    </a:moveTo>
                    <a:lnTo>
                      <a:pt x="138" y="0"/>
                    </a:lnTo>
                    <a:lnTo>
                      <a:pt x="248" y="0"/>
                    </a:lnTo>
                    <a:lnTo>
                      <a:pt x="381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e0700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2403360" y="3548160"/>
                <a:ext cx="73080" cy="303480"/>
              </a:xfrm>
              <a:prstGeom prst="rect">
                <a:avLst/>
              </a:prstGeom>
              <a:solidFill>
                <a:srgbClr val="c06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2289240" y="3907080"/>
                <a:ext cx="298440" cy="11160"/>
              </a:xfrm>
              <a:custGeom>
                <a:avLst/>
                <a:gdLst/>
                <a:ahLst/>
                <a:rect l="l" t="t" r="r" b="b"/>
                <a:pathLst>
                  <a:path w="377" h="14">
                    <a:moveTo>
                      <a:pt x="23" y="0"/>
                    </a:moveTo>
                    <a:lnTo>
                      <a:pt x="0" y="14"/>
                    </a:lnTo>
                    <a:lnTo>
                      <a:pt x="377" y="14"/>
                    </a:lnTo>
                    <a:lnTo>
                      <a:pt x="358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2400120" y="3845160"/>
                <a:ext cx="77760" cy="23760"/>
              </a:xfrm>
              <a:prstGeom prst="ellipse">
                <a:avLst/>
              </a:prstGeom>
              <a:solidFill>
                <a:srgbClr val="c06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2403360" y="3840480"/>
                <a:ext cx="71640" cy="17280"/>
              </a:xfrm>
              <a:prstGeom prst="rect">
                <a:avLst/>
              </a:pr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2392200" y="3687840"/>
                <a:ext cx="12960" cy="114480"/>
              </a:xfrm>
              <a:custGeom>
                <a:avLst/>
                <a:gdLst/>
                <a:ahLst/>
                <a:rect l="l" t="t" r="r" b="b"/>
                <a:pathLst>
                  <a:path w="16" h="144">
                    <a:moveTo>
                      <a:pt x="0" y="11"/>
                    </a:moveTo>
                    <a:lnTo>
                      <a:pt x="16" y="0"/>
                    </a:lnTo>
                    <a:lnTo>
                      <a:pt x="16" y="144"/>
                    </a:lnTo>
                    <a:lnTo>
                      <a:pt x="0" y="136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2471760" y="3687840"/>
                <a:ext cx="12600" cy="114480"/>
              </a:xfrm>
              <a:custGeom>
                <a:avLst/>
                <a:gdLst/>
                <a:ahLst/>
                <a:rect l="l" t="t" r="r" b="b"/>
                <a:pathLst>
                  <a:path w="17" h="144">
                    <a:moveTo>
                      <a:pt x="17" y="11"/>
                    </a:moveTo>
                    <a:lnTo>
                      <a:pt x="0" y="0"/>
                    </a:lnTo>
                    <a:lnTo>
                      <a:pt x="0" y="144"/>
                    </a:lnTo>
                    <a:lnTo>
                      <a:pt x="17" y="136"/>
                    </a:lnTo>
                    <a:lnTo>
                      <a:pt x="17" y="11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2376360" y="3691080"/>
                <a:ext cx="139680" cy="10980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2432160" y="3554640"/>
                <a:ext cx="34920" cy="306360"/>
              </a:xfrm>
              <a:custGeom>
                <a:avLst/>
                <a:gdLst/>
                <a:ahLst/>
                <a:rect l="l" t="t" r="r" b="b"/>
                <a:pathLst>
                  <a:path w="45" h="386">
                    <a:moveTo>
                      <a:pt x="45" y="0"/>
                    </a:moveTo>
                    <a:lnTo>
                      <a:pt x="0" y="0"/>
                    </a:lnTo>
                    <a:lnTo>
                      <a:pt x="0" y="385"/>
                    </a:lnTo>
                    <a:lnTo>
                      <a:pt x="17" y="386"/>
                    </a:lnTo>
                    <a:lnTo>
                      <a:pt x="35" y="382"/>
                    </a:lnTo>
                    <a:lnTo>
                      <a:pt x="45" y="378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2351160" y="3864240"/>
                <a:ext cx="225360" cy="76320"/>
              </a:xfrm>
              <a:custGeom>
                <a:avLst/>
                <a:gdLst/>
                <a:ahLst/>
                <a:rect l="l" t="t" r="r" b="b"/>
                <a:pathLst>
                  <a:path w="284" h="97">
                    <a:moveTo>
                      <a:pt x="82" y="12"/>
                    </a:moveTo>
                    <a:lnTo>
                      <a:pt x="104" y="15"/>
                    </a:lnTo>
                    <a:lnTo>
                      <a:pt x="123" y="16"/>
                    </a:lnTo>
                    <a:lnTo>
                      <a:pt x="144" y="14"/>
                    </a:lnTo>
                    <a:lnTo>
                      <a:pt x="159" y="8"/>
                    </a:lnTo>
                    <a:lnTo>
                      <a:pt x="169" y="0"/>
                    </a:lnTo>
                    <a:lnTo>
                      <a:pt x="284" y="63"/>
                    </a:lnTo>
                    <a:lnTo>
                      <a:pt x="273" y="73"/>
                    </a:lnTo>
                    <a:lnTo>
                      <a:pt x="252" y="84"/>
                    </a:lnTo>
                    <a:lnTo>
                      <a:pt x="235" y="88"/>
                    </a:lnTo>
                    <a:lnTo>
                      <a:pt x="214" y="93"/>
                    </a:lnTo>
                    <a:lnTo>
                      <a:pt x="183" y="96"/>
                    </a:lnTo>
                    <a:lnTo>
                      <a:pt x="143" y="97"/>
                    </a:lnTo>
                    <a:lnTo>
                      <a:pt x="104" y="97"/>
                    </a:lnTo>
                    <a:lnTo>
                      <a:pt x="64" y="96"/>
                    </a:lnTo>
                    <a:lnTo>
                      <a:pt x="30" y="91"/>
                    </a:lnTo>
                    <a:lnTo>
                      <a:pt x="0" y="78"/>
                    </a:lnTo>
                    <a:lnTo>
                      <a:pt x="82" y="12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4" name=""/>
            <p:cNvSpPr/>
            <p:nvPr/>
          </p:nvSpPr>
          <p:spPr>
            <a:xfrm>
              <a:off x="2209680" y="3222360"/>
              <a:ext cx="480960" cy="358560"/>
            </a:xfrm>
            <a:prstGeom prst="ellipse">
              <a:avLst/>
            </a:prstGeom>
            <a:solidFill>
              <a:srgbClr val="ff99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057400" y="2717280"/>
              <a:ext cx="776160" cy="711360"/>
            </a:xfrm>
            <a:custGeom>
              <a:avLst/>
              <a:gdLst/>
              <a:ahLst/>
              <a:rect l="l" t="t" r="r" b="b"/>
              <a:pathLst>
                <a:path w="978" h="895">
                  <a:moveTo>
                    <a:pt x="0" y="0"/>
                  </a:moveTo>
                  <a:lnTo>
                    <a:pt x="198" y="895"/>
                  </a:lnTo>
                  <a:lnTo>
                    <a:pt x="783" y="895"/>
                  </a:lnTo>
                  <a:lnTo>
                    <a:pt x="97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057400" y="2688840"/>
              <a:ext cx="777960" cy="130320"/>
            </a:xfrm>
            <a:prstGeom prst="ellipse">
              <a:avLst/>
            </a:prstGeom>
            <a:solidFill>
              <a:srgbClr val="ffa04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514600" y="2743200"/>
              <a:ext cx="330120" cy="762120"/>
            </a:xfrm>
            <a:custGeom>
              <a:avLst/>
              <a:gdLst/>
              <a:ahLst/>
              <a:rect l="l" t="t" r="r" b="b"/>
              <a:pathLst>
                <a:path w="415" h="961">
                  <a:moveTo>
                    <a:pt x="0" y="961"/>
                  </a:moveTo>
                  <a:lnTo>
                    <a:pt x="51" y="954"/>
                  </a:lnTo>
                  <a:lnTo>
                    <a:pt x="103" y="940"/>
                  </a:lnTo>
                  <a:lnTo>
                    <a:pt x="151" y="913"/>
                  </a:lnTo>
                  <a:lnTo>
                    <a:pt x="199" y="879"/>
                  </a:lnTo>
                  <a:lnTo>
                    <a:pt x="223" y="837"/>
                  </a:lnTo>
                  <a:lnTo>
                    <a:pt x="243" y="779"/>
                  </a:lnTo>
                  <a:lnTo>
                    <a:pt x="261" y="721"/>
                  </a:lnTo>
                  <a:lnTo>
                    <a:pt x="274" y="669"/>
                  </a:lnTo>
                  <a:lnTo>
                    <a:pt x="292" y="604"/>
                  </a:lnTo>
                  <a:lnTo>
                    <a:pt x="415" y="0"/>
                  </a:lnTo>
                  <a:lnTo>
                    <a:pt x="364" y="18"/>
                  </a:lnTo>
                  <a:lnTo>
                    <a:pt x="312" y="28"/>
                  </a:lnTo>
                  <a:lnTo>
                    <a:pt x="216" y="38"/>
                  </a:lnTo>
                  <a:lnTo>
                    <a:pt x="106" y="45"/>
                  </a:lnTo>
                  <a:lnTo>
                    <a:pt x="110" y="680"/>
                  </a:lnTo>
                  <a:lnTo>
                    <a:pt x="106" y="762"/>
                  </a:lnTo>
                  <a:lnTo>
                    <a:pt x="99" y="824"/>
                  </a:lnTo>
                  <a:lnTo>
                    <a:pt x="86" y="879"/>
                  </a:lnTo>
                  <a:lnTo>
                    <a:pt x="58" y="920"/>
                  </a:lnTo>
                  <a:lnTo>
                    <a:pt x="0" y="961"/>
                  </a:lnTo>
                  <a:close/>
                </a:path>
              </a:pathLst>
            </a:custGeom>
            <a:solidFill>
              <a:srgbClr val="ff99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057400" y="2706840"/>
              <a:ext cx="747720" cy="11268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e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V="1" rot="16200000">
              <a:off x="2933640" y="2247120"/>
              <a:ext cx="228600" cy="457200"/>
            </a:xfrm>
            <a:custGeom>
              <a:avLst/>
              <a:gdLst>
                <a:gd name="textAreaLeft" fmla="*/ 53640 w 228600"/>
                <a:gd name="textAreaRight" fmla="*/ 174960 w 228600"/>
                <a:gd name="textAreaTop" fmla="*/ 53640 h 457200"/>
                <a:gd name="textAreaBottom" fmla="*/ 286920 h 4572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/>
          <p:nvPr/>
        </p:nvSpPr>
        <p:spPr>
          <a:xfrm>
            <a:off x="380880" y="3962520"/>
            <a:ext cx="8382240" cy="3333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993600" y="3813120"/>
            <a:ext cx="43848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2" name=""/>
          <p:cNvGrpSpPr/>
          <p:nvPr/>
        </p:nvGrpSpPr>
        <p:grpSpPr>
          <a:xfrm>
            <a:off x="1004760" y="3478320"/>
            <a:ext cx="307800" cy="414360"/>
            <a:chOff x="1004760" y="3478320"/>
            <a:chExt cx="307800" cy="414360"/>
          </a:xfrm>
        </p:grpSpPr>
        <p:sp>
          <p:nvSpPr>
            <p:cNvPr id="1283" name=""/>
            <p:cNvSpPr/>
            <p:nvPr/>
          </p:nvSpPr>
          <p:spPr>
            <a:xfrm>
              <a:off x="107316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00476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00800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12212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00800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11888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12212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11096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19052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09512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15092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06992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5" name=""/>
          <p:cNvSpPr/>
          <p:nvPr/>
        </p:nvSpPr>
        <p:spPr>
          <a:xfrm>
            <a:off x="911160" y="3154320"/>
            <a:ext cx="480960" cy="35892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762120" y="2666880"/>
            <a:ext cx="77616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92232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762120" y="2597040"/>
            <a:ext cx="77760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15416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77472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365200" y="3813120"/>
            <a:ext cx="43848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2" name=""/>
          <p:cNvGrpSpPr/>
          <p:nvPr/>
        </p:nvGrpSpPr>
        <p:grpSpPr>
          <a:xfrm>
            <a:off x="2376360" y="3478320"/>
            <a:ext cx="307800" cy="414360"/>
            <a:chOff x="2376360" y="3478320"/>
            <a:chExt cx="307800" cy="414360"/>
          </a:xfrm>
        </p:grpSpPr>
        <p:sp>
          <p:nvSpPr>
            <p:cNvPr id="1303" name=""/>
            <p:cNvSpPr/>
            <p:nvPr/>
          </p:nvSpPr>
          <p:spPr>
            <a:xfrm>
              <a:off x="244476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37636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37960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49372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37960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49048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49372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48256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56212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46672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52252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44152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5" name=""/>
          <p:cNvSpPr/>
          <p:nvPr/>
        </p:nvSpPr>
        <p:spPr>
          <a:xfrm>
            <a:off x="2282760" y="3154320"/>
            <a:ext cx="480960" cy="35892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133720" y="2666880"/>
            <a:ext cx="77616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229392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133720" y="2597040"/>
            <a:ext cx="77760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52576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14632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736800" y="3813120"/>
            <a:ext cx="43848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2" name=""/>
          <p:cNvGrpSpPr/>
          <p:nvPr/>
        </p:nvGrpSpPr>
        <p:grpSpPr>
          <a:xfrm>
            <a:off x="3747960" y="3478320"/>
            <a:ext cx="307800" cy="414360"/>
            <a:chOff x="3747960" y="3478320"/>
            <a:chExt cx="307800" cy="414360"/>
          </a:xfrm>
        </p:grpSpPr>
        <p:sp>
          <p:nvSpPr>
            <p:cNvPr id="1323" name=""/>
            <p:cNvSpPr/>
            <p:nvPr/>
          </p:nvSpPr>
          <p:spPr>
            <a:xfrm>
              <a:off x="381636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74796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375120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386532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375120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386208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86532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85416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93372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83832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89412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81312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5" name=""/>
          <p:cNvSpPr/>
          <p:nvPr/>
        </p:nvSpPr>
        <p:spPr>
          <a:xfrm>
            <a:off x="3654360" y="3154320"/>
            <a:ext cx="480960" cy="35892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505320" y="2666880"/>
            <a:ext cx="77616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66552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3505320" y="2597040"/>
            <a:ext cx="77760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89736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351792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184720" y="3813120"/>
            <a:ext cx="43812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2" name=""/>
          <p:cNvGrpSpPr/>
          <p:nvPr/>
        </p:nvGrpSpPr>
        <p:grpSpPr>
          <a:xfrm>
            <a:off x="5195880" y="3478320"/>
            <a:ext cx="307800" cy="414360"/>
            <a:chOff x="5195880" y="3478320"/>
            <a:chExt cx="307800" cy="414360"/>
          </a:xfrm>
        </p:grpSpPr>
        <p:sp>
          <p:nvSpPr>
            <p:cNvPr id="1343" name=""/>
            <p:cNvSpPr/>
            <p:nvPr/>
          </p:nvSpPr>
          <p:spPr>
            <a:xfrm>
              <a:off x="526428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19588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19912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31324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19912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31000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31324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30208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38164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28624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34204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26104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5" name=""/>
          <p:cNvSpPr/>
          <p:nvPr/>
        </p:nvSpPr>
        <p:spPr>
          <a:xfrm>
            <a:off x="5102280" y="3154320"/>
            <a:ext cx="480960" cy="358920"/>
          </a:xfrm>
          <a:prstGeom prst="ellipse">
            <a:avLst/>
          </a:prstGeom>
          <a:solidFill>
            <a:srgbClr val="ff8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952880" y="2666880"/>
            <a:ext cx="77652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511344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952880" y="2597040"/>
            <a:ext cx="77796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34528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ffa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96584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6556320" y="3813120"/>
            <a:ext cx="43812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2" name=""/>
          <p:cNvGrpSpPr/>
          <p:nvPr/>
        </p:nvGrpSpPr>
        <p:grpSpPr>
          <a:xfrm>
            <a:off x="6567480" y="3478320"/>
            <a:ext cx="307800" cy="414360"/>
            <a:chOff x="6567480" y="3478320"/>
            <a:chExt cx="307800" cy="414360"/>
          </a:xfrm>
        </p:grpSpPr>
        <p:sp>
          <p:nvSpPr>
            <p:cNvPr id="1363" name=""/>
            <p:cNvSpPr/>
            <p:nvPr/>
          </p:nvSpPr>
          <p:spPr>
            <a:xfrm>
              <a:off x="663588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56748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57072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68484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57072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68160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68484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67368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75324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65784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71364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63264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5" name=""/>
          <p:cNvSpPr/>
          <p:nvPr/>
        </p:nvSpPr>
        <p:spPr>
          <a:xfrm>
            <a:off x="6473880" y="3154320"/>
            <a:ext cx="480960" cy="358920"/>
          </a:xfrm>
          <a:prstGeom prst="ellipse">
            <a:avLst/>
          </a:prstGeom>
          <a:solidFill>
            <a:srgbClr val="ff8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324480" y="2666880"/>
            <a:ext cx="77652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48504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324480" y="2597040"/>
            <a:ext cx="77796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71688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ffa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33744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7927920" y="3813120"/>
            <a:ext cx="43812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2" name=""/>
          <p:cNvGrpSpPr/>
          <p:nvPr/>
        </p:nvGrpSpPr>
        <p:grpSpPr>
          <a:xfrm>
            <a:off x="7939080" y="3478320"/>
            <a:ext cx="307800" cy="414360"/>
            <a:chOff x="7939080" y="3478320"/>
            <a:chExt cx="307800" cy="414360"/>
          </a:xfrm>
        </p:grpSpPr>
        <p:sp>
          <p:nvSpPr>
            <p:cNvPr id="1383" name=""/>
            <p:cNvSpPr/>
            <p:nvPr/>
          </p:nvSpPr>
          <p:spPr>
            <a:xfrm>
              <a:off x="800748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93908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94232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805644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94232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805320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05644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804528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812484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802944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808524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800424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5" name=""/>
          <p:cNvSpPr/>
          <p:nvPr/>
        </p:nvSpPr>
        <p:spPr>
          <a:xfrm>
            <a:off x="7845480" y="3154320"/>
            <a:ext cx="480960" cy="358920"/>
          </a:xfrm>
          <a:prstGeom prst="ellipse">
            <a:avLst/>
          </a:prstGeom>
          <a:solidFill>
            <a:srgbClr val="ff8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696080" y="2666880"/>
            <a:ext cx="77652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785664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7696080" y="2597040"/>
            <a:ext cx="77796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808848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ffa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770904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0" name=""/>
          <p:cNvGraphicFramePr/>
          <p:nvPr/>
        </p:nvGraphicFramePr>
        <p:xfrm>
          <a:off x="1403280" y="404640"/>
          <a:ext cx="6408720" cy="6120000"/>
        </p:xfrm>
        <a:graphic>
          <a:graphicData uri="http://schemas.openxmlformats.org/drawingml/2006/table">
            <a:tbl>
              <a:tblPr/>
              <a:tblGrid>
                <a:gridCol w="1602000"/>
                <a:gridCol w="1603080"/>
                <a:gridCol w="1602000"/>
                <a:gridCol w="1601640"/>
              </a:tblGrid>
              <a:tr h="153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/>
          </p:nvPr>
        </p:nvSpPr>
        <p:spPr>
          <a:xfrm>
            <a:off x="324000" y="162864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 rtl="1">
              <a:lnSpc>
                <a:spcPct val="90000"/>
              </a:lnSpc>
              <a:spcBef>
                <a:spcPts val="18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300" spc="-1" strike="noStrike">
                <a:solidFill>
                  <a:srgbClr val="000000"/>
                </a:solidFill>
                <a:latin typeface="Traditional Arabic Backslanted"/>
                <a:cs typeface="AL-Mateen"/>
              </a:rPr>
              <a:t>حركة يسيرة قد تعيد ترتيب حياتنا بشكل أفضل </a:t>
            </a:r>
            <a:endParaRPr b="0" lang="en-US" sz="7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42920" y="1046160"/>
            <a:ext cx="8893080" cy="2130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53753" dir="2700000" blurRad="0" rotWithShape="0">
              <a:srgbClr val="ffb8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  <a:cs typeface="PT Bold Heading"/>
              </a:rPr>
              <a:t>آثار                 المشاكل الزوجي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4" name="" descr=""/>
          <p:cNvPicPr/>
          <p:nvPr/>
        </p:nvPicPr>
        <p:blipFill>
          <a:blip r:embed="rId1"/>
          <a:stretch/>
        </p:blipFill>
        <p:spPr>
          <a:xfrm>
            <a:off x="4788000" y="522360"/>
            <a:ext cx="302400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3,5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3,5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6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760"/>
                            </p:stCondLst>
                            <p:childTnLst>
                              <p:par>
                                <p:cTn id="363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364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5" dur="250" autoRev="1" fill="hold"/>
                                        <p:tgtEl>
                                          <p:spTgt spid="14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"/>
          <p:cNvSpPr txBox="1"/>
          <p:nvPr/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 txBox="1"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/>
          </p:nvPr>
        </p:nvSpPr>
        <p:spPr>
          <a:xfrm>
            <a:off x="324000" y="1628640"/>
            <a:ext cx="8640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 rtl="1">
              <a:lnSpc>
                <a:spcPct val="100000"/>
              </a:lnSpc>
              <a:spcBef>
                <a:spcPts val="39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600" spc="-1" strike="noStrike">
                <a:solidFill>
                  <a:srgbClr val="800080"/>
                </a:solidFill>
                <a:latin typeface="Traditional Arabic Backslanted"/>
                <a:cs typeface="Traditional Arabic Backslanted"/>
              </a:rPr>
              <a:t>انعدام السكن</a:t>
            </a:r>
            <a:endParaRPr b="0" lang="en-US" sz="15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/>
          </p:nvPr>
        </p:nvSpPr>
        <p:spPr>
          <a:xfrm>
            <a:off x="685800" y="1484280"/>
            <a:ext cx="69105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45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Comic Sans MS"/>
                <a:cs typeface="PT Bold Heading"/>
              </a:rPr>
              <a:t>مرحلة الكمون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 rtl="1">
              <a:lnSpc>
                <a:spcPct val="145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Comic Sans MS"/>
                <a:cs typeface="PT Bold Heading"/>
              </a:rPr>
              <a:t>مرحلة الاستثارة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 rtl="1">
              <a:lnSpc>
                <a:spcPct val="145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Comic Sans MS"/>
                <a:cs typeface="PT Bold Heading"/>
              </a:rPr>
              <a:t>مرحلة الاصطدا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 rtl="1">
              <a:lnSpc>
                <a:spcPct val="145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Comic Sans MS"/>
                <a:cs typeface="PT Bold Heading"/>
              </a:rPr>
              <a:t>مرحلة انتشار النزا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 rtl="1">
              <a:lnSpc>
                <a:spcPct val="145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Comic Sans MS"/>
                <a:cs typeface="PT Bold Heading"/>
              </a:rPr>
              <a:t>مرحلة البحث عن حلفاء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 rtl="1">
              <a:lnSpc>
                <a:spcPct val="145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Comic Sans MS"/>
                <a:cs typeface="PT Bold Heading"/>
              </a:rPr>
              <a:t>مرحلة انهاء المشكلة أو الزواج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 type="title"/>
          </p:nvPr>
        </p:nvSpPr>
        <p:spPr>
          <a:xfrm>
            <a:off x="941040" y="260280"/>
            <a:ext cx="68706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000066"/>
                </a:solidFill>
                <a:uFillTx/>
                <a:latin typeface="Comic Sans MS"/>
                <a:cs typeface="PT Bold Heading"/>
              </a:rPr>
              <a:t>مراحل المشكلة الاسرية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98" fill="hold"/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98" fill="hold"/>
                                        <p:tgtEl>
                                          <p:spTgt spid="1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98" fill="hold"/>
                                        <p:tgtEl>
                                          <p:spTgt spid="1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898" fill="hold"/>
                                        <p:tgtEl>
                                          <p:spTgt spid="1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98" fill="hold"/>
                                        <p:tgtEl>
                                          <p:spTgt spid="1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898" fill="hold"/>
                                        <p:tgtEl>
                                          <p:spTgt spid="1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611280" y="136440"/>
            <a:ext cx="7921440" cy="113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000066"/>
                </a:solidFill>
                <a:uFillTx/>
                <a:latin typeface="Traditional Arabic Backslanted"/>
                <a:cs typeface="PT Bold Heading"/>
              </a:rPr>
              <a:t>اصناف الأزواج تجاه المشكلا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7993080" cy="52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-222840" algn="just" rtl="1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  <a:cs typeface="Traditional Arabic"/>
              </a:rPr>
              <a:t>صعوبة في </a:t>
            </a:r>
            <a:r>
              <a:rPr b="1" lang="ar-SA" sz="6000" spc="-1" strike="noStrike" u="sng">
                <a:solidFill>
                  <a:srgbClr val="000000"/>
                </a:solidFill>
                <a:uFillTx/>
                <a:latin typeface="Arial"/>
                <a:cs typeface="Traditional Arabic"/>
              </a:rPr>
              <a:t>تحديد</a:t>
            </a:r>
            <a:r>
              <a:rPr b="1" lang="ar-SA" sz="6000" spc="-1" strike="noStrike">
                <a:solidFill>
                  <a:srgbClr val="000000"/>
                </a:solidFill>
                <a:latin typeface="Arial"/>
                <a:ea typeface="Traditional Arabic"/>
              </a:rPr>
              <a:t> المشكلة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just" rtl="1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  <a:cs typeface="Traditional Arabic"/>
              </a:rPr>
              <a:t>صعوبة في </a:t>
            </a:r>
            <a:r>
              <a:rPr b="1" lang="ar-SA" sz="6000" spc="-1" strike="noStrike" u="sng">
                <a:solidFill>
                  <a:srgbClr val="000000"/>
                </a:solidFill>
                <a:uFillTx/>
                <a:latin typeface="Arial"/>
                <a:cs typeface="Traditional Arabic"/>
              </a:rPr>
              <a:t>الوصول</a:t>
            </a:r>
            <a:r>
              <a:rPr b="1" lang="ar-SA" sz="6000" spc="-1" strike="noStrike">
                <a:solidFill>
                  <a:srgbClr val="000000"/>
                </a:solidFill>
                <a:latin typeface="Arial"/>
                <a:ea typeface="Traditional Arabic"/>
              </a:rPr>
              <a:t> إلى حل المشكلة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just" rtl="1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  <a:cs typeface="Traditional Arabic"/>
              </a:rPr>
              <a:t>صعوبة في </a:t>
            </a:r>
            <a:r>
              <a:rPr b="1" lang="ar-SA" sz="6000" spc="-1" strike="noStrike" u="sng">
                <a:solidFill>
                  <a:srgbClr val="000000"/>
                </a:solidFill>
                <a:uFillTx/>
                <a:latin typeface="Arial"/>
                <a:cs typeface="Traditional Arabic"/>
              </a:rPr>
              <a:t>وضع آلية</a:t>
            </a:r>
            <a:r>
              <a:rPr b="1" lang="ar-SA" sz="6000" spc="-1" strike="noStrike">
                <a:solidFill>
                  <a:srgbClr val="000000"/>
                </a:solidFill>
                <a:latin typeface="Arial"/>
                <a:ea typeface="Traditional Arabic"/>
              </a:rPr>
              <a:t> لحل المشكلة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just" rtl="1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  <a:cs typeface="Traditional Arabic"/>
              </a:rPr>
              <a:t>صعوبة في </a:t>
            </a:r>
            <a:r>
              <a:rPr b="1" lang="ar-SA" sz="6000" spc="-1" strike="noStrike" u="sng">
                <a:solidFill>
                  <a:srgbClr val="000000"/>
                </a:solidFill>
                <a:uFillTx/>
                <a:latin typeface="Arial"/>
                <a:cs typeface="Traditional Arabic"/>
              </a:rPr>
              <a:t>تنفيذ</a:t>
            </a:r>
            <a:r>
              <a:rPr b="1" lang="ar-SA" sz="6000" spc="-1" strike="noStrike">
                <a:solidFill>
                  <a:srgbClr val="000000"/>
                </a:solidFill>
                <a:latin typeface="Arial"/>
                <a:ea typeface="Traditional Arabic"/>
              </a:rPr>
              <a:t> حل المشكلة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2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3000" fill="hold"/>
                                        <p:tgtEl>
                                          <p:spTgt spid="1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3000" fill="hold"/>
                                        <p:tgtEl>
                                          <p:spTgt spid="1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2000" fill="hold"/>
                                        <p:tgtEl>
                                          <p:spTgt spid="1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1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1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1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1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1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8713800" cy="626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000000"/>
                </a:solidFill>
                <a:latin typeface="Hitteen"/>
                <a:cs typeface="PT Bold Heading"/>
              </a:rPr>
              <a:t>قواعد ومنطلقات  للتعامل </a:t>
            </a:r>
            <a:br>
              <a:rPr sz="7000"/>
            </a:br>
            <a:r>
              <a:rPr b="1" lang="ar-SA" sz="7000" spc="-1" strike="noStrike">
                <a:solidFill>
                  <a:srgbClr val="000000"/>
                </a:solidFill>
                <a:latin typeface="Hitteen"/>
                <a:cs typeface="PT Bold Heading"/>
              </a:rPr>
              <a:t>مع المشكلات الأسرية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-0.0066 0.01574 C 0.00486 0.00972 0.01667 0.00278 0.03021 -0.00787 C 0.06806 -0.03842 0.09375 -0.07824 0.08542 -0.09491 C 0.07761 -0.11319 0.03959 -0.10185 0.00174 -0.07129 C -0.01823 -0.05532 -0.0342 -0.0375 -0.04427 -0.02222 C -0.0533 -0.01088 -0.06076 0.00162 -0.0684 0.01713 C -0.09323 0.06736 -0.10278 0.11806 -0.0901 0.12917 C -0.07778 0.14005 -0.04653 0.10857 -0.0217 0.05834 C -0.01007 0.03496 -0.00156 0.01042 0.00191 -0.00856 C 0.00677 -0.02361 0.00972 -0.04166 0.01198 -0.06041 C 0.01806 -0.12083 0.01094 -0.17199 -0.00486 -0.1743 C -0.02014 -0.17685 -0.03698 -0.13078 -0.04288 -0.0706 C -0.0467 -0.04352 -0.04635 -0.01759 -0.04323 0.00255 C -0.04201 0.01968 -0.03941 0.03634 -0.03437 0.05509 C -0.02031 0.11366 0.00243 0.15463 0.01754 0.14861 C 0.0316 0.1419 0.03316 0.09051 0.0184 0.03287 C 0.0125 0.00857 0.00417 -0.01319 -0.0033 -0.0294 C -0.01007 -0.04491 -0.01996 -0.06157 -0.0316 -0.07662 C -0.06267 -0.11991 -0.096 -0.14467 -0.10729 -0.12893 C -0.11892 -0.11504 -0.10243 -0.06875 -0.07135 -0.02523 C -0.05694 -0.00602 -0.04201 0.00996 -0.02899 0.01991 C -0.01805 0.0294 -0.00538 0.0375 0.00868 0.04537 C 0.05087 0.06644 0.09011 0.06736 0.09497 0.04769 C 0.10087 0.02871 0.07136 -0.0037 0.029 -0.02477 C 0.00886 -0.03449 -0.01094 -0.04097 -0.02604 -0.04143 C -0.03871 -0.04282 -0.05173 -0.04305 -0.06666 -0.0419 C -0.11198 -0.03541 -0.14705 -0.01528 -0.14514 0.00533 C -0.14427 0.02547 -0.10625 0.03797 -0.0618 0.03264 C -0.03993 0.02963 -0.02048 0.02431 -0.0066 0.01574 Z">
                                      <p:cBhvr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/>
          </p:nvPr>
        </p:nvSpPr>
        <p:spPr>
          <a:xfrm>
            <a:off x="900000" y="1628640"/>
            <a:ext cx="8064720" cy="223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70000"/>
          </a:bodyPr>
          <a:p>
            <a:pPr indent="0" algn="ctr" rtl="1">
              <a:lnSpc>
                <a:spcPct val="90000"/>
              </a:lnSpc>
              <a:spcBef>
                <a:spcPts val="18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3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المشكلة ليس في وجود المشكلة وإنما في إدارتها والتعامل معها</a:t>
            </a:r>
            <a:endParaRPr b="0" lang="en-US" sz="7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4" name=""/>
          <p:cNvSpPr/>
          <p:nvPr/>
        </p:nvSpPr>
        <p:spPr>
          <a:xfrm>
            <a:off x="7451640" y="189000"/>
            <a:ext cx="1511280" cy="57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r" rtl="1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المنطلقات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/>
          </p:nvPr>
        </p:nvSpPr>
        <p:spPr>
          <a:xfrm>
            <a:off x="971280" y="1557360"/>
            <a:ext cx="7993080" cy="23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61000"/>
          </a:bodyPr>
          <a:p>
            <a:pPr marL="209160" indent="0" algn="ctr" rtl="1">
              <a:lnSpc>
                <a:spcPct val="90000"/>
              </a:lnSpc>
              <a:spcBef>
                <a:spcPts val="32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1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المشاكل درجات</a:t>
            </a:r>
            <a:endParaRPr b="0" lang="en-US" sz="1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"/>
          <p:cNvSpPr/>
          <p:nvPr/>
        </p:nvSpPr>
        <p:spPr>
          <a:xfrm>
            <a:off x="7451640" y="189000"/>
            <a:ext cx="1511280" cy="57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r" rtl="1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المنطلقات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/>
          </p:nvPr>
        </p:nvSpPr>
        <p:spPr>
          <a:xfrm>
            <a:off x="971280" y="1557000"/>
            <a:ext cx="7993080" cy="403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78000"/>
          </a:bodyPr>
          <a:p>
            <a:pPr marL="267480" indent="0" algn="r" rtl="1">
              <a:lnSpc>
                <a:spcPct val="11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لكل مرحلة في الزواج مشاكلها الخاصة بها</a:t>
            </a:r>
            <a:endParaRPr b="0" lang="en-US" sz="9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8" name=""/>
          <p:cNvSpPr/>
          <p:nvPr/>
        </p:nvSpPr>
        <p:spPr>
          <a:xfrm>
            <a:off x="7451640" y="189000"/>
            <a:ext cx="1511280" cy="57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r" rtl="1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المنطلقات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/>
          </p:nvPr>
        </p:nvSpPr>
        <p:spPr>
          <a:xfrm>
            <a:off x="684360" y="1630440"/>
            <a:ext cx="8316720" cy="403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78000"/>
          </a:bodyPr>
          <a:p>
            <a:pPr marL="267480" indent="0" algn="ctr" rtl="1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هي على مستوى قدرتك واستطاعتك</a:t>
            </a:r>
            <a:endParaRPr b="0" lang="en-US" sz="10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0" name=""/>
          <p:cNvSpPr/>
          <p:nvPr/>
        </p:nvSpPr>
        <p:spPr>
          <a:xfrm>
            <a:off x="7451640" y="189000"/>
            <a:ext cx="1511280" cy="57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r" rtl="1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المنطلقات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2124000" y="1916280"/>
            <a:ext cx="4680000" cy="21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200" spc="-1" strike="noStrike">
                <a:solidFill>
                  <a:srgbClr val="000000"/>
                </a:solidFill>
                <a:latin typeface="Times New Roman"/>
                <a:cs typeface="DecoType Naskh Swashes"/>
              </a:rPr>
              <a:t>مدخل</a:t>
            </a:r>
            <a:endParaRPr b="0" i="1" lang="en-US" sz="14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80880" y="52578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4" dur="1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52)"/>
                                      </p:to>
                                    </p:set>
                                    <p:set>
                                      <p:cBhvr>
                                        <p:cTn id="15" dur="1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52)"/>
                                      </p:to>
                                    </p:set>
                                    <p:set>
                                      <p:cBhvr>
                                        <p:cTn id="16" dur="1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/>
          </p:nvPr>
        </p:nvSpPr>
        <p:spPr>
          <a:xfrm>
            <a:off x="755280" y="1557360"/>
            <a:ext cx="8209080" cy="23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66000"/>
          </a:bodyPr>
          <a:p>
            <a:pPr marL="226080" indent="0" algn="r" rtl="1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لا تتوقع الحل الفوري</a:t>
            </a:r>
            <a:endParaRPr b="0" lang="en-US" sz="10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2" name=""/>
          <p:cNvSpPr/>
          <p:nvPr/>
        </p:nvSpPr>
        <p:spPr>
          <a:xfrm>
            <a:off x="7451640" y="189000"/>
            <a:ext cx="1511280" cy="57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r" rtl="1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المنطلقات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/>
          </p:nvPr>
        </p:nvSpPr>
        <p:spPr>
          <a:xfrm>
            <a:off x="1187280" y="1557360"/>
            <a:ext cx="7561440" cy="201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80000"/>
          </a:bodyPr>
          <a:p>
            <a:pPr marL="274320" indent="0" algn="ctr" rtl="1">
              <a:lnSpc>
                <a:spcPct val="80000"/>
              </a:lnSpc>
              <a:spcBef>
                <a:spcPts val="30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2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هي لك خير</a:t>
            </a:r>
            <a:endParaRPr b="0" lang="en-US" sz="1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4" name=""/>
          <p:cNvSpPr/>
          <p:nvPr/>
        </p:nvSpPr>
        <p:spPr>
          <a:xfrm>
            <a:off x="7451640" y="189000"/>
            <a:ext cx="1511280" cy="57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r" rtl="1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المنطلقات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1187280" y="4797360"/>
            <a:ext cx="7561440" cy="180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 algn="ctr" rtl="1">
              <a:lnSpc>
                <a:spcPct val="80000"/>
              </a:lnSpc>
              <a:spcBef>
                <a:spcPts val="29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8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ولكن بشرط ...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"/>
          <p:cNvSpPr/>
          <p:nvPr/>
        </p:nvSpPr>
        <p:spPr>
          <a:xfrm>
            <a:off x="6443640" y="115920"/>
            <a:ext cx="2664000" cy="1655640"/>
          </a:xfrm>
          <a:prstGeom prst="wedgeEllipseCallout">
            <a:avLst>
              <a:gd name="adj1" fmla="val 37606"/>
              <a:gd name="adj2" fmla="val 138592"/>
            </a:avLst>
          </a:prstGeom>
          <a:solidFill>
            <a:srgbClr val="ffcc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66"/>
                </a:solidFill>
                <a:latin typeface="Times New Roman"/>
                <a:cs typeface="PT Bold Heading"/>
              </a:rPr>
              <a:t>مقدر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240000" y="189000"/>
            <a:ext cx="2664000" cy="1655640"/>
          </a:xfrm>
          <a:prstGeom prst="wedgeEllipseCallout">
            <a:avLst>
              <a:gd name="adj1" fmla="val -180"/>
              <a:gd name="adj2" fmla="val 89884"/>
            </a:avLst>
          </a:prstGeom>
          <a:solidFill>
            <a:srgbClr val="ffcc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66"/>
                </a:solidFill>
                <a:latin typeface="Times New Roman"/>
                <a:cs typeface="PT Bold Heading"/>
              </a:rPr>
              <a:t>تمحي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6360" y="115920"/>
            <a:ext cx="2664000" cy="1655640"/>
          </a:xfrm>
          <a:prstGeom prst="wedgeEllipseCallout">
            <a:avLst>
              <a:gd name="adj1" fmla="val -37902"/>
              <a:gd name="adj2" fmla="val 134180"/>
            </a:avLst>
          </a:prstGeom>
          <a:solidFill>
            <a:srgbClr val="ffcc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Times New Roman"/>
                <a:cs typeface="PT Bold Heading"/>
              </a:rPr>
              <a:t>خبرة وبناء للنف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6360" y="5086440"/>
            <a:ext cx="2664000" cy="1655640"/>
          </a:xfrm>
          <a:prstGeom prst="wedgeEllipseCallout">
            <a:avLst>
              <a:gd name="adj1" fmla="val -34268"/>
              <a:gd name="adj2" fmla="val -135620"/>
            </a:avLst>
          </a:prstGeom>
          <a:solidFill>
            <a:srgbClr val="ffcc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66"/>
                </a:solidFill>
                <a:latin typeface="Times New Roman"/>
                <a:cs typeface="PT Bold Heading"/>
              </a:rPr>
              <a:t>مؤقت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443640" y="5086440"/>
            <a:ext cx="2664000" cy="1655640"/>
          </a:xfrm>
          <a:prstGeom prst="wedgeEllipseCallout">
            <a:avLst>
              <a:gd name="adj1" fmla="val 37782"/>
              <a:gd name="adj2" fmla="val -139069"/>
            </a:avLst>
          </a:prstGeom>
          <a:solidFill>
            <a:srgbClr val="ffcc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66"/>
                </a:solidFill>
                <a:latin typeface="Times New Roman"/>
                <a:cs typeface="PT Bold Heading"/>
              </a:rPr>
              <a:t>تذكر النعم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240000" y="5013360"/>
            <a:ext cx="2664000" cy="1655640"/>
          </a:xfrm>
          <a:prstGeom prst="wedgeEllipseCallout">
            <a:avLst>
              <a:gd name="adj1" fmla="val -180"/>
              <a:gd name="adj2" fmla="val -91037"/>
            </a:avLst>
          </a:prstGeom>
          <a:solidFill>
            <a:srgbClr val="ffcc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Times New Roman"/>
                <a:cs typeface="PT Bold Heading"/>
              </a:rPr>
              <a:t>التعرف على النف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87280" y="2532240"/>
            <a:ext cx="8569440" cy="18000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66"/>
                </a:solidFill>
                <a:latin typeface="Times New Roman"/>
                <a:cs typeface="PT Bold Heading"/>
              </a:rPr>
              <a:t>النظرة للمشكل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"/>
          <p:cNvSpPr/>
          <p:nvPr/>
        </p:nvSpPr>
        <p:spPr>
          <a:xfrm>
            <a:off x="324000" y="189000"/>
            <a:ext cx="8569080" cy="6480000"/>
          </a:xfrm>
          <a:custGeom>
            <a:avLst/>
            <a:gdLst>
              <a:gd name="textAreaLeft" fmla="*/ 2242440 w 8569080"/>
              <a:gd name="textAreaRight" fmla="*/ 6326640 w 8569080"/>
              <a:gd name="textAreaTop" fmla="*/ 1695960 h 6480000"/>
              <a:gd name="textAreaBottom" fmla="*/ 4784040 h 648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655" y="12189"/>
                </a:lnTo>
                <a:lnTo>
                  <a:pt x="786" y="14846"/>
                </a:lnTo>
                <a:lnTo>
                  <a:pt x="4695" y="14764"/>
                </a:lnTo>
                <a:lnTo>
                  <a:pt x="3163" y="18437"/>
                </a:lnTo>
                <a:lnTo>
                  <a:pt x="6730" y="16835"/>
                </a:lnTo>
                <a:lnTo>
                  <a:pt x="6580" y="20741"/>
                </a:lnTo>
                <a:lnTo>
                  <a:pt x="9287" y="17920"/>
                </a:lnTo>
                <a:lnTo>
                  <a:pt x="10800" y="21600"/>
                </a:lnTo>
                <a:lnTo>
                  <a:pt x="12189" y="17945"/>
                </a:lnTo>
                <a:lnTo>
                  <a:pt x="14846" y="20814"/>
                </a:lnTo>
                <a:lnTo>
                  <a:pt x="14764" y="16905"/>
                </a:lnTo>
                <a:lnTo>
                  <a:pt x="18437" y="18437"/>
                </a:lnTo>
                <a:lnTo>
                  <a:pt x="16835" y="14870"/>
                </a:lnTo>
                <a:lnTo>
                  <a:pt x="20741" y="15020"/>
                </a:lnTo>
                <a:lnTo>
                  <a:pt x="17920" y="12313"/>
                </a:lnTo>
                <a:lnTo>
                  <a:pt x="21600" y="10800"/>
                </a:lnTo>
                <a:lnTo>
                  <a:pt x="17945" y="9411"/>
                </a:lnTo>
                <a:lnTo>
                  <a:pt x="20814" y="6754"/>
                </a:lnTo>
                <a:lnTo>
                  <a:pt x="16905" y="6836"/>
                </a:lnTo>
                <a:lnTo>
                  <a:pt x="18437" y="3163"/>
                </a:lnTo>
                <a:lnTo>
                  <a:pt x="14870" y="4765"/>
                </a:lnTo>
                <a:lnTo>
                  <a:pt x="15020" y="859"/>
                </a:lnTo>
                <a:lnTo>
                  <a:pt x="12313" y="3680"/>
                </a:lnTo>
                <a:lnTo>
                  <a:pt x="10800" y="0"/>
                </a:lnTo>
                <a:lnTo>
                  <a:pt x="9411" y="3655"/>
                </a:lnTo>
                <a:lnTo>
                  <a:pt x="6754" y="786"/>
                </a:lnTo>
                <a:lnTo>
                  <a:pt x="6836" y="4695"/>
                </a:lnTo>
                <a:lnTo>
                  <a:pt x="3163" y="3163"/>
                </a:lnTo>
                <a:lnTo>
                  <a:pt x="4765" y="6730"/>
                </a:lnTo>
                <a:lnTo>
                  <a:pt x="859" y="6580"/>
                </a:lnTo>
                <a:lnTo>
                  <a:pt x="3680" y="928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19a9a"/>
              </a:gs>
              <a:gs pos="100000">
                <a:srgbClr val="ff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قاش مفتوح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332000" y="404640"/>
            <a:ext cx="6408720" cy="129708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قواعد التعامل مع المشكلات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684360" y="83664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المبادرة لحل المشاك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684360" y="83664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ضرورة الاحتوا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0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684360" y="83664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أمسك عليك لسان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684360" y="83664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عالج المرض وليس العر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684360" y="83664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ضرورة التواصل اللفظ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63272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 u="sng">
                <a:solidFill>
                  <a:srgbClr val="400040"/>
                </a:solidFill>
                <a:uFillTx/>
                <a:latin typeface="SYMBOLS A"/>
                <a:cs typeface="PT Bold Heading"/>
              </a:rPr>
              <a:t>ماذا نتوقع أن نتعرف عليه ؟</a:t>
            </a:r>
            <a:endParaRPr b="0" lang="en-US" sz="5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78544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r" rtl="1">
              <a:lnSpc>
                <a:spcPct val="130000"/>
              </a:lnSpc>
              <a:spcBef>
                <a:spcPts val="1001"/>
              </a:spcBef>
              <a:buClr>
                <a:srgbClr val="ff66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00040"/>
                </a:solidFill>
                <a:latin typeface="Arial"/>
                <a:ea typeface="PT Bold Heading"/>
              </a:rPr>
              <a:t>  طبيعة المشكلات الزوجية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267480" indent="-267480" algn="r" rtl="1">
              <a:lnSpc>
                <a:spcPct val="130000"/>
              </a:lnSpc>
              <a:spcBef>
                <a:spcPts val="1001"/>
              </a:spcBef>
              <a:buClr>
                <a:srgbClr val="ff66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00040"/>
                </a:solidFill>
                <a:latin typeface="Arial"/>
                <a:ea typeface="PT Bold Heading"/>
              </a:rPr>
              <a:t>  مراحل المشكلات الزوجية.  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267480" indent="-267480" algn="r" rtl="1">
              <a:lnSpc>
                <a:spcPct val="130000"/>
              </a:lnSpc>
              <a:spcBef>
                <a:spcPts val="1001"/>
              </a:spcBef>
              <a:buClr>
                <a:srgbClr val="ff66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00040"/>
                </a:solidFill>
                <a:latin typeface="Arial"/>
                <a:ea typeface="PT Bold Heading"/>
              </a:rPr>
              <a:t>  منطلقات في التعامل مع المشاكل الزوجية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267480" indent="-267480" algn="r" rtl="1">
              <a:lnSpc>
                <a:spcPct val="130000"/>
              </a:lnSpc>
              <a:spcBef>
                <a:spcPts val="1001"/>
              </a:spcBef>
              <a:buClr>
                <a:srgbClr val="ff66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00040"/>
                </a:solidFill>
                <a:latin typeface="Arial"/>
                <a:ea typeface="PT Bold Heading"/>
              </a:rPr>
              <a:t>  اصناف الأزواج تجاه المشكلات الزوجية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267480" indent="-267480" algn="r" rtl="1">
              <a:lnSpc>
                <a:spcPct val="130000"/>
              </a:lnSpc>
              <a:spcBef>
                <a:spcPts val="1001"/>
              </a:spcBef>
              <a:buClr>
                <a:srgbClr val="ff66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00040"/>
                </a:solidFill>
                <a:latin typeface="Arial"/>
                <a:ea typeface="PT Bold Heading"/>
              </a:rPr>
              <a:t>  قواعد في التعامل مع المشكلات الزوجية. 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68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68" fill="hold"/>
                                        <p:tgtEl>
                                          <p:spTgt spid="9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68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68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998"/>
                            </p:stCondLst>
                            <p:childTnLst>
                              <p:par>
                                <p:cTn id="3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5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6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0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0"/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0"/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0"/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9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9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0"/>
                                        <p:tgtEl>
                                          <p:spTgt spid="9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11280" y="1916280"/>
            <a:ext cx="7608960" cy="172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000000"/>
                </a:solidFill>
                <a:uFillTx/>
                <a:latin typeface="Tahoma"/>
                <a:ea typeface="PT Bold Heading"/>
              </a:rPr>
              <a:t>  تمرين طي الورق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rot="19371000">
            <a:off x="1315800" y="4079520"/>
            <a:ext cx="1152360" cy="2951280"/>
          </a:xfrm>
          <a:custGeom>
            <a:avLst/>
            <a:gdLst>
              <a:gd name="textAreaLeft" fmla="*/ 154080 w 1152360"/>
              <a:gd name="textAreaRight" fmla="*/ 998280 w 1152360"/>
              <a:gd name="textAreaTop" fmla="*/ 496080 h 2951280"/>
              <a:gd name="textAreaBottom" fmla="*/ 2108880 h 29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62" stAng="-5400000" swAng="-5400000"/>
                <a:lnTo>
                  <a:pt x="0" y="11803"/>
                </a:lnTo>
                <a:arcTo wR="21600" hR="7262" stAng="10800000" swAng="-3059605"/>
                <a:lnTo>
                  <a:pt x="15925" y="21345"/>
                </a:lnTo>
                <a:lnTo>
                  <a:pt x="21600" y="16794"/>
                </a:lnTo>
                <a:lnTo>
                  <a:pt x="15925" y="11732"/>
                </a:lnTo>
                <a:lnTo>
                  <a:pt x="15925" y="14268"/>
                </a:lnTo>
                <a:arcTo wR="21600" hR="7262" stAng="7740395" swAng="2680710"/>
                <a:lnTo>
                  <a:pt x="1083" y="9532"/>
                </a:lnTo>
                <a:arcTo wR="21600" hR="7262" stAng="-10421105" swAng="5021105"/>
                <a:close/>
              </a:path>
              <a:path fill="darkenLess" w="21600" h="21600">
                <a:moveTo>
                  <a:pt x="21600" y="0"/>
                </a:moveTo>
                <a:arcTo wR="21600" hR="7262" stAng="-5400000" swAng="-5400000"/>
                <a:lnTo>
                  <a:pt x="0" y="7262"/>
                </a:lnTo>
                <a:arcTo wR="21600" hR="7262" stAng="10800000" swAng="-378895"/>
                <a:lnTo>
                  <a:pt x="1083" y="9532"/>
                </a:lnTo>
                <a:arcTo wR="21600" hR="7262" stAng="-10421105" swAng="5021105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395280" y="404640"/>
            <a:ext cx="3456000" cy="352908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التأكد من العبارات وتحديد معناها بدقة بين الزوجين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95280" y="404640"/>
            <a:ext cx="5472000" cy="172908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الحل الجزئي أو السريع قد يضر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435600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800000"/>
                </a:solidFill>
                <a:latin typeface="Hitteen"/>
                <a:cs typeface="AL-Mateen"/>
              </a:rPr>
              <a:t>الحذر من تضخيم المشكلة الحذر من تهوين المشكلة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684360" y="83664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البحث عن الدواف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0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684360" y="83664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الحذر من الفهم الخاط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323640" y="1444320"/>
            <a:ext cx="3600360" cy="36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800000"/>
                </a:solidFill>
                <a:latin typeface="Hitteen"/>
                <a:cs typeface="AL-Mateen"/>
              </a:rPr>
              <a:t>مراعاة التباين في ترتيب أوليات كل طرف</a:t>
            </a:r>
            <a:r>
              <a:rPr b="1" lang="ar-SA" sz="7200" spc="-1" strike="noStrike">
                <a:solidFill>
                  <a:srgbClr val="800000"/>
                </a:solidFill>
                <a:latin typeface="Hitteen"/>
                <a:ea typeface="AL-Mateen"/>
              </a:rPr>
              <a:t> </a:t>
            </a:r>
            <a:br>
              <a:rPr sz="7200"/>
            </a:b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449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" fill="hold">
                                          <p:stCondLst>
                                            <p:cond delay="44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84360" y="69228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أعذار الطرف الآخ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"/>
          <p:cNvSpPr/>
          <p:nvPr/>
        </p:nvSpPr>
        <p:spPr>
          <a:xfrm>
            <a:off x="324000" y="189000"/>
            <a:ext cx="8569080" cy="6480000"/>
          </a:xfrm>
          <a:custGeom>
            <a:avLst/>
            <a:gdLst>
              <a:gd name="textAreaLeft" fmla="*/ 2242440 w 8569080"/>
              <a:gd name="textAreaRight" fmla="*/ 6326640 w 8569080"/>
              <a:gd name="textAreaTop" fmla="*/ 1695960 h 6480000"/>
              <a:gd name="textAreaBottom" fmla="*/ 4784040 h 648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655" y="12189"/>
                </a:lnTo>
                <a:lnTo>
                  <a:pt x="786" y="14846"/>
                </a:lnTo>
                <a:lnTo>
                  <a:pt x="4695" y="14764"/>
                </a:lnTo>
                <a:lnTo>
                  <a:pt x="3163" y="18437"/>
                </a:lnTo>
                <a:lnTo>
                  <a:pt x="6730" y="16835"/>
                </a:lnTo>
                <a:lnTo>
                  <a:pt x="6580" y="20741"/>
                </a:lnTo>
                <a:lnTo>
                  <a:pt x="9287" y="17920"/>
                </a:lnTo>
                <a:lnTo>
                  <a:pt x="10800" y="21600"/>
                </a:lnTo>
                <a:lnTo>
                  <a:pt x="12189" y="17945"/>
                </a:lnTo>
                <a:lnTo>
                  <a:pt x="14846" y="20814"/>
                </a:lnTo>
                <a:lnTo>
                  <a:pt x="14764" y="16905"/>
                </a:lnTo>
                <a:lnTo>
                  <a:pt x="18437" y="18437"/>
                </a:lnTo>
                <a:lnTo>
                  <a:pt x="16835" y="14870"/>
                </a:lnTo>
                <a:lnTo>
                  <a:pt x="20741" y="15020"/>
                </a:lnTo>
                <a:lnTo>
                  <a:pt x="17920" y="12313"/>
                </a:lnTo>
                <a:lnTo>
                  <a:pt x="21600" y="10800"/>
                </a:lnTo>
                <a:lnTo>
                  <a:pt x="17945" y="9411"/>
                </a:lnTo>
                <a:lnTo>
                  <a:pt x="20814" y="6754"/>
                </a:lnTo>
                <a:lnTo>
                  <a:pt x="16905" y="6836"/>
                </a:lnTo>
                <a:lnTo>
                  <a:pt x="18437" y="3163"/>
                </a:lnTo>
                <a:lnTo>
                  <a:pt x="14870" y="4765"/>
                </a:lnTo>
                <a:lnTo>
                  <a:pt x="15020" y="859"/>
                </a:lnTo>
                <a:lnTo>
                  <a:pt x="12313" y="3680"/>
                </a:lnTo>
                <a:lnTo>
                  <a:pt x="10800" y="0"/>
                </a:lnTo>
                <a:lnTo>
                  <a:pt x="9411" y="3655"/>
                </a:lnTo>
                <a:lnTo>
                  <a:pt x="6754" y="786"/>
                </a:lnTo>
                <a:lnTo>
                  <a:pt x="6836" y="4695"/>
                </a:lnTo>
                <a:lnTo>
                  <a:pt x="3163" y="3163"/>
                </a:lnTo>
                <a:lnTo>
                  <a:pt x="4765" y="6730"/>
                </a:lnTo>
                <a:lnTo>
                  <a:pt x="859" y="6580"/>
                </a:lnTo>
                <a:lnTo>
                  <a:pt x="3680" y="928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19a9a"/>
              </a:gs>
              <a:gs pos="100000">
                <a:srgbClr val="ff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قاش مفتوح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684360" y="83664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كيف نبدأ بحل المشكل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144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39760" y="264960"/>
            <a:ext cx="8737560" cy="1015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  <a:cs typeface="PT Bold Heading"/>
              </a:rPr>
              <a:t>طُرق جديدة اعجبتني</a:t>
            </a:r>
            <a:r>
              <a:rPr b="1" lang="ar-SA" sz="5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1"/>
          <a:stretch/>
        </p:blipFill>
        <p:spPr>
          <a:xfrm>
            <a:off x="324000" y="1271520"/>
            <a:ext cx="8569080" cy="518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3,5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3,5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/>
          </p:nvPr>
        </p:nvSpPr>
        <p:spPr>
          <a:xfrm>
            <a:off x="179280" y="219240"/>
            <a:ext cx="8785440" cy="64497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24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700" spc="-1" strike="noStrike">
                <a:solidFill>
                  <a:srgbClr val="000066"/>
                </a:solidFill>
                <a:latin typeface="Traditional Arabic Backslanted"/>
                <a:cs typeface="Traditional Arabic"/>
              </a:rPr>
              <a:t>تمرين قطعة الارض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3" name=""/>
          <p:cNvGraphicFramePr/>
          <p:nvPr/>
        </p:nvGraphicFramePr>
        <p:xfrm>
          <a:off x="2124000" y="692280"/>
          <a:ext cx="5616720" cy="561636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</a:tblGrid>
              <a:tr h="2808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1494" name=""/>
          <p:cNvSpPr/>
          <p:nvPr/>
        </p:nvSpPr>
        <p:spPr>
          <a:xfrm>
            <a:off x="250920" y="3789360"/>
            <a:ext cx="453708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قسم قطعة الأرض إلى أربعة اقسام متشابهة في الشكل متساوية في المساح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140360" y="18900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100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ت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7770960" y="331308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100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ت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796000" y="5661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50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ت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826920" y="17002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50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ت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9" name=""/>
          <p:cNvGraphicFramePr/>
          <p:nvPr/>
        </p:nvGraphicFramePr>
        <p:xfrm>
          <a:off x="2124000" y="549360"/>
          <a:ext cx="5616720" cy="561636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</a:tblGrid>
              <a:tr h="2808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1500" name=""/>
          <p:cNvSpPr/>
          <p:nvPr/>
        </p:nvSpPr>
        <p:spPr>
          <a:xfrm flipH="1">
            <a:off x="2123640" y="620640"/>
            <a:ext cx="5543640" cy="2664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H="1">
            <a:off x="5003640" y="620640"/>
            <a:ext cx="2664000" cy="554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H="1">
            <a:off x="4858920" y="620640"/>
            <a:ext cx="2808360" cy="2808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3" name=""/>
          <p:cNvGraphicFramePr/>
          <p:nvPr/>
        </p:nvGraphicFramePr>
        <p:xfrm>
          <a:off x="2124000" y="549360"/>
          <a:ext cx="5616720" cy="561636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</a:tblGrid>
              <a:tr h="2808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1504" name=""/>
          <p:cNvSpPr/>
          <p:nvPr/>
        </p:nvSpPr>
        <p:spPr>
          <a:xfrm flipH="1">
            <a:off x="4932000" y="549360"/>
            <a:ext cx="2808360" cy="2808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124000" y="549360"/>
            <a:ext cx="5616720" cy="5543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6" name=""/>
          <p:cNvGraphicFramePr/>
          <p:nvPr/>
        </p:nvGraphicFramePr>
        <p:xfrm>
          <a:off x="2124000" y="549360"/>
          <a:ext cx="5616720" cy="5616360"/>
        </p:xfrm>
        <a:graphic>
          <a:graphicData uri="http://schemas.openxmlformats.org/drawingml/2006/table">
            <a:tbl>
              <a:tblPr/>
              <a:tblGrid>
                <a:gridCol w="2808360"/>
                <a:gridCol w="1368360"/>
                <a:gridCol w="1440000"/>
              </a:tblGrid>
              <a:tr h="1295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51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07" name=""/>
          <p:cNvSpPr/>
          <p:nvPr/>
        </p:nvSpPr>
        <p:spPr>
          <a:xfrm flipH="1">
            <a:off x="4859280" y="549360"/>
            <a:ext cx="2881440" cy="2879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8" name=""/>
          <p:cNvGraphicFramePr/>
          <p:nvPr/>
        </p:nvGraphicFramePr>
        <p:xfrm>
          <a:off x="1619280" y="549360"/>
          <a:ext cx="6121440" cy="5975280"/>
        </p:xfrm>
        <a:graphic>
          <a:graphicData uri="http://schemas.openxmlformats.org/drawingml/2006/table">
            <a:tbl>
              <a:tblPr/>
              <a:tblGrid>
                <a:gridCol w="1530360"/>
                <a:gridCol w="1530360"/>
                <a:gridCol w="1530360"/>
                <a:gridCol w="1530360"/>
              </a:tblGrid>
              <a:tr h="149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4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49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4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9" name=""/>
          <p:cNvGraphicFramePr/>
          <p:nvPr/>
        </p:nvGraphicFramePr>
        <p:xfrm>
          <a:off x="1619280" y="476280"/>
          <a:ext cx="6048360" cy="5905440"/>
        </p:xfrm>
        <a:graphic>
          <a:graphicData uri="http://schemas.openxmlformats.org/drawingml/2006/table">
            <a:tbl>
              <a:tblPr/>
              <a:tblGrid>
                <a:gridCol w="1512720"/>
                <a:gridCol w="1511280"/>
                <a:gridCol w="1511280"/>
                <a:gridCol w="1513080"/>
              </a:tblGrid>
              <a:tr h="14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14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14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  <a:tr h="14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68360" y="549360"/>
            <a:ext cx="5327640" cy="14396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تجنب حل كل المشاكل دفعة واحدة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0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11280" y="620640"/>
            <a:ext cx="5327640" cy="115272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ضرورة تحديد محل الخلا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68000" y="3213000"/>
            <a:ext cx="331164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800000"/>
                </a:solidFill>
                <a:latin typeface="Hitteen"/>
                <a:cs typeface="AL-Mateen"/>
              </a:rPr>
              <a:t>الرفق . . </a:t>
            </a:r>
            <a:br>
              <a:rPr sz="4400"/>
            </a:br>
            <a:r>
              <a:rPr b="1" lang="ar-SA" sz="4400" spc="-1" strike="noStrike">
                <a:solidFill>
                  <a:srgbClr val="800000"/>
                </a:solidFill>
                <a:latin typeface="Hitteen"/>
                <a:ea typeface="AL-Mateen"/>
              </a:rPr>
              <a:t>     ثُمَّ الرفق . . </a:t>
            </a:r>
            <a:br>
              <a:rPr sz="4400"/>
            </a:br>
            <a:r>
              <a:rPr b="1" lang="ar-SA" sz="4400" spc="-1" strike="noStrike">
                <a:solidFill>
                  <a:srgbClr val="800000"/>
                </a:solidFill>
                <a:latin typeface="Hitteen"/>
                <a:ea typeface="AL-Mateen"/>
              </a:rPr>
              <a:t>            ثُمَّ   </a:t>
            </a:r>
            <a:br>
              <a:rPr sz="4400"/>
            </a:br>
            <a:r>
              <a:rPr b="1" lang="ar-SA" sz="4400" spc="-1" strike="noStrike">
                <a:solidFill>
                  <a:srgbClr val="800000"/>
                </a:solidFill>
                <a:latin typeface="Hitteen"/>
                <a:ea typeface="AL-Mateen"/>
              </a:rPr>
              <a:t> الرفق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0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0" dur="20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/>
          </p:nvPr>
        </p:nvSpPr>
        <p:spPr>
          <a:xfrm>
            <a:off x="1331640" y="115920"/>
            <a:ext cx="72723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 algn="r" rtl="1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raditional Arabic Backslanted"/>
                <a:cs typeface="PT Bold Heading"/>
              </a:rPr>
              <a:t>لماذا هذا الموضوع</a:t>
            </a:r>
            <a:endParaRPr b="0" lang="en-US" sz="9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"/>
          <p:cNvSpPr/>
          <p:nvPr/>
        </p:nvSpPr>
        <p:spPr>
          <a:xfrm>
            <a:off x="1547640" y="1268280"/>
            <a:ext cx="727236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 rtl="1">
              <a:lnSpc>
                <a:spcPct val="90000"/>
              </a:lnSpc>
              <a:spcBef>
                <a:spcPts val="10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900" spc="-1" strike="noStrike">
                <a:solidFill>
                  <a:srgbClr val="000000"/>
                </a:solidFill>
                <a:latin typeface="Traditional Arabic Backslanted"/>
                <a:cs typeface="PT Bold Heading"/>
              </a:rPr>
              <a:t>؟</a:t>
            </a:r>
            <a:endParaRPr b="0" lang="en-US" sz="40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4" name="" descr=""/>
          <p:cNvPicPr/>
          <p:nvPr/>
        </p:nvPicPr>
        <p:blipFill>
          <a:blip r:embed="rId1"/>
          <a:stretch/>
        </p:blipFill>
        <p:spPr>
          <a:xfrm>
            <a:off x="611280" y="2852640"/>
            <a:ext cx="3240000" cy="3097440"/>
          </a:xfrm>
          <a:prstGeom prst="rect">
            <a:avLst/>
          </a:prstGeom>
          <a:ln w="0">
            <a:noFill/>
          </a:ln>
        </p:spPr>
      </p:pic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56880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800000"/>
                </a:solidFill>
                <a:latin typeface="Tahoma"/>
                <a:cs typeface="AL-Mateen"/>
              </a:rPr>
              <a:t>النظرة المتوازنة للمشكلة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0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7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0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-541440" y="476280"/>
            <a:ext cx="58341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800000"/>
                </a:solidFill>
                <a:latin typeface="Hitteen"/>
                <a:cs typeface="AL-Mateen"/>
              </a:rPr>
              <a:t>ضرورة الموازنة بين </a:t>
            </a:r>
            <a:br>
              <a:rPr sz="4600"/>
            </a:br>
            <a:r>
              <a:rPr b="1" lang="ar-SA" sz="4600" spc="-1" strike="noStrike">
                <a:solidFill>
                  <a:srgbClr val="800000"/>
                </a:solidFill>
                <a:latin typeface="Hitteen"/>
                <a:cs typeface="AL-Mateen"/>
              </a:rPr>
              <a:t>السلبيات والايجابيات</a:t>
            </a:r>
            <a:br>
              <a:rPr sz="4600"/>
            </a:br>
            <a:endParaRPr b="0" lang="en-US" sz="4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800000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0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2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00"/>
                            </p:stCondLst>
                            <p:childTnLst>
                              <p:par>
                                <p:cTn id="82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468360" y="620640"/>
            <a:ext cx="5327640" cy="115272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Hitteen"/>
                <a:cs typeface="AL-Mateen"/>
              </a:rPr>
              <a:t>انتقد الفعل وليس الفاع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0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8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142560" y="983880"/>
            <a:ext cx="4500360" cy="36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800000"/>
                </a:solidFill>
                <a:latin typeface="Tahoma"/>
                <a:cs typeface="AL-Mateen"/>
              </a:rPr>
              <a:t>عدم عزل الآخر عن بيئته التي تعلم منها الحياة الزواجية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0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500"/>
                            </p:stCondLst>
                            <p:childTnLst>
                              <p:par>
                                <p:cTn id="84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49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"/>
          <p:cNvSpPr/>
          <p:nvPr/>
        </p:nvSpPr>
        <p:spPr>
          <a:xfrm>
            <a:off x="324000" y="189000"/>
            <a:ext cx="8569080" cy="6480000"/>
          </a:xfrm>
          <a:custGeom>
            <a:avLst/>
            <a:gdLst>
              <a:gd name="textAreaLeft" fmla="*/ 2242440 w 8569080"/>
              <a:gd name="textAreaRight" fmla="*/ 6326640 w 8569080"/>
              <a:gd name="textAreaTop" fmla="*/ 1695960 h 6480000"/>
              <a:gd name="textAreaBottom" fmla="*/ 4784040 h 648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655" y="12189"/>
                </a:lnTo>
                <a:lnTo>
                  <a:pt x="786" y="14846"/>
                </a:lnTo>
                <a:lnTo>
                  <a:pt x="4695" y="14764"/>
                </a:lnTo>
                <a:lnTo>
                  <a:pt x="3163" y="18437"/>
                </a:lnTo>
                <a:lnTo>
                  <a:pt x="6730" y="16835"/>
                </a:lnTo>
                <a:lnTo>
                  <a:pt x="6580" y="20741"/>
                </a:lnTo>
                <a:lnTo>
                  <a:pt x="9287" y="17920"/>
                </a:lnTo>
                <a:lnTo>
                  <a:pt x="10800" y="21600"/>
                </a:lnTo>
                <a:lnTo>
                  <a:pt x="12189" y="17945"/>
                </a:lnTo>
                <a:lnTo>
                  <a:pt x="14846" y="20814"/>
                </a:lnTo>
                <a:lnTo>
                  <a:pt x="14764" y="16905"/>
                </a:lnTo>
                <a:lnTo>
                  <a:pt x="18437" y="18437"/>
                </a:lnTo>
                <a:lnTo>
                  <a:pt x="16835" y="14870"/>
                </a:lnTo>
                <a:lnTo>
                  <a:pt x="20741" y="15020"/>
                </a:lnTo>
                <a:lnTo>
                  <a:pt x="17920" y="12313"/>
                </a:lnTo>
                <a:lnTo>
                  <a:pt x="21600" y="10800"/>
                </a:lnTo>
                <a:lnTo>
                  <a:pt x="17945" y="9411"/>
                </a:lnTo>
                <a:lnTo>
                  <a:pt x="20814" y="6754"/>
                </a:lnTo>
                <a:lnTo>
                  <a:pt x="16905" y="6836"/>
                </a:lnTo>
                <a:lnTo>
                  <a:pt x="18437" y="3163"/>
                </a:lnTo>
                <a:lnTo>
                  <a:pt x="14870" y="4765"/>
                </a:lnTo>
                <a:lnTo>
                  <a:pt x="15020" y="859"/>
                </a:lnTo>
                <a:lnTo>
                  <a:pt x="12313" y="3680"/>
                </a:lnTo>
                <a:lnTo>
                  <a:pt x="10800" y="0"/>
                </a:lnTo>
                <a:lnTo>
                  <a:pt x="9411" y="3655"/>
                </a:lnTo>
                <a:lnTo>
                  <a:pt x="6754" y="786"/>
                </a:lnTo>
                <a:lnTo>
                  <a:pt x="6836" y="4695"/>
                </a:lnTo>
                <a:lnTo>
                  <a:pt x="3163" y="3163"/>
                </a:lnTo>
                <a:lnTo>
                  <a:pt x="4765" y="6730"/>
                </a:lnTo>
                <a:lnTo>
                  <a:pt x="859" y="6580"/>
                </a:lnTo>
                <a:lnTo>
                  <a:pt x="3680" y="928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19a9a"/>
              </a:gs>
              <a:gs pos="100000">
                <a:srgbClr val="ff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قاش مفتوح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1403280" y="764640"/>
            <a:ext cx="5184720" cy="9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Traditional Arabic"/>
              </a:rPr>
              <a:t>تمرين عملي  ( </a:t>
            </a:r>
            <a:r>
              <a:rPr b="1" lang="ar-SA" sz="2000" spc="-1" strike="noStrike">
                <a:solidFill>
                  <a:srgbClr val="000000"/>
                </a:solidFill>
                <a:latin typeface="Hitteen"/>
                <a:cs typeface="Traditional Arabic"/>
              </a:rPr>
              <a:t>الصورة للقسمين</a:t>
            </a:r>
            <a:r>
              <a:rPr b="1" lang="ar-SA" sz="5400" spc="-1" strike="noStrike">
                <a:solidFill>
                  <a:srgbClr val="000000"/>
                </a:solidFill>
                <a:latin typeface="Hitteen"/>
                <a:ea typeface="Traditional Arabic"/>
              </a:rPr>
              <a:t> )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56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611280" y="404640"/>
            <a:ext cx="5400720" cy="1584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أنظر للمشكلة من جميع الزوايا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0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3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6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84360" y="83664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ضرورة فهم نفسية الآخر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0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3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6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84360" y="83664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ممارسة التنفي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0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3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6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284360" y="1989000"/>
            <a:ext cx="3963960" cy="232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L-Mateen"/>
              </a:rPr>
              <a:t>تمرين</a:t>
            </a:r>
            <a:endParaRPr b="1" lang="en-US" sz="8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subTitle"/>
          </p:nvPr>
        </p:nvSpPr>
        <p:spPr>
          <a:xfrm>
            <a:off x="2411280" y="3429000"/>
            <a:ext cx="47498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  <a:cs typeface="AL-Mateen"/>
              </a:rPr>
              <a:t>المنازل الثلاث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0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768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4" dur="768" fill="hold"/>
                                        <p:tgtEl>
                                          <p:spTgt spid="15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6" dur="768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8" dur="768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1998"/>
                            </p:stCondLst>
                            <p:childTnLst>
                              <p:par>
                                <p:cTn id="9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1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435280" y="456840"/>
            <a:ext cx="3384360" cy="739800"/>
          </a:xfrm>
          <a:prstGeom prst="rect">
            <a:avLst/>
          </a:prstGeom>
          <a:gradFill rotWithShape="0">
            <a:gsLst>
              <a:gs pos="0">
                <a:srgbClr val="a8a843"/>
              </a:gs>
              <a:gs pos="50000">
                <a:srgbClr val="ffff66"/>
              </a:gs>
              <a:gs pos="100000">
                <a:srgbClr val="a8a843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900" spc="-1" strike="noStrike" u="sng">
                <a:solidFill>
                  <a:srgbClr val="000000"/>
                </a:solidFill>
                <a:uFillTx/>
                <a:latin typeface="Arial"/>
                <a:cs typeface="PT Bold Heading"/>
              </a:rPr>
              <a:t>لماذا هذا الموضوع؟ 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324000" y="2997000"/>
            <a:ext cx="8362800" cy="281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2000"/>
          </a:bodyPr>
          <a:p>
            <a:pPr marL="212400" indent="0" algn="ctr" rtl="1">
              <a:lnSpc>
                <a:spcPct val="100000"/>
              </a:lnSpc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200" spc="-1" strike="noStrike">
                <a:solidFill>
                  <a:srgbClr val="000000"/>
                </a:solidFill>
                <a:latin typeface="Hitteen"/>
                <a:cs typeface="Traditional Arabic"/>
              </a:rPr>
              <a:t>الطلاق الشرعي</a:t>
            </a:r>
            <a:endParaRPr b="0" lang="en-US" sz="14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5" name="HOUSE_04" descr=""/>
          <p:cNvPicPr/>
          <p:nvPr/>
        </p:nvPicPr>
        <p:blipFill>
          <a:blip r:embed="rId1"/>
          <a:stretch/>
        </p:blipFill>
        <p:spPr>
          <a:xfrm>
            <a:off x="1619280" y="2706840"/>
            <a:ext cx="789120" cy="691920"/>
          </a:xfrm>
          <a:prstGeom prst="rect">
            <a:avLst/>
          </a:prstGeom>
          <a:ln w="0">
            <a:noFill/>
          </a:ln>
        </p:spPr>
      </p:pic>
      <p:pic>
        <p:nvPicPr>
          <p:cNvPr id="1556" name="HOUSE_04" descr=""/>
          <p:cNvPicPr/>
          <p:nvPr/>
        </p:nvPicPr>
        <p:blipFill>
          <a:blip r:embed="rId2"/>
          <a:stretch/>
        </p:blipFill>
        <p:spPr>
          <a:xfrm>
            <a:off x="7164360" y="2741760"/>
            <a:ext cx="863640" cy="758520"/>
          </a:xfrm>
          <a:prstGeom prst="rect">
            <a:avLst/>
          </a:prstGeom>
          <a:ln w="0">
            <a:noFill/>
          </a:ln>
        </p:spPr>
      </p:pic>
      <p:pic>
        <p:nvPicPr>
          <p:cNvPr id="1557" name="HOUSE_04" descr=""/>
          <p:cNvPicPr/>
          <p:nvPr/>
        </p:nvPicPr>
        <p:blipFill>
          <a:blip r:embed="rId3"/>
          <a:stretch/>
        </p:blipFill>
        <p:spPr>
          <a:xfrm>
            <a:off x="4211640" y="2670120"/>
            <a:ext cx="863640" cy="758880"/>
          </a:xfrm>
          <a:prstGeom prst="rect">
            <a:avLst/>
          </a:prstGeom>
          <a:ln w="0">
            <a:noFill/>
          </a:ln>
        </p:spPr>
      </p:pic>
      <p:pic>
        <p:nvPicPr>
          <p:cNvPr id="1558" name="LGHTBLB2" descr=""/>
          <p:cNvPicPr/>
          <p:nvPr/>
        </p:nvPicPr>
        <p:blipFill>
          <a:blip r:embed="rId4"/>
          <a:stretch/>
        </p:blipFill>
        <p:spPr>
          <a:xfrm>
            <a:off x="7164360" y="4849920"/>
            <a:ext cx="936720" cy="728640"/>
          </a:xfrm>
          <a:prstGeom prst="rect">
            <a:avLst/>
          </a:prstGeom>
          <a:ln w="0">
            <a:noFill/>
          </a:ln>
        </p:spPr>
      </p:pic>
      <p:pic>
        <p:nvPicPr>
          <p:cNvPr id="1559" name="FAUCET_2" descr=""/>
          <p:cNvPicPr/>
          <p:nvPr/>
        </p:nvPicPr>
        <p:blipFill>
          <a:blip r:embed="rId5"/>
          <a:stretch/>
        </p:blipFill>
        <p:spPr>
          <a:xfrm>
            <a:off x="4284720" y="4870440"/>
            <a:ext cx="1114200" cy="790560"/>
          </a:xfrm>
          <a:prstGeom prst="rect">
            <a:avLst/>
          </a:prstGeom>
          <a:ln w="0">
            <a:noFill/>
          </a:ln>
        </p:spPr>
      </p:pic>
      <p:pic>
        <p:nvPicPr>
          <p:cNvPr id="1560" name="DUP00655" descr=""/>
          <p:cNvPicPr/>
          <p:nvPr/>
        </p:nvPicPr>
        <p:blipFill>
          <a:blip r:embed="rId6"/>
          <a:stretch/>
        </p:blipFill>
        <p:spPr>
          <a:xfrm>
            <a:off x="1547640" y="4908600"/>
            <a:ext cx="1060560" cy="646200"/>
          </a:xfrm>
          <a:prstGeom prst="rect">
            <a:avLst/>
          </a:prstGeom>
          <a:ln w="0">
            <a:noFill/>
          </a:ln>
        </p:spPr>
      </p:pic>
      <p:sp>
        <p:nvSpPr>
          <p:cNvPr id="1561" name=""/>
          <p:cNvSpPr/>
          <p:nvPr/>
        </p:nvSpPr>
        <p:spPr>
          <a:xfrm>
            <a:off x="8959680" y="-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0" y="0"/>
            <a:ext cx="1227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0" y="0"/>
            <a:ext cx="1227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0" y="0"/>
            <a:ext cx="1227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0" y="0"/>
            <a:ext cx="1227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0" y="0"/>
            <a:ext cx="1227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0" y="0"/>
            <a:ext cx="1227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324000" y="-683280"/>
            <a:ext cx="856908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Tahoma"/>
                <a:cs typeface="AL-Mateen"/>
              </a:rPr>
              <a:t>أمامك ثلاثة منازل مطلوب أن تصلها الخدمات: كهرباء - ماء - هاتف وكل خدمة في خط مستقل من المصدر مباشرة، ودون أن تتقاطع خطوط الخدمات، ودون حفر أنفاق أو إنشاء جسو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0" y="-594000"/>
            <a:ext cx="550872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800000"/>
                </a:solidFill>
                <a:latin typeface="Tahoma"/>
                <a:cs typeface="AL-Mateen"/>
              </a:rPr>
              <a:t>ليس بالضرورة حل كل المشكلات</a:t>
            </a:r>
            <a:br>
              <a:rPr sz="4800"/>
            </a:br>
            <a:r>
              <a:rPr b="1" lang="ar-SA" sz="4800" spc="-1" strike="noStrike">
                <a:solidFill>
                  <a:srgbClr val="800000"/>
                </a:solidFill>
                <a:latin typeface="Tahoma"/>
                <a:cs typeface="AL-Mateen"/>
              </a:rPr>
              <a:t>بشكل جذري وبخاصة الكبيرة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0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7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-36360" y="692280"/>
            <a:ext cx="662436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الحل اليسير قد يمهد لحل أكبر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0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1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4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611280" y="620640"/>
            <a:ext cx="5327640" cy="115272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خلع النظارة السودا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1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4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85680" y="733320"/>
            <a:ext cx="6264360" cy="115272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من أراد الحقوق فليقم بالواجبات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0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1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4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684360" y="69228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الموازنة بين الخطأ والعقا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0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1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4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611280" y="620640"/>
            <a:ext cx="5327640" cy="115272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كيف ننهي المشكل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1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4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"/>
          <p:cNvSpPr/>
          <p:nvPr/>
        </p:nvSpPr>
        <p:spPr>
          <a:xfrm>
            <a:off x="4284720" y="2349360"/>
            <a:ext cx="3963960" cy="232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L-Mateen"/>
              </a:rPr>
              <a:t>تمرين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2411280" y="3789360"/>
            <a:ext cx="47498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  <a:cs typeface="AL-Mateen"/>
              </a:rPr>
              <a:t>الشماغ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0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768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2" dur="768" fill="hold"/>
                                        <p:tgtEl>
                                          <p:spTgt spid="15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4" dur="768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6" dur="768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1998"/>
                            </p:stCondLst>
                            <p:childTnLst>
                              <p:par>
                                <p:cTn id="9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1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1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1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7" name="" descr=""/>
          <p:cNvPicPr/>
          <p:nvPr/>
        </p:nvPicPr>
        <p:blipFill>
          <a:blip r:embed="rId1"/>
          <a:stretch/>
        </p:blipFill>
        <p:spPr>
          <a:xfrm>
            <a:off x="1116000" y="4122720"/>
            <a:ext cx="1584360" cy="2735280"/>
          </a:xfrm>
          <a:prstGeom prst="rect">
            <a:avLst/>
          </a:prstGeom>
          <a:ln w="0">
            <a:noFill/>
          </a:ln>
        </p:spPr>
      </p:pic>
      <p:sp>
        <p:nvSpPr>
          <p:cNvPr id="1598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179280" y="404640"/>
            <a:ext cx="4248360" cy="3024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لا بد أن نتذكر نحن نتعامل مع البشر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0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5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5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66560" y="320400"/>
            <a:ext cx="70581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900" spc="-1" strike="noStrike">
                <a:solidFill>
                  <a:srgbClr val="800000"/>
                </a:solidFill>
                <a:latin typeface="Arial"/>
                <a:cs typeface="PT Bold Heading"/>
              </a:rPr>
              <a:t>الدعاء</a:t>
            </a:r>
            <a:endParaRPr b="0" lang="en-US" sz="129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03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2527560" cy="3384720"/>
          </a:xfrm>
          <a:prstGeom prst="rect">
            <a:avLst/>
          </a:prstGeom>
          <a:ln w="0">
            <a:noFill/>
          </a:ln>
        </p:spPr>
      </p:pic>
      <p:sp>
        <p:nvSpPr>
          <p:cNvPr id="1604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0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2" dur="5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500"/>
                            </p:stCondLst>
                            <p:childTnLst>
                              <p:par>
                                <p:cTn id="10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4608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56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700" spc="-1" strike="noStrike">
                <a:solidFill>
                  <a:srgbClr val="ff0000"/>
                </a:solidFill>
                <a:latin typeface="Times New Roman"/>
                <a:ea typeface="PT Bold Heading"/>
              </a:rPr>
              <a:t>60</a:t>
            </a:r>
            <a:endParaRPr b="0" lang="en-US" sz="27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250920" y="4076280"/>
            <a:ext cx="8588160" cy="2089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 algn="ctr" rtl="1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حالة طلاق يوميا في المملك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r" rtl="1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"/>
          <p:cNvSpPr/>
          <p:nvPr/>
        </p:nvSpPr>
        <p:spPr>
          <a:xfrm>
            <a:off x="324000" y="189000"/>
            <a:ext cx="8569080" cy="6480000"/>
          </a:xfrm>
          <a:custGeom>
            <a:avLst/>
            <a:gdLst>
              <a:gd name="textAreaLeft" fmla="*/ 2242440 w 8569080"/>
              <a:gd name="textAreaRight" fmla="*/ 6326640 w 8569080"/>
              <a:gd name="textAreaTop" fmla="*/ 1695960 h 6480000"/>
              <a:gd name="textAreaBottom" fmla="*/ 4784040 h 648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655" y="12189"/>
                </a:lnTo>
                <a:lnTo>
                  <a:pt x="786" y="14846"/>
                </a:lnTo>
                <a:lnTo>
                  <a:pt x="4695" y="14764"/>
                </a:lnTo>
                <a:lnTo>
                  <a:pt x="3163" y="18437"/>
                </a:lnTo>
                <a:lnTo>
                  <a:pt x="6730" y="16835"/>
                </a:lnTo>
                <a:lnTo>
                  <a:pt x="6580" y="20741"/>
                </a:lnTo>
                <a:lnTo>
                  <a:pt x="9287" y="17920"/>
                </a:lnTo>
                <a:lnTo>
                  <a:pt x="10800" y="21600"/>
                </a:lnTo>
                <a:lnTo>
                  <a:pt x="12189" y="17945"/>
                </a:lnTo>
                <a:lnTo>
                  <a:pt x="14846" y="20814"/>
                </a:lnTo>
                <a:lnTo>
                  <a:pt x="14764" y="16905"/>
                </a:lnTo>
                <a:lnTo>
                  <a:pt x="18437" y="18437"/>
                </a:lnTo>
                <a:lnTo>
                  <a:pt x="16835" y="14870"/>
                </a:lnTo>
                <a:lnTo>
                  <a:pt x="20741" y="15020"/>
                </a:lnTo>
                <a:lnTo>
                  <a:pt x="17920" y="12313"/>
                </a:lnTo>
                <a:lnTo>
                  <a:pt x="21600" y="10800"/>
                </a:lnTo>
                <a:lnTo>
                  <a:pt x="17945" y="9411"/>
                </a:lnTo>
                <a:lnTo>
                  <a:pt x="20814" y="6754"/>
                </a:lnTo>
                <a:lnTo>
                  <a:pt x="16905" y="6836"/>
                </a:lnTo>
                <a:lnTo>
                  <a:pt x="18437" y="3163"/>
                </a:lnTo>
                <a:lnTo>
                  <a:pt x="14870" y="4765"/>
                </a:lnTo>
                <a:lnTo>
                  <a:pt x="15020" y="859"/>
                </a:lnTo>
                <a:lnTo>
                  <a:pt x="12313" y="3680"/>
                </a:lnTo>
                <a:lnTo>
                  <a:pt x="10800" y="0"/>
                </a:lnTo>
                <a:lnTo>
                  <a:pt x="9411" y="3655"/>
                </a:lnTo>
                <a:lnTo>
                  <a:pt x="6754" y="786"/>
                </a:lnTo>
                <a:lnTo>
                  <a:pt x="6836" y="4695"/>
                </a:lnTo>
                <a:lnTo>
                  <a:pt x="3163" y="3163"/>
                </a:lnTo>
                <a:lnTo>
                  <a:pt x="4765" y="6730"/>
                </a:lnTo>
                <a:lnTo>
                  <a:pt x="859" y="6580"/>
                </a:lnTo>
                <a:lnTo>
                  <a:pt x="3680" y="928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19a9a"/>
              </a:gs>
              <a:gs pos="100000">
                <a:srgbClr val="ff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قاش مفتوح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-324000" y="260280"/>
            <a:ext cx="61214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800000"/>
                </a:solidFill>
                <a:latin typeface="Hitteen"/>
                <a:cs typeface="AL-Mateen"/>
              </a:rPr>
              <a:t>ماذا تفعل إذا لم تنجح القواعد السابقة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1258920" y="3789360"/>
            <a:ext cx="197964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700" spc="-1" strike="noStrike">
                <a:solidFill>
                  <a:srgbClr val="800000"/>
                </a:solidFill>
                <a:latin typeface="Hitteen"/>
                <a:cs typeface="Arial"/>
              </a:rPr>
              <a:t>؟</a:t>
            </a:r>
            <a:endParaRPr b="0" lang="en-US" sz="27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fill="hold">
                      <p:stCondLst>
                        <p:cond delay="0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8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8" dur="8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8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8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7" dur="50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504720" y="907560"/>
            <a:ext cx="8639280" cy="28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 u="sng">
                <a:solidFill>
                  <a:srgbClr val="006666"/>
                </a:solidFill>
                <a:uFillTx/>
                <a:latin typeface="Tahoma"/>
                <a:cs typeface="PT Bold Heading"/>
              </a:rPr>
              <a:t>الاستشارة: </a:t>
            </a:r>
            <a:endParaRPr b="0" lang="en-US" sz="5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826920" y="836640"/>
            <a:ext cx="55454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71000"/>
          </a:bodyPr>
          <a:p>
            <a:pPr marL="243360" indent="-243360" algn="just" rtl="1">
              <a:lnSpc>
                <a:spcPct val="180000"/>
              </a:lnSpc>
              <a:spcBef>
                <a:spcPts val="12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6666"/>
                </a:solidFill>
                <a:latin typeface="Tahoma"/>
                <a:ea typeface="PT Bold Heading"/>
              </a:rPr>
              <a:t>  الاستشارة بالانترنت.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marL="243360" indent="-243360" algn="just" rtl="1">
              <a:lnSpc>
                <a:spcPct val="180000"/>
              </a:lnSpc>
              <a:spcBef>
                <a:spcPts val="12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6666"/>
                </a:solidFill>
                <a:latin typeface="Tahoma"/>
                <a:ea typeface="PT Bold Heading"/>
              </a:rPr>
              <a:t>  الاستشارة بالهاتف.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marL="243360" indent="-243360" algn="just" rtl="1">
              <a:lnSpc>
                <a:spcPct val="180000"/>
              </a:lnSpc>
              <a:spcBef>
                <a:spcPts val="12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6666"/>
                </a:solidFill>
                <a:latin typeface="Tahoma"/>
                <a:ea typeface="PT Bold Heading"/>
              </a:rPr>
              <a:t>  الاستشارة بالمقابلة.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0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5" dur="768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6" dur="768" fill="hold"/>
                                        <p:tgtEl>
                                          <p:spTgt spid="16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8" dur="768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0" dur="768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1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1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8" dur="500"/>
                                        <p:tgtEl>
                                          <p:spTgt spid="1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1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1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5" dur="500"/>
                                        <p:tgtEl>
                                          <p:spTgt spid="1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1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1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2" dur="500"/>
                                        <p:tgtEl>
                                          <p:spTgt spid="1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"/>
          <p:cNvSpPr/>
          <p:nvPr/>
        </p:nvSpPr>
        <p:spPr>
          <a:xfrm>
            <a:off x="684360" y="2492280"/>
            <a:ext cx="4752720" cy="4032360"/>
          </a:xfrm>
          <a:prstGeom prst="ellipse">
            <a:avLst/>
          </a:prstGeom>
          <a:solidFill>
            <a:srgbClr val="ff990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620720" y="333360"/>
            <a:ext cx="4753080" cy="4390920"/>
          </a:xfrm>
          <a:prstGeom prst="ellipse">
            <a:avLst/>
          </a:prstGeom>
          <a:solidFill>
            <a:srgbClr val="ff000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3205080" y="2421000"/>
            <a:ext cx="4680000" cy="4032360"/>
          </a:xfrm>
          <a:prstGeom prst="ellipse">
            <a:avLst/>
          </a:prstGeom>
          <a:solidFill>
            <a:srgbClr val="ffff00">
              <a:alpha val="2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2629080" y="692280"/>
            <a:ext cx="259236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وسائط ساخنة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900000" y="4575240"/>
            <a:ext cx="237672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وسائط دافئ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5221440" y="4575240"/>
            <a:ext cx="2303280" cy="15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وسائط بارد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3205080" y="383364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6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شكل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6372360" y="189000"/>
            <a:ext cx="2592360" cy="1922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عامل مع المشكل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0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9" dur="20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2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6" dur="10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0" dur="10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4" dur="10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8" dur="20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2" dur="20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7" dur="10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3276360" y="260280"/>
            <a:ext cx="561636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900" spc="-1" strike="noStrike" u="sng">
                <a:solidFill>
                  <a:srgbClr val="000066"/>
                </a:solidFill>
                <a:uFillTx/>
                <a:latin typeface="Tahoma"/>
                <a:cs typeface="Traditional Arabic"/>
              </a:rPr>
              <a:t>وماذا بعد ؟</a:t>
            </a:r>
            <a:endParaRPr b="0" lang="en-US" sz="12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108000" y="2421000"/>
            <a:ext cx="6480000" cy="42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57000"/>
          </a:bodyPr>
          <a:p>
            <a:pPr marL="195480" indent="-195480" algn="just" rtl="1">
              <a:spcBef>
                <a:spcPts val="2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 u="sng">
                <a:solidFill>
                  <a:srgbClr val="000066"/>
                </a:solidFill>
                <a:uFillTx/>
                <a:latin typeface="Tahoma"/>
                <a:cs typeface="Traditional Arabic"/>
              </a:rPr>
              <a:t>ازالة</a:t>
            </a:r>
            <a:r>
              <a:rPr b="1" lang="ar-SA" sz="8000" spc="-1" strike="noStrike">
                <a:solidFill>
                  <a:srgbClr val="000066"/>
                </a:solidFill>
                <a:latin typeface="Tahoma"/>
                <a:ea typeface="Traditional Arabic"/>
              </a:rPr>
              <a:t> المشكلة تماما.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195480" indent="-195480" algn="just" rtl="1">
              <a:spcBef>
                <a:spcPts val="2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 u="sng">
                <a:solidFill>
                  <a:srgbClr val="000066"/>
                </a:solidFill>
                <a:uFillTx/>
                <a:latin typeface="Tahoma"/>
                <a:cs typeface="Traditional Arabic"/>
              </a:rPr>
              <a:t>التخفيف</a:t>
            </a:r>
            <a:r>
              <a:rPr b="1" lang="ar-SA" sz="8000" spc="-1" strike="noStrike">
                <a:solidFill>
                  <a:srgbClr val="000066"/>
                </a:solidFill>
                <a:latin typeface="Tahoma"/>
                <a:ea typeface="Traditional Arabic"/>
              </a:rPr>
              <a:t> من المشكلة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195480" indent="-195480" algn="just" rtl="1">
              <a:spcBef>
                <a:spcPts val="2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 u="sng">
                <a:solidFill>
                  <a:srgbClr val="000066"/>
                </a:solidFill>
                <a:uFillTx/>
                <a:latin typeface="Tahoma"/>
                <a:cs typeface="Traditional Arabic"/>
              </a:rPr>
              <a:t>التعايش</a:t>
            </a:r>
            <a:r>
              <a:rPr b="1" lang="ar-SA" sz="8000" spc="-1" strike="noStrike">
                <a:solidFill>
                  <a:srgbClr val="000066"/>
                </a:solidFill>
                <a:latin typeface="Tahoma"/>
                <a:ea typeface="Traditional Arabic"/>
              </a:rPr>
              <a:t> مع المشكلة.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0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768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5" dur="768" fill="hold"/>
                                        <p:tgtEl>
                                          <p:spTgt spid="16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7" dur="768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9" dur="768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1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1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1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1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1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1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1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1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1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611280" y="620640"/>
            <a:ext cx="5327640" cy="115272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التعايش مع المشكل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52" dur="indefinite" restart="never" nodeType="tmRoot">
          <p:childTnLst>
            <p:seq>
              <p:cTn id="1153" dur="indefinite" nodeType="mainSeq">
                <p:childTnLst>
                  <p:par>
                    <p:cTn id="1154" fill="hold">
                      <p:stCondLst>
                        <p:cond delay="0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8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1" dur="5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611280" y="620640"/>
            <a:ext cx="5327640" cy="1368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محاولة قبول كل طرف للطرف الآخر كما هو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fill="hold">
                      <p:stCondLst>
                        <p:cond delay="0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8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1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108000" y="620640"/>
            <a:ext cx="6769080" cy="115272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إمساك بمعروف أو تسريح بإحسان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0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8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1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/>
          </p:nvPr>
        </p:nvSpPr>
        <p:spPr>
          <a:xfrm>
            <a:off x="533520" y="259920"/>
            <a:ext cx="8076960" cy="58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800" spc="-1" strike="noStrike">
                <a:solidFill>
                  <a:srgbClr val="000056"/>
                </a:solidFill>
                <a:latin typeface="Traditional Arabic Backslanted"/>
                <a:cs typeface="Traditional Arabic"/>
              </a:rPr>
              <a:t>تمرين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6" name="" descr=""/>
          <p:cNvPicPr/>
          <p:nvPr/>
        </p:nvPicPr>
        <p:blipFill>
          <a:blip r:embed="rId1"/>
          <a:stretch/>
        </p:blipFill>
        <p:spPr>
          <a:xfrm rot="20247600">
            <a:off x="2387520" y="1941480"/>
            <a:ext cx="408312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fill="hold">
                      <p:stCondLst>
                        <p:cond delay="0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1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1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1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1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755280" y="409320"/>
            <a:ext cx="6769080" cy="12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300" spc="-1" strike="noStrike" u="sng">
                <a:solidFill>
                  <a:srgbClr val="330066"/>
                </a:solidFill>
                <a:uFillTx/>
                <a:latin typeface="Arial"/>
                <a:cs typeface="PT Bold Heading"/>
              </a:rPr>
              <a:t>الذي يثبُت في الذهن:</a:t>
            </a:r>
            <a:endParaRPr b="1" lang="en-US" sz="6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178920" y="1844640"/>
            <a:ext cx="8425080" cy="43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lnSpc>
                <a:spcPct val="130000"/>
              </a:lnSpc>
              <a:spcBef>
                <a:spcPts val="11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000066"/>
                </a:solidFill>
                <a:latin typeface="Arial"/>
                <a:cs typeface="PT Bold Heading"/>
              </a:rPr>
              <a:t>من 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10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 - 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15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 % مما يقرأونه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lnSpc>
                <a:spcPct val="130000"/>
              </a:lnSpc>
              <a:spcBef>
                <a:spcPts val="11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000066"/>
                </a:solidFill>
                <a:latin typeface="Arial"/>
                <a:cs typeface="PT Bold Heading"/>
              </a:rPr>
              <a:t>من 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13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 - 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20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 % مما يسمعونه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lnSpc>
                <a:spcPct val="130000"/>
              </a:lnSpc>
              <a:spcBef>
                <a:spcPts val="11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000066"/>
                </a:solidFill>
                <a:latin typeface="Arial"/>
                <a:cs typeface="PT Bold Heading"/>
              </a:rPr>
              <a:t>من 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25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 - 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35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 % مما يرونه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lnSpc>
                <a:spcPct val="130000"/>
              </a:lnSpc>
              <a:spcBef>
                <a:spcPts val="11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990000"/>
                </a:solidFill>
                <a:latin typeface="Arial"/>
                <a:cs typeface="PT Bold Heading"/>
              </a:rPr>
              <a:t>من </a:t>
            </a:r>
            <a:r>
              <a:rPr b="1" lang="ar-SA" sz="4600" spc="-1" strike="noStrike">
                <a:solidFill>
                  <a:srgbClr val="990000"/>
                </a:solidFill>
                <a:latin typeface="Arial"/>
                <a:ea typeface="PT Bold Heading"/>
              </a:rPr>
              <a:t>50</a:t>
            </a:r>
            <a:r>
              <a:rPr b="1" lang="ar-SA" sz="4600" spc="-1" strike="noStrike">
                <a:solidFill>
                  <a:srgbClr val="990000"/>
                </a:solidFill>
                <a:latin typeface="Arial"/>
                <a:ea typeface="PT Bold Heading"/>
              </a:rPr>
              <a:t> – </a:t>
            </a:r>
            <a:r>
              <a:rPr b="1" lang="ar-SA" sz="4600" spc="-1" strike="noStrike">
                <a:solidFill>
                  <a:srgbClr val="990000"/>
                </a:solidFill>
                <a:latin typeface="Arial"/>
                <a:ea typeface="PT Bold Heading"/>
              </a:rPr>
              <a:t>75</a:t>
            </a:r>
            <a:r>
              <a:rPr b="1" lang="ar-SA" sz="4600" spc="-1" strike="noStrike">
                <a:solidFill>
                  <a:srgbClr val="990000"/>
                </a:solidFill>
                <a:latin typeface="Arial"/>
                <a:ea typeface="PT Bold Heading"/>
              </a:rPr>
              <a:t> % مما يسمعونه ويرونه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0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768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9" dur="768" fill="hold"/>
                                        <p:tgtEl>
                                          <p:spTgt spid="16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1" dur="768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3" dur="768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1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1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1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1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1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8" dur="500"/>
                                        <p:tgtEl>
                                          <p:spTgt spid="1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1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1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5" dur="500"/>
                                        <p:tgtEl>
                                          <p:spTgt spid="1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1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1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2" dur="500"/>
                                        <p:tgtEl>
                                          <p:spTgt spid="1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4608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56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700" spc="-1" strike="noStrike">
                <a:solidFill>
                  <a:srgbClr val="ff0000"/>
                </a:solidFill>
                <a:latin typeface="Times New Roman"/>
                <a:ea typeface="PT Bold Heading"/>
              </a:rPr>
              <a:t>240</a:t>
            </a:r>
            <a:endParaRPr b="0" lang="en-US" sz="27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50920" y="3645000"/>
            <a:ext cx="8588160" cy="2520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ctr" rtl="1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حالة طلاق يوميا في مصر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 rtl="1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cc0000"/>
                </a:solidFill>
                <a:latin typeface="Times New Roman"/>
                <a:ea typeface="Traditional Arabic"/>
              </a:rPr>
              <a:t> </a:t>
            </a:r>
            <a:r>
              <a:rPr b="1" lang="ar-SA" sz="44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بمعنى : مطلقة كل </a:t>
            </a:r>
            <a:r>
              <a:rPr b="1" lang="ar-SA" sz="4400" spc="-1" strike="noStrike">
                <a:solidFill>
                  <a:srgbClr val="cc0000"/>
                </a:solidFill>
                <a:latin typeface="Times New Roman"/>
                <a:ea typeface="Traditional Arabic"/>
              </a:rPr>
              <a:t>6</a:t>
            </a:r>
            <a:r>
              <a:rPr b="1" lang="ar-SA" sz="4400" spc="-1" strike="noStrike">
                <a:solidFill>
                  <a:srgbClr val="cc0000"/>
                </a:solidFill>
                <a:latin typeface="Times New Roman"/>
                <a:ea typeface="Traditional Arabic"/>
              </a:rPr>
              <a:t> دقائ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r" rtl="1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11280" y="620640"/>
            <a:ext cx="5327640" cy="115272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أترك أفعالك تتحدث عن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0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9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2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11280" y="620640"/>
            <a:ext cx="5327640" cy="115272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جرب ولن تند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fill="hold">
                      <p:stCondLst>
                        <p:cond delay="0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9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2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15280" cy="6900840"/>
          </a:xfrm>
          <a:prstGeom prst="rect">
            <a:avLst/>
          </a:prstGeom>
          <a:ln w="0">
            <a:noFill/>
          </a:ln>
        </p:spPr>
      </p:pic>
      <p:sp>
        <p:nvSpPr>
          <p:cNvPr id="1648" name=""/>
          <p:cNvSpPr/>
          <p:nvPr/>
        </p:nvSpPr>
        <p:spPr>
          <a:xfrm>
            <a:off x="87480" y="2457360"/>
            <a:ext cx="79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87480" y="3691080"/>
            <a:ext cx="792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87480" y="3691080"/>
            <a:ext cx="792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87480" y="4041720"/>
            <a:ext cx="792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87480" y="4394160"/>
            <a:ext cx="792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87480" y="4394160"/>
            <a:ext cx="79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87480" y="4746600"/>
            <a:ext cx="792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87480" y="5099040"/>
            <a:ext cx="792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87480" y="5099040"/>
            <a:ext cx="7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87480" y="5451480"/>
            <a:ext cx="792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87480" y="5451480"/>
            <a:ext cx="7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87480" y="5803920"/>
            <a:ext cx="792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50920" y="2133720"/>
            <a:ext cx="864072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66"/>
                </a:solidFill>
                <a:latin typeface="AGA Arabesque"/>
                <a:cs typeface="AGA Arabesque"/>
              </a:rPr>
              <a:t>وآخر</a:t>
            </a:r>
            <a:r>
              <a:rPr b="1" lang="ar-SA" sz="8200" spc="-1" strike="noStrike">
                <a:solidFill>
                  <a:srgbClr val="000066"/>
                </a:solidFill>
                <a:latin typeface="AGA Arabesque"/>
                <a:ea typeface="AGA Arabesque"/>
              </a:rPr>
              <a:t></a:t>
            </a:r>
            <a:r>
              <a:rPr b="1" lang="ar-SA" sz="8200" spc="-1" strike="noStrike">
                <a:solidFill>
                  <a:srgbClr val="000066"/>
                </a:solidFill>
                <a:latin typeface="AGA Arabesque"/>
                <a:cs typeface="AGA Arabesque"/>
              </a:rPr>
              <a:t>دعوانا</a:t>
            </a:r>
            <a:r>
              <a:rPr b="1" lang="ar-SA" sz="8200" spc="-1" strike="noStrike">
                <a:solidFill>
                  <a:srgbClr val="000066"/>
                </a:solidFill>
                <a:latin typeface="AGA Arabesque"/>
                <a:ea typeface="AGA Arabesque"/>
              </a:rPr>
              <a:t></a:t>
            </a:r>
            <a:r>
              <a:rPr b="1" lang="ar-SA" sz="8200" spc="-1" strike="noStrike">
                <a:solidFill>
                  <a:srgbClr val="000066"/>
                </a:solidFill>
                <a:latin typeface="AGA Arabesque"/>
                <a:cs typeface="AGA Arabesque"/>
              </a:rPr>
              <a:t>أن</a:t>
            </a:r>
            <a:r>
              <a:rPr b="1" lang="ar-SA" sz="8200" spc="-1" strike="noStrike">
                <a:solidFill>
                  <a:srgbClr val="000066"/>
                </a:solidFill>
                <a:latin typeface="AGA Arabesque"/>
                <a:ea typeface="AGA Arabesque"/>
              </a:rPr>
              <a:t>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66"/>
                </a:solidFill>
                <a:latin typeface="AGA Arabesque"/>
                <a:cs typeface="AGA Arabesque"/>
              </a:rPr>
              <a:t>الحمد</a:t>
            </a:r>
            <a:r>
              <a:rPr b="1" lang="ar-SA" sz="8200" spc="-1" strike="noStrike">
                <a:solidFill>
                  <a:srgbClr val="000066"/>
                </a:solidFill>
                <a:latin typeface="AGA Arabesque"/>
                <a:ea typeface="AGA Arabesque"/>
              </a:rPr>
              <a:t></a:t>
            </a:r>
            <a:r>
              <a:rPr b="1" lang="ar-SA" sz="8200" spc="-1" strike="noStrike">
                <a:solidFill>
                  <a:srgbClr val="000066"/>
                </a:solidFill>
                <a:latin typeface="AGA Arabesque"/>
                <a:cs typeface="AGA Arabesque"/>
              </a:rPr>
              <a:t>لله</a:t>
            </a:r>
            <a:r>
              <a:rPr b="1" lang="ar-SA" sz="8200" spc="-1" strike="noStrike">
                <a:solidFill>
                  <a:srgbClr val="000066"/>
                </a:solidFill>
                <a:latin typeface="AGA Arabesque"/>
                <a:ea typeface="AGA Arabesque"/>
              </a:rPr>
              <a:t></a:t>
            </a:r>
            <a:r>
              <a:rPr b="1" lang="ar-SA" sz="8200" spc="-1" strike="noStrike">
                <a:solidFill>
                  <a:srgbClr val="000066"/>
                </a:solidFill>
                <a:latin typeface="AGA Arabesque"/>
                <a:cs typeface="AGA Arabesque"/>
              </a:rPr>
              <a:t>رب</a:t>
            </a:r>
            <a:r>
              <a:rPr b="1" lang="ar-SA" sz="8200" spc="-1" strike="noStrike">
                <a:solidFill>
                  <a:srgbClr val="000066"/>
                </a:solidFill>
                <a:latin typeface="AGA Arabesque"/>
                <a:ea typeface="AGA Arabesque"/>
              </a:rPr>
              <a:t></a:t>
            </a:r>
            <a:r>
              <a:rPr b="1" lang="ar-SA" sz="8200" spc="-1" strike="noStrike">
                <a:solidFill>
                  <a:srgbClr val="000066"/>
                </a:solidFill>
                <a:latin typeface="AGA Arabesque"/>
                <a:cs typeface="AGA Arabesque"/>
              </a:rPr>
              <a:t>العالمين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1" name="" descr=""/>
          <p:cNvPicPr/>
          <p:nvPr/>
        </p:nvPicPr>
        <p:blipFill>
          <a:blip r:embed="rId2"/>
          <a:stretch/>
        </p:blipFill>
        <p:spPr>
          <a:xfrm>
            <a:off x="3095640" y="260280"/>
            <a:ext cx="2952720" cy="1081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fill="hold">
                      <p:stCondLst>
                        <p:cond delay="0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10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10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61214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  <a:cs typeface="Traditional Arabic"/>
              </a:rPr>
              <a:t>شكرا لكم  واستودعكم  الله 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663" name=""/>
          <p:cNvGraphicFramePr/>
          <p:nvPr/>
        </p:nvGraphicFramePr>
        <p:xfrm>
          <a:off x="1692360" y="1700280"/>
          <a:ext cx="6335640" cy="34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700280"/>
                    <a:ext cx="6335640" cy="34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65" name="" descr=""/>
          <p:cNvPicPr/>
          <p:nvPr/>
        </p:nvPicPr>
        <p:blipFill>
          <a:blip r:embed="rId3">
            <a:lum contrast="60000"/>
          </a:blip>
          <a:stretch/>
        </p:blipFill>
        <p:spPr>
          <a:xfrm>
            <a:off x="5292720" y="4552920"/>
            <a:ext cx="38512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0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300" fill="hold"/>
                                        <p:tgtEl>
                                          <p:spTgt spid="1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300" fill="hold"/>
                                        <p:tgtEl>
                                          <p:spTgt spid="1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19:31:17Z</dcterms:created>
  <dc:creator>عبدالله بن ناصر السدحان</dc:creator>
  <dc:description/>
  <dc:language>en-US</dc:language>
  <cp:lastModifiedBy>omar</cp:lastModifiedBy>
  <dcterms:modified xsi:type="dcterms:W3CDTF">2009-03-23T11:03:18Z</dcterms:modified>
  <cp:revision>96</cp:revision>
  <dc:subject/>
  <dc:title>بسم           الله               الرحمن                       الرحيم </dc:title>
</cp:coreProperties>
</file>