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  <p:sldId id="302" r:id="rId70"/>
    <p:sldId id="303" r:id="rId71"/>
    <p:sldId id="304" r:id="rId72"/>
    <p:sldId id="305" r:id="rId73"/>
    <p:sldId id="306" r:id="rId74"/>
    <p:sldId id="307" r:id="rId75"/>
    <p:sldId id="308" r:id="rId76"/>
    <p:sldId id="309" r:id="rId77"/>
    <p:sldId id="310" r:id="rId78"/>
    <p:sldId id="311" r:id="rId79"/>
    <p:sldId id="312" r:id="rId80"/>
    <p:sldId id="313" r:id="rId81"/>
    <p:sldId id="314" r:id="rId82"/>
    <p:sldId id="315" r:id="rId83"/>
    <p:sldId id="316" r:id="rId84"/>
    <p:sldId id="317" r:id="rId85"/>
    <p:sldId id="318" r:id="rId86"/>
    <p:sldId id="319" r:id="rId87"/>
    <p:sldId id="320" r:id="rId88"/>
    <p:sldId id="321" r:id="rId89"/>
    <p:sldId id="322" r:id="rId90"/>
    <p:sldId id="323" r:id="rId91"/>
    <p:sldId id="324" r:id="rId92"/>
    <p:sldId id="325" r:id="rId93"/>
    <p:sldId id="326" r:id="rId94"/>
    <p:sldId id="327" r:id="rId95"/>
    <p:sldId id="328" r:id="rId96"/>
    <p:sldId id="329" r:id="rId97"/>
    <p:sldId id="330" r:id="rId98"/>
    <p:sldId id="331" r:id="rId99"/>
    <p:sldId id="332" r:id="rId100"/>
    <p:sldId id="333" r:id="rId101"/>
    <p:sldId id="334" r:id="rId102"/>
    <p:sldId id="335" r:id="rId103"/>
    <p:sldId id="336" r:id="rId104"/>
    <p:sldId id="337" r:id="rId105"/>
    <p:sldId id="338" r:id="rId106"/>
    <p:sldId id="339" r:id="rId107"/>
    <p:sldId id="340" r:id="rId108"/>
    <p:sldId id="341" r:id="rId109"/>
    <p:sldId id="342" r:id="rId110"/>
    <p:sldId id="343" r:id="rId111"/>
    <p:sldId id="344" r:id="rId112"/>
    <p:sldId id="345" r:id="rId113"/>
    <p:sldId id="346" r:id="rId114"/>
    <p:sldId id="347" r:id="rId115"/>
    <p:sldId id="34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slide" Target="slides/slide47.xml"/><Relationship Id="rId71" Type="http://schemas.openxmlformats.org/officeDocument/2006/relationships/slide" Target="slides/slide48.xml"/><Relationship Id="rId72" Type="http://schemas.openxmlformats.org/officeDocument/2006/relationships/slide" Target="slides/slide49.xml"/><Relationship Id="rId73" Type="http://schemas.openxmlformats.org/officeDocument/2006/relationships/slide" Target="slides/slide50.xml"/><Relationship Id="rId74" Type="http://schemas.openxmlformats.org/officeDocument/2006/relationships/slide" Target="slides/slide51.xml"/><Relationship Id="rId75" Type="http://schemas.openxmlformats.org/officeDocument/2006/relationships/slide" Target="slides/slide52.xml"/><Relationship Id="rId76" Type="http://schemas.openxmlformats.org/officeDocument/2006/relationships/slide" Target="slides/slide53.xml"/><Relationship Id="rId77" Type="http://schemas.openxmlformats.org/officeDocument/2006/relationships/slide" Target="slides/slide54.xml"/><Relationship Id="rId78" Type="http://schemas.openxmlformats.org/officeDocument/2006/relationships/slide" Target="slides/slide55.xml"/><Relationship Id="rId79" Type="http://schemas.openxmlformats.org/officeDocument/2006/relationships/slide" Target="slides/slide56.xml"/><Relationship Id="rId80" Type="http://schemas.openxmlformats.org/officeDocument/2006/relationships/slide" Target="slides/slide57.xml"/><Relationship Id="rId81" Type="http://schemas.openxmlformats.org/officeDocument/2006/relationships/slide" Target="slides/slide58.xml"/><Relationship Id="rId82" Type="http://schemas.openxmlformats.org/officeDocument/2006/relationships/slide" Target="slides/slide59.xml"/><Relationship Id="rId83" Type="http://schemas.openxmlformats.org/officeDocument/2006/relationships/slide" Target="slides/slide60.xml"/><Relationship Id="rId84" Type="http://schemas.openxmlformats.org/officeDocument/2006/relationships/slide" Target="slides/slide61.xml"/><Relationship Id="rId85" Type="http://schemas.openxmlformats.org/officeDocument/2006/relationships/slide" Target="slides/slide62.xml"/><Relationship Id="rId86" Type="http://schemas.openxmlformats.org/officeDocument/2006/relationships/slide" Target="slides/slide63.xml"/><Relationship Id="rId87" Type="http://schemas.openxmlformats.org/officeDocument/2006/relationships/slide" Target="slides/slide64.xml"/><Relationship Id="rId88" Type="http://schemas.openxmlformats.org/officeDocument/2006/relationships/slide" Target="slides/slide65.xml"/><Relationship Id="rId89" Type="http://schemas.openxmlformats.org/officeDocument/2006/relationships/slide" Target="slides/slide66.xml"/><Relationship Id="rId90" Type="http://schemas.openxmlformats.org/officeDocument/2006/relationships/slide" Target="slides/slide67.xml"/><Relationship Id="rId91" Type="http://schemas.openxmlformats.org/officeDocument/2006/relationships/slide" Target="slides/slide68.xml"/><Relationship Id="rId92" Type="http://schemas.openxmlformats.org/officeDocument/2006/relationships/slide" Target="slides/slide69.xml"/><Relationship Id="rId93" Type="http://schemas.openxmlformats.org/officeDocument/2006/relationships/slide" Target="slides/slide70.xml"/><Relationship Id="rId94" Type="http://schemas.openxmlformats.org/officeDocument/2006/relationships/slide" Target="slides/slide71.xml"/><Relationship Id="rId95" Type="http://schemas.openxmlformats.org/officeDocument/2006/relationships/slide" Target="slides/slide72.xml"/><Relationship Id="rId96" Type="http://schemas.openxmlformats.org/officeDocument/2006/relationships/slide" Target="slides/slide73.xml"/><Relationship Id="rId97" Type="http://schemas.openxmlformats.org/officeDocument/2006/relationships/slide" Target="slides/slide74.xml"/><Relationship Id="rId98" Type="http://schemas.openxmlformats.org/officeDocument/2006/relationships/slide" Target="slides/slide75.xml"/><Relationship Id="rId99" Type="http://schemas.openxmlformats.org/officeDocument/2006/relationships/slide" Target="slides/slide76.xml"/><Relationship Id="rId100" Type="http://schemas.openxmlformats.org/officeDocument/2006/relationships/slide" Target="slides/slide77.xml"/><Relationship Id="rId101" Type="http://schemas.openxmlformats.org/officeDocument/2006/relationships/slide" Target="slides/slide78.xml"/><Relationship Id="rId102" Type="http://schemas.openxmlformats.org/officeDocument/2006/relationships/slide" Target="slides/slide79.xml"/><Relationship Id="rId103" Type="http://schemas.openxmlformats.org/officeDocument/2006/relationships/slide" Target="slides/slide80.xml"/><Relationship Id="rId104" Type="http://schemas.openxmlformats.org/officeDocument/2006/relationships/slide" Target="slides/slide81.xml"/><Relationship Id="rId105" Type="http://schemas.openxmlformats.org/officeDocument/2006/relationships/slide" Target="slides/slide82.xml"/><Relationship Id="rId106" Type="http://schemas.openxmlformats.org/officeDocument/2006/relationships/slide" Target="slides/slide83.xml"/><Relationship Id="rId107" Type="http://schemas.openxmlformats.org/officeDocument/2006/relationships/slide" Target="slides/slide84.xml"/><Relationship Id="rId108" Type="http://schemas.openxmlformats.org/officeDocument/2006/relationships/slide" Target="slides/slide85.xml"/><Relationship Id="rId109" Type="http://schemas.openxmlformats.org/officeDocument/2006/relationships/slide" Target="slides/slide86.xml"/><Relationship Id="rId110" Type="http://schemas.openxmlformats.org/officeDocument/2006/relationships/slide" Target="slides/slide87.xml"/><Relationship Id="rId111" Type="http://schemas.openxmlformats.org/officeDocument/2006/relationships/slide" Target="slides/slide88.xml"/><Relationship Id="rId112" Type="http://schemas.openxmlformats.org/officeDocument/2006/relationships/slide" Target="slides/slide89.xml"/><Relationship Id="rId113" Type="http://schemas.openxmlformats.org/officeDocument/2006/relationships/slide" Target="slides/slide90.xml"/><Relationship Id="rId114" Type="http://schemas.openxmlformats.org/officeDocument/2006/relationships/slide" Target="slides/slide91.xml"/><Relationship Id="rId115" Type="http://schemas.openxmlformats.org/officeDocument/2006/relationships/slide" Target="slides/slide92.xml"/><Relationship Id="rId116" Type="http://schemas.openxmlformats.org/officeDocument/2006/relationships/slide" Target="slides/slide9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03E-1D7E-4D2D-8365-C7D3B1C0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022-E11D-4274-8879-2049AFDD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D801F-AAC7-4108-9978-1EF1D341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E04C-087A-4B4F-9CC2-929503E3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A9F5-B836-4E8E-8F23-F8BA6239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0643-E537-4BEE-8D58-062D815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DE65-E167-4A7B-8E25-9E85C11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F791-9B62-4D95-90F1-E3EC461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23C2-4C1B-4F92-B954-621B7C76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FBD5-3B14-457F-B63F-DBE56694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7611-6C03-43AA-88B8-FB9EF2F8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064-DD69-4086-B2FB-385AB3C0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D44-917D-40FC-B226-40F81DB6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3E7B-BB4A-44A5-A3A1-1FED8E79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2A93-EA79-4C5B-AA31-7501B467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C69D1-8769-4D08-B12D-4C817B5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FD2E-4632-4685-9FA8-4395D9E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49C1-6E46-4877-BD40-A8587CB0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37E6E-0523-4403-89B1-920D5CB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01B2-A5AA-4A99-9010-7D76BB3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2BBFE-50FD-4180-A086-9B67791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CE3B9-7772-4C37-A618-335BEF4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0EEE-D556-4B6C-89B2-03565EE4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E747A-1225-47D9-A628-BBB6FF66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102E-5244-4B5D-A399-97448A28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D370-3D26-4FD0-B410-1EC0237C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F4D9-0CC4-4B4E-ABCF-0BEF4385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54DAF-459A-4FB4-9619-D1738D44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4FD83-7D20-40E2-935F-0E5FA6D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02A3C-19F9-43D5-BF6E-9949D01B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F6DA5-8A7E-4926-BEDD-5C8BA815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F24F-743B-47F3-ABE8-4F8AD8A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9A87-EDFB-4E1D-B133-D767DEE0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3E8B-8D3A-46A6-A961-88C0B68F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AC7C-071C-447A-833B-D81B2EB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701D-3CAD-458F-ADA9-973DF943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A856-9908-40C6-A525-839F8F98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AEB-2F36-497E-BC9C-2F39FCD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691-BE53-4E6F-A2FC-AD27AE6C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F9E-7C5D-49E0-A0CE-550B35EB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5AD-C7BC-4634-9D2A-F7F13383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642-F377-4935-AA7B-577BF46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B36-CA46-4235-A980-6108E75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F7CD-F7FF-4575-B5DF-BEB5EEFD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E80-6597-433A-A30C-4D8BA69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ED06-C9F8-4C8A-BDCE-A27E8C3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B988-6E72-40B8-8899-BA932FBA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54AB-8449-47DE-98C0-2B937350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17E-BB98-47E0-86F9-668D18B5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CF0-4E5D-43A8-B4A3-739362FE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A1D-A58E-47CB-A539-C3278D8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890-3916-48CA-A934-75A14DCE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85FC-4919-4933-AF1C-CC6157F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CB9D-D2B6-4E58-9A81-7717BB1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F4B6-3B02-4D58-8CB1-8C441B0D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AA09-ADCA-49AD-BDBB-2267A2D4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9010-824D-4DCD-ADD4-42330834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8AD1D-FD58-4D2A-B50A-EB0CEB91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FEEC-0817-4AB6-8984-A6A5F666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7BA7-9FBE-4200-8AF6-BD67C1E8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8DFC-D87C-4F95-BBFB-20319D1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367-3C0D-498D-9495-7D6DAFB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AD43-FE52-4B75-8DAC-72EE236B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F780-1533-4513-85C4-0721221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9CC7-3AED-4EAE-A533-0649F8AB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FDF8-016B-4B33-86A2-0225F0D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0FF9-BA0C-460E-B9F7-49AF2A5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1AD1-2722-47B0-86F2-0B8B7EF0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DECD-ED03-4F7B-B500-BD996493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CFF3-822E-45C8-8137-A2E687B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BDDC-0578-42D4-AA6A-36A2C29D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60F4-A6FC-4AA8-93A7-8182C19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1C2-C614-4941-8B6F-22E88B09B57A}" type="slidenum">
              <a: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Times New Roman (Arabic)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60B5-444C-4C4B-BED9-C1F90E8B193B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5874-E6BA-42C1-80DF-31D68C2B81AD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313E-FAD3-4B80-B5CD-D585B2392467}" type="slidenum">
              <a:rPr b="0" lang="ar-A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24A-8C8D-4688-BE07-4F422CCE5B7F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187B-866B-44A3-9541-30609D970F35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0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6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16000" y="1988640"/>
            <a:ext cx="66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000000"/>
                </a:solidFill>
                <a:latin typeface="AL-Hor"/>
                <a:cs typeface="PT Bold Heading"/>
              </a:rPr>
              <a:t>إلى كل زوجين قبل فوات الأوان.</a:t>
            </a:r>
            <a:endParaRPr b="1" lang="en-US" sz="69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ff99">
              <a:alpha val="70000"/>
            </a:srgbClr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 الطلاق في بعض دول الخليج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179388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م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5640" y="1793880"/>
            <a:ext cx="2035080" cy="143460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40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59280" y="273060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قط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5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59280" y="3666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وي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5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59280" y="460224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ح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5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4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59280" y="5538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عود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04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6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900" spc="-1" strike="noStrike">
                <a:solidFill>
                  <a:srgbClr val="ff0000"/>
                </a:solidFill>
                <a:latin typeface="Times New Roman"/>
                <a:ea typeface="Traditional Arabic Backslanted"/>
              </a:rPr>
              <a:t>14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الة طلاق يوميا في الريا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250920" y="228600"/>
          <a:ext cx="8642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642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ثر الطلاق سيكون على كل من 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30640" y="1793880"/>
            <a:ext cx="3610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ولا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179388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أولاً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32440" y="273060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71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ني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32440" y="366696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71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لث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32440" y="460224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71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رابع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68800" y="5538960"/>
            <a:ext cx="353844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568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خامس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03640" y="184464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3640" y="278136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32000" y="371628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32000" y="465300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32000" y="558972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3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0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8280" cy="6480000"/>
          </a:xfrm>
          <a:prstGeom prst="rect">
            <a:avLst/>
          </a:prstGeom>
          <a:gradFill rotWithShape="0">
            <a:gsLst>
              <a:gs pos="0">
                <a:srgbClr val="e1c11f"/>
              </a:gs>
              <a:gs pos="50000">
                <a:srgbClr val="ffffff"/>
              </a:gs>
              <a:gs pos="100000">
                <a:srgbClr val="e1c1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إن ابليس يضع عرشه على الماء ثُمَّ يبعث سراياه فأدناهم منزلة اعظمهم فتنة ، يجيء احدهم فيقول: فعلت كذا وكذا فيقول الشيطان له: ما صنعت شيئا ثُمَّ يجيء أخر فيقول: ما تركته حتى فرقت بينه وبين امراته، قال: فيدنيه الشيطان منه ويلتزمه ويقول: أنت أنت. 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PT Bold Heading"/>
              </a:rPr>
              <a:t>رواه مسلم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142920" y="549360"/>
            <a:ext cx="75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66"/>
                </a:solidFill>
                <a:latin typeface="Hitteen"/>
                <a:cs typeface="PT Bold Heading"/>
              </a:rPr>
              <a:t>الطلاق العاط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416720" cy="4752720"/>
          </a:xfrm>
          <a:prstGeom prst="rect">
            <a:avLst/>
          </a:prstGeom>
          <a:ln w="76320">
            <a:solidFill>
              <a:srgbClr val="ffffcc"/>
            </a:solidFill>
            <a:prstDash val="sysDot"/>
            <a:miter/>
          </a:ln>
        </p:spPr>
      </p:pic>
      <p:sp>
        <p:nvSpPr>
          <p:cNvPr id="1034" name=""/>
          <p:cNvSpPr/>
          <p:nvPr/>
        </p:nvSpPr>
        <p:spPr>
          <a:xfrm>
            <a:off x="7020000" y="241920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800000">
            <a:off x="1042560" y="2420640"/>
            <a:ext cx="1297080" cy="6476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3280" y="1773360"/>
            <a:ext cx="0" cy="5084640"/>
          </a:xfrm>
          <a:prstGeom prst="line">
            <a:avLst/>
          </a:prstGeom>
          <a:ln w="1872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88000" y="115920"/>
            <a:ext cx="2448000" cy="57636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000066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10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0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042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062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082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102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122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142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16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184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204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038480" y="2057040"/>
            <a:ext cx="414360" cy="307800"/>
            <a:chOff x="4038480" y="2057040"/>
            <a:chExt cx="414360" cy="307800"/>
          </a:xfrm>
        </p:grpSpPr>
        <p:sp>
          <p:nvSpPr>
            <p:cNvPr id="1224" name=""/>
            <p:cNvSpPr/>
            <p:nvPr/>
          </p:nvSpPr>
          <p:spPr>
            <a:xfrm rot="16200000">
              <a:off x="4151160" y="214560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4257720" y="216972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200000">
              <a:off x="4222800" y="218052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6200000">
              <a:off x="4153680" y="205920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6200000">
              <a:off x="4253760" y="220680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4308480" y="219996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200000">
              <a:off x="4303440" y="22028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200000">
              <a:off x="4228920" y="219492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6200000">
              <a:off x="4228920" y="211536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6200000">
              <a:off x="4166280" y="214956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200000">
              <a:off x="4180680" y="204804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200000">
              <a:off x="4280040" y="214884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rot="16200000">
            <a:off x="3596400" y="196596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3091320" y="178452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6200000">
            <a:off x="2730600" y="206964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241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057400" y="2361960"/>
            <a:ext cx="1219320" cy="1600560"/>
            <a:chOff x="2057400" y="2361960"/>
            <a:chExt cx="1219320" cy="1600560"/>
          </a:xfrm>
        </p:grpSpPr>
        <p:sp>
          <p:nvSpPr>
            <p:cNvPr id="1260" name=""/>
            <p:cNvSpPr/>
            <p:nvPr/>
          </p:nvSpPr>
          <p:spPr>
            <a:xfrm>
              <a:off x="2209680" y="3875040"/>
              <a:ext cx="438120" cy="87480"/>
            </a:xfrm>
            <a:prstGeom prst="ellips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2286000" y="3548160"/>
              <a:ext cx="307800" cy="414360"/>
              <a:chOff x="2286000" y="3548160"/>
              <a:chExt cx="307800" cy="414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2354400" y="3679920"/>
                <a:ext cx="169560" cy="131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286000" y="3880080"/>
                <a:ext cx="307800" cy="82440"/>
              </a:xfrm>
              <a:prstGeom prst="ellipse">
                <a:avLst/>
              </a:prstGeom>
              <a:solidFill>
                <a:srgbClr val="e07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89240" y="3853080"/>
                <a:ext cx="301680" cy="6048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38" y="0"/>
                    </a:lnTo>
                    <a:lnTo>
                      <a:pt x="248" y="0"/>
                    </a:lnTo>
                    <a:lnTo>
                      <a:pt x="381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7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03360" y="3548160"/>
                <a:ext cx="73080" cy="303480"/>
              </a:xfrm>
              <a:prstGeom prst="rect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289240" y="3907080"/>
                <a:ext cx="298440" cy="11160"/>
              </a:xfrm>
              <a:custGeom>
                <a:avLst/>
                <a:gdLst/>
                <a:ahLst/>
                <a:rect l="l" t="t" r="r" b="b"/>
                <a:pathLst>
                  <a:path w="377" h="14">
                    <a:moveTo>
                      <a:pt x="23" y="0"/>
                    </a:moveTo>
                    <a:lnTo>
                      <a:pt x="0" y="14"/>
                    </a:lnTo>
                    <a:lnTo>
                      <a:pt x="377" y="14"/>
                    </a:lnTo>
                    <a:lnTo>
                      <a:pt x="3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00120" y="3845160"/>
                <a:ext cx="77760" cy="23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03360" y="3840480"/>
                <a:ext cx="71640" cy="17280"/>
              </a:xfrm>
              <a:prstGeom prst="rect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92200" y="3687840"/>
                <a:ext cx="12960" cy="11448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11"/>
                    </a:moveTo>
                    <a:lnTo>
                      <a:pt x="16" y="0"/>
                    </a:lnTo>
                    <a:lnTo>
                      <a:pt x="16" y="144"/>
                    </a:lnTo>
                    <a:lnTo>
                      <a:pt x="0" y="13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71760" y="3687840"/>
                <a:ext cx="12600" cy="114480"/>
              </a:xfrm>
              <a:custGeom>
                <a:avLst/>
                <a:gdLst/>
                <a:ahLst/>
                <a:rect l="l" t="t" r="r" b="b"/>
                <a:pathLst>
                  <a:path w="17" h="144">
                    <a:moveTo>
                      <a:pt x="17" y="11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7" y="13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76360" y="3691080"/>
                <a:ext cx="139680" cy="109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432160" y="3554640"/>
                <a:ext cx="34920" cy="306360"/>
              </a:xfrm>
              <a:custGeom>
                <a:avLst/>
                <a:gdLst/>
                <a:ahLst/>
                <a:rect l="l" t="t" r="r" b="b"/>
                <a:pathLst>
                  <a:path w="45" h="386">
                    <a:moveTo>
                      <a:pt x="45" y="0"/>
                    </a:moveTo>
                    <a:lnTo>
                      <a:pt x="0" y="0"/>
                    </a:lnTo>
                    <a:lnTo>
                      <a:pt x="0" y="385"/>
                    </a:lnTo>
                    <a:lnTo>
                      <a:pt x="17" y="386"/>
                    </a:lnTo>
                    <a:lnTo>
                      <a:pt x="35" y="382"/>
                    </a:lnTo>
                    <a:lnTo>
                      <a:pt x="45" y="37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351160" y="3864240"/>
                <a:ext cx="225360" cy="76320"/>
              </a:xfrm>
              <a:custGeom>
                <a:avLst/>
                <a:gdLst/>
                <a:ahLst/>
                <a:rect l="l" t="t" r="r" b="b"/>
                <a:pathLst>
                  <a:path w="284" h="97">
                    <a:moveTo>
                      <a:pt x="82" y="12"/>
                    </a:moveTo>
                    <a:lnTo>
                      <a:pt x="104" y="15"/>
                    </a:lnTo>
                    <a:lnTo>
                      <a:pt x="123" y="16"/>
                    </a:lnTo>
                    <a:lnTo>
                      <a:pt x="144" y="14"/>
                    </a:lnTo>
                    <a:lnTo>
                      <a:pt x="159" y="8"/>
                    </a:lnTo>
                    <a:lnTo>
                      <a:pt x="169" y="0"/>
                    </a:lnTo>
                    <a:lnTo>
                      <a:pt x="284" y="63"/>
                    </a:lnTo>
                    <a:lnTo>
                      <a:pt x="273" y="73"/>
                    </a:lnTo>
                    <a:lnTo>
                      <a:pt x="252" y="84"/>
                    </a:lnTo>
                    <a:lnTo>
                      <a:pt x="235" y="88"/>
                    </a:lnTo>
                    <a:lnTo>
                      <a:pt x="214" y="93"/>
                    </a:lnTo>
                    <a:lnTo>
                      <a:pt x="183" y="96"/>
                    </a:lnTo>
                    <a:lnTo>
                      <a:pt x="143" y="97"/>
                    </a:lnTo>
                    <a:lnTo>
                      <a:pt x="104" y="97"/>
                    </a:lnTo>
                    <a:lnTo>
                      <a:pt x="64" y="96"/>
                    </a:lnTo>
                    <a:lnTo>
                      <a:pt x="30" y="91"/>
                    </a:lnTo>
                    <a:lnTo>
                      <a:pt x="0" y="78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2209680" y="3222360"/>
              <a:ext cx="480960" cy="358560"/>
            </a:xfrm>
            <a:prstGeom prst="ellipse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057400" y="2717280"/>
              <a:ext cx="776160" cy="711360"/>
            </a:xfrm>
            <a:custGeom>
              <a:avLst/>
              <a:gdLst/>
              <a:ahLst/>
              <a:rect l="l" t="t" r="r" b="b"/>
              <a:pathLst>
                <a:path w="978" h="895">
                  <a:moveTo>
                    <a:pt x="0" y="0"/>
                  </a:moveTo>
                  <a:lnTo>
                    <a:pt x="198" y="895"/>
                  </a:lnTo>
                  <a:lnTo>
                    <a:pt x="783" y="895"/>
                  </a:lnTo>
                  <a:lnTo>
                    <a:pt x="9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57400" y="2688840"/>
              <a:ext cx="777960" cy="130320"/>
            </a:xfrm>
            <a:prstGeom prst="ellipse">
              <a:avLst/>
            </a:prstGeom>
            <a:solidFill>
              <a:srgbClr val="ffa04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14600" y="2743200"/>
              <a:ext cx="330120" cy="762120"/>
            </a:xfrm>
            <a:custGeom>
              <a:avLst/>
              <a:gdLst/>
              <a:ahLst/>
              <a:rect l="l" t="t" r="r" b="b"/>
              <a:pathLst>
                <a:path w="415" h="961">
                  <a:moveTo>
                    <a:pt x="0" y="961"/>
                  </a:moveTo>
                  <a:lnTo>
                    <a:pt x="51" y="954"/>
                  </a:lnTo>
                  <a:lnTo>
                    <a:pt x="103" y="940"/>
                  </a:lnTo>
                  <a:lnTo>
                    <a:pt x="151" y="913"/>
                  </a:lnTo>
                  <a:lnTo>
                    <a:pt x="199" y="879"/>
                  </a:lnTo>
                  <a:lnTo>
                    <a:pt x="223" y="837"/>
                  </a:lnTo>
                  <a:lnTo>
                    <a:pt x="243" y="779"/>
                  </a:lnTo>
                  <a:lnTo>
                    <a:pt x="261" y="721"/>
                  </a:lnTo>
                  <a:lnTo>
                    <a:pt x="274" y="669"/>
                  </a:lnTo>
                  <a:lnTo>
                    <a:pt x="292" y="604"/>
                  </a:lnTo>
                  <a:lnTo>
                    <a:pt x="415" y="0"/>
                  </a:lnTo>
                  <a:lnTo>
                    <a:pt x="364" y="18"/>
                  </a:lnTo>
                  <a:lnTo>
                    <a:pt x="312" y="28"/>
                  </a:lnTo>
                  <a:lnTo>
                    <a:pt x="216" y="38"/>
                  </a:lnTo>
                  <a:lnTo>
                    <a:pt x="106" y="45"/>
                  </a:lnTo>
                  <a:lnTo>
                    <a:pt x="110" y="680"/>
                  </a:lnTo>
                  <a:lnTo>
                    <a:pt x="106" y="762"/>
                  </a:lnTo>
                  <a:lnTo>
                    <a:pt x="99" y="824"/>
                  </a:lnTo>
                  <a:lnTo>
                    <a:pt x="86" y="879"/>
                  </a:lnTo>
                  <a:lnTo>
                    <a:pt x="58" y="920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57400" y="2706840"/>
              <a:ext cx="747720" cy="11268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e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 rot="16200000">
              <a:off x="2933640" y="2247120"/>
              <a:ext cx="228600" cy="457200"/>
            </a:xfrm>
            <a:custGeom>
              <a:avLst/>
              <a:gdLst>
                <a:gd name="textAreaLeft" fmla="*/ 53640 w 228600"/>
                <a:gd name="textAreaRight" fmla="*/ 174960 w 2286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28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303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323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343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363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383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403280" y="404640"/>
          <a:ext cx="6408720" cy="6120000"/>
        </p:xfrm>
        <a:graphic>
          <a:graphicData uri="http://schemas.openxmlformats.org/drawingml/2006/table">
            <a:tbl>
              <a:tblPr/>
              <a:tblGrid>
                <a:gridCol w="1602000"/>
                <a:gridCol w="1603080"/>
                <a:gridCol w="1602000"/>
                <a:gridCol w="1601640"/>
              </a:tblGrid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AL-Mateen"/>
              </a:rPr>
              <a:t>حركة يسيرة قد تعيد ترتيب حياتنا بشكل أفضل 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2920" y="1046160"/>
            <a:ext cx="8893080" cy="213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آثار                 المشاكل الزوج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4788000" y="522360"/>
            <a:ext cx="302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76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760"/>
                            </p:stCondLst>
                            <p:childTnLst>
                              <p:par>
                                <p:cTn id="36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1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 rtl="1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600" spc="-1" strike="noStrike">
                <a:solidFill>
                  <a:srgbClr val="800080"/>
                </a:solidFill>
                <a:latin typeface="Traditional Arabic Backslanted"/>
                <a:cs typeface="Traditional Arabic Backslanted"/>
              </a:rPr>
              <a:t>انعدام السكن</a:t>
            </a:r>
            <a:endParaRPr b="0" lang="en-US" sz="15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6910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كمو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ستثار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صطدا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تشار النزا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بحث عن حلفاء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هاء المشكلة أو الزواج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title"/>
          </p:nvPr>
        </p:nvSpPr>
        <p:spPr>
          <a:xfrm>
            <a:off x="94104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0066"/>
                </a:solidFill>
                <a:uFillTx/>
                <a:latin typeface="Comic Sans MS"/>
                <a:cs typeface="PT Bold Heading"/>
              </a:rPr>
              <a:t>مراحل المشكلة الاسرية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98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98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98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98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98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98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11280" y="136440"/>
            <a:ext cx="7921440" cy="11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66"/>
                </a:solidFill>
                <a:uFillTx/>
                <a:latin typeface="Traditional Arabic Backslanted"/>
                <a:cs typeface="PT Bold Heading"/>
              </a:rPr>
              <a:t>اصناف الأزواج تجاه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799308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حديد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وصول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لى حل المشكلة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وضع آلي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نفيذ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قواعد ومنطلقات  للتعامل </a:t>
            </a:r>
            <a:br>
              <a:rPr sz="7000"/>
            </a:b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مع المشكلات الأسري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66 0.01574 C 0.00486 0.00972 0.01667 0.00278 0.03021 -0.00787 C 0.06806 -0.03842 0.09375 -0.07824 0.08542 -0.09491 C 0.07761 -0.11319 0.03959 -0.10185 0.00174 -0.07129 C -0.01823 -0.05532 -0.0342 -0.0375 -0.04427 -0.02222 C -0.0533 -0.01088 -0.06076 0.00162 -0.0684 0.01713 C -0.09323 0.06736 -0.10278 0.11806 -0.0901 0.12917 C -0.07778 0.14005 -0.04653 0.10857 -0.0217 0.05834 C -0.01007 0.03496 -0.00156 0.01042 0.00191 -0.00856 C 0.00677 -0.02361 0.00972 -0.04166 0.01198 -0.06041 C 0.01806 -0.12083 0.01094 -0.17199 -0.00486 -0.1743 C -0.02014 -0.17685 -0.03698 -0.13078 -0.04288 -0.0706 C -0.0467 -0.04352 -0.04635 -0.01759 -0.04323 0.00255 C -0.04201 0.01968 -0.03941 0.03634 -0.03437 0.05509 C -0.02031 0.11366 0.00243 0.15463 0.01754 0.14861 C 0.0316 0.1419 0.03316 0.09051 0.0184 0.03287 C 0.0125 0.00857 0.00417 -0.01319 -0.0033 -0.0294 C -0.01007 -0.04491 -0.01996 -0.06157 -0.0316 -0.07662 C -0.06267 -0.11991 -0.096 -0.14467 -0.10729 -0.12893 C -0.11892 -0.11504 -0.10243 -0.06875 -0.07135 -0.02523 C -0.05694 -0.00602 -0.04201 0.00996 -0.02899 0.01991 C -0.01805 0.0294 -0.00538 0.0375 0.00868 0.04537 C 0.05087 0.06644 0.09011 0.06736 0.09497 0.04769 C 0.10087 0.02871 0.07136 -0.0037 0.029 -0.02477 C 0.00886 -0.03449 -0.01094 -0.04097 -0.02604 -0.04143 C -0.03871 -0.04282 -0.05173 -0.04305 -0.06666 -0.0419 C -0.11198 -0.03541 -0.14705 -0.01528 -0.14514 0.00533 C -0.14427 0.02547 -0.10625 0.03797 -0.0618 0.03264 C -0.03993 0.02963 -0.02048 0.02431 -0.0066 0.01574 Z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806472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0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كلة ليس في وجود المشكلة وإنما في إدارتها والتعامل معها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993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1000"/>
          </a:bodyPr>
          <a:p>
            <a:pPr marL="209160" indent="0" algn="ctr" rtl="1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اكل درجات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11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كل مرحلة في الزواج مشاكلها الخاصة بها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684360" y="1630440"/>
            <a:ext cx="8316720" cy="40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على مستوى قدرتك واستطاعتك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124000" y="1916280"/>
            <a:ext cx="4680000" cy="21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Times New Roman"/>
                <a:cs typeface="DecoType Naskh Swashes"/>
              </a:rPr>
              <a:t>مدخل</a:t>
            </a:r>
            <a:endParaRPr b="0" i="1" lang="en-US" sz="1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5257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209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6000"/>
          </a:bodyPr>
          <a:p>
            <a:pPr marL="226080" indent="0" algn="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ا تتوقع الحل الفوري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56144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0000"/>
          </a:bodyPr>
          <a:p>
            <a:pPr marL="274320" indent="0" algn="ctr" rtl="1">
              <a:lnSpc>
                <a:spcPct val="80000"/>
              </a:lnSpc>
              <a:spcBef>
                <a:spcPts val="30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2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لك خير</a:t>
            </a: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87280" y="4797360"/>
            <a:ext cx="75614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 rtl="1">
              <a:lnSpc>
                <a:spcPct val="80000"/>
              </a:lnSpc>
              <a:spcBef>
                <a:spcPts val="2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ولكن بشرط ...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6443640" y="115920"/>
            <a:ext cx="2664000" cy="1655640"/>
          </a:xfrm>
          <a:prstGeom prst="wedgeEllipseCallout">
            <a:avLst>
              <a:gd name="adj1" fmla="val 37606"/>
              <a:gd name="adj2" fmla="val 138592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قد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40000" y="189000"/>
            <a:ext cx="2664000" cy="1655640"/>
          </a:xfrm>
          <a:prstGeom prst="wedgeEllipseCallout">
            <a:avLst>
              <a:gd name="adj1" fmla="val -180"/>
              <a:gd name="adj2" fmla="val 89884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مح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6360" y="115920"/>
            <a:ext cx="2664000" cy="1655640"/>
          </a:xfrm>
          <a:prstGeom prst="wedgeEllipseCallout">
            <a:avLst>
              <a:gd name="adj1" fmla="val -37902"/>
              <a:gd name="adj2" fmla="val 13418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خبرة وبناء ل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360" y="5086440"/>
            <a:ext cx="2664000" cy="1655640"/>
          </a:xfrm>
          <a:prstGeom prst="wedgeEllipseCallout">
            <a:avLst>
              <a:gd name="adj1" fmla="val -34268"/>
              <a:gd name="adj2" fmla="val -13562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ؤقت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43640" y="5086440"/>
            <a:ext cx="2664000" cy="1655640"/>
          </a:xfrm>
          <a:prstGeom prst="wedgeEllipseCallout">
            <a:avLst>
              <a:gd name="adj1" fmla="val 37782"/>
              <a:gd name="adj2" fmla="val -139069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ذكر النع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40000" y="5013360"/>
            <a:ext cx="2664000" cy="1655640"/>
          </a:xfrm>
          <a:prstGeom prst="wedgeEllipseCallout">
            <a:avLst>
              <a:gd name="adj1" fmla="val -180"/>
              <a:gd name="adj2" fmla="val -91037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تعرف على ا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7280" y="2532240"/>
            <a:ext cx="8569440" cy="180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نظرة للمشكل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3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32000" y="404640"/>
            <a:ext cx="640872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قواعد التعامل مع المشكل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بادرة لحل المشاك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احتو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مسك عليك لسا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عالج المرض وليس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تواصل اللفظ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 u="sng">
                <a:solidFill>
                  <a:srgbClr val="400040"/>
                </a:solidFill>
                <a:uFillTx/>
                <a:latin typeface="SYMBOLS A"/>
                <a:cs typeface="PT Bold Heading"/>
              </a:rPr>
              <a:t>ماذا نتوقع أن نتعرف عليه ؟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طبيعة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راحل المشكلات الزوجية.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نطلقات في التعامل مع المشاكل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اصناف الأزواج تجاه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قواعد في التعامل مع المشكلات الزوجية.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608960" cy="17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000000"/>
                </a:solidFill>
                <a:uFillTx/>
                <a:latin typeface="Tahoma"/>
                <a:ea typeface="PT Bold Heading"/>
              </a:rPr>
              <a:t>  تمرين طي الورق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9371000">
            <a:off x="1315800" y="4079520"/>
            <a:ext cx="1152360" cy="29512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96080 h 2951280"/>
              <a:gd name="textAreaBottom" fmla="*/ 210888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2" stAng="-5400000" swAng="-5400000"/>
                <a:lnTo>
                  <a:pt x="0" y="11803"/>
                </a:lnTo>
                <a:arcTo wR="21600" hR="7262" stAng="10800000" swAng="-3059605"/>
                <a:lnTo>
                  <a:pt x="15925" y="21345"/>
                </a:lnTo>
                <a:lnTo>
                  <a:pt x="21600" y="16794"/>
                </a:lnTo>
                <a:lnTo>
                  <a:pt x="15925" y="11732"/>
                </a:lnTo>
                <a:lnTo>
                  <a:pt x="15925" y="14268"/>
                </a:lnTo>
                <a:arcTo wR="21600" hR="7262" stAng="7740395" swAng="2680710"/>
                <a:lnTo>
                  <a:pt x="1083" y="9532"/>
                </a:lnTo>
                <a:arcTo wR="21600" hR="7262" stAng="-10421105" swAng="5021105"/>
                <a:close/>
              </a:path>
              <a:path fill="darkenLess" w="21600" h="21600">
                <a:moveTo>
                  <a:pt x="21600" y="0"/>
                </a:moveTo>
                <a:arcTo wR="21600" hR="7262" stAng="-5400000" swAng="-5400000"/>
                <a:lnTo>
                  <a:pt x="0" y="7262"/>
                </a:lnTo>
                <a:arcTo wR="21600" hR="7262" stAng="10800000" swAng="-378895"/>
                <a:lnTo>
                  <a:pt x="1083" y="9532"/>
                </a:lnTo>
                <a:arcTo wR="21600" hR="7262" stAng="-10421105" swAng="502110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95280" y="404640"/>
            <a:ext cx="3456000" cy="35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أكد من العبارات وتحديد معناها بدقة بين الزوجي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5280" y="404640"/>
            <a:ext cx="5472000" cy="17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جزئي أو السريع قد يض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3560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Hitteen"/>
                <a:cs typeface="AL-Mateen"/>
              </a:rPr>
              <a:t>الحذر من تضخيم المشكلة الحذر من تهوين المشكل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بحث عن الدواف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ذر من الفهم الخاط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1444320"/>
            <a:ext cx="36003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Hitteen"/>
                <a:cs typeface="AL-Mateen"/>
              </a:rPr>
              <a:t>مراعاة التباين في ترتيب أوليات كل طرف</a:t>
            </a:r>
            <a:r>
              <a:rPr b="1" lang="ar-SA" sz="7200" spc="-1" strike="noStrike">
                <a:solidFill>
                  <a:srgbClr val="800000"/>
                </a:solidFill>
                <a:latin typeface="Hitteen"/>
                <a:ea typeface="AL-Matee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49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عذار الطرف الآخ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بدأ بحل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39760" y="264960"/>
            <a:ext cx="8737560" cy="101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طُرق جديدة اعجبتني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4000" y="1271520"/>
            <a:ext cx="85690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179280" y="219240"/>
            <a:ext cx="8785440" cy="644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000066"/>
                </a:solidFill>
                <a:latin typeface="Traditional Arabic Backslanted"/>
                <a:cs typeface="Traditional Arabic"/>
              </a:rPr>
              <a:t>تمرين قطعة الارض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3" name=""/>
          <p:cNvGraphicFramePr/>
          <p:nvPr/>
        </p:nvGraphicFramePr>
        <p:xfrm>
          <a:off x="2124000" y="69228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94" name=""/>
          <p:cNvSpPr/>
          <p:nvPr/>
        </p:nvSpPr>
        <p:spPr>
          <a:xfrm>
            <a:off x="250920" y="3789360"/>
            <a:ext cx="4537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سم قطعة الأرض إلى أربعة اقسام متشابهة في الشكل متساوية في المسا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40360" y="18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0960" y="33130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96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826920" y="17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0" name=""/>
          <p:cNvSpPr/>
          <p:nvPr/>
        </p:nvSpPr>
        <p:spPr>
          <a:xfrm flipH="1">
            <a:off x="2123640" y="620640"/>
            <a:ext cx="5543640" cy="266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5003640" y="620640"/>
            <a:ext cx="2664000" cy="554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858920" y="62064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H="1">
            <a:off x="4932000" y="54936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24000" y="549360"/>
            <a:ext cx="5616720" cy="554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1440000"/>
              </a:tblGrid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5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 flipH="1">
            <a:off x="4859280" y="549360"/>
            <a:ext cx="2881440" cy="28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8" name=""/>
          <p:cNvGraphicFramePr/>
          <p:nvPr/>
        </p:nvGraphicFramePr>
        <p:xfrm>
          <a:off x="1619280" y="549360"/>
          <a:ext cx="6121440" cy="597528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153036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9" name=""/>
          <p:cNvGraphicFramePr/>
          <p:nvPr/>
        </p:nvGraphicFramePr>
        <p:xfrm>
          <a:off x="1619280" y="476280"/>
          <a:ext cx="6048360" cy="590544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511280"/>
                <a:gridCol w="151308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8360" y="549360"/>
            <a:ext cx="5327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تجنب حل كل المشاكل دفعة واحدة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تحديد محل الخلا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68000" y="3213000"/>
            <a:ext cx="331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Hitteen"/>
                <a:cs typeface="AL-Mateen"/>
              </a:rPr>
              <a:t>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ثُمَّ 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       ثُمَّ  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الرف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8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1331640" y="115920"/>
            <a:ext cx="727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r" rtl="1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لماذا هذا الموضوع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"/>
          <p:cNvSpPr/>
          <p:nvPr/>
        </p:nvSpPr>
        <p:spPr>
          <a:xfrm>
            <a:off x="1547640" y="1268280"/>
            <a:ext cx="727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 rtl="1">
              <a:lnSpc>
                <a:spcPct val="90000"/>
              </a:lnSpc>
              <a:spcBef>
                <a:spcPts val="10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9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؟</a:t>
            </a:r>
            <a:endParaRPr b="0" lang="en-US" sz="4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240000" cy="3097440"/>
          </a:xfrm>
          <a:prstGeom prst="rect">
            <a:avLst/>
          </a:prstGeom>
          <a:ln w="0">
            <a:noFill/>
          </a:ln>
        </p:spPr>
      </p:pic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688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Tahoma"/>
                <a:cs typeface="AL-Mateen"/>
              </a:rPr>
              <a:t>النظرة المتوازنة للمشكلة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-541440" y="476280"/>
            <a:ext cx="583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ضرورة الموازنة بين </a:t>
            </a:r>
            <a:br>
              <a:rPr sz="4600"/>
            </a:b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السلبيات والايجابيات</a:t>
            </a:r>
            <a:br>
              <a:rPr sz="4600"/>
            </a:b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800000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6836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Hitteen"/>
                <a:cs typeface="AL-Mateen"/>
              </a:rPr>
              <a:t>انتقد الفعل وليس الفاع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2560" y="983880"/>
            <a:ext cx="450036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ahoma"/>
                <a:cs typeface="AL-Mateen"/>
              </a:rPr>
              <a:t>عدم عزل الآخر عن بيئته التي تعلم منها الحياة الزواجية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184720" cy="9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تمرين عملي  ( 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صورة للقسمين</a:t>
            </a:r>
            <a:r>
              <a:rPr b="1" lang="ar-SA" sz="5400" spc="-1" strike="noStrike">
                <a:solidFill>
                  <a:srgbClr val="000000"/>
                </a:solidFill>
                <a:latin typeface="Hitteen"/>
                <a:ea typeface="Traditional Arabic"/>
              </a:rPr>
              <a:t> 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1280" y="404640"/>
            <a:ext cx="540072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نظر للمشكلة من جميع الزوايا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فهم نفسية الآخ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مارسة التنفي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411280" y="342900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منازل الثلاث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768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2" dur="768" fill="hold"/>
                                        <p:tgtEl>
                                          <p:spTgt spid="1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4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6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998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435280" y="456840"/>
            <a:ext cx="3384360" cy="73980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362800" cy="28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 rtl="1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طلاق الشرعي</a:t>
            </a:r>
            <a:endParaRPr b="0" lang="en-US" sz="1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HOUSE_04" descr=""/>
          <p:cNvPicPr/>
          <p:nvPr/>
        </p:nvPicPr>
        <p:blipFill>
          <a:blip r:embed="rId1"/>
          <a:stretch/>
        </p:blipFill>
        <p:spPr>
          <a:xfrm>
            <a:off x="1619280" y="2706840"/>
            <a:ext cx="789120" cy="691920"/>
          </a:xfrm>
          <a:prstGeom prst="rect">
            <a:avLst/>
          </a:prstGeom>
          <a:ln w="0">
            <a:noFill/>
          </a:ln>
        </p:spPr>
      </p:pic>
      <p:pic>
        <p:nvPicPr>
          <p:cNvPr id="1556" name="HOUSE_04" descr=""/>
          <p:cNvPicPr/>
          <p:nvPr/>
        </p:nvPicPr>
        <p:blipFill>
          <a:blip r:embed="rId2"/>
          <a:stretch/>
        </p:blipFill>
        <p:spPr>
          <a:xfrm>
            <a:off x="7164360" y="2741760"/>
            <a:ext cx="863640" cy="758520"/>
          </a:xfrm>
          <a:prstGeom prst="rect">
            <a:avLst/>
          </a:prstGeom>
          <a:ln w="0">
            <a:noFill/>
          </a:ln>
        </p:spPr>
      </p:pic>
      <p:pic>
        <p:nvPicPr>
          <p:cNvPr id="1557" name="HOUSE_04" descr=""/>
          <p:cNvPicPr/>
          <p:nvPr/>
        </p:nvPicPr>
        <p:blipFill>
          <a:blip r:embed="rId3"/>
          <a:stretch/>
        </p:blipFill>
        <p:spPr>
          <a:xfrm>
            <a:off x="4211640" y="267012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1558" name="LGHTBLB2" descr=""/>
          <p:cNvPicPr/>
          <p:nvPr/>
        </p:nvPicPr>
        <p:blipFill>
          <a:blip r:embed="rId4"/>
          <a:stretch/>
        </p:blipFill>
        <p:spPr>
          <a:xfrm>
            <a:off x="7164360" y="4849920"/>
            <a:ext cx="936720" cy="728640"/>
          </a:xfrm>
          <a:prstGeom prst="rect">
            <a:avLst/>
          </a:prstGeom>
          <a:ln w="0">
            <a:noFill/>
          </a:ln>
        </p:spPr>
      </p:pic>
      <p:pic>
        <p:nvPicPr>
          <p:cNvPr id="1559" name="FAUCET_2" descr=""/>
          <p:cNvPicPr/>
          <p:nvPr/>
        </p:nvPicPr>
        <p:blipFill>
          <a:blip r:embed="rId5"/>
          <a:stretch/>
        </p:blipFill>
        <p:spPr>
          <a:xfrm>
            <a:off x="4284720" y="4870440"/>
            <a:ext cx="1114200" cy="790560"/>
          </a:xfrm>
          <a:prstGeom prst="rect">
            <a:avLst/>
          </a:prstGeom>
          <a:ln w="0">
            <a:noFill/>
          </a:ln>
        </p:spPr>
      </p:pic>
      <p:pic>
        <p:nvPicPr>
          <p:cNvPr id="1560" name="DUP00655" descr=""/>
          <p:cNvPicPr/>
          <p:nvPr/>
        </p:nvPicPr>
        <p:blipFill>
          <a:blip r:embed="rId6"/>
          <a:stretch/>
        </p:blipFill>
        <p:spPr>
          <a:xfrm>
            <a:off x="1547640" y="4908600"/>
            <a:ext cx="1060560" cy="6462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95968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4000" y="-683280"/>
            <a:ext cx="85690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ahoma"/>
                <a:cs typeface="AL-Mateen"/>
              </a:rPr>
              <a:t>أمامك ثلاثة منازل مطلوب أن تصلها الخدمات: كهرباء - ماء - هاتف وكل خدمة في خط مستقل من المصدر مباشرة، ودون أن تتقاطع خطوط الخدمات، ودون حفر أنفاق أو إنشاء جسو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0" y="-594000"/>
            <a:ext cx="5508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ليس بالضرورة حل كل المشكلات</a:t>
            </a:r>
            <a:br>
              <a:rPr sz="4800"/>
            </a:b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بشكل جذري وبخاصة الكبير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36360" y="692280"/>
            <a:ext cx="662436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يسير قد يمهد لحل أكب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خلع النظارة السو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5680" y="733320"/>
            <a:ext cx="6264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ن أراد الحقوق فليقم بالواجب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وازنة بين الخطأ والعقا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نهي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4284720" y="234936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411280" y="378936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شما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7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768" fill="hold"/>
                                        <p:tgtEl>
                                          <p:spTgt spid="15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2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4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998"/>
                            </p:stCondLst>
                            <p:childTnLst>
                              <p:par>
                                <p:cTn id="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1116000" y="4122720"/>
            <a:ext cx="1584360" cy="273528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9280" y="404640"/>
            <a:ext cx="4248360" cy="302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لا بد أن نتذكر نحن نتعامل مع البش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66560" y="320400"/>
            <a:ext cx="7058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800000"/>
                </a:solidFill>
                <a:latin typeface="Arial"/>
                <a:cs typeface="PT Bold Heading"/>
              </a:rPr>
              <a:t>الدعاء</a:t>
            </a:r>
            <a:endParaRPr b="0" lang="en-US" sz="129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527560" cy="338472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6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50920" y="4076280"/>
            <a:ext cx="8588160" cy="20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المملك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6121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Hitteen"/>
                <a:cs typeface="AL-Mateen"/>
              </a:rPr>
              <a:t>ماذا تفعل إذا لم تنجح القواعد السابقة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258920" y="3789360"/>
            <a:ext cx="1979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800000"/>
                </a:solidFill>
                <a:latin typeface="Hitteen"/>
                <a:cs typeface="Arial"/>
              </a:rPr>
              <a:t>؟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8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5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04720" y="907560"/>
            <a:ext cx="863928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 u="sng">
                <a:solidFill>
                  <a:srgbClr val="006666"/>
                </a:solidFill>
                <a:uFillTx/>
                <a:latin typeface="Tahoma"/>
                <a:cs typeface="PT Bold Heading"/>
              </a:rPr>
              <a:t>الاستشارة: 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55454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انترنت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هاتف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مقابلة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768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4" dur="768" fill="hold"/>
                                        <p:tgtEl>
                                          <p:spTgt spid="1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6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8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84360" y="2492280"/>
            <a:ext cx="4752720" cy="4032360"/>
          </a:xfrm>
          <a:prstGeom prst="ellipse">
            <a:avLst/>
          </a:prstGeom>
          <a:solidFill>
            <a:srgbClr val="ff99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20720" y="333360"/>
            <a:ext cx="4753080" cy="4390920"/>
          </a:xfrm>
          <a:prstGeom prst="ellipse">
            <a:avLst/>
          </a:prstGeom>
          <a:solidFill>
            <a:srgbClr val="ff00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05080" y="2421000"/>
            <a:ext cx="4680000" cy="4032360"/>
          </a:xfrm>
          <a:prstGeom prst="ellipse">
            <a:avLst/>
          </a:prstGeom>
          <a:solidFill>
            <a:srgbClr val="ffff00">
              <a:alpha val="2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629080" y="692280"/>
            <a:ext cx="2592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ساخن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900000" y="4575240"/>
            <a:ext cx="2376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داف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21440" y="4575240"/>
            <a:ext cx="23032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بار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205080" y="3833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شكل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372360" y="189000"/>
            <a:ext cx="259236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عامل مع المشك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61636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وماذا بعد ؟</a:t>
            </a:r>
            <a:endParaRPr b="0" lang="en-US" sz="1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648000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57000"/>
          </a:bodyPr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زالة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المشكلة تماما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خفيف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ن المشكلة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عايش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ع المشكلة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768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768" fill="hold"/>
                                        <p:tgtEl>
                                          <p:spTgt spid="1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5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7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500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عايش مع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0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1280" y="620640"/>
            <a:ext cx="5327640" cy="1368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حاولة قبول كل طرف للطرف الآخر كما ه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8000" y="620640"/>
            <a:ext cx="676908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إمساك بمعروف أو تسريح بإحسا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533520" y="259920"/>
            <a:ext cx="807696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000056"/>
                </a:solidFill>
                <a:latin typeface="Traditional Arabic Backslanted"/>
                <a:cs typeface="Traditional Arabic"/>
              </a:rPr>
              <a:t>تمرين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 rot="20247600">
            <a:off x="2387520" y="1941480"/>
            <a:ext cx="40831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755280" y="409320"/>
            <a:ext cx="676908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300" spc="-1" strike="noStrike" u="sng">
                <a:solidFill>
                  <a:srgbClr val="330066"/>
                </a:solidFill>
                <a:uFillTx/>
                <a:latin typeface="Arial"/>
                <a:cs typeface="PT Bold Heading"/>
              </a:rPr>
              <a:t>الذي يثبُت في الذهن: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4250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قرأ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3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سمع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3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990000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50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–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75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% مما يسمعونه و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768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768" fill="hold"/>
                                        <p:tgtEl>
                                          <p:spTgt spid="1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9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1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24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858816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مص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معنى : مطلقة كل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دقائ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ترك أفعالك تتحدث ع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جرب ولن تند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0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0084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87480" y="24573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7480" y="36910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7480" y="369108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7480" y="404172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7480" y="439416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7480" y="43941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7480" y="474660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7480" y="509904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7480" y="509904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7480" y="54514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7480" y="545148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7480" y="580392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0920" y="2133720"/>
            <a:ext cx="8640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وآخر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دعوانا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أن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حمد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لله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رب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عالم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3095640" y="260280"/>
            <a:ext cx="2952720" cy="10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شكرا لكم  واستودعكم  الله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1692360" y="1700280"/>
          <a:ext cx="63356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3356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92720" y="4552920"/>
            <a:ext cx="38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31:17Z</dcterms:created>
  <dc:creator>عبدالله بن ناصر السدحان</dc:creator>
  <dc:description/>
  <dc:language>en-US</dc:language>
  <cp:lastModifiedBy>omar</cp:lastModifiedBy>
  <dcterms:modified xsi:type="dcterms:W3CDTF">2009-03-23T11:03:18Z</dcterms:modified>
  <cp:revision>96</cp:revision>
  <dc:subject/>
  <dc:title>بسم           الله               الرحمن                       الرحيم </dc:title>
</cp:coreProperties>
</file>