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401-C774-4DA3-98CB-ED00587E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D8A-477C-4460-AC21-2696FB8F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7AD-7F2A-43CC-819E-58F7FBBA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860-793D-4C16-944F-3F68E3D1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E06A-87EB-4221-8F39-FF6C1D1A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4D54-875B-4B7E-8F53-E7F1014D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A8AC-31C5-4F29-9918-56FEC1BD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A47C-CB5B-409B-95CF-AEE1FCFF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67E1-E870-4307-91D9-CA27D775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B0BE-FC35-4CE5-B4CA-466312E1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0C93-04FB-4E78-9526-DE35E9BD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993-6B79-4F9D-BD3A-5CCBAE5C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F80F-6C34-4108-813E-51EE4D67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DEFB-58E9-441E-BA2E-49157A6D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6EAE-5D4D-4998-938B-0E3EEC9A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CAEE-9930-4C7C-B51D-996E481B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C442-2C37-40AB-A475-364D89D2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096-84FD-4973-A3CF-28171F36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EF1-3E1B-4635-8C21-57617FA5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13A7-0198-4927-95F1-6C978200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A7F6-0419-4518-8CCD-75B54D9B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C10-E2AF-4A85-B8E1-51480105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D92-7B59-4D7E-9B19-33B98945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326-916D-4CFE-B6E9-CBEA3549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2E83-4C89-4DFD-8959-7899D1021F2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0B8C-E448-4DA7-83FA-70F10B2FECE1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eec94"/>
                </a:solidFill>
                <a:latin typeface="Times New Roman"/>
              </a:rPr>
              <a:t>تذوق طعم الحياة الزوجية بعد معرفة الأسرار الستة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ملخص بسيط لشريط الشيخ جاسم المطو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فهم النفسيات بين الزوجي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ما هي المشكلة بين الزوجين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4382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 الرجال يتكلمون و يتعاملون مع النساء بلغة و نفسية الرجال, والنساء يتكلمون و يتعاملون مع الرجال بلغة و نفسية النساء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00"/>
                </a:solidFill>
                <a:latin typeface="Times New Roman"/>
              </a:rPr>
              <a:t>السر الأو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ب ان يثبت نفسه بما ينتج، أما المرأة فتحب ان تثبت نفسها بإعتمادها على الرجل و بإخراج عاطفت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قاعدة: الجزء يحن الى أصله (آدم أصله من التراب، وحواء جزء من آد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راسة: عملت ع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مرأة في وظيفة مديرة بنك بأمريكا، وسئلوا: إذا اردتم إتخاذ قرار في عملكم من تستشيرون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نتيجة: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% قالوا نستشير أزواجنا !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السر الثان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الرجل يستخدم الجانب الأيسر من مخه، أما المرأة فتستخدم الجانب الأيمن من مخها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سر: الأرقام، التحليل، الترتيب، القرارات، التخطي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من: العاطفة، الخيال، الأبعاد، الابداع، التناسق، الألحان، الذو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دراسة: تمت على أكثر م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امرأة و رجل في الكويت – كم تتكلم المرأة في اليوم؟ وكم يتكلم الرجل في اليوم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النتيجة: المرأة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ف كلمة  - - - الرجل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اف كلم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ثال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نظر الى الصورة بشكل كامل بينما المرأة تنظر الى تفاصيل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ن المرأة تحب التفاصيل بينما الرجل تكفيه النظرة العام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الرجل لايهمه ماذا يوجد داخل البيت بقدر ما يهمه أن يؤمن مستقبل البي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راب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تاج الى وقت اكثر حتى يجمع عواطفه ثم يخرج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اطفة في الجانب الأيمن من المخ وهو الجانب الذي تستخدمه المرأة أكثر من الرج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رجل يعبر عن عواطفه بالعمل، أما المرأة فتعبر عن عاطفتها بالكلا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خام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مهيأ للتفكير في حل المشاكل بينما المرأة مهيأة للقيام بالأعما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لاقة بين المرأة والرجل ليست علاقة تفاضل وانما علاقة تكا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زوج يجب عليه أن يفرق بين كلام الزوجة: هل هو مشكلة تريد لها حل، أم إخبار فق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ساد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إن الاختلاف الجسدي والعضوي بين الرجل والمرأة له تأثير نفسي على الطرف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مرأة: العادة الشهرية، النفاس، الح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رجل: العمل والكدح وتأثيرها على البي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17:37:52Z</dcterms:created>
  <dc:creator>FAB</dc:creator>
  <dc:description/>
  <dc:language>en-US</dc:language>
  <cp:lastModifiedBy>Aramco User</cp:lastModifiedBy>
  <dcterms:modified xsi:type="dcterms:W3CDTF">2004-03-02T10:09:14Z</dcterms:modified>
  <cp:revision>13</cp:revision>
  <dc:subject/>
  <dc:title>تذوق طعم الحياة الزوجية بعد معرفة الأسرار الستة</dc:title>
</cp:coreProperties>
</file>