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C86C-3308-481D-A042-49A727FC3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C897-53F4-4DEE-986E-AC54148E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B11E-439D-4555-B92B-939D6C48C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C957-C458-440F-9733-DCF2202C9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B6C7-13FC-4111-8FBB-11BD89340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4AED-741F-4FE5-9DDB-FE28752F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136C-0214-45D6-9020-9404590C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711E-7518-48B7-832D-A982838D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34AF-2B35-441A-8D12-EF3E3203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D70B-2F35-4A19-B6BC-D7022D16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929D-B7CA-49E5-A406-65B24F7A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E02A-F9B0-4F75-A29E-D4800ABE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69AC-FEF9-4F8E-BACB-5AD329E6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474B-B599-4F00-AF05-11DDA91B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1ED2-962D-4DB6-BFC4-025E7807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2D67-2785-4D2D-A7A7-9DC548DBC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D903-1CEC-4B91-A719-1628AC8CD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446D-08D0-4FE8-B0E4-EE7DF439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16F2-2E7F-49C2-BC10-629C8770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8A41-FD07-48A4-B167-BA9258A1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2991-4133-4FCC-B399-22758AC0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439B-8E7F-45D8-BBD1-49762932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B66B-40AD-4179-A739-CB0D696C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9E2F-F4F7-4986-ACA2-420A1439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11D7-C614-420D-883B-FABE2BFE545B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CBBD-D3FB-485D-90AA-EC167CDA301F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 rtl="1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 rtl="1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eec94"/>
                </a:solidFill>
                <a:latin typeface="Times New Roman"/>
              </a:rPr>
              <a:t>تذوق طعم الحياة الزوجية بعد معرفة الأسرار الستة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479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ملخص بسيط لشريط الشيخ جاسم المطوع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en-US" sz="3200" spc="-1" strike="noStrike">
                <a:solidFill>
                  <a:srgbClr val="cccc00"/>
                </a:solidFill>
                <a:latin typeface="Times New Roman"/>
              </a:rPr>
              <a:t>فهم النفسيات بين الزوجين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ما هي المشكلة بين الزوجين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243828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ن الرجال يتكلمون و يتعاملون مع النساء بلغة و نفسية الرجال, والنساء يتكلمون و يتعاملون مع الرجال بلغة و نفسية النساء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00"/>
                </a:solidFill>
                <a:latin typeface="Times New Roman"/>
              </a:rPr>
              <a:t>السر الأو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رجل يحب ان يثبت نفسه بما ينتج، أما المرأة فتحب ان تثبت نفسها بإعتمادها على الرجل و بإخراج عاطفتها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قاعدة: الجزء يحن الى أصله (آدم أصله من التراب، وحواء جزء من آدم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دراسة: عملت على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50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امرأة في وظيفة مديرة بنك بأمريكا، وسئلوا: إذا اردتم إتخاذ قرار في عملكم من تستشيرون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نتيجة: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64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% قالوا نستشير أزواجنا !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0"/>
                </a:solidFill>
                <a:latin typeface="Times New Roman"/>
              </a:rPr>
              <a:t>السر الثاني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الرجل يستخدم الجانب الأيسر من مخه، أما المرأة فتستخدم الجانب الأيمن من مخها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معلومة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صفات الجانب الأيسر: الأرقام، التحليل، الترتيب، القرارات، التخطيط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صفات الجانب الأيمن: العاطفة، الخيال، الأبعاد، الابداع، التناسق، الألحان، الذو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دراسة: تمت على أكثر من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امرأة و رجل في الكويت – كم تتكلم المرأة في اليوم؟ وكم يتكلم الرجل في اليوم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النتيجة: المرأة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الف كلمة  - - - الرجل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الاف كلم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</a:rPr>
              <a:t>السر الثال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رجل ينظر الى الصورة بشكل كامل بينما المرأة تنظر الى تفاصيلها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ي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أن المرأة تحب التفاصيل بينما الرجل تكفيه النظرة العامة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معلومة: الرجل لايهمه ماذا يوجد داخل البيت بقدر ما يهمه أن يؤمن مستقبل البيت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</a:rPr>
              <a:t>السر الراب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رجل يحتاج الى وقت اكثر حتى يجمع عواطفه ثم يخرجها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معلومة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عاطفة في الجانب الأيمن من المخ وهو الجانب الذي تستخدمه المرأة أكثر من الرجل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رجل يعبر عن عواطفه بالعمل، أما المرأة فتعبر عن عاطفتها بالكلا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</a:rPr>
              <a:t>السر الخام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رجل مهيأ للتفكير في حل المشاكل بينما المرأة مهيأة للقيام بالأعمال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معلوم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علاقة بين المرأة والرجل ليست علاقة تفاضل وانما علاقة تكامل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زوج يجب عليه أن يفرق بين كلام الزوجة: هل هو مشكلة تريد لها حل، أم إخبار فقط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</a:rPr>
              <a:t>السر اساد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إن الاختلاف الجسدي والعضوي بين الرجل والمرأة له تأثير نفسي على الطرفين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أسباب التأثيرات عند المرأة: العادة الشهرية، النفاس، الحمل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أسباب التأثيرات عند الرجل: العمل والكدح وتأثيرها على البي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17:37:52Z</dcterms:created>
  <dc:creator>FAB</dc:creator>
  <dc:description/>
  <dc:language>en-US</dc:language>
  <cp:lastModifiedBy>Aramco User</cp:lastModifiedBy>
  <dcterms:modified xsi:type="dcterms:W3CDTF">2004-03-02T10:09:14Z</dcterms:modified>
  <cp:revision>13</cp:revision>
  <dc:subject/>
  <dc:title>تذوق طعم الحياة الزوجية بعد معرفة الأسرار الستة</dc:title>
</cp:coreProperties>
</file>