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62A-8B80-4B27-8986-5CE62AAF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13E-1172-4A3F-9EA7-592B9CCD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5E4-2414-4224-92B7-0B83AFF3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E2B-5586-44DB-A1CA-CDBC826F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3AD-DCCE-44E0-8EA4-65C93369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D75F-A1C4-4CC8-A689-F84B1274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20F-7C26-4ACD-9CC5-A3E46250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CED-8C56-4602-805B-3321E141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C1D-7343-4A7F-9D0E-8535503C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543-0C65-45EC-AB71-BA643CBB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1FA-5298-4A92-9682-1D805CD2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B14-5F0A-478A-83AF-37A273F0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60CD-575F-42FD-BD0F-94221F54D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دراسة بنية الخبرة الذات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كتيب تعليمات لكيفية استعمال الانسان لدماغ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موقف ومنهج يخلفان ورائهما عددا من الأسالي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طريقة مبتكرة لمعرفة أسرار النف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بشر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طريقة التعامل معها بطرق وأساليب معينة بحيث يمكن التاثير في عملية الادراك والتصو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الشعو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بالتال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سلوك والمهارات والأداء الجسدي والفكر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5335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البرمجة اللغوية العصب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أ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الهندسة النفس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32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00"/>
                </a:solidFill>
                <a:latin typeface="Arial"/>
              </a:rPr>
              <a:t>                   </a:t>
            </a:r>
            <a:r>
              <a:rPr b="1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تاريخ البرمجة اللغوية العصب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في منتصف السبعينات وضع العالمان الامريكيان جون غرندر (عالم لغويات) وريتشارد باندلر (عالم لغويات) أصول علم البرمجة اللغوية العص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ن خلال ابحاث قام بها علماء آخرون أمثال فرجينيا ساتير, ملتون, تشومسكي وبافلوف وغير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1911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r" rtl="1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برمجة اللغوية العصبية ليست علم النف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r" rtl="1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علمها يعتمد على الممارسة والخب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r" rtl="1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r" rtl="1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علمنا الهندسة النفسية كيف نصنع النج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4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طبيقات البرمجة اللغوية العصب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طوير 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طوير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ربية والتعليم والتدري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ادارة والتجارة والأعم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طوير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كتساب المهارات الطفي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نمية الحوافز للعمل والانت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طوير التفكير الابداع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رفع مستوى الاداء الرياضي والفني والمه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رفع كفاية الطلبة والباحث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055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تربية والتعل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سرعة التعلم والتذك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تقان تهجي الكلمات والامل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زيادة فعالية وسائل الايضا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شحذ القدرة على التفكير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سين السلو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رفع مستوى الاداء للمدر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سين الحفظ والاستظه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520" y="914400"/>
            <a:ext cx="4038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ادارة والأعم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ديد 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خطيط الاستراتيج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صناعة الق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فيز الموظف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هارات التفا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هارات البيع والتسوي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بداع وحل المشك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دارة الاجتماع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دارة الوق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وظ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ebpage"/>
          <p:cNvSpPr/>
          <p:nvPr/>
        </p:nvSpPr>
        <p:spPr>
          <a:xfrm>
            <a:off x="5105520" y="1676520"/>
            <a:ext cx="3657600" cy="4572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عالم في ذهن الانسان ليس هو العالم الحقيق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عالم في الذهن هو العالم الوحيد الذي ندرك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مكن ان نغير العالم اذا غيرنا العالم الذي في اذهان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ناك ثلاثة عوامل تحد من ادراكنا للعالم الخارج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حوا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لغ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عتقدات والقيم والمعا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عتبر أيضا مرشحات لعملية الادرا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كل من هذه المرشحات عيو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ستراتيجية التف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ديد الهد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رهاف الحوا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خطوة الأول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؟ هل تحقق الهدف..................المرون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حصي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Arial"/>
              </a:rPr>
              <a:t>الافتراضات الأساسية في البرمجة اللغوية العصب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خارطة ليست هي الواق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عقل والجسم منظومة واحد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ذا كنت تفعل دائما ما اعتدت على فعله, فانك تحصل دائما على ما اعتدت الحصول علي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لا يوجد فشل بل نتائ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خيار افضل من اللاخيا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نت لست سلوك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73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اذا لم تحصل على نتيجة مما تفعله, فافعل شيئا آخ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لكل سلوك قصد ايجاب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يمتلك كل انسان الموارد التي يحتاج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يستجيب الانسان لخارطة الواقع التي في ذهنه وليس للواقع نفس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اذا كان شئ ما ممكنا في هذا العالم فانه ممكن ل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ليس هناك مشكلة ليس لها 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مأساة الحياة لاتكمن في عدم وصولك للهدف, ولكنها تكمن في أن لايكون لك هدف تحاول الوصول اليه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676520"/>
            <a:ext cx="76964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وسيلة الوحيدة للنجاح هي الاستمرار بالقوة حتى النهاية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3352680"/>
            <a:ext cx="75438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شخص الناجح هو الذي يستطيع أن يصنع أساس ثابت من الحجارة التي يلقيها الآخرون عليه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3:28:49Z</dcterms:created>
  <dc:creator>fathalbab</dc:creator>
  <dc:description/>
  <dc:language>en-US</dc:language>
  <cp:lastModifiedBy>PC3</cp:lastModifiedBy>
  <dcterms:modified xsi:type="dcterms:W3CDTF">2006-03-13T13:52:21Z</dcterms:modified>
  <cp:revision>22</cp:revision>
  <dc:subject/>
  <dc:title>الشريحة 1</dc:title>
</cp:coreProperties>
</file>